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D0465E5-59A6-43FE-8012-6B0938EFF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5840" y="698400"/>
            <a:ext cx="4656240" cy="3492720"/>
          </a:xfrm>
          <a:prstGeom prst="rect">
            <a:avLst/>
          </a:prstGeom>
          <a:ln w="0">
            <a:noFill/>
          </a:ln>
        </p:spPr>
      </p:sp>
      <p:sp>
        <p:nvSpPr>
          <p:cNvPr id="111"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rix of options will hopefully be ready for the August WMS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eparate agenda item, the WMS discussed administratively setting prices during EECP and received input from Dan Jones on the subject.  Dan agreed to write up his proposal and has done so and distributed it to the W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ve pricing option looks on the surface to be very expensive.  The reality is, unlike some of the other options, such as EILS, this cost comes in the form of MCPEs, which is a hedgeable cost.  People will want to avoid this cost, and they can do so by not being short during an event.  Whatever they do, will tend to keep ERCOT out of events.  So this solution is blending the short term solution (staying out of EECP) with the long term (investment) nee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5840" y="698400"/>
            <a:ext cx="4656240" cy="3492720"/>
          </a:xfrm>
          <a:prstGeom prst="rect">
            <a:avLst/>
          </a:prstGeom>
          <a:ln w="0">
            <a:noFill/>
          </a:ln>
        </p:spPr>
      </p:sp>
      <p:sp>
        <p:nvSpPr>
          <p:cNvPr id="113"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supported the work of the task force and a proposal to eliminate URC or wind only QSEs and to eliminate the filing and processing of RPPs was passed on to P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evin doesn’t spend any time talking about this I can go into this mo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nths ago, a package of issues were brought together in a PRR426 that presented some op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on 02/17/200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ed on March 1, 2004 – </a:t>
            </a:r>
            <a:r>
              <a:rPr b="0" lang="en-US" sz="1200" spc="-1" strike="noStrike">
                <a:solidFill>
                  <a:srgbClr val="ff3300"/>
                </a:solidFill>
                <a:latin typeface="Arial"/>
              </a:rPr>
              <a:t>Part 1</a:t>
            </a:r>
            <a:endParaRPr b="0" lang="en-US" sz="12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did not implement - </a:t>
            </a:r>
            <a:r>
              <a:rPr b="0" lang="en-US" sz="1200" spc="-1" strike="noStrike">
                <a:solidFill>
                  <a:srgbClr val="ff3300"/>
                </a:solidFill>
                <a:latin typeface="Arial"/>
              </a:rPr>
              <a:t>Part 2</a:t>
            </a:r>
            <a:r>
              <a:rPr b="0" lang="en-US" sz="1200" spc="-1" strike="noStrike">
                <a:solidFill>
                  <a:srgbClr val="000000"/>
                </a:solidFill>
                <a:latin typeface="Arial"/>
              </a:rPr>
              <a:t> </a:t>
            </a:r>
            <a:r>
              <a:rPr b="0" lang="en-US" sz="1400" spc="-1" strike="noStrike">
                <a:solidFill>
                  <a:srgbClr val="000000"/>
                </a:solidFill>
                <a:latin typeface="Arial"/>
              </a:rPr>
              <a:t>Low priority (3)</a:t>
            </a:r>
            <a:endParaRPr b="0" lang="en-US" sz="1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 Cart cancelled the project - </a:t>
            </a:r>
            <a:r>
              <a:rPr b="0" lang="en-US" sz="1200" spc="-1" strike="noStrike">
                <a:solidFill>
                  <a:srgbClr val="ff3300"/>
                </a:solidFill>
                <a:latin typeface="Arial"/>
              </a:rPr>
              <a:t>Part 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informed PRS and COPS about the cancell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roposed simplifying some of their work to save time and money but did not propose the elimination of URC as there is currently significant money coming from wind owners to the downlift pool.   The reality is that with the creation of RPPs is cheaper than the URC, so even more money will be wasted preparing and processing RPPs that won’t be used for anything.  The primary use for them was replaced by the Persistence Forecasting proced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5840" y="698400"/>
            <a:ext cx="4656240" cy="3492720"/>
          </a:xfrm>
          <a:prstGeom prst="rect">
            <a:avLst/>
          </a:prstGeom>
          <a:ln w="0">
            <a:noFill/>
          </a:ln>
        </p:spPr>
      </p:sp>
      <p:sp>
        <p:nvSpPr>
          <p:cNvPr id="11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couter proposal on the table that calls for the ordering list to be randomized and there was an interest in having input from the DSWG before finalizing the proposal.  ERCOT staff agreed to present the topic at the next DSW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5840" y="698400"/>
            <a:ext cx="4656240" cy="3492720"/>
          </a:xfrm>
          <a:prstGeom prst="rect">
            <a:avLst/>
          </a:prstGeom>
          <a:ln w="0">
            <a:noFill/>
          </a:ln>
        </p:spPr>
      </p:sp>
      <p:sp>
        <p:nvSpPr>
          <p:cNvPr id="11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oals for the WMS is to continuously review the operation of the current market structure.  One of our requirements is for quarterly reports from ERCOT on how well the process is working.  Isabel gave us the CSC Utilization report for the first quarter and an update on the Hilgi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A60C9-E7A6-4F92-896C-76163EF4F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3B278-F24E-4B74-80C8-5584A1CFB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9721E-5DB1-4AE1-9088-D4CA62BD9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D1C11-65DF-47F9-B4FC-306141FB5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54E35-368F-44C2-9753-811090273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86AA6-3AE2-40C1-8CA9-E7852F0F0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C7CCD-CFF9-4768-BDF1-27BCB0CFB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3557F-CC96-4C1D-B8EB-DB517FCA9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9EBD1-C05F-462E-8CAB-3713439D3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32DAC-C823-45F9-9CFC-EC709F70C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43D5C-7E66-4FFC-868C-B19B149E2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55142-AB49-4DC8-B138-0FAB49BFA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8E4E5-803B-4989-A7AB-B427BE01F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D7204-4DEE-4699-BDAF-4F975348C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65E06-AD49-4F34-84B3-A79CBEE97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4E59A7-BE74-48D5-A95F-2E452CECB2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F16B4-A48D-4C6B-905E-89585D1F6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7F862-BB9E-4470-8C0D-72DE2E909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5AB40-11B3-42F8-B0C4-31235D88D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D6ECE-5143-499F-A220-1B464CD2E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2EDC8-48E8-4461-9C72-6422C244A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B41EA-6026-468F-94FE-07EF56C97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07157-659B-4282-B53A-ECF0217C3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93E85-71FB-4F21-96F4-C36631B99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F100-D6BD-432C-8742-21D1B1A4DC2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939F-90C8-4E81-B96B-D2A71170E3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ugust 2007</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434937BF-31FD-42B5-B766-C8C3EC5CEF7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Staff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carcity Pricing Discuss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AC45C09-902E-4615-BB3F-E2E398B712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LTSTF</a:t>
            </a:r>
            <a:endParaRPr b="0" lang="en-US" sz="4000" spc="-1" strike="noStrike">
              <a:solidFill>
                <a:srgbClr val="e5ffff"/>
              </a:solidFill>
              <a:latin typeface="Tahoma"/>
            </a:endParaRPr>
          </a:p>
        </p:txBody>
      </p:sp>
      <p:sp>
        <p:nvSpPr>
          <p:cNvPr id="94"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take up Direct Load Control, and administratively setting prices during EECP events this month</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ill not be a single solution but rather a table of refined options with caveat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22F0CBD-71BE-42F8-92EC-43DC81217F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PRR 728 (URC for Wind)</a:t>
            </a:r>
            <a:endParaRPr b="0" lang="en-US" sz="4000" spc="-1" strike="noStrike">
              <a:solidFill>
                <a:srgbClr val="e5ffff"/>
              </a:solidFill>
              <a:latin typeface="Tahoma"/>
            </a:endParaRPr>
          </a:p>
        </p:txBody>
      </p:sp>
      <p:sp>
        <p:nvSpPr>
          <p:cNvPr id="96"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gan as a request from ERCOT staff for more flexibility in processing Renewable Production Potential</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WMS discussion in June was tabled to allow a smaller group to flesh out the issu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ed that RPP was not going to achieve its objectives and that it should be dropped completel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62E2723-6F13-42BD-8DED-772A440741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RCOT Staff Reports</a:t>
            </a:r>
            <a:endParaRPr b="0" lang="en-US" sz="4400" spc="-1" strike="noStrike">
              <a:solidFill>
                <a:srgbClr val="e5ffff"/>
              </a:solidFill>
              <a:latin typeface="Tahoma"/>
            </a:endParaRPr>
          </a:p>
        </p:txBody>
      </p:sp>
      <p:sp>
        <p:nvSpPr>
          <p:cNvPr id="98"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ad Interruption process during EECP</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gestion Management Report</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3A7D24F-1502-48C8-A785-76CCB7CD6E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41360" y="1027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00" name=""/>
          <p:cNvSpPr/>
          <p:nvPr/>
        </p:nvSpPr>
        <p:spPr>
          <a:xfrm>
            <a:off x="669960" y="2170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01" name=""/>
          <p:cNvSpPr/>
          <p:nvPr/>
        </p:nvSpPr>
        <p:spPr>
          <a:xfrm>
            <a:off x="365040" y="1255680"/>
            <a:ext cx="7635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5.9.4.1 EECP Step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Deploy half of the Responsive Reserve that is supplied from Load Resources (controlled by high-set under-frequency relays) by instructing the QSE representing the specific Load Resource to interrupt Load providing Responsive Reserve. </a:t>
            </a:r>
            <a:r>
              <a:rPr b="1" lang="en-US" sz="2400" spc="-1" strike="noStrike">
                <a:solidFill>
                  <a:srgbClr val="ffff00"/>
                </a:solidFill>
                <a:latin typeface="Arial"/>
              </a:rPr>
              <a:t>ERCOT shall develop a procedure for determining which Load Resources to interrupt and to equitably allocate Load Resources to one of two deployment stacks to enable a 50% deployment, which must be approved in advance by TAC</a:t>
            </a:r>
            <a:r>
              <a:rPr b="1" lang="en-US" sz="2400" spc="-1" strike="noStrike">
                <a:solidFill>
                  <a:srgbClr val="ff3300"/>
                </a:solidFill>
                <a:latin typeface="Arial"/>
              </a:rPr>
              <a:t>.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6BD7C1C8-8B69-4C97-84EA-957E5F324A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441360" y="1027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03" name=""/>
          <p:cNvSpPr/>
          <p:nvPr/>
        </p:nvSpPr>
        <p:spPr>
          <a:xfrm>
            <a:off x="669960" y="2170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04" name=""/>
          <p:cNvSpPr/>
          <p:nvPr/>
        </p:nvSpPr>
        <p:spPr>
          <a:xfrm>
            <a:off x="748800" y="1106640"/>
            <a:ext cx="44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RCOT Proposed Procedure</a:t>
            </a:r>
            <a:r>
              <a:rPr b="1" lang="en-US" sz="2400" spc="-1" strike="noStrike">
                <a:solidFill>
                  <a:srgbClr val="ff3300"/>
                </a:solidFill>
                <a:latin typeface="Arial"/>
              </a:rPr>
              <a:t>:</a:t>
            </a:r>
            <a:endParaRPr b="0" lang="en-US" sz="2400" spc="-1" strike="noStrike">
              <a:solidFill>
                <a:srgbClr val="ffffff"/>
              </a:solidFill>
              <a:latin typeface="Arial"/>
            </a:endParaRPr>
          </a:p>
        </p:txBody>
      </p:sp>
      <p:sp>
        <p:nvSpPr>
          <p:cNvPr id="105" name=""/>
          <p:cNvSpPr/>
          <p:nvPr/>
        </p:nvSpPr>
        <p:spPr>
          <a:xfrm>
            <a:off x="669960" y="1941480"/>
            <a:ext cx="801684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p DA LMPs to each Load Resource procured to provide RRS in the DA A/S Market.</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ck LRs in descending order of their LMP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e two stacks; highest LMPs included in first deployment stack and while lowest LMPs included in second deployment stack</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hourly stacks will be created</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ce deployed all LRs providing RRS will remain deployed throughout event</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431046C2-E769-4078-B6CC-9E86CE5D13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RCOT Staff Reports</a:t>
            </a:r>
            <a:endParaRPr b="0" lang="en-US" sz="4400" spc="-1" strike="noStrike">
              <a:solidFill>
                <a:srgbClr val="e5ffff"/>
              </a:solidFill>
              <a:latin typeface="Tahoma"/>
            </a:endParaRPr>
          </a:p>
        </p:txBody>
      </p:sp>
      <p:sp>
        <p:nvSpPr>
          <p:cNvPr id="107"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ad Interruption process during EECP</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gestion Management Report</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C7D0852-5729-4433-981F-B9694C4C7F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une  2007</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91FBFA7B-0905-4717-9FDE-7E03475C6D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7-08-01T15:31:46Z</dcterms:modified>
  <cp:revision>121</cp:revision>
  <dc:subject/>
  <dc:title>WMS Report TO TAC</dc:title>
</cp:coreProperties>
</file>