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A35-58C2-4C21-B510-B890B84A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476-081C-4C8F-B98E-D072834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95D-58A2-4E25-A2FF-5D3366D8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D92-F545-44C5-9101-37C9F48B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A89-0AFD-4901-A18F-D25E4C14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168-4D45-46A4-805A-9FE972B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6ABC-0AF4-468E-9F65-81BCFF3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37D-9F65-4DAD-BEFC-9FBD313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0B4-E1C9-4B8F-80F0-E5DD171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2E6E-4E2C-4DE0-8E58-C937C4EA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344-E04E-4A21-99BF-30446CC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DAE-C4FE-4216-8E7A-1D38A044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F3AB-3261-40B1-A35F-E25B84F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091-EB86-4E11-8A96-C0B1F164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FFCC-6E61-4373-8BBC-572C127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D5D9-6FEB-4331-9E03-452F28F3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140F-F1FB-46D7-9499-43CC6EA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489-0443-40D9-AB44-C9FD54E9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102-757B-4A48-9106-DD0565D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E7F-FBB4-4995-9B44-252DD7A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DFF-1479-49F3-8EE3-6A7324D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9F2-3E6F-46E3-9C06-28DA896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F63-FFCB-4C2A-A337-D918ED00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417-AFE7-4464-916F-F951168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D16-BD5A-4E6A-BAC5-B501ADC896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304920" y="152280"/>
            <a:ext cx="2923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33520" y="533520"/>
            <a:ext cx="22381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C1C2-678E-4656-8319-F303927804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52280"/>
            <a:ext cx="2923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533520"/>
            <a:ext cx="22381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ust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16B-3094-4C8B-9178-CEC92D96DC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9440" y="1752480"/>
            <a:ext cx="78357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ECA-FAE3-4E46-9600-5D4A52528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-Min Interval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9440" y="1752480"/>
            <a:ext cx="78357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A27-9382-4EEB-A188-36A6CE152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200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B32-F697-4D33-BD98-3AC2817CE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Reg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Registered E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06E-A31C-46F8-84DE-2095B08B19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7925040" cy="39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FA2-E842-46BF-82B6-BD3EAED2B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DC1-C0B0-48DB-AFE4-B6AA2242AE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s of Events by S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D3A-43FF-4A66-8259-6421A056FA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8377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Protocols Reported by S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F2C-CD92-43CC-B6F0-C7CEA75DC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improved in June over May’s scor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ndard measures how well real power demand and supply in real-time are balanced in the ERCOT Interconnec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cores for June indicate 33 QSEs passed / 1 non-wind-only QSE failed the PRR 525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ass the PRR 525 measure, a QSE must minimize its Schedule Control Error (SCE) which is essentially the difference between the actual and expected (requested) Resource output of the QSE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8B5-BBAD-426A-B86D-86EA369FC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xas RE Compliance Sum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as RE has registered 204 entities (+ ERCOT ISO) in the ERCOT Region that are responsible for compliance with NERC Reliability Standar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 Compliance Audits are scheduled in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stical information related to NERC Standards violations are subject to NERC Electric Reliability Organization (ERO) confidentiality restri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have been 35 ERCOT Protocol violations identified De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u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as RE has reviewed 46 events reported in the ERCOT Region De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u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266-CFE8-4BEC-80F5-7ECBF226A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ust Board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to request approval of Texas RE Standards Development Procedures needed to implement Texas RE Standards Development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ered Ballot Body (RB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Standards Committee (R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rafting Team (SD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 review process currently underway and comments being col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cedur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posted on Texas RE Web Page:  Regional Reliability Standards Develop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nning and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6FF-D64E-4EE9-BF86-027364B52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15AB-F5F9-42BB-B70D-45610D1E6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ne 2007:  136.84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ne 2006:  154.59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ne 2007:  135.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ne 2006:  135.64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June indicate 33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9D3-9E14-4079-B857-856E6BD5D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A6E-8DC8-4A42-B495-3988779A3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4E1-9B75-402E-BEBE-DF11E52B8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C01-2F89-4FBC-879E-DC7CB041DE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07-24T20:05:28Z</dcterms:modified>
  <cp:revision>701</cp:revision>
  <dc:subject/>
  <dc:title>PRR 525 Compliance Analysis</dc:title>
</cp:coreProperties>
</file>