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EEEBC5E-E3DE-4239-BC4C-F1C679CE6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E5FED1C-D0FA-49C7-A313-7B60833D26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7179C19-42C0-4725-A492-FE6462B95E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FD05312-9A7B-469A-B380-EF84A898F6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968F1DE-2FDE-4783-AC75-8CE0888BC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5062CBD-116F-47F1-A9CA-E810500AC6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EE4F678-5E32-45F4-89F3-FB7985EE4B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736E020-426C-4FE3-9BCF-891F024B6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7DDFAA1-A8AD-4D75-A749-FE2D3BEC1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0B7A7A-4E27-4725-8FD3-9DB59390B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809019-4DB6-47A1-B010-AA8CF3787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CA7DAC-5B57-4457-BE4C-D028149E4D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24F3-9EC6-41F1-AAC4-7C032EC2D7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42FB-C10E-42BB-B428-3BCF15884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198108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198072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r>
              <a:rPr b="1" lang="en-US" sz="2400" spc="-1" strike="noStrike">
                <a:solidFill>
                  <a:srgbClr val="ffffff"/>
                </a:solidFill>
                <a:latin typeface="Times New Roman"/>
              </a:rPr>
              <a:t>August 2, 2007</a:t>
            </a:r>
            <a:endParaRPr b="0" lang="en-US" sz="2400" spc="-1" strike="noStrike">
              <a:solidFill>
                <a:srgbClr val="000000"/>
              </a:solidFill>
              <a:latin typeface="Times New Roman"/>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108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C</a:t>
            </a:r>
            <a:br>
              <a:rPr sz="2800"/>
            </a:br>
            <a:r>
              <a:rPr b="0" lang="en-US" sz="2000" spc="-1" strike="noStrike">
                <a:solidFill>
                  <a:srgbClr val="ffffff"/>
                </a:solidFill>
                <a:latin typeface="Arial Black"/>
              </a:rPr>
              <a:t>Credit Workgroup Update</a:t>
            </a:r>
            <a:endParaRPr b="0" lang="en-US" sz="2000" spc="-1" strike="noStrike">
              <a:solidFill>
                <a:srgbClr val="ffffff"/>
              </a:solidFill>
              <a:latin typeface="Arial Black"/>
            </a:endParaRPr>
          </a:p>
        </p:txBody>
      </p:sp>
      <p:sp>
        <p:nvSpPr>
          <p:cNvPr id="89" name="PlaceHolder 2"/>
          <p:cNvSpPr>
            <a:spLocks noGrp="1"/>
          </p:cNvSpPr>
          <p:nvPr>
            <p:ph type="subTitle"/>
          </p:nvPr>
        </p:nvSpPr>
        <p:spPr>
          <a:xfrm>
            <a:off x="1980720" y="3580920"/>
            <a:ext cx="53341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organ Davies</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anessa Spell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edit Workgroup Update</a:t>
            </a:r>
            <a:endParaRPr b="0" lang="en-US" sz="2000" spc="-1" strike="noStrike">
              <a:solidFill>
                <a:srgbClr val="ffffff"/>
              </a:solidFill>
              <a:latin typeface="Arial Black"/>
            </a:endParaRPr>
          </a:p>
        </p:txBody>
      </p:sp>
      <p:sp>
        <p:nvSpPr>
          <p:cNvPr id="91" name="PlaceHolder 2"/>
          <p:cNvSpPr>
            <a:spLocks noGrp="1"/>
          </p:cNvSpPr>
          <p:nvPr>
            <p:ph/>
          </p:nvPr>
        </p:nvSpPr>
        <p:spPr>
          <a:xfrm>
            <a:off x="457200" y="1295280"/>
            <a:ext cx="8229600" cy="3276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FP Updat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worthiness Standard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isk Mitigation (sub-group)</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FP scope</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9000"/>
          </a:bodyPr>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primary requirements – All are tied together and build on each other</a:t>
            </a:r>
            <a:endParaRPr b="1" lang="en-US" sz="1800" spc="-1" strike="noStrike">
              <a:solidFill>
                <a:srgbClr val="000000"/>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376920">
              <a:lnSpc>
                <a:spcPct val="8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credit practices for “best practice”</a:t>
            </a:r>
            <a:endParaRPr b="1" lang="en-US" sz="1800" spc="-1" strike="noStrike">
              <a:solidFill>
                <a:srgbClr val="000000"/>
              </a:solidFill>
              <a:latin typeface="Arial"/>
            </a:endParaRPr>
          </a:p>
          <a:p>
            <a:pPr lvl="1" marL="829440" indent="-376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confirmation and feedback to ERCOT BOD that ERCOT practices are sufficient and reasonable</a:t>
            </a:r>
            <a:endParaRPr b="0" lang="en-US" sz="1800" spc="-1" strike="noStrike">
              <a:solidFill>
                <a:srgbClr val="000000"/>
              </a:solidFill>
              <a:latin typeface="Arial"/>
            </a:endParaRPr>
          </a:p>
          <a:p>
            <a:pPr marL="376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376920">
              <a:lnSpc>
                <a:spcPct val="8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a model to quantify potential future exposure and provide a related loss probability distribution for credit portfolio</a:t>
            </a:r>
            <a:endParaRPr b="1" lang="en-US" sz="1800" spc="-1" strike="noStrike">
              <a:solidFill>
                <a:srgbClr val="000000"/>
              </a:solidFill>
              <a:latin typeface="Arial"/>
            </a:endParaRPr>
          </a:p>
          <a:p>
            <a:pPr lvl="1" marL="829440" indent="-376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risk</a:t>
            </a:r>
            <a:endParaRPr b="0" lang="en-US" sz="1800" spc="-1" strike="noStrike">
              <a:solidFill>
                <a:srgbClr val="000000"/>
              </a:solidFill>
              <a:latin typeface="Arial"/>
            </a:endParaRPr>
          </a:p>
          <a:p>
            <a:pPr marL="376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376920">
              <a:lnSpc>
                <a:spcPct val="8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estimate and likelihood of Potential Future Exposure</a:t>
            </a:r>
            <a:endParaRPr b="1" lang="en-US" sz="1800" spc="-1" strike="noStrike">
              <a:solidFill>
                <a:srgbClr val="000000"/>
              </a:solidFill>
              <a:latin typeface="Arial"/>
            </a:endParaRPr>
          </a:p>
          <a:p>
            <a:pPr lvl="1" marL="829440" indent="-376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an initial assessment of PFE</a:t>
            </a:r>
            <a:endParaRPr b="0" lang="en-US" sz="1800" spc="-1" strike="noStrike">
              <a:solidFill>
                <a:srgbClr val="000000"/>
              </a:solidFill>
              <a:latin typeface="Arial"/>
            </a:endParaRPr>
          </a:p>
          <a:p>
            <a:pPr marL="376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376920">
              <a:lnSpc>
                <a:spcPct val="8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Capital Adequacy assessment</a:t>
            </a:r>
            <a:endParaRPr b="1" lang="en-US" sz="1800" spc="-1" strike="noStrike">
              <a:solidFill>
                <a:srgbClr val="000000"/>
              </a:solidFill>
              <a:latin typeface="Arial"/>
            </a:endParaRPr>
          </a:p>
          <a:p>
            <a:pPr lvl="1" marL="829440" indent="-376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an initial assessment of Capital Adequacy</a:t>
            </a:r>
            <a:endParaRPr b="0" lang="en-US" sz="1800" spc="-1" strike="noStrike">
              <a:solidFill>
                <a:srgbClr val="000000"/>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both Current and Nodal environ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editworthiness Standards is the document that defines how unsecured credit will be assigned.</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n’t been updated since 2001 </a:t>
            </a:r>
            <a:r>
              <a:rPr b="0" lang="en-US" sz="1600" spc="-1" strike="noStrike">
                <a:solidFill>
                  <a:srgbClr val="000000"/>
                </a:solidFill>
                <a:latin typeface="Arial"/>
              </a:rPr>
              <a:t>(other than minor correction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Work Group (CWG) is in the process of reviewing this document and expects to propose changes to F&amp;A</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the Protocols, the Creditworthiness Standards are approved by the Board of Directors</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WG has been reviewing these standards and proposes that changes be made progressivel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changes currently for “low hanging frui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 additional information about risk characteristics of certain types of MPs either by “piggy-backing” on the pending Credit Review project or through an additional study to be commissioned (issuing a separate RFP)</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2"/>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edit Worthiness Standard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low hanging fruit” changes include:</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ing the maximum unsecured credit allowed for a MP from $125 million to $100 million</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Fitch ratings (along with S&amp;P and Moody’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angible Net Worth rather than straight Shareholders Equity when setting maximum unsecured credit limi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modified rules limiting amount of maximum unsecured credit allowed under foreign guarantees when quarterly financials are not provid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hanges expected once additional information is obtained include:</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ing qualitative as well as quantitative elements when setting unsecured credit limit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RCOT estimates that one additional staff with the appropriate expertise is needed to handle the additional work load related to this change. This is not currently included in either the 2007 or the 2008 budget.</a:t>
            </a:r>
            <a:endParaRPr b="0" lang="en-US" sz="1600" spc="-1" strike="noStrike">
              <a:solidFill>
                <a:srgbClr val="000000"/>
              </a:solidFill>
              <a:latin typeface="Arial"/>
            </a:endParaRPr>
          </a:p>
        </p:txBody>
      </p:sp>
      <p:sp>
        <p:nvSpPr>
          <p:cNvPr id="97" name="PlaceHolder 2"/>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edit Worthiness Standard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80880" y="990360"/>
            <a:ext cx="822960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WG expects to bring the “low hanging fruit” changes to the Board in August or September for considerat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G will review proposed changes with TAC prior to bringing to F&amp;A</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edit Worthiness Standards</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Workgroup to review options to transfer credit risk out of the ERCOT Marke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 met on July 31, 2007</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meeting scheduled for August 9, 2007</a:t>
            </a:r>
            <a:endParaRPr b="1" lang="en-US" sz="2000" spc="-1" strike="noStrike">
              <a:solidFill>
                <a:srgbClr val="000000"/>
              </a:solidFill>
              <a:latin typeface="Arial"/>
            </a:endParaRPr>
          </a:p>
        </p:txBody>
      </p:sp>
      <p:sp>
        <p:nvSpPr>
          <p:cNvPr id="101" name="PlaceHolder 2"/>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edit Risk Mitigation</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03" name="PlaceHolder 2"/>
          <p:cNvSpPr>
            <a:spLocks noGrp="1"/>
          </p:cNvSpPr>
          <p:nvPr>
            <p:ph/>
          </p:nvPr>
        </p:nvSpPr>
        <p:spPr>
          <a:xfrm>
            <a:off x="457200" y="2438280"/>
            <a:ext cx="8229600" cy="3353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Quest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lbracht</cp:lastModifiedBy>
  <dcterms:modified xsi:type="dcterms:W3CDTF">2007-08-02T14:23:48Z</dcterms:modified>
  <cp:revision>50</cp:revision>
  <dc:subject/>
  <dc:title>Instructions</dc:title>
</cp:coreProperties>
</file>