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ED2-34BD-41C2-9A9F-2724C3A4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19A-3E79-46F6-92C2-813873A4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7D5-5835-48F8-992D-ACD6B6C6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805-5237-49BD-8312-E58B8B77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B331-28D5-4891-9B25-07922155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D688-2D65-489C-83A0-0D06B035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126D-BEDB-49DB-8927-422B5055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1FD5-941A-4DE7-980D-CEE0A424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A8B0-1A48-47F3-B825-9283D72A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F650-7198-4066-B495-876DCC71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2859-8069-47D1-A4A3-3425457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BB6-E257-4795-AC6D-BA219297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6895-C9F8-4C48-9BEE-6E1970EC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93EB-20E4-4676-A3A5-B3AB3F2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3488-222F-47C0-8DB7-51D85229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6AA8-210A-41ED-92C8-E21E9C58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D64E-848A-4B64-8BDA-DB30B842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E97-1136-4F35-AAE3-1860CC66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2BD-D7CA-489F-A19F-0DBD7BF2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9C9-6DF2-439E-BD10-69034514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3D3-726D-4E7D-9940-7D552D37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872-09F9-48E9-98A8-E6069083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9D1-EA71-4E0F-97CD-83D71CC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7F8-1557-4BEC-9103-9322F7CF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59297" t="38104" r="0" b="11111"/>
          <a:stretch/>
        </p:blipFill>
        <p:spPr>
          <a:xfrm>
            <a:off x="3276720" y="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32813" r="0" b="29692"/>
          <a:stretch/>
        </p:blipFill>
        <p:spPr>
          <a:xfrm>
            <a:off x="0" y="0"/>
            <a:ext cx="327672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F183-B463-4996-8A6A-53E0B4558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15003" r="0" b="45008"/>
          <a:stretch/>
        </p:blipFill>
        <p:spPr>
          <a:xfrm>
            <a:off x="5432400" y="0"/>
            <a:ext cx="3711600" cy="1828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457200"/>
            <a:ext cx="8534520" cy="914400"/>
          </a:xfrm>
          <a:prstGeom prst="rect">
            <a:avLst/>
          </a:prstGeom>
          <a:gradFill rotWithShape="0">
            <a:gsLst>
              <a:gs pos="0">
                <a:srgbClr val="6666ff">
                  <a:alpha val="62352"/>
                </a:srgbClr>
              </a:gs>
              <a:gs pos="100000">
                <a:srgbClr val="ffffff">
                  <a:alpha val="5607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59297" t="38104" r="0" b="11111"/>
          <a:stretch/>
        </p:blipFill>
        <p:spPr>
          <a:xfrm>
            <a:off x="3200400" y="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32813" r="0" b="29692"/>
          <a:stretch/>
        </p:blipFill>
        <p:spPr>
          <a:xfrm>
            <a:off x="0" y="0"/>
            <a:ext cx="325296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5882-4B4E-4B0A-A993-C4B00033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0" t="15003" r="0" b="45008"/>
          <a:stretch/>
        </p:blipFill>
        <p:spPr>
          <a:xfrm>
            <a:off x="5432400" y="0"/>
            <a:ext cx="371160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2209680"/>
            <a:ext cx="8534160" cy="1447920"/>
          </a:xfrm>
          <a:prstGeom prst="rect">
            <a:avLst/>
          </a:prstGeom>
          <a:gradFill rotWithShape="0">
            <a:gsLst>
              <a:gs pos="0">
                <a:srgbClr val="6666ff">
                  <a:alpha val="62352"/>
                </a:srgbClr>
              </a:gs>
              <a:gs pos="100000">
                <a:srgbClr val="ffffff">
                  <a:alpha val="5607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y J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2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S Report to T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has not met since the last TAC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approved OGRR202, Clarification of Responsibility for Switching of Transmission Elements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will review new method for adjusting responsive reserves to trigger EECP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July 2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LaaR Deployme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ystem elements lost (Trip times per PI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:31:56 Unit A trips at 830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:32:10 Unit B trips at 113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:32:30 345 kV Line C tr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tal of 943 MW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July 2</a:t>
            </a:r>
            <a:r>
              <a:rPr b="0" lang="en-US" sz="3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LaaR Deployment A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50 MW of Responsive Reserve was deploy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 the time, event was considered a potential DCS event, call for LaaRs was initiated at 19:37.  A total of 983 MW out of 1150 MW LaaRs deployed within the 10 minute initiation mark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cedures indicate to deploy LaaRs for 950 MW of generation lo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requency was at 59.942 Hz at the time the LaaR deployment call was initiat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July 2</a:t>
            </a:r>
            <a:r>
              <a:rPr b="0" lang="en-US" sz="3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LaaR Deployment Resul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recovered within 6 minutes of the disturb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later identified as a TRE Investigative Report due to the third element, 345 kV line tripping (initially not report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DCS event, did not meet the 1083 MW loss requi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743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  QUESTIONS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5:49:18Z</dcterms:created>
  <dc:creator>sschneid</dc:creator>
  <dc:description/>
  <dc:language>en-US</dc:language>
  <cp:lastModifiedBy>balbracht</cp:lastModifiedBy>
  <dcterms:modified xsi:type="dcterms:W3CDTF">2007-08-02T16:53:03Z</dcterms:modified>
  <cp:revision>34</cp:revision>
  <dc:subject/>
  <dc:title>Slide 1</dc:title>
</cp:coreProperties>
</file>