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31E-F42B-45ED-B0B2-32C509EF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69-E51C-4534-AD66-0F413F0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29F-8AF0-466F-96CA-9C9CD59E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596-293B-486F-BF1C-5FD1AA18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E10-FBCE-44D8-9F54-C8DA51F7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83E-3720-4E8F-A8E4-68770F7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985-EC6F-4633-9381-146CE2F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F78-503D-4DC7-92A1-9423C4EC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4A3-FA7D-4E47-8654-354A9E0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3B-C63E-448C-80D5-2C264BB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35E-1E30-491D-9908-8FA90C3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340-1561-4EEE-A3AA-FAD90F6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99DB-F339-4DDA-B326-79ECAAC8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ugust 2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D89-BA6C-4D85-A820-520768EDE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 (PWG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and analysis of DLC demonstration programs (2-day meeting July 24 and 25) – developing LPGRR language for COPS to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ubmit to COPS for consideration at August Meeting, LPGRR022 conforming the Load Profiling Guide to Protocol Section 21 and other market gu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A20-DCE5-43D5-B9E4-3331CB89D8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 (PWG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204920"/>
            <a:ext cx="792468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7CB-516E-4094-9C0B-F30A1D74F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– called attention to NPRR075 that was approved by PRS and TAC noting they had been working on a parallel NPRR without the opportunity to comment in a timely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, it was moved, seconded, and unanimously approved by COPS participants,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llowing Board Approval of NPRR075 that SDAWG will submit their Draft Nodal Dispute NPRR to PRS, 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COPS for review and consideration at the August 14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OPS meeting for action and recommendation to PRS at their August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938-FFF9-42FB-AA4B-5D8362026E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DAWG sponsored with ERCOT Staff a Nodal Settlements Mini Workshop July 26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and 27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  Pre registrations @ 7/25/07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5 participants representing 21 QS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1 participants representing 8 LS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 participants representing consul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orkshop also available via “web-e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106-CBD5-4F3F-8953-FD32290AD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ata Acquisition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br>
              <a:rPr sz="44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RCOT Enterprise Information Services – (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updated presentation made to TAC 6/28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 reviewing Data Extract problems and called attention to software and system performance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, it was determined that the DEWG should again become active.  Jim Galvin was asked by COPS to chair DEWG which he accept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rst meeting of DEWG was on Monday July 3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0E4-2CEB-47CB-8C65-4B39D4273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t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d Hoc Committee chaired by Ken Riordon and Staff are to submit a plan to COPS at their August meeting to consider and forward to PRS for consideration at their August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64D-D386-4CFE-B2CE-729F274E8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PS Communications Working Group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CC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MGRR00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forming Commercial Operations Market Guide to the Current Protocols and Other ERCOT Marke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efining Administrative COPMGRRs and providing a process by which ERCOT Staff can submit such revision reque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roviding specific guidelines for COPS to use when determining whether a COPMGRR should be considered Ur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Impact 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verall Market Benefit is Conformance with current protocols and other Marke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 impact upon budget; ERCOT staffing; o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 Recommends to TAC approval of COPMGRR004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(V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480-4F77-418C-B973-BC3154EA8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2F-8693-45AD-80C4-3AB491F05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07-25T19:12:58Z</dcterms:modified>
  <cp:revision>218</cp:revision>
  <dc:subject/>
  <dc:title>Point-to-Point</dc:title>
</cp:coreProperties>
</file>