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3"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152280" y="6351480"/>
            <a:ext cx="727200" cy="392400"/>
          </a:xfrm>
          <a:prstGeom prst="rect">
            <a:avLst/>
          </a:prstGeom>
          <a:ln w="0">
            <a:noFill/>
          </a:ln>
        </p:spPr>
      </p:pic>
      <p:sp>
        <p:nvSpPr>
          <p:cNvPr id="5"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EF03565-97FB-4EB7-A64D-D5884682E01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Update</a:t>
            </a:r>
            <a:r>
              <a:rPr b="0" lang="en-US" sz="1800" spc="-1" strike="noStrike">
                <a:solidFill>
                  <a:srgbClr val="ffffff"/>
                </a:solidFill>
                <a:latin typeface="Arial Black"/>
              </a:rPr>
              <a:t> </a:t>
            </a:r>
            <a:br>
              <a:rPr sz="1800"/>
            </a:br>
            <a:r>
              <a:rPr b="0" lang="en-GB" sz="2400" spc="-1" strike="noStrike">
                <a:solidFill>
                  <a:srgbClr val="808080"/>
                </a:solidFill>
                <a:latin typeface="Arial Black"/>
              </a:rPr>
              <a:t>for TAC August 2, 2007</a:t>
            </a:r>
            <a:br>
              <a:rPr sz="2400"/>
            </a:br>
            <a:r>
              <a:rPr b="0" lang="en-GB" sz="2400" spc="-1" strike="noStrike">
                <a:solidFill>
                  <a:srgbClr val="808080"/>
                </a:solidFill>
                <a:latin typeface="Arial Black"/>
              </a:rPr>
              <a:t>Trip Doggett</a:t>
            </a:r>
            <a:br>
              <a:rPr sz="3200"/>
            </a:br>
            <a:br>
              <a:rPr sz="2000"/>
            </a:br>
            <a:endParaRPr b="0" lang="en-US" sz="2400" spc="-1" strike="noStrike">
              <a:solidFill>
                <a:srgbClr val="ffffff"/>
              </a:solidFill>
              <a:latin typeface="Arial Black"/>
            </a:endParaRPr>
          </a:p>
        </p:txBody>
      </p:sp>
      <p:pic>
        <p:nvPicPr>
          <p:cNvPr id="47"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uly 10</a:t>
            </a:r>
            <a:endParaRPr b="0" lang="en-US" sz="1800" spc="-1" strike="noStrike">
              <a:solidFill>
                <a:srgbClr val="000000"/>
              </a:solidFill>
              <a:latin typeface="Arial"/>
            </a:endParaRPr>
          </a:p>
        </p:txBody>
      </p:sp>
      <p:sp>
        <p:nvSpPr>
          <p:cNvPr id="10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0880" y="826920"/>
            <a:ext cx="8077320" cy="2618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ly 10,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tus of FAT Testing by ERCOT, Pre-FAT and FAT Testing of MMS and EMS, Pre-FAT Testing of NMMS, and EDS 1 Test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for Ancillary Services (AS) payments to Resources that were brought on-line through Reliability Unit Commitment (RUC) to provide AS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timization runtime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mo of the customized CRR System </a:t>
            </a:r>
            <a:endParaRPr b="0" lang="en-US" sz="1800" spc="-1" strike="noStrike">
              <a:solidFill>
                <a:srgbClr val="000000"/>
              </a:solidFill>
              <a:latin typeface="Arial"/>
            </a:endParaRPr>
          </a:p>
        </p:txBody>
      </p:sp>
      <p:sp>
        <p:nvSpPr>
          <p:cNvPr id="10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uly 23</a:t>
            </a:r>
            <a:endParaRPr b="0" lang="en-US" sz="1800" spc="-1" strike="noStrike">
              <a:solidFill>
                <a:srgbClr val="000000"/>
              </a:solidFill>
              <a:latin typeface="Arial"/>
            </a:endParaRPr>
          </a:p>
        </p:txBody>
      </p:sp>
      <p:sp>
        <p:nvSpPr>
          <p:cNvPr id="107"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80880" y="826920"/>
            <a:ext cx="8077320" cy="2557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ly 23,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gram Update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 API Change Request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s for CRR Documentation Update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CRR Clean-up NPRR</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W reporting requirements and CSD coverag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ectrical Bus in Outage Scheduler</a:t>
            </a:r>
            <a:endParaRPr b="0" lang="en-US" sz="1800" spc="-1" strike="noStrike">
              <a:solidFill>
                <a:srgbClr val="000000"/>
              </a:solidFill>
              <a:latin typeface="Arial"/>
            </a:endParaRPr>
          </a:p>
        </p:txBody>
      </p:sp>
      <p:sp>
        <p:nvSpPr>
          <p:cNvPr id="11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uly 24</a:t>
            </a:r>
            <a:endParaRPr b="0" lang="en-US" sz="1800" spc="-1" strike="noStrike">
              <a:solidFill>
                <a:srgbClr val="000000"/>
              </a:solidFill>
              <a:latin typeface="Arial"/>
            </a:endParaRPr>
          </a:p>
        </p:txBody>
      </p:sp>
      <p:sp>
        <p:nvSpPr>
          <p:cNvPr id="11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0880" y="826920"/>
            <a:ext cx="8077320" cy="4358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ly 24,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sues related to Verifiable Costs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ource Asset Registration Form</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Readiness Metric Inventory</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ly 24, TPTF recommended sharing the metric inventory as a work in progress and ask TAC what involvement they want to have in approving them, and to agree that ERCOT should move forward with E1, E6, E8, E9, MP1, MP11, MP14, N1.  The motion carried by unanimous voice vote with no abstentions. All Market Segments were represent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edit Transition to Nodal</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 API Change Reques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Operating Guide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lidation of Output Schedules for Dynamically Scheduled Resource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A Project Update </a:t>
            </a:r>
            <a:endParaRPr b="0" lang="en-US" sz="1800" spc="-1" strike="noStrike">
              <a:solidFill>
                <a:srgbClr val="000000"/>
              </a:solidFill>
              <a:latin typeface="Arial"/>
            </a:endParaRPr>
          </a:p>
        </p:txBody>
      </p:sp>
      <p:sp>
        <p:nvSpPr>
          <p:cNvPr id="118"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uly 25</a:t>
            </a:r>
            <a:endParaRPr b="0" lang="en-US" sz="1800" spc="-1" strike="noStrike">
              <a:solidFill>
                <a:srgbClr val="000000"/>
              </a:solidFill>
              <a:latin typeface="Arial"/>
            </a:endParaRPr>
          </a:p>
        </p:txBody>
      </p:sp>
      <p:sp>
        <p:nvSpPr>
          <p:cNvPr id="12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80880" y="746280"/>
            <a:ext cx="8077320" cy="552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ly 25,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Testing Timelin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fer Creation and Submission Methodology for SCED Testing</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ly 25, TPTF approved the document “EDS3 Release 5 – SCED Testing Establishing Generating Resource Offer Curves v0.90”.  The motion carried by unanimous roll-call vote, with no abstentions. All Market Segments were represent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NPRR045, Wind Power Forecasting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ly 24, TPTF approved NPRR045, Wind Power Forecasting, as it had been submitted to PRS. The motion carried by roll-call vote, with 100% in favor and five abstentions (Brazos, CenterPoint, Calpine, City of Allen, and City of Eastland). All Market Segments were represent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Level Agreement for Nodal EDS Environ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ly 24, TPTF approved the Service Level Agreement for Nodal EDS Environments v0.92. The motion carried by unanimous roll-call vote, with no abstentions. All Market Segments were represent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cillary Services payments to Resources that were brought on-line through DRUC or RUC to provide A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S Assignment – PRR 727 </a:t>
            </a:r>
            <a:endParaRPr b="0" lang="en-US" sz="1800" spc="-1" strike="noStrike">
              <a:solidFill>
                <a:srgbClr val="000000"/>
              </a:solidFill>
              <a:latin typeface="Arial"/>
            </a:endParaRPr>
          </a:p>
        </p:txBody>
      </p:sp>
      <p:sp>
        <p:nvSpPr>
          <p:cNvPr id="12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2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80880" y="792000"/>
            <a:ext cx="8610840" cy="1601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Next meetings</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August 13 and Tuesday August 14 </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August 27 through Wednesday August 29</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September 10 and Tuesday September 11</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September 24 through Wednesday September 26</a:t>
            </a:r>
            <a:endParaRPr b="0" lang="en-US" sz="1800" spc="-1" strike="noStrike">
              <a:solidFill>
                <a:srgbClr val="000000"/>
              </a:solidFill>
              <a:latin typeface="Arial"/>
            </a:endParaRPr>
          </a:p>
        </p:txBody>
      </p:sp>
      <p:sp>
        <p:nvSpPr>
          <p:cNvPr id="13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3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80880" y="765000"/>
            <a:ext cx="8610840" cy="4383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800" spc="-1" strike="noStrike">
                <a:solidFill>
                  <a:srgbClr val="000000"/>
                </a:solidFill>
                <a:latin typeface="Arial"/>
              </a:rPr>
              <a:t>On August 13 and 14, we plan to discus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S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to COMS Interfac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stration Update/ RARF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Settlements Mini-Market Example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updates for CRR Requirements &amp; CSD through Baseline 2</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W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 through examples and discuss comment timeframe for the Data Archival Reporting Requirement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Draft NPRR</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modifying language for Electrical Bus in Section 3.1.5.1</a:t>
            </a:r>
            <a:endParaRPr b="0" lang="en-US" sz="1800" spc="-1" strike="noStrike">
              <a:solidFill>
                <a:srgbClr val="000000"/>
              </a:solidFill>
              <a:latin typeface="Arial"/>
            </a:endParaRPr>
          </a:p>
        </p:txBody>
      </p:sp>
      <p:sp>
        <p:nvSpPr>
          <p:cNvPr id="14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4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80880" y="765000"/>
            <a:ext cx="8610840" cy="3403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800" spc="-1" strike="noStrike">
                <a:solidFill>
                  <a:srgbClr val="000000"/>
                </a:solidFill>
                <a:latin typeface="Arial"/>
              </a:rPr>
              <a:t>On August 13 and 14, we plan to discus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S Assignm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PRR074, Revisions to Monitoring and Qualification Tests in Section 8, Performance Monitoring and Complianc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PRR076, Synchronization of Emergency Electric Curtailment Plan (EECP) Event Realignm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R727, Process for Transition to Nodal Market Protocol Section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S remanded PRR 727 to TPTF for recommendation on how to resolve potential conflicts between zonal and nodal Protocol sections and how to process zonal Settlements after the start of the Texas Nodal Market, including any Settlement dispute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oncept of reasonableness of LMPs</a:t>
            </a:r>
            <a:endParaRPr b="0" lang="en-US" sz="1800" spc="-1" strike="noStrike">
              <a:solidFill>
                <a:srgbClr val="000000"/>
              </a:solidFill>
              <a:latin typeface="Arial"/>
            </a:endParaRPr>
          </a:p>
        </p:txBody>
      </p:sp>
      <p:sp>
        <p:nvSpPr>
          <p:cNvPr id="148"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5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80880" y="765000"/>
            <a:ext cx="8610840" cy="33415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800" spc="-1" strike="noStrike">
                <a:solidFill>
                  <a:srgbClr val="000000"/>
                </a:solidFill>
                <a:latin typeface="Arial"/>
              </a:rPr>
              <a:t>On August 13 and 14, we plan to discus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A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 External Interfaces Specification v1.02</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1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process for resolving testing error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 for tracking error resolution in the context of metrics and Readiness Reporting</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1 testing deliverable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 Curriculum document- discuss prerequisite training for EDS</a:t>
            </a:r>
            <a:endParaRPr b="0" lang="en-US" sz="1800" spc="-1" strike="noStrike">
              <a:solidFill>
                <a:srgbClr val="000000"/>
              </a:solidFill>
              <a:latin typeface="Arial"/>
            </a:endParaRPr>
          </a:p>
        </p:txBody>
      </p:sp>
      <p:sp>
        <p:nvSpPr>
          <p:cNvPr id="156"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roposed changes to TPTF Charter</a:t>
            </a:r>
            <a:endParaRPr b="0" lang="en-US" sz="1800" spc="-1" strike="noStrike">
              <a:solidFill>
                <a:srgbClr val="000000"/>
              </a:solidFill>
              <a:latin typeface="Arial"/>
            </a:endParaRPr>
          </a:p>
        </p:txBody>
      </p:sp>
      <p:sp>
        <p:nvSpPr>
          <p:cNvPr id="16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
          <p:cNvSpPr/>
          <p:nvPr/>
        </p:nvSpPr>
        <p:spPr>
          <a:xfrm>
            <a:off x="380880" y="914400"/>
            <a:ext cx="8458200" cy="1025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ne 27, TPTF moved to forward to TAC proposed changes to the TPTF Charter. The motion carried by roll-call vote with 100% in favor and two abstentions (City of Allen and City of Eastland). All Market Segments, except the Independent Retail Electric Providers, were represen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81000"/>
            <a:ext cx="8991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iscuss TAC’s desired role in review or approval of Readiness Metrics</a:t>
            </a:r>
            <a:endParaRPr b="0" lang="en-US" sz="1800" spc="-1" strike="noStrike">
              <a:solidFill>
                <a:srgbClr val="000000"/>
              </a:solidFill>
              <a:latin typeface="Arial"/>
            </a:endParaRPr>
          </a:p>
        </p:txBody>
      </p:sp>
      <p:sp>
        <p:nvSpPr>
          <p:cNvPr id="167"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
          <p:cNvSpPr/>
          <p:nvPr/>
        </p:nvSpPr>
        <p:spPr>
          <a:xfrm>
            <a:off x="380880" y="914400"/>
            <a:ext cx="8458200" cy="1258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ly 24, TPTF recommended sharing the metric inventory as a work in progress and ask TAC what involvement they want to have in approving them, and to agree that ERCOT should move forward with E1, E6, E8, E9, MP1, MP11, MP14, N1. The motion carried by unanimous voice vote with no abstentions. All Market Segments were represen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9320" y="81000"/>
            <a:ext cx="793764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49" name=""/>
          <p:cNvGraphicFramePr/>
          <p:nvPr/>
        </p:nvGraphicFramePr>
        <p:xfrm>
          <a:off x="380880" y="762120"/>
          <a:ext cx="8305920" cy="5234040"/>
        </p:xfrm>
        <a:graphic>
          <a:graphicData uri="http://schemas.openxmlformats.org/drawingml/2006/table">
            <a:tbl>
              <a:tblPr/>
              <a:tblGrid>
                <a:gridCol w="2440080"/>
                <a:gridCol w="4646520"/>
                <a:gridCol w="1219320"/>
              </a:tblGrid>
              <a:tr h="307080">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tem</a:t>
                      </a:r>
                      <a:endParaRPr b="0" lang="en-US" sz="14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cription</a:t>
                      </a:r>
                      <a:endParaRPr b="0" lang="en-US" sz="14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urpose</a:t>
                      </a:r>
                      <a:endParaRPr b="0" lang="en-US" sz="14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290880">
                <a:tc>
                  <a:txBody>
                    <a:bodyPr lIns="90000" rIns="90000" tIns="46800" bIns="46800" anchor="ctr">
                      <a:noAutofit/>
                    </a:bodyPr>
                    <a:p>
                      <a:pPr marL="117360" indent="-117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eting Summary</a:t>
                      </a:r>
                      <a:endParaRPr b="0" lang="en-US" sz="12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recent TPTF activities</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review</a:t>
                      </a:r>
                      <a:endParaRPr b="0" lang="en-US" sz="12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298440">
                <a:tc>
                  <a:txBody>
                    <a:bodyPr lIns="90000" rIns="90000" tIns="46800" bIns="46800" anchor="ctr">
                      <a:noAutofit/>
                    </a:bodyPr>
                    <a:p>
                      <a:pPr marL="2253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ext Meetings</a:t>
                      </a:r>
                      <a:endParaRPr b="0" lang="en-US" sz="12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coming activities</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review</a:t>
                      </a:r>
                      <a:endParaRPr b="0" lang="en-US" sz="12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665640">
                <a:tc>
                  <a:txBody>
                    <a:bodyPr lIns="90000" rIns="90000" tIns="46800" bIns="46800" anchor="t">
                      <a:noAutofit/>
                    </a:bodyPr>
                    <a:p>
                      <a:pPr marL="2253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pproval of proposed changes to TPTF Charter</a:t>
                      </a:r>
                      <a:endParaRPr b="0" lang="en-US" sz="12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ne 27, TPTF approved a motion to present proposed changes to the TPTF Charter</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Vote</a:t>
                      </a:r>
                      <a:endParaRPr b="0" lang="en-US" sz="12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1044720">
                <a:tc>
                  <a:txBody>
                    <a:bodyPr lIns="90000" rIns="90000" tIns="46800" bIns="46800" anchor="t">
                      <a:noAutofit/>
                    </a:bodyPr>
                    <a:p>
                      <a:pPr marL="2253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iscuss TAC’s desired role in review or approval of Readiness Metrics</a:t>
                      </a:r>
                      <a:endParaRPr b="0" lang="en-US" sz="12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ly 24, TPTF recommended </a:t>
                      </a:r>
                      <a:r>
                        <a:rPr b="0" lang="en-US" sz="1200" spc="-1" strike="noStrike">
                          <a:solidFill>
                            <a:srgbClr val="000000"/>
                          </a:solidFill>
                          <a:latin typeface="Arial"/>
                          <a:ea typeface="Times New Roman"/>
                        </a:rPr>
                        <a:t>sharing the metric inventory as a work in progress and ask TAC what involvement they want to have in approving them, and to agree that ERCOT should move forward with E1, E6, E8, E9, MP1, MP11, MP14, N1</a:t>
                      </a:r>
                      <a:r>
                        <a:rPr b="0" lang="en-US" sz="1200" spc="-1" strike="noStrike">
                          <a:solidFill>
                            <a:srgbClr val="000000"/>
                          </a:solidFill>
                          <a:latin typeface="Arial"/>
                        </a:rPr>
                        <a:t> </a:t>
                      </a:r>
                      <a:endParaRPr b="0" lang="en-US" sz="1200" spc="-1" strike="noStrike">
                        <a:solidFill>
                          <a:srgbClr val="000000"/>
                        </a:solidFill>
                        <a:latin typeface="Arial"/>
                      </a:endParaRPr>
                    </a:p>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Vote</a:t>
                      </a:r>
                      <a:endParaRPr b="0" lang="en-US" sz="12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2627640">
                <a:tc>
                  <a:txBody>
                    <a:bodyPr lIns="90000" rIns="90000" tIns="46800" bIns="46800" anchor="t">
                      <a:noAutofit/>
                    </a:bodyPr>
                    <a:p>
                      <a:pPr marL="2253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pproval of Milestones</a:t>
                      </a:r>
                      <a:endParaRPr b="0" lang="en-US" sz="12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 TAC approval of the following Milestones –</a:t>
                      </a:r>
                      <a:endParaRPr b="0" lang="en-US" sz="1200" spc="-1" strike="noStrike">
                        <a:solidFill>
                          <a:srgbClr val="000000"/>
                        </a:solidFill>
                        <a:latin typeface="Arial"/>
                      </a:endParaRPr>
                    </a:p>
                    <a:p>
                      <a:pPr lvl="2" marL="3729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mercial Systems Business Requirements complete for:</a:t>
                      </a:r>
                      <a:endParaRPr b="0" lang="en-US" sz="1200" spc="-1" strike="noStrike">
                        <a:solidFill>
                          <a:srgbClr val="000000"/>
                        </a:solidFill>
                        <a:latin typeface="Arial"/>
                      </a:endParaRPr>
                    </a:p>
                    <a:p>
                      <a:pPr lvl="3" marL="7444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gestion Revenue Rights (CRR) Auction Revenue Disbursement</a:t>
                      </a:r>
                      <a:endParaRPr b="0" lang="en-US" sz="1200" spc="-1" strike="noStrike">
                        <a:solidFill>
                          <a:srgbClr val="000000"/>
                        </a:solidFill>
                        <a:latin typeface="Arial"/>
                      </a:endParaRPr>
                    </a:p>
                    <a:p>
                      <a:pPr lvl="3" marL="7444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R Balancing Account</a:t>
                      </a:r>
                      <a:endParaRPr b="0" lang="en-US" sz="1200" spc="-1" strike="noStrike">
                        <a:solidFill>
                          <a:srgbClr val="000000"/>
                        </a:solidFill>
                        <a:latin typeface="Arial"/>
                      </a:endParaRPr>
                    </a:p>
                    <a:p>
                      <a:pPr lvl="3" marL="7444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y-Ahead Market (DAM) CRR Settlements </a:t>
                      </a:r>
                      <a:endParaRPr b="0" lang="en-US" sz="1200" spc="-1" strike="noStrike">
                        <a:solidFill>
                          <a:srgbClr val="000000"/>
                        </a:solidFill>
                        <a:latin typeface="Arial"/>
                      </a:endParaRPr>
                    </a:p>
                    <a:p>
                      <a:pPr lvl="3" marL="7444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l-Time CRR Settlements</a:t>
                      </a:r>
                      <a:endParaRPr b="0" lang="en-US" sz="1200" spc="-1" strike="noStrike">
                        <a:solidFill>
                          <a:srgbClr val="000000"/>
                        </a:solidFill>
                        <a:latin typeface="Arial"/>
                      </a:endParaRPr>
                    </a:p>
                    <a:p>
                      <a:pPr lvl="3" marL="7444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Monitoring and Management</a:t>
                      </a:r>
                      <a:endParaRPr b="0" lang="en-US" sz="1200" spc="-1" strike="noStrike">
                        <a:solidFill>
                          <a:srgbClr val="000000"/>
                        </a:solidFill>
                        <a:latin typeface="Arial"/>
                      </a:endParaRPr>
                    </a:p>
                    <a:p>
                      <a:pPr lvl="2" marL="3729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ommercial Systems CSDs complete for:</a:t>
                      </a:r>
                      <a:endParaRPr b="0" lang="en-US" sz="1200" spc="-1" strike="noStrike">
                        <a:solidFill>
                          <a:srgbClr val="000000"/>
                        </a:solidFill>
                        <a:latin typeface="Arial"/>
                      </a:endParaRPr>
                    </a:p>
                    <a:p>
                      <a:pPr lvl="3" marL="7444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R Settlements</a:t>
                      </a:r>
                      <a:endParaRPr b="0" lang="en-US" sz="1200" spc="-1" strike="noStrike">
                        <a:solidFill>
                          <a:srgbClr val="000000"/>
                        </a:solidFill>
                        <a:latin typeface="Arial"/>
                      </a:endParaRPr>
                    </a:p>
                    <a:p>
                      <a:pPr lvl="3" marL="7444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dit Monitoring and Management</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Vote</a:t>
                      </a:r>
                      <a:endParaRPr b="0" lang="en-US" sz="12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a:t>
            </a:r>
            <a:endParaRPr b="0" lang="en-US" sz="1800" spc="-1" strike="noStrike">
              <a:solidFill>
                <a:srgbClr val="000000"/>
              </a:solidFill>
              <a:latin typeface="Arial"/>
            </a:endParaRPr>
          </a:p>
        </p:txBody>
      </p:sp>
      <p:sp>
        <p:nvSpPr>
          <p:cNvPr id="17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
          <p:cNvSpPr/>
          <p:nvPr/>
        </p:nvSpPr>
        <p:spPr>
          <a:xfrm>
            <a:off x="380880" y="685800"/>
            <a:ext cx="8458200" cy="3060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ne 27, TPTF approved the </a:t>
            </a:r>
            <a:r>
              <a:rPr b="1" lang="en-US" sz="1800" spc="-1" strike="noStrike">
                <a:solidFill>
                  <a:srgbClr val="000000"/>
                </a:solidFill>
                <a:latin typeface="Arial"/>
              </a:rPr>
              <a:t>Requirements Specifications for CRR Auction Revenue Disbursement v1.9, CRR Balancing Account v1.9, DAM CRR Settlements v1.9, Real-Time CRR Settlements v1.9, and Conceptual System Design for CRR Settlements v1.9</a:t>
            </a:r>
            <a:r>
              <a:rPr b="0" lang="en-US" sz="1800" spc="-1" strike="noStrike">
                <a:solidFill>
                  <a:srgbClr val="000000"/>
                </a:solidFill>
                <a:latin typeface="Arial"/>
              </a:rPr>
              <a:t>. The motion carried by roll-call vote with 100% in favor and one abstention (GEUS). All Market Segments, except the Independent Power Marketers, Independent Retail Electric Providers, and Consumers, were represented.</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ly 9, TPTF approved the </a:t>
            </a:r>
            <a:r>
              <a:rPr b="1" lang="en-US" sz="1800" spc="-1" strike="noStrike">
                <a:solidFill>
                  <a:srgbClr val="000000"/>
                </a:solidFill>
                <a:latin typeface="Arial"/>
              </a:rPr>
              <a:t>Requirements Specifications for CMM v1.2, and Conceptual System Design for CMM v1.2</a:t>
            </a:r>
            <a:r>
              <a:rPr b="0" lang="en-US" sz="1800" spc="-1" strike="noStrike">
                <a:solidFill>
                  <a:srgbClr val="000000"/>
                </a:solidFill>
                <a:latin typeface="Arial"/>
              </a:rPr>
              <a:t>. The motion carried by roll-call vote with 100% in favor and one abstention (CenterPoint). All Market Segments, except the Independent Generators, were represented.</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 (continued)</a:t>
            </a:r>
            <a:endParaRPr b="0" lang="en-US" sz="1800" spc="-1" strike="noStrike">
              <a:solidFill>
                <a:srgbClr val="000000"/>
              </a:solidFill>
              <a:latin typeface="Arial"/>
            </a:endParaRPr>
          </a:p>
        </p:txBody>
      </p:sp>
      <p:sp>
        <p:nvSpPr>
          <p:cNvPr id="18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
          <p:cNvSpPr/>
          <p:nvPr/>
        </p:nvSpPr>
        <p:spPr>
          <a:xfrm>
            <a:off x="380880" y="762120"/>
            <a:ext cx="8458200" cy="38919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The Transition Plan says: “Any declaration of the accomplishment of a major milestone (business requirements, conceptual design, and successful completion of Market Participant testing) or a decision to proceed is contingent on the approval of both ERCOT and TAC.”</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TAC approval of the following Milestones –</a:t>
            </a:r>
            <a:endParaRPr b="0" lang="en-US" sz="18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mmercial Systems Business Requirements complete for:</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Congestion Revenue Rights (CRR) Auction Revenue Disbursement</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R Balancing Account</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y-Ahead Market (DAM) CRR Settlements </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l-Time CRR Settlements</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dit Monitoring and Management</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Commercial Systems CSDs complete for:</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R Settlements</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dit Monitoring and Manag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9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5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80880" y="826920"/>
            <a:ext cx="8077320" cy="4824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etings June 25-27, July 9-10, and July 23-25</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ne 25,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cess for reviewing and approving project documents as they are updated to each Baseline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Validation against COP</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Outage Scheduler CS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regarding payments to Resources committed by RUC to provide Ancillary Service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 for Traceability and True-up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Combined Cycle Unit Modeling whitepaper</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ne 27, TPTF approved the white paper IDA003, Combined-Cycle Unit Modeling in the Nodal Design, v0.92, as modified by TPTF on June 25, 2007.  The motion carried by roll-call vote with 80% in favor and six abstentions (Stream Energy, StarTex Power, Strategic Energy, Accent Energy, Cirro Group, and Green Mountain Energy). All Market Segments, except Consumer, were represented.</a:t>
            </a:r>
            <a:endParaRPr b="0" lang="en-US" sz="1800" spc="-1" strike="noStrike">
              <a:solidFill>
                <a:srgbClr val="000000"/>
              </a:solidFill>
              <a:latin typeface="Arial"/>
            </a:endParaRPr>
          </a:p>
        </p:txBody>
      </p:sp>
      <p:sp>
        <p:nvSpPr>
          <p:cNvPr id="5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une 25 (continued)</a:t>
            </a:r>
            <a:endParaRPr b="0" lang="en-US" sz="1800" spc="-1" strike="noStrike">
              <a:solidFill>
                <a:srgbClr val="000000"/>
              </a:solidFill>
              <a:latin typeface="Arial"/>
            </a:endParaRPr>
          </a:p>
        </p:txBody>
      </p:sp>
      <p:sp>
        <p:nvSpPr>
          <p:cNvPr id="5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80880" y="826920"/>
            <a:ext cx="8077320" cy="16628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ne 25,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Split Generation Resource (SGR) Modeling whitepaper</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ne 27, TPTF approved the IDA SGR white paper as presented on June 25, 2007.  The motion carried by roll-call vote with 100% in favor and two abstentions (Calpine and Topaz). All Market Segments were represented.</a:t>
            </a:r>
            <a:endParaRPr b="0" lang="en-US" sz="1800" spc="-1" strike="noStrike">
              <a:solidFill>
                <a:srgbClr val="000000"/>
              </a:solidFill>
              <a:latin typeface="Arial"/>
            </a:endParaRPr>
          </a:p>
        </p:txBody>
      </p:sp>
      <p:sp>
        <p:nvSpPr>
          <p:cNvPr id="6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une 26</a:t>
            </a:r>
            <a:endParaRPr b="0" lang="en-US" sz="1800" spc="-1" strike="noStrike">
              <a:solidFill>
                <a:srgbClr val="000000"/>
              </a:solidFill>
              <a:latin typeface="Arial"/>
            </a:endParaRPr>
          </a:p>
        </p:txBody>
      </p:sp>
      <p:sp>
        <p:nvSpPr>
          <p:cNvPr id="65"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80880" y="826920"/>
            <a:ext cx="8077320" cy="5167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ne 26,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 Update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Participant Metric Dashboard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Readiness Metric Inventory</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PRR074, Revisions to Monitoring and Qualification Tests in Section 8</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ne 26, TPTF moved to forward TPTF comments for NPRR074 to the Protocol Revision Subcommittee (PRS). The motion carried by roll-call vote with 85.7% in favor and two abstentions (Calpine and CenterPoint). All Market Segments were represent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stration and Qualification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testation of Ancillary Services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SE/CRR/TSP Applications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stration and Qualification Guid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ource Asset Registration Form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testing philosophy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3 SCED Handbook- Section for Phase 1</a:t>
            </a:r>
            <a:endParaRPr b="0" lang="en-US" sz="1800" spc="-1" strike="noStrike">
              <a:solidFill>
                <a:srgbClr val="000000"/>
              </a:solidFill>
              <a:latin typeface="Arial"/>
            </a:endParaRPr>
          </a:p>
          <a:p>
            <a:pPr lvl="1" marL="457200">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une 27</a:t>
            </a:r>
            <a:endParaRPr b="0" lang="en-US" sz="1800" spc="-1" strike="noStrike">
              <a:solidFill>
                <a:srgbClr val="000000"/>
              </a:solidFill>
              <a:latin typeface="Arial"/>
            </a:endParaRPr>
          </a:p>
        </p:txBody>
      </p:sp>
      <p:sp>
        <p:nvSpPr>
          <p:cNvPr id="7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80880" y="826920"/>
            <a:ext cx="8077320" cy="317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ne 27,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Testing Philosophy (continu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Security Constrained Economic Dispatch (SCED) MP Handbook</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ne 27, TPTF approved Sections 1, 2, and 3 of the SCED MP Handbook, v0.91, with changes approved by TPTF on June 26, 2007. The motion carried by roll-call vote, with 100% in favor and no abstentions. The Consumer and IREP Market Segments were not represented.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S Project- Update on the EMS CS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 for synchronizing EMS/MMS Projects to Baseline 2</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r Interface development process</a:t>
            </a:r>
            <a:endParaRPr b="0" lang="en-US" sz="1800" spc="-1" strike="noStrike">
              <a:solidFill>
                <a:srgbClr val="000000"/>
              </a:solidFill>
              <a:latin typeface="Arial"/>
            </a:endParaRPr>
          </a:p>
        </p:txBody>
      </p:sp>
      <p:sp>
        <p:nvSpPr>
          <p:cNvPr id="76"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une 27 (continued)</a:t>
            </a:r>
            <a:endParaRPr b="0" lang="en-US" sz="1800" spc="-1" strike="noStrike">
              <a:solidFill>
                <a:srgbClr val="000000"/>
              </a:solidFill>
              <a:latin typeface="Arial"/>
            </a:endParaRPr>
          </a:p>
        </p:txBody>
      </p:sp>
      <p:sp>
        <p:nvSpPr>
          <p:cNvPr id="7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80880" y="826920"/>
            <a:ext cx="8077320" cy="4249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ne 27,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S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irements Specifications for CRR Auction Revenue Disbursement v1.9, CRR Balancing Account v1.9, DAM CRR Settlements v1.9, Real-Time CRR Settlements v1.9, and Conceptual System Design for CRR Settlements v1.9</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ne 27, TPTF approved the Requirements Specifications for CRR Auction Revenue Disbursement v1.9, CRR Balancing Account v1.9, DAM CRR Settlements v1.9, Real-Time CRR Settlements v1.9, and Conceptual System Design for CRR Settlements v1.9. The motion carried by roll-call vote with 100% in favor and one abstention (GEUS). All Market Segments, except the Independent Power Marketers, Independent Retail Electric Providers, and Consumers, were represented.</a:t>
            </a:r>
            <a:endParaRPr b="0" lang="en-US" sz="1800" spc="-1" strike="noStrike">
              <a:solidFill>
                <a:srgbClr val="000000"/>
              </a:solidFill>
              <a:latin typeface="Arial"/>
            </a:endParaRPr>
          </a:p>
          <a:p>
            <a:pPr lvl="3" marL="137160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une 27 (continued)</a:t>
            </a:r>
            <a:endParaRPr b="0" lang="en-US" sz="1800" spc="-1" strike="noStrike">
              <a:solidFill>
                <a:srgbClr val="000000"/>
              </a:solidFill>
              <a:latin typeface="Arial"/>
            </a:endParaRPr>
          </a:p>
        </p:txBody>
      </p:sp>
      <p:sp>
        <p:nvSpPr>
          <p:cNvPr id="8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80880" y="826920"/>
            <a:ext cx="8077320" cy="5290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ne 27,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S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A Update- External Interfaces Specification and Web Service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PRR040, Synchronization of EECP Event Realignm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ne 27, TPTF approved the draft NPRR for Synchronization of EECP Event Realignment to replace NPRR040 and to be submitted to PRS. The motion carried by roll-call vote, with 100% in favor and three abstentions (Austin Energy, City of Garland, and AEP). All Market Segments, except the Independent Generator, IREP, and Consumer Market Segments were represent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PTF Charter</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ne 27, TPTF moved to forward to TAC proposed changes to the TPTF Charter. The motion carried by roll-call vote with 100% in favor and two abstentions (City of Allen and City of Eastland). All Market Segments, except the Independent Retail Electric Providers, were represent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W Project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formance Monitoring and Compliance Requirements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W CSD</a:t>
            </a:r>
            <a:endParaRPr b="0" lang="en-US" sz="1800" spc="-1" strike="noStrike">
              <a:solidFill>
                <a:srgbClr val="000000"/>
              </a:solidFill>
              <a:latin typeface="Arial"/>
            </a:endParaRPr>
          </a:p>
        </p:txBody>
      </p:sp>
      <p:sp>
        <p:nvSpPr>
          <p:cNvPr id="9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uly 9</a:t>
            </a:r>
            <a:endParaRPr b="0" lang="en-US" sz="1800" spc="-1" strike="noStrike">
              <a:solidFill>
                <a:srgbClr val="000000"/>
              </a:solidFill>
              <a:latin typeface="Arial"/>
            </a:endParaRPr>
          </a:p>
        </p:txBody>
      </p:sp>
      <p:sp>
        <p:nvSpPr>
          <p:cNvPr id="93"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80880" y="826920"/>
            <a:ext cx="8077320" cy="5376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ly 9,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votes from previous meeting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llectual property issues associated with EMS CS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PTF Punchlis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Issues with Jerry Sullivan</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S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irements Specifications for CMM v1.2, and Conceptual System Design for CMM v1.2</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ly 9, TPTF approved the Requirements Specifications for CMM v1.2, and Conceptual System Design for CMM v1.2. The motion carried by roll-call vote with 100% in favor and one abstention (CenterPoint). All Market Segments, except the Independent Generators, were represent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S Assignm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mand of PRR727 to TPTF for recommendation on to how to resolve potential conflicts between zonal and nodal Protocol sections and how to process zonal Settlements after the start of the Texas Nodal Market, including any Settlement disputes</a:t>
            </a:r>
            <a:endParaRPr b="0" lang="en-US" sz="1800" spc="-1" strike="noStrike">
              <a:solidFill>
                <a:srgbClr val="000000"/>
              </a:solidFill>
              <a:latin typeface="Arial"/>
            </a:endParaRPr>
          </a:p>
        </p:txBody>
      </p:sp>
      <p:sp>
        <p:nvSpPr>
          <p:cNvPr id="9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Stacy Bridges</cp:lastModifiedBy>
  <dcterms:modified xsi:type="dcterms:W3CDTF">2007-07-26T15:46:42Z</dcterms:modified>
  <cp:revision>687</cp:revision>
  <dc:subject/>
  <dc:title>TAC Update</dc:title>
</cp:coreProperties>
</file>