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2C3C-D287-4E66-A162-5BC9FF19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1AE5-216F-43FB-A46D-FD5A0F1B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FFF5-590D-428A-8E9C-0D176685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4506-35FB-4A93-A009-D209F1B3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7851-9DB9-4EA6-9127-093CBAB5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4324-4341-4EE0-BCDE-B41C6AE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2C3F-6BFE-487A-AA34-A0A58DC2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6E73-737D-4E87-ABEC-E4EB2834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34DD-5603-4A29-BF0B-342DB49F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F1F1-3030-47C5-B690-D1FF6AC5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C82C-2EC0-40E7-BAC0-0911A833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3FB7-32F1-4F9E-AACC-4D1E6A3B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363C-1161-4161-B6D8-9423C5EB7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tail Market IT Services SL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AC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,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Market IT Services SL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 Highligh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.9% availability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availability metric reporting threshold for market facing components (NAE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minute availability reporting threshold for back-end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 availability outside of maintenance/release win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and release windows do not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8% availability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availability metric reporting thresho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hours are 7:00am – 7:00pm retail business day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rak will be available outside of this time frame also but these hours are measured in the availability 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and release windows are identical to transaction processing win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Market IT Services SL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ighligh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L (Texas Market Lin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% availability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availability metric reporting thres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 availability outside of maintenance/release win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and release windows are identical to transaction processing win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ility slides provided monthly to 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ed incident data update provided monthly on reporting summary spreadsheet posted on RMS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Market IT Services SL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838080"/>
          <a:ext cx="8686800" cy="516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68680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43400" y="990720"/>
            <a:ext cx="3276720" cy="1752480"/>
          </a:xfrm>
          <a:prstGeom prst="rect">
            <a:avLst/>
          </a:prstGeom>
          <a:solidFill>
            <a:srgbClr val="cc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4800600"/>
            <a:ext cx="3962520" cy="1371600"/>
          </a:xfrm>
          <a:prstGeom prst="rect">
            <a:avLst/>
          </a:prstGeom>
          <a:solidFill>
            <a:srgbClr val="cc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762120"/>
            <a:ext cx="381240" cy="380880"/>
          </a:xfrm>
          <a:prstGeom prst="rect">
            <a:avLst/>
          </a:prstGeom>
          <a:solidFill>
            <a:srgbClr val="cc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219320"/>
            <a:ext cx="38124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97920" y="838080"/>
            <a:ext cx="23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0 min reporting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97920" y="1219320"/>
            <a:ext cx="24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15 min reporting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743200"/>
            <a:ext cx="3276720" cy="32004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85800"/>
            <a:ext cx="2819160" cy="990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990720"/>
            <a:ext cx="1218960" cy="4952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914400"/>
          <a:ext cx="85341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ne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990720"/>
          <a:ext cx="822960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22960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280" y="838080"/>
          <a:ext cx="8610840" cy="52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61084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7-28T04:34:52Z</dcterms:modified>
  <cp:revision>65</cp:revision>
  <dc:subject/>
  <dc:title>Instructions</dc:title>
</cp:coreProperties>
</file>