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7F8-0DD6-4BCE-A1E7-148E70CD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E92-DC54-4711-8467-74E3E6A4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B40-F844-47DC-8DBE-6A2ED3FA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E06-D18A-423B-867A-EB1F035E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3A5-B98C-4EA6-918B-45D31929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8F9-D07E-42FB-9497-E528A12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4EA9-9A48-485E-8D0A-1A4B54E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1E59-1BA9-4989-B109-C8D235EF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CCA-B90A-46EB-9259-4BCB6238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5B66-F060-43A5-A934-FAA7B0A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016B-D79E-47F5-B348-34B24A1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10D-569E-4D4F-AFC4-5CF42F0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3ED-E8B1-4747-9503-1E31966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29F-18D6-47D5-90B8-C71C939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52DC-F30C-4422-BFA1-0BB33CF0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EC50-AF66-49A9-9CDE-3577089E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1C5-7C04-4BEA-8669-EA2039BA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4E8-90D4-40E7-BDC7-436E308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205-F41E-4A35-9C46-281C1FB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32E-845B-44BF-BFD6-CB10F2C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CCD-514F-454B-84D4-E84DDDC9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3ED-E57C-4107-AC66-A7DAC8B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41F-DF26-4E21-AE0E-D8DBF48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C22-E155-415D-9B4D-B9064D3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59E-6B44-48E0-A280-08BB1D256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D66F-E0B9-4319-84CD-51B7EFFAB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ugust 2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4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Removal of the Drop to AREP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0574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666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200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5334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0240" y="22096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450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36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4600" y="53341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0600" y="27669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2040" y="3300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1920" y="38228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6960" y="43671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6960" y="49006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80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27432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8098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4343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943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94920" y="2693880"/>
            <a:ext cx="1895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ahoma"/>
              </a:rPr>
              <a:t>$50K Cost – O&amp;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25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EILS Formula &amp; Standard For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82880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s availability factor formula for EILS resources under the alternate formula, eliminates undefined term from EILS QSE Agre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iminates potential market confu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25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EILS Formula &amp; Standard For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69720" y="2316240"/>
            <a:ext cx="208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ahoma"/>
              </a:rPr>
              <a:t>Minor costs – O&amp;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6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DC Tie Scheduling Clarific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229600" cy="4478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DC-Tie scheduling language to reflect ERCOT treatment of ties, eliminates term “Back to Back Tie (BtB Tie)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iminates inconsistencies between ERCOT treatment of ties and Protocols, syncs zonal and nodal protocol ter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6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DC Tie Scheduling Clarific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0574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666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200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5334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0240" y="22096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50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736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4600" y="53341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0600" y="27669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2040" y="3300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1920" y="38228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6960" y="43671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6960" y="49006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80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27432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38098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4343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5943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roposal to Allow ERCOT Discretion When Processing Renewable Production Values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1828800"/>
          <a:ext cx="8229600" cy="43308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RCOT discretion to process Renewable Production Potential values when submitted by QSEs with only Uncontrollable Renewable Resour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ees up resources that can be redirected to nodal market, $4K/month cost sav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opposed and 5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ptember 1, 2007 (Urgent vote approved with 5 opposed and 2 abstentio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roposal to Allow ERCOT Discretion When Processing Renewable Production Values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3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Resource Outage Not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7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EILS Disputes &amp; Resett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2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Provision of Customer Billing Information to TDS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24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Removal of the Drop to AREP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2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Emergency Interruptible Load Service Formula &amp; Standard 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2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DC Tie Scheduling Clarif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28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Proposal to Allow ERCOT Discretion When Processing Renewable Production Value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-- 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Noti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ithdraw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12 – Local Congestion Replacement Reserve Payment Method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 040 – Synchronization of Emergency Electric Curtailment Plan (EECP) 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j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30 – Balancing Energy Price Adjustment for Deployment of Replacement Reserve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AC Assignment Up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R Appeals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S subgroup reported discussion status on 7/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ubgroup reported on possible timelines and procedural requirements to provide a record to the B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S requested more information on proposed tim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ubgroup meets 8/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Notices of Withdraw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Notices of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13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source Outage Notif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R clarifies and further details the long-term Outage notification submission process for Resourc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ds explanation options for LT outages to improve transmission modeling accura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13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source Outage Notif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17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EILS Disputes &amp; Resettlemen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828800"/>
          <a:ext cx="8229600" cy="41180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EILS Contract Period definition, adds process for disputing and resettling EILS; reformats as requi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er confidence in EILS Settlement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17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EILS Disputes &amp; Resettlemen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05740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04156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666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00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334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240" y="22096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50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36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4600" y="53341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600" y="27669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040" y="33004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920" y="38228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43671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6960" y="49006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80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8098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343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943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83040" y="3772080"/>
            <a:ext cx="28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May require minor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21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Provision of Customer Billing Information to TDSP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Direct Energy, IRE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ERCOT to provide customer billing information to TDSPs (ESI ID, Customer Name and phone number – all other data removed) during a mass transition ev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 TDSPs customer data needed for outage purpo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721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Provision of Customer Billing Information to TDSP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81952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63600" y="231768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sts part of another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4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Removal of the Drop to AREP 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828800"/>
          <a:ext cx="8229600" cy="41180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Direct Energy, IRE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Drop to AREP refer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 Rules (25.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es with PUC Ru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08-01T14:49:03Z</dcterms:modified>
  <cp:revision>162</cp:revision>
  <dc:subject/>
  <dc:title>Protocol Revision Subcommittee</dc:title>
</cp:coreProperties>
</file>