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6DB-3ADF-4144-84FC-C0CC088E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06D-4C4C-41C8-BBFA-1139D7E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E8A-F1C2-44D3-8749-F8280CB9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E3E-ABD7-46ED-B94D-85AA85CB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791-548F-4360-B19D-EDB5D775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0B6-C5AB-4462-92A1-A4892660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275-6940-4ADA-B54C-75FB0FE8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879-E6A7-4DD1-99D3-04FD385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582-3E32-4BCF-BA48-5D8A087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371-9FDB-419B-BE39-4D8490F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DA4-BCAF-49AC-B40F-94D91BF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3F0-A46A-49C1-ABD0-8E236C90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AA7-942A-42FF-A50C-E0A82118A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286000"/>
            <a:ext cx="8610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 of Public Service (CPS) Energy </a:t>
            </a:r>
            <a:br>
              <a:rPr sz="24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.K. Spruce to Skyline 345 kV Second Circuit Projec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Woodfin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 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1905120"/>
            <a:ext cx="2514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.K. Spruce to Skyline 345 kV Secon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:  Approx. $7,7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6172200"/>
            <a:ext cx="7617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440" y="5943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657600"/>
            <a:ext cx="5335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990720" y="5181480"/>
            <a:ext cx="75960" cy="1526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447920" y="5028840"/>
            <a:ext cx="152280" cy="1522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39160" y="27792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17936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d in-service in June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ruce to Skyline 345 k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ircuit was found to be necessary and economic during work on the 2006 ERCOT Five-Year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Independent review confirmed it is economically justified in 2009 with $1.9 M production cost savings compared to an annual carrying cost of $1.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ine was submitted by CPS to allow full output of the new Spruce 2, 750 MW coal power plant in 2010.  With this generator in-service, the project will save more than $29 million in production costs in 2010, more than three times of the project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124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59092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7372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82904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estimated project cost: $7.7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2819520"/>
          <a:ext cx="7391520" cy="2039760"/>
        </p:xfrm>
        <a:graphic>
          <a:graphicData uri="http://schemas.openxmlformats.org/drawingml/2006/table">
            <a:tbl>
              <a:tblPr/>
              <a:tblGrid>
                <a:gridCol w="1478160"/>
                <a:gridCol w="1479600"/>
                <a:gridCol w="1476360"/>
                <a:gridCol w="1479600"/>
                <a:gridCol w="1477800"/>
              </a:tblGrid>
              <a:tr h="825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on Cost Saving for Skyline to Spruce Second Circ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9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.1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2.7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3.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873680" y="27792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828800"/>
            <a:ext cx="778824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no comments on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Staff recommends that the project be endorsed by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Anh Duy Le</dc:creator>
  <dc:description/>
  <dc:language>en-US</dc:language>
  <cp:lastModifiedBy>jteixeira</cp:lastModifiedBy>
  <dcterms:modified xsi:type="dcterms:W3CDTF">2007-07-26T21:03:36Z</dcterms:modified>
  <cp:revision>78</cp:revision>
  <dc:subject/>
  <dc:title>ERCOT Independent Review East Bell Co to TNP One 345 kV line Upgrade</dc:title>
</cp:coreProperties>
</file>