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5E3-063E-4594-AEE9-E84C9DAD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225-A687-4109-9E7F-FCB0E03C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4DD-65D1-47EF-A9BF-43BBB64C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F25-5046-4964-9F23-FD9066A4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D776-1CC3-4121-9DB1-0AFABCC0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7025-A4BD-4AD4-A8EC-272207D4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5357-051C-48AB-A57D-39D48EF6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2CFE-2F3C-41FA-A128-CD81AF50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14AC-F5B4-4A5B-B7B3-0280AD51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2588-7243-4C54-8B98-E41F3B5B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8788-C81B-480E-BDB4-65E6D832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501-9038-4281-ABB8-08DDC071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4BE2-ADEC-4EA9-89D7-769E1C7F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E747-C4F9-4D49-BC8C-EDDCCA56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3669-B5AC-479F-9970-CA900B8D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036D-EECD-400F-BAB9-E6239A9E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5CEC-5D78-4B6F-A9B1-BC34F8B1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3750-5A2E-48E9-9DA9-611B6928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1E1B-2047-4EC8-832A-A7A6358B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5FC0-8109-4B39-8637-B30B36E4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49296-03FD-4294-A3C2-AC5D6D5C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03CB7-5DEA-4920-B77D-16124836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C30-5E63-4B8C-821F-71D621E2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FBFCC-A491-4561-BAA9-4EC992F1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2922-6943-4791-A658-9168A546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E3B6-E317-4D05-8819-19B44B57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3DC2-58D4-4041-90F5-381C3632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73B4-CC0F-4812-BDE4-F1D9759D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205B-65E0-45FE-AB17-D6A96096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A4EDC-46BE-435A-8D08-2242F20A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BA9F-9B3F-4F6B-B8B7-0BA43525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19938-66E0-48B3-AD8E-0F4C9887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FA03-5EF9-4C22-8CB1-D68F8EFC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306-5B94-4038-9728-B1C09AC4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A38C-9E2C-4E30-807D-08339379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BE9C-8FA1-4601-AA1C-F7195893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D232-721C-479B-A545-DFF44B8F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D355E-930C-47DC-9D4E-E28BE7F3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F8B9-AE18-4B94-91F6-DC0E1EBA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1331-98B9-4995-8CAD-D719AFF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3D424-2BC6-4309-9590-D94F287A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7A2BE-B63E-4843-8883-F4FCFCD6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8471-433D-4BBB-8B9F-9C83FEC3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11887-65A9-4B37-BF92-566A84C5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522-C46B-4FC7-9DAF-E103F6BF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B1549-45DF-4E59-9CA8-923AF383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C0FD-FE32-4728-B129-D6259923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613D9-8493-41F9-99A1-66E0CFF3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C18C5-C9E1-4716-BFEC-F6011D1A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9A87B-4E02-4972-A665-07CCAF4F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1F152-5212-4B50-9DD0-0C4C1CA9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78D46-3E74-4280-B426-A799DF76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1014E-1464-48B7-90DE-3AEC7F4B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1E26D-9366-4B4B-B870-511436EE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A1729-5109-4FAA-8A19-CE01781E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3AD-4EF1-4A51-8B18-52E66271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20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95DB-49C4-4560-9C31-B230E818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9B0-6FD6-457F-9335-C4D9848B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0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D8A-2109-4958-A3D6-C5735BDF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0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93F-5BBF-4C1F-BB41-086AE89E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5341-26C0-400B-A2A9-AC8AB72C10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523880"/>
            <a:ext cx="9144000" cy="82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C344-AAB2-46F2-B041-63F20A2A0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D728-1CB0-47B9-A59F-B5ACA2D3F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654F-8BDF-44E5-ADEF-B1C01DC46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6A45-E9F7-4E85-A52F-9689C2659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130480"/>
            <a:ext cx="722304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TON AREA CONSTRAINT MITIGATION: 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018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n Woodf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gust 2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leton / Zenith Subs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3809880" y="1828800"/>
            <a:ext cx="1752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345 Kv Singleton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1828800"/>
            <a:ext cx="11430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971800"/>
            <a:ext cx="8384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1981080"/>
            <a:ext cx="16002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2971800"/>
            <a:ext cx="11430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5562720"/>
            <a:ext cx="13716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345 Kv Zenith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2743200"/>
            <a:ext cx="99036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6019920"/>
            <a:ext cx="9903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29000" y="22096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6019920"/>
            <a:ext cx="53352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3352680"/>
            <a:ext cx="4495680" cy="14486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ton Sub Cost          Zenith Sub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3.7 Million                   $15.4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-service by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ject Ne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to Houston import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stion on the Tomball 345/138 kV autotransfo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et of projects relieves the autotransformer congestion and increases the North to Houston import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88120" y="30276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12952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4118040"/>
            <a:ext cx="182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4140360"/>
            <a:ext cx="990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6.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1148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7000"/>
          </a:bodyPr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011 w Sandow, Oak Grove 1,2, Sandy Creek 1 and TNP – Bell County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3606840"/>
            <a:ext cx="1828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3657600"/>
            <a:ext cx="99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7.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606840"/>
            <a:ext cx="3124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010 w Sandow 5, Oak Grove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124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3124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31240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009 w only Sandow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2637000"/>
            <a:ext cx="1828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2590920"/>
            <a:ext cx="990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n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CS ($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637000"/>
            <a:ext cx="3124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TION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7524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TION COST SAVINGS (PCS) OF HACM Phase II PROJEC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ingleton Substation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6370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124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2590920"/>
            <a:ext cx="0" cy="222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8006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35812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41148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542376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nnual carrying charge is the first year annual revenue requirement for the project (capital cost x 16.8%), which should be less than the annual production cost savings for the project to be considered economic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2590920"/>
            <a:ext cx="0" cy="223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4140360"/>
            <a:ext cx="990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.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3657600"/>
            <a:ext cx="99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.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31240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.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2590920"/>
            <a:ext cx="990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ARR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88120" y="30276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2952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3276720"/>
            <a:ext cx="1828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3276720"/>
            <a:ext cx="99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.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429000"/>
            <a:ext cx="3124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011 w Sandow 5, Oak Grove 1,2, Sandy Creek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2637000"/>
            <a:ext cx="1828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590920"/>
            <a:ext cx="990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n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CS ($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637000"/>
            <a:ext cx="3124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TION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752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TION COST SAVINGS (PCS) OF HACM Phase II PROJEC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Zenith Substation Addition with Singleton Project In-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6370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3124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2590920"/>
            <a:ext cx="0" cy="222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48006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35812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542376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nnual carrying charge is the first year annual revenue requirement for the project (capital cost x 16.8%), which should be less than the annual production cost savings for the project to be considered economic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00600" y="2590920"/>
            <a:ext cx="0" cy="223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276720"/>
            <a:ext cx="99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2590920"/>
            <a:ext cx="990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ARR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67080" y="228600"/>
            <a:ext cx="457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keholder review period for the Singleton Substation was held in January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no dissenting comments on the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Support for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Sandow 5 generation on-line by 2009 and Oak Grove Units #1 #2 on-line by 2010, the Singleton Substation project is econo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Sandow 5 / Sandy Creek / Oak Grove Units #1 #2 on-line by 2011, the Zenith Substation project is also econom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Staff recommends that the project be endorsed by the Bo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66880" y="2895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20:03:00Z</dcterms:created>
  <dc:creator>robert lona</dc:creator>
  <dc:description/>
  <dc:language>en-US</dc:language>
  <cp:lastModifiedBy>jteixeira</cp:lastModifiedBy>
  <dcterms:modified xsi:type="dcterms:W3CDTF">2007-07-26T21:49:08Z</dcterms:modified>
  <cp:revision>125</cp:revision>
  <dc:subject/>
  <dc:title>Slide 1</dc:title>
</cp:coreProperties>
</file>