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EE7-BD4C-4118-917B-9F7E99CB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9EF-6411-404E-8B0F-D790CCD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92E-8A27-400D-BE40-A6A37317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5A6-AA62-4775-A1B0-9B9D5759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29C-D9FB-455D-A04C-BA62326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C7A-7A64-4A18-922F-7A46149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BC5-8C25-4C3C-8EBD-F2AB535B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6FD-13C0-438A-99C4-178C4C79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CBE-3650-4842-9FA8-ADDF24D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10F-EA66-4164-8352-6AAEF29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1C6-C981-4076-A028-40F8A52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1A1-5BF8-4D6E-8171-182A960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F9A-3559-4939-A18C-C3FEB8D97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286000"/>
            <a:ext cx="8610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 of Public Service (CPS) Energy </a:t>
            </a:r>
            <a:br>
              <a:rPr sz="24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.K. Spruce to Skyline 345 kV Second Circuit Projec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Woodfin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 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1905120"/>
            <a:ext cx="2514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K. Spruce to Skyline 345 kV Secon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:  Approx. $7,7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6172200"/>
            <a:ext cx="7617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440" y="5943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657600"/>
            <a:ext cx="5335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990720" y="5181480"/>
            <a:ext cx="75960" cy="1526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447920" y="5028840"/>
            <a:ext cx="152280" cy="1522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39160" y="2779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17936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d in-service in June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ruce to Skyline 345 k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ircuit was found to be necessary and economic during work on the 2006 ERCOT Five-Yea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Independent review confirmed it is economically justified in 2009 with $1.9 M production cost savings compared to an annual carrying cost of $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ine was submitted by CPS to allow full output of the new Spruce 2, 750 MW coal power plant in 2010.  With this generator in-service, the project will save more than $29 million in production costs in 2010, more than three times of the project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124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59092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4737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82904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estimated project cost: $7.7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2819520"/>
          <a:ext cx="7391520" cy="2039760"/>
        </p:xfrm>
        <a:graphic>
          <a:graphicData uri="http://schemas.openxmlformats.org/drawingml/2006/table">
            <a:tbl>
              <a:tblPr/>
              <a:tblGrid>
                <a:gridCol w="1478160"/>
                <a:gridCol w="1479600"/>
                <a:gridCol w="1476360"/>
                <a:gridCol w="1479600"/>
                <a:gridCol w="1477800"/>
              </a:tblGrid>
              <a:tr h="825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on Cost Saving for Skyline to Spruce Second Circ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9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.1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2.7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3.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73680" y="27792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78824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no comments on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Staff recommends that the project be endors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Anh Duy Le</dc:creator>
  <dc:description/>
  <dc:language>en-US</dc:language>
  <cp:lastModifiedBy>jteixeira</cp:lastModifiedBy>
  <dcterms:modified xsi:type="dcterms:W3CDTF">2007-07-26T21:03:36Z</dcterms:modified>
  <cp:revision>78</cp:revision>
  <dc:subject/>
  <dc:title>ERCOT Independent Review East Bell Co to TNP One 345 kV line Upgrade</dc:title>
</cp:coreProperties>
</file>