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670-5054-4EF6-AE39-E5849A74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C38-13C8-48AB-A1CA-C88CCCAB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C62-D970-43AC-9F15-BC6F9EBB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CEF-87D4-407D-B89D-7AD83D74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7EB1-7FAD-4F2A-AAFD-D9B8F914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89E-4109-4D84-B453-99449250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2DCF-163E-4A3C-AF4E-C24C3CC4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CBE-497A-40AB-9866-EA44319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6570-9E48-46A8-8CC8-9189D030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8771-C0E2-47CF-9C7B-F6D2D3E7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F076-C924-4A71-AF47-9BB6018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ADF-329A-48F3-8D04-04DCFE82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1F61-ECB2-47E3-A225-B6CA12F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CB4F-0DB2-441C-9BC4-21B637A0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7701-772C-46B7-BAF9-E2F54951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805-9DD0-4EF1-A39F-54D4ED2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3B4F-6311-4908-8C8B-F75B3967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AC48-E92D-42DA-9418-6CEA8CD1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B1E1-A4E1-49B1-AE99-E0824119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7B5F-43A0-49B3-B05F-6BA6A6EA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1B5D-587A-4015-974E-E363CB5F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9139-4E7E-4438-800F-335E0DFC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17B-7AB7-4E63-A62A-8E88751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FDEE-CA06-463C-9857-91749F3C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5B98-FDA5-4810-A020-0DE3FC63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B5B8-AA8E-486F-A1B3-E6A65D97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4C23-5FC4-45CB-BDF3-7F598624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9CCA-040D-4261-80F3-EA043254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1BB66-669D-4E85-AC03-3E7B9DB8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17C5-F06E-4EAA-83A6-9E48E5F5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9692-FA80-41E0-AAC3-893A9308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95AC-3BC9-44C9-B48F-F1182C10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84FBA-2EE7-401F-8E7A-1A64912C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478-377D-48D9-90EB-22924192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3F7CD-CC1D-4B61-A6CA-3D1292EC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94F6-AC2C-4272-A879-419391AF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EF1E7-A811-4407-9AE4-6CFD2C12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23AC9-1E3F-44B5-B6E5-FE35830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B076A-2CA6-49CA-B6A8-46AB9775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1901-3502-4878-BF6C-DA1C681B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1C357-4CA2-43BC-BF55-09E7EC1E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4C1D-E929-4E7B-9645-DBC77C10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07231-2D58-4001-8C68-0D9FBECE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B5186-A739-4ADC-ADFF-5B0C6D7F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68C-B5DC-4ECB-B9FF-CFCDA346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FF243-0F04-4465-BA98-93C65708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26CCE-876B-4413-9B0B-0E8E61C5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570B0-E9D3-460D-A538-6BC619D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27106-74DE-4798-8B68-0C43B5C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7F294-A19D-4470-8E17-C79055F5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A8F28-716A-44A8-98B9-6EB60415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3FFE-9051-4A71-BF1B-D979A0B4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91248-E0ED-407A-AD60-37F90A21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4958B-3B2C-4B8E-97E6-F3470BED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951E-6B62-45C4-968F-F8233A21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2F2-ED57-462E-84D3-66447C60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5EAC9-E584-42BA-81FD-2EEC46C5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931-18FD-43FB-AB30-AC98D05C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4D3-5FFE-4CCC-8AFD-2BB6C540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80B-9ADE-41AB-8D07-94AB96F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2EB-6B44-40AC-9BF3-60115665BC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523880"/>
            <a:ext cx="9144000" cy="82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3634-89D2-4E9E-91D8-F31A37AE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6586-F66B-4492-A188-71391930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284B-0DAE-43E0-A8D9-C4BD60EDC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8AFC-ACED-4E73-BC1D-100AA50B3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130480"/>
            <a:ext cx="722304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TON AREA CONSTRAINT MITIGATION: 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018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gust 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leton / Zenith Subs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3809880" y="1828800"/>
            <a:ext cx="1752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345 Kv Singleton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1828800"/>
            <a:ext cx="11430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971800"/>
            <a:ext cx="8384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981080"/>
            <a:ext cx="16002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2971800"/>
            <a:ext cx="11430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5562720"/>
            <a:ext cx="13716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345 Kv Zenith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2743200"/>
            <a:ext cx="99036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6019920"/>
            <a:ext cx="9903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9000" y="22096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6019920"/>
            <a:ext cx="53352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3352680"/>
            <a:ext cx="4495680" cy="1448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ton Sub Cost          Zenith Sub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3.7 Million                   $15.4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-service by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ject Ne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to Houston import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stion on the Tomball 345/138 kV autotransfo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et of projects relieves the autotransformer congestion and increases the North to Houston import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88120" y="30276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1295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4118040"/>
            <a:ext cx="182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4140360"/>
            <a:ext cx="990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6.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1148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011 w Sandow, Oak Grove 1,2, Sandy Creek 1 and TNP – Bell County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3606840"/>
            <a:ext cx="1828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3657600"/>
            <a:ext cx="99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7.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606840"/>
            <a:ext cx="3124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010 w Sandow 5, Oak Grove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124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3124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31240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009 w only Sandow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2637000"/>
            <a:ext cx="1828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2590920"/>
            <a:ext cx="990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CS ($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637000"/>
            <a:ext cx="3124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TION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7524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ION COST SAVINGS (PCS) OF HACM Phase II PROJEC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ingleton Substation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6370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124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2590920"/>
            <a:ext cx="0" cy="222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8006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3581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41148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542376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nnual carrying charge is the first year annual revenue requirement for the project (capital cost x 16.8%), which should be less than the annual production cost savings for the project to be considered economic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2590920"/>
            <a:ext cx="0" cy="223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140360"/>
            <a:ext cx="990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3657600"/>
            <a:ext cx="99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3124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2590920"/>
            <a:ext cx="990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ARR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88120" y="30276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3276720"/>
            <a:ext cx="1828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3276720"/>
            <a:ext cx="99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.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429000"/>
            <a:ext cx="3124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011 w Sandow 5, Oak Grove 1,2, Sandy Creek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2637000"/>
            <a:ext cx="1828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590920"/>
            <a:ext cx="990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CS ($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637000"/>
            <a:ext cx="3124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TION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752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ION COST SAVINGS (PCS) OF HACM Phase II PROJEC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Zenith Substation Addition with Singleton Project In-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6370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124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2590920"/>
            <a:ext cx="0" cy="222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48006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3581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542376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nnual carrying charge is the first year annual revenue requirement for the project (capital cost x 16.8%), which should be less than the annual production cost savings for the project to be considered economic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00600" y="2590920"/>
            <a:ext cx="0" cy="223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276720"/>
            <a:ext cx="99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2590920"/>
            <a:ext cx="990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ARR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67080" y="22860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keholder review period for the Singleton Substation was held in January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no dissenting comments on the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Support for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Sandow 5 generation on-line by 2009 and Oak Grove Units #1 #2 on-line by 2010, the Singleton Substation project is econo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Sandow 5 / Sandy Creek / Oak Grove Units #1 #2 on-line by 2011, the Zenith Substation project is also econom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Staff recommends that the project be endorsed by the Bo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66880" y="2895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20:03:00Z</dcterms:created>
  <dc:creator>robert lona</dc:creator>
  <dc:description/>
  <dc:language>en-US</dc:language>
  <cp:lastModifiedBy>jteixeira</cp:lastModifiedBy>
  <dcterms:modified xsi:type="dcterms:W3CDTF">2007-07-26T21:49:08Z</dcterms:modified>
  <cp:revision>125</cp:revision>
  <dc:subject/>
  <dc:title>Slide 1</dc:title>
</cp:coreProperties>
</file>