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5C13645-185A-4257-8903-6CFFF5088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26B05B9-BCE9-4838-9ADD-804F622B8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2B5702C-CD39-43FF-8955-F919502CBC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CCD2549-7A9D-4492-B239-744B3FCA7E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AF695C-0382-46F1-BA4B-9C12D3874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3B4D709-011F-49EA-8318-7CD2E3720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E5BF53-E1DC-4C9A-B3CA-3A7DD59FB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01347E-61E2-43D9-9A89-4BD4D57BF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320A1CD-BF7A-46B6-83F1-D9CE4B617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895C6D0-020B-4BBE-BEF8-A4060DA8B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3ADFCA-4E32-4756-B259-6D8FA181F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9051F0-2B7B-40C2-9296-0263362724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F554-1E0B-4409-8324-72AF524D7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36FB-2C13-4160-B79D-A667DD8DD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1960" y="1905120"/>
            <a:ext cx="64767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arkdale Dynamic Reactive Project</a:t>
            </a:r>
            <a:br>
              <a:rPr sz="2800"/>
            </a:br>
            <a:br>
              <a:rPr sz="2800"/>
            </a:br>
            <a:r>
              <a:rPr b="0" lang="en-US" sz="2800" spc="-1" strike="noStrike">
                <a:solidFill>
                  <a:srgbClr val="ffffff"/>
                </a:solidFill>
                <a:latin typeface="Arial Black"/>
              </a:rPr>
              <a:t>Technical Advisory Committee</a:t>
            </a:r>
            <a:br>
              <a:rPr sz="2800"/>
            </a:br>
            <a:br>
              <a:rPr sz="2800"/>
            </a:br>
            <a:br>
              <a:rPr sz="2800"/>
            </a:br>
            <a:br>
              <a:rPr sz="2800"/>
            </a:br>
            <a:r>
              <a:rPr b="0" lang="en-US" sz="2000" spc="-1" strike="noStrike">
                <a:solidFill>
                  <a:srgbClr val="ffffff"/>
                </a:solidFill>
                <a:latin typeface="Arial Black"/>
              </a:rPr>
              <a:t>Dan Woodfin</a:t>
            </a: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cription of Project</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 Mvar of dynamic reactive capability</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dale Station identified as a suitable site</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rtion of proposed capability in service by 2009 peak</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d cost range: $45 – 97.5 M</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consultant study required to determine the most appropriate technology</a:t>
            </a:r>
            <a:endParaRPr b="1" lang="en-US" sz="24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Need for Project</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Recover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sure that post-contingency system voltages recover to acceptable lev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Shedding:</a:t>
            </a:r>
            <a:r>
              <a:rPr b="0" i="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rely on UVLS schemes to prevent voltage collapse for NERC Category C contingen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Generation Forecast for DFW Are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import into the DFW area requires dynamic reactive support.  2009 demand will exceed local generation by approximately 13,500 MW.  New emissions restrictions will likely restrict the availability of generation resources within the DFW area.</a:t>
            </a:r>
            <a:endParaRPr b="0" lang="en-US" sz="24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FW Load and Generation</a:t>
            </a:r>
            <a:endParaRPr b="0" lang="en-US" sz="2000" spc="-1" strike="noStrike">
              <a:solidFill>
                <a:srgbClr val="ffffff"/>
              </a:solidFill>
              <a:latin typeface="Arial Black"/>
            </a:endParaRPr>
          </a:p>
        </p:txBody>
      </p:sp>
      <p:pic>
        <p:nvPicPr>
          <p:cNvPr id="96" name="" descr=""/>
          <p:cNvPicPr/>
          <p:nvPr/>
        </p:nvPicPr>
        <p:blipFill>
          <a:blip r:embed="rId1"/>
          <a:stretch/>
        </p:blipFill>
        <p:spPr>
          <a:xfrm>
            <a:off x="914400" y="831960"/>
            <a:ext cx="7238880" cy="5249880"/>
          </a:xfrm>
          <a:prstGeom prst="rect">
            <a:avLst/>
          </a:prstGeom>
          <a:ln w="0">
            <a:noFill/>
          </a:ln>
        </p:spPr>
      </p:pic>
      <p:sp>
        <p:nvSpPr>
          <p:cNvPr id="3" name="PlaceHolder 2"/>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Review Results</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W dynamic reactive capability is require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dependent upon DFW generation availabilit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00 Mvar when all generation resources 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00 Mvar when 4 non-SCR units un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00 Mvar when an additional SCR unit unavailab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simulations utilized typical static condenser mode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ired amount of dynamic capability to achieve a similar system response may depend on the technology used.</a:t>
            </a:r>
            <a:endParaRPr b="0"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Review Results</a:t>
            </a:r>
            <a:endParaRPr b="0" lang="en-US" sz="20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igated additional impacts</a:t>
            </a:r>
            <a:r>
              <a:rPr b="0" i="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ster fault clearing times may improve system response but do not address the fundamental need for dynamic reactive support in the DFW area under high import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low voltage recovery and potential voltage collapse are exacerbated by peak load conditions and the unavailability of DFW generation resour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ing DFW load power factor did not provide any voltage recovery benefit for simulated conting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Support for the Project</a:t>
            </a:r>
            <a:endParaRPr b="0" lang="en-US" sz="2000" spc="-1" strike="noStrike">
              <a:solidFill>
                <a:srgbClr val="ffffff"/>
              </a:solidFill>
              <a:latin typeface="Arial Black"/>
            </a:endParaRPr>
          </a:p>
        </p:txBody>
      </p:sp>
      <p:sp>
        <p:nvSpPr>
          <p:cNvPr id="102" name="PlaceHolder 2"/>
          <p:cNvSpPr>
            <a:spLocks noGrp="1"/>
          </p:cNvSpPr>
          <p:nvPr>
            <p:ph/>
          </p:nvPr>
        </p:nvSpPr>
        <p:spPr>
          <a:xfrm>
            <a:off x="456840" y="3276360"/>
            <a:ext cx="8077320" cy="33526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Recommendations</a:t>
            </a:r>
            <a:endParaRPr b="1"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cor should proceed with their planned consultant study to assist them in selecting the most appropriate technology for providing dynamic reactive cap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cor should consider the possibility of utilizing more than one location to deploy a total of 600 MVAr (or equivalent dynamic reactive capacity to provide the same response depending on the location and technology used). </a:t>
            </a:r>
            <a:endParaRPr b="0" lang="en-US" sz="2000" spc="-1" strike="noStrike">
              <a:solidFill>
                <a:srgbClr val="000000"/>
              </a:solidFill>
              <a:latin typeface="Arial"/>
            </a:endParaRPr>
          </a:p>
        </p:txBody>
      </p:sp>
      <p:sp>
        <p:nvSpPr>
          <p:cNvPr id="103" name=""/>
          <p:cNvSpPr/>
          <p:nvPr/>
        </p:nvSpPr>
        <p:spPr>
          <a:xfrm>
            <a:off x="533520" y="898560"/>
            <a:ext cx="7788240" cy="2253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500"/>
              </a:spcBef>
              <a:buClr>
                <a:srgbClr val="000000"/>
              </a:buClr>
              <a:buFont typeface="Arial"/>
              <a:buChar char="•"/>
              <a:tabLst>
                <a:tab algn="l" pos="137628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keholder review period for this project was held in May 2007</a:t>
            </a:r>
            <a:endParaRPr b="0" lang="en-US" sz="2000" spc="-1" strike="noStrike">
              <a:solidFill>
                <a:srgbClr val="000000"/>
              </a:solidFill>
              <a:latin typeface="Arial"/>
            </a:endParaRPr>
          </a:p>
          <a:p>
            <a:pPr marL="228600" indent="-228600">
              <a:spcBef>
                <a:spcPts val="2500"/>
              </a:spcBef>
              <a:buClr>
                <a:srgbClr val="000000"/>
              </a:buClr>
              <a:buFont typeface="Arial"/>
              <a:buChar char="•"/>
              <a:tabLst>
                <a:tab algn="l" pos="137628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were no comments on this project</a:t>
            </a:r>
            <a:endParaRPr b="0" lang="en-US" sz="2000" spc="-1" strike="noStrike">
              <a:solidFill>
                <a:srgbClr val="000000"/>
              </a:solidFill>
              <a:latin typeface="Arial"/>
            </a:endParaRPr>
          </a:p>
          <a:p>
            <a:pPr marL="228600" indent="-228600">
              <a:spcBef>
                <a:spcPts val="2500"/>
              </a:spcBef>
              <a:buClr>
                <a:srgbClr val="000000"/>
              </a:buClr>
              <a:buFont typeface="Arial"/>
              <a:buChar char="•"/>
              <a:tabLst>
                <a:tab algn="l" pos="137628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recommends that the project be endorsed by the Board</a:t>
            </a:r>
            <a:endParaRPr b="0"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bojorquez</cp:lastModifiedBy>
  <dcterms:modified xsi:type="dcterms:W3CDTF">2007-07-26T20:30:09Z</dcterms:modified>
  <cp:revision>26</cp:revision>
  <dc:subject/>
  <dc:title>Instructions</dc:title>
</cp:coreProperties>
</file>