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46BD3-C319-49F0-9B86-27887635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2246E2-DA08-477B-82D5-445D39C7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E5C961-1554-4881-8704-B3F0A2ED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DED-AA5A-432C-9817-7C5E6329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F25-B3CB-461F-B47E-1B9E8BB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0C-EBAE-4EFF-943D-137A9C5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02C-7C38-47B8-851A-915938EA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A1C-FBC8-40EE-90D8-B1384006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C34-6A0A-4638-9DCF-272ABEAD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AF2-A8F7-41BB-8453-0673308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1C3-3345-427F-A5E0-6353E65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599-29A0-4971-95D2-DED6098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C01-F1FB-41E8-B20A-483DCE6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5D3-BDD6-40F5-942A-DA2B43E1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334-1A31-4FCF-9F59-7CF65DA7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6024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4133880" y="6235560"/>
            <a:ext cx="478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1D2DCF-98BF-4319-A72E-533E98210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June 26, 2007 TPTF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00E-4B4B-48A5-BB84-D45DBB171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155600" y="6432480"/>
            <a:ext cx="20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se Ti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3543480" y="6432480"/>
            <a:ext cx="207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536E095-86F8-46D1-B7F6-DB54F981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logo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3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9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809720" y="2028960"/>
            <a:ext cx="617220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Educa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Course Ti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Nam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Titl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22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der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7" descr="logo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57360" y="1523880"/>
            <a:ext cx="793116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Engagement and Readiness (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sic Train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livery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T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2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2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sic Training Program Delivery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5932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“Basic Training Progra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rs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40 hour course (5 days) will provide a market design overview cover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tions of QSEs, TSPs and ERCOT in Day-Ahead Operations, the Adjustment Period and the Operating Perio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program also introduces the students to Abnormal / Emergency Operations and the Management functions of ERCOT in the Nodal market.  It describes the basics of most major requirements for QSEs and TSPs to conduct business with ERC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94400" y="1281240"/>
            <a:ext cx="4335480" cy="2608200"/>
            <a:chOff x="4694400" y="1281240"/>
            <a:chExt cx="4335480" cy="26082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694400" y="1281240"/>
              <a:ext cx="433548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44200" y="1687680"/>
              <a:ext cx="0" cy="33840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59840" y="1652400"/>
              <a:ext cx="0" cy="43740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sic Training Program delivery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6760" y="1276200"/>
            <a:ext cx="85932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“Basic Training Progra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rse 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se 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amentals of the Texas Nodal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-Ahead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Unit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ustment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(Adjustment &amp; Operating Period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normal / Emergenc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diness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 least two operators from each operating shift for each 24 hour dispatch office must satisfactorily attend.  Market Participants may request ERCOT to reduce requirement above to one operator for a dispatch offices with limited sta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484960" y="1671480"/>
            <a:ext cx="3630600" cy="2237040"/>
            <a:chOff x="5484960" y="1671480"/>
            <a:chExt cx="3630600" cy="22370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484960" y="1671480"/>
              <a:ext cx="363060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782760" y="2019960"/>
              <a:ext cx="0" cy="29016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7320" y="1989720"/>
              <a:ext cx="0" cy="375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sic Training Program delivery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6760" y="1276200"/>
            <a:ext cx="85932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Deliver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course once a month (Fall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with annual seminar (Spring 200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s (Austin, Houston, Dallas, Northe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pers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ome training ahead of EDS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needs to accommodate shift workers (oper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needs to precede planned task leve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er local course deli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, too s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will need to take training again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personnel to a week long course in Fall of 2007 i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with annual system operator seminar (Spring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ze the course through stakehold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S-3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resources for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is in parallel with  development and delivery of other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sic Training Program delivery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66760" y="1042920"/>
          <a:ext cx="8305920" cy="5110200"/>
        </p:xfrm>
        <a:graphic>
          <a:graphicData uri="http://schemas.openxmlformats.org/drawingml/2006/table">
            <a:tbl>
              <a:tblPr/>
              <a:tblGrid>
                <a:gridCol w="671400"/>
                <a:gridCol w="3854520"/>
                <a:gridCol w="971640"/>
                <a:gridCol w="866520"/>
                <a:gridCol w="933480"/>
                <a:gridCol w="1008360"/>
              </a:tblGrid>
              <a:tr h="131004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 Delivery O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Course Once a mon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livery with spring 2008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day module (EDS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 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day mo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DS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9766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liver course once a month (Fall 20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ordinate with annual seminar for delivery in spring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 specific EDS-3 related concept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285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liver course once a month (Fall 20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ordinate with annual seminar for delivery in spring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DS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ED / LFC / Real Time Operations/ M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ne day training related to EDS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structor 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64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liver course once a month starting Fal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ordinate with annual seminar for delivery in spring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DS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ED / LFC / Real Time Operations/ M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eb-Based Training Modules related to EDS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Book Antiqua"/>
                        <a:buChar char="•"/>
                        <a:tabLst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Q&amp; A to be addressed as part of EDS-3 market conference ca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20574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686" descr="MCj04039650000[1]"/>
          <p:cNvPicPr/>
          <p:nvPr/>
        </p:nvPicPr>
        <p:blipFill>
          <a:blip r:embed="rId1"/>
          <a:stretch/>
        </p:blipFill>
        <p:spPr>
          <a:xfrm>
            <a:off x="4994280" y="2457360"/>
            <a:ext cx="4698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86" descr="MCj04039650000[1]"/>
          <p:cNvPicPr/>
          <p:nvPr/>
        </p:nvPicPr>
        <p:blipFill>
          <a:blip r:embed="rId2"/>
          <a:stretch/>
        </p:blipFill>
        <p:spPr>
          <a:xfrm>
            <a:off x="5946840" y="2467080"/>
            <a:ext cx="469800" cy="47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86" descr="MCj04039650000[1]"/>
          <p:cNvPicPr/>
          <p:nvPr/>
        </p:nvPicPr>
        <p:blipFill>
          <a:blip r:embed="rId3"/>
          <a:stretch/>
        </p:blipFill>
        <p:spPr>
          <a:xfrm>
            <a:off x="5022720" y="3600360"/>
            <a:ext cx="470160" cy="4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86" descr="MCj04039650000[1]"/>
          <p:cNvPicPr/>
          <p:nvPr/>
        </p:nvPicPr>
        <p:blipFill>
          <a:blip r:embed="rId4"/>
          <a:stretch/>
        </p:blipFill>
        <p:spPr>
          <a:xfrm>
            <a:off x="5956200" y="3610080"/>
            <a:ext cx="470160" cy="47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86" descr="MCj04039650000[1]"/>
          <p:cNvPicPr/>
          <p:nvPr/>
        </p:nvPicPr>
        <p:blipFill>
          <a:blip r:embed="rId5"/>
          <a:stretch/>
        </p:blipFill>
        <p:spPr>
          <a:xfrm>
            <a:off x="5013360" y="4981680"/>
            <a:ext cx="469800" cy="47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86" descr="MCj04039650000[1]"/>
          <p:cNvPicPr/>
          <p:nvPr/>
        </p:nvPicPr>
        <p:blipFill>
          <a:blip r:embed="rId6"/>
          <a:stretch/>
        </p:blipFill>
        <p:spPr>
          <a:xfrm>
            <a:off x="5985000" y="4962600"/>
            <a:ext cx="469800" cy="47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86" descr="MCj04039650000[1]"/>
          <p:cNvPicPr/>
          <p:nvPr/>
        </p:nvPicPr>
        <p:blipFill>
          <a:blip r:embed="rId7"/>
          <a:stretch/>
        </p:blipFill>
        <p:spPr>
          <a:xfrm>
            <a:off x="7832880" y="5010120"/>
            <a:ext cx="469800" cy="471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86" descr="MCj04039650000[1]"/>
          <p:cNvPicPr/>
          <p:nvPr/>
        </p:nvPicPr>
        <p:blipFill>
          <a:blip r:embed="rId8"/>
          <a:stretch/>
        </p:blipFill>
        <p:spPr>
          <a:xfrm>
            <a:off x="6861240" y="3666960"/>
            <a:ext cx="46980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sic Training Program delivery O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6760" y="1276200"/>
            <a:ext cx="85932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of course once a month beginning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s – Austin, Houston, Dallas, Nor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delivery with annual seminar in spring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addressed at TPTF Training Sub-group meeting (7/26/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 Seminar Working group members will att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EDS-3 related concepts training needed this fa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time operations, SCED, LFC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342720">
              <a:spcBef>
                <a:spcPts val="4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es, how should this training be delive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Based Training with Q&amp;A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or L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Based Training with Q&amp;A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65240" y="2828880"/>
            <a:ext cx="42483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916360" y="250344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4111560" y="2279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854800" y="1935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2"/>
          <p:cNvGrpSpPr/>
          <p:nvPr/>
        </p:nvGrpSpPr>
        <p:grpSpPr>
          <a:xfrm>
            <a:off x="2311560" y="4684680"/>
            <a:ext cx="4500360" cy="1176120"/>
            <a:chOff x="2311560" y="4684680"/>
            <a:chExt cx="4500360" cy="1176120"/>
          </a:xfrm>
        </p:grpSpPr>
        <p:grpSp>
          <p:nvGrpSpPr>
            <p:cNvPr id="230" name="Group 21"/>
            <p:cNvGrpSpPr/>
            <p:nvPr/>
          </p:nvGrpSpPr>
          <p:grpSpPr>
            <a:xfrm>
              <a:off x="2311560" y="4684680"/>
              <a:ext cx="4500360" cy="1176120"/>
              <a:chOff x="2311560" y="4684680"/>
              <a:chExt cx="4500360" cy="1176120"/>
            </a:xfrm>
          </p:grpSpPr>
          <p:pic>
            <p:nvPicPr>
              <p:cNvPr id="231" name="Picture 9" descr="Number-48-Texas-Map-Nodes"/>
              <p:cNvPicPr/>
              <p:nvPr/>
            </p:nvPicPr>
            <p:blipFill>
              <a:blip r:embed="rId2"/>
              <a:stretch/>
            </p:blipFill>
            <p:spPr>
              <a:xfrm>
                <a:off x="5738760" y="471960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0" descr="Number-34c-ERCOT-Congestion"/>
              <p:cNvPicPr/>
              <p:nvPr/>
            </p:nvPicPr>
            <p:blipFill>
              <a:blip r:embed="rId3"/>
              <a:stretch/>
            </p:blipFill>
            <p:spPr>
              <a:xfrm>
                <a:off x="2311560" y="471168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1" descr="MCj04131380000[1]"/>
              <p:cNvPicPr/>
              <p:nvPr/>
            </p:nvPicPr>
            <p:blipFill>
              <a:blip r:embed="rId4"/>
              <a:stretch/>
            </p:blipFill>
            <p:spPr>
              <a:xfrm>
                <a:off x="3805200" y="468468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7"/>
              <p:cNvSpPr/>
              <p:nvPr/>
            </p:nvSpPr>
            <p:spPr>
              <a:xfrm>
                <a:off x="3573360" y="545616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 Box 12"/>
            <p:cNvSpPr/>
            <p:nvPr/>
          </p:nvSpPr>
          <p:spPr>
            <a:xfrm>
              <a:off x="3019320" y="472428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Training Group</dc:creator>
  <dc:description/>
  <dc:language>en-US</dc:language>
  <cp:lastModifiedBy>thailu</cp:lastModifiedBy>
  <dcterms:modified xsi:type="dcterms:W3CDTF">2007-07-20T18:46:04Z</dcterms:modified>
  <cp:revision>840</cp:revision>
  <dc:subject/>
  <dc:title>Nodal Training Template</dc:title>
</cp:coreProperties>
</file>