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5D1-2D70-42C5-8902-1DEAAAD9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D74-730B-4650-9011-78B034AB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F34-B89D-4E20-B3F3-3DD1EF11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D58-9B4F-4EE9-9F53-1CFA4FBC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718C-029E-478F-A5EB-9C4E96D6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FEDC-2B48-4AA2-A331-674F2E65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E295-83D1-4FC6-86A6-68818E0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12C-2BB3-44AB-B835-5E78851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E11E-8666-4176-B6CB-F64F8F11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9268-7D6C-4E33-BBCA-D3D334D4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B450-A773-4FB5-83EC-F03D2CD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3EB-CB4D-43A6-ADD1-2E27E220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7D5-A468-43DA-ABAA-C516B4B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B21F-1AB7-442A-80DA-883D471B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2E9A-B014-487A-AACC-E2072AD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A10C-58FF-4D85-8E16-1DC939CE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1C95-E840-4B33-9747-022CA14A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535-190D-46F9-90A1-DC96704F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175-4593-440B-8C14-B173D39E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23C-51EF-4D86-B0C3-8D8659DD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A89-9C39-4B98-ACB1-5D73F8B9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694-9F10-4CBD-9469-2C268AC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711-FCBD-40A8-BE94-1AB3D45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675-0291-4D54-8411-668CBD4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DAE-DA45-436B-AD74-4BF2F0C9C2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604F-205C-464B-84DC-EA0A699F62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TSTF Report to W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t meeting 7/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SWG – Proposal (work in progres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s Paid on annual basis (Capacity Payment) to interrupt in either DAM or Real-Time Marke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itial suggested price levels of interruption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 750 /MWH; $1000/ MWH; &amp; $1500/MW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ssues with ability to predict Load Zone settlement prices before hand in Real-Time mk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ssues with likelihood of reaching the price cap in D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TSTF Report to W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inue to analyze prices during EECP Alerts/Ev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RCOT has gone to OOMing Units and that seems to have resulted in better correlation between EECP events and pricing, but pricing still not well understoo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TSTF Report to W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xt Meeting 7/3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inue to review EECP Pricing – for select days by interv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viewing a proposal for administratively setting prices during EECP 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gin developing matrix of options for EILS replac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2:32:31Z</dcterms:created>
  <dc:creator>Kim Wittmeyer</dc:creator>
  <dc:description/>
  <dc:language>en-US</dc:language>
  <cp:lastModifiedBy>Bob Wittmeyer</cp:lastModifiedBy>
  <dcterms:modified xsi:type="dcterms:W3CDTF">2007-07-18T15:04:26Z</dcterms:modified>
  <cp:revision>2</cp:revision>
  <dc:subject/>
  <dc:title>LTSTF Report to WMS</dc:title>
</cp:coreProperties>
</file>