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79777-D6A4-4D82-A2CA-0629B69BA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A3296-1565-43FE-8468-265B123A7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91BD1-4805-41E2-9C21-BD6A76ACE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47703-274F-45DE-93DF-5094C89A2C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EBC62-E795-4350-A31D-EAAE8EBFA3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9B107-400F-4CA7-AFCC-73D1E1547C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34834-95B4-4FB6-8970-D802760892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FA222-7646-4141-853A-47913852F6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8CBDA-EF59-4CCB-B4F7-13C7F2636B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1E114-CEC4-4832-A145-74A820FF8E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3ADA9-53F1-4B1A-ADF9-F6AE8D26DF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DB7B0-B0C7-48EF-9FC4-A8D543451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BCE54-D87D-442D-9AED-DFB20617A9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D73D8-FF15-4B36-861D-2C70BDBE39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874F4-144E-40C0-A7CD-A986B9D36B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486D6-532C-44DA-911C-197D36E3E2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EE77C-4317-47BC-823E-C5DABD7A94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BCE0D-4EF9-4A3F-8DE3-2524005C2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8736D-A246-4806-8E2A-E7F763564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66F9D-0065-4368-85C2-82F63E7B6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E5C72-6BA6-4AB1-A66A-0DD308CB0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61463-0F9B-4DC0-BB1C-52BD6B82D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73F47-063E-45C1-A4EB-B2A541C49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169E-8D2A-4978-8701-C5D1F2818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6760"/>
            <a:ext cx="213372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16C7-CA3B-4DDB-9655-1D58E3C87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22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990360" cy="42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533160" y="61722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009920" y="6243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4B97-69BB-4958-98FC-31175490AF8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oldercot.ercot.com/tmaps/" TargetMode="External"/><Relationship Id="rId2" Type="http://schemas.openxmlformats.org/officeDocument/2006/relationships/hyperlink" Target="http://oldercot.ercot.com/tmaps/" TargetMode="External"/><Relationship Id="rId3" Type="http://schemas.openxmlformats.org/officeDocument/2006/relationships/hyperlink" Target="http://oldercot.ercot.com/tmaps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SC Utilization Report</a:t>
            </a:r>
            <a:br>
              <a:rPr sz="5000"/>
            </a:b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2007 Q1-2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y 18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N_W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Jun 2007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ul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4D218-212C-4E9A-897D-562DF848CA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Available CSC capacity for every interval: N_H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54864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rted from least unused capacity to m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57150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vals marked with </a:t>
            </a:r>
            <a:r>
              <a:rPr b="1" lang="en-US" sz="1600" spc="-1" strike="noStrike">
                <a:solidFill>
                  <a:srgbClr val="00ffff"/>
                </a:solidFill>
                <a:latin typeface="Arial Narrow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were bin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4648320" cy="2666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4024440" cy="2514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4495680" cy="25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ul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7C36B-EDF7-40EE-B549-52B7DBDE09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Available CSC capacity for every interval: S_N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5486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rted from least unused capacity to m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5715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vals marked with </a:t>
            </a:r>
            <a:r>
              <a:rPr b="1" lang="en-US" sz="1600" spc="-1" strike="noStrike">
                <a:solidFill>
                  <a:srgbClr val="00ffff"/>
                </a:solidFill>
                <a:latin typeface="Arial Narrow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were bin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743200" y="3657600"/>
            <a:ext cx="4038480" cy="2595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4419720" cy="2438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724280" y="1066680"/>
            <a:ext cx="4191120" cy="243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ul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4BFC5-13B1-46AE-B761-23EFBBA4EE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Available CSC capacity for every interval: S_H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486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rted from least unused capacity to m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5715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vals marked with </a:t>
            </a:r>
            <a:r>
              <a:rPr b="1" lang="en-US" sz="1600" spc="-1" strike="noStrike">
                <a:solidFill>
                  <a:srgbClr val="00ffff"/>
                </a:solidFill>
                <a:latin typeface="Arial Narrow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were bin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666880" y="3886200"/>
            <a:ext cx="3810240" cy="241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4267440" cy="2820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72000" y="914400"/>
            <a:ext cx="4343400" cy="287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ul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17266-EAE9-4288-9D73-F064A826CB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Available CSC capacity for every interval: N_W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5486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rted from least unused capacity to m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5715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tervals marked with </a:t>
            </a:r>
            <a:r>
              <a:rPr b="1" lang="en-US" sz="1600" spc="-1" strike="noStrike">
                <a:solidFill>
                  <a:srgbClr val="00ffff"/>
                </a:solidFill>
                <a:latin typeface="Arial Narrow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were bin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411480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343400" y="838080"/>
            <a:ext cx="404964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514600" y="3809880"/>
            <a:ext cx="4191120" cy="25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ul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889F6-C74B-47CB-ABA3-7C28E07650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Shadow Prices for Unused CSC capacity:</a:t>
            </a: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 </a:t>
            </a:r>
            <a:br>
              <a:rPr sz="3200"/>
            </a:br>
            <a:r>
              <a:rPr b="1" lang="en-US" sz="1800" spc="-1" strike="noStrike">
                <a:solidFill>
                  <a:srgbClr val="000066"/>
                </a:solidFill>
                <a:latin typeface="Arial Narrow"/>
              </a:rPr>
              <a:t>Jan – Jun 2007</a:t>
            </a:r>
            <a:endParaRPr b="1" lang="en-US" sz="1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555480" y="90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342900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 Narrow"/>
              </a:rPr>
              <a:t>Max SP = $266.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34290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 Narrow"/>
              </a:rPr>
              <a:t>Max SP = $502.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61722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 Narrow"/>
              </a:rPr>
              <a:t>Max SP =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0" y="3657600"/>
            <a:ext cx="4419720" cy="2590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419720" cy="2590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52280" y="914400"/>
            <a:ext cx="4267440" cy="2590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04920" y="61722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 Narrow"/>
              </a:rPr>
              <a:t>Max SP =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52280" y="3657600"/>
            <a:ext cx="4267440" cy="258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ul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DDFC8-AFC4-48C1-91E0-615F77A448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Hillje Update</a:t>
            </a:r>
            <a:endParaRPr b="1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lje – Hollma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ergized ~5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P – Hillj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ergized ~4/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lje – W.A. Parish,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nal leg of project target completion 7/3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s posted a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oldercot.ercot.com/tmaps</a:t>
            </a: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/</a:t>
            </a:r>
            <a:br>
              <a:rPr sz="2200"/>
            </a:b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folder name: Transmission Project &amp; Information Tracking (TPI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uly,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5A048-19C4-4C70-901C-52BE15AC6C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Outline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nal congestion – costs and qua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e and binding interv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ual CSC flows vs lim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llje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uly,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B4FA0-4CE2-4228-B79A-3DE0F85F2E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 Narrow"/>
              </a:rPr>
              <a:t>CSC Congestion Charges collected from QSEs</a:t>
            </a:r>
            <a:endParaRPr b="1" lang="en-US" sz="2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480" y="5105520"/>
          <a:ext cx="7728120" cy="1218960"/>
        </p:xfrm>
        <a:graphic>
          <a:graphicData uri="http://schemas.openxmlformats.org/drawingml/2006/table">
            <a:tbl>
              <a:tblPr/>
              <a:tblGrid>
                <a:gridCol w="1035000"/>
                <a:gridCol w="870120"/>
                <a:gridCol w="870120"/>
                <a:gridCol w="761760"/>
                <a:gridCol w="838440"/>
                <a:gridCol w="914400"/>
                <a:gridCol w="1143000"/>
                <a:gridCol w="1295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ill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6:  Q1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304920" y="4876920"/>
            <a:ext cx="3504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 quality data available through Ju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8394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ul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A4F4D-71EA-4139-B584-80A2BF5ABE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 Narrow"/>
              </a:rPr>
              <a:t>Number of Intervals Constraints were Binding</a:t>
            </a:r>
            <a:endParaRPr b="1" lang="en-US" sz="2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76520" y="5105520"/>
          <a:ext cx="5823000" cy="1212840"/>
        </p:xfrm>
        <a:graphic>
          <a:graphicData uri="http://schemas.openxmlformats.org/drawingml/2006/table">
            <a:tbl>
              <a:tblPr/>
              <a:tblGrid>
                <a:gridCol w="1044360"/>
                <a:gridCol w="781200"/>
                <a:gridCol w="780840"/>
                <a:gridCol w="825480"/>
                <a:gridCol w="989280"/>
                <a:gridCol w="742680"/>
                <a:gridCol w="659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: Q1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ul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E0504-10DD-43A9-844C-8AA02C9E38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Summary of Zonal Congestion Occurrences - Intervals</a:t>
            </a:r>
            <a:endParaRPr b="1" lang="en-US" sz="25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143000"/>
          <a:ext cx="7543800" cy="5076720"/>
        </p:xfrm>
        <a:graphic>
          <a:graphicData uri="http://schemas.openxmlformats.org/drawingml/2006/table">
            <a:tbl>
              <a:tblPr/>
              <a:tblGrid>
                <a:gridCol w="1066680"/>
                <a:gridCol w="609840"/>
                <a:gridCol w="685800"/>
                <a:gridCol w="609480"/>
                <a:gridCol w="685800"/>
                <a:gridCol w="581040"/>
                <a:gridCol w="714240"/>
                <a:gridCol w="581040"/>
                <a:gridCol w="714600"/>
                <a:gridCol w="609480"/>
                <a:gridCol w="685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6: Q1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1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ul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10B00-EBC9-449E-A1E5-A93F477F67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Summary of Zonal Congestion Occurrences - Days</a:t>
            </a:r>
            <a:endParaRPr b="1" lang="en-US" sz="25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990720"/>
          <a:ext cx="7543800" cy="4952880"/>
        </p:xfrm>
        <a:graphic>
          <a:graphicData uri="http://schemas.openxmlformats.org/drawingml/2006/table">
            <a:tbl>
              <a:tblPr/>
              <a:tblGrid>
                <a:gridCol w="1066680"/>
                <a:gridCol w="609840"/>
                <a:gridCol w="685800"/>
                <a:gridCol w="609480"/>
                <a:gridCol w="685800"/>
                <a:gridCol w="609480"/>
                <a:gridCol w="685800"/>
                <a:gridCol w="609840"/>
                <a:gridCol w="685800"/>
                <a:gridCol w="609480"/>
                <a:gridCol w="685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6: Q1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ul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6B097-52E0-4A64-A119-5EFB97AEDD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N_H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Jun 2007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68680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ul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8B0B9-EBC5-4C17-BDB1-2EE59D2081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S_H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Jun 2007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839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ul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AD702-8527-4E2F-BC29-724251D02A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S_N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Jun 2007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99172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uly,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B2479-708B-426B-9686-EEA47369CF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9:22:49Z</dcterms:created>
  <dc:creator>Beth Garza</dc:creator>
  <dc:description/>
  <dc:language>en-US</dc:language>
  <cp:lastModifiedBy>ercot/if</cp:lastModifiedBy>
  <dcterms:modified xsi:type="dcterms:W3CDTF">2007-07-17T16:13:34Z</dcterms:modified>
  <cp:revision>1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