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9E18-1005-47DE-A9DB-4C364CF5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02EA-E531-4C44-B895-0FAC63A9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7347-A7BF-4A5E-BFED-CA9AFEF2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1FDC-3A5E-4AF0-8AF6-982E344D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E219-5017-4E82-A7EA-BEA99AE4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AA5F-6228-413D-B113-A8266FC9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16C7-C89A-45C2-A999-3A997506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E728-8603-4EA3-A867-0414F886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5C25-D6BD-426B-810C-BE9A7FD0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6422-7AC8-4ABD-80E1-1BB33DB2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C2B0-F87F-47F7-8714-0C0CDE1B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A9EF-36C9-4285-857D-348D507B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A5D4-6E54-4AE5-95A3-36D7AEDD9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C for Uncontrollable Resourc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R 4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5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5880" y="5867280"/>
            <a:ext cx="2590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o Gonzale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ad, Settlements and Bi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BL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0472-5E7F-49DF-8850-6DA466F26C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jective of PRR 4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an Uncontrollable Renewable Resource (URR) to elect to use its Renewable Production Potential (RPP) in lieu of its Resource Plan as the basis for URC and OOME down payments -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rt 1 (man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cost of regulation based on Energy Ratio Share –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rt 2 (system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uncontrollable renewable gen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istory of PRR 4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on 02/17/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on March 1, 2004 –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did not implement -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riority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 Cart cancelled the project -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informed PRS and COPS about the cance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RC for Wind-Only QSEs that DID NOT submit RPP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4800" y="1219320"/>
            <a:ext cx="8107560" cy="5381640"/>
            <a:chOff x="604800" y="1219320"/>
            <a:chExt cx="8107560" cy="5381640"/>
          </a:xfrm>
        </p:grpSpPr>
        <p:graphicFrame>
          <p:nvGraphicFramePr>
            <p:cNvPr id="50" name=""/>
            <p:cNvGraphicFramePr/>
            <p:nvPr/>
          </p:nvGraphicFramePr>
          <p:xfrm>
            <a:off x="604800" y="1219320"/>
            <a:ext cx="8107560" cy="5381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4800" y="1219320"/>
                      <a:ext cx="8107560" cy="538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2057400" y="2895480"/>
              <a:ext cx="1905120" cy="27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dian=$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209680" y="3124080"/>
            <a:ext cx="4343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RC for Wind-Only QSEs that submitted RPP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04800" y="1219320"/>
            <a:ext cx="8107560" cy="5381640"/>
            <a:chOff x="604800" y="1219320"/>
            <a:chExt cx="8107560" cy="5381640"/>
          </a:xfrm>
        </p:grpSpPr>
        <p:graphicFrame>
          <p:nvGraphicFramePr>
            <p:cNvPr id="56" name=""/>
            <p:cNvGraphicFramePr/>
            <p:nvPr/>
          </p:nvGraphicFramePr>
          <p:xfrm>
            <a:off x="604800" y="1219320"/>
            <a:ext cx="8107560" cy="5381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4800" y="1219320"/>
                      <a:ext cx="8107560" cy="538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1981080" y="4648320"/>
              <a:ext cx="457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57400" y="4419720"/>
              <a:ext cx="190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dian=$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st to Process RP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to process RPP data=$4000/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include opportunity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RCOT’s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ERCOT the option to not process RP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ERCOT does not process RPPs, then no URC will be levied on the Q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ewable-Only QSEs need to submit RPPs to qualify under this propos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s are required to submit accurate RPP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may at anytime audit the QSE rec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20:39:20Z</dcterms:created>
  <dc:creator>ERCOT Employee</dc:creator>
  <dc:description/>
  <dc:language>en-US</dc:language>
  <cp:lastModifiedBy>Nieves</cp:lastModifiedBy>
  <dcterms:modified xsi:type="dcterms:W3CDTF">2007-05-25T20:54:47Z</dcterms:modified>
  <cp:revision>11</cp:revision>
  <dc:subject/>
  <dc:title>Slide 1</dc:title>
</cp:coreProperties>
</file>