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00E-D824-4F5D-97DC-27CFDA5A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E35-EF3C-4CA0-BA3B-D3351ED8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3C5-38A1-4861-8894-E8FD6FD9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E02-AAC8-412B-A476-7FED9406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1DB-EF3F-4029-A3F9-69C9B01B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619-67D2-474D-95E3-A48577C6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C4C-B109-4F95-B440-648E0698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F6D-FC3B-4940-8383-13B9F2DE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48F-BFFA-4EA9-9D5A-74EF9596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A4E-C011-4B69-A83D-FC1EADBC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E7C-38F8-4C5D-83C8-9A827F93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A26-1C45-4B43-AFFF-AE59B92D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990D-5EE3-4A93-AB51-F377C1A87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RMS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July 11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CA2-0493-4023-9EDC-A8D006766D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S June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ort to TAC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Two Items for TAC Consideration To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PMGRR 00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Section 4, Market Notice Communication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mall Resett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esolution for consideration and forwarding to the PUCT Staff when ordering restitution to the market when the amount is $50,000 or l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C940-6F64-45E4-B21F-974CF8A338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MGRR 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o update Section 4, Market Notice Communication Process in the Commercial Operations Market Guide (COPMG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ction 4 documents the means by which ERCOT communicates information to the Market via email notifications for scheduled releases, planned and unplanned service outages, business process failures and other general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Impact Analysis completed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– No impact upon budget; ERCOT staffing; computer systems; or grid operations.  Current business processes will be modified to accommodate this COPMGR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2FB-33BB-4E50-BFBE-ED75359207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PS Recommended to TAC Approv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f COPMGRR 003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ction 4, Unplanned Outage Communication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ppendix A, Unplanned Outage Communic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RO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CC7-E466-4D73-83ED-3E56BA19D9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2F2-0FD3-4B9A-A7A7-0FA46E879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Michelle Trenary</cp:lastModifiedBy>
  <dcterms:modified xsi:type="dcterms:W3CDTF">2007-07-03T20:47:20Z</dcterms:modified>
  <cp:revision>215</cp:revision>
  <dc:subject/>
  <dc:title>Point-to-Point</dc:title>
</cp:coreProperties>
</file>