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F946-0818-4024-B3C3-99628989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20B9-0DDD-4502-8FAC-0704A226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B669-3BFB-49AF-AB2C-008EC35C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DD96-8156-4F11-9DB9-778F2FCA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70F0-1027-4A74-A322-9C32B618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2CAF-695B-4C3C-87F0-2E0811F3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4759-C7B4-4674-A4BC-54B80FEC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83CD-161A-4B88-8855-C720176D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E7D3-2D0B-43E4-9479-8499F2ED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AFF3-D88F-4F64-83A2-1B265A13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D5F2-CF19-48A4-900C-B56D6AC3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FA5F-3948-4FA3-B330-17A295EE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A351-0765-4922-AA09-AC2A7F7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5AF7-02C0-4681-A614-C558AF0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9AB8-7144-4975-B73C-68402570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DEB2-CAFD-417B-80A9-D6E4497A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5811-FD7B-4854-BEE1-FAE46371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F4FE-A68B-432B-9767-C2B3068D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6757-7A5E-4D85-86A6-6A4EEE9A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A521-3070-42A9-A2F4-AB0BD7AD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C132-DC37-48AB-8879-7E895C71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C524-1162-4E51-84E9-E4106432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2D3F-403D-45D9-9AA1-44047054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A60C-8724-4271-950F-9FA22748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B0CF-3BB1-4519-ADF4-070CCE1F8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3EBD-86ED-410D-9029-ED228DAFC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 lvl="3" marL="1371600" algn="ctr">
              <a:spcBef>
                <a:spcPts val="4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 rot="512400">
            <a:off x="1142640" y="5105160"/>
            <a:ext cx="5029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3e"/>
                </a:solidFill>
                <a:latin typeface="Agency FB"/>
              </a:rPr>
              <a:t>July 11, 200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3e"/>
              </a:solidFill>
              <a:latin typeface="Agency FB"/>
              <a:ea typeface="Agency FB"/>
            </a:endParaRPr>
          </a:p>
        </p:txBody>
      </p:sp>
      <p:sp>
        <p:nvSpPr>
          <p:cNvPr id="515" name=""/>
          <p:cNvSpPr txBox="1"/>
          <p:nvPr/>
        </p:nvSpPr>
        <p:spPr>
          <a:xfrm rot="499200">
            <a:off x="1143000" y="3889440"/>
            <a:ext cx="571500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3e"/>
                </a:solidFill>
                <a:latin typeface="Agency FB"/>
              </a:rPr>
              <a:t>RMS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3e"/>
              </a:solidFill>
              <a:latin typeface="Agency FB"/>
              <a:ea typeface="Agency FB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895120" y="304920"/>
            <a:ext cx="3276720" cy="3275640"/>
            <a:chOff x="2895120" y="304920"/>
            <a:chExt cx="3276720" cy="3275640"/>
          </a:xfrm>
        </p:grpSpPr>
        <p:sp>
          <p:nvSpPr>
            <p:cNvPr id="517" name=""/>
            <p:cNvSpPr/>
            <p:nvPr/>
          </p:nvSpPr>
          <p:spPr>
            <a:xfrm flipV="1">
              <a:off x="3116880" y="1001880"/>
              <a:ext cx="2887200" cy="2577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50680" y="304920"/>
              <a:ext cx="171360" cy="1756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61480" y="592920"/>
              <a:ext cx="173520" cy="17604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87760" y="592920"/>
              <a:ext cx="173880" cy="17604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5400000">
              <a:off x="3831120" y="3169080"/>
              <a:ext cx="180720" cy="1674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5400000">
              <a:off x="3107520" y="2415600"/>
              <a:ext cx="184680" cy="1674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5400000">
              <a:off x="2886120" y="1479960"/>
              <a:ext cx="184680" cy="1674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5400000">
              <a:off x="5163480" y="3118320"/>
              <a:ext cx="182520" cy="16524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3561480" y="1237680"/>
              <a:ext cx="2000160" cy="18720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rot="5400000">
              <a:off x="5828760" y="2416680"/>
              <a:ext cx="184680" cy="1648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rot="5400000">
              <a:off x="5995440" y="1479600"/>
              <a:ext cx="184680" cy="16776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3116880" y="1473840"/>
              <a:ext cx="2887200" cy="11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50760" dir="5400000" blurRad="0" rotWithShape="0">
                      <a:srgbClr val="e6f8f4"/>
                    </a:outerShdw>
                  </a:effectLst>
                  <a:latin typeface="Agency FB"/>
                </a:rPr>
                <a:t>TTPT</a:t>
              </a:r>
              <a:endPara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50760" dir="5400000" blurRad="0" rotWithShape="0">
                    <a:srgbClr val="e6f8f4"/>
                  </a:outerShdw>
                </a:effectLst>
                <a:latin typeface="Agency FB"/>
                <a:ea typeface="Agency FB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3e"/>
                </a:solidFill>
                <a:latin typeface="Agency FB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11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3e"/>
                </a:solidFill>
                <a:latin typeface="Agency FB"/>
              </a:rPr>
              <a:t>2008 Flight Schedule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3e"/>
                </a:solidFill>
                <a:latin typeface="Agency FB"/>
              </a:rPr>
              <a:t>TTPT Update</a:t>
            </a:r>
            <a:endParaRPr b="0" lang="en-US" sz="48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11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3e"/>
                </a:solidFill>
                <a:latin typeface="Agency FB"/>
              </a:rPr>
              <a:t>What’s TTPT been up to?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11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3e"/>
                </a:solidFill>
                <a:latin typeface="Agency FB"/>
              </a:rPr>
              <a:t>Flight Orientation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28600" y="228600"/>
            <a:ext cx="1294920" cy="1143000"/>
            <a:chOff x="228600" y="228600"/>
            <a:chExt cx="1294920" cy="1143000"/>
          </a:xfrm>
        </p:grpSpPr>
        <p:sp>
          <p:nvSpPr>
            <p:cNvPr id="531" name=""/>
            <p:cNvSpPr/>
            <p:nvPr/>
          </p:nvSpPr>
          <p:spPr>
            <a:xfrm flipV="1">
              <a:off x="316080" y="471960"/>
              <a:ext cx="1141560" cy="899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3120" y="2286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176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392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rot="5400000">
              <a:off x="602640" y="1224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rot="5400000">
              <a:off x="316440" y="96120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rot="5400000">
              <a:off x="2289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5400000">
              <a:off x="1129680" y="1206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91760" y="553320"/>
              <a:ext cx="790200" cy="6530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5400000">
              <a:off x="1391760" y="961200"/>
              <a:ext cx="64440" cy="658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rot="5400000">
              <a:off x="14583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2" name=""/>
            <p:cNvSpPr txBox="1"/>
            <p:nvPr/>
          </p:nvSpPr>
          <p:spPr>
            <a:xfrm>
              <a:off x="316080" y="636480"/>
              <a:ext cx="114156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56832" dir="7003641" blurRad="0" rotWithShape="0">
                      <a:srgbClr val="e6f8f4"/>
                    </a:outerShdw>
                  </a:effectLst>
                  <a:latin typeface="Agency FB"/>
                </a:rPr>
                <a:t>TTPT</a:t>
              </a:r>
              <a:endPara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56832" dir="7003641" blurRad="0" rotWithShape="0">
                    <a:srgbClr val="e6f8f4"/>
                  </a:outerShdw>
                </a:effectLst>
                <a:latin typeface="Agency FB"/>
                <a:ea typeface="Agency FB"/>
              </a:endParaRPr>
            </a:p>
          </p:txBody>
        </p:sp>
      </p:grpSp>
      <p:sp>
        <p:nvSpPr>
          <p:cNvPr id="543" name=""/>
          <p:cNvSpPr txBox="1"/>
          <p:nvPr/>
        </p:nvSpPr>
        <p:spPr>
          <a:xfrm>
            <a:off x="1523880" y="457200"/>
            <a:ext cx="723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3e"/>
                </a:solidFill>
                <a:latin typeface="Agency FB"/>
              </a:rPr>
              <a:t>Discussion Topic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3e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3e"/>
                </a:solidFill>
                <a:latin typeface="Agency FB"/>
              </a:rPr>
              <a:t>2008 Flight Schedule</a:t>
            </a:r>
            <a:endParaRPr b="0" lang="en-US" sz="48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Flight 0108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Flight 0408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Flight 0708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Flight 1008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28600" y="228600"/>
            <a:ext cx="1294920" cy="1143000"/>
            <a:chOff x="228600" y="228600"/>
            <a:chExt cx="1294920" cy="1143000"/>
          </a:xfrm>
        </p:grpSpPr>
        <p:sp>
          <p:nvSpPr>
            <p:cNvPr id="546" name=""/>
            <p:cNvSpPr/>
            <p:nvPr/>
          </p:nvSpPr>
          <p:spPr>
            <a:xfrm flipV="1">
              <a:off x="316080" y="471960"/>
              <a:ext cx="1141560" cy="899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3120" y="2286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176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1392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5400000">
              <a:off x="602640" y="1224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5400000">
              <a:off x="316440" y="96120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5400000">
              <a:off x="2289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5400000">
              <a:off x="1129680" y="1206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91760" y="553320"/>
              <a:ext cx="790200" cy="6530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rot="5400000">
              <a:off x="1391760" y="961200"/>
              <a:ext cx="64440" cy="658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5400000">
              <a:off x="14583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316080" y="636480"/>
              <a:ext cx="114156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56832" dir="7003641" blurRad="0" rotWithShape="0">
                      <a:srgbClr val="e6f8f4"/>
                    </a:outerShdw>
                  </a:effectLst>
                  <a:latin typeface="Agency FB"/>
                </a:rPr>
                <a:t>TTPT</a:t>
              </a:r>
              <a:endPara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56832" dir="7003641" blurRad="0" rotWithShape="0">
                    <a:srgbClr val="e6f8f4"/>
                  </a:outerShdw>
                </a:effectLst>
                <a:latin typeface="Agency FB"/>
                <a:ea typeface="Agency FB"/>
              </a:endParaRPr>
            </a:p>
          </p:txBody>
        </p:sp>
      </p:grpSp>
      <p:sp>
        <p:nvSpPr>
          <p:cNvPr id="558" name=""/>
          <p:cNvSpPr txBox="1"/>
          <p:nvPr/>
        </p:nvSpPr>
        <p:spPr>
          <a:xfrm>
            <a:off x="1523880" y="457200"/>
            <a:ext cx="723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3e"/>
                </a:solidFill>
                <a:latin typeface="Agency FB"/>
              </a:rPr>
              <a:t>Voting Ite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3e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gency FB"/>
              </a:rPr>
              <a:t>Completed scripts for Flight 0407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639000" indent="-24552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Adjusted scripts and finalized test tracks for Flight 0707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gency FB"/>
              </a:rPr>
              <a:t>Flight 0407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639000" indent="-24552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Recognize efforts for ERCOT and MPs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gency FB"/>
              </a:rPr>
              <a:t>Revising the Texas Market Test Plan Document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639000" indent="-24552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Round Robin Testing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639000" indent="-24552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Established vs Non-Established Service Provider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639000" indent="-24552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IOU Certified vs MOU/EC Certified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28600" y="228600"/>
            <a:ext cx="1294920" cy="1143000"/>
            <a:chOff x="228600" y="228600"/>
            <a:chExt cx="1294920" cy="1143000"/>
          </a:xfrm>
        </p:grpSpPr>
        <p:sp>
          <p:nvSpPr>
            <p:cNvPr id="561" name=""/>
            <p:cNvSpPr/>
            <p:nvPr/>
          </p:nvSpPr>
          <p:spPr>
            <a:xfrm flipV="1">
              <a:off x="316080" y="471960"/>
              <a:ext cx="1141560" cy="899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43120" y="2286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176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1392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rot="5400000">
              <a:off x="602640" y="1224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rot="5400000">
              <a:off x="316440" y="96120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rot="5400000">
              <a:off x="2289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5400000">
              <a:off x="1129680" y="1206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491760" y="553320"/>
              <a:ext cx="790200" cy="6530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rot="5400000">
              <a:off x="1391760" y="961200"/>
              <a:ext cx="64440" cy="658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5400000">
              <a:off x="14583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316080" y="636480"/>
              <a:ext cx="114156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56832" dir="7003641" blurRad="0" rotWithShape="0">
                      <a:srgbClr val="e6f8f4"/>
                    </a:outerShdw>
                  </a:effectLst>
                  <a:latin typeface="Agency FB"/>
                </a:rPr>
                <a:t>TTPT</a:t>
              </a:r>
              <a:endPara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56832" dir="7003641" blurRad="0" rotWithShape="0">
                    <a:srgbClr val="e6f8f4"/>
                  </a:outerShdw>
                </a:effectLst>
                <a:latin typeface="Agency FB"/>
                <a:ea typeface="Agency FB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1523880" y="457200"/>
            <a:ext cx="723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3e"/>
                </a:solidFill>
                <a:latin typeface="Agency FB"/>
              </a:rPr>
              <a:t>What's TTPT Been Up To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3e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e"/>
                </a:solidFill>
                <a:latin typeface="Agency FB"/>
              </a:rPr>
              <a:t>TTPT conducted a pilot for Flight 0107 and 0407 (TX SET upgrade) to not have the market orientation since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e"/>
                </a:solidFill>
                <a:latin typeface="Agency FB"/>
              </a:rPr>
              <a:t>Why?   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1062720" indent="-212400">
              <a:lnSpc>
                <a:spcPct val="90000"/>
              </a:lnSpc>
              <a:buClr>
                <a:srgbClr val="00003e"/>
              </a:buClr>
              <a:buFont typeface="Agency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e"/>
                </a:solidFill>
                <a:latin typeface="Agency FB"/>
              </a:rPr>
              <a:t>Those leading the orientation observed that the same people show every time 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 lvl="2" marL="1062720" indent="-212400">
              <a:lnSpc>
                <a:spcPct val="90000"/>
              </a:lnSpc>
              <a:buClr>
                <a:srgbClr val="00003e"/>
              </a:buClr>
              <a:buFont typeface="Agency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e"/>
                </a:solidFill>
                <a:latin typeface="Agency FB"/>
              </a:rPr>
              <a:t>In addition, ERCOT’s Retail Client Services changed up their process and are now assigning the market participant to an account manager right away.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 lvl="2" marL="1062720" indent="-212400">
              <a:lnSpc>
                <a:spcPct val="90000"/>
              </a:lnSpc>
              <a:buClr>
                <a:srgbClr val="00003e"/>
              </a:buClr>
              <a:buFont typeface="Agency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e"/>
                </a:solidFill>
                <a:latin typeface="Agency FB"/>
              </a:rPr>
              <a:t>Market Orientation is posted on ERCOT.com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e"/>
                </a:solidFill>
                <a:latin typeface="Agency FB"/>
              </a:rPr>
              <a:t>TTPT will revisit this before end of year to make a recommendation for 2008</a:t>
            </a: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28600" y="228600"/>
            <a:ext cx="1294920" cy="1143000"/>
            <a:chOff x="228600" y="228600"/>
            <a:chExt cx="1294920" cy="1143000"/>
          </a:xfrm>
        </p:grpSpPr>
        <p:sp>
          <p:nvSpPr>
            <p:cNvPr id="576" name=""/>
            <p:cNvSpPr/>
            <p:nvPr/>
          </p:nvSpPr>
          <p:spPr>
            <a:xfrm flipV="1">
              <a:off x="316080" y="471960"/>
              <a:ext cx="1141560" cy="899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3120" y="2286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176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3920" y="329400"/>
              <a:ext cx="68040" cy="612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rot="5400000">
              <a:off x="602640" y="1224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rot="5400000">
              <a:off x="316440" y="96120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rot="5400000">
              <a:off x="2289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rot="5400000">
              <a:off x="1129680" y="1206000"/>
              <a:ext cx="6336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91760" y="553320"/>
              <a:ext cx="790200" cy="6530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5400000">
              <a:off x="1391760" y="961200"/>
              <a:ext cx="64440" cy="658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5400000">
              <a:off x="1458360" y="634320"/>
              <a:ext cx="64440" cy="655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  <a:effectLst>
              <a:outerShdw dist="68321" dir="6718175" blurRad="0" rotWithShape="0">
                <a:srgbClr val="e6f8f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316080" y="636480"/>
              <a:ext cx="114156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56832" dir="7003641" blurRad="0" rotWithShape="0">
                      <a:srgbClr val="e6f8f4"/>
                    </a:outerShdw>
                  </a:effectLst>
                  <a:latin typeface="Agency FB"/>
                </a:rPr>
                <a:t>TTPT</a:t>
              </a:r>
              <a:endPara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56832" dir="7003641" blurRad="0" rotWithShape="0">
                    <a:srgbClr val="e6f8f4"/>
                  </a:outerShdw>
                </a:effectLst>
                <a:latin typeface="Agency FB"/>
                <a:ea typeface="Agency FB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1523880" y="457200"/>
            <a:ext cx="723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3e"/>
                </a:solidFill>
                <a:latin typeface="Agency FB"/>
              </a:rPr>
              <a:t>Flight Orienta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3e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7:04:51Z</dcterms:created>
  <dc:creator>Windows XP ver. 2.2</dc:creator>
  <dc:description/>
  <dc:language>en-US</dc:language>
  <cp:lastModifiedBy>Windows XP ver. 2.2</cp:lastModifiedBy>
  <dcterms:modified xsi:type="dcterms:W3CDTF">2007-06-27T21:25:56Z</dcterms:modified>
  <cp:revision>11</cp:revision>
  <dc:subject/>
  <dc:title>Update to RMS</dc:title>
</cp:coreProperties>
</file>