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C20-3344-4F53-B7F4-FC976A5B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A9B-1951-4339-B4A0-355CFE1F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EDDB-73F5-4D17-8258-3B80FC60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F46E-0B55-4442-B5F7-C89F5A09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FBE6-0AB5-4DC1-872D-A1B81C3A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EAB9-473D-4484-A24A-5B45B4C8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BD0C-2744-49F4-96A4-56788A0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FEB3-9FA5-4EB4-87AD-7F6519B9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C452-337C-4124-BCFE-9ED07655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5237-0816-4560-9041-594F4FE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9CA6-44A8-4858-B7EB-CDA696F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36C6-0981-4E0E-BB31-3F3CF81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E5D3-3F83-4992-BB7F-2FD88FD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286-2A7D-4664-85E6-DDF2491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8BE4-4C85-49F3-8789-609F7D19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11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1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7/06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an with Day 1 transactions flowing: 07/09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707 scheduled to conclude: 08/2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09/11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ew REPs – 24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xisting REPs testing in a new territory – 4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xisting REPs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13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07/10/07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: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.XX%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.XX% by end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895840" cy="268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809880" cy="2051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62520" y="304812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chamblee</cp:lastModifiedBy>
  <dcterms:modified xsi:type="dcterms:W3CDTF">2007-07-03T19:28:03Z</dcterms:modified>
  <cp:revision>81</cp:revision>
  <dc:subject/>
  <dc:title>Instructions</dc:title>
</cp:coreProperties>
</file>