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0F2-7C2B-4E3E-AF1A-906A607A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A34-5FD4-43DC-9D40-37995437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41EC-0F37-4F9B-BC04-AFAC86AD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A1CB-EF97-46F9-9A14-1B4C4D16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282-1C01-4CCA-B9EC-C0BDD67E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13C-013B-46E6-9CA5-D86FF4BD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A12-BC63-4A1A-977F-BA1764EC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D79-71A6-4B39-86A7-98A2C3E8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A84-1110-46A8-889F-F24EC0ED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D2D-6C93-47EE-A0E1-D9899DAF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2E53-1252-4854-848E-D1E547D8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3EC-A31E-4218-A57E-A895784F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AD08-BBDB-4F6E-8EEE-357E7EC00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Deborah.Mckeever@oncor.co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11th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B24-4906-4CE8-AADA-EEB77CD2D86C}" type="slidenum">
              <a:t>1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/Support Implementation of SCR74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ing ERCOT System Outages and system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input to Retail Market IT Services availability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ESB Failover workshop Schedul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787-5FDA-4991-9D76-B1CEA1DF992C}" type="slidenum">
              <a:t>2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TWG continue working with ERCOT to support implementation of SCR745 including the new architectur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e supporting changes to Paperfree deployment ph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ers have arrived at ERC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3EC-BE27-44A0-8A30-86727636406E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ontinue working with the ERCOT Manager of Operations to address each system inci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the 6-27 TDTWG meeting, system incidents for June were reviewed within the new reporting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72B-ECBB-4E27-81BA-829EF3E07033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Continue working with ERCOT and MPs to revise the Retail Market IT Services availability (AKA SLA) docu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DTWG reviewed the latest draft SLA presented by Shannon Bowling and Aaron Smallw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0B4-1B42-4161-88A3-39AD34C37528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Market NAESB Failover Work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:  August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: 10:00 am – 3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in number:  512-225-7260; Password 1732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:  D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ed by Onc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1 Bryan St. Dallas TX 752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m 2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ease RSVP to Debbie Mckeever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Deborah.Mckeever@oncor.c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call for access at 214.212.7990 on arr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9A4-9CF6-4846-9B0C-A67184A5C76B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2F4-09F1-4541-BDB1-499036E47D4A}" type="slidenum">
              <a:t>7</a:t>
            </a:fld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nnette Morton</cp:lastModifiedBy>
  <cp:lastPrinted>2002-09-24T18:27:58Z</cp:lastPrinted>
  <dcterms:modified xsi:type="dcterms:W3CDTF">2007-07-03T13:31:59Z</dcterms:modified>
  <cp:revision>427</cp:revision>
  <dc:subject/>
  <dc:title>PowerPoint Presentation</dc:title>
</cp:coreProperties>
</file>