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A011-928C-41AE-A922-7F9C07B37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190B-29E2-4E18-B5D6-B7C5B57C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897A-489D-478F-BE60-155C3BE66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0DD6-5C92-44B4-88AF-942CD49B0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ED53-A329-45B7-B4FA-0969D922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4AC3-7756-4288-8169-EA394077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D6DA-5323-447D-A3F2-39F90CA4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093C-DAA9-49ED-B8BE-BFAA9308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5D78-E764-444E-BC54-9D02F40B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44E0-9F03-405B-9164-018D1944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6687-E576-401B-AAB7-19010B33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B2B9-3E90-4B98-9719-B5BB6514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B6DA-0DA9-4AC1-8FAF-4DE20B1CE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295280"/>
            <a:ext cx="7848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porting materials for RMS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vided b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ail Customer Choice (RCC)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5FA9-4536-45E4-92FB-9A1BFB7F039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y To Day Issues: Subtype Descri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-1143000" y="229716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80880" y="1676520"/>
          <a:ext cx="8229600" cy="4573440"/>
        </p:xfrm>
        <a:graphic>
          <a:graphicData uri="http://schemas.openxmlformats.org/drawingml/2006/table">
            <a:tbl>
              <a:tblPr/>
              <a:tblGrid>
                <a:gridCol w="2178000"/>
                <a:gridCol w="60516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advertent Swit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 has inadvertently gained or lost (or is pending the gain/loss) an LSE Relationship to another CR in erro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cel w/Appro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requesting cancellation of an initiating transaction in instances submitting an 814_08 would result in a rejec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cel w/o Appro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DSP requesting cancellation of an initiating transaction for market defined reasons that do not require approval from the C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sing Transa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is missing any expected 814, 867_04 or 867_03 Fina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ge/Billing 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questions pertaining to point-to-point transactions excluding the 867 Contingency Pla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ject Transa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questions pertaining to rejected transactions or reject reas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 of 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questions pertaining to ERCOT LSE or TDSP LSE relationship histori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j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issues pertaining to internal/market projects, system trouble, or related problems as defined by the submitt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ebel/Chg Inf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questioning a discrepancy pertaining to Siebel service order status changes and Start/Stop time issues when transactions are present in ERCOT system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7 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verification of a 997 sent/receiv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Day to Day issues that do not fit one of the Sub Types indicated above such as: Siebel/997 reports, CSA’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456120" y="1371600"/>
            <a:ext cx="141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sue Sub-Typ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5800" y="13716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bmitted when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506E-4F17-466D-BECA-D4D7E2A480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5112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advertent Gains - Detail by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37960" y="1971720"/>
            <a:ext cx="8686800" cy="343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5C32-50C2-4823-9FD5-98028627BD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advertent Gain: State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5112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80880" y="1523880"/>
          <a:ext cx="8305920" cy="4738680"/>
        </p:xfrm>
        <a:graphic>
          <a:graphicData uri="http://schemas.openxmlformats.org/drawingml/2006/table">
            <a:tbl>
              <a:tblPr/>
              <a:tblGrid>
                <a:gridCol w="2176560"/>
                <a:gridCol w="6129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Iss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sue has not yet been submitted for consideration by the initiating part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either initial acknowledgement by an individual at ERCOT or returned to ERCOT for additional consider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draw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ting MP has the option to remove the issue from consideration prior to acknowledgement by another M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Progress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COT to provide necessary information to move the issue towards resolution including IAS data and assistance with market guidelin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acknowledgement by CR2 – the non submitting CR involved in the issues resolu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mitting CR, CR2, and TDSP have simultaneous access to view, comment and ultimately vote on the resolution to the iss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reement Reached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 parties have indicated the issue has or will be resolved per the information agreed upon in the Vote state. 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Agreement Reached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 party has indicated the issue is not a valid IAS or cannot be resolved as submitted per market guidelines.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Issue resolution Accepted by submitting party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 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No updates to issue for 2 weeks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by ERC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ERCOT Intervention required to remove visibility due primarily to proprietary information updated to iss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457200" y="121932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41760" y="121932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 Details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A7CB-9451-4374-8CA3-637E09F23C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cel With Approval - Detail by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1143000" y="179244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2280" y="1555920"/>
            <a:ext cx="8686800" cy="267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F6F8-DF3B-46C3-951E-0971BEAB66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cel with Approval: State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21932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5440" y="121932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 Details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80880" y="1523880"/>
          <a:ext cx="8077320" cy="4711680"/>
        </p:xfrm>
        <a:graphic>
          <a:graphicData uri="http://schemas.openxmlformats.org/drawingml/2006/table">
            <a:tbl>
              <a:tblPr/>
              <a:tblGrid>
                <a:gridCol w="2117880"/>
                <a:gridCol w="5959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Iss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sue has not yet been submitted for consideration by the initiating part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either initial acknowledgement by an individual at the TDSP or returned to TDSP for additional consider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draw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ting MP has the option to remove the issue from consideration prior to acknowledgement by another M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DSP to provide ERCOT with agreement with cancel request or CR indication that request is already complete / unable to be complet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acknowledgement by ERC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Progress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COT to perform agreed upon cancels in the Registration System, request additional information or indicate that cancel cannot be performed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celled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 parties have indicated the requested service order has or will be cancelled. 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able to Cancel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 party has indicated the issue is not a valid Cancel w Approval issue or cannot be cancelled.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Issue resolution Accepted by submitting party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 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No updates to issue for 2 weeks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by ERC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ERCOT Intervention required to remove visibility due primarily to proprietary information updated to iss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B045-3FDC-476E-B1E4-13F17BC54E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V LSE Issues -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1143000" y="179244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2280" y="1568520"/>
            <a:ext cx="8785440" cy="344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C990-EFD6-47F8-9D59-3FBC17EF51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V LSE Issues: Subtype Descri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2133720"/>
          <a:ext cx="8305920" cy="3543120"/>
        </p:xfrm>
        <a:graphic>
          <a:graphicData uri="http://schemas.openxmlformats.org/drawingml/2006/table">
            <a:tbl>
              <a:tblPr/>
              <a:tblGrid>
                <a:gridCol w="3000600"/>
                <a:gridCol w="530532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in MP System not ERCOT: 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Active LSE relationship not present in ERCOT’s Registration System (Siebel) as indicated by MP SCR727 Extrac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in MP System not ERCOT: In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Inactive LSE relationship not present in ERCOT’s Registration System (Siebel) as indicated by MP SCR727 Extrac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in ERCOT System not 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do not show an LSE relationship which is present in ERCOT’s Registration System (Siebel) as indicated by MP SCR727 Extrac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date change: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LSE relationship present in ERCOT’s Registration System (Siebel) as indicated by MP SCR727 Extracts with a different initiation/enrollment da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date change: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p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LSE relationship present in ERCOT’s Registration System (Siebel) as indicated by MP SCR727 Extracts with a different end da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date change: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 and Stop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LSE relationship present in ERCOT’s Registration System (Siebel) as indicated by MP SCR727 Extracts with a initiation/enrollment and end da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379800" y="1752480"/>
            <a:ext cx="141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sue Sub-Typ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04240" y="175248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bmitted when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1DCD-40E6-4FBF-B381-AC7327A2BA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295280"/>
            <a:ext cx="9144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ution Meas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962520"/>
            <a:ext cx="80773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D7DB-8F07-4B52-94A5-C62CA08797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143000"/>
            <a:ext cx="8763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periodically receives 867_03 Finals and 867_04s for service orders that are Cancelled in ERCOT systems.  The Service Order Sub-Statuses that are considered Cancelled are:  CR Requested, Customer Objection, ERCOT Operating Rule, Manual, Permit Not Received, with Exception, Unexecutable and Rejected by TDSP.   This can indicate an out-of-sync condition between the TDSP and ERC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Mechanism for Handling 867 RCSO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RCOT produces 867RCSO data each Friday and submits a report file to each TDSP via the ERCOT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TDSPs review the report line items and take one of the following a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ancell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o further action is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omplet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hey will initiate a day-to-day MarkeTrak issue and work with ERCOT to get ERCOT systems changed to complete.  Completion of cancelled service orders will require the approval of the CR initiating the trans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ote: For Cancel by Customer Objection, the TDSP will honor the cancel in their syste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3824-A984-435B-BE06-7FE574CC82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67s received on Cancelled Service Orders -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04920" y="1523880"/>
          <a:ext cx="8354880" cy="470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8354880" cy="470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A63E-4B36-4026-95D2-F070D68D58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lution Measure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867 Report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EF4E-A441-4C1E-BBEA-36B354F587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219320"/>
            <a:ext cx="8610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867 Re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867 Report will provide TDSPs information about Service Orders in a scheduled state for which ERCOT has not received an 867 completing transaction at least seven days after the scheduled meter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ekly report provided to the TDSP via the ERCOT Por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ats Summar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00160" y="3505320"/>
          <a:ext cx="8601120" cy="247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3505320"/>
                    <a:ext cx="860112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3CC8-AE23-43FC-A126-313BA71CC8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87320" y="-1511280"/>
          <a:ext cx="7569360" cy="9882000"/>
        </p:xfrm>
        <a:graphic>
          <a:graphicData uri="http://schemas.openxmlformats.org/drawingml/2006/table">
            <a:tbl>
              <a:tblPr/>
              <a:tblGrid>
                <a:gridCol w="609480"/>
                <a:gridCol w="368280"/>
                <a:gridCol w="368280"/>
                <a:gridCol w="368640"/>
                <a:gridCol w="279360"/>
                <a:gridCol w="279360"/>
                <a:gridCol w="279360"/>
                <a:gridCol w="279360"/>
                <a:gridCol w="279360"/>
                <a:gridCol w="609480"/>
                <a:gridCol w="609840"/>
                <a:gridCol w="368280"/>
                <a:gridCol w="368280"/>
                <a:gridCol w="330120"/>
                <a:gridCol w="330120"/>
                <a:gridCol w="330480"/>
                <a:gridCol w="330120"/>
                <a:gridCol w="266760"/>
                <a:gridCol w="304560"/>
                <a:gridCol w="60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797040" y="-1501920"/>
          <a:ext cx="600120" cy="395280"/>
        </p:xfrm>
        <a:graphic>
          <a:graphicData uri="http://schemas.openxmlformats.org/drawingml/2006/table">
            <a:tbl>
              <a:tblPr/>
              <a:tblGrid>
                <a:gridCol w="600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787320" y="-1314360"/>
          <a:ext cx="7569360" cy="9486720"/>
        </p:xfrm>
        <a:graphic>
          <a:graphicData uri="http://schemas.openxmlformats.org/drawingml/2006/table">
            <a:tbl>
              <a:tblPr/>
              <a:tblGrid>
                <a:gridCol w="609840"/>
                <a:gridCol w="368280"/>
                <a:gridCol w="368280"/>
                <a:gridCol w="368280"/>
                <a:gridCol w="279360"/>
                <a:gridCol w="279360"/>
                <a:gridCol w="279360"/>
                <a:gridCol w="279360"/>
                <a:gridCol w="279360"/>
                <a:gridCol w="609840"/>
                <a:gridCol w="609480"/>
                <a:gridCol w="368280"/>
                <a:gridCol w="368280"/>
                <a:gridCol w="330120"/>
                <a:gridCol w="330480"/>
                <a:gridCol w="330120"/>
                <a:gridCol w="330120"/>
                <a:gridCol w="266760"/>
                <a:gridCol w="304560"/>
                <a:gridCol w="60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797040" y="-1305000"/>
          <a:ext cx="600120" cy="395280"/>
        </p:xfrm>
        <a:graphic>
          <a:graphicData uri="http://schemas.openxmlformats.org/drawingml/2006/table">
            <a:tbl>
              <a:tblPr/>
              <a:tblGrid>
                <a:gridCol w="600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1266840" y="2133720"/>
          <a:ext cx="6657840" cy="348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2133720"/>
                    <a:ext cx="6657840" cy="34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E7ED-7CB4-4950-92CA-DE20482588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rkeTrak Issue Statis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358128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DDA1-37A9-4AF1-9D6D-037C599C0F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y to Day Issues - Summ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4158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13716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8600" y="1787400"/>
            <a:ext cx="8686800" cy="34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2BCF-48B7-4030-9E06-957A6EC9CD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mhost</cp:lastModifiedBy>
  <cp:lastPrinted>2002-09-24T18:27:58Z</cp:lastPrinted>
  <dcterms:modified xsi:type="dcterms:W3CDTF">2007-07-03T14:06:05Z</dcterms:modified>
  <cp:revision>701</cp:revision>
  <dc:subject/>
  <dc:title>PowerPoint Presentation</dc:title>
</cp:coreProperties>
</file>