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335-CE0D-429A-A73C-0A18418D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605-4996-40AF-BC22-6C6DF7B6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A83-C701-439B-9917-6B530F69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F34-B728-46E1-8E43-5CFC561A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6EB-09EA-444A-BB7B-995DAE4E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8805-CB9B-430E-8890-8035B8B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2964-E991-4909-BBDA-4AC2DD1D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F2DE-F3F8-4DC9-BFB9-0B4E5FAA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DC39-63E1-4F35-A5E4-ACAE132D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F4F-4603-4B5A-BA2B-2537405A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0B17-DE02-44CD-97F8-AFF652E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7AA-AEFF-443E-91C1-6EF55CDB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0DF3-1617-44F5-B04C-5526A9A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B02-67B8-4F8B-B4E6-4AD4EAC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5D1B-8105-4FA4-9AFC-7F168AA5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20CD-F29D-4C25-8B87-846CC81C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7605-1EE5-47DF-830C-B713ED69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3D2-2CE7-4F3E-8399-13F4BBF0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5DF-A87C-4E4D-9CB9-2274E80A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3F9-2A00-4660-89F6-BBFC3BC1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09E-ADC1-434A-94EE-D4046459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158-C1DB-41D6-BD58-4A2B304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6B1-127E-4592-84E7-67F6453F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440-9959-402A-BC48-15D2FD8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53D-4B7F-4AB7-A2F2-B2F345EB2CA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3A0C-B2F4-4A15-82C2-FCF3D901768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TX SET 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Update to RMS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ednesday,                          July 11, 2007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Verdana"/>
              </a:rPr>
              <a:t>Congratulations to ALL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On the weekend of June 23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  <a:ea typeface="Lucida Sans Unicode"/>
              </a:rPr>
              <a:t>rd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 and 24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  <a:ea typeface="Lucida Sans Unicode"/>
              </a:rPr>
              <a:t>th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, 2007, the TX Market “Successfully Implemented” TX SET Version 3.0.   This implementation provides the market with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An “Automated Process” to Transition ESI IDs from Defaulting CR to POLRs during a Mass Transition event, which will also reduce the number of days the Market completes all ESI IDs involved in the transition compared to previous Mass Transition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New “Processes and Functionality” based upon requirements identified in the new “IOU” Terms and Conditions (PUCT Project 29637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New transaction processing times for ERCOT to better support and communicate “Priority Move-Ins” to TDSP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New “Processes and Functionality” based upon requirements identified in the new “POLR” Rulemaking  (PUCT Project 31416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orkshop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tion Item for TX SET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X SET received the following Action Item from the Retail Market Workshop on Small Renewable Generation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orkshop would like TX SET to provide options and recommendations on how to facilitate generation valu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How does the TDSP send generation values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X SET discussed a Short Term solution via  conference call on Thursday, June 28.  We also made a decision that Long-Term discussions would be deferred to subsequent meetings in July and August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hort-Term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iscussions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X SET’s Definition of Short-Term is “What is available today in the TX SET 867_03 Monthly Usage Transaction that could be used to support or communicate Generation?”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felt that our short-term recommendation should be able to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upport both input and output reading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egardless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f one, two, or more meter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ere being utilize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to provide the informa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hort-Term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commendation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867_03 Monthly Usage Transac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EF~JH (Meter Role) Segmen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  -   Ignore Fla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This consumption did not contribute to the summarized total (do nothing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xample of 867_03 used to communicate generation in this segment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F|JH|I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F|MT|KHMON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TY|QD|704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A|AA|PRQ|7044|KH|65463|66637|5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A||MU|6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TD|PL|||MG|297649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TM|150|2007041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TM|151|20070510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ext Steps for TX SE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view and Update where necessary the Retail Market Guide Procedures as it pertains to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orking Groups shall submit the following materials for RMS approval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exas SET Implementation Guid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exas SET Change Control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f changes are recommended by TX SET, we will submit an RMGRR to RMS for Approval in August.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ext Steps for TX SE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mall Renewable Generation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hort-term business requirements will be discussed at the July 12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ong Term Recommendations that could involve changes to the TX SET 867_03 Implementation Guide, along with developing requirements will be on the July and August agend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nitor the Advanced Metering Rule for changes to TX SET transactions/processes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essons Learne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X SET will work in conjunction with Market Coordination Team and Texas Test Plan Team to evaluate feedback from Version 3.0 Lessons Learned to improve future implementations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Questions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647-7CA3-44A3-94BE-D7BBFB2BA1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1:13:22Z</dcterms:created>
  <dc:creator>00015621</dc:creator>
  <dc:description/>
  <dc:language>en-US</dc:language>
  <cp:lastModifiedBy>00015621</cp:lastModifiedBy>
  <dcterms:modified xsi:type="dcterms:W3CDTF">2007-07-02T15:36:25Z</dcterms:modified>
  <cp:revision>24</cp:revision>
  <dc:subject/>
  <dc:title>TX SET update to RMS</dc:title>
</cp:coreProperties>
</file>