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D609-0F0D-4E19-A0F4-247DCCD9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FE9F-8F4E-45BE-B790-C8085D62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02B5-ED3E-4148-AA13-41107C9F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DBE0-7313-4E52-84A1-5E5817AF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0BC9-1472-4F7E-9183-7E4B59EA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13E5-2C8C-441E-96C0-B88BB687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8620-FC69-4E67-A57D-BF2AE176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264C-1538-4CFC-9172-B8D274E1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41CD-1A55-4566-B76E-F45D3542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2850-4787-4C00-B6BA-702CB372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1413-2EB4-459E-A990-15F955FB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59C7-0610-46A5-8C50-8EA64D7B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74D2-BDF2-4115-ABD6-FF7744414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ne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41440" y="1066680"/>
          <a:ext cx="80596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066680"/>
                    <a:ext cx="80596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ne 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990720"/>
          <a:ext cx="8229600" cy="47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229600" cy="47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838080"/>
          <a:ext cx="8610840" cy="527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610840" cy="52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7-07-05T21:02:36Z</dcterms:modified>
  <cp:revision>59</cp:revision>
  <dc:subject/>
  <dc:title>Instructions</dc:title>
</cp:coreProperties>
</file>