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BDA-3D02-40A7-B91B-E996D26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377-07FF-4B1B-B17D-860D18D9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4B4-C84D-4962-8E0A-F4216828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CFB-76F2-401F-8521-DFC81825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DF9-AC2D-4035-A705-6A1A983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1310-9975-425A-8DF0-C0E7968A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86F-6A38-41B8-B148-95D36F6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B0E2-68FE-4EDB-A060-02409FC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88D4-397C-463C-9F65-96FA2BE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1B71-EC31-4000-9A3A-3C9BC9C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B1ED-2A61-42BD-A445-7B6DD97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650-B857-4FA4-95C3-8ED75B91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BBC-C7F1-49BD-8B64-237C06D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5B3-2FC9-4457-A319-B6FE336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80E-317D-469B-A4F7-789A9C0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35A7-97ED-4EBC-9713-B701546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E82-4960-4BBF-85AE-B580A114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C03-2BFE-4959-AFBE-29918E3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062-0A53-4FE8-BE8C-7A0C485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456-29F9-4391-85CE-6E0F616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363-711B-4B59-AE23-9B33BC8B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7A7-1188-444A-A6D4-65109AC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95E-9F50-466B-8B09-062C948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0D7-DD4B-4D4E-B9BC-EB3AC2E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E38-2657-430B-B035-52BEA83D6A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F79-17A8-4E0E-B372-D8A86E11FE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8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051  ERCOT Template- ESI IDs for Gaining CR/TDSP Use 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on TX SET 3.0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MGRR051  ERCOT Template- ESI IDs for Gaining CR/TDSP Use (Vot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Market Coordination Team identified changes to appendix that identifies ESI IDs affected by a Mass Tran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provide consistency between Retail Market Guide and POLR Substantive Rule Project 3141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hanges will be included in implementation of RMGRR042 under TX SET 3.0 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nimously approved by 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with net metering and small renewable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to host conference call on 6-28 to discuss how TDSPs send generation values and provide short and long term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Retail Metering WG meeting on July 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discussion of HB 369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S members encouraged to attend to discuss settlement requirements for small renewable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RCOT Service Level Agreement Upd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 presented at June 1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RMS remanded to workshop for additional discussion and revis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tail transaction processing targets 99.9% availability excluding outages with a duration of 15 minutes or l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rak targets 98% availability with maintenance/release windows during 7:00 pm -7:00 am on retail business d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ML availability target is 99%SLA and Reporting will be presented to   RMS for consideration and approval on June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ket conference call held on June 2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identify requested changes to Service Availability docu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 Workshop conducted on June 2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finalize Service Availability document  for RMS consideration and approval on July 11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Shannon Bowling</cp:lastModifiedBy>
  <dcterms:modified xsi:type="dcterms:W3CDTF">2007-06-20T18:38:53Z</dcterms:modified>
  <cp:revision>17</cp:revision>
  <dc:subject/>
  <dc:title>RMS Update to TAC</dc:title>
</cp:coreProperties>
</file>