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6FCB-D8A3-4950-9C22-DF7ED9FA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20B-D43A-4389-B40D-56C9B564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893-914C-4232-99FA-AE6790D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A25-07BD-4FB7-B99F-3AE23626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22E-92CB-43C3-BC8C-4A8F8FA1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FC4-01B8-4469-9862-8C0F90E1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562-5C9C-4ACE-AD13-5E37E5B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3F5-45C4-41D7-8B5C-E56465E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755-D57F-4A6D-9CB1-A10757E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D39-F044-45E4-882D-7E526F4A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648-97F5-49AC-AB79-B71A045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E75-B50D-4F00-B2A4-DFAF370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BB4-18FF-4902-BDB6-4E454316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649-1A43-4D5B-BA4F-23B6D717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9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7/11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79820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MWG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tail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shop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7339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tail Metering WG Meet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ed CMGRR 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Conform the CM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Section 21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Market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Minor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ed RMG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s WG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s Ro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ibility of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tail Market Workshop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ed TX SET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Reach Consensus on Requirement to Send Generation Values thru TX SET Transactions by September 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Date Requirement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es not ex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ostpone TX SET Recommendation to Allow for Consideration of How Wholesale Settlements will b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Date Requirement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oes ex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Recommend Clarification of Short Term TX SET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X SET Recommendation is only to define the “vehicle” for Submission of Generation Values for Small DRG not Registered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Input of PUCT Staff on HB 36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‘Generation’ and ‘Load’ need to b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September 1, 2007 for Small Renew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738000">
            <a:off x="8381520" y="380520"/>
            <a:ext cx="4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354400">
            <a:off x="7356600" y="5370480"/>
            <a:ext cx="1828800" cy="93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692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tail Market Workshop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ed &amp; Categorized List of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ail Market Workshop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ail Market Workshop Further Discussion Required (Pending discussion at next me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tlement – Commercial Operations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actional – Retail Market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Utility Commission of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ility Operations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olesale Market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ward Questions to Appropriate Groups for Feedback and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meeting July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19444800">
            <a:off x="0" y="2819160"/>
            <a:ext cx="1098720" cy="655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34320" y="525780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10800000">
            <a:off x="8061480" y="1523880"/>
            <a:ext cx="93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38560" y="1863720"/>
            <a:ext cx="4671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7-07-10T20:01:15Z</dcterms:modified>
  <cp:revision>140</cp:revision>
  <dc:subject/>
  <dc:title>Slide 1</dc:title>
</cp:coreProperties>
</file>