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9FBA-54EC-41B2-80FA-C5B1E9D6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127D-677C-4DB4-86C3-5015D41E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AF14-1679-4CC0-80ED-0F22DF3F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0E59-FC5F-4C2F-AF7C-D20209B3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DA3C-9DD5-4CFE-BFAE-21AA4997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F07C-27DD-4229-B814-9E356458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7448-1848-4211-829A-DB103ABF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3E2A-858B-48C9-A673-B3D82EBB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411C-9204-4ECA-B3C4-031594C5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0D76-96F9-473E-A057-B514108A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0F2F-38C1-4666-9B1E-2762E346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55AE-C4AE-4F13-B726-48CA9AC7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13B0-949D-4335-A59F-CD8ACFA39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5093-AF97-4330-970B-058E872B61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80D2-66B7-4F41-B8B3-0DC02C806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D6E2-F039-42B5-9E87-8AC8F2549E81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sting Upda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len Winger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Manager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7504492-1E8B-41C5-9015-74E69E1D06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3360" y="947880"/>
            <a:ext cx="9015480" cy="5224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95280"/>
            <a:ext cx="5867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require the Script be appro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60CE56-DFD0-4037-B0AA-248202781E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520" y="932040"/>
            <a:ext cx="9047160" cy="5240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419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eas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against approved Test Scri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include “Invalid” def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A177C8-738A-4D25-B912-3808E74B5B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520" y="947880"/>
            <a:ext cx="9047160" cy="5224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867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rred status common with planned it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ity 1 and 2 not eligible for defer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4D7A32-18D2-4908-9794-CB336A7690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3360" y="1143000"/>
            <a:ext cx="9015480" cy="5008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867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ity is set by Testing and verified by 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85E7F5-4C32-4524-98C6-25006899ED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Horiz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P3 (Backend) - Aug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 – Aug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 –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 (w/ ERCOT customs) – 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S – REG2 – 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B626F4-0CF5-48EE-B31F-008804A2C7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0129C5-17AE-4DFB-9545-3744F130B3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Overview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2557440"/>
          <a:ext cx="822960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57440"/>
                    <a:ext cx="82296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50640" y="10047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31C1E2-FFAE-4DC9-BD04-ED5EB693A8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Overview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85248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of Testing by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2680" y="1628640"/>
          <a:ext cx="837720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628640"/>
                    <a:ext cx="837720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77D55C-3FBF-4F10-B3C3-2426768B9C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Overview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1511280"/>
          <a:ext cx="845820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11280"/>
                    <a:ext cx="84582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29680" y="8524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F663AC-BF27-46C5-8331-061CC1189F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Overview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730080"/>
          <a:ext cx="7467480" cy="55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30080"/>
                    <a:ext cx="746748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29320" y="8524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03FC7C-BFF1-451F-BC35-10B356BFE3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Testing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F5FEEC-EB52-4F6A-A9E0-5FD73237C7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Overview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95280" y="1351080"/>
          <a:ext cx="66452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51080"/>
                    <a:ext cx="66452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30400" y="85248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FED17F-BB92-400F-9523-04B2B4324C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Overview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280" y="685800"/>
          <a:ext cx="8839440" cy="56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83944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317000" y="9144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E92647-04C0-42FE-875A-CECA3986B6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Overview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143080"/>
          <a:ext cx="822960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43080"/>
                    <a:ext cx="822960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32000" y="1141920"/>
            <a:ext cx="571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ect Tracking Status Life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Defects are assigned they are tracked using the status lifecyc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82D674-3A91-4746-9789-EF7390330B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M (Base Product) –7/6/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currently executed 174 of 202 total scrip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= 1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   =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Complete = 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currently 40 Active De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have been 10 Defects addressed and Clo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P3 (Loopback) – 7/9/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currently executed 127 of 132 total scripts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= 1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  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Complete = 94.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is currently 1 Active De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have been 31 Defects addressed and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397D60-004D-4E54-8740-D3DC6D3C7C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680" y="914400"/>
            <a:ext cx="9080640" cy="5264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520" y="1295280"/>
            <a:ext cx="5867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des defects with status of “Invali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4CF3AF-A1D9-48D6-9545-3CA4CEB51A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680" y="947880"/>
            <a:ext cx="9080640" cy="5224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867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BA1DF3-F2FB-4B70-980C-63C4790931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939960"/>
            <a:ext cx="9047160" cy="5232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5867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“approved” test scripts in Quality Ce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ferred trace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DD5460-2C7B-4CBA-8805-5481055A8B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520" y="947880"/>
            <a:ext cx="9048960" cy="5224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867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measures closed defects, not defects that are still o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61CB8E-BB85-4D71-AACF-926AE02B3D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520" y="914400"/>
            <a:ext cx="9047160" cy="5208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867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recent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AF7383-73D2-4672-8E4B-068C9CAC0B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360" y="990720"/>
            <a:ext cx="9015480" cy="5208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Update - I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867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recent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A5AF39-411C-4DED-9578-68DDCECE44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wingerd</cp:lastModifiedBy>
  <dcterms:modified xsi:type="dcterms:W3CDTF">2007-07-10T13:39:20Z</dcterms:modified>
  <cp:revision>33</cp:revision>
  <dc:subject/>
  <dc:title>Instructions</dc:title>
</cp:coreProperties>
</file>