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5006-3906-47D9-A8C9-E5381617C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DBC3-325F-4F13-8D25-8EEDBD0F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6AEF-A116-4C67-8287-82210202E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1896-57F7-4D05-9951-E4547FB7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2A24-254C-41A7-8FFD-BEECCDF03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DC22-E567-4AF5-B51F-9B6A1D32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C63C-5E57-42E5-B72E-A863BB1A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A6BB-EF16-4ACE-9021-5AC2B85C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E0B3-1C96-4B43-B623-AE847678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FDBC-9155-414A-8BCD-EFFE8804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C4CA-8C3D-40D4-8AE7-B609A3C4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4A13-A080-4531-B16C-AE057359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8880-3683-414F-A7B5-2749B5ED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C04D-CFDB-4FC9-9F90-0C9AC6A0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E2BA-93D6-4596-B6E0-C0FBF641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4D90-6938-4A90-8C81-1DACBB7A2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7E0B-326E-4895-B63B-741A330E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C933-1F60-43B8-B55F-6C3AE9D5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232A-3B2C-455E-A564-B99280FA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1ECA-CE7F-486B-8341-81AD45A2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AF9B-7203-47AC-973D-B3439C5A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90C1-E08B-4F17-A785-6134A2ED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E37E-4C65-4B03-90A4-480DFCB8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90D5-8732-4140-AF42-C5F6A8F3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A7DB-1137-47DF-A31E-0BD9DF9B4C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324F-D269-4CB4-AC8D-59E4694DAE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– COPS Updat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2 conferenc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review of COPMGRR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nsus for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 Analysis - No System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COPMGRR005 Creating Section 11, Extracts and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 day comment period ends July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to have as September COPS voting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Generation Aggregation 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ting Item #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WG requests the following mo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S recommends to the TAC approval of COPMGRR004, Conforming Commercial Operations Market Guide to the Current Protocols and Other ERCOT Market Guides, as recommended by CC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eeting Da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meeting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30 conference call at 9-1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g 27 at ERCOT; 10am – 3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MGRR005 (Extracts and Reports) review &amp; language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g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MGRR005 recommendation for COPS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COPMG Out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Generation Aggregation – draft a COPMG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5:58:45Z</dcterms:created>
  <dc:creator>BP - Judy Briscoe</dc:creator>
  <dc:description/>
  <dc:language>en-US</dc:language>
  <cp:lastModifiedBy>Chuck Moore</cp:lastModifiedBy>
  <dcterms:modified xsi:type="dcterms:W3CDTF">2007-07-02T15:40:58Z</dcterms:modified>
  <cp:revision>24</cp:revision>
  <dc:subject/>
  <dc:title>CCWG 2006 Accomplishm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94695048</vt:r8>
  </property>
  <property fmtid="{D5CDD505-2E9C-101B-9397-08002B2CF9AE}" pid="3" name="_AuthorEmail">
    <vt:lpwstr>Chuck.Moore@directenergy.com</vt:lpwstr>
  </property>
  <property fmtid="{D5CDD505-2E9C-101B-9397-08002B2CF9AE}" pid="4" name="_AuthorEmailDisplayName">
    <vt:lpwstr>Moore, Chuck</vt:lpwstr>
  </property>
  <property fmtid="{D5CDD505-2E9C-101B-9397-08002B2CF9AE}" pid="5" name="_EmailSubject">
    <vt:lpwstr>CCWG items for COPS</vt:lpwstr>
  </property>
  <property fmtid="{D5CDD505-2E9C-101B-9397-08002B2CF9AE}" pid="6" name="_NewReviewCycle">
    <vt:lpwstr/>
  </property>
</Properties>
</file>