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12B8-FC7C-4B58-B93A-EC282C7B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90FF-11C5-4F05-B80A-4EB421E5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7FA7-03CD-4A6B-B084-CE4BD58E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3AF7-FA8A-4AE0-AE27-1F8426AB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3E3A-CB21-4523-ABF8-757CE933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B64B-8D90-4F82-A403-D48950F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8849-20B8-4F66-A1D4-5EAE1292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023E-6500-427A-B72F-EB314EC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1BEB-A87E-4DC9-9B34-D9E01D6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85A5-1005-4601-B456-24ABE4B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0124-FAFF-4B16-8588-93A9B5E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B2A7-8E5D-43A7-92E5-2BFDA9E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B47-F783-4734-A985-DA3B8D989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1AA3-99AA-49FC-918D-3C98F298D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dal Commercial Systems Projec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l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stin Rasberry &amp; Bill Barn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 ?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0E9B-A1F4-452A-A822-28A5068D63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42840"/>
          <a:ext cx="8229600" cy="2054520"/>
        </p:xfrm>
        <a:graphic>
          <a:graphicData uri="http://schemas.openxmlformats.org/drawingml/2006/table">
            <a:tbl>
              <a:tblPr/>
              <a:tblGrid>
                <a:gridCol w="3814920"/>
                <a:gridCol w="2311200"/>
                <a:gridCol w="210348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Rasber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and Ju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1B45-6148-404B-B4EA-7550DDE26F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is nearly complete syncing all projects to the March 2007 Protocols and a number of NPRRs and whitepapers (termed Baseline 1)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seline sync is needed to make sure all projects can communicate data appropriately with one an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line 2 synchronization has begun. Activities around baseline 2 should conclude by August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is anticipating at least 3 baselines before Go L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associated documentation (use cases, CSDs, test cases, etc) will be updated as Baselines appro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document naming convention will in place for all baseline 1 and future baseline vers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s personnel should stay abreast with COMS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AFCC-336F-4193-AC85-004816640C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520" y="822240"/>
            <a:ext cx="8732880" cy="5213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COMS Requirements are approved by TPTF as version 2.0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M, 3 documents -- Energy, AS, and Make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s and Invoices, 2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ial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Time Operations, 6 documents – AS, Energy, Voltage, Emergency Operations, RMR, and Black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R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COMS requirements version 1.1 were submitted at May 23 TP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Aggregation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COMS requirements version 1.1 will be reviewed at the July 9 TPTF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M Requirements and C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documents are going through the TPTF approval cycle and should be updated by July 200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65FA-1A60-483B-AD36-ED170859B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CSD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COMS Conceptual System Designs (CSDs) were being submitted to TPTF as version 1.1 on May 23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COMS Conceptual System Design (CSDs) will be discussed at the July 9 TPT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D16E-C684-4C0F-BA6F-3A05B6FA7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Settlements Mini Market Examp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520" y="821880"/>
            <a:ext cx="8732880" cy="5257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al Settlements Mini Market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d June 29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AWG review meeting July 2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July 2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beforehand, bring/submit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ps: Review examples with Nodal Protocols an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77960" y="2004840"/>
          <a:ext cx="7635960" cy="3024000"/>
        </p:xfrm>
        <a:graphic>
          <a:graphicData uri="http://schemas.openxmlformats.org/drawingml/2006/table">
            <a:tbl>
              <a:tblPr/>
              <a:tblGrid>
                <a:gridCol w="3818160"/>
                <a:gridCol w="381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1 – 9:30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2 – 9:30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over from Da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Sett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Point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Energy Imba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 Neutr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Sett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9E20-9D1A-419C-A4E0-2863634FC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ements and Invoice – Presentation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ground:  During summer of 2006, COPS &amp; ERCOT discussed and agreed to design concepts impacting nodal settlement statemen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RICE, QUANTITY, BILLABLE QUANTITY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 AMOUNT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culated and shown at Operating Day/Charge Type summary level per settlement run per Statement Recipi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terva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s will not repeat previous settlement interval leve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s show settlement amount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 Operating Day/Charge Type level per settlement interv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staff used these design concepts with Nodal Protocols to design and build Settlement State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Step: Finalize Statement presentation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other words, how the data appears on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mmended approach: ERCOT prepares options and brings to COPs/SDAWG for discussion and eventua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Statement Summary page and Statement Detail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Next Step: Repeat the process for all Invoi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309F-2113-41C4-B501-A6C775E78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on ta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uld have drafts of Detailed Design documents by early 3Q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Decompositions completed in April 2007 on base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destar version 4.7 successfully delivered in April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base which will be used to build No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had a number of defects and working Lodestar to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destar metadata changes version 4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data changes have been delivered to ERCOT and applied to Lodestar 4.7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have Statements and Invoice mock displays ready for COPs/TPTF by July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start unit testing as early as Summer 2007 to meet EDS tim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testing at the Modular level and will “build up” to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7463-4DA0-42D5-96C4-BB5A0D56DE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5040" y="2925720"/>
            <a:ext cx="8229600" cy="318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build packages consists of multiple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 aligned into business functional components (i.e. DAM Energy, DAM AS, CRR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FAT completion by mid 4th quarter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AT completion by early 1st quarte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Lodestar S&amp;B slated for EDS 3 &amp;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s and Invoice format for ED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dow Settlements EDS 4 (requires Extra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s Go Live with 1st CRR au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680" y="1235160"/>
            <a:ext cx="813276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07FB-1C4A-4098-8B0E-30B5651E7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7-03T21:11:36Z</dcterms:modified>
  <cp:revision>200</cp:revision>
  <dc:subject/>
  <dc:title>Electric Reliability and  Resource Adequacy Update</dc:title>
</cp:coreProperties>
</file>