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6330F9-7683-458F-8C10-A1D1B1F6BF5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61760" y="384228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90D8B7-EFAE-4A01-A655-5EA9B3F0E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2744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BF607E-CAD0-407E-8A32-C6689E025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236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6332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6176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236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6332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D624E9-1421-4459-8319-06EAD7DEF50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C7F4-3CAB-4AC1-A43B-7DC12D3AC55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761760" y="12949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4F59-8344-45F8-91B3-A07B6368655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276C-B0EB-4192-850A-15AACA45E2A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21FC-5E05-4449-B4EE-BAB7C39375C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3C95-5DDF-4698-B50F-AAD5FAF4AFA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EE01-8990-4DBA-8901-96B166982BA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570B-22BE-415C-BCB0-2360D2689C5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61760" y="12949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75BCBB-1147-4F65-806A-36F7F6878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744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9A64-B29A-4F35-9C1A-4F1E37A5567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A59C-8703-48B8-AB79-48332DEC3A5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761760" y="384228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CFE5-C5B4-4922-8F5B-00F44C0D1E8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744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D41A-02A8-4891-8851-D3C1056AADD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236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6332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76176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236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6332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28FC-5FF8-490C-A846-1EAD79EBC25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DE45FC-C870-4E13-AFA4-236E7D5D956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761760" y="12949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29A3B7-8B58-4078-AFF1-64B2F5543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FE407F-F4E6-4733-B5F3-9C743207F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05D340-17AE-4E24-8CF7-F8DD632FF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4E9B20-F83D-4705-BF81-0609BF759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40A031-D318-4DC3-B211-7ED6151A9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204094-5C0B-4A91-A06C-4F07E760A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1CDFC7-0083-4BEC-B16D-B8A1169D5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2744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724C80-D09D-43E7-A11B-337E5A3D8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232768-FEEC-4B29-800F-9E7B3DADA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761760" y="384228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248C96-5AC1-4AC5-AB82-AD1E31EFF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2744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00D4B7-D468-4660-BFA9-7D411C0B0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31236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86332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76176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31236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586332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C8EED4-66E4-4429-A17A-8A5E6304D45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74D35D-A80E-441C-848C-25E219068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F4EC28-FD96-4070-8BCA-428B382D4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7686DF-8D39-42DD-928B-A49DB58B6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D372EA-E942-4D83-A632-F8EAB9DFC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2744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858419-1865-45CB-A8BA-C9ACB8C6C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06EBF2-6C96-43AD-9F85-D843DCFFF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380880" y="76320"/>
            <a:ext cx="2590920" cy="1050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61760" y="12949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3429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D7088-0638-46C4-BD35-AEECC87D7B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352680" y="380880"/>
            <a:ext cx="49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rofiling Working Gro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5400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44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620120" y="228600"/>
            <a:ext cx="1295280" cy="69696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3"/>
          <p:cNvSpPr>
            <a:spLocks noGrp="1"/>
          </p:cNvSpPr>
          <p:nvPr>
            <p:ph type="sldNum" idx="3"/>
          </p:nvPr>
        </p:nvSpPr>
        <p:spPr>
          <a:xfrm>
            <a:off x="6915240" y="619416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3796E-F71B-4393-9965-9A81926B86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88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7C4C1-C0B5-4DE2-A33E-CDC04EBA752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7620120" y="228600"/>
            <a:ext cx="1295280" cy="696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WG Update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ad Bo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Cirro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 PWG Vice-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OPS Me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July 10,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99E698-1B4F-425D-8F00-657BE9CA924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152388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981080" y="2133720"/>
            <a:ext cx="4876920" cy="259056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762120" y="5105520"/>
            <a:ext cx="8001000" cy="11084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WG meets on the fourth Tuesday of the Month thru O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uly PWG meeting is two day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1C5EB4-7E07-4EA2-99EF-215948D6AC2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8153280" cy="5143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256928-C7BC-44C2-95E6-B0BF419F561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80880" y="137160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07 Goals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09480" y="1828800"/>
            <a:ext cx="7925040" cy="46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93800"/>
                <a:tab algn="l" pos="1190520"/>
                <a:tab algn="l" pos="1587600"/>
                <a:tab algn="l" pos="1984320"/>
                <a:tab algn="l" pos="2381400"/>
                <a:tab algn="l" pos="2778120"/>
                <a:tab algn="l" pos="3174840"/>
                <a:tab algn="l" pos="3571920"/>
                <a:tab algn="l" pos="3968640"/>
                <a:tab algn="l" pos="4365720"/>
                <a:tab algn="l" pos="4762440"/>
                <a:tab algn="l" pos="5159520"/>
                <a:tab algn="l" pos="5556240"/>
                <a:tab algn="l" pos="5952960"/>
                <a:tab algn="l" pos="6350040"/>
                <a:tab algn="l" pos="6746760"/>
                <a:tab algn="l" pos="7143840"/>
                <a:tab algn="l" pos="7540560"/>
                <a:tab algn="l" pos="7937640"/>
                <a:tab algn="l" pos="8334360"/>
              </a:tabLst>
            </a:pPr>
            <a:r>
              <a:rPr b="0" lang="en-US" sz="1800" spc="-1" strike="noStrike">
                <a:solidFill>
                  <a:srgbClr val="339966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3399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39966"/>
                </a:solidFill>
                <a:latin typeface="Arial"/>
              </a:rPr>
              <a:t>Implement new Version 2 ERCOT Profiles. </a:t>
            </a: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Don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339966"/>
              </a:buClr>
              <a:buFont typeface="Arial"/>
              <a:buAutoNum type="arabicPlain" startAt="2"/>
              <a:tabLst>
                <a:tab algn="l" pos="793800"/>
                <a:tab algn="l" pos="1190520"/>
                <a:tab algn="l" pos="1587600"/>
                <a:tab algn="l" pos="1984320"/>
                <a:tab algn="l" pos="2381400"/>
                <a:tab algn="l" pos="2778120"/>
                <a:tab algn="l" pos="3174840"/>
                <a:tab algn="l" pos="3571920"/>
                <a:tab algn="l" pos="3968640"/>
                <a:tab algn="l" pos="4365720"/>
                <a:tab algn="l" pos="4762440"/>
                <a:tab algn="l" pos="5159520"/>
                <a:tab algn="l" pos="5556240"/>
                <a:tab algn="l" pos="5952960"/>
                <a:tab algn="l" pos="6350040"/>
                <a:tab algn="l" pos="6746760"/>
                <a:tab algn="l" pos="7143840"/>
                <a:tab algn="l" pos="7540560"/>
                <a:tab algn="l" pos="7937640"/>
                <a:tab algn="l" pos="8334360"/>
              </a:tabLst>
            </a:pPr>
            <a:r>
              <a:rPr b="0" lang="en-US" sz="1800" spc="-1" strike="noStrike">
                <a:solidFill>
                  <a:srgbClr val="339966"/>
                </a:solidFill>
                <a:latin typeface="Arial"/>
              </a:rPr>
              <a:t>LRS sample selection round two. </a:t>
            </a: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Done.</a:t>
            </a:r>
            <a:r>
              <a:rPr b="0" lang="en-US" sz="1800" spc="-1" strike="noStrike">
                <a:solidFill>
                  <a:srgbClr val="00808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lain" startAt="2"/>
              <a:tabLst>
                <a:tab algn="l" pos="793800"/>
                <a:tab algn="l" pos="1190520"/>
                <a:tab algn="l" pos="1587600"/>
                <a:tab algn="l" pos="1984320"/>
                <a:tab algn="l" pos="2381400"/>
                <a:tab algn="l" pos="2778120"/>
                <a:tab algn="l" pos="3174840"/>
                <a:tab algn="l" pos="3571920"/>
                <a:tab algn="l" pos="3968640"/>
                <a:tab algn="l" pos="4365720"/>
                <a:tab algn="l" pos="4762440"/>
                <a:tab algn="l" pos="5159520"/>
                <a:tab algn="l" pos="5556240"/>
                <a:tab algn="l" pos="5952960"/>
                <a:tab algn="l" pos="6350040"/>
                <a:tab algn="l" pos="6746760"/>
                <a:tab algn="l" pos="7143840"/>
                <a:tab algn="l" pos="7540560"/>
                <a:tab algn="l" pos="7937640"/>
                <a:tab algn="l" pos="8334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Oil &amp; Gas Profile – BUSOGFLT.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cheduled 9/18/2007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93800"/>
                <a:tab algn="l" pos="1190520"/>
                <a:tab algn="l" pos="1587600"/>
                <a:tab algn="l" pos="1984320"/>
                <a:tab algn="l" pos="2381400"/>
                <a:tab algn="l" pos="2778120"/>
                <a:tab algn="l" pos="3174840"/>
                <a:tab algn="l" pos="3571920"/>
                <a:tab algn="l" pos="3968640"/>
                <a:tab algn="l" pos="4365720"/>
                <a:tab algn="l" pos="4762440"/>
                <a:tab algn="l" pos="5159520"/>
                <a:tab algn="l" pos="5556240"/>
                <a:tab algn="l" pos="5952960"/>
                <a:tab algn="l" pos="6350040"/>
                <a:tab algn="l" pos="6746760"/>
                <a:tab algn="l" pos="7143840"/>
                <a:tab algn="l" pos="7540560"/>
                <a:tab algn="l" pos="7937640"/>
                <a:tab algn="l" pos="8334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7 Annual Validation.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WG emergency meeting 6/19. COPS approv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PGRR024 Residential (RES) Profile Segment Determination Algorithm Correction on 6/21. TAC reviews 6/28. Lists to TDSPs on 6/30 (following Monday business day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93800"/>
                <a:tab algn="l" pos="1190520"/>
                <a:tab algn="l" pos="1587600"/>
                <a:tab algn="l" pos="1984320"/>
                <a:tab algn="l" pos="2381400"/>
                <a:tab algn="l" pos="2778120"/>
                <a:tab algn="l" pos="3174840"/>
                <a:tab algn="l" pos="3571920"/>
                <a:tab algn="l" pos="3968640"/>
                <a:tab algn="l" pos="4365720"/>
                <a:tab algn="l" pos="4762440"/>
                <a:tab algn="l" pos="5159520"/>
                <a:tab algn="l" pos="5556240"/>
                <a:tab algn="l" pos="5952960"/>
                <a:tab algn="l" pos="6350040"/>
                <a:tab algn="l" pos="6746760"/>
                <a:tab algn="l" pos="7143840"/>
                <a:tab algn="l" pos="7540560"/>
                <a:tab algn="l" pos="7937640"/>
                <a:tab algn="l" pos="8334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e the methodology for profile scaling factors (per UFETF Nov. 1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93800"/>
                <a:tab algn="l" pos="1190520"/>
                <a:tab algn="l" pos="1587600"/>
                <a:tab algn="l" pos="1984320"/>
                <a:tab algn="l" pos="2381400"/>
                <a:tab algn="l" pos="2778120"/>
                <a:tab algn="l" pos="3174840"/>
                <a:tab algn="l" pos="3571920"/>
                <a:tab algn="l" pos="3968640"/>
                <a:tab algn="l" pos="4365720"/>
                <a:tab algn="l" pos="4762440"/>
                <a:tab algn="l" pos="5159520"/>
                <a:tab algn="l" pos="5556240"/>
                <a:tab algn="l" pos="5952960"/>
                <a:tab algn="l" pos="6350040"/>
                <a:tab algn="l" pos="6746760"/>
                <a:tab algn="l" pos="7143840"/>
                <a:tab algn="l" pos="7540560"/>
                <a:tab algn="l" pos="7937640"/>
                <a:tab algn="l" pos="8334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ew 2004, 2005 &amp; 2006 UFE Analysis.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Initial 2006 analysis complete as well as a comparison of old and new profiles on UF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lain" startAt="7"/>
              <a:tabLst>
                <a:tab algn="l" pos="793800"/>
                <a:tab algn="l" pos="1190520"/>
                <a:tab algn="l" pos="1587600"/>
                <a:tab algn="l" pos="1984320"/>
                <a:tab algn="l" pos="2381400"/>
                <a:tab algn="l" pos="2778120"/>
                <a:tab algn="l" pos="3174840"/>
                <a:tab algn="l" pos="3571920"/>
                <a:tab algn="l" pos="3968640"/>
                <a:tab algn="l" pos="4365720"/>
                <a:tab algn="l" pos="4762440"/>
                <a:tab algn="l" pos="5159520"/>
                <a:tab algn="l" pos="5556240"/>
                <a:tab algn="l" pos="5952960"/>
                <a:tab algn="l" pos="6350040"/>
                <a:tab algn="l" pos="6746760"/>
                <a:tab algn="l" pos="7143840"/>
                <a:tab algn="l" pos="7540560"/>
                <a:tab algn="l" pos="7937640"/>
                <a:tab algn="l" pos="8334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ine ways to accommodate extreme events in Settlement proces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lain" startAt="7"/>
              <a:tabLst>
                <a:tab algn="l" pos="793800"/>
                <a:tab algn="l" pos="1190520"/>
                <a:tab algn="l" pos="1587600"/>
                <a:tab algn="l" pos="1984320"/>
                <a:tab algn="l" pos="2381400"/>
                <a:tab algn="l" pos="2778120"/>
                <a:tab algn="l" pos="3174840"/>
                <a:tab algn="l" pos="3571920"/>
                <a:tab algn="l" pos="3968640"/>
                <a:tab algn="l" pos="4365720"/>
                <a:tab algn="l" pos="4762440"/>
                <a:tab algn="l" pos="5159520"/>
                <a:tab algn="l" pos="5556240"/>
                <a:tab algn="l" pos="5952960"/>
                <a:tab algn="l" pos="6350040"/>
                <a:tab algn="l" pos="6746760"/>
                <a:tab algn="l" pos="7143840"/>
                <a:tab algn="l" pos="7540560"/>
                <a:tab algn="l" pos="7937640"/>
                <a:tab algn="l" pos="8334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ablish Long Term Strategy of Load Profiles including refresh time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85CC00-F731-4B65-BE9B-881E6BA5C83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129528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07 Goals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09480" y="1752480"/>
            <a:ext cx="792504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93800"/>
                <a:tab algn="l" pos="1190520"/>
                <a:tab algn="l" pos="1587600"/>
                <a:tab algn="l" pos="1984320"/>
                <a:tab algn="l" pos="2381400"/>
                <a:tab algn="l" pos="2778120"/>
                <a:tab algn="l" pos="3174840"/>
                <a:tab algn="l" pos="3571920"/>
                <a:tab algn="l" pos="3968640"/>
                <a:tab algn="l" pos="4365720"/>
                <a:tab algn="l" pos="4762440"/>
                <a:tab algn="l" pos="5159520"/>
                <a:tab algn="l" pos="5556240"/>
                <a:tab algn="l" pos="5952960"/>
                <a:tab algn="l" pos="6350040"/>
                <a:tab algn="l" pos="6746760"/>
                <a:tab algn="l" pos="7143840"/>
                <a:tab algn="l" pos="7540560"/>
                <a:tab algn="l" pos="7937640"/>
                <a:tab algn="l" pos="8334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R Analysis – 2 issues outstanding from original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lain" startAt="10"/>
              <a:tabLst>
                <a:tab algn="l" pos="793800"/>
                <a:tab algn="l" pos="1190520"/>
                <a:tab algn="l" pos="1587600"/>
                <a:tab algn="l" pos="1984320"/>
                <a:tab algn="l" pos="2381400"/>
                <a:tab algn="l" pos="2778120"/>
                <a:tab algn="l" pos="3174840"/>
                <a:tab algn="l" pos="3571920"/>
                <a:tab algn="l" pos="3968640"/>
                <a:tab algn="l" pos="4365720"/>
                <a:tab algn="l" pos="4762440"/>
                <a:tab algn="l" pos="5159520"/>
                <a:tab algn="l" pos="5556240"/>
                <a:tab algn="l" pos="5952960"/>
                <a:tab algn="l" pos="6350040"/>
                <a:tab algn="l" pos="6746760"/>
                <a:tab algn="l" pos="7143840"/>
                <a:tab algn="l" pos="7540560"/>
                <a:tab algn="l" pos="7937640"/>
                <a:tab algn="l" pos="8334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ew if having more weather stations adds accura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lain" startAt="10"/>
              <a:tabLst>
                <a:tab algn="l" pos="793800"/>
                <a:tab algn="l" pos="1190520"/>
                <a:tab algn="l" pos="1587600"/>
                <a:tab algn="l" pos="1984320"/>
                <a:tab algn="l" pos="2381400"/>
                <a:tab algn="l" pos="2778120"/>
                <a:tab algn="l" pos="3174840"/>
                <a:tab algn="l" pos="3571920"/>
                <a:tab algn="l" pos="3968640"/>
                <a:tab algn="l" pos="4365720"/>
                <a:tab algn="l" pos="4762440"/>
                <a:tab algn="l" pos="5159520"/>
                <a:tab algn="l" pos="5556240"/>
                <a:tab algn="l" pos="5952960"/>
                <a:tab algn="l" pos="6350040"/>
                <a:tab algn="l" pos="6746760"/>
                <a:tab algn="l" pos="7143840"/>
                <a:tab algn="l" pos="7540560"/>
                <a:tab algn="l" pos="7937640"/>
                <a:tab algn="l" pos="8334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ew if the weighting of weather stations is appropri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lain" startAt="10"/>
              <a:tabLst>
                <a:tab algn="l" pos="793800"/>
                <a:tab algn="l" pos="1190520"/>
                <a:tab algn="l" pos="1587600"/>
                <a:tab algn="l" pos="1984320"/>
                <a:tab algn="l" pos="2381400"/>
                <a:tab algn="l" pos="2778120"/>
                <a:tab algn="l" pos="3174840"/>
                <a:tab algn="l" pos="3571920"/>
                <a:tab algn="l" pos="3968640"/>
                <a:tab algn="l" pos="4365720"/>
                <a:tab algn="l" pos="4762440"/>
                <a:tab algn="l" pos="5159520"/>
                <a:tab algn="l" pos="5556240"/>
                <a:tab algn="l" pos="5952960"/>
                <a:tab algn="l" pos="6350040"/>
                <a:tab algn="l" pos="6746760"/>
                <a:tab algn="l" pos="7143840"/>
                <a:tab algn="l" pos="7540560"/>
                <a:tab algn="l" pos="7937640"/>
                <a:tab algn="l" pos="8334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ew IDR installation procedure language to ensure compli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93800"/>
                <a:tab algn="l" pos="1190520"/>
                <a:tab algn="l" pos="1587600"/>
                <a:tab algn="l" pos="1984320"/>
                <a:tab algn="l" pos="2381400"/>
                <a:tab algn="l" pos="2778120"/>
                <a:tab algn="l" pos="3174840"/>
                <a:tab algn="l" pos="3571920"/>
                <a:tab algn="l" pos="3968640"/>
                <a:tab algn="l" pos="4365720"/>
                <a:tab algn="l" pos="4762440"/>
                <a:tab algn="l" pos="5159520"/>
                <a:tab algn="l" pos="5556240"/>
                <a:tab algn="l" pos="5952960"/>
                <a:tab algn="l" pos="6350040"/>
                <a:tab algn="l" pos="6746760"/>
                <a:tab algn="l" pos="7143840"/>
                <a:tab algn="l" pos="7540560"/>
                <a:tab algn="l" pos="7937640"/>
                <a:tab algn="l" pos="8334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es having 2 decimals on load profiles significantly affect settlement.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er COPS the LPGRR draft is being developed, discussed at PWG on 6/25 and shall be on the July meeting agend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93800"/>
                <a:tab algn="l" pos="1190520"/>
                <a:tab algn="l" pos="1587600"/>
                <a:tab algn="l" pos="1984320"/>
                <a:tab algn="l" pos="2381400"/>
                <a:tab algn="l" pos="2778120"/>
                <a:tab algn="l" pos="3174840"/>
                <a:tab algn="l" pos="3571920"/>
                <a:tab algn="l" pos="3968640"/>
                <a:tab algn="l" pos="4365720"/>
                <a:tab algn="l" pos="4762440"/>
                <a:tab algn="l" pos="5159520"/>
                <a:tab algn="l" pos="5556240"/>
                <a:tab algn="l" pos="5952960"/>
                <a:tab algn="l" pos="6350040"/>
                <a:tab algn="l" pos="6746760"/>
                <a:tab algn="l" pos="7143840"/>
                <a:tab algn="l" pos="7540560"/>
                <a:tab algn="l" pos="7937640"/>
                <a:tab algn="l" pos="8334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ew LPG language on list based profiles and universa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93800"/>
                <a:tab algn="l" pos="1190520"/>
                <a:tab algn="l" pos="1587600"/>
                <a:tab algn="l" pos="1984320"/>
                <a:tab algn="l" pos="2381400"/>
                <a:tab algn="l" pos="2778120"/>
                <a:tab algn="l" pos="3174840"/>
                <a:tab algn="l" pos="3571920"/>
                <a:tab algn="l" pos="3968640"/>
                <a:tab algn="l" pos="4365720"/>
                <a:tab algn="l" pos="4762440"/>
                <a:tab algn="l" pos="5159520"/>
                <a:tab algn="l" pos="5556240"/>
                <a:tab algn="l" pos="5952960"/>
                <a:tab algn="l" pos="6350040"/>
                <a:tab algn="l" pos="6746760"/>
                <a:tab algn="l" pos="7143840"/>
                <a:tab algn="l" pos="7540560"/>
                <a:tab algn="l" pos="7937640"/>
                <a:tab algn="l" pos="8334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CT Docket responses to demand response or AMR rule, etc.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LC language is being reviewed by PW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70000"/>
              <a:buFont typeface="Arial"/>
              <a:buAutoNum type="arabicPlain" startAt="16"/>
              <a:tabLst>
                <a:tab algn="l" pos="793800"/>
                <a:tab algn="l" pos="1190520"/>
                <a:tab algn="l" pos="1587600"/>
                <a:tab algn="l" pos="1984320"/>
                <a:tab algn="l" pos="2381400"/>
                <a:tab algn="l" pos="2778120"/>
                <a:tab algn="l" pos="3174840"/>
                <a:tab algn="l" pos="3571920"/>
                <a:tab algn="l" pos="3968640"/>
                <a:tab algn="l" pos="4365720"/>
                <a:tab algn="l" pos="4762440"/>
                <a:tab algn="l" pos="5159520"/>
                <a:tab algn="l" pos="5556240"/>
                <a:tab algn="l" pos="5952960"/>
                <a:tab algn="l" pos="6350040"/>
                <a:tab algn="l" pos="6746760"/>
                <a:tab algn="l" pos="7143840"/>
                <a:tab algn="l" pos="7540560"/>
                <a:tab algn="l" pos="7937640"/>
                <a:tab algn="l" pos="8334360"/>
              </a:tabLst>
            </a:pPr>
            <a:r>
              <a:rPr b="0" lang="en-US" sz="1800" spc="-1" strike="noStrike">
                <a:solidFill>
                  <a:srgbClr val="339966"/>
                </a:solidFill>
                <a:latin typeface="Arial"/>
              </a:rPr>
              <a:t>Set up area on PWG web page for key </a:t>
            </a: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documents. Don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70000"/>
              <a:buFont typeface="Arial"/>
              <a:buAutoNum type="arabicPlain" startAt="16"/>
              <a:tabLst>
                <a:tab algn="l" pos="793800"/>
                <a:tab algn="l" pos="1190520"/>
                <a:tab algn="l" pos="1587600"/>
                <a:tab algn="l" pos="1984320"/>
                <a:tab algn="l" pos="2381400"/>
                <a:tab algn="l" pos="2778120"/>
                <a:tab algn="l" pos="3174840"/>
                <a:tab algn="l" pos="3571920"/>
                <a:tab algn="l" pos="3968640"/>
                <a:tab algn="l" pos="4365720"/>
                <a:tab algn="l" pos="4762440"/>
                <a:tab algn="l" pos="5159520"/>
                <a:tab algn="l" pos="5556240"/>
                <a:tab algn="l" pos="5952960"/>
                <a:tab algn="l" pos="6350040"/>
                <a:tab algn="l" pos="6746760"/>
                <a:tab algn="l" pos="7143840"/>
                <a:tab algn="l" pos="7540560"/>
                <a:tab algn="l" pos="7937640"/>
                <a:tab algn="l" pos="8334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nual Review of load profiles as specified in market langu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E2A21E-5A4D-4DC9-B40D-C5D15C36496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37160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07 Goals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33520" y="190512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" y="1830240"/>
            <a:ext cx="8458200" cy="41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lain" startAt="1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alysis to identify new profiles as specified in market languag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lain" startAt="1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date the TOU procedures on the Load Profiling web sit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ew LPGRR language shall obsolete this docum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estigate ways to improve Business Profile ID assign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ew analysis of DLC demonstration programs.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WG is working on PRR and LPGRR drafts. PWG July meeting shall be a two day meeting mostly be on this issue. Market participation is encourag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lain" startAt="2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ew Protocol and LPG language for appropriateness for large Opt-in Entit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lain" startAt="2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ew Protocol and LPG language for consistency with PUCT Load Research Rule.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 LPGRR023 reviewed by PWG. In July the IA shall be review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96B4AC-EDE2-4E11-A6B0-633AD8C3782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28600" y="1393920"/>
            <a:ext cx="8610480" cy="46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LC and Demand Response Upd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onsorship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ET to take the lead on small generation and advanced metering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ng Term Solutions Task Force has been form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WG is working on DLC language chan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dget and Project allocation above the 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) PWG Goal and ERCOT Staff resource allo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) PWG agreed to focus on DLC for summer implementation and let other demand response issues develop as needed in the Market Stakeholder process.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)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velop PRR and LPGRR language.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WG to have a two day meeting in July (24 and 25)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Expect PRR draft to the COPS in Augu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Expect LPGRR draft to the COPS in Octob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) Implementation of ERCOT Pro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) Timeline (target summer 200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2ED48B-C3B4-4BC0-988A-7296E553C75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228600" y="1393920"/>
            <a:ext cx="8610480" cy="32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PGRR02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forming the Load Profiling Guide to Protocol Section 21 and Other ERCOT Market Guide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s LPGRR is on a normal timelin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t the next PWG meeting in July the Impact Analysis shall be reviewed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PWG shall recommend approval of this LPGRR by the COPS at the August COPS meet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9F7B95-E43D-44E3-99D7-0F432DDBCA6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28600" y="1393920"/>
            <a:ext cx="8610480" cy="32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PGRR02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moval of Gray-Highlighted Text and Modification of TOU Schedule Approval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s LPGRR is on a normal timelin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t the next PWG meeting in July the Impact Analysis shall be reviewed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PWG shall recommend approval of this LPGRR by the COPS at the August COPS meet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52FCC5-65F1-4E12-9F4D-DE53E0FF2B2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228600" y="1393920"/>
            <a:ext cx="8610480" cy="41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PGRR01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fault Residential Profile Seg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or new ESIID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roved by TA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PGRR effective date, 5/1/2007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arket Notice has been sen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cision Tree language to be gray box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TDSPs have six months to change syst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Implementation date is 11/1/2007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Just a Rem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807267-1DEC-4E56-AA9E-49C8DE9DA98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1T21:33:53Z</dcterms:created>
  <dc:creator>Administrator</dc:creator>
  <dc:description/>
  <dc:language>en-US</dc:language>
  <cp:lastModifiedBy>epodraza</cp:lastModifiedBy>
  <dcterms:modified xsi:type="dcterms:W3CDTF">2007-06-27T15:51:34Z</dcterms:modified>
  <cp:revision>254</cp:revision>
  <dc:subject/>
  <dc:title>PowerPoint Presentation</dc:title>
</cp:coreProperties>
</file>