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D4DA5-2F03-418E-920C-C662733F7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C3F9F-9F3B-4EF2-BE3B-9654F8188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4D0EE-DE37-4276-96A9-6EB5EDB05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DD27D-EB38-4EB8-9EBD-91112A579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3CFBB-F8BF-4B9B-A30C-CA38689A8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9CE8B-F364-4298-B7D3-B5324387D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164CA-A6F5-4E93-A464-5298AF24F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1D9D-8951-468C-8916-A564D9B2B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09CC7-94EF-4FE2-BE58-17D8F9246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55FF-C0F3-4F3F-B313-47524CE6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6099-A3EE-4593-B66D-50E7E39FF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EDDE-9698-4ADA-86CD-C10AC7200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84D7-E609-49D8-8418-2D56A2269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Dispute NPRR and NPRR 75</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arison for C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Draft NPRR: 9.5.6, RTM Resettlement State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ignificant Changes, deleting references to disputes in the Resettlement Section, except for giving requirements for a dispute of a RTM Resettlement Statement and how a dispute following a final statement can trigger a resettl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9.6, Settlement for the Real-Time Marke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requirement that RTM Invoices be based on RTM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attributes to RTM Invoice (name, ERCOT identif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RR 75: 9.7.1, Invoice Recipient Payment to ERCOT for the RTM, 9.7.2 ERCOT Payment to Invoice Recipients for the RTM</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Day Swi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ERCOT to withhold payments as a matter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s Requirement to calculate amounts available for distribution, but maintains partial payment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9.7.3, Partial Payments for RTM</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ERCOT to cease charging late fees earlier than 180 days (sole discre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section 9.7.3.1</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S based on the calendar month three months before the date of uplift invoice.  If total short pay exceeds $2.5 MM, late fee invoices are 30 days apar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9.7.3.2 about two-day two-step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7.5, Late Fee and Late Fee Invoices for RTM</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RTM Late Fee Invoice attrib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Day Swi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ERCOT to withhold payments pursuant to common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8, CRR Auction Invoices &amp; 9.9, CRR Invoice Payment Proces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additional attributes to inv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R Auction Invoices must be paid regardless of dispute st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Day Swi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law withholding cla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0, CARD Invoices, 9.12, CRR Balancing Account Invoices, 9.13, CRR Balancing Account Payment Process</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Invoice Attributes, Business Day Switch, Common Law Cla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administrative chang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3 (requires invoice to be on MIS Certified Area, published in X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3, Deletes reference to Day-Ahead RMR Unit Charge on the DAM Settlement Charge type l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 Requires Recipient name and settlement ID on DAM Invoi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5, 9.2.4, 9.2.8, 9.5.3, 9.5.4, 9.5.5,9.5.6, 9.5.11,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ft NPRR administrative chang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8, 9.5.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raft NPRR is focused on the Dispute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 75 focuses on the entire Settlement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14, Settlement Dispute Proces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 75 Makes numerous minor edits throughout the entire section.</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Draft NPRR makes numerous, substantive edits to dispute process discussed previously.</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20 Business Days Before the next scheduled Settlement Statement due date to be included on statement for RT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Changes to required items for disput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Process for filing additional inform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AM Disputes due 10 days after the DAM settlement statement (still constrained by 2% rule, even if accepte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ay require additional comments from ERCOT staff regarding dispute status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9.1.2 Settlements Calend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raft references disputes of Operating Days; deletes reference to timely disp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 75 adds requirements for Calendar to include payment due dates and invoice posting dates for late fees, uplifts, CRR Auction Invoices, CRR Auction Revenue Distribution Invoices, and Payments for CRR Balancing Account Invo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9.1.4 Settlement Statement and Invoice Tim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 Statements and Invoices now must be published by 2400 of scheduled </a:t>
            </a:r>
            <a:r>
              <a:rPr b="1" lang="en-US" sz="3200" spc="-1" strike="noStrike">
                <a:solidFill>
                  <a:srgbClr val="000000"/>
                </a:solidFill>
                <a:latin typeface="Arial"/>
              </a:rPr>
              <a:t>publication date</a:t>
            </a:r>
            <a:r>
              <a:rPr b="0" lang="en-US" sz="3200" spc="-1" strike="noStrike">
                <a:solidFill>
                  <a:srgbClr val="000000"/>
                </a:solidFill>
                <a:latin typeface="Arial"/>
              </a:rPr>
              <a:t>.  Previously, it was the </a:t>
            </a:r>
            <a:r>
              <a:rPr b="1" lang="en-US" sz="3200" spc="-1" strike="noStrike">
                <a:solidFill>
                  <a:srgbClr val="000000"/>
                </a:solidFill>
                <a:latin typeface="Arial"/>
              </a:rPr>
              <a:t>due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9.2.5 &amp; 9.5.6, DAM &amp;RTM Resettlement Statemen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tes reference to a Resettlement due to “significant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 75: 9.4.1: Invoice Recipient Payment to ERCOT for the DAM and 9.4.2, ERCOT Payment to Invoice Recipients for the DAM</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Business Days and Bank Business D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ly, 9.4.2 deletes ERCOT requirement to calculate the amounts available for distribution to Invoice Recipients by the next Business Day.  Still maintains requirements that the amounts to remit must be “available for payment” under 9.4.3, Partial Payments … for the D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9.4.3, Partial Payments by Invoice Recipients for the DAM</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s payments for RMR service and amounts calculated for the CRR Balancing account from short payment red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Business Day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PRR 75: 9.4.5, Late Fee and Late Fee Invoices for the DA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two-day, two-step invoice process to DAM Late Fee In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Day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5T20:38:21Z</dcterms:created>
  <dc:creator>Eric Goff, Second round of SDAWG comments</dc:creator>
  <dc:description/>
  <dc:language>en-US</dc:language>
  <cp:lastModifiedBy>Eric Goff, Second round of SDAWG comments</cp:lastModifiedBy>
  <dcterms:modified xsi:type="dcterms:W3CDTF">2007-07-06T20:30:14Z</dcterms:modified>
  <cp:revision>3</cp:revision>
  <dc:subject/>
  <dc:title>Draft Dispute NPRR and NPRR 75</dc:title>
</cp:coreProperties>
</file>