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DF09-9BC8-4AFE-B147-75995B4D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2FDB-CEB9-431B-B0AD-F0FEF1F2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6745-CB8F-46EF-A14E-E06D8514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ADEF-A837-46DB-8126-90BAD7C4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AA08-262D-4F1A-A3B7-F063FDFC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9BE1-E65A-47F1-82E5-C251A303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E836-845B-4A45-90BB-29FD1889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D872-28E8-42C1-A19F-7757354F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83A5-56E3-4C32-9187-867580C4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DE65-7F0F-4719-A0E7-9982E0B3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E07C-7383-4693-A82A-9F66BE6C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C158-A1F9-47D0-A77A-B51036FB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3C43-25DC-4B5E-8C1A-9BBA1DCCC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905120"/>
            <a:ext cx="647676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terprise Information Servic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ata Extra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12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P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7/10/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t Ca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ig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/12/07-6/16/07 Lodestar replication lag in 33 hour ran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/17/07 Lodestar replication lag jumped to 62 ho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/17/07 Team conf calls on Sunday to address iss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/17/07 Shareplex ports stopped and restar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/18/07 Server rebooted, DB restarted; lag improv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/19/07 2:00 a.m. Extreme slowdown experienced with replication of Statement Interface t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/19/07 12:30 p.m. Shareplex deadlock/rollback; cost about 10 ho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/19/07 contacted Quest Shareplex support; changed queue size and max-time parameters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/19/07 4:50 p.m. migrated Statement Interface table patch into iT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/19/07 8:15 p.m. migrated Statement Interface table patch into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/20/07 6:00 a.m. reached peak lag of 79 ho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/21/07 4:00 a.m. Shareplex deadlock/rollback; cost about 15 min of la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/21/07 5:00 p.m. Shareplex coredump; contacted Quest Shareplex support, updated to single-thread from multi- thr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ve not experienced any deadlock/rollback issues since 6/21/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/27/07 caught up on data extracts day-for-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ot Cause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 Shareplex deadlock/rollback issues; still working with Quest and analyzing why these occur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review indicates first 5/21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ors to lag are partition maintenance on 6/14/07, running stats on 6/16/07 and downing the database on 6/18/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ot Cau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1520" y="2590920"/>
            <a:ext cx="869616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mpa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3 day delay in data extracts that include data from Lodest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 to pdf attachment of Market Notice M-A061507-09 fo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ght up on extract runs; day-for-day to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day we are not experiencing any Lodestar la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tigation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ed with Quest Shareplex support to make parameter chan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Statement Interface table patch into prod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ing at distributing replication load further among the Shareplex 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zing replication trigger logic inside the 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ly working on AIX migration as part of 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of of concept in May proved positive: Oracle 10G, RAC, and A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ing Shareplex with GoldenGate for re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to complete mid-Octo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result in improved performance; allows us to sc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Lisa Petoskey</dc:creator>
  <dc:description/>
  <dc:language>en-US</dc:language>
  <cp:lastModifiedBy>lpetoskey</cp:lastModifiedBy>
  <dcterms:modified xsi:type="dcterms:W3CDTF">2007-07-02T03:02:06Z</dcterms:modified>
  <cp:revision>84</cp:revision>
  <dc:subject/>
  <dc:title>COPS EDW Followup</dc:title>
</cp:coreProperties>
</file>