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628-0ADD-41B1-AD07-6FB6C26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697-BC87-4C91-9DE7-FDF96C4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FBB-7168-4EB9-9DBC-9C6E20FB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117-9EA9-48A8-91FE-500FAF4A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F67-B6FC-42FB-83CE-0A70FAA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8DD-6E74-4142-B45A-8BB79CA9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DA4-0603-4478-9295-0B4C6E59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0E2-D5AD-43B1-9EB1-F5B1ED89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8F6-162C-4467-AE63-37AB1C1E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32C-B94F-442B-AE92-E937EA9A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8F8-DF07-4C41-B761-91C9B4F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4B5-C321-4EF0-91E1-01E315B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FAC8-6199-41D3-964C-099021E5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OR Electric Delivery/ Texas New Mexico Power </a:t>
            </a:r>
            <a:br>
              <a:rPr sz="24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st Bell County to TNP On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45 kV Line Upgrade Projects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C – 06/28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655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1066680"/>
            <a:ext cx="2895480" cy="65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 new East Bell County 345 kV switching station in the Sandow to Temple 345 kV circu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st:  Approx. $10,489,00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 new 40 mile East Bell County to TNP One 345 kV double circuit line using bundled 1590 kcmil ACSR conductor to allow 2730 Amp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st:  $48,580,00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pgrade Temple Switch to Boggy Creek  138 kV line to allow conductor to operate at elevated temperature allowing for 1146 Amp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st: $350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conductor Temple to Salado 345 kV circuit with 2-959 ACSS/TW to obtain 3200 Amp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st: $6,713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TNMP) Upgrade terminal equipment on the TNP One-Twin Oak 345 kV double circuit line to obtain 3000 Amp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st: $3,205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OTAL COST: $69,337,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638680" cy="46908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flipH="1">
            <a:off x="2285640" y="1219320"/>
            <a:ext cx="3886200" cy="3657600"/>
          </a:xfrm>
          <a:prstGeom prst="line">
            <a:avLst/>
          </a:prstGeom>
          <a:ln w="381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4952880"/>
            <a:ext cx="609480" cy="609840"/>
          </a:xfrm>
          <a:prstGeom prst="ellipse">
            <a:avLst/>
          </a:prstGeom>
          <a:solidFill>
            <a:srgbClr val="ffff99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518800">
            <a:off x="1872720" y="4723920"/>
            <a:ext cx="2549520" cy="30636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580920" y="2286000"/>
            <a:ext cx="2667240" cy="2133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170800">
            <a:off x="1669680" y="4338360"/>
            <a:ext cx="317520" cy="65556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057400" y="3429000"/>
            <a:ext cx="4191120" cy="1143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343600">
            <a:off x="1212480" y="4410000"/>
            <a:ext cx="390600" cy="116064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52120" y="4572000"/>
            <a:ext cx="4496040" cy="152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45800">
            <a:off x="4271760" y="3712680"/>
            <a:ext cx="380880" cy="76212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95320" y="4422240"/>
            <a:ext cx="1752840" cy="1140120"/>
          </a:xfrm>
          <a:prstGeom prst="line">
            <a:avLst/>
          </a:prstGeom>
          <a:ln w="381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4419720"/>
            <a:ext cx="2286000" cy="838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81080" y="4495320"/>
            <a:ext cx="2286000" cy="838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095880"/>
            <a:ext cx="762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640" y="58672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676520" y="4495680"/>
            <a:ext cx="304560" cy="38124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6553080"/>
            <a:ext cx="762120" cy="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63244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vat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57600"/>
            <a:ext cx="5335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990720" y="5181480"/>
            <a:ext cx="75960" cy="1526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181480"/>
            <a:ext cx="38124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447920" y="5028840"/>
            <a:ext cx="152280" cy="1522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600200" y="4572000"/>
            <a:ext cx="76320" cy="45720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6095880"/>
            <a:ext cx="76212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586728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43040" y="3809880"/>
            <a:ext cx="304920" cy="22860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038480"/>
            <a:ext cx="76320" cy="22860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67080" y="4267080"/>
            <a:ext cx="152640" cy="15264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419360" y="3886200"/>
            <a:ext cx="228600" cy="15228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4038480"/>
            <a:ext cx="75960" cy="22860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343040" y="4267080"/>
            <a:ext cx="152280" cy="15264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6553080"/>
            <a:ext cx="762120" cy="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20840" y="632448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a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6/2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88120" y="30276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168800"/>
            <a:ext cx="182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114800"/>
            <a:ext cx="990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2.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168800"/>
            <a:ext cx="3124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OAK GROVE 1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3809880"/>
            <a:ext cx="1828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3755880"/>
            <a:ext cx="99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4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809880"/>
            <a:ext cx="3124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OAK GRO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32767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222720"/>
            <a:ext cx="99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12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2767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WIN OAK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8195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819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0.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195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NO ADDITIONAL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332080"/>
            <a:ext cx="1828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286000"/>
            <a:ext cx="99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CS ($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332080"/>
            <a:ext cx="312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ION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COST SAVINGS (PCS) OF EAST BELL COUNTY - TNP ONE PROJEC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952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332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81952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286000"/>
            <a:ext cx="0" cy="222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1688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5244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7672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98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85252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nnual carrying charge is the first year annual revenue requirement for the project (capital cost x 16.8%), which should be less than the annual production cost savings for the project to be considered economic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cenarios include Sandow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286000"/>
            <a:ext cx="0" cy="223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114800"/>
            <a:ext cx="99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1.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755880"/>
            <a:ext cx="99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1.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322272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1.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19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1.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86000"/>
            <a:ext cx="990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ARR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6/2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73680" y="27792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343160"/>
            <a:ext cx="7788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keholder review period for this project was held in Dec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no dissenting comments on this package of projects and ONCOR/TNMP resolved all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ject was put on-hold after ERCOT review until one of the generators obtained both an interconnection agreement and an air permit.  Oak Grove has recently satisfied these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137628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d in-service in December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6/2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89440" y="27792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Support for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021400"/>
            <a:ext cx="8229600" cy="34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st Bell County-TNP One 345 kV line upgrade projects are economically justified, contingent upon the construction of at least one of the two Oak Grove units or Twin Oak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k Grove has a signed interconnection agreement and has recently obtained its air per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will be requesting that the project be endorsed by the Bo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6/2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 6/28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40:33Z</dcterms:created>
  <dc:creator>Anh Duy Le</dc:creator>
  <dc:description/>
  <dc:language>en-US</dc:language>
  <cp:lastModifiedBy>dwoodfin</cp:lastModifiedBy>
  <dcterms:modified xsi:type="dcterms:W3CDTF">2007-06-20T22:02:39Z</dcterms:modified>
  <cp:revision>66</cp:revision>
  <dc:subject/>
  <dc:title>ERCOT Independent Review East Bell Co to TNP One 345 kV line Upgrade</dc:title>
</cp:coreProperties>
</file>