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B1B-4407-4B9D-8CA0-28D87F60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1EB-F4B5-4DBC-A25B-18D1C51F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AE8-71EE-4105-A698-89A97C80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619-DFAF-4F43-A2D9-03853180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D84-D3A6-4117-9F52-66C7243A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947-14FB-48D1-9482-048E28DF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E18-2A47-41C3-BDE6-1DED2AC2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98F-21E3-449A-B10D-90F37ACD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7AF-867C-4B22-B324-219818D2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975-59AB-46E9-849E-C7A83ED8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668-1C09-4D30-AD24-86FD1FF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27E-D855-4B00-9030-E3D0838A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119F-CE08-4D2B-82FE-3F74FFEA3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R 712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MC and RPRS are used for similar things by ERCOT, however, they have different settlement treatments in the Protoc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R 712 drafted by ERCOT per WMS input to settle RPRS like OO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R 712 was changed by PRS to settle OOMC like R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 remanded PRR712 to PRS to re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MS should provide input to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ig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OMC recipients are not allowed to keep profits from the energy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PRS recipients are allowed to keep profits from the energy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ogic for not allowing prof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pping away energy profit potential when ERCOT issues and OOMC incentives market participants to self commit whenever they think their unit will be in the money.  This reduces upl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Logic for allowing pro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unit that can be brought on line, especially quick start units, provides the owner of that unit a physical hedge against high prices that may not have been anticip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at unit can not receive market priced energy payments, it can not hedge against a larger than anticipated load obligation that is paying for market priced energ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tions for 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RPRS to settle like OO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was the instruction from 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OOMC to settle like R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what was passed by PRS and remanded by 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ve it as is and withdraw PRR7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other more critical issues in the Protocols tha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5:50:13Z</dcterms:created>
  <dc:creator>bbelk</dc:creator>
  <dc:description/>
  <dc:language>en-US</dc:language>
  <cp:lastModifiedBy>bbelk</cp:lastModifiedBy>
  <dcterms:modified xsi:type="dcterms:W3CDTF">2007-06-15T14:28:03Z</dcterms:modified>
  <cp:revision>4</cp:revision>
  <dc:subject/>
  <dc:title>Slide 1</dc:title>
</cp:coreProperties>
</file>