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DE1-DCF3-42A7-A8A2-F1287B28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E35-DB91-4AB3-A7D7-1B65321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ECA-7065-4117-878F-AE39D1FC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B20-EAFB-428C-9271-8C3D1791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1CB-A113-463F-AFFB-0787DF4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9BC-651D-4DE9-817D-46BEE54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719-E301-49DB-951F-DC1B638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30E-B90C-41BE-8A4F-A3DEF8E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899-A5F1-4D74-8009-282D1EFE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284-2093-4122-9159-9DF77F2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A63-4AB0-4B3A-8D3A-CAC7DC6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3EB-829C-4208-8C6E-2BC8939C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753C-912A-4568-B358-D9ABE1DA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C Collected From Wind-Only QS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RR 7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e 20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5867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d, Settlements and Bi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1E2-ED37-406B-9332-27962362E9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887400"/>
          <a:ext cx="8229600" cy="50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7400"/>
                    <a:ext cx="82296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6400" y="274680"/>
          <a:ext cx="806940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274680"/>
                    <a:ext cx="80694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20:39:20Z</dcterms:created>
  <dc:creator>ERCOT Employee</dc:creator>
  <dc:description/>
  <dc:language>en-US</dc:language>
  <cp:lastModifiedBy>igonzalez</cp:lastModifiedBy>
  <dcterms:modified xsi:type="dcterms:W3CDTF">2007-06-19T20:05:17Z</dcterms:modified>
  <cp:revision>15</cp:revision>
  <dc:subject/>
  <dc:title>Slide 1</dc:title>
</cp:coreProperties>
</file>