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7B33-1C71-43BF-BDB4-0D6E8904B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9D91-1FCF-44F0-AEF8-A5E01A63C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1425-9D50-4893-9E17-F9477859B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6072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1076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1068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6072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1076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E7AD-10F7-4CE2-A4AE-65969AD03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3016-3D71-453A-8890-C68C4F821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6072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81076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1068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6072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81076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EC2D-7026-46DA-A096-B454996E0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B726-952C-4C5E-B050-027B98463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575D-F806-4BDE-93B5-2D6D3A4AA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4978-7F50-46C3-A1B4-0BFB74526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A80E-AF42-4E3B-8048-440CB68BD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C606-C23D-4F28-8C08-32C8B08A9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5218-D66A-45AC-BA37-6781EC0AC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2406D625-47EC-4FDE-BE0E-0D71E29AF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6524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6524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8888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68076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8240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824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824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rcot.com/meetings/dswg/keydocs/2007/0608/PriorityPricingDSWG_Jun8_2007_FinalVersion.ppt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rcot.com/services/programs/load/index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064600"/>
            <a:ext cx="7848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MS Updat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Side Working Gro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58520" y="5601240"/>
            <a:ext cx="17629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        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Mary Anne Brelin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Eagle Energy Partn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48520" y="5342040"/>
            <a:ext cx="1508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13085" t="21876" r="12461" b="15626"/>
          <a:stretch/>
        </p:blipFill>
        <p:spPr>
          <a:xfrm>
            <a:off x="61920" y="108000"/>
            <a:ext cx="8800920" cy="589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AC85-CEF0-4B5E-9B5E-99125430E7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13706" t="21093" r="13215" b="15626"/>
          <a:stretch/>
        </p:blipFill>
        <p:spPr>
          <a:xfrm>
            <a:off x="100080" y="101520"/>
            <a:ext cx="8800920" cy="607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0475-AB82-41AB-A7E6-F25F4FC690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3706" t="21876" r="13215" b="15626"/>
          <a:stretch/>
        </p:blipFill>
        <p:spPr>
          <a:xfrm>
            <a:off x="100080" y="84240"/>
            <a:ext cx="8800920" cy="600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7AD7-EF20-4670-A858-465C4F101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iority Pricing and Long Term BU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7889" t="17188" r="11166" b="15626"/>
          <a:stretch/>
        </p:blipFill>
        <p:spPr>
          <a:xfrm>
            <a:off x="212760" y="1665360"/>
            <a:ext cx="4421160" cy="388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710240" y="1074600"/>
            <a:ext cx="41148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ed on the ERCOT web site under DSWG June meeting as:           </a:t>
            </a:r>
            <a:r>
              <a:rPr b="0" lang="en-US" sz="1400" spc="-1" strike="noStrike" u="sng">
                <a:solidFill>
                  <a:srgbClr val="676767"/>
                </a:solidFill>
                <a:uFillTx/>
                <a:latin typeface="Arial"/>
                <a:hlinkClick r:id="rId2"/>
              </a:rPr>
              <a:t>Priority Pricing DSWG Jun8 2007 FinalVers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 was designed by Jay and Dr. Oren and was presented at DSWG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 centers around increasing load response to wholesale prices which promotes economic efficiency,  reduces price spikes, and constrains the market power of gene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UL program is theoretically attractive, but hasn’t proven popular and will be terminated with Nodal; proposed program could provide a substitute for the B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proposed program could complement the EILS program or  provide an alternative to EI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al task force created to further develop idea and present at LTS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B33C-CE92-4A53-9562-3F4DF77AA3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155680"/>
            <a:ext cx="70977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xt DSWG Meeting is Scheduled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iday August 10th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2C5E-60F6-4999-8B4B-40640E1A2B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mand Side Working Group Agend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1777" t="30618" r="16511" b="60157"/>
          <a:stretch/>
        </p:blipFill>
        <p:spPr>
          <a:xfrm>
            <a:off x="442800" y="969840"/>
            <a:ext cx="6629400" cy="94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4127" t="8353" r="8294" b="10116"/>
          <a:stretch/>
        </p:blipFill>
        <p:spPr>
          <a:xfrm>
            <a:off x="519120" y="1913040"/>
            <a:ext cx="5867280" cy="451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7194-3423-4E9B-9CB9-30CCC5092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07 DSWG Goal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2000" y="1074600"/>
            <a:ext cx="8586720" cy="517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2641-DA0C-46E2-A105-BD74F3CDCF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ad Participation in the Nodal Marke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698" t="14485" r="23325" b="5794"/>
          <a:stretch/>
        </p:blipFill>
        <p:spPr>
          <a:xfrm>
            <a:off x="214200" y="1074600"/>
            <a:ext cx="379440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4633920" y="1303200"/>
            <a:ext cx="4191120" cy="34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llows same format as existing “Load Participation in ERCOT” document (aka the “Load for Dummies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ed on the ERCOT web site at:           Services    Programs     Load Participation    Under Key Documents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676767"/>
                </a:solidFill>
                <a:uFillTx/>
                <a:latin typeface="Arial"/>
                <a:hlinkClick r:id="rId2"/>
              </a:rPr>
              <a:t>http://www.ercot.com/services/programs/load/inde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ion N1.0 is the first version of this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nts can be forwarded to myself, Floyd Trefny, Paul Wattles, or Steve Kr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0320" y="2579760"/>
            <a:ext cx="152280" cy="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7640" y="2579760"/>
            <a:ext cx="152280" cy="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20120" y="2579760"/>
            <a:ext cx="152280" cy="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rcRect l="31039" t="80778" r="19534" b="0"/>
          <a:stretch/>
        </p:blipFill>
        <p:spPr>
          <a:xfrm>
            <a:off x="3567240" y="4826160"/>
            <a:ext cx="5105160" cy="1582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976480" y="499896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846B-D23F-44E5-BD45-66AA573C3B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t Pricing Updat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ith Advisories Remove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2473" t="20396" r="11502" b="7730"/>
          <a:stretch/>
        </p:blipFill>
        <p:spPr>
          <a:xfrm>
            <a:off x="822240" y="998640"/>
            <a:ext cx="7240680" cy="5457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9050-DE68-487C-A27A-FE7A7102F6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3828" r="6421" b="12020"/>
          <a:stretch/>
        </p:blipFill>
        <p:spPr>
          <a:xfrm>
            <a:off x="98280" y="154080"/>
            <a:ext cx="8802720" cy="6330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80160" y="922320"/>
            <a:ext cx="21038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With Advi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C77D-DD73-4F01-86A6-189BD4C6AF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13762" t="22079" r="13397" b="15121"/>
          <a:stretch/>
        </p:blipFill>
        <p:spPr>
          <a:xfrm>
            <a:off x="76320" y="112680"/>
            <a:ext cx="8824680" cy="606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57400" y="922320"/>
            <a:ext cx="18921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No Advis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5013-72B8-47A8-B937-B003E2E30E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3592" t="21876" r="13645" b="15626"/>
          <a:stretch/>
        </p:blipFill>
        <p:spPr>
          <a:xfrm>
            <a:off x="87480" y="160200"/>
            <a:ext cx="8804160" cy="603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768C-92B1-429C-BFF5-24F2B7EA0D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13592" t="21093" r="14745" b="15626"/>
          <a:stretch/>
        </p:blipFill>
        <p:spPr>
          <a:xfrm>
            <a:off x="90360" y="112680"/>
            <a:ext cx="876456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A378-3A40-4E9B-9DBF-B4ABF73B37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anne.brelinsky</cp:lastModifiedBy>
  <dcterms:modified xsi:type="dcterms:W3CDTF">2007-06-19T20:34:49Z</dcterms:modified>
  <cp:revision>64</cp:revision>
  <dc:subject/>
  <dc:title>DSWG Update to WMS</dc:title>
</cp:coreProperties>
</file>