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8A92-1786-4F3E-85ED-E1A87FB8F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F9FB-A8D9-49B3-AD7D-DB3B9BD45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9816-E84E-4F10-AC44-39C28411E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B925-24DC-46D1-8740-AFD42A976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DC33-0244-47EA-833F-B57F25FB9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6B62-F2D1-4838-9011-BDFD956EF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C5B7-BB63-4171-9F99-E98D8E41B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4472-8BA9-4D42-A441-DE004055D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B3BC-0CE9-4DD3-B484-935A5354A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FAB2-5B68-471D-A81B-2BC6F139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B9CD-4EC5-45A0-B6E7-42C5B70E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27A7-CDF9-4E65-A799-A79E6B98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9437-866E-41DA-88B0-A0A3610A24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1066680"/>
            <a:ext cx="87631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C for Uncontrollable Resourc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R 42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15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5880" y="5867280"/>
            <a:ext cx="2590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o Gonzale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ad, Settlements and Bil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BL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E277-FBE0-45E9-AA69-7881DAEB786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bjective of PRR 42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 an Uncontrollable Renewable Resource (URR) to elect to use its Renewable Production Potential (RPP) in lieu of its Resource Plan as the basis for URC and OOME down payments -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art 1 (manu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 cost of regulation based on Energy Ratio Share –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art 2 (system chan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s uncontrollable renewable gener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istory of PRR 42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ved on 02/17/200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ed on March 1, 2004 –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art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did not implement -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art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priority 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 Cart cancelled the project -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ar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informed PRS and COPS about the cancel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RC for Wind-Only QSEs that DID NOT submit RPP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04800" y="1219320"/>
            <a:ext cx="8107560" cy="5381640"/>
            <a:chOff x="604800" y="1219320"/>
            <a:chExt cx="8107560" cy="5381640"/>
          </a:xfrm>
        </p:grpSpPr>
        <p:graphicFrame>
          <p:nvGraphicFramePr>
            <p:cNvPr id="50" name=""/>
            <p:cNvGraphicFramePr/>
            <p:nvPr/>
          </p:nvGraphicFramePr>
          <p:xfrm>
            <a:off x="604800" y="1219320"/>
            <a:ext cx="8107560" cy="5381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4800" y="1219320"/>
                      <a:ext cx="8107560" cy="538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" name=""/>
            <p:cNvSpPr/>
            <p:nvPr/>
          </p:nvSpPr>
          <p:spPr>
            <a:xfrm>
              <a:off x="2057400" y="2895480"/>
              <a:ext cx="1905120" cy="27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dian=$9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209680" y="3124080"/>
            <a:ext cx="4343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RC for Wind-Only QSEs that submitted RPP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04800" y="1219320"/>
            <a:ext cx="8107560" cy="5381640"/>
            <a:chOff x="604800" y="1219320"/>
            <a:chExt cx="8107560" cy="5381640"/>
          </a:xfrm>
        </p:grpSpPr>
        <p:graphicFrame>
          <p:nvGraphicFramePr>
            <p:cNvPr id="56" name=""/>
            <p:cNvGraphicFramePr/>
            <p:nvPr/>
          </p:nvGraphicFramePr>
          <p:xfrm>
            <a:off x="604800" y="1219320"/>
            <a:ext cx="8107560" cy="5381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4800" y="1219320"/>
                      <a:ext cx="8107560" cy="538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8" name=""/>
            <p:cNvSpPr/>
            <p:nvPr/>
          </p:nvSpPr>
          <p:spPr>
            <a:xfrm>
              <a:off x="1981080" y="4648320"/>
              <a:ext cx="457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57400" y="4419720"/>
              <a:ext cx="190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dian=$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ost to Process RP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ual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to process RPP data=$4000/mon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not include opportunity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RCOT’s Propo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ERCOT the option to not process RP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ERCOT does not process RPPs, then no URC will be levied on the Q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newable-Only QSEs need to submit RPPs to qualify under this propos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SEs are required to submit accurate RPP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may at anytime audit the QSE rec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20:39:20Z</dcterms:created>
  <dc:creator>ERCOT Employee</dc:creator>
  <dc:description/>
  <dc:language>en-US</dc:language>
  <cp:lastModifiedBy>Nieves</cp:lastModifiedBy>
  <dcterms:modified xsi:type="dcterms:W3CDTF">2007-05-25T20:54:47Z</dcterms:modified>
  <cp:revision>11</cp:revision>
  <dc:subject/>
  <dc:title>Slide 1</dc:title>
</cp:coreProperties>
</file>