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AD5-DB13-41AC-8EBE-25ECA472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FD7-0130-4FE7-ACE0-D03004D1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3D8-F375-474A-8734-4FC03CC8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015-A1AE-45F7-85B7-16299833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8E5-9383-4FCC-9B5F-3218570E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0AD-8189-453B-8F11-0AFFB45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2C5B-3597-4CAC-908E-296026F1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B102-4145-4666-BA4F-0E442448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13C9-46E6-4B39-8640-566406BB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24C1-AC8D-4142-8F50-46E3F7AE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31FD-F671-4BC5-9106-2A72155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54D-BAF8-481E-88A8-EAE4AFC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C8E9-EC0E-4C3B-846C-35B5EE2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65C9-9104-4368-B545-B34374B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FEC2-3B5A-477A-90C9-E98A9260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068E-0FC8-487D-B428-5C9C4633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D18A-F711-4FEC-B395-9EA0FDB0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930-F318-4381-87C7-C4BA42B4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B1A-0B19-41CF-AE26-198C9B39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7BE-E604-4AFF-964A-18B4A25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4B3-114D-45F0-99C8-399B14AA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ECB-E6DC-48D7-A218-8E5809E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3E8-D499-4F95-B942-B363D94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E00-621E-4320-AB74-647A8B8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529C-8DFC-4B3C-B18A-39C3FF7DE7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F048-C6F1-482D-BA4C-8E2B0D49F3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e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AA2-29CA-445B-95CE-12F180FF36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draft of Texas RE Budget and Business Plan submitted to NERC on May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Texas RE Budget Meeting held on May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draft of Texas RE Budget and final Business Plan submitted to NERC on Jun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Board approval anticipated on Jun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 draft of Texas RE Budget to be submitted to NERC by no later than July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Board approval expected on Augus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RC and Regional Entity budgets to be filed with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265-9C1D-41D2-BE35-3DB1F8AABA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equate staffing needed to comply with FERC mandates and NERC requirements, including ERO Rules of Proced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cess driven – very structur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udits, investigations, and analys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acking, reporting, and document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creasing number of FERC approved reliability standar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onetary penalties and non-monetary sa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peals of violations and penalties/sanc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maintain clear independence from all owners, operators and users of the bulk power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compliance monitoring of reliability-based ERCOT Protocols and Operating Guides as a separate and parallel process to the NERC Program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A80-3B33-4610-8FEB-B14FF47DA4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008 Texas RE Budget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8 proposed budget 23% less than 2007 - $5,514,219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$4,233,8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itional staffing requested to keep pace with anticipated work load and regulatory 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itions filled only when/if need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ed 2007 spending ~$2,134,000 under budg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iginal schedule was for mandatory standards compliance to begin January 1, 2007 – all positions were fully fun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tion in capital project expenditu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spent 2007 budget will be applied to the 2008 bud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nalty money collected applied to subsequent years’ 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ISO applied to ERO Bud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other Registered Entities’ applied to Texas R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567160" y="6086520"/>
            <a:ext cx="455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E82-8AA9-4607-9230-20F8A70827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pliance Monitoring &amp; Enforc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Protocols &amp; Operating Gui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Monitors compliance and issue violation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CT – Compliance enforcement (penalties/sanc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RC &amp; Regional Reliability Standar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Monitors compliance and issue violation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– Compliance enforcement (sanctions/penalti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RCOT I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of 166 Registered Entities in ERC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4/7 Reliability Coordinator Function – responsible for the real-time operating reliability of the ERCOT Reg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exas 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s compliance and non-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s non-compliance in a timely, meaningful man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monitor compliance in real-tim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U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as RE Hearing Body for appeals of NERC and Regional Reliability Standards violations and penalties/sa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803-75A1-4F23-9FA8-E6346254A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9132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1219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838080"/>
            <a:ext cx="18288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200400"/>
            <a:ext cx="190476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27672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7760" y="3046320"/>
            <a:ext cx="1830240" cy="113976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00600"/>
            <a:ext cx="1981080" cy="106668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6019920"/>
            <a:ext cx="25905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1219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2438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666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400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867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5334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572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6095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609588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reports to PU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5029200"/>
            <a:ext cx="1523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1814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09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18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iol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267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352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 Delegat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3276720"/>
            <a:ext cx="13716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3429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3526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SO owes pena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004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penalty to the ERCOT ISO &amp; reports to NE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2057400"/>
            <a:ext cx="1523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209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838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issues violation notice &amp; reports to P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371600"/>
            <a:ext cx="3353040" cy="1293840"/>
          </a:xfrm>
          <a:prstGeom prst="flowChartDecision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RC Standards violation by the ERCOT I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685800"/>
            <a:ext cx="2057400" cy="1082520"/>
          </a:xfrm>
          <a:prstGeom prst="flowChartDecision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752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838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914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066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iol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04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RC Standards Violation- Delegated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E58-9B12-426A-9AE5-B0B54F50B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performanc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7:  126.92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pril 2006:  143.31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y 2006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pril 2007:  138.23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ay 2005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April 2006:  129.90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April indicate 32 QSEs passed / 2 non-wind-only QSEs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F5E-25B6-464C-9C7D-BC03292DC1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Performance Comparis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A10-9735-4BDE-8A0B-20022B5E98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’s CPS1 Monthly Tren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35B-7052-4146-A1D0-0AF195923A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6D5-6F09-43C9-ACC5-38856E04EB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672-8FE7-4C56-9AE3-DE4DF5C266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ril 2007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B93-A668-4777-8FE0-38A7A52C43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DBB-4AF5-4F3E-878C-C5219274CE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RO / RE 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ity Regi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inues to be a work-in-prog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Compliance Staff working with entities to resolve conc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entity can challenge its listing and function with NER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2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eals heard by the NERC Board Compliance Committee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Regional Entity Delegation Agre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Board approved Texas RE Delegation Agreement on May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ed Texas RE Delegation Agreement re-filed at FERC on May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RC directives must be addressed and modifications filed within 180 days of the date of the order (mid-Octobe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RC Reliability Standar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datory compliance began on Jun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gional Entities to focus on most serious Reliability Standard violations until January 1,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Byla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Board approved changes to the ERCOT Bylaws incorporating the Texas RE on May 1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Membership vote in mid to late Ju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F7E-44EE-4B55-9DE8-6494BC365F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05-25T20:47:32Z</dcterms:modified>
  <cp:revision>582</cp:revision>
  <dc:subject/>
  <dc:title>PRR 525 Compliance Analysis</dc:title>
</cp:coreProperties>
</file>