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1D6-0FD4-46D4-8F8F-F59BDF25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470-1DE2-4F00-A5E0-0E5EEA84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23D-7BD8-49AC-B55C-3E659A59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D3E-B464-4E9D-8F63-5A4CF286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4CC-AA86-4C77-97FE-04A3FA4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952-8DD3-47DB-BAF6-9E7DF18F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09C-F2E3-454A-A0E2-0A37DA32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F2D-8798-45B1-AADF-2573CB4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262-0FDA-4F44-912E-B814C86E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8D2-E76C-423A-B45D-BEDB374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174-4BEF-4898-B8E1-3A0B111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D16-2448-4852-9101-3CCD392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5A55-7B82-42B0-B0B5-BCB33CA7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14,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96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8120" y="0"/>
            <a:ext cx="2971800" cy="1557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requency Control Performance to NERC CPS1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CPS1 by Interval May 125.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COT CPS1 by Day- May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9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27200"/>
          <a:ext cx="9144000" cy="54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27200"/>
                    <a:ext cx="914400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92240"/>
          <a:ext cx="9144000" cy="64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240"/>
                    <a:ext cx="914400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38680" y="457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6868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June 12 and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continues to collaborate with ERCOT Operations to tune/improve the ERCOT frequency contro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0530 to 06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explore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July 10 and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7-06-11T14:48:01Z</dcterms:modified>
  <cp:revision>13</cp:revision>
  <dc:subject/>
  <dc:title>ROS Report</dc:title>
</cp:coreProperties>
</file>