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384-EF9F-426F-908D-DB725243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B26-B6D1-4C50-A63F-63DC2D76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D9C-7B25-450E-90AA-EE29D667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839-86AD-41DC-AE6C-52C8FAAF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DD7B-7646-4359-B72E-D68B31EC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BE28-DE55-401A-A12F-308B1981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68E9-9B35-48D4-BFAB-2747D8A8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84CA-5EEB-45BD-925E-5D924533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A11F-4348-494D-9925-60C28C61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39D2-861C-43C8-95F2-86A19CCD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2654-FA41-4858-B2E1-AF7FB0A7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EE9-40B5-4706-B7EF-0A0BA2A2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2B13-6086-469D-AA57-E04C4E54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5F7B-F4FD-4619-95EA-F8B3FE34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0FBE-FFBB-47AA-BDA2-3CE56DE4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FB6B-0574-40AA-90F5-6ABCF9C0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8019-ACBF-471F-933D-D3989698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433-DCD8-428C-B7FA-24570F15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C8C-7490-4944-8D41-CB13B495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973-E75C-4487-AA4B-F15B6DFB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C1E-930E-43CA-97C6-3469E6F3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790-B9E3-4FD6-A321-61163D95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11A-8EEC-40B5-A3F8-BD87D71B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18E-1C2A-44AB-9FA9-7EE71F9F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6600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C6ED-3ED2-43CA-A322-FF3F3260A3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17C3-DF36-43FF-9333-F19A5C8806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6600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ffects of Wind on Frequency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 June 13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mining Offset for Wind S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57200" y="1523880"/>
            <a:ext cx="8153280" cy="4606920"/>
          </a:xfrm>
          <a:prstGeom prst="rect">
            <a:avLst/>
          </a:prstGeom>
          <a:ln w="25560">
            <a:solidFill>
              <a:srgbClr val="669999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074240" y="617076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itive SCE indicates actual wind output exceeds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SCE indicates actual wind output is less than sched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61E-B64E-4581-B8EA-2F535A3B7D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the relationship between Frequency and Real Power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interconnect - approximately 500 – 600 MW loss of generation results in 0.1Hz drop in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tern interconnect - approximately 3000 MW loss of generation results in 0.1Hz drop in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dden changes in generation and/or load will result in frequency devi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3A0-38F9-440B-AD14-AD565B78F8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quency During High Wind Output (0500-0600 March 25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4920" y="1477800"/>
            <a:ext cx="838188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621-955B-4020-BCED-946D0DEE26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in Wind and Load vs. Frequency (0500-0600 March 25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8382240" cy="48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631-114F-4F66-9BFD-3709C62A8F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quency During High Wind Output (0200-0300 May 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8686800" cy="498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783-2885-49B6-B905-2BFE07BBFB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in Wind and Load vs. Frequency (0200-0300 May 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22960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D5F-9220-41B9-A8A4-F875E642FF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equency During Large Wind Drop-Off (0900-1200 Feb. 2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2280" y="1389240"/>
            <a:ext cx="8458200" cy="48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6D8-43B5-4F84-9AD4-2C63EEAE2D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ange in Wind and Load vs. Frequency (1100-1200 Feb. 24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373960" cy="489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B34-768E-4B57-89E2-7A2FB7977F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ail consultant study on the affects  of wind on A/S requirements may change these initial 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Wind Generation Output is considered in the manual offset for Balancing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inute to minute change in  Wind Generation Output, at current installed wind capacity, doesn’t appear to have a significant impact on Freq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inute to minute change in Load Output has a significant impact on Freq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 can have a significant impact on Responsive Reserve during disturbance type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D4D-03AE-4012-A021-C8280E04AC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view the ERCOT CPS1 scor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scribe the Wind Only QSEs affect on the Balancing Energy Offs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scribe the Wind Generation  affect on Freque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F27-FB1D-4BE7-AAF9-287263C795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t Cover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of severe wind gusts and trips due to over-spe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of sudden loss of wind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ictability of wind generation and the affects on reser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acts to the Grid with increasing levels of wind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A7A-5166-4793-B253-0E5A4A842D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quency Performance Meas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12680" y="2470320"/>
            <a:ext cx="7118640" cy="1922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71600" y="4495680"/>
            <a:ext cx="6362640" cy="1522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1360" y="1447920"/>
            <a:ext cx="85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S1 simply means: A violation occurs when the 1 minute average of frequency deviation in ERCOT exceeds +/- 0.03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146-FE6C-4B32-BC08-2F021124CE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PS1 Score Historical Tre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523880"/>
          <a:ext cx="8229600" cy="46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9600" cy="4602240"/>
                  </a:xfrm>
                  <a:prstGeom prst="rect">
                    <a:avLst/>
                  </a:prstGeom>
                  <a:ln w="25560">
                    <a:solidFill>
                      <a:srgbClr val="6699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A0D-37E5-44A0-A71C-BB29469152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RCOT CPS1 Scores by Interva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25560">
            <a:solidFill>
              <a:srgbClr val="669999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684-52B5-445D-9224-989A2E8D87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ind Capacity in the ERCOT Syste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6250" t="4478" r="2498" b="0"/>
          <a:stretch/>
        </p:blipFill>
        <p:spPr>
          <a:xfrm>
            <a:off x="1752480" y="1447920"/>
            <a:ext cx="5791320" cy="5076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14040" y="5257800"/>
            <a:ext cx="349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Installed Wind Capacit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48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dditional 1928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(5076 MW Total) by 1/1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3886200"/>
            <a:ext cx="380880" cy="3808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3505320"/>
            <a:ext cx="228600" cy="2286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3352680"/>
            <a:ext cx="533520" cy="53352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3733920"/>
            <a:ext cx="15228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3200400"/>
            <a:ext cx="228600" cy="2286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52120" y="2297160"/>
            <a:ext cx="94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28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80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81560" y="4724280"/>
            <a:ext cx="843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6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62440" y="2209680"/>
            <a:ext cx="94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4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402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62440" y="2895480"/>
            <a:ext cx="94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16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84120" y="4114800"/>
            <a:ext cx="755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5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7" idx="1"/>
            <a:endCxn id="174" idx="6"/>
          </p:cNvCxnSpPr>
          <p:nvPr/>
        </p:nvCxnSpPr>
        <p:spPr>
          <a:xfrm flipH="1">
            <a:off x="4800240" y="2560320"/>
            <a:ext cx="2347200" cy="105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8" idx="0"/>
            <a:endCxn id="172" idx="3"/>
          </p:cNvCxnSpPr>
          <p:nvPr/>
        </p:nvCxnSpPr>
        <p:spPr>
          <a:xfrm flipV="1">
            <a:off x="2103480" y="4211280"/>
            <a:ext cx="145800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3"/>
            <a:endCxn id="175" idx="3"/>
          </p:cNvCxnSpPr>
          <p:nvPr/>
        </p:nvCxnSpPr>
        <p:spPr>
          <a:xfrm flipV="1">
            <a:off x="2039760" y="3863520"/>
            <a:ext cx="7264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9" idx="3"/>
            <a:endCxn id="176" idx="1"/>
          </p:cNvCxnSpPr>
          <p:nvPr/>
        </p:nvCxnSpPr>
        <p:spPr>
          <a:xfrm>
            <a:off x="3014280" y="2472840"/>
            <a:ext cx="105804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0" idx="3"/>
            <a:endCxn id="173" idx="1"/>
          </p:cNvCxnSpPr>
          <p:nvPr/>
        </p:nvCxnSpPr>
        <p:spPr>
          <a:xfrm>
            <a:off x="3014640" y="3159000"/>
            <a:ext cx="9057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4572000" y="3048120"/>
            <a:ext cx="228600" cy="22860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32480" y="1763640"/>
            <a:ext cx="1006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+20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8" idx="2"/>
            <a:endCxn id="187" idx="7"/>
          </p:cNvCxnSpPr>
          <p:nvPr/>
        </p:nvCxnSpPr>
        <p:spPr>
          <a:xfrm flipH="1">
            <a:off x="4766400" y="2290680"/>
            <a:ext cx="36900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14720" y="1523880"/>
            <a:ext cx="843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186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91" idx="3"/>
            <a:endCxn id="190" idx="1"/>
          </p:cNvCxnSpPr>
          <p:nvPr/>
        </p:nvCxnSpPr>
        <p:spPr>
          <a:xfrm>
            <a:off x="3063960" y="1681200"/>
            <a:ext cx="1008720" cy="8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5181480" y="2895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80520" y="1611360"/>
            <a:ext cx="843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12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4" idx="2"/>
            <a:endCxn id="193" idx="7"/>
          </p:cNvCxnSpPr>
          <p:nvPr/>
        </p:nvCxnSpPr>
        <p:spPr>
          <a:xfrm flipH="1">
            <a:off x="5376240" y="1925280"/>
            <a:ext cx="82620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334120" y="342900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96920" y="3200400"/>
            <a:ext cx="74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60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7" idx="1"/>
            <a:endCxn id="196" idx="6"/>
          </p:cNvCxnSpPr>
          <p:nvPr/>
        </p:nvCxnSpPr>
        <p:spPr>
          <a:xfrm flipH="1">
            <a:off x="5486040" y="3357720"/>
            <a:ext cx="190584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463-AEA7-496E-AD40-1CB47EE56C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COT Monthly Profi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7995960" cy="4573800"/>
          </a:xfrm>
          <a:prstGeom prst="rect">
            <a:avLst/>
          </a:prstGeom>
          <a:ln w="25560">
            <a:solidFill>
              <a:srgbClr val="6699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DCE-1000-477A-A676-2D36976238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termination of the Balancing Energy Offs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lancing Energy is the difference between the Short Term Load Forecast and the sum total of the QSEs base power schedu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Plans are utilized to validate a QSE’s ability to meet their base power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manual offset is utilized when there are known issues with the base power schedules and/or generating re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alancing Energy Ramp begins 5 minutes before the start of the interval and ends 5 minutes after the start of the int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alancing Energy Deployment objective is to maintain Regulation Up and Down Reserve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049-9AD8-42F6-B64A-6F0AD2A06D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8:12:44Z</dcterms:created>
  <dc:creator>dmaggio</dc:creator>
  <dc:description/>
  <dc:language>en-US</dc:language>
  <cp:lastModifiedBy>balbracht</cp:lastModifiedBy>
  <dcterms:modified xsi:type="dcterms:W3CDTF">2007-06-08T14:06:11Z</dcterms:modified>
  <cp:revision>36</cp:revision>
  <dc:subject/>
  <dc:title>Slide 1</dc:title>
</cp:coreProperties>
</file>