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502-A7F4-4CD4-9F42-0FD5D64C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62C-AC69-486C-A96D-3DB8F39F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E72-BE06-49BD-AF7C-4619417B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3DD-7E0D-4334-BFC3-F6972B2D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C452-8141-461A-8770-56E22FEC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3003-3CA7-4052-B08E-6C318927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BEC7-DC5C-4616-B063-48CFAD76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4116-AFC3-43A9-A01C-650F8AF9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476D-F0E9-4276-AA33-70F19DCB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FAD8-8EB4-4269-956D-09CF6999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8E91-382F-4E0B-9FD2-A24B983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6C7-6622-4E5D-B17E-0A7EBE6D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DA59-CF90-43EA-B42B-FACADCAB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D60A-270B-4CD7-A687-140FED7C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7174-4DF4-4C9D-AAA2-AAF76971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A029-94BB-44FB-AE88-6E288954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E636-0AE4-4E70-89E8-1055D61C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92B-4374-4CFB-836D-FA9929B2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3A8-C3CF-4E0D-9216-D58A6F0C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C4C-21F3-4111-A33E-6564AD2F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F84-630A-40D8-AAB1-A809F5CE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D58-3986-452A-A881-6EC40B79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3B3-F634-4C2A-9AF5-C2D3CD6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11B-7F34-42B4-8D73-0476F90A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66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771E-7CA5-4290-9CF0-FE8B1F3CED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FD41-2AE7-47B3-943D-81E7D86D8D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6600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ffects of Wind on Frequency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 June 13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mining Offset for Wind S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57200" y="1523880"/>
            <a:ext cx="8153280" cy="4606920"/>
          </a:xfrm>
          <a:prstGeom prst="rect">
            <a:avLst/>
          </a:prstGeom>
          <a:ln w="25560">
            <a:solidFill>
              <a:srgbClr val="669999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074240" y="617076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itive SCE indicates actual wind output exceeds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SCE indicates actual wind output is less than sched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51B-5E05-4F57-877E-A44232CC9F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the relationship between Frequency and Real Power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interconnect - approximately 500 – 600 MW loss of generation results in 0.1Hz drop in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tern interconnect - approximately 3000 MW loss of generation results in 0.1Hz drop in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dden changes in generation and/or load will result in frequency devi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9DA-3B44-4FFF-AC85-371B50BCD6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quency During High Wind Output (0500-0600 March 25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4920" y="1477800"/>
            <a:ext cx="838188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145-A381-43BB-84E1-72C612171A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in Wind and Load vs. Frequency (0500-0600 March 25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8382240" cy="48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5FA-C2CA-42AB-8F8E-FE239C4D4C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quency During High Wind Output (0200-0300 May 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8686800" cy="498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544-7924-440D-9584-141E4FE138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in Wind and Load vs. Frequency (0200-0300 May 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22960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FF6-7826-451B-81B0-31D203761D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quency During Large Wind Drop-Off (0900-1200 Feb. 2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2280" y="1389240"/>
            <a:ext cx="8458200" cy="48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376-B6EA-4BAA-AC78-7D4CE97BF7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in Wind and Load vs. Frequency (1100-1200 Feb. 2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373960" cy="489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633-E754-4F0A-BD07-73F0E73052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ail consultant study on the affects  of wind on A/S requirements may change these initial 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Wind Generation Output is considered in the manual offset for Balancing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inute to minute change in  Wind Generation Output, at current installed wind capacity, doesn’t appear to have a significant impact on Freq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inute to minute change in Load Output has a significant impact on Freq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 can have a significant impact on Responsive Reserve during disturbance type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B71-3A14-4F3F-8216-2DBD19DC27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view the ERCOT CPS1 scor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scribe the Wind Only QSEs affect on the Balancing Energy Offs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scribe the Wind Generation  affect on Freque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5FD-46FB-42DC-9070-96E881B372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t Cover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of severe wind gusts and trips due to over-spe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of sudden loss of wind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ictability of wind generation and the affects on reser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acts to the Grid with increasing levels of wind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226-8795-4199-B147-949357EE2D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quency Performance Meas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12680" y="2470320"/>
            <a:ext cx="7118640" cy="1922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71600" y="4495680"/>
            <a:ext cx="6362640" cy="1522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1360" y="1447920"/>
            <a:ext cx="85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S1 simply means: A violation occurs when the 1 minute average of frequency deviation in ERCOT exceeds +/- 0.03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410-2163-4E69-BFED-824DD1A07E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PS1 Score Historical Tre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523880"/>
          <a:ext cx="8229600" cy="46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9600" cy="4602240"/>
                  </a:xfrm>
                  <a:prstGeom prst="rect">
                    <a:avLst/>
                  </a:prstGeom>
                  <a:ln w="25560">
                    <a:solidFill>
                      <a:srgbClr val="6699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4EA-3DF4-4199-837E-54C6C85249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RCOT CPS1 Scores by Interva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25560">
            <a:solidFill>
              <a:srgbClr val="669999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7AA-C230-4276-B798-03FF9D9AEF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ind Capacity in the ERCOT Syste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6250" t="4478" r="2498" b="0"/>
          <a:stretch/>
        </p:blipFill>
        <p:spPr>
          <a:xfrm>
            <a:off x="1752480" y="1447920"/>
            <a:ext cx="5791320" cy="5076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14040" y="5257800"/>
            <a:ext cx="349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Installed Wind Capac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48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dditional 1928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(5076 MW Total) by 1/1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3886200"/>
            <a:ext cx="380880" cy="3808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3505320"/>
            <a:ext cx="228600" cy="2286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3352680"/>
            <a:ext cx="533520" cy="53352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3733920"/>
            <a:ext cx="15228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3200400"/>
            <a:ext cx="228600" cy="2286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52120" y="2297160"/>
            <a:ext cx="94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28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80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81560" y="4724280"/>
            <a:ext cx="843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6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62440" y="2209680"/>
            <a:ext cx="94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4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402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62440" y="2895480"/>
            <a:ext cx="94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16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84120" y="4114800"/>
            <a:ext cx="755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7" idx="1"/>
            <a:endCxn id="174" idx="6"/>
          </p:cNvCxnSpPr>
          <p:nvPr/>
        </p:nvCxnSpPr>
        <p:spPr>
          <a:xfrm flipH="1">
            <a:off x="4800240" y="2560320"/>
            <a:ext cx="2347200" cy="10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8" idx="0"/>
            <a:endCxn id="172" idx="3"/>
          </p:cNvCxnSpPr>
          <p:nvPr/>
        </p:nvCxnSpPr>
        <p:spPr>
          <a:xfrm flipV="1">
            <a:off x="2103480" y="4211280"/>
            <a:ext cx="145800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3"/>
            <a:endCxn id="175" idx="3"/>
          </p:cNvCxnSpPr>
          <p:nvPr/>
        </p:nvCxnSpPr>
        <p:spPr>
          <a:xfrm flipV="1">
            <a:off x="2039760" y="3863520"/>
            <a:ext cx="7264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9" idx="3"/>
            <a:endCxn id="176" idx="1"/>
          </p:cNvCxnSpPr>
          <p:nvPr/>
        </p:nvCxnSpPr>
        <p:spPr>
          <a:xfrm>
            <a:off x="3014280" y="2472840"/>
            <a:ext cx="105804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0" idx="3"/>
            <a:endCxn id="173" idx="1"/>
          </p:cNvCxnSpPr>
          <p:nvPr/>
        </p:nvCxnSpPr>
        <p:spPr>
          <a:xfrm>
            <a:off x="3014640" y="3159000"/>
            <a:ext cx="9057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4572000" y="3048120"/>
            <a:ext cx="228600" cy="2286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32480" y="1763640"/>
            <a:ext cx="1006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20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8" idx="2"/>
            <a:endCxn id="187" idx="7"/>
          </p:cNvCxnSpPr>
          <p:nvPr/>
        </p:nvCxnSpPr>
        <p:spPr>
          <a:xfrm flipH="1">
            <a:off x="4766400" y="2290680"/>
            <a:ext cx="36900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14720" y="1523880"/>
            <a:ext cx="843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186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91" idx="3"/>
            <a:endCxn id="190" idx="1"/>
          </p:cNvCxnSpPr>
          <p:nvPr/>
        </p:nvCxnSpPr>
        <p:spPr>
          <a:xfrm>
            <a:off x="3063960" y="1681200"/>
            <a:ext cx="1008720" cy="8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5181480" y="2895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80520" y="1611360"/>
            <a:ext cx="843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12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4" idx="2"/>
            <a:endCxn id="193" idx="7"/>
          </p:cNvCxnSpPr>
          <p:nvPr/>
        </p:nvCxnSpPr>
        <p:spPr>
          <a:xfrm flipH="1">
            <a:off x="5376240" y="1925280"/>
            <a:ext cx="82620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334120" y="342900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200400"/>
            <a:ext cx="74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6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7" idx="1"/>
            <a:endCxn id="196" idx="6"/>
          </p:cNvCxnSpPr>
          <p:nvPr/>
        </p:nvCxnSpPr>
        <p:spPr>
          <a:xfrm flipH="1">
            <a:off x="5486040" y="3357720"/>
            <a:ext cx="190584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E1D-D067-4BBD-9299-A2AF6867BD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COT Monthly Profi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7995960" cy="4573800"/>
          </a:xfrm>
          <a:prstGeom prst="rect">
            <a:avLst/>
          </a:prstGeom>
          <a:ln w="25560">
            <a:solidFill>
              <a:srgbClr val="6699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937-A2EC-40EC-8E42-AB3EC5CDA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termination of the Balancing Energy Offs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lancing Energy is the difference between the Short Term Load Forecast and the sum total of the QSEs base power schedu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Plans are utilized to validate a QSE’s ability to meet their base power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manual offset is utilized when there are known issues with the base power schedules and/or generating re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alancing Energy Ramp begins 5 minutes before the start of the interval and ends 5 minutes after the start of the int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alancing Energy Deployment objective is to maintain Regulation Up and Down Reserve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A2B-DDD0-4E0F-B6FB-58973002EF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8:12:44Z</dcterms:created>
  <dc:creator>dmaggio</dc:creator>
  <dc:description/>
  <dc:language>en-US</dc:language>
  <cp:lastModifiedBy>balbracht</cp:lastModifiedBy>
  <dcterms:modified xsi:type="dcterms:W3CDTF">2007-06-08T14:06:11Z</dcterms:modified>
  <cp:revision>36</cp:revision>
  <dc:subject/>
  <dc:title>Slide 1</dc:title>
</cp:coreProperties>
</file>