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AF9-5B34-4AD6-96C5-0F87221C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E4F-5AD6-477C-8D20-2EB4FCC0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2BD-7AC6-4D13-86CB-4219D6C9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420-13BF-44C7-854F-6C3B1190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8D0A-2994-4098-92F8-6EAC2EE5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A0F2-B4A9-43A1-95AE-493A277B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5B50-76BA-46D1-AC68-AA74BE02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EDE2-64A4-4B71-A5C0-DFC8755B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02EA-F802-4C3D-A8C6-8564D50A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124F-3C07-4063-BF6E-7E887126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BC82-AF2F-433C-8041-029A16B0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4EB-A4B0-4327-8E1A-122218F7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AE07-4195-49A7-B3DF-FD441FEA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D65A-73C5-4765-80F2-87570D1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F2A5-8685-45B3-8F7E-C4768B09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2DCB-2780-4CF3-8863-F98C53DE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53ED-C8DA-4D0E-A7B9-A4376AA6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763-773E-45E0-BDC3-FB930E46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BE4-1EFD-4CA7-BBC3-115EAEFA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3BD-7F72-4276-991F-34F2749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1E3-536E-4A19-8249-8C8B488C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7EA-A32D-49E8-AA7A-AA1D4846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18C-4C5B-4CE6-B4B8-70B2B157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9D3-7610-4378-8783-085C096D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95680" y="0"/>
            <a:ext cx="4648320" cy="40384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4800600" cy="434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2743200"/>
            <a:ext cx="4495680" cy="4114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1066-0AAA-409F-AA2F-79412FD87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95680" y="0"/>
            <a:ext cx="4648320" cy="40384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2280"/>
            <a:ext cx="4800600" cy="434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743200"/>
            <a:ext cx="4495680" cy="4114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992A-D767-4BEF-8B53-7BBED3502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4038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0"/>
            <a:ext cx="4800600" cy="4343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2743200"/>
            <a:ext cx="4495680" cy="4114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03440"/>
          </a:xfrm>
          <a:prstGeom prst="rect">
            <a:avLst/>
          </a:prstGeom>
          <a:gradFill rotWithShape="0">
            <a:gsLst>
              <a:gs pos="0">
                <a:srgbClr val="d6e0fe">
                  <a:alpha val="59215"/>
                </a:srgbClr>
              </a:gs>
              <a:gs pos="100000">
                <a:srgbClr val="fefefe">
                  <a:alpha val="57254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 Report to T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art Nel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7,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noFill/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981080"/>
            <a:ext cx="7238880" cy="190512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Top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EECP Ev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iance Review Process 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Ancillary Services Stud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 Term Solutions Task Fo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ional Reliability Standar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will review process to setup Standards Drafting T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potential Regional Standards (“NERC fill in the blank standards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felt that the ERCOT Board should set direction for SCR procedural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dal Guide Conver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WG comment period ends June 2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GRTF will address OWG commen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dal Guides posted for comment   period in July 200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sh Nodal Guides by August 200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S approval at September 2007   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C approval at October 2007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ack Start Study – 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contracted black Start Unit has a set of physical test is it must pass over a period of 6 yea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Start-up – each time awarded the b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e energization – every three (3)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pickup – every six (6)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the next start unit or the next start unit’s largest motor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unless the next start unit chan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RCOT has an automated process to pick the contracted units with a specific set of criteria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RC Standard EOP-005-1 R7 states “Each Transmission Operator and balancing Authority shall verify the restoration procedure by actual testing or by simulation”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ack Start Study – 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No ERCOT criteria to test or simulate synchronization of multiple black start island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STF believ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 that the plan can be verified through a study syncronizing 2 island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stimate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udy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st - $180,000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 Reque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S requests that TAC support the BSTF effort by budgeting for a study in 2008 to verify the ability of ERCOT to build, stabilize and synchronize two black start island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0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20:03:46Z</dcterms:created>
  <dc:creator>sschneid</dc:creator>
  <dc:description/>
  <dc:language>en-US</dc:language>
  <cp:lastModifiedBy>LCRA Employee</cp:lastModifiedBy>
  <dcterms:modified xsi:type="dcterms:W3CDTF">2007-06-06T16:24:27Z</dcterms:modified>
  <cp:revision>62</cp:revision>
  <dc:subject/>
  <dc:title>Slide 1</dc:title>
</cp:coreProperties>
</file>