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CDE0E4C-C64A-4A61-9853-55B880C55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arrie Tucker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ursday, 06/14/2007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last update, TPTF convened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1-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accomplish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(COMS) Project – 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-Ahead Market (DAM) Ancillary Services (AS)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Make-Whole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 Process for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Transfer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Real-Time (RT)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Start Services RT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 Emergency Operations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Support RT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Incremental Energy Cost (AIEC)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Unit Commitment (RUC) Settl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Invoice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Stat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 Registration Requirements v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Readiness &amp; Transition (IRT) Project – Approval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Level Agreement for Sandbox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S 2 Approach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 and Design Authority (IDA) Project – Approval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Interface Specification (only certain marked sections were approv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Management System (EMS) Project – Approval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CP Communication Hand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– Approval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clarifying Constraint Competitiveness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synchronizing with PRR647, Gross and Net MW/Mvar Data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regarding Electrical Bus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 regarding Generic Transmission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onth, TPTF has met/will mee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1; June 12 Joint PRS/TPTF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5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to discu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ERCOT Readiness and Transition (IRT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3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 for ED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Data Warehouse (EDW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Monitoring and Complian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S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business requirements and conceptual system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Management System (EMS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Power Forecasting Conceptu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up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547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/TPTF Joint Meeting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Nodal Protocol baselines, including content of Baseline 1 and 2, value engineering and related impact analyses as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’s plan to limit Transmission Element Outages during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whitepapers regarding Combined Cycle Units and Jointly-Owned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paper regarding Dynamically Scheduled Resource Output Schedule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several NPR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Transmission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Default QSE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ED Up Ramp Rate formula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ine changes to DAM clearing start and MCFRI reallocatio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>ctucker</dc:creator>
  <dc:description/>
  <dc:language>en-US</dc:language>
  <cp:lastModifiedBy>TPTF</cp:lastModifiedBy>
  <dcterms:modified xsi:type="dcterms:W3CDTF">2007-06-12T15:00:31Z</dcterms:modified>
  <cp:revision>96</cp:revision>
  <dc:subject/>
  <dc:title>Texas Nodal</dc:title>
</cp:coreProperties>
</file>