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6B29-19F3-47C7-8CED-26EDCC013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F7FE-99EF-4A08-B286-235D04057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43C7-B4BC-4DDF-8BA7-08B1915A4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2D4E-96A1-48BE-BC66-A314508C9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074CA-B413-4C3E-99FA-7BCAFB917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81450-6BF6-4584-B5D0-7607E7681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6BECE-D28F-4912-8B1C-35A359246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B7CBB-C012-41A1-99F8-38A31C105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13F92-6D34-4011-A4C3-196A6BBCC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EAB36-A6AF-403D-A868-79D36DEEE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4ECDD-0AE4-4CA2-9ACD-5B30CF3E1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2690-3F38-4754-B163-7FFC7BAEF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FAAB5-F404-4DC3-83E7-DE2E76AC1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B8415-6218-441F-959A-FB39E1124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4CC58-4461-4CC3-A5ED-97E8D5C20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F670C-DA01-4FDF-A0A4-483F68477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1172E-78CD-4898-92C6-29A0CE345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D0F0-6AE7-4397-8C42-7CB637A84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7D2B-E481-46A0-8A2A-01AB75C77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0DE3-EA76-4767-A249-C0249717D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F7A6-D4AF-4763-859A-2D6BEE3F5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0AAD-76C4-48E3-A720-4E095771C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3CFC-3550-4139-BD03-BFC10B3B3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B46C-5B7F-4E2D-9E22-A8D648B1C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8C57C-52C4-4014-BEBA-9A1D98BEA26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D0B4F-9734-4BCD-A2B9-E18E1BADA3F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lack Start Stud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Verification Of Synchronization Abili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Justific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550"/>
              </a:spcBef>
              <a:buSzPct val="13475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1) Each contracted black Start Unit has a set of physical test is it must pass over a period of 6 yea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Basic Start-up – each time awarded the bi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Line energization – every three (3) yea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Load pickup – every six (6) yea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tart the next start unit or the next start unit’s largest motor –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once unless the next start unit changes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2) ERCOT has an automated process to pick the contracted units with a specific set of criteri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3) NERC Standard EOP-005-1 R7 states “Each Transmission Operator and balancing Authority shall verify the restoration procedure by actual testing or by simulation”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Justification cont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SzPct val="13475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4) There currently is no criteria in ERCOT for an actual or simulation test of establishing and stabilizing a black start island and the synchronization of  two or more Black Start Island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SzPct val="13475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5) The Black Start Task Force (BSTF) has pursued this from the perspective of synchronizing two islands will provide the assumption that most if not all islands can be synchronized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SzPct val="13475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6) The BSTF estimates that a ball park cost to accomplish this study will be on the order of $180,000 for a two island study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ques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SzPct val="13475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ROS requests that TAC support the BSTF effort through the 2008 ERCOT budget to verify the ability of ERCOT to build, stabilize and synchronize two Black Start Islands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1T18:10:52Z</dcterms:created>
  <dc:creator>jthormah-LCRA</dc:creator>
  <dc:description/>
  <dc:language>en-US</dc:language>
  <cp:lastModifiedBy>jthormah-LCRA</cp:lastModifiedBy>
  <dcterms:modified xsi:type="dcterms:W3CDTF">2007-06-01T18:58:48Z</dcterms:modified>
  <cp:revision>5</cp:revision>
  <dc:subject/>
  <dc:title>Black Start Study</dc:title>
</cp:coreProperties>
</file>