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BED-BA27-49BA-8D71-80E94062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93D-2179-476F-9C96-E2FAF981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EA5-ED96-44F4-80C4-255D4363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024-B735-4EE4-BB80-3FB6475C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A75-E829-469F-B956-AC54428F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005-678D-464B-8598-09F3FA38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169-ED24-43BA-81FD-24BC8D9C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13E-17F9-4F30-9272-6BA083CB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2D17-6FCC-43AD-B2F2-5CD7192C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DD5-A31D-48B3-8B53-F138998F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534-DBF0-4B4A-AB07-B6A526DD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A44-FD55-4594-99CA-47A7CD87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B649-0083-46E1-9D74-03EA2D890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14,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296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0"/>
            <a:ext cx="2971800" cy="1557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Frequency Control Performance to NERC CPS1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096480" cy="552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COT CPS1 by Interval May 125.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COT CPS1 by Day- May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029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727200"/>
          <a:ext cx="9144000" cy="54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27200"/>
                    <a:ext cx="9144000" cy="54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192240"/>
          <a:ext cx="9144000" cy="64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240"/>
                    <a:ext cx="9144000" cy="64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551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38680" y="457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.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412920"/>
            <a:ext cx="868680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met on June 12 and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 continues to collaborate with ERCOT Operations to tune/improve the ERCOT frequency control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o some high level analysis of control performance during 0530 to 06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G continues to explore potential Nodal market control performanc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is July 10 and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Bob Green</cp:lastModifiedBy>
  <dcterms:modified xsi:type="dcterms:W3CDTF">2007-06-11T14:48:01Z</dcterms:modified>
  <cp:revision>13</cp:revision>
  <dc:subject/>
  <dc:title>RO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509675</vt:r8>
  </property>
  <property fmtid="{D5CDD505-2E9C-101B-9397-08002B2CF9AE}" pid="3" name="_AuthorEmail">
    <vt:lpwstr>bobG@gplops.org</vt:lpwstr>
  </property>
  <property fmtid="{D5CDD505-2E9C-101B-9397-08002B2CF9AE}" pid="4" name="_AuthorEmailDisplayName">
    <vt:lpwstr>Green, Bob</vt:lpwstr>
  </property>
  <property fmtid="{D5CDD505-2E9C-101B-9397-08002B2CF9AE}" pid="5" name="_EmailSubject">
    <vt:lpwstr>PDCWG report to ROS</vt:lpwstr>
  </property>
</Properties>
</file>