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480A05-9B7F-431A-A02E-3C1BB536A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4729D1-4BCA-45FB-A7B4-531F3AC10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696960"/>
            <a:ext cx="4646880" cy="348444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C5854A-543C-4036-BFDB-7B32AF214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A85A19-EA98-42A3-9B9C-7C54608B5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E26475-A38D-4690-948F-3B89BC8AE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84D40F-4273-436D-83EE-9EBA02940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E7D9920-C9BC-4343-82D8-205B1364800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6A955CA-6461-4392-82E1-45BBD6A9341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New MO Projects</a:t>
            </a:r>
            <a:br>
              <a:rPr sz="2000"/>
            </a:br>
            <a:br>
              <a:rPr sz="1200"/>
            </a:br>
            <a:br>
              <a:rPr sz="14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27F608-8CCA-43A6-B6BB-168A34A138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R-385</a:t>
            </a:r>
            <a:br>
              <a:rPr sz="2400"/>
            </a:br>
            <a:r>
              <a:rPr b="0" lang="en-US" sz="2400" spc="-1" strike="noStrike">
                <a:solidFill>
                  <a:srgbClr val="000000"/>
                </a:solidFill>
                <a:latin typeface="Arial Black"/>
              </a:rPr>
              <a:t>Changes for Implementation of Direct Load Control (DLC)</a:t>
            </a:r>
            <a:br>
              <a:rPr sz="2400"/>
            </a:br>
            <a:endParaRPr b="0" lang="en-US" sz="2400" spc="-1" strike="noStrike">
              <a:solidFill>
                <a:srgbClr val="ffffff"/>
              </a:solidFill>
              <a:latin typeface="Arial Black"/>
            </a:endParaRPr>
          </a:p>
        </p:txBody>
      </p:sp>
      <p:sp>
        <p:nvSpPr>
          <p:cNvPr id="85" name="Text Box 3"/>
          <p:cNvSpPr/>
          <p:nvPr/>
        </p:nvSpPr>
        <p:spPr>
          <a:xfrm>
            <a:off x="1881360" y="366552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lvin</a:t>
            </a:r>
            <a:r>
              <a:rPr b="1" lang="en-US" sz="1600" spc="-1" strike="noStrike">
                <a:solidFill>
                  <a:srgbClr val="000000"/>
                </a:solidFill>
                <a:latin typeface="Arial"/>
              </a:rPr>
              <a:t> </a:t>
            </a:r>
            <a:r>
              <a:rPr b="0" lang="en-US" sz="2000" spc="-1" strike="noStrike">
                <a:solidFill>
                  <a:srgbClr val="000000"/>
                </a:solidFill>
                <a:latin typeface="Arial Black"/>
              </a:rPr>
              <a:t>Ophe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ckground</a:t>
            </a:r>
            <a:endParaRPr b="0" lang="en-US" sz="18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odify language in Protocols to better represent how Direct Load Control (DLC) will be implemented in ERCO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ocedural changes to implement DLC programs.  The requested changes includ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Removing detailed DLC implementation information from the Protocols and moving them into the Load Profiling Guid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Modifying language to be consistent with the revisions made with respect to profiling ESI IDs in DLC progra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Coinciding with revisions in Load Profiling Guides Revision Request (LPGRR 2003-00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LRPRR has language which outlines the process for bidding DLC demand reductions into the BUL mark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Minor wording changes</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72DB91D-F927-4763-8E5E-D45395CE02B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a:t>
            </a:r>
            <a:endParaRPr b="0" lang="en-US" sz="1800" spc="-1" strike="noStrike">
              <a:solidFill>
                <a:srgbClr val="ffffff"/>
              </a:solidFill>
              <a:latin typeface="Arial Black"/>
            </a:endParaRPr>
          </a:p>
        </p:txBody>
      </p:sp>
      <p:sp>
        <p:nvSpPr>
          <p:cNvPr id="90"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Balancing Up Loads are loads registered to bid into BES marke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abled by PRR 302, 419, 448 &amp; PIP 112 (2003) </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Individual BULs must be IDR-metered (telemetry not requir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When a BUL is dispatched and load is shed, QSEs representing BULs receiv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ergy-imbalance payment in normal Settlemen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dditional payment = MCPC in the non-spin market for that interval</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C1D361-0509-4F6D-B91C-DE706D56BB2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continued)</a:t>
            </a:r>
            <a:endParaRPr b="0" lang="en-US" sz="1800" spc="-1" strike="noStrike">
              <a:solidFill>
                <a:srgbClr val="ffffff"/>
              </a:solidFill>
              <a:latin typeface="Arial Black"/>
            </a:endParaRPr>
          </a:p>
        </p:txBody>
      </p:sp>
      <p:sp>
        <p:nvSpPr>
          <p:cNvPr id="9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Individual BUL compliance is evaluated on a baseline developed from the load’s performance over prior 10 “like” days (enabl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BUL program for individual loads is available but currently unsubscribed</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BUL will go away entirely upon launch of Texas Nod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39301B-A569-4F93-AB04-4BD4A0F9457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 DLC</a:t>
            </a:r>
            <a:endParaRPr b="0" lang="en-US" sz="1800" spc="-1" strike="noStrike">
              <a:solidFill>
                <a:srgbClr val="ffffff"/>
              </a:solidFill>
              <a:latin typeface="Arial Black"/>
            </a:endParaRPr>
          </a:p>
        </p:txBody>
      </p:sp>
      <p:sp>
        <p:nvSpPr>
          <p:cNvPr id="96"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Direct Load Control programs were viewed as the vehicle for smaller customers to participate in the ERCOT Balancing Energy marke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While developing Protocols for DLC Settlement (2002-03), PWG also developed Protocols to enable DLC to provide BUL service</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oject to enable DLC Settlement, including BUL participation, did not make the PPL cut-line due to lack of a sponsoring REP</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Language has been gray-boxed since 2003</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172E7F5-8779-41FB-BBF2-0F56ED5D33A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L Background -- DLC</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PRR-385 defines an algorithm for determining DLC baseline </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DLC baseline is based on proxy day (if available) or profile</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DLC Settlement can be enabled without the BUL provis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ncluding BUL in the project would increase scope and require significant additional coding</a:t>
            </a:r>
            <a:endParaRPr b="0"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CB0B305-EB86-49EE-B831-86453AF8DEC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CET Demand Response Pilot</a:t>
            </a:r>
            <a:endParaRPr b="0" lang="en-US" sz="1800" spc="-1" strike="noStrike">
              <a:solidFill>
                <a:srgbClr val="ffffff"/>
              </a:solidFill>
              <a:latin typeface="Arial Black"/>
            </a:endParaRPr>
          </a:p>
        </p:txBody>
      </p:sp>
      <p:sp>
        <p:nvSpPr>
          <p:cNvPr id="102"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A group of Market Participants and ERCOT are participating in a demand response pilot which begins during the summer of 2007</a:t>
            </a:r>
            <a:endParaRPr b="1"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wo goals of this effort are to:</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able wholesale settlement of demand response programs in ERC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valuate and recommend an algorithm for quantifying the amount of demand reduction (which includes the determination of a baseline methodology).</a:t>
            </a:r>
            <a:endParaRPr b="0" lang="en-US" sz="1800" spc="-1" strike="noStrike">
              <a:solidFill>
                <a:srgbClr val="000000"/>
              </a:solidFill>
              <a:latin typeface="Arial"/>
            </a:endParaRPr>
          </a:p>
          <a:p>
            <a:pPr lvl="1" marL="74304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e recommendations from the pilot concerning baseline methodology may be different than language included in PRR-385</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F15FDE-82BF-4AD0-896E-5D8BD3FB8B5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Recommendation</a:t>
            </a:r>
            <a:endParaRPr b="0" lang="en-US" sz="1800" spc="-1" strike="noStrike">
              <a:solidFill>
                <a:srgbClr val="ffffff"/>
              </a:solidFill>
              <a:latin typeface="Arial Black"/>
            </a:endParaRPr>
          </a:p>
        </p:txBody>
      </p:sp>
      <p:sp>
        <p:nvSpPr>
          <p:cNvPr id="105"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ERCOT Staff recommends excluding BUL-specific elements from DLC Settlement project</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48A8E01-E68E-456F-807C-7921935E794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Benefits</a:t>
            </a:r>
            <a:endParaRPr b="0" lang="en-US" sz="1800" spc="-1" strike="noStrike">
              <a:solidFill>
                <a:srgbClr val="ffffff"/>
              </a:solidFill>
              <a:latin typeface="Arial Black"/>
            </a:endParaRPr>
          </a:p>
        </p:txBody>
      </p:sp>
      <p:sp>
        <p:nvSpPr>
          <p:cNvPr id="108"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e requested changes will allow demand response programs to be appropriately profiled and ERCOT systems to properly process demand response programs</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6EADA8-788A-4189-B24C-B3F83CA7936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 Analysis / Cost Estimate</a:t>
            </a:r>
            <a:endParaRPr b="0" lang="en-US" sz="1800" spc="-1" strike="noStrike">
              <a:solidFill>
                <a:srgbClr val="ffffff"/>
              </a:solidFill>
              <a:latin typeface="Arial Black"/>
            </a:endParaRPr>
          </a:p>
        </p:txBody>
      </p:sp>
      <p:sp>
        <p:nvSpPr>
          <p:cNvPr id="111"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act to retail systems depending on how Demand Response program participants are identified in the Profile ID.</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can the existing TOU/NOTOU segment of the Profile ID be expanded to include the identification of demand response programs (i.e., like DR001, DR002).</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destar system chang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timated cost is &lt; $500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8FDC252-DCF4-4737-AB80-9192984E6F4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S Extract, Report &amp; Web Services Monitoring &amp; Usage Statistics</a:t>
            </a:r>
            <a:endParaRPr b="0" lang="en-US" sz="2400" spc="-1" strike="noStrike">
              <a:solidFill>
                <a:srgbClr val="ffffff"/>
              </a:solidFill>
              <a:latin typeface="Arial Black"/>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552C5BB-D91F-457C-932D-AA491D67E7D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grpSp>
        <p:nvGrpSpPr>
          <p:cNvPr id="114" name="Group 3"/>
          <p:cNvGrpSpPr/>
          <p:nvPr/>
        </p:nvGrpSpPr>
        <p:grpSpPr>
          <a:xfrm>
            <a:off x="3505320" y="2286000"/>
            <a:ext cx="1484280" cy="2514600"/>
            <a:chOff x="3505320" y="2286000"/>
            <a:chExt cx="1484280" cy="2514600"/>
          </a:xfrm>
        </p:grpSpPr>
        <p:pic>
          <p:nvPicPr>
            <p:cNvPr id="115" name="Picture 4" descr="MCj03403080000[1]"/>
            <p:cNvPicPr/>
            <p:nvPr/>
          </p:nvPicPr>
          <p:blipFill>
            <a:blip r:embed="rId1"/>
            <a:stretch/>
          </p:blipFill>
          <p:spPr>
            <a:xfrm>
              <a:off x="3505320" y="2286000"/>
              <a:ext cx="1484280" cy="2514600"/>
            </a:xfrm>
            <a:prstGeom prst="rect">
              <a:avLst/>
            </a:prstGeom>
            <a:ln w="0">
              <a:noFill/>
            </a:ln>
          </p:spPr>
        </p:pic>
        <p:sp>
          <p:nvSpPr>
            <p:cNvPr id="116" name="Text Box 5"/>
            <p:cNvSpPr/>
            <p:nvPr/>
          </p:nvSpPr>
          <p:spPr>
            <a:xfrm>
              <a:off x="4059720" y="263808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N</a:t>
              </a:r>
              <a:endParaRPr b="0" lang="en-US" sz="1800" spc="-1" strike="noStrike">
                <a:solidFill>
                  <a:srgbClr val="000000"/>
                </a:solidFill>
                <a:latin typeface="Arial"/>
              </a:endParaRPr>
            </a:p>
          </p:txBody>
        </p:sp>
        <p:sp>
          <p:nvSpPr>
            <p:cNvPr id="117" name="Text Box 6"/>
            <p:cNvSpPr/>
            <p:nvPr/>
          </p:nvSpPr>
          <p:spPr>
            <a:xfrm>
              <a:off x="4059720" y="404604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F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0F54873-C32A-43B5-AD61-7AEF38E771A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CART Project</a:t>
            </a:r>
            <a:endParaRPr b="0" lang="en-US" sz="1600" spc="-1" strike="noStrike">
              <a:solidFill>
                <a:srgbClr val="ffffff"/>
              </a:solidFill>
              <a:latin typeface="Arial Black"/>
            </a:endParaRPr>
          </a:p>
        </p:txBody>
      </p:sp>
      <p:sp>
        <p:nvSpPr>
          <p:cNvPr id="120" name="PlaceHolder 2"/>
          <p:cNvSpPr>
            <a:spLocks noGrp="1"/>
          </p:cNvSpPr>
          <p:nvPr>
            <p:ph type="subTitle"/>
          </p:nvPr>
        </p:nvSpPr>
        <p:spPr>
          <a:xfrm>
            <a:off x="914040" y="2724120"/>
            <a:ext cx="7086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System throughput for IDR</a:t>
            </a:r>
            <a:endParaRPr b="1" lang="en-US" sz="3200" spc="-1" strike="noStrike">
              <a:solidFill>
                <a:srgbClr val="000000"/>
              </a:solidFill>
              <a:latin typeface="Arial"/>
            </a:endParaRPr>
          </a:p>
        </p:txBody>
      </p:sp>
      <p:sp>
        <p:nvSpPr>
          <p:cNvPr id="121" name="Rectangle 4"/>
          <p:cNvSpPr/>
          <p:nvPr/>
        </p:nvSpPr>
        <p:spPr>
          <a:xfrm>
            <a:off x="1371600" y="3886200"/>
            <a:ext cx="6400800" cy="5904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BA71D6A-3D6D-4F5F-90A1-C1381B31777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System throughput for IDR</a:t>
            </a:r>
            <a:endParaRPr b="0" lang="en-US" sz="2400" spc="-1" strike="noStrike">
              <a:solidFill>
                <a:srgbClr val="ffffff"/>
              </a:solidFill>
              <a:latin typeface="Arial Black"/>
            </a:endParaRPr>
          </a:p>
        </p:txBody>
      </p:sp>
      <p:sp>
        <p:nvSpPr>
          <p:cNvPr id="124" name="PlaceHolder 2"/>
          <p:cNvSpPr>
            <a:spLocks noGrp="1"/>
          </p:cNvSpPr>
          <p:nvPr>
            <p:ph/>
          </p:nvPr>
        </p:nvSpPr>
        <p:spPr>
          <a:xfrm>
            <a:off x="152280" y="734760"/>
            <a:ext cx="8547120" cy="582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and Market discussions indicate increased  utilization of interval data in wholesale settlement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x of interval data would substantially increase the demand on the ERCOT retail market transaction processing systems and the wholesale settlement systems with respect to both processing (bandwidth) and storag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extrapolations of current system processing times, ERCOT estimates that 200,000 IDR meters is the maximum number of IDR meters ERCOT’s system can suppor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ticipates degradation in service once ERCOT must process fifteen minute interval meter data from approximately 50,000 or more ESI ID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11F50F1-8AE8-40D7-8455-4FFA3BD29B0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System throughput for IDR</a:t>
            </a:r>
            <a:endParaRPr b="0" lang="en-US" sz="2400" spc="-1" strike="noStrike">
              <a:solidFill>
                <a:srgbClr val="ffffff"/>
              </a:solidFill>
              <a:latin typeface="Arial Black"/>
            </a:endParaRPr>
          </a:p>
        </p:txBody>
      </p:sp>
      <p:sp>
        <p:nvSpPr>
          <p:cNvPr id="127" name="PlaceHolder 2"/>
          <p:cNvSpPr>
            <a:spLocks noGrp="1"/>
          </p:cNvSpPr>
          <p:nvPr>
            <p:ph/>
          </p:nvPr>
        </p:nvSpPr>
        <p:spPr>
          <a:xfrm>
            <a:off x="152280" y="748800"/>
            <a:ext cx="854712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increases in IDR processing capability for ERCOT systems by:</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IDR data loading /reporting / storage pro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the Information Life Cycle Management Strategy for Paper Free &amp; L*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the impact to Market Participants for extra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ing insights on system enhancements necessary for future increases in IDR processing capability.</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D2EE21D-566B-4A36-99E3-B998E5E498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PlaceHolder 1"/>
          <p:cNvSpPr>
            <a:spLocks noGrp="1"/>
          </p:cNvSpPr>
          <p:nvPr>
            <p:ph type="title"/>
          </p:nvPr>
        </p:nvSpPr>
        <p:spPr>
          <a:xfrm>
            <a:off x="2286000" y="2166480"/>
            <a:ext cx="6019920" cy="200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Black"/>
            </a:endParaRPr>
          </a:p>
        </p:txBody>
      </p:sp>
      <p:sp>
        <p:nvSpPr>
          <p:cNvPr id="130"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131" name="Rectangle 4"/>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stributed Generation/Small Renewables</a:t>
            </a:r>
            <a:br>
              <a:rPr sz="2800"/>
            </a:br>
            <a:endParaRPr b="0" lang="en-US" sz="2800" spc="-1" strike="noStrike">
              <a:solidFill>
                <a:srgbClr val="000000"/>
              </a:solidFill>
              <a:latin typeface="Arial"/>
            </a:endParaRPr>
          </a:p>
        </p:txBody>
      </p:sp>
      <p:sp>
        <p:nvSpPr>
          <p:cNvPr id="132" name="Text Box 5"/>
          <p:cNvSpPr/>
          <p:nvPr/>
        </p:nvSpPr>
        <p:spPr>
          <a:xfrm>
            <a:off x="1554120" y="387684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j Rajago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1303CB8-2FF2-48CD-921C-8A5200ED70F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4"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tributed Generation/Small Renewables</a:t>
            </a:r>
            <a:endParaRPr b="0" lang="en-US" sz="2000" spc="-1" strike="noStrike">
              <a:solidFill>
                <a:srgbClr val="ffffff"/>
              </a:solidFill>
              <a:latin typeface="Arial Black"/>
            </a:endParaRPr>
          </a:p>
        </p:txBody>
      </p:sp>
      <p:sp>
        <p:nvSpPr>
          <p:cNvPr id="135" name="PlaceHolder 2"/>
          <p:cNvSpPr>
            <a:spLocks noGrp="1"/>
          </p:cNvSpPr>
          <p:nvPr>
            <p:ph/>
          </p:nvPr>
        </p:nvSpPr>
        <p:spPr>
          <a:xfrm>
            <a:off x="152280" y="8143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SET changes related to small renewab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urrently on the RO and MO PP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developing the requirements and scope of this project.</a:t>
            </a: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a impact to the MO PPL only if settlement changes are necessary as a result of this effort. </a:t>
            </a: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pipe line will manage the budget and the project.  COPS and will be updated on progre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Budget: $250k-$500k.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udget on the MO PP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63DDD6-C93C-43D9-8B6B-11EE069E95D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9"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ject provides research capabilities for Commercial Operations extract, report and web services data for internal business users, which include monitoring functionality and usage analysis capabilitie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nsolidates and automates multiple manual efforts that occur today to monitor extract creations through market postings.  Current methods provide limited reporting capability. For exampl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C provides limited ability to report on download stats on TM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ies regarding points in the life cycle from creation to delivery for extracts and reports, the information must be pieced together from multiple systems and group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and download statistics are not consistently available across extracts/reports/web services.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S Extract, Report &amp; Web Services Monitoring &amp; Usage Statistic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AC58A49-4F03-4A74-BC4C-7212661C57E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Extract, Report &amp; Web Services Monitoring &amp; Usage Statistics</a:t>
            </a:r>
            <a:endParaRPr b="0" lang="en-US" sz="1800" spc="-1" strike="noStrike">
              <a:solidFill>
                <a:srgbClr val="ffffff"/>
              </a:solidFill>
              <a:latin typeface="Arial Black"/>
            </a:endParaRPr>
          </a:p>
        </p:txBody>
      </p:sp>
      <p:sp>
        <p:nvSpPr>
          <p:cNvPr id="63"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monitoring processes and usage statistics for Report, Extract, and Web Services for all system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business procedures for supporting COMS extracts, reports and web service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market SLA reporting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and Usage statistic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nternal dashboard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k-$50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95530D-64B1-4181-A673-28551F39B41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5" name="PlaceHolder 1"/>
          <p:cNvSpPr>
            <a:spLocks noGrp="1"/>
          </p:cNvSpPr>
          <p:nvPr>
            <p:ph type="title"/>
          </p:nvPr>
        </p:nvSpPr>
        <p:spPr>
          <a:xfrm>
            <a:off x="2333520" y="2266920"/>
            <a:ext cx="60199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R-478</a:t>
            </a:r>
            <a:br>
              <a:rPr sz="1600"/>
            </a:br>
            <a:r>
              <a:rPr b="0" lang="en-US" sz="1600" spc="-1" strike="noStrike">
                <a:solidFill>
                  <a:srgbClr val="ffffff"/>
                </a:solidFill>
                <a:latin typeface="Arial Black"/>
              </a:rPr>
              <a:t>Use of Lagged Dynamic Samples for New Profiles</a:t>
            </a:r>
            <a:br>
              <a:rPr sz="1600"/>
            </a:br>
            <a:endParaRPr b="0" lang="en-US" sz="1600" spc="-1" strike="noStrike">
              <a:solidFill>
                <a:srgbClr val="ffffff"/>
              </a:solidFill>
              <a:latin typeface="Arial Black"/>
            </a:endParaRPr>
          </a:p>
        </p:txBody>
      </p:sp>
      <p:sp>
        <p:nvSpPr>
          <p:cNvPr id="66"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67"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R-478</a:t>
            </a:r>
            <a:br>
              <a:rPr sz="2800"/>
            </a:br>
            <a:r>
              <a:rPr b="0" lang="en-US" sz="2800" spc="-1" strike="noStrike">
                <a:solidFill>
                  <a:srgbClr val="000000"/>
                </a:solidFill>
                <a:latin typeface="Arial Black"/>
              </a:rPr>
              <a:t>Use of Lagged Dynamic Samples for New Profiles</a:t>
            </a:r>
            <a:br>
              <a:rPr sz="2800"/>
            </a:br>
            <a:endParaRPr b="0" lang="en-US" sz="2800" spc="-1" strike="noStrike">
              <a:solidFill>
                <a:srgbClr val="000000"/>
              </a:solidFill>
              <a:latin typeface="Arial"/>
            </a:endParaRPr>
          </a:p>
        </p:txBody>
      </p:sp>
      <p:sp>
        <p:nvSpPr>
          <p:cNvPr id="68" name="Text Box 6"/>
          <p:cNvSpPr/>
          <p:nvPr/>
        </p:nvSpPr>
        <p:spPr>
          <a:xfrm>
            <a:off x="1554120" y="387684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vin Ophe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ckground</a:t>
            </a:r>
            <a:endParaRPr b="0" lang="en-US" sz="1800" spc="-1" strike="noStrike">
              <a:solidFill>
                <a:srgbClr val="ffffff"/>
              </a:solidFill>
              <a:latin typeface="Arial Black"/>
            </a:endParaRPr>
          </a:p>
        </p:txBody>
      </p:sp>
      <p:sp>
        <p:nvSpPr>
          <p:cNvPr id="70"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 change to the method for creating Load Profiles allowing for the use of lagged dynamic samples for new profiles adopted subsequent to market open</a:t>
            </a: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project is necessary in order to enable wholesale settlement of Demand Response programs</a:t>
            </a: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8CFD5CA-8D17-4223-8ABE-C5089337115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Benefits</a:t>
            </a:r>
            <a:endParaRPr b="0" lang="en-US" sz="1800" spc="-1" strike="noStrike">
              <a:solidFill>
                <a:srgbClr val="ffffff"/>
              </a:solidFill>
              <a:latin typeface="Arial Black"/>
            </a:endParaRPr>
          </a:p>
        </p:txBody>
      </p:sp>
      <p:sp>
        <p:nvSpPr>
          <p:cNvPr id="73"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Allowing the use of lagged dynamic samples for new profiles will provide three important benefits to the marke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e time lag between approving a new profile and being able to settle ESI IDs using the new profile will be significantly reduc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New profiles are expected to be subject to significant population change as new ESI IDs are identified for inclusion in the profile; lagged-dynamic samples will accommodate these changes more quickly, accurately and efficiently than is possible with adjusted static mod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se of lagged dynamic samples will allow the market to audit ESI IDs being assigned to new profiles and will create an incentive for CRs using the profile to limit the inclusion of ESI IDs to those appropriate to the prof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7EA3788-25D9-43BA-8A49-501CB34ACB8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 Analysis / Cost Estimate</a:t>
            </a: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estar will require system enhancements to introduce lagged dynamic samples, including creation of dynamic samples, as well as processes/coding for the automation of scripts and statistics.</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filing staff will test and maintain the new profiles as they are developed.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timated cost is &lt; $10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B55E3D-AB3E-4D40-8472-C8614336316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grpSp>
        <p:nvGrpSpPr>
          <p:cNvPr id="79" name="Group 3"/>
          <p:cNvGrpSpPr/>
          <p:nvPr/>
        </p:nvGrpSpPr>
        <p:grpSpPr>
          <a:xfrm>
            <a:off x="3505320" y="2286000"/>
            <a:ext cx="1484280" cy="2514600"/>
            <a:chOff x="3505320" y="2286000"/>
            <a:chExt cx="1484280" cy="2514600"/>
          </a:xfrm>
        </p:grpSpPr>
        <p:pic>
          <p:nvPicPr>
            <p:cNvPr id="80" name="Picture 4" descr="MCj03403080000[1]"/>
            <p:cNvPicPr/>
            <p:nvPr/>
          </p:nvPicPr>
          <p:blipFill>
            <a:blip r:embed="rId1"/>
            <a:stretch/>
          </p:blipFill>
          <p:spPr>
            <a:xfrm>
              <a:off x="3505320" y="2286000"/>
              <a:ext cx="1484280" cy="2514600"/>
            </a:xfrm>
            <a:prstGeom prst="rect">
              <a:avLst/>
            </a:prstGeom>
            <a:ln w="0">
              <a:noFill/>
            </a:ln>
          </p:spPr>
        </p:pic>
        <p:sp>
          <p:nvSpPr>
            <p:cNvPr id="81" name="Text Box 5"/>
            <p:cNvSpPr/>
            <p:nvPr/>
          </p:nvSpPr>
          <p:spPr>
            <a:xfrm>
              <a:off x="4059720" y="263808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N</a:t>
              </a:r>
              <a:endParaRPr b="0" lang="en-US" sz="1800" spc="-1" strike="noStrike">
                <a:solidFill>
                  <a:srgbClr val="000000"/>
                </a:solidFill>
                <a:latin typeface="Arial"/>
              </a:endParaRPr>
            </a:p>
          </p:txBody>
        </p:sp>
        <p:sp>
          <p:nvSpPr>
            <p:cNvPr id="82" name="Text Box 6"/>
            <p:cNvSpPr/>
            <p:nvPr/>
          </p:nvSpPr>
          <p:spPr>
            <a:xfrm>
              <a:off x="4059720" y="4046040"/>
              <a:ext cx="602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F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7-06-14T15:26:16Z</dcterms:modified>
  <cp:revision>219</cp:revision>
  <dc:subject/>
  <dc:title>Texas Nodal Market Implementation ERCOT Board of Directors Meeting Budget Rationale October 17, 2006  Kathy Hager, Market Redesign Program Director </dc:title>
</cp:coreProperties>
</file>