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49B7-73CB-441E-A012-3575D54C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0570-BBF7-4425-A0BB-CF6BC7DB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35E6-8B2B-4AAD-8730-4CB8040B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9102-4661-4A98-9E07-5E11FC97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9EF1-7733-4170-997D-B727197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3213-66BB-4ECF-9BBF-69AC983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2210-FE01-4551-81F3-8B38CCE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5184-C9D7-490C-AEC6-BE50468E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FEC0-4C72-441F-820E-D2B546C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2BAD-5155-40BD-877B-720F083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39C0-CBA7-44AC-B415-48988F5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7238-A878-437C-BC7D-9FC891B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B3DF-56AF-4FD8-984E-F99A626F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DEA-9A38-463A-842C-06C1DB17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8 Project Prioritization Revie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vid Troxtel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Project Highlights - 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600200"/>
          <a:ext cx="7848360" cy="2313000"/>
        </p:xfrm>
        <a:graphic>
          <a:graphicData uri="http://schemas.openxmlformats.org/drawingml/2006/table">
            <a:tbl>
              <a:tblPr/>
              <a:tblGrid>
                <a:gridCol w="3227400"/>
                <a:gridCol w="2054160"/>
                <a:gridCol w="256680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erm Load Forecast Enhancements -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ments to VSA/DSA -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62120" y="4267080"/>
          <a:ext cx="7848360" cy="380880"/>
        </p:xfrm>
        <a:graphic>
          <a:graphicData uri="http://schemas.openxmlformats.org/drawingml/2006/table">
            <a:tbl>
              <a:tblPr/>
              <a:tblGrid>
                <a:gridCol w="3200400"/>
                <a:gridCol w="2081160"/>
                <a:gridCol w="25668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nfund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E01A-EEF7-4F39-B28B-D49F564B8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Discussion Ste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of DPO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large projects in CO and IO C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 MO and RO information is available from the COPS and RMS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iscussion on P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on to Approve 2008 Project Priority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mended by PRS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6623-1F63-41EA-AC05-7A65C64FCC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Approval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(Corporate Operations) approved by CO CART on 6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(IT Operations) approved by IO CART on 5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(Market Operations) approved by COPS on 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(Retail Operations) approved by RMS on 6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(System Operations) reviewed by ROS on 6/14 (e-mail vote lik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review and approval takes place on 6/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rack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view and approval on 6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and approval on 6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lists were reviewed by the ERCOT Executive Committee on 6/4 and 6/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510F-3017-4706-8AEC-8E8AAAD99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Budgets and Counts by Program Area and Priori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496880"/>
          <a:ext cx="7534080" cy="4756320"/>
        </p:xfrm>
        <a:graphic>
          <a:graphicData uri="http://schemas.openxmlformats.org/drawingml/2006/table">
            <a:tbl>
              <a:tblPr/>
              <a:tblGrid>
                <a:gridCol w="761760"/>
                <a:gridCol w="1905120"/>
                <a:gridCol w="914400"/>
                <a:gridCol w="1066680"/>
                <a:gridCol w="990720"/>
                <a:gridCol w="905040"/>
                <a:gridCol w="99036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/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2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495680" y="1515960"/>
            <a:ext cx="344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s By Priority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above line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9C22-0883-4DD3-BCB0-3D9D11487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Budgets by Program Area and Priorit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496880"/>
          <a:ext cx="7924680" cy="4756320"/>
        </p:xfrm>
        <a:graphic>
          <a:graphicData uri="http://schemas.openxmlformats.org/drawingml/2006/table">
            <a:tbl>
              <a:tblPr/>
              <a:tblGrid>
                <a:gridCol w="990360"/>
                <a:gridCol w="2132280"/>
                <a:gridCol w="1601640"/>
                <a:gridCol w="1600200"/>
                <a:gridCol w="160020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1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,3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2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0,4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0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8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,19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4,7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8,5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3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2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9,49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4,7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8,5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495680" y="1515960"/>
            <a:ext cx="344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dgets By Priority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above line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27A8-4874-4179-B9BA-75B34F1EE0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Project Prioritization Notes by Program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projects in multiple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 focus on security and process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ing up with computing infrastructure 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n Demand Respons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ing request is similar to previous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rojects anticipating PUCT rulemak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budget request due to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w projects are proposed for 2008 (two are being carried over for the closing ph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lists posted at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services/comm/projects/pp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62C6-348A-4FBA-A30F-912DFCEC6F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Project Highlights - 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600200"/>
          <a:ext cx="8076960" cy="3448080"/>
        </p:xfrm>
        <a:graphic>
          <a:graphicData uri="http://schemas.openxmlformats.org/drawingml/2006/table">
            <a:tbl>
              <a:tblPr/>
              <a:tblGrid>
                <a:gridCol w="5410080"/>
                <a:gridCol w="1523880"/>
                <a:gridCol w="11430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ies – Taylor Sys Ops Control Roo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 System Replacement and Two Story Expa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6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Management / Workflow / 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9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-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2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Up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0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9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oje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8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,7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520" y="5257800"/>
          <a:ext cx="8076960" cy="380880"/>
        </p:xfrm>
        <a:graphic>
          <a:graphicData uri="http://schemas.openxmlformats.org/drawingml/2006/table">
            <a:tbl>
              <a:tblPr/>
              <a:tblGrid>
                <a:gridCol w="5410080"/>
                <a:gridCol w="1501920"/>
                <a:gridCol w="1164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nfund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2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8C81-F32E-4D1A-9C73-F74AE5625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 Project Highlights - 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523880"/>
          <a:ext cx="8153280" cy="3818160"/>
        </p:xfrm>
        <a:graphic>
          <a:graphicData uri="http://schemas.openxmlformats.org/drawingml/2006/table">
            <a:tbl>
              <a:tblPr/>
              <a:tblGrid>
                <a:gridCol w="4495680"/>
                <a:gridCol w="2057400"/>
                <a:gridCol w="16002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e Refresh and Other Hardware Repla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3,8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Storage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3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1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Monitoring Enhan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1,4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10,4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5715000"/>
          <a:ext cx="8153280" cy="380880"/>
        </p:xfrm>
        <a:graphic>
          <a:graphicData uri="http://schemas.openxmlformats.org/drawingml/2006/table">
            <a:tbl>
              <a:tblPr/>
              <a:tblGrid>
                <a:gridCol w="4495680"/>
                <a:gridCol w="2057400"/>
                <a:gridCol w="16002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nfund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5,7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B70A-5E52-41E6-ACDF-E6CEB6D5D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 Project Highlights - 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924680" cy="310212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  <a:gridCol w="18288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Extract, Report, and Web Services Monitoring &amp; Usage S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Load Control / Lagged Dynamic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ystem Throughput for IDR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dvanced Meter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Up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1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334120"/>
          <a:ext cx="7924680" cy="38088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  <a:gridCol w="18288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nfund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AB5F-7E1B-4EAB-8665-F5EB68D8D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 Project Highlights - 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676520"/>
          <a:ext cx="8001000" cy="3362040"/>
        </p:xfrm>
        <a:graphic>
          <a:graphicData uri="http://schemas.openxmlformats.org/drawingml/2006/table">
            <a:tbl>
              <a:tblPr/>
              <a:tblGrid>
                <a:gridCol w="4724280"/>
                <a:gridCol w="1828800"/>
                <a:gridCol w="1447920"/>
              </a:tblGrid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Rulemak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2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ERCOT Process Automation and System Design Enhan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7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 Application Up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Enhan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7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 (Enterprise Data Warehou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640,00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85800" y="5257800"/>
          <a:ext cx="8001000" cy="380880"/>
        </p:xfrm>
        <a:graphic>
          <a:graphicData uri="http://schemas.openxmlformats.org/drawingml/2006/table">
            <a:tbl>
              <a:tblPr/>
              <a:tblGrid>
                <a:gridCol w="4724280"/>
                <a:gridCol w="1828800"/>
                <a:gridCol w="1447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nfund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C914-ACF0-47D9-9758-B49B8D5E7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6-15T14:14:35Z</dcterms:modified>
  <cp:revision>91</cp:revision>
  <dc:subject/>
  <dc:title>Instructions</dc:title>
</cp:coreProperties>
</file>