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1BA-4D21-478B-BDD6-A55C7BC5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FDF-21B3-40FE-B108-3C82D941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3DC-B11C-489D-BC00-9588B55D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50D-A75A-4BC6-A8C4-A1086F4E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458-E3BE-47A4-B8DE-1B7DF19D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B5D-3107-4FA6-A7B6-BAE75311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40C-A841-430D-93B0-3FC51B0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5A2-0C10-4471-9305-FCDACF3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2FD-7742-4EE7-84D3-C31B702D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AB9-9838-4C37-900D-BE91C76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4A8-BA34-41F2-91CC-3C4AEED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C17-4352-4E09-9C28-0474FD4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8689-FD95-486B-A89D-EA50B78B6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C for Uncontrollable Resour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5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5867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o Gonzal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d, Settlements and Bi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BL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FCA-7DF6-450D-92B3-9274A451DB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 of 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an Uncontrollable Renewable Resource (URR) to elect to use its Renewable Production Potential (RPP) in lieu of its Resource Plan as the basis for URC and OOME down payments -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1 (m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ost of regulation based on Energy Ratio Share –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2 (system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uncontrollable renewable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story of 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on 02/17/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March 1, 2004 –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did not implement 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iority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 Cart cancelled the project 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nformed PRS and COPS about the cance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C for Wind-Only QSEs that DID NOT submit RP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4800" y="1219320"/>
            <a:ext cx="8107560" cy="5381640"/>
            <a:chOff x="604800" y="1219320"/>
            <a:chExt cx="8107560" cy="5381640"/>
          </a:xfrm>
        </p:grpSpPr>
        <p:graphicFrame>
          <p:nvGraphicFramePr>
            <p:cNvPr id="50" name=""/>
            <p:cNvGraphicFramePr/>
            <p:nvPr/>
          </p:nvGraphicFramePr>
          <p:xfrm>
            <a:off x="604800" y="1219320"/>
            <a:ext cx="8107560" cy="53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219320"/>
                      <a:ext cx="8107560" cy="53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2057400" y="2895480"/>
              <a:ext cx="190512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n=$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09680" y="312408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C for Wind-Only QSEs that submitted RP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4800" y="1219320"/>
            <a:ext cx="8107560" cy="5381640"/>
            <a:chOff x="604800" y="1219320"/>
            <a:chExt cx="8107560" cy="5381640"/>
          </a:xfrm>
        </p:grpSpPr>
        <p:graphicFrame>
          <p:nvGraphicFramePr>
            <p:cNvPr id="56" name=""/>
            <p:cNvGraphicFramePr/>
            <p:nvPr/>
          </p:nvGraphicFramePr>
          <p:xfrm>
            <a:off x="604800" y="1219320"/>
            <a:ext cx="8107560" cy="53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219320"/>
                      <a:ext cx="8107560" cy="53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1981080" y="4648320"/>
              <a:ext cx="457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7400" y="44197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n=$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st to Process R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to process RPP data=$4000/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clude opportunity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RCOT’s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RCOT the option to not process RP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RCOT does not process RPPs, then no URC will be levied on the Q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able-Only QSEs need to submit RPPs to qualify under this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are required to submit accurate RPP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may at anytime audit the QSE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20:39:20Z</dcterms:created>
  <dc:creator>ERCOT Employee</dc:creator>
  <dc:description/>
  <dc:language>en-US</dc:language>
  <cp:lastModifiedBy>Nieves</cp:lastModifiedBy>
  <dcterms:modified xsi:type="dcterms:W3CDTF">2007-05-25T20:54:47Z</dcterms:modified>
  <cp:revision>11</cp:revision>
  <dc:subject/>
  <dc:title>Slide 1</dc:title>
</cp:coreProperties>
</file>