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347-7B5B-46F5-8FCF-D73FCCE9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29A-BF04-4DB3-9717-A83FF2B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078-1AD8-4AE7-9DEA-2F494A9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334-E252-420E-AF2A-38E12410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384E-3FDC-4C89-B1EB-57F33E28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100-C462-46E6-A16E-39AF294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4B1-F57D-44AA-A0FD-425BE77B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F38-4EE5-4016-944F-21CB7333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CBAF-B95C-4845-BB60-EF2E3B6A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7D56-AE4E-4CAD-AE80-F1BE3AD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3643-FB4D-46F5-88A7-2383A50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443-ED71-4036-865F-F01B396C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A5C8-ED58-415D-8664-F732AFD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B7D-6882-4808-A5C6-47A9BED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8B38-9E01-4DF1-AE3C-7B20E9E8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23BD-9E89-4271-A3DE-A2D93C1B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2145-AD85-4794-A8B8-21F283A7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3DC-1A04-41E0-950D-4AA94E2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F08-B97F-448C-BDE3-C57B2972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510-6AF7-4E1C-B798-C006951F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C59-F25E-4B30-88E6-2544E712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C3B-8DEE-4B37-8703-06B08AE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860-86A0-498E-B1D9-59952A9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2D1-75EC-4B68-B7AA-A713D96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0B6B-2522-4610-A618-61F99803B1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E493-3348-4B56-A673-ABDA77F278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F13D-9ECD-4D67-89C8-A02ABDE110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draft of Texas RE Budget and Business Plan submitted to NERC on May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Texas RE Budget Meeting held on May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draft of Texas RE Budget and final Business Plan submitted to NERC on Jun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Board approval anticipated on Jun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draft of Texas RE Budget to be submitted to NERC by no later than Jul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Board approval expected on Augus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and Regional Entity budgets to be filed with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0BD-C088-41A8-9F47-C5A9DD5DFC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equate staffing needed to comply with FERC mandates and NERC requirements, including ERO Rules of Proced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s driven – very structur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dits, investigations, and analys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cking, reporting, and documen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creasing number of FERC approved reliability standar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netary penalties and non-monetary sa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peals of violations and penalties/sa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maintain clear independence from all owners, operators and users of the bulk power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compliance monitoring of reliability-based ERCOT Protocols and Operating Guides as a separate and parallel process to the NERC Program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01C-8465-48EE-975E-667D11DCCD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8 proposed budget 23% less than 2007 - $5,514,219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$4,233,8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itional staffing requested to keep pace with anticipated work load and regulato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filled only when/if need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ed 2007 spending ~$2,134,000 under budg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iginal schedule was for mandatory standards compliance to begin January 1, 2007 – all positions were fully fun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tion in capital project expenditu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spent 2007 budget will be applied to the 2008 bud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nalty money collected applied to subsequent years’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ISO applied to ERO Bud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other Registered Entities’ applied to Texas R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567160" y="6086520"/>
            <a:ext cx="455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CE3-643B-4A97-A6BA-AF82D5D54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iance Monitoring &amp; Enfor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Protocols &amp; Operating Gui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Monitors compliance and issue violation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CT – Compliance enforcement (penalties/sanc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RC &amp; Regional Reliability Standar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Monitors compliance and issue violation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Compliance enforcement (sanctions/penalti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I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of 166 Registered Entities in ERC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4/7 Reliability Coordinator Function – responsible for the real-time operating reliability of the ERCOT Reg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exas 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s compliance and non-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s non-compliance in a timely, meaningful m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monitor compliance in real-ti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U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Hearing Body for appeals of NERC and Regional Reliability Standards violations and penalties/sa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ADD-99FC-4CF5-9533-EDCC8D69FF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9132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838080"/>
            <a:ext cx="18288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200400"/>
            <a:ext cx="190476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27672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7760" y="3046320"/>
            <a:ext cx="1830240" cy="113976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00600"/>
            <a:ext cx="1981080" cy="106668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6019920"/>
            <a:ext cx="25905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219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2438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666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400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867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572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6095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609588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reports to PU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029200"/>
            <a:ext cx="1523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1814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09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18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iol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267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352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 Delega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3276720"/>
            <a:ext cx="13716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3429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352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SO owes pena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004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penalty to the ERCOT ISO &amp; reports to NE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2057400"/>
            <a:ext cx="1523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838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reports to P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371600"/>
            <a:ext cx="3353040" cy="1293840"/>
          </a:xfrm>
          <a:prstGeom prst="flowChartDecision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RC Standards violation by the ERCOT I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685800"/>
            <a:ext cx="2057400" cy="108252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752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838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914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066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iol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RC Standards Violation- Delegated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7F5-20F2-4896-858C-553978B61A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7:  126.92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6:  143.31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y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pril 2007:  138.23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y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pril 2006:  129.90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April indicate 32 QSEs passed / 2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979-EF47-4390-B6FA-5C0F52D32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68E-3E7B-42BE-B625-2618370E6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4EF-C65B-4574-B7E0-CB8D0A1A2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92B-B6E6-4089-862B-4D2D890477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316-B490-4A5B-A9F0-BDD846DED3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ril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73-69C5-48C4-9E00-875E22BB9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D9F-D89E-4962-A945-F1B9DAE2EC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O / RE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ity Reg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inues to be a work-in-prog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Compliance Staff working with entities to resolve conc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entity can challenge its listing and function with NER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2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eals heard by the NERC Board Compliance Committee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gional Entity Delegation Agre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Board approved Texas RE Delegation Agreement on May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ed Texas RE Delegation Agreement re-filed at FERC on May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RC directives must be addressed and modifications filed within 180 days of the date of the order (mid-Octobe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Reliability Standar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datory compliance began on Ju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onal Entities to focus on most serious Reliability Standard violations until January 1,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Byla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Board approved changes to the ERCOT Bylaws incorporating the Texas RE on May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Membership vote in mid to late Ju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EF6-C5C9-4DF6-B980-378A76B3B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05-25T20:47:32Z</dcterms:modified>
  <cp:revision>582</cp:revision>
  <dc:subject/>
  <dc:title>PRR 525 Compliance Analysis</dc:title>
</cp:coreProperties>
</file>