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11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2CC1-21D4-4CF0-A4E6-35DD62FF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BB5B-7EAE-4289-9399-2E62CB59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65A6-9B38-4F4A-ADFA-BBA6E1691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46CB-58BD-478D-AE1D-F208147CF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87FD-967F-4DB2-94C3-F1A8D161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FE85-FD13-4944-A5F7-B2C65973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BE90-3BC5-4DA2-A4BE-7C48AD46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597B-3727-429E-8C55-6B3D3B42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AAB7-DAE1-43AB-80D2-621236A6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567C-D36B-405E-8832-825E3015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6ED2-A6A3-43E3-99DA-7F3A911F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5CCE-2847-4B37-A294-B83F31C7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7FE4-3E2A-4E2D-A766-C54E9018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DE21-B075-4B50-A61D-580CBF37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535C-6D72-4DB5-856C-FF8EA239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D22C-98D5-4ED7-A205-3928C8C1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5ADC-3800-4991-8A25-6046C71F9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711B-F3C9-480B-BBFF-99A2AB12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0AD4-719C-44F9-A00B-B3E2A79E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B5ED-DE4B-40BA-8DCA-A52105BD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2F44-0110-4191-953B-17CD1400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FF07-DC8D-4DF4-BF56-E27D8424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3E1A-CB16-4FB0-85B7-7E2126E5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9CAD-90F0-4EB1-98FE-93661E10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6600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E73C-05A3-4577-A113-F49E3A4496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470E-454D-4523-9AAD-6B1D4A0135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6600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Affects of Wind on Frequency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 June 13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termining Offset for Wind SC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57200" y="1523880"/>
            <a:ext cx="8153280" cy="4606920"/>
          </a:xfrm>
          <a:prstGeom prst="rect">
            <a:avLst/>
          </a:prstGeom>
          <a:ln w="25560">
            <a:solidFill>
              <a:srgbClr val="669999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1074240" y="6170760"/>
            <a:ext cx="77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sitive SCE indicates actual wind output exceeds sche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SCE indicates actual wind output is less than schedu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21CB-889D-495A-8CD5-188DF05185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at is the relationship between Frequency and Real Power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RCOT interconnect - approximately 500 – 600 MW loss of generation results in 0.1Hz drop in frequ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tern interconnect - approximately 3000 MW loss of generation results in 0.1Hz drop in frequ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dden changes in generation and/or load will result in frequency devi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8053-54EB-4B49-83D4-BD29CFAC59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requency During High Wind Output (0500-0600 March 25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04920" y="1477800"/>
            <a:ext cx="838188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1D07-6718-4306-A285-91AB80DAAC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hange in Wind and Load vs. Frequency (0500-0600 March 25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8382240" cy="489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E930-4F3E-40BA-B0F8-4BD091ABA4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requency During High Wind Output (0200-0300 May 4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8686800" cy="498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B34B-E861-4216-8492-3727799E94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hange in Wind and Load vs. Frequency (0200-0300 May 4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822960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0D35-65A5-4285-A3D8-F17EB7CDCD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requency During Large Wind Drop-Off (0900-1200 Feb. 24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52280" y="1389240"/>
            <a:ext cx="8458200" cy="485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8A98-5130-4BC7-B0C3-95E39DE281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hange in Wind and Load vs. Frequency (1100-1200 Feb. 24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8373960" cy="489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633A-DB85-4535-814F-A19EE9F99D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lu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ail consultant study on the affects  of wind on A/S requirements may change these initial find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ual Wind Generation Output is considered in the manual offset for Balancing Ener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inute to minute change in  Wind Generation Output, at current installed wind capacity, doesn’t appear to have a significant impact on Frequ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inute to minute change in Load Output has a significant impact on Frequ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nd can have a significant impact on Responsive Reserve during disturbance type ev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FDB7-53FF-4B7E-8E9A-D8981E4084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view the ERCOT CPS1 scor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escribe the Wind Only QSEs affect on the Balancing Energy Offse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escribe the Wind Generation  affect on Frequenc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2DAD-BDA2-4FAD-BB53-FFB57E9B4C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ot Cover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ability of severe wind gusts and trips due to over-spe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ability of sudden loss of wind gen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dictability of wind generation and the affects on reser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acts to the Grid with increasing levels of wind gen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4EE0-4CEB-4102-8096-B9C4B15D8E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requency Performance Meas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012680" y="2470320"/>
            <a:ext cx="7118640" cy="1922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371600" y="4495680"/>
            <a:ext cx="6362640" cy="15224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1360" y="1447920"/>
            <a:ext cx="85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S1 simply means: A violation occurs when the 1 minute average of frequency deviation in ERCOT exceeds +/- 0.03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E71C-6277-4DF8-9B5C-85DAAF88A4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PS1 Score Historical Tren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1523880"/>
          <a:ext cx="8229600" cy="460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9600" cy="4602240"/>
                  </a:xfrm>
                  <a:prstGeom prst="rect">
                    <a:avLst/>
                  </a:prstGeom>
                  <a:ln w="25560">
                    <a:solidFill>
                      <a:srgbClr val="6699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9C41-5B5E-4E53-B671-2A54CF8689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RCOT CPS1 Scores by Interval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25560">
            <a:solidFill>
              <a:srgbClr val="669999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F4C5-63E2-46D8-BF5A-6587CFA323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ind Capacity in the ERCOT System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rcRect l="6250" t="4478" r="2498" b="0"/>
          <a:stretch/>
        </p:blipFill>
        <p:spPr>
          <a:xfrm>
            <a:off x="1752480" y="1447920"/>
            <a:ext cx="5791320" cy="5076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914040" y="5257800"/>
            <a:ext cx="349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Installed Wind Capacit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48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dditional 1928 M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(5076 MW Total) by 1/1/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3886200"/>
            <a:ext cx="380880" cy="38088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3505320"/>
            <a:ext cx="228600" cy="22860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3352680"/>
            <a:ext cx="533520" cy="53352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3733920"/>
            <a:ext cx="152280" cy="15228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38480" y="3200400"/>
            <a:ext cx="228600" cy="22860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152120" y="2297160"/>
            <a:ext cx="9471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28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+800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81560" y="4724280"/>
            <a:ext cx="843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56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62440" y="2209680"/>
            <a:ext cx="9471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4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+402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62440" y="2895480"/>
            <a:ext cx="9471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5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+160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84120" y="4114800"/>
            <a:ext cx="755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5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"/>
          <p:cNvCxnSpPr>
            <a:stCxn id="177" idx="1"/>
            <a:endCxn id="174" idx="6"/>
          </p:cNvCxnSpPr>
          <p:nvPr/>
        </p:nvCxnSpPr>
        <p:spPr>
          <a:xfrm flipH="1">
            <a:off x="4800240" y="2560320"/>
            <a:ext cx="2347200" cy="105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8" idx="0"/>
            <a:endCxn id="172" idx="3"/>
          </p:cNvCxnSpPr>
          <p:nvPr/>
        </p:nvCxnSpPr>
        <p:spPr>
          <a:xfrm flipV="1">
            <a:off x="2103480" y="4211280"/>
            <a:ext cx="145800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1" idx="3"/>
            <a:endCxn id="175" idx="3"/>
          </p:cNvCxnSpPr>
          <p:nvPr/>
        </p:nvCxnSpPr>
        <p:spPr>
          <a:xfrm flipV="1">
            <a:off x="2039760" y="3863520"/>
            <a:ext cx="72648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79" idx="3"/>
            <a:endCxn id="176" idx="1"/>
          </p:cNvCxnSpPr>
          <p:nvPr/>
        </p:nvCxnSpPr>
        <p:spPr>
          <a:xfrm>
            <a:off x="3014280" y="2472840"/>
            <a:ext cx="1058040" cy="76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0" idx="3"/>
            <a:endCxn id="173" idx="1"/>
          </p:cNvCxnSpPr>
          <p:nvPr/>
        </p:nvCxnSpPr>
        <p:spPr>
          <a:xfrm>
            <a:off x="3014640" y="3159000"/>
            <a:ext cx="9057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4572000" y="3048120"/>
            <a:ext cx="228600" cy="22860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32480" y="1763640"/>
            <a:ext cx="10062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+200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88" idx="2"/>
            <a:endCxn id="187" idx="7"/>
          </p:cNvCxnSpPr>
          <p:nvPr/>
        </p:nvCxnSpPr>
        <p:spPr>
          <a:xfrm flipH="1">
            <a:off x="4766400" y="2290680"/>
            <a:ext cx="369000" cy="79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4038480" y="251460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14720" y="1523880"/>
            <a:ext cx="843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186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91" idx="3"/>
            <a:endCxn id="190" idx="1"/>
          </p:cNvCxnSpPr>
          <p:nvPr/>
        </p:nvCxnSpPr>
        <p:spPr>
          <a:xfrm>
            <a:off x="3063960" y="1681200"/>
            <a:ext cx="1008720" cy="86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5181480" y="28954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80520" y="1611360"/>
            <a:ext cx="843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120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194" idx="2"/>
            <a:endCxn id="193" idx="7"/>
          </p:cNvCxnSpPr>
          <p:nvPr/>
        </p:nvCxnSpPr>
        <p:spPr>
          <a:xfrm flipH="1">
            <a:off x="5376240" y="1925280"/>
            <a:ext cx="826200" cy="100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5334120" y="3429000"/>
            <a:ext cx="152280" cy="152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96920" y="3200400"/>
            <a:ext cx="744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60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7" idx="1"/>
            <a:endCxn id="196" idx="6"/>
          </p:cNvCxnSpPr>
          <p:nvPr/>
        </p:nvCxnSpPr>
        <p:spPr>
          <a:xfrm flipH="1">
            <a:off x="5486040" y="3357720"/>
            <a:ext cx="1905840" cy="14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6A57-D614-4DF2-859B-1425B463B3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RCOT Monthly Profi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7995960" cy="4573800"/>
          </a:xfrm>
          <a:prstGeom prst="rect">
            <a:avLst/>
          </a:prstGeom>
          <a:ln w="25560">
            <a:solidFill>
              <a:srgbClr val="6699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2258-D417-4503-ACB9-DBB6B5BB4D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termination of the Balancing Energy Offs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alancing Energy is the difference between the Short Term Load Forecast and the sum total of the QSEs base power schedu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 Plans are utilized to validate a QSE’s ability to meet their base power sche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manual offset is utilized when there are known issues with the base power schedules and/or generating resour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Balancing Energy Ramp begins 5 minutes before the start of the interval and ends 5 minutes after the start of the interv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Balancing Energy Deployment objective is to maintain Regulation Up and Down Reserves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664F-A402-4D61-9090-154DBA0988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18:12:44Z</dcterms:created>
  <dc:creator>dmaggio</dc:creator>
  <dc:description/>
  <dc:language>en-US</dc:language>
  <cp:lastModifiedBy>balbracht</cp:lastModifiedBy>
  <dcterms:modified xsi:type="dcterms:W3CDTF">2007-06-08T14:06:11Z</dcterms:modified>
  <cp:revision>36</cp:revision>
  <dc:subject/>
  <dc:title>Slide 1</dc:title>
</cp:coreProperties>
</file>