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B91-2FE9-4024-AD9C-1C5A867F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F45-85B5-454B-B125-53838EC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A23-48B4-482D-BE8A-B0A23785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575-D398-4253-A36F-A301CB6B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DEC-B50E-4748-AA79-F3005F5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FC5-4918-40B8-9BD9-08337BA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85D-A6A8-4AC7-887E-7EC173B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477-FE1D-44EE-A892-A4F01B06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4C-4B14-43F6-B89B-9CC7572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8D7-23B5-4946-BF38-36E1607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DA9-0EBC-4AB4-BB36-54A6013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EE9-F58A-4068-86DA-8BB1C5B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EBF-C860-4986-B6E0-7A494223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14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2971800" cy="155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Control Performance to NERC CPS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CPS1 by Interval May 125.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 CPS1 by Day- May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9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27200"/>
          <a:ext cx="9144000" cy="54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7200"/>
                    <a:ext cx="914400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92240"/>
          <a:ext cx="9144000" cy="64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240"/>
                    <a:ext cx="914400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457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June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continues to collaborate with ERCOT Operations to tune/improve the ERCOT frequency contro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explore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July 10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6-11T14:48:01Z</dcterms:modified>
  <cp:revision>13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09675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</vt:lpwstr>
  </property>
</Properties>
</file>