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C76C156-1E6B-4348-A120-A9459F74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6/14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1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 (DAM) Ancillary Services (AS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Make-Whole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Process for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Transfer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al-Time (RT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art Services RT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Emergency Operations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ort RT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ncremental Energy Cost (AIEC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Unit Commitment (RUC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Invoice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Stat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Registration Requir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Readiness &amp; Transition (IRT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Level Agreement for Sandbox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 2 Approach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and Design Authority (IDA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Interface Specification (only certain marked sections were approv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Management System (EMS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Communication Hand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clarifying Constraint Competitiven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synchronizing with PRR647, Gross and Net MW/Mvar Data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regarding Electrical Bu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regarding Generic Transmission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; June 12 Joint PRS/TPT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5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for ED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 and Compli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business requirements and conceptual system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/TPTF Joint Meeting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Nodal Protocol baselines, including content of Baseline 1 and 2, value engineering and related impact analyses as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lan to limit Transmission Element Outages during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hitepapers regarding Combined Cycle Units and Jointly-Owned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paper regarding Dynamically Scheduled Resource Output Schedule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several 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Transmission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efault QSE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D Up Ramp Rate formula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 changes to DAM clearing start and MCFRI realloc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TPTF</cp:lastModifiedBy>
  <dcterms:modified xsi:type="dcterms:W3CDTF">2007-06-12T15:00:31Z</dcterms:modified>
  <cp:revision>96</cp:revision>
  <dc:subject/>
  <dc:title>Texas Nodal</dc:title>
</cp:coreProperties>
</file>