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8C6-3DF5-4BBF-BA3D-3391F752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5A90-B753-40A7-9771-68B9A32F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82B-6F25-4A07-8750-7D205826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88D-C7BC-46B3-A9F0-6F3DEAAF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CC7-5DD5-4CC5-B788-E79A1516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3F3-7837-476B-9055-7A5EC514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B09-06A5-4660-86A5-7F8A608F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D91-9552-4574-B357-4B1386CC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F84-A17A-436C-86DB-79AE4445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C35-7122-4BC6-9C4E-C7B3EC11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F54-1AA0-4E39-B004-DC0D0455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8B4-345E-4D81-B103-6559014F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9BFA-084F-4E30-B3F2-D575A27CC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F76-1765-4FC2-AA41-D8DB6B6E44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80880" y="1676520"/>
          <a:ext cx="8229600" cy="4573440"/>
        </p:xfrm>
        <a:graphic>
          <a:graphicData uri="http://schemas.openxmlformats.org/drawingml/2006/table">
            <a:tbl>
              <a:tblPr/>
              <a:tblGrid>
                <a:gridCol w="2178000"/>
                <a:gridCol w="6051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 has inadvertently gained or lost (or is pending the gain/loss) an LSE Relationship to another CR in err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requesting cancellation of an initiating transaction in instances submitting an 814_08 would result in a rej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o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requesting cancellation of an initiating transaction for market defined reasons that do not require approval from the C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ng Trans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is missing any expected 814, 867_04 or 867_03 Fi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point-to-point transactions excluding the 867 Contingency Pl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rejected transactions or reject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ERCOT LSE or TDSP LSE relationship histo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issues pertaining to internal/market projects, system trouble, or related problems as defined by the submit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bel/Chg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questioning a discrepancy pertaining to Siebel service order status changes and Start/Stop time issues when transactions are present in ERCOT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verification of a 997 sent/receiv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Day to Day issues that do not fit one of the Sub Types indicated above such as: Siebel/997 reports, CSA’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456120" y="13716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5800" y="13716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0B8-5E98-44BB-BDDB-CDEC15444C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2057400"/>
          <a:ext cx="8013600" cy="301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80136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s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280-B5CE-456B-B8F1-3728AF8C70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0880" y="1523880"/>
          <a:ext cx="8305920" cy="4738680"/>
        </p:xfrm>
        <a:graphic>
          <a:graphicData uri="http://schemas.openxmlformats.org/drawingml/2006/table">
            <a:tbl>
              <a:tblPr/>
              <a:tblGrid>
                <a:gridCol w="2176560"/>
                <a:gridCol w="612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ERCOT or returned to ERCOT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rovide necessary information to move the issue towards resolution including IAS data and assistance with market guidelin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CR2 – the non submitting CR involved in the issues resol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ting CR, CR2, and TDSP have simultaneous access to view, comment and ultimately vote on the resolution to the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issue has or will be resolved per the information agreed upon in the Vote state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IAS or cannot be resolved as submitted per market guidelines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176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D4A-479F-4946-9313-D29498F631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133720"/>
          <a:ext cx="8629560" cy="283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62956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58B-D796-4469-B625-49ED16887D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544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1523880"/>
          <a:ext cx="8077320" cy="4711680"/>
        </p:xfrm>
        <a:graphic>
          <a:graphicData uri="http://schemas.openxmlformats.org/drawingml/2006/table">
            <a:tbl>
              <a:tblPr/>
              <a:tblGrid>
                <a:gridCol w="2117880"/>
                <a:gridCol w="595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the TDSP or returned to TDSP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to provide ERCOT with agreement with cancel request or CR indication that request is already complete / unable to be comple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erform agreed upon cancels in the Registration System, request additional information or indicate that cancel cannot be performed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l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requested service order has or will be cancelled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ble to Cancel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Cancel w Approval issue or cannot be cancelled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3C6E-F60E-4EB5-83A7-E2B583DBC8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 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520" y="1828800"/>
          <a:ext cx="8153280" cy="347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153280" cy="34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D12-F576-43B8-BA8D-B2D4745B65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2133720"/>
          <a:ext cx="8305920" cy="3543120"/>
        </p:xfrm>
        <a:graphic>
          <a:graphicData uri="http://schemas.openxmlformats.org/drawingml/2006/table">
            <a:tbl>
              <a:tblPr/>
              <a:tblGrid>
                <a:gridCol w="3000600"/>
                <a:gridCol w="53053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In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In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ERCOT System not 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do not show an LSE relationship which is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initiation/enrollment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and 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initiation/enrollment and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79800" y="1752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4240" y="175248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3FC-A1D5-484E-8383-22808FCE91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EEA-6E53-41F8-85ED-D5C5B4AFB7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299-5AC0-4848-94E5-8401483861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371600"/>
          <a:ext cx="7772400" cy="4857840"/>
        </p:xfrm>
        <a:graphic>
          <a:graphicData uri="http://schemas.openxmlformats.org/drawingml/2006/table">
            <a:tbl>
              <a:tblPr/>
              <a:tblGrid>
                <a:gridCol w="2286000"/>
                <a:gridCol w="803160"/>
                <a:gridCol w="965160"/>
                <a:gridCol w="925560"/>
                <a:gridCol w="935280"/>
                <a:gridCol w="933480"/>
                <a:gridCol w="9237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"/>
                          <a:ea typeface="Arial"/>
                        </a:rPr>
                        <a:t>Cancel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Obj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RCOT Operation R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mit no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jected by T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execu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/Exce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"/>
                          <a:ea typeface="Arial"/>
                        </a:rPr>
                        <a:t>T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er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C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y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N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e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TU-T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923-3604-46F7-9159-CD366201DD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3BE-7F93-4F8D-8AA5-1D4EE04E0C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280" y="3505320"/>
          <a:ext cx="8766360" cy="233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05320"/>
                    <a:ext cx="87663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6EA-9DF3-4286-AECE-0DA2F41834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-1511280"/>
          <a:ext cx="7569360" cy="9882000"/>
        </p:xfrm>
        <a:graphic>
          <a:graphicData uri="http://schemas.openxmlformats.org/drawingml/2006/table">
            <a:tbl>
              <a:tblPr/>
              <a:tblGrid>
                <a:gridCol w="609480"/>
                <a:gridCol w="368280"/>
                <a:gridCol w="368280"/>
                <a:gridCol w="368640"/>
                <a:gridCol w="279360"/>
                <a:gridCol w="279360"/>
                <a:gridCol w="279360"/>
                <a:gridCol w="279360"/>
                <a:gridCol w="279360"/>
                <a:gridCol w="609480"/>
                <a:gridCol w="609840"/>
                <a:gridCol w="368280"/>
                <a:gridCol w="368280"/>
                <a:gridCol w="330120"/>
                <a:gridCol w="330120"/>
                <a:gridCol w="33048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97040" y="-150192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87320" y="-1314360"/>
          <a:ext cx="7569360" cy="9486720"/>
        </p:xfrm>
        <a:graphic>
          <a:graphicData uri="http://schemas.openxmlformats.org/drawingml/2006/table">
            <a:tbl>
              <a:tblPr/>
              <a:tblGrid>
                <a:gridCol w="609840"/>
                <a:gridCol w="368280"/>
                <a:gridCol w="368280"/>
                <a:gridCol w="368280"/>
                <a:gridCol w="279360"/>
                <a:gridCol w="279360"/>
                <a:gridCol w="279360"/>
                <a:gridCol w="279360"/>
                <a:gridCol w="279360"/>
                <a:gridCol w="609840"/>
                <a:gridCol w="609480"/>
                <a:gridCol w="368280"/>
                <a:gridCol w="368280"/>
                <a:gridCol w="330120"/>
                <a:gridCol w="330480"/>
                <a:gridCol w="33012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97040" y="-130500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667560" cy="366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F74-C641-45D9-8EBC-A7E3A37A94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C7A-33D1-4BA2-B72E-F9647D69BA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- 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7800" y="1828800"/>
          <a:ext cx="8453520" cy="342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828800"/>
                    <a:ext cx="845352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3948-623E-4A7E-BB02-7E80C3BE93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host</cp:lastModifiedBy>
  <cp:lastPrinted>2002-09-24T18:27:58Z</cp:lastPrinted>
  <dcterms:modified xsi:type="dcterms:W3CDTF">2007-06-05T18:47:33Z</dcterms:modified>
  <cp:revision>697</cp:revision>
  <dc:subject/>
  <dc:title>PowerPoint Presentation</dc:title>
</cp:coreProperties>
</file>