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29403A1-BC58-4062-A7DD-3D64D4DA2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D44B219-CC8B-4932-BC4B-4367DB39A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9702A23-6F51-4B69-BD40-F8B0AEE979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CA02460-349E-4A05-BB4B-BCD4CA50CB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3158C1-E1F5-451E-A892-EA3DB0366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E8867DE6-2203-4B5B-8F08-2A6FD6DC4B7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79B52D8-CD44-4FB0-A14F-E18BEE5C743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2F8CA43-4B70-430A-83F0-B458ED8D72C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6587C0E3-20C3-4039-9450-8046AC9E368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F9EEF23E-DE91-46AD-A8B5-7DFE02A1D0B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19CE36-DD9D-4762-ACCB-98E03A3FFB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975BE71-4C83-428B-AC02-B7B1A9700F8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A6D5BFBB-9974-4A25-BB18-8D60E27F9A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5A6154B-6852-4D6E-8983-7D505809C0B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A1629BD-4401-4C1F-9CB1-D6924395D1C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C6CBB70F-68D0-4526-87DD-0C5DF7C727A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08AE9570-AE80-45FC-A723-EDDF9E89A19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7201A953-CD98-4CB9-B0CF-79275FFC57E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A6F667-CCC1-4028-9940-8B4358F09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9901BFA-F0DA-4185-8418-241B2E6AB6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931465-A0C7-462B-B954-FE55B92C6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60DABB-ACDA-45E9-A0E1-4DD06ED4B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20251A-6EA4-4817-A6F7-2B58AB3C9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C6403B-756D-4C60-9BA5-EA5FE0E88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DB1A00-AD95-4368-9D61-271B024B5F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956D49-DBD8-4F3C-A307-DA389441A0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AF02E7-CCDD-43D9-B350-924572BF2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BA0D8C-8813-4C57-AE69-60238E3F8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98B923-2852-4188-946A-F4BBDCCA55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8ECB2C-0745-4753-B886-B3374B838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27EDF5E-4334-4D4D-899C-58B0A7B328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520902E-F4A0-4DA7-AAFD-381DA8EA2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B039625-370F-4A68-97CD-DED9A4C1D7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4C14B1-66D9-499C-92EC-1D50B9150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752CCA-B6DA-45BE-A7A8-5CDB088EA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084C1D-1AC7-42D2-8AA5-B14C03D8A1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1EAA-5E76-43A1-AE9F-27FA02030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52" name="" descr=""/>
          <p:cNvPicPr/>
          <p:nvPr/>
        </p:nvPicPr>
        <p:blipFill>
          <a:blip r:embed="rId3"/>
          <a:stretch/>
        </p:blipFill>
        <p:spPr>
          <a:xfrm>
            <a:off x="152280" y="152280"/>
            <a:ext cx="18288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2"/>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F32F-2188-4036-8512-5CAEB643A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63360" y="6289560"/>
            <a:ext cx="854280" cy="479520"/>
          </a:xfrm>
          <a:prstGeom prst="rect">
            <a:avLst/>
          </a:prstGeom>
          <a:ln w="0">
            <a:noFill/>
          </a:ln>
        </p:spPr>
      </p:pic>
      <p:sp>
        <p:nvSpPr>
          <p:cNvPr id="93"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5"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228600" y="304920"/>
            <a:ext cx="1295280" cy="519120"/>
          </a:xfrm>
          <a:prstGeom prst="rect">
            <a:avLst/>
          </a:prstGeom>
          <a:ln w="0">
            <a:noFill/>
          </a:ln>
        </p:spPr>
      </p:pic>
      <p:sp>
        <p:nvSpPr>
          <p:cNvPr id="13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139" name="PlaceHolder 2"/>
          <p:cNvSpPr>
            <a:spLocks noGrp="1"/>
          </p:cNvSpPr>
          <p:nvPr>
            <p:ph type="dt" idx="9"/>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10"/>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141" name="" descr=""/>
          <p:cNvPicPr/>
          <p:nvPr/>
        </p:nvPicPr>
        <p:blipFill>
          <a:blip r:embed="rId3"/>
          <a:stretch/>
        </p:blipFill>
        <p:spPr>
          <a:xfrm>
            <a:off x="152280" y="152280"/>
            <a:ext cx="18288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9" name="PlaceHolder 2"/>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E5E7-480F-4C37-B125-ED2E20651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63360" y="6289560"/>
            <a:ext cx="854280" cy="479520"/>
          </a:xfrm>
          <a:prstGeom prst="rect">
            <a:avLst/>
          </a:prstGeom>
          <a:ln w="0">
            <a:noFill/>
          </a:ln>
        </p:spPr>
      </p:pic>
      <p:sp>
        <p:nvSpPr>
          <p:cNvPr id="182"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84" name="PlaceHolder 4"/>
          <p:cNvSpPr>
            <a:spLocks noGrp="1"/>
          </p:cNvSpPr>
          <p:nvPr>
            <p:ph type="ftr" idx="1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PlaceHolder 5"/>
          <p:cNvSpPr>
            <a:spLocks noGrp="1"/>
          </p:cNvSpPr>
          <p:nvPr>
            <p:ph type="dt" idx="1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228600" y="304920"/>
            <a:ext cx="1295280" cy="519120"/>
          </a:xfrm>
          <a:prstGeom prst="rect">
            <a:avLst/>
          </a:prstGeom>
          <a:ln w="0">
            <a:noFill/>
          </a:ln>
        </p:spPr>
      </p:pic>
      <p:sp>
        <p:nvSpPr>
          <p:cNvPr id="22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228" name="PlaceHolder 2"/>
          <p:cNvSpPr>
            <a:spLocks noGrp="1"/>
          </p:cNvSpPr>
          <p:nvPr>
            <p:ph type="dt" idx="1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229" name="PlaceHolder 3"/>
          <p:cNvSpPr>
            <a:spLocks noGrp="1"/>
          </p:cNvSpPr>
          <p:nvPr>
            <p:ph type="ftr" idx="1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230" name="" descr=""/>
          <p:cNvPicPr/>
          <p:nvPr/>
        </p:nvPicPr>
        <p:blipFill>
          <a:blip r:embed="rId3"/>
          <a:stretch/>
        </p:blipFill>
        <p:spPr>
          <a:xfrm>
            <a:off x="152280" y="152280"/>
            <a:ext cx="1828800" cy="914400"/>
          </a:xfrm>
          <a:prstGeom prst="rect">
            <a:avLst/>
          </a:prstGeom>
          <a:ln w="0">
            <a:noFill/>
          </a:ln>
        </p:spPr>
      </p:pic>
      <p:sp>
        <p:nvSpPr>
          <p:cNvPr id="23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hyperlink" Target="http://www.ercot.com/committees/board/tac/rms/mct/index.html" TargetMode="External"/><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hyperlink" Target="mailto:jfrederick@ercot.com" TargetMode="External"/><Relationship Id="rId3" Type="http://schemas.openxmlformats.org/officeDocument/2006/relationships/hyperlink" Target="mailto:smunson@ercot.com" TargetMode="External"/><Relationship Id="rId4"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200040"/>
            <a:ext cx="7924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ffff"/>
                </a:solidFill>
                <a:latin typeface="Lucida Bright"/>
              </a:rPr>
              <a:t>Market Coordination Team Update</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ne 13, 2007</a:t>
            </a:r>
            <a:br>
              <a:rPr sz="2400"/>
            </a:br>
            <a:br>
              <a:rPr sz="2400"/>
            </a:br>
            <a:r>
              <a:rPr b="1" lang="en-US" sz="2000" spc="-1" strike="noStrike">
                <a:solidFill>
                  <a:srgbClr val="ffffff"/>
                </a:solidFill>
                <a:latin typeface="Lucida Bright"/>
              </a:rPr>
              <a:t>Susan Munson</a:t>
            </a:r>
            <a:br>
              <a:rPr sz="2000"/>
            </a:br>
            <a:r>
              <a:rPr b="1" lang="en-US" sz="2000" spc="-1" strike="noStrike">
                <a:solidFill>
                  <a:srgbClr val="ffffff"/>
                </a:solidFill>
                <a:latin typeface="Lucida Bright"/>
              </a:rPr>
              <a:t> </a:t>
            </a:r>
            <a:r>
              <a:rPr b="0" lang="en-US" sz="2000" spc="-1" strike="noStrike">
                <a:solidFill>
                  <a:srgbClr val="ffffff"/>
                </a:solidFill>
                <a:latin typeface="Lucida Bright"/>
              </a:rPr>
              <a:t>Retail Market Liaison/MODPO</a:t>
            </a:r>
            <a:br>
              <a:rPr sz="2000"/>
            </a:br>
            <a:endParaRPr b="0" lang="en-US" sz="2000" spc="-1" strike="noStrike">
              <a:solidFill>
                <a:srgbClr val="ffffff"/>
              </a:solidFill>
              <a:latin typeface="Arial Black"/>
            </a:endParaRPr>
          </a:p>
        </p:txBody>
      </p:sp>
      <p:sp>
        <p:nvSpPr>
          <p:cNvPr id="269" name=""/>
          <p:cNvSpPr/>
          <p:nvPr/>
        </p:nvSpPr>
        <p:spPr>
          <a:xfrm>
            <a:off x="1143000" y="342900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Emergency Change Control 2007-708</a:t>
            </a:r>
            <a:endParaRPr b="0" lang="en-US" sz="2000" spc="-1" strike="noStrike">
              <a:solidFill>
                <a:srgbClr val="ffffff"/>
              </a:solidFill>
              <a:latin typeface="Arial Black"/>
            </a:endParaRPr>
          </a:p>
        </p:txBody>
      </p:sp>
      <p:sp>
        <p:nvSpPr>
          <p:cNvPr id="2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ET Approved and recommended for RMS vote on June 4 Texas SET Change Control Call</a:t>
            </a:r>
            <a:endParaRPr b="1"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Per Terms and Conditions Task Force, modify the 867_03 Monthly Usage transaction to include a new REF segment (REF~5I) that also provides data elements to communicate the reason for denial of access, where the reason for estimating only applies to the monthly usage (867_03) and not the 867_03 Final.  However, ERCOT and some CRs coded that the REF~5I will always be sent on all 867_03s with estimated meter reads based on the following statement in the gray box on the REF~5I segment in the 867_03 Implementation Guide:  “Required when usage has been estimated, otherwise not us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Clarification is needed in the gray box of the REF~5I segment in the 867_03 Implementation Guide to note specifically when this segment is requir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 Approved TX SET Change Control 2007-708 by email vote</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minder:  Where are Texas SET 3.0 Key Documents Kept? </a:t>
            </a:r>
            <a:endParaRPr b="0" lang="en-US" sz="2000" spc="-1" strike="noStrike">
              <a:solidFill>
                <a:srgbClr val="ffffff"/>
              </a:solidFill>
              <a:latin typeface="Arial Black"/>
            </a:endParaRPr>
          </a:p>
        </p:txBody>
      </p:sp>
      <p:sp>
        <p:nvSpPr>
          <p:cNvPr id="302" name="PlaceHolder 2"/>
          <p:cNvSpPr>
            <a:spLocks noGrp="1"/>
          </p:cNvSpPr>
          <p:nvPr>
            <p:ph/>
          </p:nvPr>
        </p:nvSpPr>
        <p:spPr>
          <a:xfrm>
            <a:off x="152280" y="914040"/>
            <a:ext cx="8839440" cy="51814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T page – ERCOT.com</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rcot.com/committees/board/tac/rms/mct/index.html</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what is ther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Requirements Final Version 1.13</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3.0 - MCT Issues &amp; FAQs Lo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Change Control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Guides Version 3.0</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Version 3.0 Implementation Plan FINAL</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 Contingency Plan FINAL</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152280" y="914400"/>
            <a:ext cx="876312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Dates and Locations</a:t>
            </a:r>
            <a:r>
              <a:rPr b="0" lang="en-US" sz="2000" spc="-1" strike="noStrike">
                <a:solidFill>
                  <a:srgbClr val="000000"/>
                </a:solidFill>
                <a:latin typeface="Arial"/>
              </a:rPr>
              <a:t> </a:t>
            </a:r>
            <a:r>
              <a:rPr b="1" lang="en-US" sz="2000" spc="-1" strike="noStrike">
                <a:solidFill>
                  <a:srgbClr val="000000"/>
                </a:solidFill>
                <a:latin typeface="Arial"/>
              </a:rPr>
              <a:t>2007</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ne 25 – Emergency MCT Conference Call (only if needed)</a:t>
            </a: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ne 28 – MCT and TX SET Conference Call</a:t>
            </a: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July 20 – AEP, Corpus Christi</a:t>
            </a:r>
            <a:endParaRPr b="0" lang="en-US" sz="2000" spc="-1" strike="noStrike">
              <a:solidFill>
                <a:srgbClr val="000000"/>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ugust 29 (Lessons Learned) – ERCOT Met Center</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ll meetings are held in conjunction with TX SET meetings)</a:t>
            </a:r>
            <a:endParaRPr b="1" lang="en-US" sz="1800" spc="-1" strike="noStrike">
              <a:solidFill>
                <a:srgbClr val="000000"/>
              </a:solidFill>
              <a:latin typeface="Arial"/>
            </a:endParaRPr>
          </a:p>
        </p:txBody>
      </p:sp>
      <p:sp>
        <p:nvSpPr>
          <p:cNvPr id="305"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uture Meetings/Market Communication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06"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Contacts</a:t>
            </a:r>
            <a:endParaRPr b="0" lang="en-US" sz="2400" spc="-1" strike="noStrike">
              <a:solidFill>
                <a:srgbClr val="ffffff"/>
              </a:solidFill>
              <a:latin typeface="Arial Black"/>
            </a:endParaRPr>
          </a:p>
        </p:txBody>
      </p:sp>
      <p:sp>
        <p:nvSpPr>
          <p:cNvPr id="308" name=""/>
          <p:cNvSpPr/>
          <p:nvPr/>
        </p:nvSpPr>
        <p:spPr>
          <a:xfrm>
            <a:off x="762120" y="1371600"/>
            <a:ext cx="7315200" cy="395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roject Manag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600" spc="-1" strike="noStrike">
                <a:solidFill>
                  <a:srgbClr val="000000"/>
                </a:solidFill>
                <a:latin typeface="Arial"/>
              </a:rPr>
              <a:t>ERCOT SR. Business Analys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pe Parris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Jennifer Frederic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parrish@ercot.com</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9999"/>
                </a:solidFill>
                <a:uFillTx/>
                <a:latin typeface="Arial"/>
                <a:hlinkClick r:id="rId2"/>
              </a:rPr>
              <a:t>jfrederick@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6522 (w)</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248-6733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771-9582 (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413-0815 (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Market Liaison</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n Muns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smunson@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3881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826-0564 (c)</a:t>
            </a:r>
            <a:endParaRPr b="0" lang="en-US" sz="1400" spc="-1" strike="noStrike">
              <a:solidFill>
                <a:srgbClr val="000000"/>
              </a:solidFill>
              <a:latin typeface="Arial"/>
            </a:endParaRPr>
          </a:p>
        </p:txBody>
      </p:sp>
      <p:sp>
        <p:nvSpPr>
          <p:cNvPr id="309"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311"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s / Issues</a:t>
            </a:r>
            <a:endParaRPr b="0" lang="en-US" sz="2400" spc="-1" strike="noStrike">
              <a:solidFill>
                <a:srgbClr val="ffffff"/>
              </a:solidFill>
              <a:latin typeface="Arial Black"/>
            </a:endParaRPr>
          </a:p>
        </p:txBody>
      </p:sp>
      <p:sp>
        <p:nvSpPr>
          <p:cNvPr id="271"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72" name=""/>
          <p:cNvGraphicFramePr/>
          <p:nvPr/>
        </p:nvGraphicFramePr>
        <p:xfrm>
          <a:off x="457200" y="838080"/>
          <a:ext cx="8077320" cy="3519720"/>
        </p:xfrm>
        <a:graphic>
          <a:graphicData uri="http://schemas.openxmlformats.org/drawingml/2006/table">
            <a:tbl>
              <a:tblPr/>
              <a:tblGrid>
                <a:gridCol w="2438280"/>
                <a:gridCol w="2895840"/>
                <a:gridCol w="2743200"/>
              </a:tblGrid>
              <a:tr h="527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435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CT Mandate of 07/01/2007 poses tight timeline (M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 and resource manag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 comple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7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X Server Consolidation (Lo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X and TX SET Project Teams working closely together on dates.  All servers used by TX SET have been scheduled for after 07/01/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0" y="533520"/>
          <a:ext cx="8991720" cy="6134040"/>
        </p:xfrm>
        <a:graphic>
          <a:graphicData uri="http://schemas.openxmlformats.org/presentationml/2006/ole">
            <p:oleObj r:id="rId1" spid="">
              <p:embed/>
              <p:pic>
                <p:nvPicPr>
                  <p:cNvPr id="275" name="" descr=""/>
                  <p:cNvPicPr/>
                  <p:nvPr/>
                </p:nvPicPr>
                <p:blipFill>
                  <a:blip r:embed="rId2"/>
                  <a:stretch/>
                </p:blipFill>
                <p:spPr>
                  <a:xfrm>
                    <a:off x="0" y="533520"/>
                    <a:ext cx="8991720" cy="6134040"/>
                  </a:xfrm>
                  <a:prstGeom prst="rect">
                    <a:avLst/>
                  </a:prstGeom>
                  <a:ln w="0">
                    <a:noFill/>
                  </a:ln>
                </p:spPr>
              </p:pic>
            </p:oleObj>
          </a:graphicData>
        </a:graphic>
      </p:graphicFrame>
      <p:sp>
        <p:nvSpPr>
          <p:cNvPr id="2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ject Schedule</a:t>
            </a:r>
            <a:endParaRPr b="0" lang="en-US" sz="2000" spc="-1" strike="noStrike">
              <a:solidFill>
                <a:srgbClr val="ffffff"/>
              </a:solidFill>
              <a:latin typeface="Arial Black"/>
            </a:endParaRPr>
          </a:p>
        </p:txBody>
      </p:sp>
      <p:sp>
        <p:nvSpPr>
          <p:cNvPr id="277"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9" name=""/>
          <p:cNvSpPr/>
          <p:nvPr/>
        </p:nvSpPr>
        <p:spPr>
          <a:xfrm>
            <a:off x="2362320" y="152280"/>
            <a:ext cx="6553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40038_01 Status</a:t>
            </a:r>
            <a:endParaRPr b="0" lang="en-US" sz="2400" spc="-1" strike="noStrike">
              <a:solidFill>
                <a:srgbClr val="000000"/>
              </a:solidFill>
              <a:latin typeface="Arial"/>
            </a:endParaRPr>
          </a:p>
        </p:txBody>
      </p:sp>
      <p:sp>
        <p:nvSpPr>
          <p:cNvPr id="280" name="PlaceHolder 1"/>
          <p:cNvSpPr>
            <a:spLocks noGrp="1"/>
          </p:cNvSpPr>
          <p:nvPr>
            <p:ph/>
          </p:nvPr>
        </p:nvSpPr>
        <p:spPr>
          <a:xfrm>
            <a:off x="151920" y="762120"/>
            <a:ext cx="899172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tus: </a:t>
            </a:r>
            <a:endParaRPr b="1"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arget for schedule, budget, and sc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ject Phases: </a:t>
            </a:r>
            <a:r>
              <a:rPr b="1" lang="en-US" sz="1600" spc="-1" strike="noStrike">
                <a:solidFill>
                  <a:srgbClr val="000000"/>
                </a:solidFill>
                <a:latin typeface="Arial"/>
              </a:rPr>
              <a:t> </a:t>
            </a:r>
            <a:endParaRPr b="1"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ion – Comple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 Comple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 – Mandated completion date July 1, 2007; Go-Live 06/24/2007</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 – Target completion is post go-l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ent Activity as of June 6, 2007:</a:t>
            </a:r>
            <a:endParaRPr b="1" lang="en-US" sz="16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ETS, Reprocessing, UAT (on track for completion 06/15/2007)</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izing Migration Planning at ERCO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xt Steps for ERCOT as of May 1, 2007: </a:t>
            </a:r>
            <a:endParaRPr b="1"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ize Production Migration Tasks = 06/15/2007</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all testing = 06/15/2007</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83" name=""/>
          <p:cNvSpPr/>
          <p:nvPr/>
        </p:nvSpPr>
        <p:spPr>
          <a:xfrm>
            <a:off x="2743200" y="15228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40038_01 Status</a:t>
            </a:r>
            <a:endParaRPr b="0" lang="en-US" sz="2400" spc="-1" strike="noStrike">
              <a:solidFill>
                <a:srgbClr val="000000"/>
              </a:solidFill>
              <a:latin typeface="Arial"/>
            </a:endParaRPr>
          </a:p>
        </p:txBody>
      </p:sp>
      <p:sp>
        <p:nvSpPr>
          <p:cNvPr id="284" name="PlaceHolder 1"/>
          <p:cNvSpPr>
            <a:spLocks noGrp="1"/>
          </p:cNvSpPr>
          <p:nvPr>
            <p:ph/>
          </p:nvPr>
        </p:nvSpPr>
        <p:spPr>
          <a:xfrm>
            <a:off x="151920" y="762120"/>
            <a:ext cx="8991720" cy="5410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cent Activity for MCT/TX SET:</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ized Production Implementation Pla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ed and finalized Production Implementation Contingency Pla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Texas SET Emergency Change Control 2007-708 for RMS vote to clarify a requirement</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ext Steps for MCT:</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Implement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Learned</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arifications to Market Requirements</a:t>
            </a:r>
            <a:endParaRPr b="0" lang="en-US" sz="2000" spc="-1" strike="noStrike">
              <a:solidFill>
                <a:srgbClr val="ffffff"/>
              </a:solidFill>
              <a:latin typeface="Arial Black"/>
            </a:endParaRPr>
          </a:p>
        </p:txBody>
      </p:sp>
      <p:sp>
        <p:nvSpPr>
          <p:cNvPr id="28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ay 24 MCT meeting</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ing convention of Customer Billing Contact Information file per RMGRR052</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the ‘TS’ code in cancelling transactions involved in a Mass Transi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June 4 TX SET Change Control Call</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5I segment will not be sent on 867_03 Finals with estimated meter reads (Ts &amp; Cs Requirement 4)</a:t>
            </a:r>
            <a:endParaRPr b="0" lang="en-US" sz="2000" spc="-1" strike="noStrike">
              <a:solidFill>
                <a:srgbClr val="000000"/>
              </a:solidFill>
              <a:latin typeface="Arial"/>
            </a:endParaRPr>
          </a:p>
        </p:txBody>
      </p:sp>
      <p:sp>
        <p:nvSpPr>
          <p:cNvPr id="288"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duction Implementation Plan - FINAL</a:t>
            </a:r>
            <a:endParaRPr b="0" lang="en-US" sz="2000" spc="-1" strike="noStrike">
              <a:solidFill>
                <a:srgbClr val="ffffff"/>
              </a:solidFill>
              <a:latin typeface="Arial Black"/>
            </a:endParaRPr>
          </a:p>
        </p:txBody>
      </p:sp>
      <p:sp>
        <p:nvSpPr>
          <p:cNvPr id="2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ized Production Implementation Plan for Texas SET 3.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modifications made at May 24 MCT meeting</a:t>
            </a:r>
            <a:endParaRPr b="0" lang="en-US" sz="20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7 schedule alignmen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end system shutdown email</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91"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duction Contingency Plan - FINAL</a:t>
            </a:r>
            <a:endParaRPr b="0" lang="en-US" sz="2000" spc="-1" strike="noStrike">
              <a:solidFill>
                <a:srgbClr val="ffffff"/>
              </a:solidFill>
              <a:latin typeface="Arial Black"/>
            </a:endParaRPr>
          </a:p>
        </p:txBody>
      </p:sp>
      <p:sp>
        <p:nvSpPr>
          <p:cNvPr id="2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ized Production Contingency Plan for Texas SET 3.0</a:t>
            </a:r>
            <a:endParaRPr b="1"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of force majeure (e.g. fire, hurricane, tornado, etc.), the market will consider rescheduling Texas SET 3.0 implementation for the contingency weekend of June 30 – July 1.</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nd TDSP Contingency Plan</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ERCOT or a TDSP fail to successfully implement Texas SET Version 3.0 the Market will be notified on Saturday, June 23rd on the 6:00 PM Market Participant Conference Call.  ERCOT and TDSPs will indicate on the 6:00 PM Market Participant Conference Call whether they need additional time for code migration.  In this event, another Market Participant Conference Call will be scheduled for a later time on Saturday evening for a migration status update.  If ERCOT or a TDSP is unable to migrate to Version 3.0, ERCOT or the TDSP will not reject Version 3.0 transactions and will hold them or work them manually until they can implement Texas SET Version 3.0.</a:t>
            </a:r>
            <a:endParaRPr b="0" lang="en-US" sz="16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duction Contingency Plan - FINAL</a:t>
            </a:r>
            <a:endParaRPr b="0" lang="en-US" sz="2000" spc="-1" strike="noStrike">
              <a:solidFill>
                <a:srgbClr val="ffffff"/>
              </a:solidFill>
              <a:latin typeface="Arial Black"/>
            </a:endParaRPr>
          </a:p>
        </p:txBody>
      </p:sp>
      <p:sp>
        <p:nvSpPr>
          <p:cNvPr id="2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ized Production Contingency Plan for Texas SET 3.0</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 Contingency Plan</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 CR fail to successfully implement Texas SET Version 3.0, the Market will be notified on a Market Participant Conference Call.  The CR will coordinate a migration to minimize any potential impact to the rest of the Market.  The CR will not reject Version 3.0 transactions and will hold them or work them manually until the CR can implement Texas SET Version 3.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7"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Execu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 PPL   Source: Market/PUCT   Priority: 0-Carryover   Rank: 1    Budget: $1-$3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21:16Z</dcterms:created>
  <dc:creator>jkassel</dc:creator>
  <dc:description/>
  <dc:language>en-US</dc:language>
  <cp:lastModifiedBy>smunson</cp:lastModifiedBy>
  <dcterms:modified xsi:type="dcterms:W3CDTF">2007-06-07T15:33:57Z</dcterms:modified>
  <cp:revision>208</cp:revision>
  <dc:subject/>
  <dc:title>Slide 1</dc:title>
</cp:coreProperties>
</file>