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9726-495F-47EC-8018-CEE2E4BC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D191-35F4-40C0-95B5-E090A3DC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1396-A602-4F8D-A334-EBAF4116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203F-8D1F-488A-860C-67929B76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743A-2E96-4331-B6BE-95E7AD12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05CF-6164-4826-89B5-102599B9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5D0C-3471-4860-91C6-7639C4DC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8BC6-B829-4347-9FBC-17989606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7CCB-2CD8-4F02-BA94-25D6D03C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08D6-B057-4378-BBBE-BD89AC27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1FA3-266C-4FB7-833C-0D8C243D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8885-A54D-4F01-BE46-E12B6490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5154-8172-4BD4-951C-9F86C1A2F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y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914400"/>
          <a:ext cx="7925040" cy="51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792504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y 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066680"/>
          <a:ext cx="800100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00100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92240" y="1066680"/>
          <a:ext cx="7365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066680"/>
                    <a:ext cx="7365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7-06-07T20:13:28Z</dcterms:modified>
  <cp:revision>55</cp:revision>
  <dc:subject/>
  <dc:title>Instructions</dc:title>
</cp:coreProperties>
</file>