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B2D-EF7F-4B83-A71A-2BF033F1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553-3E26-4B07-B48C-F254843C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295-3E6B-4C02-A547-E6AF1FB1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ED9-6AC5-45EE-AE93-DB8B2908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EA12-0D20-4661-A39E-4F1373E0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558A-8821-400E-A571-F1F8FB58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57C-A8A6-4C59-AEA5-9BECCD80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D20-041D-432B-9A1A-E1252F32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403A-E833-4825-A30C-092B8EF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1588-C504-4F54-B160-331BD083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0E7-6AC1-4D13-A442-608BD09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756-89CF-477A-826D-FBEC09DB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E25-744A-48F8-89BF-FF6006D3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FF33-C817-47E3-9130-F1CC0684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26B3-F5BE-4464-9D85-F396306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1C08-864B-4EF9-8D02-4EBCEB88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5B24-D6DD-4905-9C8E-A7A39E24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3B2-A05B-4666-932E-8B8A5C97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B36-12C4-4FB0-8495-B395C9B9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E16-B0C8-42B2-A667-9EEF889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D77-8563-4CCE-9B49-0B93EC68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BD5-7241-4BC6-B7B6-056335F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F1F-9BF7-4677-A87A-598A6C6A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FEF-D35E-4289-8DC4-C2DAB8F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2B5B-5668-4BB8-8508-D197A1F47F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14C2-227E-4CD5-B8EB-564059E54F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7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GRR052 File Naming Convention for Customer Billing Contact Information URGENT (Vo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Procedures: Working Group Name Change (Vo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on TAC directive relating to identifying issues with net metering and small renewable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Service Level Agreement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MGRR052 File Naming Convention for Customer Billing Contact Inform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Flight 0407 Market Testing to support SET Version 3.0 Implementation, an issue was identified with participants file naming convention resulting in ERCOT re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dy was for ERCOT to modify process and focus specifically on use of “csv” within file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other alternative was more 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mpact to resource availability and cost impacts were min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immediate action and URGENCY vote at RMS was approved unanim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requests URGENT approval from T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Procedures: Working Group Name Change (Vote)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Working Group name change to Retail Metering Work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was formed to provide market guidelines and protocols to support PUCT Rule 25.311, Competitive Metering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l Metering Working Group name allows flexibility to address other retail metering issues that arise in ERCOT market stemming from PUCT or Legislative 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Protocols remain unaff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Requests Affirming Vote from T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ssues with net metering and small renewable gen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 30, 2007 TAC directed RMS to “identify issues with net metering and small renewable gener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ail Metering WG facilitated retail market workshops to identify those issues and be considerate of impacts from Advanced Metering Rulemaking and HB 369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WG met May 2 and June 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rom worksh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pe of effort defined as Small Renewable Generation is 50kW and 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ve 50kW up to 2mW is covered by HB 369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s currently address and Settlement is sup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regate issues by Retail; Commercial Operations; Oth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issues as short term (September 2007) and long term (January 2009)sol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WG will host another workshop in 2 weeks to complete recommend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ge transaction communicates both load and generation values (Short and a Long 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 ID Maintenance transaction that identifies “advanced” metering, if applicable (Long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rcial Op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tion for profile impacts associated with DG, TOU, DLC (long te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ettlement still occur based on current profiles regardless of DG, TOU, DL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lationship between QSE, REP and Consu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generation create credit against REP lo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threshold for QSE invol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settlement occur when generation value creates a negat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ering must consist of either separate meters, or a single meter, that measure both load and generator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not experience reduction in value associated with small renewable generation due to marke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RCOT Service Level Agreement Upd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reported 100% availability in March and Apr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itional hardware has been ordered to support failover capability and ensure availability. Should be in production late summ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has proposed new SLA offering 99.9% service availability outside scheduled release and maintenance windows. 24 X 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has offered additional reporting to include metrics on TML of 98% 24x7, MarkeTrak of 98% 7am-7pm M-F except holiday. A service level agreement is also being created to support Data Extract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A and Reporting will be presented to RMS for consideration and approval on June 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AEP</cp:lastModifiedBy>
  <dcterms:modified xsi:type="dcterms:W3CDTF">2007-06-07T14:18:49Z</dcterms:modified>
  <cp:revision>15</cp:revision>
  <dc:subject/>
  <dc:title>RMS Update to TAC</dc:title>
</cp:coreProperties>
</file>