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744-B1EC-4AA0-AA37-97F93EFB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88E-92E5-4DD8-B87F-9D3888A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7A5-EDB7-4490-A5EF-1E9BD8C6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F9F-9003-4725-A3FE-9087FDA6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25FA-08D0-4998-80EB-1C824CA4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9E85-85FD-4D3B-BAAF-D3A6F312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C279-29B5-428D-925D-5B44B85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746-FBC7-4FCB-B917-3B65A91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3E71-6785-4006-B948-8CF58025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746-06A6-446D-9ECA-FFE4563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854E-A881-4947-BD7B-446D39D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69C-C237-4B26-B1BE-AE113C64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8DD7-2CE9-4944-AE76-DC071C0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E0B-9CBA-4F2B-84AD-60BC9BA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0CA4-F944-4AAE-BA47-BB2176BE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D79B-D111-46B5-B001-5FEA5364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6E4-4B13-4FD1-BE4E-717346E4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950-74E6-497A-B962-65C6E4C3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0C9-786E-47CA-A127-227E88DE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135-53DB-49DD-8B14-B8D8C37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AFC-FA8A-4613-828C-A7A905F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1C6-F5D6-442A-AAEC-412A245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641-86F4-4938-98F2-BFBB465A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81B-3735-4E2A-AA15-91BE572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2C4-0CA3-4705-8C2B-7FABCACB9B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5A38-6185-40B5-86DE-7ABE3B3FCD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advertent Gain Task For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June 13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84240" y="2438280"/>
            <a:ext cx="543096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11 IGTF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ed on Issues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Gs during Mass Transition or CR has left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recommendation to use “Dear Occupant”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nt and PUCT to bring more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VI Fees during I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SPs charging MVI fee to Inadvertent 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process to charge MVI fee to CR who sends a M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11 IGTF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DSP agreement on M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or will not press “Agree” until the EDI is rece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reporting needed to get CR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SPs to provide short-term reporting to PUCT until MarkeTrak Enhancements put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pfrog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P &amp; CNP agreed to consider offering under certain circum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y 11 IGTF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dating after 1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 RMG to obligate CRs to date agreed to in MT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dated greater than 18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SPs will create language to limit to 150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Gs during DN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o follow-up but likely that Customer must be re-noticed prior to disconn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vs. Pr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o provide clarification on whether CRs must take back if Customer longer at Pre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meeting June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Room 1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:00 a.m. to 3:00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ing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T Workflow Rev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 Root Causes &amp; Backen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an Inadvertent 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en Garcia</cp:lastModifiedBy>
  <dcterms:modified xsi:type="dcterms:W3CDTF">2007-06-12T16:37:39Z</dcterms:modified>
  <cp:revision>30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