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7E9C-4208-4FAB-8CE7-4FC1836D0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D52C-9417-4F73-9B36-F98C7B973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137D-C06C-484F-996C-FD162F69C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AEA3-5A54-4014-B669-8498B3D50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F529-B267-4383-A9E0-16AFC5907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FE19-094C-44F9-8557-8A4E9D6E5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2231-FDBD-4F43-B0B1-4F896FC15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5CA5-79F4-40AE-B492-C2F21038F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2753-0178-4DD9-8DAD-CCB94CB9C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03C6-DD46-46B9-8F88-7C266E3A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616D-0D41-4DB3-BB2C-AD8D62C5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BFE8-8DE2-4799-9FD4-480B122D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43661-72A2-4477-8A27-4FCB46DC0E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tail Market Subcommitte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une 13, 2007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Performance Measures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1st</a:t>
            </a:r>
            <a:r>
              <a:rPr b="0" lang="en-US" sz="3600" spc="-1" strike="noStrike" baseline="30000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Quarter 2007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Transaction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it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28600" y="1295280"/>
          <a:ext cx="8686440" cy="4689720"/>
        </p:xfrm>
        <a:graphic>
          <a:graphicData uri="http://schemas.openxmlformats.org/drawingml/2006/table">
            <a:tbl>
              <a:tblPr/>
              <a:tblGrid>
                <a:gridCol w="1985040"/>
                <a:gridCol w="1166040"/>
                <a:gridCol w="1110600"/>
                <a:gridCol w="1163880"/>
                <a:gridCol w="984600"/>
                <a:gridCol w="1166040"/>
                <a:gridCol w="1110240"/>
              </a:tblGrid>
              <a:tr h="33732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C #24462 Performance Measu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tail Market Subcommitt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1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4 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1 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ans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t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t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t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10,51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,17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7,62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8,61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.5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,42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6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74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9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97,59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.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9,28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9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1,93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8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02,24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.7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,12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9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1,41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9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96,96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.4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6,89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7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0,12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42,56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.7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4,07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0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,60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9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34,19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.8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9,86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6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,38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7.7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7_02 Receiv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93,81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.1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7,24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7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3,20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7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7_02 S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93,17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5,82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9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3,20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7_04 S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89,30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.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,87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4,99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3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28600" y="1295280"/>
          <a:ext cx="8686800" cy="5085000"/>
        </p:xfrm>
        <a:graphic>
          <a:graphicData uri="http://schemas.openxmlformats.org/drawingml/2006/table">
            <a:tbl>
              <a:tblPr/>
              <a:tblGrid>
                <a:gridCol w="1986120"/>
                <a:gridCol w="1164960"/>
                <a:gridCol w="1111320"/>
                <a:gridCol w="1163520"/>
                <a:gridCol w="984240"/>
                <a:gridCol w="1165320"/>
                <a:gridCol w="1111320"/>
              </a:tblGrid>
              <a:tr h="33732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C #24462 Performance Measu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tail Market Subcommitt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1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4 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1 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ans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t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t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t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1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619,48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9,41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4,55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1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1,82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3.2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,79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7.2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,63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4.3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87,09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7.9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5,96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8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4,23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7.8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4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99,37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6.8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,25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6.9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8,97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6.4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72,99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7.6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9,56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3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,73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3.5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92,08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.7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3,53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9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9,81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9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30,40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.6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6,64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5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1,14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8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7_02 Receiv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45,46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8.8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2,52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5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3,22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9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7_02 S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44,24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9,10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9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3,20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7_04 S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47,73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.9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6,56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1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0,45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2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 - 814_28 PT and 814_28 09 impact this percentage.  Use percentages provided by TDSPs.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mmccarty</cp:lastModifiedBy>
  <cp:lastPrinted>2002-09-24T18:27:58Z</cp:lastPrinted>
  <dcterms:modified xsi:type="dcterms:W3CDTF">2007-05-15T16:52:06Z</dcterms:modified>
  <cp:revision>422</cp:revision>
  <dc:subject/>
  <dc:title>PowerPoint Presentation</dc:title>
</cp:coreProperties>
</file>