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041-5FCA-451D-B0C1-084CA1EF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99A-3041-43D3-AA41-EBF9CCD2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AED-9131-4415-A00B-257FCB95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349-4594-4808-997A-65FE48CA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83AF-E855-4B67-8D40-0AF5EC12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054C-26F3-407E-87F0-7D63A5E4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4BEE-F7AE-4B37-8AFD-541B411D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EE3B-8ABC-451D-9011-17A9B03B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555A-F890-4D0B-BC35-9AE2B48B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3B3D-5A44-414A-A61E-760F4FC0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099C-0022-42FF-9910-ACBD100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F63-673F-46BB-BFA7-9C59E04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19C4-ADAE-4AA3-AAEC-E079F416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06F9-202E-47C2-9F0E-6334B32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8BA7-BA0B-4D93-8E2F-B6904ED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D032-2992-4C2E-A505-22C6962D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ECDC-4FED-4C24-8BDF-1744799F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045-5928-4BBC-8BFD-29082F7B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4AC-8685-4E65-BA5E-B288750C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965-33A3-470F-832B-DEA41477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49D-30AF-479D-A65B-BC14DCAF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A41-5236-4A71-BF53-62A54FD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D79-17D1-4621-B1C4-9E3621DE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C0E-D9A1-42CB-B40C-80296286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ED8E-4483-4A87-BB63-0CBB5DF72A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0DA3-0FA3-4F2C-827F-A21C8AF0ED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ket Metrics Working Gro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49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S Update: June 13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31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formance Measures Rulemaking – APPROVAL STILL 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A-1: Customers Served by R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P references re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A-2: Number of Active R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B-1:  Customer Enrollment Success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31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B-1:  Customer Enrollment Success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will report at market summar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only be required to report by REP and by TDU if performance falls below 98% success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ollowing end-to-end proc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-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Move-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-O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31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B-2:  Meter Read and ESIID Database Management Transaction Success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will report at market summar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only be required to report by REP and by TDU if performance falls below 98% success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 Hoc Historical Usage Requ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 R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IID Creation and Maintenance Requ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31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B-3:  Field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ng Success Rate measure elimin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nclude ERCOT service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 DNP reporting incorpo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SPs will report on: Move-Ins, Priority Move-Ins, Move-Outs, Disconnects, Reconnects, Same-day Reconnects, Meter Re-Reads and Off-Cycle R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included Estimates for Reasons Other then Denial of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recommended this be removed and handled with RMS report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ff agreed to recons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31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B-4:  Inter-Company Inv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31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B-5:  Inadvertent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holder only – no information in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ing for guidance from IG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 &amp; TDSPs voiced concern about including in Performanc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-level reporting would be more appropriate as significant improvements are being made as a result of the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feel a long term measure 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agreed to re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should be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ed by Staff on June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shed at June 22 Open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MWG &amp; PUCT will co-host workshop in Ju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could be adopted end of Ju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keTrak Repor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-to-Day Summar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AG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 Summar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Jen Garcia</cp:lastModifiedBy>
  <dcterms:modified xsi:type="dcterms:W3CDTF">2007-06-01T17:47:06Z</dcterms:modified>
  <cp:revision>26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