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E9AF-5B3B-4C7E-B01F-DCB4E805B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8214-391D-4BFC-B5DB-D70D85BB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7C45-CD7E-41DC-8944-3DA583EA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4C44-CED6-4DB2-9179-A225555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9271-B921-41B4-B154-300AF3C8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5154-AC47-4A7A-A720-2594E99A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4286-3F2F-4BA7-8759-2E9291FD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6688-2AEA-4A37-9DEE-E217A1C0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6289-1D45-4E73-AD92-DA460585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C1A7-69CA-474E-B04F-9DCC317D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1B7D-079C-4144-8B5C-CE2997B0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CB84-F49D-4EF8-AC31-D23B5B79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BCAF-1F65-4C0D-BBF0-AE1C057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8DDA-C839-41BB-BA60-873886F8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E6B0-2A82-449F-A4A1-42A803FA6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3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and on-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for Flight 0407 (TX SET 3.0) completed successfully on Wednesday, June 6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to all testing parties for finishing on-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7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next Wednesday:  06/20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6/26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7/06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07/09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8/21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7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Preferred Customer</cp:lastModifiedBy>
  <dcterms:modified xsi:type="dcterms:W3CDTF">2007-06-07T05:05:33Z</dcterms:modified>
  <cp:revision>79</cp:revision>
  <dc:subject/>
  <dc:title>Instructions</dc:title>
</cp:coreProperties>
</file>