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F32D-0B95-451B-9F2B-CA0C9090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55B5-2CBE-496D-924B-E22FF3CE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59F9-D342-4DF9-9F77-74EB4909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04FF-B23C-4293-A5B2-B0F5429B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1B5D-B9B4-484E-B491-3178EF0F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88B5-0386-4F3F-8C62-2D35D10A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A309-B431-462B-B43C-57A940BC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1201-AC03-49A0-95B3-828D4108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7F5E-55CC-405B-AB04-D54C144A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4C63-5355-4DAE-80F8-E3210B98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55C0-B879-4D5A-8D5E-DC1FFDAD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70D0-28F8-442E-B905-3DF54EFB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B7C7-4C4A-4A4D-B376-B99D3B6F3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723920" y="647712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809880" y="64753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44F5-B1AA-4E25-9F25-CEC996383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05120" cy="76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M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odal Commercial Systems Project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Ps Mee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une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ill Barnes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42840"/>
          <a:ext cx="8229600" cy="2054520"/>
        </p:xfrm>
        <a:graphic>
          <a:graphicData uri="http://schemas.openxmlformats.org/drawingml/2006/table">
            <a:tbl>
              <a:tblPr/>
              <a:tblGrid>
                <a:gridCol w="3814920"/>
                <a:gridCol w="2311200"/>
                <a:gridCol w="210348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ables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 Bar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Schedule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 Rasber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 and Just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1189-4A0B-4521-8399-FAC503F0C2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S Requirement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is currently syncing all projects to the March 2007 Protocols and a number of NPRRs and whitepapers (termed Baseline 1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seline sync is needed to make sure all projects can communicate data appropriately with one an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line 2 synchronization will start in July 2007. Activities around baseline 2 should conclude by August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is anticipating at least 3 baselines before Go L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associated documentation (use cases, CSDs, test cases, etc) will be updated as Baselines appro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document naming convention will in place for all baseline 1 and future baseline vers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s personnel should stay abreast with COMS require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D9A8-9653-46DA-9EDA-98E48D6439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S Requirement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520" y="822240"/>
            <a:ext cx="8732880" cy="52135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following COMS Requirements are approved by TPTF as version 1.1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M, 3 documents -- Energy, AS, and Make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ments and Invoices, 2 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ial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l Time Operations, 6 documents – AS, Energy, Voltage, Emergency Operations, RMR, and Black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following COMS requirements version 1.1 were submitted at May 23 TPT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R Requirements – 4 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Aggregation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following COMS requirements version 1.1 will be submitted at the June 11 TPTF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M Requirements and C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documents are going through the TPTF approval cycle and should be updated by July 200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0FBB-FF81-4A18-889A-EAE9A7C2D2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S CSD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llowing COMS Conceptual System Designs (CSDs) were being submitted to TPTF as version 1.1 on May 23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o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llowing COMS Conceptual System Design (CSDs) were being submitted to TPTF as version 1.1 on May 23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1A62-98DC-4DF9-B357-5668FF54DF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S Use Case and Mini Market Example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has not received any comments on Use Ca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anyone reviewed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eedback 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groups having difficulty understanding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dal Settlements Mini Market Examples - in prog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shed end of J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dicated SDAWG meeting for review Mid Ju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4BF8-009E-46F0-AEF9-0EFA643E01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velopment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ed Design on ta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uld have drafts of Detailed Design documents by 2Q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ctional Decompositions completed in April 2007 on base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destar version 4.7 successfully delivered in April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base which will be used to build No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ve had a number of defects and working Lodestar to corr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destar metadata changes version 1 submitted April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nificant number of new tables and columns submitted to support No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data changes have been delivered to ERCOT and applied to Lodestar 4.7 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uld have Statements and Invoice mock displays ready for COPs/TPTF by July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 to start unit testing as early as Summer 2007 to meet EDS timel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testing at the Modular level and will “build up” to b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73D1-0FCD-491C-A1F2-1FACF914DC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velopment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2925720"/>
            <a:ext cx="8229600" cy="3186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build packages consists of multiple mod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s aligned into business functional components (i.e. DAM Energy, DAM AS, CRR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FAT completion by mid 4th quarter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SAT completion by early 1st quarter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, Lodestar S&amp;B slated for EDS 3 &amp;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ments and Invoice format for EDS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dow Settlements EDS 4 (requires Extra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lements Go Live with 1st CRR auc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4680" y="1189080"/>
            <a:ext cx="8132760" cy="11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E459-4CD6-4019-883F-8EC684E41F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 ?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137E-8871-49BB-AAE1-A454E2744C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07-06-08T15:38:20Z</dcterms:modified>
  <cp:revision>189</cp:revision>
  <dc:subject/>
  <dc:title>Electric Reliability and  Resource Adequacy Update</dc:title>
</cp:coreProperties>
</file>