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C31D-2447-4C5C-B0A2-B7A3A44067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73F0-6C97-4069-8B6D-774E012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4A021-310B-4EC7-BFA4-18464A1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416A-43AD-42E1-87CE-38237B035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5A8-849C-489D-8A49-12B73A4DBF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CBF-850A-44C5-AE83-59840797B3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B63-BE07-4C06-B6B0-F6D3B37575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15D-251F-4D2F-9211-A0020EA189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4A8-2ECE-41EF-A688-FDCC3FBEE0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709-147B-4623-AA4F-9DFF0AB059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61E-07AB-432E-8111-FA6A7C401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6D2D-FDF8-47AB-BDE9-D249BEE7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943-CC0B-4377-8DDF-D2C34B4C93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A4C-2301-49CE-9E61-78D60AD846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A51-068B-4489-BC71-A812650B47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DF7-7F22-468A-B3BA-AB46419BF8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4C2-F77F-4057-9A34-CBBE0ADF09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E657A-480A-433D-9B49-683105E66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DB3F1-054C-4848-B242-AA282192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76C2D-6D44-4681-92C0-8CDF3699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94756-82DA-4C7B-A3D9-D18B1852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4B4C1-94CA-48A3-A3B8-276F0450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3D3B-FC0B-4CDF-BBEE-49F9271C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8A29B-E6B4-4BDF-BED4-28937381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22309-AE99-4718-B6C1-5F26F918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C3542-8822-439A-BA33-55D49DC7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1DC3A-A651-4C29-9167-9C72080D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17541-DCBD-4DFA-84EB-9FF7D66C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5DCF3-ECA2-4CD4-8B5B-03EA397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FA325-A6E4-4B23-B5AC-CC636796C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C664-DAE6-40FD-88BA-D6CE78E7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FFD2-7012-49A8-BD38-6F3FB5F8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21C5-A33A-42B3-B47C-3AD1FB88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5FA8-5230-4960-85C8-21291006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338B-AE9D-4FA5-BC97-E493873B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1319-8B2E-443D-AABC-CFF4C7EF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1C5C-B157-4C78-8198-C24AD2A6F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6E54-0EFE-472A-9F74-02CDC1A8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1829-9644-424E-9FD6-D26A77A9F8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meetings/pwg/keydocs/2007/0522/UFE_Analysis_Old_-_New_Model.ppt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1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5CCA-517D-441D-BF3D-20678317A1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1783-E224-4592-95CF-36FD90B1A2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828800"/>
            <a:ext cx="792504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Implement new Version 2 ERCOT Profile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e.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LRS sample selection round two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e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il &amp; Gas Profile – BUSOGFLT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eduled 9/18/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Annual Validation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AC appro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PGRR020 Resolution Target 99% and annual decision tree upda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the methodology for profile scaling factors (per UFETF Nov.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2004, 2005 &amp; 2006 UFE Analysi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l 2006 analysis complete as well as a comparison of old and new profiles on U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ways to accommodate extreme events in Settlement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Long Term Strategy of Load Profiles including refresh tim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7F2E-1811-4D43-969A-6FE27E2787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95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752480"/>
            <a:ext cx="79250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 Analysis – 2 issues outstanding from origin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having more weather stations adds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the weighting of weather stations is 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DR installation procedure language to ensure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having 2 decimals on load profiles significantly affect settlemen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 and Con discussion deferred to the CO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LPG language on list based profiles and univers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Docket responses to demand response or AMR rule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16 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Set up area on PWG web page for key document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e. See ERCOT.com , “Committee and Groups”, ”COPS”, “PWG”, “Presentations”. Note, takes a bit to open 56 + 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Review of load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1D18-530D-4907-9DAD-9FD5B27DDB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83024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to identify new profiles as specified in market 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TOU procedures on the Load Profiling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ways to improve Business Profile ID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analysis of DLC demonstration program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WG is working on PRR and LPGRR drafts. PWG June meeting shall mostly be on this issue. Market participation is encoura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appropriateness for large Opt-in Ent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consistency with PUCT Load Research Rule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LPGRR is filed by ERCOT Staff to begin the clean up of obsolete gray box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FD90-D3E2-40E7-BCF8-50DFF16402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393920"/>
            <a:ext cx="8610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 Residential Profil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new ESII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by T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PGRR effective date, 5/1/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Notice has been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Tree language to be gray bo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DSPs have six months to chang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mplementation date is 11/1/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E516-2AFF-4FF8-BCC0-4BAB6A2ED0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393920"/>
            <a:ext cx="861048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C and Demand Respons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sh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to take the lead on small generation and advanced meter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is working on DLC languag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Solutions Task Force has been 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dget and Project allocation above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PWG Goal and ERCOT Staff 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WG agreed to focus on DLC for summer implementation and let other demand response issues develop as needed in the Market Stakeholder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evelop PRR and LPGRR language to fine 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Implementation of ERCO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Timeline (target summer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6697-0909-4BEE-A68B-538AD688AD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393920"/>
            <a:ext cx="861048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FE Comparison Old vs. New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key document at PWG May 22, 2007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ercot.com/meetings/pwg/keydocs/2007/0522/UFE_Analysis_Old_-_New_Model.pp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. UFE MWh for New Models is 13% lower, which is 1,049,078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W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ss vari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FE Cost for New Models is 40% lower, which is equivalent to $ 111,635,419 based on MC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. UFE Cost for New Models is 19% lower, which is equivalent to $ 107,847,16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ongratulations to all Market Particip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849E-D151-4706-8CFF-214D316837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876920" cy="2590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5105520"/>
            <a:ext cx="8001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meets on the fourth Tu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B6A4-7D24-4255-B939-07A9E9F979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craish</cp:lastModifiedBy>
  <dcterms:modified xsi:type="dcterms:W3CDTF">2007-05-24T17:39:54Z</dcterms:modified>
  <cp:revision>253</cp:revision>
  <dc:subject/>
  <dc:title>PowerPoint Presentation</dc:title>
</cp:coreProperties>
</file>