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028-524B-481D-BC79-E04CCB90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04E-5434-403D-A28A-38C24629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5E8-1E47-4502-91F2-49A0AF90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474-798B-4E0D-BD7B-EFD78933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037-F25D-472F-93E2-ADAC2CD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08E-EEF4-4450-A70E-7E02908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0DE-9C27-4657-BC47-3A0D692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875-62C7-44AE-9F7F-12EED71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93B-3152-4E5A-92B6-C2B993D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EBB-2935-4010-A2E3-1D955A5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06-3A86-4C03-8E56-F70083A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29D-24A2-4430-9860-D8485A4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E17D-CCAF-4F6E-AB52-19D9F2DD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mall Resettl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posal to Reduce Impact on ERCOT and Marke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UCT Notice of Violation (NO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UCT determines that a market participant has violated a protocol, procedure or rule, they generally assess a fine and order restitution to the market.  Restitution is usually accomplished through resett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llar amounts are small, the costs outweigh the benefits.  Such costs are ultimately born by Texas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e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ettle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is Ord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COT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tle the Operating Day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revenues/costs by Q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73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SEs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 Settle to ensu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funds to entities that they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638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600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600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600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1600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7621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124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mall “NOV” Resettlement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cket #331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reviews the order and performs analysis to determine data needs to be set up for the resettlemen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2-4 hours depending on the complex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s resettlement, coordinates market notices, initiates batch processes to include the resettlemen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3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staff validates resettlement statements and calculations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3-4 hou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validates statements are accurate and timely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2-3 hou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timate of incremental administrative hours due to resettlement of Docket #33177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ch Q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PUCT Final Order, analyze charge types, protocols, and data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5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Settlement – Verify the resettlement used the correct input data and resettlement was correctly calculate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5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ary Settlement – allocation of ther resettlement MWs &amp; MWhs and $ to the correct customer classes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3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s – preparing invoices, processing payments, &amp; management review of resettlemen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2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communication – explain the resettlement to customers impacted using letters, stuffers, etc.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-3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timate of incremental administrative hours due to resettlement of Dockett #33177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g of 7 hours per Q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5238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Cost Impact to Market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cket #33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40388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required by ERCOT effect resettlement = 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cost for ERCOT resettlement est. @ $75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required by 25 QSEs  to review and shadow settle PUCT Docket #33177 estimated = 7 hours 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cost for QSE resettlement est. @ $65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67080" y="1599840"/>
            <a:ext cx="464832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TIMATED MARKET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ost = (8 x $75) =       $    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SE Costs = (7 x $65 x 25) =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$11,3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to resettle market =    $11,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Constellation Payment = ($  1,1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. benefit (ratepayers) =      ($10,87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4290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osed Alternativ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with PUCT, ERCOT, and Market Participants, COPS pro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rket wide resettlement for NOV is estimated to be less than $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T staff consider recommending to the Commission that restitution be paid by violator directly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use funds to reduce future Short Pay Upl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Alternativ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administer “NOV” amounts on a Load Ratio Share effective with the next billing cycle when the amount is less than $5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from actual Market Participant “resettled amount” will likely be very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in administrative costs to the Market will be significant and in nearly all instances exceed the  $ distribution to the Mark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 ratepayer (LSEs) saves by direct reduction in administrative co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0:55:38Z</dcterms:created>
  <dc:creator>kriordon</dc:creator>
  <dc:description/>
  <dc:language>en-US</dc:language>
  <cp:lastModifiedBy>lee starr</cp:lastModifiedBy>
  <dcterms:modified xsi:type="dcterms:W3CDTF">2007-05-11T20:40:25Z</dcterms:modified>
  <cp:revision>9</cp:revision>
  <dc:subject/>
  <dc:title>Small Resettlements</dc:title>
</cp:coreProperties>
</file>