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25F-0C53-47BA-9480-B23D68AF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D1FC-CC64-41E9-8E1D-B171E10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FAA-6AD3-47D0-B68C-DACF4CC9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23D9-03D9-404A-BF74-D6AF768C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CE05-B45E-4C9D-8963-DA0A5F45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7AA5-A22D-4DE6-BD73-09BBA22B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FA6F-3E8F-4DCF-8C90-ECF272F8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F1DE-D984-4CC5-AAAF-3986E8CD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E588-EF97-46A8-A4D0-452ACC49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8898-E5A0-4664-9F3D-80213B5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668F-41E2-4BA8-A6B1-6E4B93B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855A-FFE5-433B-899B-D13D10D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5C4D-2438-4613-BA4A-8AC9F897C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279720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COMS Extract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ckie Ashbaug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6/11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dal Wholesale Commercial Operations Extracts &amp;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u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3167-D815-4026-B05C-EC50C542E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dal Wholesale Commercial Syste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xtracts &amp; Repor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32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R 727 ESIID Service History &amp; Usage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Reference Data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oad Profi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ackcasted Profiles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ed Load Pro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R Requirement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 Responsiveness Change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ttlements &amp; Bi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y Ahead Market Settlements &amp; Billing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al Time Market Settlements &amp; Billing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ments Calend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ment Input Data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Data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4080" y="1066680"/>
            <a:ext cx="4032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ta Aggre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Distribution Loss Factor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Transmission Loss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Factor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ed Distribution Loss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ed Transmission Loss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R Protocol Compliance Verifi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ad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 ID Extra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accounted for Energy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S &amp; NWS IDR Proxy D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ttlements Disp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e Status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&amp; Billing Dispute Resolution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83AC-83CA-40C4-8392-6C20DF41D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ket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worked with SDAWG and gathered the following requirements that will be applied to the Load, Generation and Settlements &amp; Billing Extr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 a single file for each approved operating day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file postings of operating days is ir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separate extract for base tables (Public Data Extract) that will include an ‘Initial’ to provide the full record set and a ‘Daily’ for the incrementa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file naming convention to include the operating day, settlement run type (Initial, Final, True-Up, Resettlement) and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S&amp;B extracts, include DAM or RTM in the file naming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Client Data Report equivalent that can be used to reconcile between S&amp;B data and statements that includes a header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interval data both vertically and horizo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7FB8-3700-4E48-8009-4B080F65B3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ket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PRR or COPMGRR (for Nodal version) needed for ERCOT to continue to provide the Default Profile ESIID, Load Counts and Load Volumes reports with Nodal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Profile ESIID Report was created by market request and implemented 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ad Counts &amp; Volumes Reports were created from SCR 725 (requested 9/17/2002) with no PRR and implemented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0D12-562E-4C6A-8057-4EB1DB531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atus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S project extract sub-team is curren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ing requirements for all existing COMS extracts and reports that will require change with Nod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current day extracts and reports as a star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data content; this is being done in conjunction with the Data Aggregation and Settlements &amp; Billing teams to ensure we can keep up with any process changes and bill determinant naming conventions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ing with the appropriate business and development groups on how and where data will be stored within th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FDF-C81C-4B93-8C85-C804C3CAA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SDA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market requirements for Disput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extract and report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example of possible change to current Zonal DDL for Nodal 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eed for market survey regarding DD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view current DDLs to determine if data tables need to be added/deleted due to new Nodal databas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ED55-14EA-417C-9929-555FAF17FE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6/11/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7A2F-13B9-4B9A-8AD1-C13964250E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Enterprise Information Services (EIS)</dc:creator>
  <dc:description/>
  <dc:language>en-US</dc:language>
  <cp:lastModifiedBy>jashbaugh</cp:lastModifiedBy>
  <dcterms:modified xsi:type="dcterms:W3CDTF">2007-06-07T19:44:29Z</dcterms:modified>
  <cp:revision>107</cp:revision>
  <dc:subject>EIS BI Layer</dc:subject>
  <dc:title>EIS BI Layer Overview</dc:title>
</cp:coreProperties>
</file>