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D60-7F3E-4EA3-A201-1DA77564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334-0B7E-4EE8-9531-5684284D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D03-DD1E-4473-9600-7A3502FA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4CE-3447-4875-B7D1-1F43F460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051-2DAA-4E38-AD2A-820AC352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566-5055-42EE-9121-31F11EE9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D96-964B-4ED0-91D4-FC7B2154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2C8-DCBC-4CB5-AAD7-D384FF0A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144-EC25-44CA-A8F1-6EC80F5A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473-D6B6-4B20-898A-DC24476F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F32-FB26-4464-843F-B70A1E14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D72-71D4-41F0-929B-74D677FE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1D48-CC13-47E1-8F8E-78554C221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June 7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16C-1414-48BB-A392-3645554BA6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S June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ort to TAC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PSMG(003), Section 4, Market Notice Commun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PSMG(004) Conforming COPSMG to Current Protocols and Other ERCOT Market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, prepared updates to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11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(Reports &amp; Extra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bmitted to COPS for June 11</a:t>
            </a:r>
            <a:r>
              <a:rPr b="0" i="1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 consideration COPSMGRR003, Section 4, Market notice Commun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839-E185-4C06-A324-8944C45F1B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Recent Meeting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tinues to review the verifiable costs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ing proposed changes in data extr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orking with CCWG on Market Guide Section  11(extracts &amp; repor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orking with CCWG on Market Guide section for Generation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14F-0E06-414B-9E2D-D408F0597B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Nodal Day Ahead Invoice Task Forc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Conclus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Task Force decided to take a ‘wait and see’ approach; with experience and historical data, the decision to submit an NPRR may be looked at again after DAM is impl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Alternatives to making daily wire transfers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e-pay once a week, ERCOT is willing to manage accounts and withdraw daily payments and notify MPs of fund balances to ensure timely “due date”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Group-pay several invoices at a time, every four days (4 to 6 invoices at a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4D4-37EB-4C6C-AB91-8384777B58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PS - PWG Activity Upda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54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83E-B0F5-472D-BFE2-BC93329921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393920"/>
            <a:ext cx="86104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 Residential Profil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new ESII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by T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PGRR effective date, 5/1/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Notice has been 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 Tree language to be gray bo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DSPs have six months to chang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mplementation date is 11/1/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5A8-9BA3-4A0B-BECC-D63261A147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393920"/>
            <a:ext cx="861048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C and Demand Respons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shi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to take the lead on small generation and advanced meter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is working on DLC language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Solutions Task Force has been for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dget and Project allocation above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PWG Goal and ERCOT Staff 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WG agreed to focus on DLC for summer implementation and let other demand response issues develop as needed in the Market Stakeholder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evelop PRR and LPGRR language to fine t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Implementation of ERCOT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Timeline (target summer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62F-E0F7-485E-A13C-C7C50D5A00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393920"/>
            <a:ext cx="86104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FE Comparison Old vs. New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key document at PWG May 22, 2007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http://www.ercot.com/meetings/pwg/keydocs/2007/0522.UFE Analysis Old - New Model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. UFE MWh for New Models is 13% lower, which is 1,049,078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W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ss vari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FE Cost for New Models is 40% lower, which is equivalent to $ 111,635,419 based on MC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. UFE Cost for New Models is 19% lower, which is equivalent to $ 107,847,16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ongratulations to all Market Particip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20E-167D-485C-8F2E-FDF5FF7B21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336-2B20-41F4-9F14-892670DD6E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R. Starr</cp:lastModifiedBy>
  <dcterms:modified xsi:type="dcterms:W3CDTF">2007-06-05T14:06:26Z</dcterms:modified>
  <cp:revision>212</cp:revision>
  <dc:subject/>
  <dc:title>Point-to-Point</dc:title>
</cp:coreProperties>
</file>