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21.png" ContentType="image/pn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5.jpeg" ContentType="image/jpeg"/>
  <Override PartName="/ppt/media/image6.jpeg" ContentType="image/jpe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5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DCE5A8-7794-4762-96A3-B1B8F7F2AF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8AEDB2-BDA1-46F8-991D-04F36AA7EA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70E8B-3ECD-4E29-9D4A-C29B3B4B0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5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D3325-A12D-4A20-B739-09AC9F939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6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94F50-1B48-4C4B-A6CE-4AC445629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6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CD2A3-3896-4E14-AD58-A6D438D68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6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4EE37-F560-4989-A2FC-FB66B20079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7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DD583F-7150-469D-A46D-99DE6CDD3E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7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C7DE99-837D-4824-81EC-F746250523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88"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9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9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9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0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3"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0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7"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09"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0"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1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5"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17"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8"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9"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0"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1"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2"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DB55099-72B9-433E-AA16-38E8FB0327F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32"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C17EA91-71EC-4A9A-82F9-BAD0966CB54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3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0755B1-F3AA-47F5-AEB1-CBECC66DC18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3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3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8C2EB87-2AF8-4C06-8F48-CF228BB01DD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15A426B-B11C-4308-BDC8-C2B7B17F400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D2F7829-0419-49CB-87AE-1EAF82BAA31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4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CD29EE2-E2CB-42EE-B7DF-2DF232FF26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4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7"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7410E0C-F16F-489D-B8ED-4C82B2EC389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4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1"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A8D04A4-4C23-423F-B2E0-766AD509C6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53"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4"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C694A16-F2D1-420F-9911-5DD25F02631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5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9"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1DEE7C2-F7C3-4600-B820-87F0579787C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61"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2"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3"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4"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5"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6"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7B063E9-CCDB-4145-912C-1825E67C32A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7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7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8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8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8"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8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9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49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0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0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1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4EBE9CC-679D-4FF5-8790-0963B2A927B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2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FD260EF-3934-4C13-9EE4-48CD8FF6533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2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EFD6319-88EE-449C-B09B-590A90360B2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2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2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8D04895-270A-48AA-8D97-55768D6368B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AC70E8A-7652-4BD7-A066-740C9D93977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49E70FE-6537-42BD-8C97-160AFC73410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2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D79A80-EC1A-4644-8BC1-3941BAAB578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3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3799A39-6D47-4876-A171-C05B2A23008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3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59B451-C19D-488F-87E2-5CDC87EFB50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4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7243109-3901-4F4E-8DE1-1676BAD368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4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E87BE2D-E4DF-4BC2-B9C8-004C0ACEE69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4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A5A9B56-3994-4F5A-A6BE-C55110CD0AD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A267CED-C86C-4561-BF61-AE46C6D71F9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6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41167EB-24BF-465B-9E3E-C708C52335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CD34AFC-3BDB-443A-AFF8-84EB189342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6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6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119CD8-E060-42C4-A847-DE8C9FD217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62A2CE2-ECFC-445F-9D5A-BAF9FE9966B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7DF68E4-53C3-4617-AE4A-4CEA56512F7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7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CFE5DC-4493-40DA-B3D4-72AF4596FA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7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D05A04D-9735-4868-859A-DFFCE091C1C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7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B9DF6FE-FC49-4B31-AC08-94AC3F5673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8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8AFD1AC-1644-4A92-9D62-9A9425DA064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8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F41EC93-C862-4938-8A0D-0A66C6B6520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9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C1EFCCA-D857-4088-A1E2-79930DF42AC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2A988F6-D1E2-4E61-B452-657482CECF7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0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5777FD2-D143-463E-90BC-DCC11762A07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0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BF3AA1-CF39-4C0D-B238-B73094506FF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0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AA5ADE3-0FE5-4941-8D96-DF9B52779DF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56B4983-4682-47E8-8882-E2213184D63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FFAF66E-BCD6-49B3-97A4-4390FF8A60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1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0E63F7-BFEC-4E93-944A-9BD461BF87C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1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5BCC75-3714-4F71-89B3-99E1CCA634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2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6023ECF-5499-411D-8DE8-3DA514B546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2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8F0CF3B-DD29-4812-92EA-BC47D9A69E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2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1697D02-7732-4F8E-A2F7-CA05F839F6A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3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161E544-6C4F-425B-9658-412F976592A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27D2AA2-AF31-4192-8026-8FF5B3437EE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4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2D7B877-DA5D-439C-85F8-AA21DD93844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4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47F5C46-5162-4D8D-8D24-D9BF815EA70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5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3D7BEA0-FA28-4B6A-AAFE-81FF2C537FD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B53B5E5-F800-4879-A5D8-FE9C6104D2E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40CCCE5-923D-45D2-B028-1491D64881B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5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046786E-3DF1-43AA-841F-5D92E79B95D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5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7F0DC0E-BF01-4FB1-847E-BD2F2A2C69B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6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E125813-4BB7-4EC4-B28F-F3C29CFB083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5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6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06ACEFB-8BA8-4EAE-AD26-AED6E796E01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7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32697DA-AE7A-4EE3-9D3E-E41F1BCC6A9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7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8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5B20C65-2C6C-4C3B-BA1D-D909F53CBF6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C93838A-54B7-45B7-90A0-1A70E89EDE7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9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6F880D9-DFD8-4114-A538-3263D3072DB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9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6588C8B-FBE0-45DD-9C22-8716B80EE3F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9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9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FA1CA2A-D655-4CD9-A12B-DCA7252CB49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7CF7535-0A66-433C-8C7F-035828D02FB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B0B9B33-9181-4F9B-A184-5A48FD46AD7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9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8B35DE3-BC84-43FC-A3AA-039D6D8ADC5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0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653DFA4-03A0-4254-9464-69CB1791698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0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525060B-1131-46C4-85E1-FC2164487B5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1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5D07EA5-A5A0-413A-8388-BD4CC00C242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1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695E111-53C8-45AE-8A4F-18FE941F2E4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1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7F858AE-2AD8-4034-B8D9-EABF1F690CA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6E887C3-C745-4852-A4FE-EE2045C57B9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3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99969CF-8766-4DE3-BB2C-F2F8947FF61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3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53B62C0-ADB1-4B67-8BF2-B08DD375F36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3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3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A7C485C-6045-45BB-9655-978DD07FBF3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21F8926-D102-46C8-8C09-BDD9C16859D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07DD4DC-1E66-4DBF-89FB-89A35DC51FE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4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2DD6553-7C81-4A7B-B890-E1A489DDD01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4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01DF86D-5234-45DA-8D7A-3F790C3FF18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4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A34DF75-CB0A-4B86-A815-CB75F4C7694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5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FE41BD4-F529-46E3-A1B3-4AAABA05D16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5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6A3EC69-9FAD-4532-9594-9BB0D371E34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6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0FCC737-166C-4C66-B286-2CFCE593B129}"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A4552D97-E065-4421-89BE-96F8AA2845BF}"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7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2A3D51D-8188-4256-BFE2-4341542204F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7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8240BBB-73CE-45D1-8AEF-96B2777983C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69"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7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C04E73F-B6D0-427B-9D48-7E94F293B30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74A2FAA-8C37-4558-9398-2B35C7F065E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40080D3-F9D0-4B4D-A3D0-00D6C41C0DD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8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355F229-DB2E-481A-ACBE-5804A94B3DB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8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D6EEBCB-9CB0-4A01-92DC-312EF2E9BF9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9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ECC78E5-59FF-43A2-B89E-58B165E1B88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9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E7C08C8-3642-48BF-84A1-513CE2828A3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9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ECEEF28A-56AA-48E9-A0E9-9BBE8E2AA891}"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0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06F6C713-8812-4AC2-9654-ADC4DDFBB1DD}"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1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5"/>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1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5"/>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2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5"/>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45"/>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5"/>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2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2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3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3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5"/>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4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5"/>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77"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1"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4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5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5"/>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1157C38-1EBA-4084-AAC2-96B87E280F5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6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04E0DC-ABEA-4CAD-964A-0BDE394D1D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6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7793F5C-1D97-4F7A-83E4-6B186A7361D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6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6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5EF18D-99C0-4F13-9D78-EAEBDA3E45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8BBFCD0-5750-46F6-944C-22B0DF2FC78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8B44093-B537-48D0-B830-7D32D31B06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6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A9C09F-FA3B-4B95-9116-1AB7839F47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7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01603E-D385-425D-AB0C-5FCD2DE60E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7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801462B-E7A9-4ED9-B0A4-153F70BFA2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94E3CC-5D9B-4B23-9AC4-8DB7A384E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8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A849515-CC62-4BF8-B01B-121993744C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8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E8A9405-8076-4950-BD36-B3C51BBED5A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8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24D6BCD-714C-4551-A34A-D6E026F620E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0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9"/>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0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9"/>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0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0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9"/>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49"/>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9"/>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1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2"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612AA6-1FFD-430B-BE4C-9CF986B73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1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1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2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9"/>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2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9"/>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3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9"/>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3946514-42B1-4149-8F08-A8982F3E980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4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EF9004E-DCB0-4F39-A5B7-3BC34626D57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4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6430659-9DBA-40FB-82A2-61113F07309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4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AF8A217-922E-43C5-9846-EEA9EF5D3D4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C0DD55E-C021-435A-8D8F-44497B61E5A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3395BA-6167-4DB3-B63B-CE158AFA9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FFB450D-B058-4996-BF2B-D582A412828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5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18E4A89-FD3E-4798-8E85-6120EDA982E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5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B2A3C1C-1D30-4ED7-BD6A-96A664618F3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6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1484A57-5021-4137-B5B1-265684800FC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6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F2E576D-BCB7-41A3-9F4B-1617A310C05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6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C9026E57-738C-45EC-8D9E-E6944582C65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7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948855E7-2A75-487E-94C2-87DDB029E68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8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3"/>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8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8BB881-3003-42E6-9880-1D823D458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9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3"/>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53"/>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3"/>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9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99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0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0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3"/>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1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3"/>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1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2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3"/>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66A91629-88DA-460C-972B-ED3D3E731EA5}"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79D592-63CA-48F1-87DF-87F042525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3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E3620F7-5434-4D1D-9D4F-559B8F178E0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3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8A0208C-097F-489C-86F1-1210DFCBAAA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3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3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C1641A2-9AAC-4A10-84FA-4A83D82E6F1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D47D3EB-DCEB-4713-B143-B5F6D1E7553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5BF7A1E-B499-49D4-97AE-43B97A67A1E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3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FBAB253-BD26-480A-A80A-E1EC00CA748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4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DE8A49D-709D-4E19-BCB3-9BAC93C5B1F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4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5343699-9C8F-4E59-B582-810B4A083C9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5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3900298-F797-4F4A-B592-F584683227B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5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A376081A-01EB-4831-BF98-2A37A8039CF8}"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305C38-FA50-4688-8A8E-51C8FD42F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5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736D2708-94EB-4EA8-9E2A-31E597331B5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7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7"/>
          </p:nvPr>
        </p:nvSpPr>
        <p:spPr/>
        <p:txBody>
          <a:bodyPr/>
          <a:p>
            <a:r>
              <a:t>Footer</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7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7"/>
          </p:nvPr>
        </p:nvSpPr>
        <p:spPr/>
        <p:txBody>
          <a:bodyPr/>
          <a:p>
            <a:r>
              <a:t>Footer</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7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7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7"/>
          </p:nvPr>
        </p:nvSpPr>
        <p:spPr/>
        <p:txBody>
          <a:bodyPr/>
          <a:p>
            <a:r>
              <a:t>Footer</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57"/>
          </p:nvPr>
        </p:nvSpPr>
        <p:spPr/>
        <p:txBody>
          <a:bodyPr/>
          <a:p>
            <a:r>
              <a:t>Footer</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7"/>
          </p:nvPr>
        </p:nvSpPr>
        <p:spPr/>
        <p:txBody>
          <a:bodyPr/>
          <a:p>
            <a:r>
              <a:t>Footer</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8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8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8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4D01AB-1D15-4587-980E-72DDBE68D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9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7"/>
          </p:nvPr>
        </p:nvSpPr>
        <p:spPr/>
        <p:txBody>
          <a:bodyPr/>
          <a:p>
            <a:r>
              <a:t>Footer</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9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7"/>
          </p:nvPr>
        </p:nvSpPr>
        <p:spPr/>
        <p:txBody>
          <a:bodyPr/>
          <a:p>
            <a:r>
              <a:t>Footer</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0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7"/>
          </p:nvPr>
        </p:nvSpPr>
        <p:spPr/>
        <p:txBody>
          <a:bodyPr/>
          <a:p>
            <a:r>
              <a:t>Footer</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979AA7D-4EEA-4D02-ADCF-C2D19E60409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1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0894AC5-B77C-4288-A71B-4BAE0D81221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1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03806FE-4B0C-466F-824F-48BC79F1D0F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1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A1BE657-DD8F-40D4-936E-06C37E4C2A9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0FF207-838F-412F-A39E-C913BB2D903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F6C777F-95AA-4BFD-AB4F-4228DAAFEB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2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2160E8-661F-4E9B-86DC-004D5E9265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7"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C33588-0B99-4485-92D0-1A058F34D0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2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914E74-FD1D-4DFF-BF10-1A0C88021B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3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7E836A-261B-4181-B460-6E1AB5F94B6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3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5145087-9A84-4E8B-B2D2-0FA260B8C35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3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C9966E6-9CD6-4ED7-9955-3C7D3A67CF4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4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2D8D78C-2408-4A32-AEB8-686094AD734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5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61"/>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5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61"/>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6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1"/>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6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1"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5C6A0B-5044-4CB1-AF8B-E44F700F8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61"/>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6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6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7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7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1"/>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8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61"/>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8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9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61"/>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9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9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3"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31EDD8-9A37-4D83-8AA5-0959902E7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0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0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1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1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1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2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2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1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9"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6EE506-B0DD-459D-9986-EE9C6553BA1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38"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62"/>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4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62"/>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4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2"/>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62"/>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62"/>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4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5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3"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5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7"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59"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0"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2"/>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6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5"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6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1"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3EBA70-1E30-483C-B96C-295C96096DA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267"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8"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9"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70"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71"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72"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6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33"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3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3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4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4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8"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5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2"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54"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5"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5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0"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62"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3"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4"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5"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6"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7"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2AFF27-8DFE-4D3E-B7E3-D7B50A44D7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7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D828D0-F2ED-4124-9197-A441B886AA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7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928094-33ED-411A-8F13-5400E1FDCE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8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A5BFD1-FF33-4F22-AEC3-5F80CB18B7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8CB7A2-C948-4E42-B386-B67509F669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AAF95E-BB0D-4242-B4A2-21E1D43BDF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8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F9FFF2-94FD-4A26-845D-4ECF7B6805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9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79618C-0A88-400D-B505-A4B5DF41E4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9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E90E7B-7476-4C75-959D-3733EEBD14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9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82C884-4E0D-4E91-84EE-ECFEE10BB8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0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61D307-C16A-4A1D-8043-0BD7A457DC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0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F7E6A2-3DE8-4224-AD3C-D6B227B303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18"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2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2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2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3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3"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3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7"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39"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0"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4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5"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47"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8"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9"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0"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1"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2"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8BE903-EB23-49AE-8987-CFF123182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62"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08C96-9B58-40B0-B572-886E8E1E9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6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A917D-C25E-458C-9F64-940751750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6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FCAC9-3BEA-436E-81CB-314D3192FB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F2232-8A2C-41AB-ACA4-BB47B0EB49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56DD1-E559-411F-9C22-808ACD67B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7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516FA-15F1-4DF7-BF47-D233FA0F0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1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7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7"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33D6C-36D1-499C-A42F-0EFF6187B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7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1"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47BC2-0B5D-408D-BD9F-E7E5B8881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83"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4"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46337-BC51-484A-ABC0-09CADB06F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8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9"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65D9BD-DB7D-4FCF-88F9-936D70746A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91"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2"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3"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4"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5"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6"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4DF668-2476-4751-9208-7B61FB2170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677551-37AB-41A5-8B95-F447D409B1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03"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E58A0-A08A-4A6B-B9C7-78601E792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0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9E2115-0683-4333-B8AF-6D571D8D3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0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0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CFB4BA-512C-4D82-8155-CD682DE7CD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EDD59-9804-4E06-B64A-24C931DB9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2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6C7F83-6EC9-4506-A1E5-1F8E97529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1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F21C4-FB0C-4F7F-AC0D-42723892B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1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8"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5DD33-0D6E-4911-80FE-E0B16871B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2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2"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E8036-A332-410B-A84E-35BF85E58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24"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5"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1A8664-BD91-4AE1-85A0-AFA46A7E3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2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0"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8041F9-A170-4ACC-B0F6-707EA34C87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32"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3"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4"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5"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6"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7"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940A1C-3DC0-4233-98FB-7CB135E129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59E7CA-9398-46B8-A9AB-8302530176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4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44A500-4FB1-4506-A5E8-C281909157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1a8dd"/>
              </a:solidFill>
              <a:latin typeface="Arial"/>
            </a:endParaRPr>
          </a:p>
        </p:txBody>
      </p:sp>
      <p:sp>
        <p:nvSpPr>
          <p:cNvPr id="34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ACACC6-8B1D-4D98-9D04-C80BAA4AA13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jpeg"/><Relationship Id="rId3" Type="http://schemas.openxmlformats.org/officeDocument/2006/relationships/image" Target="../media/image11.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3.jpeg"/><Relationship Id="rId3" Type="http://schemas.openxmlformats.org/officeDocument/2006/relationships/image" Target="../media/image11.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jpeg"/><Relationship Id="rId3" Type="http://schemas.openxmlformats.org/officeDocument/2006/relationships/image" Target="../media/image11.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5.jpeg"/><Relationship Id="rId3" Type="http://schemas.openxmlformats.org/officeDocument/2006/relationships/image" Target="../media/image11.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81840"/>
            <a:ext cx="9144000" cy="776160"/>
          </a:xfrm>
          <a:prstGeom prst="rect">
            <a:avLst/>
          </a:prstGeom>
          <a:ln w="0">
            <a:noFill/>
          </a:ln>
        </p:spPr>
      </p:pic>
      <p:sp>
        <p:nvSpPr>
          <p:cNvPr id="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0F08-99E6-427E-8419-F3B55EBE3693}"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4"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0" y="426960"/>
            <a:ext cx="9144000" cy="3764160"/>
          </a:xfrm>
          <a:prstGeom prst="rect">
            <a:avLst/>
          </a:prstGeom>
          <a:ln w="0">
            <a:noFill/>
          </a:ln>
        </p:spPr>
      </p:pic>
      <p:sp>
        <p:nvSpPr>
          <p:cNvPr id="383"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84"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385"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386"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4" name="PlaceHolder 2"/>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5" name="PlaceHolder 3"/>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8C07-DAE0-4E81-A7E5-7DE21A2C4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26" name="" descr=""/>
          <p:cNvPicPr/>
          <p:nvPr/>
        </p:nvPicPr>
        <p:blipFill>
          <a:blip r:embed="rId2"/>
          <a:stretch/>
        </p:blipFill>
        <p:spPr>
          <a:xfrm>
            <a:off x="0" y="6081840"/>
            <a:ext cx="9144000" cy="776160"/>
          </a:xfrm>
          <a:prstGeom prst="rect">
            <a:avLst/>
          </a:prstGeom>
          <a:ln w="0">
            <a:noFill/>
          </a:ln>
        </p:spPr>
      </p:pic>
      <p:sp>
        <p:nvSpPr>
          <p:cNvPr id="427"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428"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429"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2C69-766E-4824-8585-477928F9B163}"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430"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2"/>
          <a:srcRect l="0" t="0" r="0" b="16201"/>
          <a:stretch/>
        </p:blipFill>
        <p:spPr>
          <a:xfrm>
            <a:off x="0" y="1368360"/>
            <a:ext cx="9144000" cy="2746440"/>
          </a:xfrm>
          <a:prstGeom prst="rect">
            <a:avLst/>
          </a:prstGeom>
          <a:ln w="0">
            <a:noFill/>
          </a:ln>
        </p:spPr>
      </p:pic>
      <p:sp>
        <p:nvSpPr>
          <p:cNvPr id="468" name="PlaceHolder 1"/>
          <p:cNvSpPr>
            <a:spLocks noGrp="1"/>
          </p:cNvSpPr>
          <p:nvPr>
            <p:ph type="title"/>
          </p:nvPr>
        </p:nvSpPr>
        <p:spPr>
          <a:xfrm>
            <a:off x="304920" y="1828800"/>
            <a:ext cx="4495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9"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70"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71" name="" descr=""/>
          <p:cNvPicPr/>
          <p:nvPr/>
        </p:nvPicPr>
        <p:blipFill>
          <a:blip r:embed="rId3"/>
          <a:stretch/>
        </p:blipFill>
        <p:spPr>
          <a:xfrm>
            <a:off x="5243400" y="914400"/>
            <a:ext cx="3224160" cy="4038480"/>
          </a:xfrm>
          <a:prstGeom prst="rect">
            <a:avLst/>
          </a:prstGeom>
          <a:ln w="0">
            <a:noFill/>
          </a:ln>
        </p:spPr>
      </p:pic>
      <p:sp>
        <p:nvSpPr>
          <p:cNvPr id="472" name=""/>
          <p:cNvSpPr/>
          <p:nvPr/>
        </p:nvSpPr>
        <p:spPr>
          <a:xfrm>
            <a:off x="5245200" y="1446120"/>
            <a:ext cx="168120" cy="2711520"/>
          </a:xfrm>
          <a:prstGeom prst="rect">
            <a:avLst/>
          </a:prstGeom>
          <a:solidFill>
            <a:srgbClr val="3079c6">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73" name=""/>
          <p:cNvSpPr/>
          <p:nvPr/>
        </p:nvSpPr>
        <p:spPr>
          <a:xfrm>
            <a:off x="8096400" y="1447920"/>
            <a:ext cx="371160" cy="2708280"/>
          </a:xfrm>
          <a:prstGeom prst="rect">
            <a:avLst/>
          </a:prstGeom>
          <a:solidFill>
            <a:srgbClr val="3079c6">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pic>
        <p:nvPicPr>
          <p:cNvPr id="474" name="" descr=""/>
          <p:cNvPicPr/>
          <p:nvPr/>
        </p:nvPicPr>
        <p:blipFill>
          <a:blip r:embed="rId4"/>
          <a:stretch/>
        </p:blipFill>
        <p:spPr>
          <a:xfrm>
            <a:off x="30492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512" name="PlaceHolder 2"/>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02B0-13FF-4D4D-90C0-B8A8B73DE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5" name="" descr=""/>
          <p:cNvPicPr/>
          <p:nvPr/>
        </p:nvPicPr>
        <p:blipFill>
          <a:blip r:embed="rId2"/>
          <a:stretch/>
        </p:blipFill>
        <p:spPr>
          <a:xfrm>
            <a:off x="0" y="6081840"/>
            <a:ext cx="9144000" cy="776160"/>
          </a:xfrm>
          <a:prstGeom prst="rect">
            <a:avLst/>
          </a:prstGeom>
          <a:ln w="0">
            <a:noFill/>
          </a:ln>
        </p:spPr>
      </p:pic>
      <p:sp>
        <p:nvSpPr>
          <p:cNvPr id="516"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5193-EA16-4C20-B2E0-E4EB19CFC721}"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517"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518"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9144000" cy="6858000"/>
          </a:xfrm>
          <a:prstGeom prst="rect">
            <a:avLst/>
          </a:prstGeom>
          <a:solidFill>
            <a:srgbClr val="61a8d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56"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7" name="PlaceHolder 2"/>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8"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9"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88E6-FC1F-4556-9B19-722E16E6A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597" name="PlaceHolder 2"/>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8" name="PlaceHolder 3"/>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9" name="PlaceHolder 4"/>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B4D3-266A-49E3-B13B-ADFDE4F98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00" name="" descr=""/>
          <p:cNvPicPr/>
          <p:nvPr/>
        </p:nvPicPr>
        <p:blipFill>
          <a:blip r:embed="rId2"/>
          <a:stretch/>
        </p:blipFill>
        <p:spPr>
          <a:xfrm>
            <a:off x="0" y="6081840"/>
            <a:ext cx="9144000" cy="776160"/>
          </a:xfrm>
          <a:prstGeom prst="rect">
            <a:avLst/>
          </a:prstGeom>
          <a:ln w="0">
            <a:noFill/>
          </a:ln>
        </p:spPr>
      </p:pic>
      <p:sp>
        <p:nvSpPr>
          <p:cNvPr id="601"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ADC1-C02E-4EBE-8D84-78D19EB1650E}"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602"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603"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 descr=""/>
          <p:cNvPicPr/>
          <p:nvPr/>
        </p:nvPicPr>
        <p:blipFill>
          <a:blip r:embed="rId2"/>
          <a:stretch/>
        </p:blipFill>
        <p:spPr>
          <a:xfrm>
            <a:off x="-9360" y="-9360"/>
            <a:ext cx="9162720" cy="6876720"/>
          </a:xfrm>
          <a:prstGeom prst="rect">
            <a:avLst/>
          </a:prstGeom>
          <a:ln w="0">
            <a:noFill/>
          </a:ln>
        </p:spPr>
      </p:pic>
      <p:sp>
        <p:nvSpPr>
          <p:cNvPr id="641"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42" name="PlaceHolder 2"/>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3" name="PlaceHolder 3"/>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4" name="PlaceHolder 4"/>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94AF-E8D1-4C19-8399-05B791485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682" name="PlaceHolder 2"/>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3" name="PlaceHolder 3"/>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4" name="PlaceHolder 4"/>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5021-EC5B-415C-BE98-424CCBFDB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5" name="" descr=""/>
          <p:cNvPicPr/>
          <p:nvPr/>
        </p:nvPicPr>
        <p:blipFill>
          <a:blip r:embed="rId2"/>
          <a:stretch/>
        </p:blipFill>
        <p:spPr>
          <a:xfrm>
            <a:off x="0" y="6081840"/>
            <a:ext cx="9144000" cy="776160"/>
          </a:xfrm>
          <a:prstGeom prst="rect">
            <a:avLst/>
          </a:prstGeom>
          <a:ln w="0">
            <a:noFill/>
          </a:ln>
        </p:spPr>
      </p:pic>
      <p:sp>
        <p:nvSpPr>
          <p:cNvPr id="686"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E72B-8F99-4AAB-BCE9-CCF71AD23701}"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687"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688"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9360" y="-9360"/>
            <a:ext cx="9162720" cy="6876720"/>
          </a:xfrm>
          <a:prstGeom prst="rect">
            <a:avLst/>
          </a:prstGeom>
          <a:ln w="0">
            <a:noFill/>
          </a:ln>
        </p:spPr>
      </p:pic>
      <p:sp>
        <p:nvSpPr>
          <p:cNvPr id="726"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7" name="PlaceHolder 2"/>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B947-EE95-41D4-A0B0-BEC250DBF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67" name="PlaceHolder 2"/>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8" name="PlaceHolder 3"/>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8AEB-29D9-48CF-A64B-0CAFD8926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9" name="" descr=""/>
          <p:cNvPicPr/>
          <p:nvPr/>
        </p:nvPicPr>
        <p:blipFill>
          <a:blip r:embed="rId2"/>
          <a:stretch/>
        </p:blipFill>
        <p:spPr>
          <a:xfrm>
            <a:off x="0" y="6081840"/>
            <a:ext cx="9144000" cy="776160"/>
          </a:xfrm>
          <a:prstGeom prst="rect">
            <a:avLst/>
          </a:prstGeom>
          <a:ln w="0">
            <a:noFill/>
          </a:ln>
        </p:spPr>
      </p:pic>
      <p:sp>
        <p:nvSpPr>
          <p:cNvPr id="770"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771"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772"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E4CB-D3C1-4841-8988-A82066B463AF}"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773"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1368360"/>
            <a:ext cx="9144000" cy="2822760"/>
          </a:xfrm>
          <a:prstGeom prst="rect">
            <a:avLst/>
          </a:prstGeom>
          <a:ln w="0">
            <a:noFill/>
          </a:ln>
        </p:spPr>
      </p:pic>
      <p:sp>
        <p:nvSpPr>
          <p:cNvPr id="4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5" name="" descr=""/>
          <p:cNvPicPr/>
          <p:nvPr/>
        </p:nvPicPr>
        <p:blipFill>
          <a:blip r:embed="rId3"/>
          <a:stretch/>
        </p:blipFill>
        <p:spPr>
          <a:xfrm>
            <a:off x="7010280" y="5943600"/>
            <a:ext cx="1828800" cy="65232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lick to edit the outline text format</a:t>
            </a:r>
            <a:endParaRPr b="1" lang="en-US" sz="1800" spc="-1" strike="noStrike">
              <a:solidFill>
                <a:srgbClr val="ff66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cond Outline Level</a:t>
            </a:r>
            <a:endParaRPr b="0" lang="en-US" sz="1800" spc="-1" strike="noStrike">
              <a:solidFill>
                <a:srgbClr val="808080"/>
              </a:solidFill>
              <a:latin typeface="Arial"/>
            </a:endParaRPr>
          </a:p>
          <a:p>
            <a:pPr lvl="2" marL="914400" algn="ctr">
              <a:spcBef>
                <a:spcPts val="451"/>
              </a:spcBef>
              <a:buClr>
                <a:srgbClr val="ff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rd Outline Level</a:t>
            </a:r>
            <a:endParaRPr b="0" lang="en-US" sz="1800" spc="-1" strike="noStrike">
              <a:solidFill>
                <a:srgbClr val="808080"/>
              </a:solidFill>
              <a:latin typeface="Arial"/>
            </a:endParaRPr>
          </a:p>
          <a:p>
            <a:pPr lvl="3" marL="1371600" algn="ctr">
              <a:spcBef>
                <a:spcPts val="400"/>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1828800" algn="ctr">
              <a:spcBef>
                <a:spcPts val="400"/>
              </a:spcBef>
              <a:buClr>
                <a:srgbClr val="ff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182880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182880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 descr=""/>
          <p:cNvPicPr/>
          <p:nvPr/>
        </p:nvPicPr>
        <p:blipFill>
          <a:blip r:embed="rId2"/>
          <a:stretch/>
        </p:blipFill>
        <p:spPr>
          <a:xfrm>
            <a:off x="0" y="898560"/>
            <a:ext cx="9144000" cy="3292560"/>
          </a:xfrm>
          <a:prstGeom prst="rect">
            <a:avLst/>
          </a:prstGeom>
          <a:ln w="0">
            <a:noFill/>
          </a:ln>
        </p:spPr>
      </p:pic>
      <p:sp>
        <p:nvSpPr>
          <p:cNvPr id="811"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12" name="PlaceHolder 2"/>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813" name="" descr=""/>
          <p:cNvPicPr/>
          <p:nvPr/>
        </p:nvPicPr>
        <p:blipFill>
          <a:blip r:embed="rId3"/>
          <a:srcRect l="5463" t="18002" r="5463" b="12673"/>
          <a:stretch/>
        </p:blipFill>
        <p:spPr>
          <a:xfrm>
            <a:off x="6400800" y="6172200"/>
            <a:ext cx="2590920" cy="636480"/>
          </a:xfrm>
          <a:prstGeom prst="rect">
            <a:avLst/>
          </a:prstGeom>
          <a:ln w="0">
            <a:noFill/>
          </a:ln>
        </p:spPr>
      </p:pic>
      <p:sp>
        <p:nvSpPr>
          <p:cNvPr id="81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2" name="PlaceHolder 2"/>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3" name="PlaceHolder 3"/>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BA6E-EF45-4541-89C0-7167CD4D1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54" name="" descr=""/>
          <p:cNvPicPr/>
          <p:nvPr/>
        </p:nvPicPr>
        <p:blipFill>
          <a:blip r:embed="rId2"/>
          <a:stretch/>
        </p:blipFill>
        <p:spPr>
          <a:xfrm>
            <a:off x="0" y="6081840"/>
            <a:ext cx="9144000" cy="776160"/>
          </a:xfrm>
          <a:prstGeom prst="rect">
            <a:avLst/>
          </a:prstGeom>
          <a:ln w="0">
            <a:noFill/>
          </a:ln>
        </p:spPr>
      </p:pic>
      <p:sp>
        <p:nvSpPr>
          <p:cNvPr id="855"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856"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857"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3C60-1383-4492-A339-D0000CF95112}"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858"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2"/>
          <a:stretch/>
        </p:blipFill>
        <p:spPr>
          <a:xfrm>
            <a:off x="0" y="898560"/>
            <a:ext cx="9144000" cy="3292560"/>
          </a:xfrm>
          <a:prstGeom prst="rect">
            <a:avLst/>
          </a:prstGeom>
          <a:ln w="0">
            <a:noFill/>
          </a:ln>
        </p:spPr>
      </p:pic>
      <p:sp>
        <p:nvSpPr>
          <p:cNvPr id="896"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97" name="PlaceHolder 2"/>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898" name="" descr=""/>
          <p:cNvPicPr/>
          <p:nvPr/>
        </p:nvPicPr>
        <p:blipFill>
          <a:blip r:embed="rId3"/>
          <a:srcRect l="5463" t="18002" r="5463" b="12673"/>
          <a:stretch/>
        </p:blipFill>
        <p:spPr>
          <a:xfrm>
            <a:off x="6400800" y="6172200"/>
            <a:ext cx="2590920" cy="636480"/>
          </a:xfrm>
          <a:prstGeom prst="rect">
            <a:avLst/>
          </a:prstGeom>
          <a:ln w="0">
            <a:noFill/>
          </a:ln>
        </p:spPr>
      </p:pic>
      <p:sp>
        <p:nvSpPr>
          <p:cNvPr id="899"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7" name="PlaceHolder 2"/>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8" name="PlaceHolder 3"/>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CFE9-1EE8-4EEE-900A-F3048BFF4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9" name="" descr=""/>
          <p:cNvPicPr/>
          <p:nvPr/>
        </p:nvPicPr>
        <p:blipFill>
          <a:blip r:embed="rId2"/>
          <a:stretch/>
        </p:blipFill>
        <p:spPr>
          <a:xfrm>
            <a:off x="0" y="6081840"/>
            <a:ext cx="9144000" cy="776160"/>
          </a:xfrm>
          <a:prstGeom prst="rect">
            <a:avLst/>
          </a:prstGeom>
          <a:ln w="0">
            <a:noFill/>
          </a:ln>
        </p:spPr>
      </p:pic>
      <p:sp>
        <p:nvSpPr>
          <p:cNvPr id="940"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941"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942"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6D43-EC4F-4A50-A1C3-E60617E4B6E7}"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943"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 descr=""/>
          <p:cNvPicPr/>
          <p:nvPr/>
        </p:nvPicPr>
        <p:blipFill>
          <a:blip r:embed="rId2"/>
          <a:srcRect l="0" t="0" r="0" b="482"/>
          <a:stretch/>
        </p:blipFill>
        <p:spPr>
          <a:xfrm>
            <a:off x="0" y="914400"/>
            <a:ext cx="9144000" cy="3276720"/>
          </a:xfrm>
          <a:prstGeom prst="rect">
            <a:avLst/>
          </a:prstGeom>
          <a:ln w="0">
            <a:noFill/>
          </a:ln>
        </p:spPr>
      </p:pic>
      <p:sp>
        <p:nvSpPr>
          <p:cNvPr id="981"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982" name="PlaceHolder 2"/>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983" name="" descr=""/>
          <p:cNvPicPr/>
          <p:nvPr/>
        </p:nvPicPr>
        <p:blipFill>
          <a:blip r:embed="rId3"/>
          <a:srcRect l="5463" t="18002" r="5463" b="12673"/>
          <a:stretch/>
        </p:blipFill>
        <p:spPr>
          <a:xfrm>
            <a:off x="6400800" y="6172200"/>
            <a:ext cx="2590920" cy="636480"/>
          </a:xfrm>
          <a:prstGeom prst="rect">
            <a:avLst/>
          </a:prstGeom>
          <a:ln w="0">
            <a:noFill/>
          </a:ln>
        </p:spPr>
      </p:pic>
      <p:sp>
        <p:nvSpPr>
          <p:cNvPr id="98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2" name="PlaceHolder 2"/>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3" name="PlaceHolder 3"/>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4A1C-C62A-4C35-A012-DD3EFAD4A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4" name="" descr=""/>
          <p:cNvPicPr/>
          <p:nvPr/>
        </p:nvPicPr>
        <p:blipFill>
          <a:blip r:embed="rId2"/>
          <a:stretch/>
        </p:blipFill>
        <p:spPr>
          <a:xfrm>
            <a:off x="0" y="6081840"/>
            <a:ext cx="9144000" cy="776160"/>
          </a:xfrm>
          <a:prstGeom prst="rect">
            <a:avLst/>
          </a:prstGeom>
          <a:ln w="0">
            <a:noFill/>
          </a:ln>
        </p:spPr>
      </p:pic>
      <p:sp>
        <p:nvSpPr>
          <p:cNvPr id="1025"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026"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027"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CADA-E4F7-4A5E-B93A-5C8D1F258A4A}"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028"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5" name="" descr=""/>
          <p:cNvPicPr/>
          <p:nvPr/>
        </p:nvPicPr>
        <p:blipFill>
          <a:blip r:embed="rId2"/>
          <a:stretch/>
        </p:blipFill>
        <p:spPr>
          <a:xfrm>
            <a:off x="0" y="898560"/>
            <a:ext cx="9144000" cy="3292560"/>
          </a:xfrm>
          <a:prstGeom prst="rect">
            <a:avLst/>
          </a:prstGeom>
          <a:ln w="0">
            <a:noFill/>
          </a:ln>
        </p:spPr>
      </p:pic>
      <p:sp>
        <p:nvSpPr>
          <p:cNvPr id="1066"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067" name="PlaceHolder 2"/>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1068" name="" descr=""/>
          <p:cNvPicPr/>
          <p:nvPr/>
        </p:nvPicPr>
        <p:blipFill>
          <a:blip r:embed="rId3"/>
          <a:srcRect l="5463" t="18002" r="5463" b="12673"/>
          <a:stretch/>
        </p:blipFill>
        <p:spPr>
          <a:xfrm>
            <a:off x="6400800" y="6172200"/>
            <a:ext cx="2590920" cy="636480"/>
          </a:xfrm>
          <a:prstGeom prst="rect">
            <a:avLst/>
          </a:prstGeom>
          <a:ln w="0">
            <a:noFill/>
          </a:ln>
        </p:spPr>
      </p:pic>
      <p:sp>
        <p:nvSpPr>
          <p:cNvPr id="1069"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7" name="PlaceHolder 2"/>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08" name="PlaceHolder 3"/>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2B3B-CE2D-45DB-8D89-0CCEBD568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9" name="" descr=""/>
          <p:cNvPicPr/>
          <p:nvPr/>
        </p:nvPicPr>
        <p:blipFill>
          <a:blip r:embed="rId2"/>
          <a:stretch/>
        </p:blipFill>
        <p:spPr>
          <a:xfrm>
            <a:off x="0" y="6081840"/>
            <a:ext cx="9144000" cy="776160"/>
          </a:xfrm>
          <a:prstGeom prst="rect">
            <a:avLst/>
          </a:prstGeom>
          <a:ln w="0">
            <a:noFill/>
          </a:ln>
        </p:spPr>
      </p:pic>
      <p:sp>
        <p:nvSpPr>
          <p:cNvPr id="1110"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111"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112"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7F5F-3AED-4C84-A49F-BE10974C5FA0}"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113"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2"/>
          <a:stretch/>
        </p:blipFill>
        <p:spPr>
          <a:xfrm>
            <a:off x="0" y="898560"/>
            <a:ext cx="9144000" cy="3292560"/>
          </a:xfrm>
          <a:prstGeom prst="rect">
            <a:avLst/>
          </a:prstGeom>
          <a:ln w="0">
            <a:noFill/>
          </a:ln>
        </p:spPr>
      </p:pic>
      <p:sp>
        <p:nvSpPr>
          <p:cNvPr id="1151"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152" name="PlaceHolder 2"/>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1153" name="" descr=""/>
          <p:cNvPicPr/>
          <p:nvPr/>
        </p:nvPicPr>
        <p:blipFill>
          <a:blip r:embed="rId3"/>
          <a:srcRect l="5463" t="18002" r="5463" b="12673"/>
          <a:stretch/>
        </p:blipFill>
        <p:spPr>
          <a:xfrm>
            <a:off x="6400800" y="6172200"/>
            <a:ext cx="2590920" cy="636480"/>
          </a:xfrm>
          <a:prstGeom prst="rect">
            <a:avLst/>
          </a:prstGeom>
          <a:ln w="0">
            <a:noFill/>
          </a:ln>
        </p:spPr>
      </p:pic>
      <p:sp>
        <p:nvSpPr>
          <p:cNvPr id="115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1" name="" descr=""/>
          <p:cNvPicPr/>
          <p:nvPr/>
        </p:nvPicPr>
        <p:blipFill>
          <a:blip r:embed="rId2"/>
          <a:stretch/>
        </p:blipFill>
        <p:spPr>
          <a:xfrm>
            <a:off x="0" y="6081840"/>
            <a:ext cx="9144000" cy="776160"/>
          </a:xfrm>
          <a:prstGeom prst="rect">
            <a:avLst/>
          </a:prstGeom>
          <a:ln w="0">
            <a:noFill/>
          </a:ln>
        </p:spPr>
      </p:pic>
      <p:sp>
        <p:nvSpPr>
          <p:cNvPr id="11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Click to edit the title text format</a:t>
            </a:r>
            <a:endParaRPr b="1" lang="en-US" sz="2200" spc="-1" strike="noStrike">
              <a:solidFill>
                <a:srgbClr val="004fa3"/>
              </a:solidFill>
              <a:latin typeface="Arial"/>
            </a:endParaRPr>
          </a:p>
        </p:txBody>
      </p:sp>
      <p:sp>
        <p:nvSpPr>
          <p:cNvPr id="1193"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1194"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47B2-CB43-4B0A-A139-89C383B14539}"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195"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F1AD-29F5-489A-BC2D-4205E6FA9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6" name="" descr=""/>
          <p:cNvPicPr/>
          <p:nvPr/>
        </p:nvPicPr>
        <p:blipFill>
          <a:blip r:embed="rId2"/>
          <a:stretch/>
        </p:blipFill>
        <p:spPr>
          <a:xfrm>
            <a:off x="0" y="6081840"/>
            <a:ext cx="9144000" cy="776160"/>
          </a:xfrm>
          <a:prstGeom prst="rect">
            <a:avLst/>
          </a:prstGeom>
          <a:ln w="0">
            <a:noFill/>
          </a:ln>
        </p:spPr>
      </p:pic>
      <p:sp>
        <p:nvSpPr>
          <p:cNvPr id="87"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88"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89"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B1B6-4597-4CB0-B950-CA21BE01081F}"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90"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2" name="" descr=""/>
          <p:cNvPicPr/>
          <p:nvPr/>
        </p:nvPicPr>
        <p:blipFill>
          <a:blip r:embed="rId2"/>
          <a:stretch/>
        </p:blipFill>
        <p:spPr>
          <a:xfrm>
            <a:off x="0" y="1368360"/>
            <a:ext cx="9144000" cy="2822760"/>
          </a:xfrm>
          <a:prstGeom prst="rect">
            <a:avLst/>
          </a:prstGeom>
          <a:ln w="0">
            <a:noFill/>
          </a:ln>
        </p:spPr>
      </p:pic>
      <p:sp>
        <p:nvSpPr>
          <p:cNvPr id="1233"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234" name="PlaceHolder 2"/>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1235"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236"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2"/>
          <a:srcRect l="0" t="0" r="0" b="4000"/>
          <a:stretch/>
        </p:blipFill>
        <p:spPr>
          <a:xfrm>
            <a:off x="0" y="533520"/>
            <a:ext cx="9144000" cy="3657600"/>
          </a:xfrm>
          <a:prstGeom prst="rect">
            <a:avLst/>
          </a:prstGeom>
          <a:ln w="0">
            <a:noFill/>
          </a:ln>
        </p:spPr>
      </p:pic>
      <p:sp>
        <p:nvSpPr>
          <p:cNvPr id="128"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130"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31"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5173-B895-4877-BE37-97283BD58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1" name="" descr=""/>
          <p:cNvPicPr/>
          <p:nvPr/>
        </p:nvPicPr>
        <p:blipFill>
          <a:blip r:embed="rId2"/>
          <a:stretch/>
        </p:blipFill>
        <p:spPr>
          <a:xfrm>
            <a:off x="0" y="6081840"/>
            <a:ext cx="9144000" cy="776160"/>
          </a:xfrm>
          <a:prstGeom prst="rect">
            <a:avLst/>
          </a:prstGeom>
          <a:ln w="0">
            <a:noFill/>
          </a:ln>
        </p:spPr>
      </p:pic>
      <p:sp>
        <p:nvSpPr>
          <p:cNvPr id="172"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73"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74"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700A-008A-4EBC-A4EC-F4C391C2ED85}"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75"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0" y="762120"/>
            <a:ext cx="9144000" cy="3413160"/>
          </a:xfrm>
          <a:prstGeom prst="rect">
            <a:avLst/>
          </a:prstGeom>
          <a:ln w="0">
            <a:noFill/>
          </a:ln>
        </p:spPr>
      </p:pic>
      <p:sp>
        <p:nvSpPr>
          <p:cNvPr id="213"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14" name="PlaceHolder 2"/>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215"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16"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25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D649-090B-4C3B-AA61-EB625701C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57" name="" descr=""/>
          <p:cNvPicPr/>
          <p:nvPr/>
        </p:nvPicPr>
        <p:blipFill>
          <a:blip r:embed="rId2"/>
          <a:stretch/>
        </p:blipFill>
        <p:spPr>
          <a:xfrm>
            <a:off x="0" y="6081840"/>
            <a:ext cx="9144000" cy="776160"/>
          </a:xfrm>
          <a:prstGeom prst="rect">
            <a:avLst/>
          </a:prstGeom>
          <a:ln w="0">
            <a:noFill/>
          </a:ln>
        </p:spPr>
      </p:pic>
      <p:sp>
        <p:nvSpPr>
          <p:cNvPr id="258"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19C0-AEBE-4220-96B5-D9486A256B78}"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259"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260"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9360" y="-9360"/>
            <a:ext cx="9162720" cy="6876720"/>
          </a:xfrm>
          <a:prstGeom prst="rect">
            <a:avLst/>
          </a:prstGeom>
          <a:ln w="0">
            <a:noFill/>
          </a:ln>
        </p:spPr>
      </p:pic>
      <p:sp>
        <p:nvSpPr>
          <p:cNvPr id="298"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9"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0"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1"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6B53-5C4D-4D86-9ED9-CA1589F77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9"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0"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1415-8B47-4229-AABB-AF0A3495D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41" name="" descr=""/>
          <p:cNvPicPr/>
          <p:nvPr/>
        </p:nvPicPr>
        <p:blipFill>
          <a:blip r:embed="rId2"/>
          <a:stretch/>
        </p:blipFill>
        <p:spPr>
          <a:xfrm>
            <a:off x="0" y="6081840"/>
            <a:ext cx="9144000" cy="776160"/>
          </a:xfrm>
          <a:prstGeom prst="rect">
            <a:avLst/>
          </a:prstGeom>
          <a:ln w="0">
            <a:noFill/>
          </a:ln>
        </p:spPr>
      </p:pic>
      <p:sp>
        <p:nvSpPr>
          <p:cNvPr id="342"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343"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344"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0B4D-9F37-4237-8DDC-D0A74CAA8EAE}"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345"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37.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39.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39.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39.xml"/>
</Relationships>
</file>

<file path=ppt/slides/_rels/slide9.xml.rels><?xml version="1.0" encoding="UTF-8"?>
<Relationships xmlns="http://schemas.openxmlformats.org/package/2006/relationships"><Relationship Id="rId1" Type="http://schemas.openxmlformats.org/officeDocument/2006/relationships/hyperlink" Target="http://www.ercot.com/calendar/2007/05/20070522-PWG.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e Decimals for Profile Resolu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Recommendation</a:t>
            </a:r>
            <a:endParaRPr b="1" lang="en-US" sz="2800" spc="-1" strike="noStrike">
              <a:solidFill>
                <a:srgbClr val="61a8dd"/>
              </a:solidFill>
              <a:latin typeface="Arial"/>
            </a:endParaRPr>
          </a:p>
        </p:txBody>
      </p:sp>
      <p:sp>
        <p:nvSpPr>
          <p:cNvPr id="130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OPS Motion </a:t>
            </a:r>
            <a:endParaRPr b="0" lang="en-US" sz="2800" spc="-1" strike="noStrike">
              <a:solidFill>
                <a:srgbClr val="80808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o change profile rounding to three decimal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a8dd"/>
                </a:solidFill>
                <a:latin typeface="Arial"/>
              </a:rPr>
              <a:t>Pro Case for Three Decimals for Profile Resolution</a:t>
            </a:r>
            <a:endParaRPr b="1" lang="en-US" sz="2400" spc="-1" strike="noStrike">
              <a:solidFill>
                <a:srgbClr val="61a8dd"/>
              </a:solidFill>
              <a:latin typeface="Arial"/>
            </a:endParaRPr>
          </a:p>
        </p:txBody>
      </p:sp>
      <p:sp>
        <p:nvSpPr>
          <p:cNvPr id="127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Generation 15 minute pattern rarely has 2 adjacent equal intervals.</a:t>
            </a:r>
            <a:endParaRPr b="0" lang="en-US" sz="2000" spc="-1" strike="noStrike">
              <a:solidFill>
                <a:srgbClr val="80808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Rounding to 2 decimals is not supported by any specific rule.</a:t>
            </a:r>
            <a:endParaRPr b="0" lang="en-US" sz="2000" spc="-1" strike="noStrike">
              <a:solidFill>
                <a:srgbClr val="80808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Residential load is not flat for 1.5 hours at aggregate level.</a:t>
            </a:r>
            <a:endParaRPr b="0" lang="en-US" sz="2000" spc="-1" strike="noStrike">
              <a:solidFill>
                <a:srgbClr val="80808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Rounding to 1 decimal shows a pattern even less like generation.</a:t>
            </a:r>
            <a:endParaRPr b="0" lang="en-US" sz="2000" spc="-1" strike="noStrike">
              <a:solidFill>
                <a:srgbClr val="80808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Rounding to 3 decimals would be a pattern closer generation pattern.</a:t>
            </a:r>
            <a:endParaRPr b="0" lang="en-US" sz="2000" spc="-1" strike="noStrike">
              <a:solidFill>
                <a:srgbClr val="80808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mall profile numbers in 15 minute intervals are being used to settle large volumes of MWh.</a:t>
            </a:r>
            <a:endParaRPr b="0" lang="en-US" sz="2000" spc="-1" strike="noStrike">
              <a:solidFill>
                <a:srgbClr val="80808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gnificant settlement dollars can be affected by the difference of two vs. three decimals as seen from ERCOT presentation in interval 43 (by eye) looks like 30 MW difference which at a future possible $3,000 MCPE would be $90,000.</a:t>
            </a:r>
            <a:endParaRPr b="0" lang="en-US" sz="2000" spc="-1" strike="noStrike">
              <a:solidFill>
                <a:srgbClr val="80808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er ERCOT, small mean populations are affected by rounding.</a:t>
            </a:r>
            <a:endParaRPr b="0" lang="en-US" sz="2000" spc="-1" strike="noStrike">
              <a:solidFill>
                <a:srgbClr val="80808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ost to implement is nil.</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6" name="" descr=""/>
          <p:cNvPicPr/>
          <p:nvPr/>
        </p:nvPicPr>
        <p:blipFill>
          <a:blip r:embed="rId1"/>
          <a:stretch/>
        </p:blipFill>
        <p:spPr>
          <a:xfrm>
            <a:off x="235080" y="228600"/>
            <a:ext cx="8673840" cy="5791320"/>
          </a:xfrm>
          <a:prstGeom prst="rect">
            <a:avLst/>
          </a:prstGeom>
          <a:ln w="0">
            <a:noFill/>
          </a:ln>
        </p:spPr>
      </p:pic>
      <p:sp>
        <p:nvSpPr>
          <p:cNvPr id="1277" name=""/>
          <p:cNvSpPr/>
          <p:nvPr/>
        </p:nvSpPr>
        <p:spPr>
          <a:xfrm>
            <a:off x="1447920" y="1523880"/>
            <a:ext cx="259056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o two adjacent intervals exactly equal</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a8dd"/>
                </a:solidFill>
                <a:latin typeface="Arial"/>
              </a:rPr>
              <a:t>PWG Presentations RESLOWR ALL LRS.ppt page 8</a:t>
            </a:r>
            <a:endParaRPr b="1" lang="en-US" sz="2400" spc="-1" strike="noStrike">
              <a:solidFill>
                <a:srgbClr val="61a8dd"/>
              </a:solidFill>
              <a:latin typeface="Arial"/>
            </a:endParaRPr>
          </a:p>
        </p:txBody>
      </p:sp>
      <p:pic>
        <p:nvPicPr>
          <p:cNvPr id="1279" name="" descr=""/>
          <p:cNvPicPr/>
          <p:nvPr/>
        </p:nvPicPr>
        <p:blipFill>
          <a:blip r:embed="rId1"/>
          <a:stretch/>
        </p:blipFill>
        <p:spPr>
          <a:xfrm>
            <a:off x="735120" y="1143000"/>
            <a:ext cx="76755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a3"/>
                </a:solidFill>
                <a:latin typeface="Arial"/>
              </a:rPr>
              <a:t>RESLOWR_NORTH</a:t>
            </a:r>
            <a:r>
              <a:rPr b="1" lang="en-US" sz="2000" spc="-1" strike="noStrike">
                <a:solidFill>
                  <a:srgbClr val="004fa3"/>
                </a:solidFill>
                <a:latin typeface="Arial"/>
              </a:rPr>
              <a:t>	</a:t>
            </a:r>
            <a:r>
              <a:rPr b="1" lang="en-US" sz="2000" spc="-1" strike="noStrike">
                <a:solidFill>
                  <a:srgbClr val="004fa3"/>
                </a:solidFill>
                <a:latin typeface="Arial"/>
              </a:rPr>
              <a:t>5/22/2007 with two decimals</a:t>
            </a:r>
            <a:br>
              <a:rPr sz="2000"/>
            </a:br>
            <a:r>
              <a:rPr b="1" lang="en-US" sz="2000" spc="-1" strike="noStrike">
                <a:solidFill>
                  <a:srgbClr val="004fa3"/>
                </a:solidFill>
                <a:latin typeface="Arial"/>
              </a:rPr>
              <a:t>Current Market Condition</a:t>
            </a:r>
            <a:endParaRPr b="1" lang="en-US" sz="2000" spc="-1" strike="noStrike">
              <a:solidFill>
                <a:srgbClr val="004fa3"/>
              </a:solidFill>
              <a:latin typeface="Arial"/>
            </a:endParaRPr>
          </a:p>
        </p:txBody>
      </p:sp>
      <p:graphicFrame>
        <p:nvGraphicFramePr>
          <p:cNvPr id="1281" name=""/>
          <p:cNvGraphicFramePr/>
          <p:nvPr/>
        </p:nvGraphicFramePr>
        <p:xfrm>
          <a:off x="457200" y="1219320"/>
          <a:ext cx="4038120" cy="4521960"/>
        </p:xfrm>
        <a:graphic>
          <a:graphicData uri="http://schemas.openxmlformats.org/drawingml/2006/table">
            <a:tbl>
              <a:tblPr/>
              <a:tblGrid>
                <a:gridCol w="2018520"/>
                <a:gridCol w="2019600"/>
              </a:tblGrid>
              <a:tr h="452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RESLOWR_NORTH</a:t>
                      </a:r>
                      <a:endParaRPr b="0" lang="en-US" sz="1000" spc="-1" strike="noStrike">
                        <a:solidFill>
                          <a:srgbClr val="4d4d4d"/>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5/22/2007</a:t>
                      </a:r>
                      <a:endParaRPr b="0" lang="en-US" sz="1000" spc="-1" strike="noStrike">
                        <a:solidFill>
                          <a:srgbClr val="4d4d4d"/>
                        </a:solidFill>
                        <a:latin typeface="Arial"/>
                      </a:endParaRPr>
                    </a:p>
                  </a:txBody>
                  <a:tcPr anchor="b" marL="90000" marR="90000">
                    <a:lnL>
                      <a:noFill/>
                    </a:lnL>
                    <a:lnR>
                      <a:noFill/>
                    </a:lnR>
                    <a:lnT>
                      <a:noFill/>
                    </a:lnT>
                    <a:lnB>
                      <a:noFill/>
                    </a:lnB>
                    <a:noFill/>
                  </a:tcPr>
                </a:tc>
              </a:tr>
            </a:tbl>
          </a:graphicData>
        </a:graphic>
      </p:graphicFrame>
      <p:pic>
        <p:nvPicPr>
          <p:cNvPr id="1282" name="" descr=""/>
          <p:cNvPicPr/>
          <p:nvPr/>
        </p:nvPicPr>
        <p:blipFill>
          <a:blip r:embed="rId1"/>
          <a:stretch/>
        </p:blipFill>
        <p:spPr>
          <a:xfrm>
            <a:off x="235080" y="1219320"/>
            <a:ext cx="8673840" cy="4724280"/>
          </a:xfrm>
          <a:prstGeom prst="rect">
            <a:avLst/>
          </a:prstGeom>
          <a:ln w="0">
            <a:noFill/>
          </a:ln>
        </p:spPr>
      </p:pic>
      <p:sp>
        <p:nvSpPr>
          <p:cNvPr id="1283" name=""/>
          <p:cNvSpPr/>
          <p:nvPr/>
        </p:nvSpPr>
        <p:spPr>
          <a:xfrm rot="5400000">
            <a:off x="1371960" y="3809160"/>
            <a:ext cx="976320" cy="485640"/>
          </a:xfrm>
          <a:prstGeom prst="rightArrow">
            <a:avLst>
              <a:gd name="adj1" fmla="val 50000"/>
              <a:gd name="adj2" fmla="val 50259"/>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84" name=""/>
          <p:cNvSpPr/>
          <p:nvPr/>
        </p:nvSpPr>
        <p:spPr>
          <a:xfrm rot="5400000">
            <a:off x="4859640" y="2683440"/>
            <a:ext cx="976320" cy="485640"/>
          </a:xfrm>
          <a:prstGeom prst="rightArrow">
            <a:avLst>
              <a:gd name="adj1" fmla="val 50000"/>
              <a:gd name="adj2" fmla="val 50259"/>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85" name=""/>
          <p:cNvSpPr/>
          <p:nvPr/>
        </p:nvSpPr>
        <p:spPr>
          <a:xfrm rot="5400000">
            <a:off x="3336120" y="3369240"/>
            <a:ext cx="976320" cy="486000"/>
          </a:xfrm>
          <a:prstGeom prst="rightArrow">
            <a:avLst>
              <a:gd name="adj1" fmla="val 50000"/>
              <a:gd name="adj2" fmla="val 50222"/>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86" name=""/>
          <p:cNvSpPr/>
          <p:nvPr/>
        </p:nvSpPr>
        <p:spPr>
          <a:xfrm rot="5400000">
            <a:off x="6840720" y="1311840"/>
            <a:ext cx="976320" cy="485640"/>
          </a:xfrm>
          <a:prstGeom prst="rightArrow">
            <a:avLst>
              <a:gd name="adj1" fmla="val 50000"/>
              <a:gd name="adj2" fmla="val 50259"/>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Optional Content Slide for Executive Presentations</a:t>
            </a:r>
            <a:endParaRPr b="1" lang="en-US" sz="2200" spc="-1" strike="noStrike">
              <a:solidFill>
                <a:srgbClr val="004fa3"/>
              </a:solidFill>
              <a:latin typeface="Arial"/>
            </a:endParaRPr>
          </a:p>
        </p:txBody>
      </p:sp>
      <p:pic>
        <p:nvPicPr>
          <p:cNvPr id="1288" name="" descr=""/>
          <p:cNvPicPr/>
          <p:nvPr/>
        </p:nvPicPr>
        <p:blipFill>
          <a:blip r:embed="rId1"/>
          <a:stretch/>
        </p:blipFill>
        <p:spPr>
          <a:xfrm>
            <a:off x="235080" y="152280"/>
            <a:ext cx="8673840" cy="5931000"/>
          </a:xfrm>
          <a:prstGeom prst="rect">
            <a:avLst/>
          </a:prstGeom>
          <a:ln w="0">
            <a:noFill/>
          </a:ln>
        </p:spPr>
      </p:pic>
      <p:sp>
        <p:nvSpPr>
          <p:cNvPr id="1289" name=""/>
          <p:cNvSpPr/>
          <p:nvPr/>
        </p:nvSpPr>
        <p:spPr>
          <a:xfrm rot="5400000">
            <a:off x="4859640" y="1845360"/>
            <a:ext cx="976320" cy="485640"/>
          </a:xfrm>
          <a:prstGeom prst="rightArrow">
            <a:avLst>
              <a:gd name="adj1" fmla="val 50000"/>
              <a:gd name="adj2" fmla="val 50259"/>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90" name=""/>
          <p:cNvSpPr/>
          <p:nvPr/>
        </p:nvSpPr>
        <p:spPr>
          <a:xfrm rot="5400000">
            <a:off x="2725920" y="1769040"/>
            <a:ext cx="976320" cy="485640"/>
          </a:xfrm>
          <a:prstGeom prst="rightArrow">
            <a:avLst>
              <a:gd name="adj1" fmla="val 50000"/>
              <a:gd name="adj2" fmla="val 50259"/>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91" name=""/>
          <p:cNvSpPr/>
          <p:nvPr/>
        </p:nvSpPr>
        <p:spPr>
          <a:xfrm rot="5400000">
            <a:off x="363960" y="1769040"/>
            <a:ext cx="976320" cy="486000"/>
          </a:xfrm>
          <a:prstGeom prst="rightArrow">
            <a:avLst>
              <a:gd name="adj1" fmla="val 50000"/>
              <a:gd name="adj2" fmla="val 50222"/>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92" name=""/>
          <p:cNvSpPr/>
          <p:nvPr/>
        </p:nvSpPr>
        <p:spPr>
          <a:xfrm rot="5400000">
            <a:off x="6917040" y="245160"/>
            <a:ext cx="976320" cy="485640"/>
          </a:xfrm>
          <a:prstGeom prst="rightArrow">
            <a:avLst>
              <a:gd name="adj1" fmla="val 50000"/>
              <a:gd name="adj2" fmla="val 50259"/>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4fa3"/>
                </a:solidFill>
                <a:latin typeface="Arial"/>
              </a:rPr>
              <a:t>January 27, 2006 Residential Load Comparison (from ERCOT presentation)</a:t>
            </a:r>
            <a:endParaRPr b="1" lang="en-US" sz="1700" spc="-1" strike="noStrike">
              <a:solidFill>
                <a:srgbClr val="004fa3"/>
              </a:solidFill>
              <a:latin typeface="Arial"/>
            </a:endParaRPr>
          </a:p>
        </p:txBody>
      </p:sp>
      <p:pic>
        <p:nvPicPr>
          <p:cNvPr id="1294" name="" descr=""/>
          <p:cNvPicPr/>
          <p:nvPr/>
        </p:nvPicPr>
        <p:blipFill>
          <a:blip r:embed="rId1"/>
          <a:stretch/>
        </p:blipFill>
        <p:spPr>
          <a:xfrm>
            <a:off x="228600" y="1143000"/>
            <a:ext cx="8763120" cy="4800600"/>
          </a:xfrm>
          <a:prstGeom prst="rect">
            <a:avLst/>
          </a:prstGeom>
          <a:ln w="0">
            <a:noFill/>
          </a:ln>
        </p:spPr>
      </p:pic>
      <p:sp>
        <p:nvSpPr>
          <p:cNvPr id="1295" name=""/>
          <p:cNvSpPr/>
          <p:nvPr/>
        </p:nvSpPr>
        <p:spPr>
          <a:xfrm rot="7334400">
            <a:off x="4021560" y="2683080"/>
            <a:ext cx="976320" cy="486000"/>
          </a:xfrm>
          <a:prstGeom prst="rightArrow">
            <a:avLst>
              <a:gd name="adj1" fmla="val 50000"/>
              <a:gd name="adj2" fmla="val 50222"/>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96" name=""/>
          <p:cNvSpPr/>
          <p:nvPr/>
        </p:nvSpPr>
        <p:spPr>
          <a:xfrm>
            <a:off x="3886200" y="1752480"/>
            <a:ext cx="2057400" cy="64260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otential $90,000 interval settlement</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7" name="" descr=""/>
          <p:cNvPicPr/>
          <p:nvPr/>
        </p:nvPicPr>
        <p:blipFill>
          <a:blip r:embed="rId1"/>
          <a:stretch/>
        </p:blipFill>
        <p:spPr>
          <a:xfrm>
            <a:off x="533520" y="1295280"/>
            <a:ext cx="6324480" cy="4645080"/>
          </a:xfrm>
          <a:prstGeom prst="rect">
            <a:avLst/>
          </a:prstGeom>
          <a:ln w="0">
            <a:noFill/>
          </a:ln>
        </p:spPr>
      </p:pic>
      <p:sp>
        <p:nvSpPr>
          <p:cNvPr id="12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From ERCOT Presentation</a:t>
            </a:r>
            <a:br>
              <a:rPr sz="2200"/>
            </a:br>
            <a:r>
              <a:rPr b="1" lang="en-US" sz="2200" spc="-1" strike="noStrike">
                <a:solidFill>
                  <a:srgbClr val="004fa3"/>
                </a:solidFill>
                <a:latin typeface="Arial"/>
              </a:rPr>
              <a:t>In large Round 2 Sample strata Precision shall be lower</a:t>
            </a:r>
            <a:endParaRPr b="1" lang="en-US" sz="2200" spc="-1" strike="noStrike">
              <a:solidFill>
                <a:srgbClr val="004fa3"/>
              </a:solidFill>
              <a:latin typeface="Arial"/>
            </a:endParaRPr>
          </a:p>
        </p:txBody>
      </p:sp>
      <p:sp>
        <p:nvSpPr>
          <p:cNvPr id="1299" name=""/>
          <p:cNvSpPr/>
          <p:nvPr/>
        </p:nvSpPr>
        <p:spPr>
          <a:xfrm rot="10800000">
            <a:off x="6477120" y="1676160"/>
            <a:ext cx="976320" cy="485640"/>
          </a:xfrm>
          <a:prstGeom prst="rightArrow">
            <a:avLst>
              <a:gd name="adj1" fmla="val 50000"/>
              <a:gd name="adj2" fmla="val 50259"/>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00" name=""/>
          <p:cNvSpPr/>
          <p:nvPr/>
        </p:nvSpPr>
        <p:spPr>
          <a:xfrm>
            <a:off x="6553080" y="2209680"/>
            <a:ext cx="2057400" cy="91692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mall means are affected by rounding</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a8dd"/>
                </a:solidFill>
                <a:latin typeface="Arial"/>
              </a:rPr>
              <a:t>Reference links for data sources</a:t>
            </a:r>
            <a:endParaRPr b="1" lang="en-US" sz="2400" spc="-1" strike="noStrike">
              <a:solidFill>
                <a:srgbClr val="61a8dd"/>
              </a:solidFill>
              <a:latin typeface="Arial"/>
            </a:endParaRPr>
          </a:p>
        </p:txBody>
      </p:sp>
      <p:sp>
        <p:nvSpPr>
          <p:cNvPr id="130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4fa3"/>
                </a:solidFill>
                <a:uFillTx/>
                <a:latin typeface="Arial"/>
                <a:hlinkClick r:id="rId1"/>
              </a:rPr>
              <a:t>http://www.ercot.com/calendar/2007/05/20070522-PWG.html</a:t>
            </a:r>
            <a:r>
              <a:rPr b="0" lang="en-US" sz="2000" spc="-1" strike="noStrike">
                <a:solidFill>
                  <a:srgbClr val="808080"/>
                </a:solidFill>
                <a:latin typeface="Arial"/>
              </a:rPr>
              <a:t> page 13 in key document called “2 vs 3 decimals”.</a:t>
            </a:r>
            <a:endParaRPr b="0" lang="en-US" sz="2000" spc="-1" strike="noStrike">
              <a:solidFill>
                <a:srgbClr val="80808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http://www.ercot.com/mktinfo/settlements/markettotals/initial/index.html for generation load from key document “2007-05 Initial Market Totals”.</a:t>
            </a:r>
            <a:endParaRPr b="0" lang="en-US" sz="2000" spc="-1" strike="noStrike">
              <a:solidFill>
                <a:srgbClr val="80808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https://pi.ercot.com/contentproxy/publicList?folder_id=10001721 for profile load</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14:33:57Z</dcterms:created>
  <dc:creator>epodraza</dc:creator>
  <dc:description/>
  <dc:language>en-US</dc:language>
  <cp:lastModifiedBy>Chuck Moore</cp:lastModifiedBy>
  <dcterms:modified xsi:type="dcterms:W3CDTF">2007-06-04T16:47:28Z</dcterms:modified>
  <cp:revision>6</cp:revision>
  <dc:subject/>
  <dc:title>Three Decimals for Profile Resol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64278237</vt:r8>
  </property>
  <property fmtid="{D5CDD505-2E9C-101B-9397-08002B2CF9AE}" pid="3" name="_AuthorEmail">
    <vt:lpwstr>Chuck.Moore@directenergy.com</vt:lpwstr>
  </property>
  <property fmtid="{D5CDD505-2E9C-101B-9397-08002B2CF9AE}" pid="4" name="_AuthorEmailDisplayName">
    <vt:lpwstr>Moore, Chuck</vt:lpwstr>
  </property>
  <property fmtid="{D5CDD505-2E9C-101B-9397-08002B2CF9AE}" pid="5" name="_EmailSubject">
    <vt:lpwstr>Three Decimals for Profile Resolution COPS June 11 Presentation</vt:lpwstr>
  </property>
  <property fmtid="{D5CDD505-2E9C-101B-9397-08002B2CF9AE}" pid="6" name="_NewReviewCycle">
    <vt:lpwstr/>
  </property>
</Properties>
</file>