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FB73-42B2-428E-9ED0-D42BDE3A5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3FA8-C221-424F-9928-686B10BF6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065D-A4B5-4E92-920B-277B0C594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A378-B16B-42D7-A370-5BD3CB0E8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FD229-2BBA-41DD-8A57-154902389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00B03-9F57-4F0F-9BF7-97850FCCC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62284-C064-4A7C-88A1-D6C71339D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64DDE-587C-40C3-BED8-AE764D8F9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87E9D-7805-4993-BB4F-967D2D048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9D43F-CA03-4452-9E02-9CE503469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F66F2-2644-4973-BBC9-EF22E0DEC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EC72-FBA4-41C4-AD07-E3685777C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F990A-840C-455C-BF73-C593F0FC8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A3A37-7254-49A8-B4BC-6F8D0CCFE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F1292-96AD-4A03-B0ED-B04A47F56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DC68E-A18B-4387-9E7F-C2CBE892F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3EF3E-C637-4B1A-A107-FD335FF88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AA29-4511-49A6-BC05-296C0B01C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B269-2EBD-4AF6-9435-1C00AC275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2177-6D50-4678-9732-071A4B0C9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B2B9-BAF4-4D87-A95A-29296D373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7722-BC51-49B0-B378-4B3C70955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1B4B-9CDD-413B-BCBF-19BA03292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5390-75A4-49A5-92D7-AF311A58A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31CE7-8F07-4E6B-9280-BAF74185CEF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21640-D349-4653-8FC7-028B799A7C6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RMS Update to TAC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ne 7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600200" y="1143000"/>
            <a:ext cx="5486400" cy="49528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Questions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MS Activity Summar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MGRR052 File Naming Convention for Customer Billing Contact Information URGENT (Vot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MS Procedures: Working Group Name Change (Vot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pdate on TAC directive relating to identifying issues with net metering and small renewable gene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RCOT Service Level Agreement Upd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RMGRR052 File Naming Convention for Customer Billing Contact Information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uring Flight 0407 Market Testing to support SET Version 3.0 Implementation, an issue was identified with participants file naming convention resulting in ERCOT rejec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medy was for ERCOT to modify process and focus specifically on use of “csv” within file na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other alternative was more effici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impact to resource availability and cost impacts were min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quired immediate action and URGENCY vote at RMS was approved unanimous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MS requests URGENT approval from TA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MS Procedures: Working Group Name Change (Vote)</a:t>
            </a:r>
            <a:br>
              <a:rPr sz="4200"/>
            </a:b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ET Working Group name change to Retail Metering Working Grou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ET was formed to provide market guidelines and protocols to support PUCT Rule 25.311, Competitive Metering Serv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tail Metering Working Group name allows flexibility to address other retail metering issues that arise in ERCOT market stemming from PUCT or Legislative a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ET Protocols remain unaff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MS Requests Affirming Vote from TA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ssues with net metering and small renewable gener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rch 30, 2007 TAC directed RMS to “identify issues with net metering and small renewable generation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tail Metering WG facilitated retail market workshops to identify those issues and be considerate of impacts from Advanced Metering Rulemaking and HB 369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MWG met May 2 and June 6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Net metering and small renewable generation discussion  (cont.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mmendations from worksho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ope of effort defined as Small Renewable Generation is 50kW and l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bove 50kW up to 2mW is covered by HB 3693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tocols currently address and Settlement is suppor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xt Step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gregate issues by Retail; Commercial Operations; Oth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ing issues as short term (September 2007) and long term (January 2009)solutio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MWG will host another workshop in 2 weeks to complete recommendatio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Net metering and small renewable generation discussion  (cont.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ail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age transaction communicates both load and generation values (Short and a Long Ter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I ID Maintenance transaction that identifies “advanced” metering, if applicable (LongTer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ercial Op’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ation for profile impacts associated with DG, TOU, DLC (long ter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settlement still occur based on current profiles regardless of DG, TOU, DLC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relationship between QSE, REP and Consum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generation create credit against REP loa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threshold for QSE involvem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es settlement occur when generation value creates a negative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Net metering and small renewable generation discussion  (cont.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ering must consist of either separate meters, or a single meter, that measure both load and generator outpu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sum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uld not experience reduction in value associated with small renewable generation due to market proce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ERCOT Service Level Agreement Update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RCOT reported 100% availability in March and Apri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dditional hardware has been ordered to support failover capability and ensure availability. Should be in production late summer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RCOT has proposed new SLA offering 99.9% service availability outside scheduled release and maintenance windows. 24 X 7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RCOT has offered additional reporting to include metrics on TML of 98% 24x7, MarkeTrak of 98% 7am-7pm M-F except holiday. A service level agreement is also being created to support Data Extracts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LA and Reporting will be presented to RMS for consideration and approval on June 13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1T13:47:10Z</dcterms:created>
  <dc:creator>AEP</dc:creator>
  <dc:description/>
  <dc:language>en-US</dc:language>
  <cp:lastModifiedBy>AEP</cp:lastModifiedBy>
  <dcterms:modified xsi:type="dcterms:W3CDTF">2007-06-07T14:18:49Z</dcterms:modified>
  <cp:revision>15</cp:revision>
  <dc:subject/>
  <dc:title>RMS Update to TAC</dc:title>
</cp:coreProperties>
</file>