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D2B-9AA3-4823-8EF7-BE2DEFB9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FAD-88EA-4E8C-AF06-C0F905A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5DC-CFB1-4B02-A3AF-CDC4E210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E27-6132-461F-BB31-CD316A04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FF5C-197E-4866-A19D-C8934471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4B31-67EF-4A21-B4B7-69C155C3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9F79-AC62-46CF-9056-E7D9B007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D26F-5EC6-47F3-B18C-7480E85B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1627-18CE-42FB-891E-9EA75EC0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ACA9-BFF9-47D4-867F-A662AD31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0C53-63D6-4FD9-8431-13B5A90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12B-C85A-49DD-A5BF-C7636C7C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A814-9685-4B67-B8B9-29D060FD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8512-6EAB-4504-92D7-A2F7E01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5BC4-2262-4F86-9C43-1C88541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61B5-CA8F-45D4-BE85-54C6B074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1BC2-5ED5-41EA-BC67-F22256F8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EC7-78C7-4484-9155-A7B14891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BDB-246F-47DD-9EEE-DA484DEF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D97-8D3F-43B0-AB3F-DBD4BA91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AE5-B9B4-469A-9941-0F07E8EE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347-FABD-485E-AEDE-6511ED25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BCE-4109-4938-ABCD-C6735BA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5D9-320B-45A2-8345-F4265B9E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6FF3-3E26-487A-AD1C-E164DAB5B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59CB-FA1D-429F-A75C-8BB2D1E98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May 16 at ERC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3COPMGRR, Section 4, Market Notice Commun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4COPMGRR Conforming COPMG to the Current Protocols and Other ERCOT Market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 for Section 11, Extract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4 conferenc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view of COPMGRR00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COPMGRR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to have as an July COPS vot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Extracts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to have as an August COPS vot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ting Item #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WG requests the following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recommends to the TAC approval of COPMGRR003, Section 4, Market Notice Communication Process as recommended by CC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eting 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 is July 2 conference call at 9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04 fin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1, Extract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Aggregation – Working with SDA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Chuck Moore</cp:lastModifiedBy>
  <dcterms:modified xsi:type="dcterms:W3CDTF">2007-06-04T15:11:18Z</dcterms:modified>
  <cp:revision>21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5671559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CWG materials for June 11 COPS</vt:lpwstr>
  </property>
  <property fmtid="{D5CDD505-2E9C-101B-9397-08002B2CF9AE}" pid="6" name="_NewReviewCycle">
    <vt:lpwstr/>
  </property>
</Properties>
</file>