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C50A-0408-4DDB-92C4-54781DDF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3B48-CD71-465B-BB20-089B6E10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73C9-2B9A-4193-A57C-BD77F535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A3BB-2CAB-4451-B119-B8D993C2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05D7-8EC7-4225-8834-02582948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0AF9-9FB6-4114-B322-0490301B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1DE4D-3ADE-4479-849B-8E3AC8CA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92E3-3448-41CE-8A11-C8F7A959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2095-9204-4ABA-AF10-BA26CD2C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13BF-F115-485F-99D6-1E782109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3653-EC11-47FD-AC36-73DF5669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5A82-CC52-45B1-9809-94318A2B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1B20-2D76-45C8-961C-F9515F5DE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BEEE-045A-4189-A178-3881EB4CC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naging Project Funding Chang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7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naging Project Funding Changes   (additions in bold font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for Managing Changes in Project Fu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CARTs have authority to make project budget changes &lt;$10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must still manage within their allocated CART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budget changes &gt;=$100k go to the ERCOT Strategic Review Team (directors) for review and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bring forward proposals for reallocation of f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budget changes &gt;=$500k go to the ERCOT Executive Committee for review and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ppropriate DPO manager solicits input from impacted market subcommittee (also provide this input to S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ves act on SRT recommendation (affirm/reject/chan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rket input is included in Executive Committee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budget changes &gt;=$1M go to the ERCOT Board of Directors for review and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ERCOT recommendation goes before the B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rket input is included in BoD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6/7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7-05-31T18:07:06Z</dcterms:modified>
  <cp:revision>20</cp:revision>
  <dc:subject/>
  <dc:title>Instructions</dc:title>
</cp:coreProperties>
</file>