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F2B0B-9FDA-495B-9FCE-BA5E1CA0B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82C7E-6E8D-4C7A-B7B5-270E524D2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A0F23-FE9D-4915-9466-47627E185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81F02-0FEF-4FDE-9A5A-2D19C4EFD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9DDD5-78F0-47CA-B82E-E12E9BBBB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8DA0D-2AD8-4C1B-AB54-748204390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05AAF-E9C3-4E9B-8B8F-A638FAFA6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F307B-0D4A-413D-9A58-353CFAD06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687AD-ECDD-4237-8399-80173B3FF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A27E-1197-4CD4-9B49-6AF22C37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8624-EC3D-46A3-AF27-6F1E1868E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3FA9-4A0D-4BE8-9866-77697596B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66DE-36CA-4CD2-B426-E2DA9B9B6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OM During Al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AC</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7, 2007</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 Jone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omac Econom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Freq. Desk Procedures</a:t>
            </a:r>
            <a:br>
              <a:rPr sz="4000"/>
            </a:br>
            <a:r>
              <a:rPr b="0" lang="en-US" sz="2400" spc="-1" strike="noStrike">
                <a:solidFill>
                  <a:srgbClr val="000000"/>
                </a:solidFill>
                <a:latin typeface="Arial"/>
              </a:rPr>
              <a:t>Before 3/24/2007</a:t>
            </a:r>
            <a:endParaRPr b="0" lang="en-US" sz="2400" spc="-1" strike="noStrike">
              <a:solidFill>
                <a:srgbClr val="000000"/>
              </a:solidFill>
              <a:latin typeface="Arial"/>
            </a:endParaRPr>
          </a:p>
        </p:txBody>
      </p:sp>
      <p:graphicFrame>
        <p:nvGraphicFramePr>
          <p:cNvPr id="44" name=""/>
          <p:cNvGraphicFramePr/>
          <p:nvPr/>
        </p:nvGraphicFramePr>
        <p:xfrm>
          <a:off x="457200" y="1600200"/>
          <a:ext cx="8229600" cy="4568760"/>
        </p:xfrm>
        <a:graphic>
          <a:graphicData uri="http://schemas.openxmlformats.org/drawingml/2006/table">
            <a:tbl>
              <a:tblPr/>
              <a:tblGrid>
                <a:gridCol w="1273320"/>
                <a:gridCol w="6956280"/>
              </a:tblGrid>
              <a:tr h="276480">
                <a:tc gridSpan="2">
                  <a:txBody>
                    <a:bodyPr lIns="90000" rIns="90000" tIns="46800" bIns="46800" anchor="t">
                      <a:noAutofit/>
                    </a:bodyPr>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9    Provide Advanced Notice of Diminishing Responsive Reserve</a:t>
                      </a:r>
                      <a:endParaRPr b="0" lang="en-US" sz="12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ep #</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dural Steps</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POSE: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uidelines for issuing advance notice of diminishing Responsive Reserves.</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TE:</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justed Responsive Reserve (ARR)</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 Display:</a:t>
                      </a:r>
                      <a:r>
                        <a:rPr b="0" lang="en-US" sz="1200" spc="-1" strike="noStrike">
                          <a:solidFill>
                            <a:srgbClr val="000000"/>
                          </a:solidFill>
                          <a:latin typeface="Times New Roman"/>
                          <a:ea typeface="Times New Roman"/>
                        </a:rPr>
                        <a:t> EMS, Generation Area Status, ADJ_RESPONS</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18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a:t>
                      </a:r>
                      <a:r>
                        <a:rPr b="0" lang="en-US" sz="1200" spc="-1" strike="noStrike">
                          <a:solidFill>
                            <a:srgbClr val="000000"/>
                          </a:solidFill>
                          <a:latin typeface="Times New Roman"/>
                          <a:ea typeface="Times New Roman"/>
                        </a:rPr>
                        <a:t> Adjusted Responsive Reserve is equal to or less than 3000MW, issue an Advisory.</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cript: </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is is the ERCOT system operator.  ERCOT is issuing an Advisory to provide notice that Adjusted Responsive Reserve has fallen to &lt;state MW amount&gt;.  Please keep your Resource Plan updated and notify ERCOT of any changes in your system that will prevent you from meeting your Responsive Reserve obligation.”   </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006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F</a:t>
                      </a:r>
                      <a:r>
                        <a:rPr b="0" lang="en-US" sz="1200" spc="-1" strike="noStrike">
                          <a:solidFill>
                            <a:srgbClr val="000000"/>
                          </a:solidFill>
                          <a:latin typeface="Times New Roman"/>
                          <a:ea typeface="Times New Roman"/>
                        </a:rPr>
                        <a:t> Adjusted Responsive Reserve is equal to or less than 2500MW, issue an Alert.</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cript: </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is is the ERCOT system operator.  ERCOT is issuing an Alert to provide notice that Adjusted Responsive Reserve has fallen to &lt;state MW amount&gt;.  Please keep your Resource Plan updated and notify ERCOT of any changes in your system that will prevent you from meeting your Responsive Reserve obligation.”</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329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rt RMR units available in the time frame of the emergency.  RMR units should be loaded to full capability.</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296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sue dispatch instructions to QSEs to suspend any ongoing generating unit or resource performance testing.</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459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b</a:t>
                      </a:r>
                      <a:endParaRPr b="0" lang="en-US" sz="12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tilize available resources providing Replacement and Non-Spin Reserve Services that can be deployed to increase Responsive reserves.</a:t>
                      </a:r>
                      <a:endParaRPr b="0" lang="en-US" sz="12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Freq. Desk Procedures</a:t>
            </a:r>
            <a:br>
              <a:rPr sz="4000"/>
            </a:br>
            <a:r>
              <a:rPr b="0" lang="en-US" sz="2400" spc="-1" strike="noStrike">
                <a:solidFill>
                  <a:srgbClr val="000000"/>
                </a:solidFill>
                <a:latin typeface="Arial"/>
              </a:rPr>
              <a:t>After 3/24/2007</a:t>
            </a:r>
            <a:endParaRPr b="0" lang="en-US" sz="2400" spc="-1" strike="noStrike">
              <a:solidFill>
                <a:srgbClr val="000000"/>
              </a:solidFill>
              <a:latin typeface="Arial"/>
            </a:endParaRPr>
          </a:p>
        </p:txBody>
      </p:sp>
      <p:graphicFrame>
        <p:nvGraphicFramePr>
          <p:cNvPr id="46" name=""/>
          <p:cNvGraphicFramePr/>
          <p:nvPr/>
        </p:nvGraphicFramePr>
        <p:xfrm>
          <a:off x="457200" y="1600200"/>
          <a:ext cx="8305920" cy="4730760"/>
        </p:xfrm>
        <a:graphic>
          <a:graphicData uri="http://schemas.openxmlformats.org/drawingml/2006/table">
            <a:tbl>
              <a:tblPr/>
              <a:tblGrid>
                <a:gridCol w="1284120"/>
                <a:gridCol w="7021800"/>
              </a:tblGrid>
              <a:tr h="246240">
                <a:tc gridSpan="2">
                  <a:txBody>
                    <a:bodyPr lIns="90000" rIns="90000" tIns="46800" bIns="46800" anchor="t">
                      <a:no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6.9         Provide Advanced Notice of Diminishing Responsive Reserve</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ep #</a:t>
                      </a:r>
                      <a:endParaRPr b="0" lang="en-US" sz="10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cedural Steps</a:t>
                      </a:r>
                      <a:endParaRPr b="0" lang="en-US" sz="10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URPOSE: </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uidelines for issuing advance notice of diminishing Responsive Reserves.</a:t>
                      </a:r>
                      <a:endParaRPr b="0" lang="en-US" sz="10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39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E:</a:t>
                      </a:r>
                      <a:endParaRPr b="0" lang="en-US" sz="10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djusted Responsive Reserve (ARR)</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ference Display:</a:t>
                      </a:r>
                      <a:r>
                        <a:rPr b="0" lang="en-US" sz="1000" spc="-1" strike="noStrike">
                          <a:solidFill>
                            <a:srgbClr val="000000"/>
                          </a:solidFill>
                          <a:latin typeface="Times New Roman"/>
                          <a:ea typeface="Times New Roman"/>
                        </a:rPr>
                        <a:t> EMS, Generation Area Status, ADJ_RESPONS</a:t>
                      </a:r>
                      <a:endParaRPr b="0" lang="en-US" sz="10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875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F</a:t>
                      </a:r>
                      <a:r>
                        <a:rPr b="0" lang="en-US" sz="1000" spc="-1" strike="noStrike">
                          <a:solidFill>
                            <a:srgbClr val="000000"/>
                          </a:solidFill>
                          <a:latin typeface="Times New Roman"/>
                          <a:ea typeface="Times New Roman"/>
                        </a:rPr>
                        <a:t> Adjusted Responsive Reserve is equal to or less than 3000MW, issue an Advisory.</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ypical script: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This is the ERCOT system operator.  ERCOT is issuing an Advisory to provide notice that Adjusted Responsive Reserve has fallen to &lt;state MW amount&gt;.  Please keep your Resource Plan updated and notify ERCOT of any changes in your system that will prevent you from meeting your Responsive Reserve obligation.”   </a:t>
                      </a:r>
                      <a:endParaRPr b="0" lang="en-US" sz="10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271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F</a:t>
                      </a:r>
                      <a:r>
                        <a:rPr b="0" lang="en-US" sz="1000" spc="-1" strike="noStrike">
                          <a:solidFill>
                            <a:srgbClr val="000000"/>
                          </a:solidFill>
                          <a:latin typeface="Times New Roman"/>
                          <a:ea typeface="Times New Roman"/>
                        </a:rPr>
                        <a:t> Adjusted Responsive Reserve is equal to or less than 2500MW, issue an Alert.</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ypical script: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This is the ERCOT system operator.  ERCOT is issuing an Alert to provide notice that Adjusted Responsive Reserve has fallen to &lt;state MW amount&gt;.  Please keep your Resource Plan updated and notify ERCOT of any changes in your system that will prevent you from meeting your Responsive Reserve obligation.”</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mplement the following actions:</a:t>
                      </a:r>
                      <a:endParaRPr b="0" lang="en-US" sz="1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art RMR units available in the time frame of the emergency.  RMR units should be loaded to full capability.</a:t>
                      </a:r>
                      <a:endParaRPr b="0" lang="en-US" sz="1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ssue dispatch instructions to QSEs to suspend any ongoing generating unit or resource performance testing.</a:t>
                      </a:r>
                      <a:endParaRPr b="0" lang="en-US" sz="1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eploy Non-Spin and “Quick Start” GTs as follows:</a:t>
                      </a:r>
                      <a:endParaRPr b="0" lang="en-US" sz="1000" spc="-1" strike="noStrike">
                        <a:solidFill>
                          <a:srgbClr val="000000"/>
                        </a:solidFill>
                        <a:latin typeface="Arial"/>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eploy  Non-Spin if available..</a:t>
                      </a:r>
                      <a:endParaRPr b="0" lang="en-US" sz="1000" spc="-1" strike="noStrike">
                        <a:solidFill>
                          <a:srgbClr val="000000"/>
                        </a:solidFill>
                        <a:latin typeface="Arial"/>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f Non-Spin is unavailable or if all Non-Spin has been deployed,dispatch to full output as many “Quick Start” GTs as necessary that are bid into the Balancing Market that show “On” and “Plan MW” 0.  Deplete these resources before proceeding to c.</a:t>
                      </a:r>
                      <a:endParaRPr b="0" lang="en-US" sz="1000" spc="-1" strike="noStrike">
                        <a:solidFill>
                          <a:srgbClr val="000000"/>
                        </a:solidFill>
                        <a:latin typeface="Arial"/>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f all “Quick Start” GTs that were “On” are depleted, OOMC/OOME the remainder of the “Available” “Quick Start” units.  Deplete these resources before proceeding to d.</a:t>
                      </a:r>
                      <a:endParaRPr b="0" lang="en-US" sz="1000" spc="-1" strike="noStrike">
                        <a:solidFill>
                          <a:srgbClr val="000000"/>
                        </a:solidFill>
                        <a:latin typeface="Arial"/>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f all “Quick Start” units are depleted, OOMC/OOME any additional “Available” units.</a:t>
                      </a:r>
                      <a:endParaRPr b="0" lang="en-US" sz="10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ocols 5.6.6.2</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eclaring EECP Step 1 detailed in Section 5.6.7, EECP Steps, ERCOT sh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Start RMR units available in the time frame of the emergency. RMR units should be loaded to full capabil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Issue Dispatch Instructions to QSEs to suspend any ongoing ERCOT required generating unit or Resource performance test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Utilize available resources providing Non-Spin Reserve Services that can be deployed to increase Responsive Reserves; 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ERCOT shall use the Reserve Discount Factor (RDF) for the purpose of monitoring Physical Responsive Capability (PRC).  The PRC will be used by ERCOT to determine the appropriate Emergency Notification and EECP Step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ERCOT may issue an appeal through the public news media for voluntary load reduction if authorized by the ERCOT Chief Executive Officer or its designee based on an evaluation of existing and expected system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ocols 5.6.7</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 Maintain ERCOT Physical Responsive Capability (PRC) on units plus RRS MW provided from LaaR Equal to 2300 M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Utilize available DC tie capability that is not already being used by the mark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Notify the Southwest Power Pool Security Coordinator; 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Issue OOM dispatch instructions to uncommitted units available within the expected timeframe of the emergen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Use available BtB import capacity that is not already being used and inquire about availability of Block Load Transf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ocols 6.5.10(4)</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may use OOMC when necessary to provide ERCOT System security and capacity adequacy.  ERCOT will Dispatch Resources for OOMC and OOME Service in such a way as to minimize the use of these services as much as practic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0:31:01Z</dcterms:created>
  <dc:creator>djones</dc:creator>
  <dc:description/>
  <dc:language>en-US</dc:language>
  <cp:lastModifiedBy>balbracht</cp:lastModifiedBy>
  <dcterms:modified xsi:type="dcterms:W3CDTF">2007-06-07T22:24:03Z</dcterms:modified>
  <cp:revision>6</cp:revision>
  <dc:subject/>
  <dc:title>Slide 1</dc:title>
</cp:coreProperties>
</file>