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785-1283-47CA-9E99-C4060627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D93-ACC3-4754-B687-EC886B6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8C8-3D81-40F0-8764-25D6245F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FC6-22E4-4269-81F1-BA4671B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84EB-B690-48B7-A8D7-F628CFA1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623-D493-4086-8398-9D61C3F2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3791-9778-4F00-873B-F47DE2C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F6BE-AFFE-456D-B4C3-5E8CAF0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55CB-BA28-4610-91EB-EAFA274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F4EA-C89D-4C5B-91A4-C03E962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167-B6F7-4966-8308-F2D1C26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E75-B577-49B9-ABA1-9B2F7C9F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B25A-935A-439E-8009-1B045BB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3BCE-C200-47A6-9576-FB49B1C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4BC-336E-4502-A611-4514007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DEE2-A97C-4480-A19C-7427070F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E2D8-9F82-4C6D-8410-393528B7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136-7E13-42D2-B51E-EE8A6264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407-CDB9-41F6-8AAF-3D5206D5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9BE-386C-4063-91C4-77F080F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B10-5E8C-4089-842F-38BCAC1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FD2-BDD7-4CAD-BA35-BECCE5C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88A-8314-4D88-88B1-6694B01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E6C-2A04-4863-9824-37D0249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95680" y="0"/>
            <a:ext cx="4648320" cy="4038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4800600" cy="434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2743200"/>
            <a:ext cx="4495680" cy="4114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2639-A514-4640-8EE9-1BA30242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0"/>
            <a:ext cx="4648320" cy="4038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4800600" cy="434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743200"/>
            <a:ext cx="4495680" cy="4114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6FD1-9A50-4ECF-8115-980BB77F8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4038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0"/>
            <a:ext cx="4800600" cy="4343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2743200"/>
            <a:ext cx="4495680" cy="4114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03440"/>
          </a:xfrm>
          <a:prstGeom prst="rect">
            <a:avLst/>
          </a:prstGeom>
          <a:gradFill rotWithShape="0">
            <a:gsLst>
              <a:gs pos="0">
                <a:srgbClr val="d6e0fe">
                  <a:alpha val="59215"/>
                </a:srgbClr>
              </a:gs>
              <a:gs pos="100000">
                <a:srgbClr val="fefefe">
                  <a:alpha val="57254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7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noFill/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981080"/>
            <a:ext cx="7238880" cy="190512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Top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ECP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ance Review Process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Ancillary Services 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 Term Solutions Task Fo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ional Reliability Standa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will review process to setup Standards Drafting T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potential Regional Standards (“NERC fill in the blank standards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felt that the ERCOT Board should set direction for SCR procedural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dal Guide Conver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G comment period ends June 2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GRTF will address OWG com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al Guides posted for comment   period in July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 Nodal Guides by August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approval at September 2007   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 approval at October 2007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ck Start Study –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contracted black Start Unit has a set of physical test is it must pass over a period of 6 yea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Start-up – each time awarded the b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 energization – every three (3)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pickup – every six (6)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the next start unit or the next start unit’s largest motor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unless the next start unit chan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RCOT has an automated process to pick the contracted units with a specific set of criteri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RC Standard EOP-005-1 R7 states “Each Transmission Operator and balancing Authority shall verify the restoration procedure by actual testing or by simulation”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ck Start Study –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o ERCOT criteria to test or simulate synchronization of multiple black start island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STF believ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 that the plan can be verified through a study syncronizing 2 island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stimate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udy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st - $180,000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 Requ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S requests that TAC support the BSTF effort by budgeting for a study in 2008 to verify the ability of ERCOT to build, stabilize and synchronize two black start island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20:03:46Z</dcterms:created>
  <dc:creator>sschneid</dc:creator>
  <dc:description/>
  <dc:language>en-US</dc:language>
  <cp:lastModifiedBy>LCRA Employee</cp:lastModifiedBy>
  <dcterms:modified xsi:type="dcterms:W3CDTF">2007-06-06T16:24:27Z</dcterms:modified>
  <cp:revision>62</cp:revision>
  <dc:subject/>
  <dc:title>Slide 1</dc:title>
</cp:coreProperties>
</file>