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F12-5FA7-4C4C-859B-AED4BFE4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688-127F-4DE4-B5ED-DA5E636D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05F-03B1-4329-89D4-81B845D9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0C2-2EA9-4CD0-8316-2B0B3FDA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351-51D9-44ED-B6A7-CBBDBDB3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502-DD94-47C0-B6BF-9C2B9FED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847-9D84-4EB2-8E95-59414B19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BC9-9860-494C-80CB-1AC54EFC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6CF-185A-4238-BC3B-1EC772E1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72F-98FB-4F58-9DCF-B7251243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80E-E997-4BBA-888F-628530BE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A74-0EE3-4FA9-BE34-ABF77449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9EF2-03EB-4C2B-8113-E5BE7837C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June 7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2F4-5139-483C-B4B8-5375074BCC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S June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ort to TAC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PSMG(003), Section 4, Market Notice Commun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PSMG(004) Conforming COPSMG to Current Protocols and Other ERCOT Market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, prepared updates to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11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(Reports &amp; Extra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bmitted to COPS for June 11</a:t>
            </a:r>
            <a:r>
              <a:rPr b="0" i="1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 consideration COPSMGRR003, Section 4, Market notice Commun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C76-9D2A-4DC4-8373-F2F7E5054A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Recent Meeting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tinues to review the verifiable costs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ing proposed changes in data extr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orking with CCWG on Market Guide Section  11(extracts &amp; repor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orking with CCWG on Market Guide section for Generation Ag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06C-CA1D-482E-8072-E0446B447C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Nodal Day Ahead Invoice Task Forc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Conclus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Task Force decided to take a ‘wait and see’ approach; with experience and historical data, the decision to submit an NPRR may be looked at again after DAM is impl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Alternatives to making daily wire transfers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e-pay once a week, ERCOT is willing to manage accounts and withdraw daily payments and notify MPs of fund balances to ensure timely “due date”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Group-pay several invoices at a time, every four days (4 to 6 invoices at a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9AA-C9DF-4477-983C-3D123FD621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PS - PWG Activity Upda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54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C67-8A06-4541-A45A-5164F910B2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393920"/>
            <a:ext cx="86104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 Residential Profil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new ESII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by T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PGRR effective date, 5/1/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Notice has been 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 Tree language to be gray bo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DSPs have six months to chang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mplementation date is 11/1/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B7F-2D50-4F7F-A975-7FF18EEA6C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393920"/>
            <a:ext cx="861048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C and Demand Respons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shi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to take the lead on small generation and advanced meter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WG is working on DLC language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Solutions Task Force has been for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dget and Project allocation above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PWG Goal and ERCOT Staff 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WG agreed to focus on DLC for summer implementation and let other demand response issues develop as needed in the Market Stakeholder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evelop PRR and LPGRR language to fine t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Implementation of ERCOT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Timeline (target summer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202-F396-486F-B2A9-32A2D48FF5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393920"/>
            <a:ext cx="86104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FE Comparison Old vs. New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key document at PWG May 22, 2007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http://www.ercot.com/meetings/pwg/keydocs/2007/0522.UFE Analysis Old - New Model.p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. UFE MWh for New Models is 13% lower, which is 1,049,078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W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ss vari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FE Cost for New Models is 40% lower, which is equivalent to $ 111,635,419 based on MC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. UFE Cost for New Models is 19% lower, which is equivalent to $ 107,847,16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ongratulations to all Market Particip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29E-47C6-4297-A00A-AEC2CD15CD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4D4-0D21-47C8-A13C-B775897719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R. Starr</cp:lastModifiedBy>
  <dcterms:modified xsi:type="dcterms:W3CDTF">2007-06-05T14:06:26Z</dcterms:modified>
  <cp:revision>212</cp:revision>
  <dc:subject/>
  <dc:title>Point-to-Point</dc:title>
</cp:coreProperties>
</file>