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EB3-AE8C-435D-86E7-9745C106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DAA-FF41-47C8-B2C0-C47CE02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300-9EA2-4A23-8BC1-B2448B6E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FFD-EA24-4A90-A4B5-9FF1D677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787-E0D9-4DD9-8D14-0D6B6B9A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9784-E027-4C39-8300-038E5C3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E31-B5CA-4B0D-A319-A69E7E2F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FCE-BAE5-4F03-90BB-CA3D2429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C1AD-6D2C-4D7A-A085-3DE2FA8B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E41-8426-44BD-80E6-EFB9AE05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C239-C282-4A5A-9D4A-220A849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8C3-EA9C-4643-B41D-02335CE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BE71-E27D-435E-B6CF-A211F8F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C070-BC31-47C7-BEFE-EDB34BA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0D52-D5F8-4671-BD60-53757BCC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D3D-451F-4005-93E6-91A5D838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366-643D-4206-8231-33743E65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6D7-6C28-4C2B-BAE1-E3F045C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D41-76D8-49D1-96D1-847B724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4CC-8316-4309-BD4E-975A370A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7E8-49EA-4C11-A9D3-3F737C7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043-118D-4EC6-A524-48C6BC3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A70-0782-4D58-B04B-F6A1669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734-FBEF-4E4D-8419-4027842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B8B-33FF-48A1-A5EE-CD45187F0E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ED29-53C1-45F6-9872-76E218E3CE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792-BF0E-47C6-BF7E-64B56E1DA5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draft of Texas RE Budget and Business Plan submitted to NERC on May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Texas RE Budget Meeting held on May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draft of Texas RE Budget and final Business Plan submitted to NERC on Jun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Board approval to be requested on Jun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draft of Texas RE Budget to be submitted to NERC by no later than July 1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Board approval anticipated on Augus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and Regional Entity budgets to be filed with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D68-0A12-47E3-848F-3AC71AA1BA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equate staffing needed to comply with FERC mandates and NERC requirements, including ERO Rules of Proced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s driven – very structur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dits, investigations, and analys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cking, reporting, and documen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reasing number of FERC approved reliability standar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netary penalties and non-monetary 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peals of violations and penalties/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maintain clear independence from all owners, operators, and users of the bulk power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compliance monitoring of reliability-based ERCOT Protocols and Operating Guides as a separate and parallel process to the NERC Program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D2A-1FEC-4DCB-B140-FD8203363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8 proposed budget ~25% less than 2007 - $5,514,219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$4,144,8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staffing requested to keep pace with anticipated work load and regulato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filled only when/if need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ed 2007 statutory spending ~$2.6M under budg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al schedule was for mandatory standards compliance to begin January 1, 2007 – all positions were fully fun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tion in capital project expenditu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spent 2007 budget will be applied to the 2008 bud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nalty money collected applied to subsequent years’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ISO applied to ERO Bud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other Registered Entities’ applied to Texas RE Budge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67160" y="6086520"/>
            <a:ext cx="455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8B0-2307-4A36-8C57-470C1D6AC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liability Compli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&amp; Enfor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Protocols &amp; Operating Gui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s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CT – Compliance enforcement (issues penalties/sanc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RC &amp; Regional Reliability Standar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s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Compliance enforcement (issues sanctions/penalti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I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of 166 Registered Entities in ERC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4/7 Reliability Coordinator Function – responsible for the real-time operating reliability of the ERCOT Reg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xas 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s compliance and non-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s non-compliance in a timely, meaningful m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monitor compliance in real-ti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Hearing Body for appeals of NERC and Regional Reliability Standards violations and penalties/sa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D8F-95B4-431A-A2A7-21B8A3F41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913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838080"/>
            <a:ext cx="18288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200400"/>
            <a:ext cx="19047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27672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7760" y="3046320"/>
            <a:ext cx="1830240" cy="113976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00600"/>
            <a:ext cx="1981080" cy="106668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6019920"/>
            <a:ext cx="25905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219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400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867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572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6095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609588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0292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1814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18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267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352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 Delega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327672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429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352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O owes pen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004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penalty to the ERCOT ISO &amp; reports to NE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0574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838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371600"/>
            <a:ext cx="3353040" cy="1293840"/>
          </a:xfrm>
          <a:prstGeom prst="flowChartDecision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RC Standards violation by the ERCOT I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685800"/>
            <a:ext cx="2057400" cy="108252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52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838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914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066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RC Standards Violation- Delegated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24F-D068-4C94-84B6-12E5D876C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7:  126.92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:  143.31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7:  138.23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6:  129.90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April indicate 32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283-2F16-4229-BB3E-B5373FCC3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A8F-DA36-4F84-8027-300E2A7FB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D2A-E8DD-48A5-975D-751B59E62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EB2-1B29-42BF-8566-2FAEF5DC2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C1D-2518-4D72-87F4-02C1DA4B80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79E-2380-4476-9630-9A352BBB5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799-5EA9-473D-B6BF-018DAA2A3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inues to be a work-in-prog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Compliance Staff working with entities to resolve conc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2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eals heard by the NERC Board Compliance Committee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gional Entity Delegation Agre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Texas RE Delegation Agreement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ed Texas RE Delegation Agreement re-filed at FERC on May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RC directives must be addressed and modifications filed within 180 days of the date of the order (mid-Octobe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Reliability Standar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datory compliance began on Ju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onal Entities to focus on most serious Reliability Standard violations until January 1,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Byla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changes to the ERCOT Bylaws incorporating the Texas RE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Membership vote in mid to late J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EC5-4B17-489B-A1CC-9338C517A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7-06-01T12:51:53Z</dcterms:modified>
  <cp:revision>593</cp:revision>
  <dc:subject/>
  <dc:title>PRR 525 Compliance Analysis</dc:title>
</cp:coreProperties>
</file>