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9E4390-EB16-48BA-9435-CED1F756A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5840" y="698400"/>
            <a:ext cx="4656240" cy="3492720"/>
          </a:xfrm>
          <a:prstGeom prst="rect">
            <a:avLst/>
          </a:prstGeom>
          <a:ln w="0">
            <a:noFill/>
          </a:ln>
        </p:spPr>
      </p:sp>
      <p:sp>
        <p:nvSpPr>
          <p:cNvPr id="13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of the PRR426 legacy is that there is work being done by market participants and ERCOT that costs money and has no operational or efficiency impacts at all and minimal net costs to the mar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S approved this concept and ERCOT has submitted PRR728 which is in the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5840" y="698400"/>
            <a:ext cx="4656240" cy="3492720"/>
          </a:xfrm>
          <a:prstGeom prst="rect">
            <a:avLst/>
          </a:prstGeom>
          <a:ln w="0">
            <a:noFill/>
          </a:ln>
        </p:spPr>
      </p:sp>
      <p:sp>
        <p:nvSpPr>
          <p:cNvPr id="13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1 ERCOT staff held a conference call to address McCamey area concerns raised by Stakeholders.  Overall ERCOT is complying with its responsibilities under Protocols Section 7.8.  ERCOT did identify one instance during the January to April timeframe in which procedures were not appropriately followed, Operations staff has been reminded to follow procedures.  Specifically the missed procedure dealt with the curtailment of Rapid Responders for a 1 hour period followed by curtailment of Slow Responders to allow the Rapid Responder to increase their output when system conditions allow such (Section 7.8.9(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ERCOT disconnect between Operations and Planning  -- I spoke to Planning management.  In addition Dan Woodfin has received a request to add McCamey discussions to the next RPG meeting taking place on June 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of wind resources and rapid responder designation – this item has been referred to the Compliance department, no response yet.  I do, however, think that ERCOT should not be put in a position that requires it to designate units as rapid respond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responders allowed to generate above their TGR allocation – Colleen Frosch will be reviewing Operations procedures to make sure this is clarif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 name identified for the units receiving TGRs – this item has been referred to our Legal department, no response y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mey flows link – this seems to be working correctly at th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MW procedure for allocation to rapid responders – Operations to re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 to clean up tex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5840" y="698400"/>
            <a:ext cx="4656240" cy="3492720"/>
          </a:xfrm>
          <a:prstGeom prst="rect">
            <a:avLst/>
          </a:prstGeom>
          <a:ln w="0">
            <a:noFill/>
          </a:ln>
        </p:spPr>
      </p:sp>
      <p:sp>
        <p:nvSpPr>
          <p:cNvPr id="11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  report outline – No vot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Tie sched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al treatment of McCam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regulation procurement am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reat Non-spin when used for local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on wind ancillary servic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on the verifiable cos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C for wind only QS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5840" y="698400"/>
            <a:ext cx="4656240" cy="3492720"/>
          </a:xfrm>
          <a:prstGeom prst="rect">
            <a:avLst/>
          </a:prstGeom>
          <a:ln w="0">
            <a:noFill/>
          </a:ln>
        </p:spPr>
      </p:sp>
      <p:sp>
        <p:nvSpPr>
          <p:cNvPr id="11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 early August to do 2008 CSCs trying to get operating data for Hilgie and Temple Pecan which may be new CSCs which would create a new z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5840" y="698400"/>
            <a:ext cx="4656240" cy="3492720"/>
          </a:xfrm>
          <a:prstGeom prst="rect">
            <a:avLst/>
          </a:prstGeom>
          <a:ln w="0">
            <a:noFill/>
          </a:ln>
        </p:spPr>
      </p:sp>
      <p:sp>
        <p:nvSpPr>
          <p:cNvPr id="12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omised to bring this report back to you in June, which we will of course do, but it will be your next meeting in June on the 28</a:t>
            </a:r>
            <a:r>
              <a:rPr b="0" lang="en-US" sz="800" spc="-1" strike="noStrike" baseline="30000">
                <a:solidFill>
                  <a:srgbClr val="000000"/>
                </a:solidFill>
                <a:latin typeface="Arial"/>
              </a:rPr>
              <a:t>th</a:t>
            </a:r>
            <a:r>
              <a:rPr b="0" lang="en-US" sz="800" spc="-1" strike="noStrike">
                <a:solidFill>
                  <a:srgbClr val="000000"/>
                </a:solidFill>
                <a:latin typeface="Arial"/>
              </a:rPr>
              <a:t> and not today.</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still a work in progress.  There has been some concerns regarding anti-trust.  Andy says he thinks we are alright.</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a white paper out now for comments and WMS will vote on it at our next meeting and that is what we will bring you on the 28</a:t>
            </a:r>
            <a:r>
              <a:rPr b="0" lang="en-US" sz="800" spc="-1" strike="noStrike" baseline="30000">
                <a:solidFill>
                  <a:srgbClr val="000000"/>
                </a:solidFill>
                <a:latin typeface="Arial"/>
              </a:rPr>
              <a:t>th</a:t>
            </a:r>
            <a:r>
              <a:rPr b="0" lang="en-US" sz="800" spc="-1" strike="noStrike">
                <a:solidFill>
                  <a:srgbClr val="000000"/>
                </a:solidFill>
                <a:latin typeface="Arial"/>
              </a:rPr>
              <a:t>.</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ould note that WMS is giving the white paper a full 30-day review as requested by the IMM and PUCT Staff.  (The point here is that we plan to bring you a pretty well vetted work produc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ould also mention the memo filed today by Annette Mass in PUCT Project No. 23100 recommending the Commission receive regular briefings from the RTT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keholders will next take up the topic at the 6/20 WMS meeting. A number of parties plan to either distribute written comments on the RTTF Report to WMS to the WMS list serve prior to the 6/20 WMS meeting or bring oral comments on the identified options to that meeting. </a:t>
            </a:r>
            <a:br>
              <a:rPr sz="1000"/>
            </a:br>
            <a:br>
              <a:rPr sz="1000"/>
            </a:br>
            <a:r>
              <a:rPr b="0" lang="en-US" sz="1000" spc="-1" strike="noStrike">
                <a:solidFill>
                  <a:srgbClr val="000000"/>
                </a:solidFill>
                <a:latin typeface="Arial"/>
              </a:rPr>
              <a:t>I do not expect further work by the RTTF. I do not have a clear sense whether other stakeholder bodies such as TAC and/or ROS will review the RTTF Report and/or any WMS recommendations which come out of the 6/20 discussion. </a:t>
            </a:r>
            <a:br>
              <a:rPr sz="1000"/>
            </a:br>
            <a:endParaRPr b="0" lang="en-US" sz="10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y thoughts from Mark?</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5840" y="698400"/>
            <a:ext cx="4656240" cy="3492720"/>
          </a:xfrm>
          <a:prstGeom prst="rect">
            <a:avLst/>
          </a:prstGeom>
          <a:ln w="0">
            <a:noFill/>
          </a:ln>
        </p:spPr>
      </p:sp>
      <p:sp>
        <p:nvSpPr>
          <p:cNvPr id="12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ill a work in progres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6 MW in the first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MW in the seco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FP will be released in the middle of August and will include the self provision option passed by the Board (none has been offer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force met Tuesday of this week primarily as an educational meeting, Mark Smith gave presentation on behalf of steel plants and other loads he had informal discussions with regarding why 500 MW was not achieved from the Summer of 07.  He identified based on limited discussions both Task Force addressable issues as well as Commission addressable issues.  Overall we have a chicken and egg problem with a new program and no operational history upon which loads can reliability calculate the probably of interruption and therefore the Risk, is difficult for the loads to quantify.   ERCOT is planning additional workshops prior to the October program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5840" y="698400"/>
            <a:ext cx="4656240" cy="3492720"/>
          </a:xfrm>
          <a:prstGeom prst="rect">
            <a:avLst/>
          </a:prstGeom>
          <a:ln w="0">
            <a:noFill/>
          </a:ln>
        </p:spPr>
      </p:sp>
      <p:sp>
        <p:nvSpPr>
          <p:cNvPr id="12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sue with 716 was the same that Consumers talked about at TAC’s last meeting which is that self provision by some can increase costs to others.  TAC considered addressing the issue then but ultimately did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encouragement” to TAC to fix the self provision language.  This could be done by the time of the next RFP if TAC so desired, they could ask ERCOT to file a PRR with a request for urgent status that would be reviewed by WMS on the 13</a:t>
            </a:r>
            <a:r>
              <a:rPr b="0" lang="en-US" sz="1200" spc="-1" strike="noStrike" baseline="30000">
                <a:solidFill>
                  <a:srgbClr val="000000"/>
                </a:solidFill>
                <a:latin typeface="Arial"/>
              </a:rPr>
              <a:t>th</a:t>
            </a:r>
            <a:r>
              <a:rPr b="0" lang="en-US" sz="1200" spc="-1" strike="noStrike">
                <a:solidFill>
                  <a:srgbClr val="000000"/>
                </a:solidFill>
                <a:latin typeface="Arial"/>
              </a:rPr>
              <a:t>, ROS on the 14</a:t>
            </a:r>
            <a:r>
              <a:rPr b="0" lang="en-US" sz="1200" spc="-1" strike="noStrike" baseline="30000">
                <a:solidFill>
                  <a:srgbClr val="000000"/>
                </a:solidFill>
                <a:latin typeface="Arial"/>
              </a:rPr>
              <a:t>th</a:t>
            </a:r>
            <a:r>
              <a:rPr b="0" lang="en-US" sz="1200" spc="-1" strike="noStrike">
                <a:solidFill>
                  <a:srgbClr val="000000"/>
                </a:solidFill>
                <a:latin typeface="Arial"/>
              </a:rPr>
              <a:t>, PRS on the 21</a:t>
            </a:r>
            <a:r>
              <a:rPr b="0" lang="en-US" sz="1200" spc="-1" strike="noStrike" baseline="30000">
                <a:solidFill>
                  <a:srgbClr val="000000"/>
                </a:solidFill>
                <a:latin typeface="Arial"/>
              </a:rPr>
              <a:t>st</a:t>
            </a:r>
            <a:r>
              <a:rPr b="0" lang="en-US" sz="1200" spc="-1" strike="noStrike">
                <a:solidFill>
                  <a:srgbClr val="000000"/>
                </a:solidFill>
                <a:latin typeface="Arial"/>
              </a:rPr>
              <a:t> TAC on the 28</a:t>
            </a:r>
            <a:r>
              <a:rPr b="0" lang="en-US" sz="1200" spc="-1" strike="noStrike" baseline="30000">
                <a:solidFill>
                  <a:srgbClr val="000000"/>
                </a:solidFill>
                <a:latin typeface="Arial"/>
              </a:rPr>
              <a:t>th</a:t>
            </a:r>
            <a:r>
              <a:rPr b="0" lang="en-US" sz="1200" spc="-1" strike="noStrike">
                <a:solidFill>
                  <a:srgbClr val="000000"/>
                </a:solidFill>
                <a:latin typeface="Arial"/>
              </a:rPr>
              <a:t>, and the Board on July 17</a:t>
            </a:r>
            <a:r>
              <a:rPr b="0" lang="en-US" sz="1200" spc="-1" strike="noStrike" baseline="30000">
                <a:solidFill>
                  <a:srgbClr val="000000"/>
                </a:solidFill>
                <a:latin typeface="Arial"/>
              </a:rPr>
              <a:t>t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5840" y="698400"/>
            <a:ext cx="4656240" cy="3492720"/>
          </a:xfrm>
          <a:prstGeom prst="rect">
            <a:avLst/>
          </a:prstGeom>
          <a:ln w="0">
            <a:noFill/>
          </a:ln>
        </p:spPr>
      </p:sp>
      <p:sp>
        <p:nvSpPr>
          <p:cNvPr id="12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up on work done by the IMM, ERCOT has proposed a new way to determine how much Regulation they need.  ERCOT will present that to TAC with a full discussion.  WMS supported the new meth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has been trying to refine the way they use RPRS and Non-Spin for local congestion and they have hit some snags.  Three options for moving forward were presented to ROS, but by the time they got to WMS, one of the options was found to be unworkable.  WMS supported the same option as ROS did, which is t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5840" y="698400"/>
            <a:ext cx="4656240" cy="3492720"/>
          </a:xfrm>
          <a:prstGeom prst="rect">
            <a:avLst/>
          </a:prstGeom>
          <a:ln w="0">
            <a:noFill/>
          </a:ln>
        </p:spPr>
      </p:sp>
      <p:sp>
        <p:nvSpPr>
          <p:cNvPr id="12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 was a market bulletin Monday that said this had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5840" y="698400"/>
            <a:ext cx="4656240" cy="3492720"/>
          </a:xfrm>
          <a:prstGeom prst="rect">
            <a:avLst/>
          </a:prstGeom>
          <a:ln w="0">
            <a:noFill/>
          </a:ln>
        </p:spPr>
      </p:sp>
      <p:sp>
        <p:nvSpPr>
          <p:cNvPr id="13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ing on the Wind Ancillary Servic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ask force of COPs working with ERCOT staff on the mechanics of how and what to file for long term Verifiable Cost.  WMS was reminded that unlike NODAL, filing verifiable costs is a requirement for most.  If you don’t file, and ERCOT uses you for something, the default generic payment is designed to under-compensate you and if this happens, you are required to file verifiable costs within XX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determining the verifiable actual costs must be</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ed by ERCOT</a:t>
            </a:r>
            <a:r>
              <a:rPr b="0" lang="en-US" sz="1400" spc="-1" strike="noStrike">
                <a:solidFill>
                  <a:srgbClr val="000000"/>
                </a:solidFill>
                <a:latin typeface="Arial"/>
              </a:rPr>
              <a:t> (</a:t>
            </a:r>
            <a:r>
              <a:rPr b="0" lang="en-US" sz="800" spc="-1" strike="noStrike">
                <a:solidFill>
                  <a:srgbClr val="000000"/>
                </a:solidFill>
                <a:latin typeface="Arial"/>
              </a:rPr>
              <a:t>5.6.3</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approved by the appropriate TAC subcommitte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posted to the MIS Secure Area within one Business Day after initial approval and after each approved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nths ago, a package of issues were brought together in a PRR426 that presented some op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2DB38-3049-47D6-8770-BA8EF732D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4730E-4B0C-4034-9A08-4AED08B15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8E12B-8E86-424C-B4B3-B3550B7E5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08F9C-5FE0-407F-AE02-1FDA3124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8E461-11E5-4B27-BAD9-F5F76B719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1E8DD-825C-4729-BAAB-DDA2F4826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D82F8-DD81-4C1C-881B-2F536CD6A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9EAE1-B374-40D4-953A-C5326A8EF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D2075-8948-492B-A2AF-E65E0BCAA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31115-D832-445E-9538-9A079D1B2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E848-08D5-49F5-8923-FFD01221E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A83C8-D55F-4091-BB9F-DBF037A5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02AEE-1165-4438-AF15-433748B2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07747-F1B8-4362-A71F-146B9D957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1AFA9-BC9A-4901-BFD8-9093A520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19F6F-8126-488F-9C94-59B631F1F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1D59B-72CA-4CE7-9681-326149360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0314-0981-4720-9DAC-25D550C4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72CF-4EE2-4882-AA0B-F0CAA389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6780-B6C6-49FF-A5D0-73825BA4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E8FD-D1A6-48F3-AB7F-BD39A87B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C2B4-5D2B-4FD8-8258-672AA673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1A4E-C66B-4774-850C-0B807497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2F2B-3FC6-4EFD-A98D-4B14F28B0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6D86-AB0D-404E-8C60-D3574DE5FA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46E9-5D9D-4CFD-84B1-AC3F9BE4E6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e  2007</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E04AC797-7B86-4E3B-B4F7-180664435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History of PRR 426</a:t>
            </a:r>
            <a:endParaRPr b="0" lang="en-US" sz="4400" spc="-1" strike="noStrike">
              <a:solidFill>
                <a:srgbClr val="e5ffff"/>
              </a:solidFill>
              <a:latin typeface="Tahoma"/>
            </a:endParaRPr>
          </a:p>
        </p:txBody>
      </p:sp>
      <p:sp>
        <p:nvSpPr>
          <p:cNvPr id="107" name="PlaceHolder 2"/>
          <p:cNvSpPr>
            <a:spLocks noGrp="1"/>
          </p:cNvSpPr>
          <p:nvPr>
            <p:ph/>
          </p:nvPr>
        </p:nvSpPr>
        <p:spPr>
          <a:xfrm>
            <a:off x="304920" y="1905120"/>
            <a:ext cx="8686800" cy="41148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on 02/17/2004.</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ed on March 1, 2004 – </a:t>
            </a:r>
            <a:r>
              <a:rPr b="0" lang="en-US" sz="2400" spc="-1" strike="noStrike">
                <a:solidFill>
                  <a:srgbClr val="ff3300"/>
                </a:solidFill>
                <a:latin typeface="Tahoma"/>
              </a:rPr>
              <a:t>Part 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COT did not implement - </a:t>
            </a:r>
            <a:r>
              <a:rPr b="0" lang="en-US" sz="2400" spc="-1" strike="noStrike">
                <a:solidFill>
                  <a:srgbClr val="ff3300"/>
                </a:solidFill>
                <a:latin typeface="Tahoma"/>
              </a:rPr>
              <a:t>Part 2</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priority (3)</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 Cart cancelled the project - </a:t>
            </a:r>
            <a:r>
              <a:rPr b="0" lang="en-US" sz="2400" spc="-1" strike="noStrike">
                <a:solidFill>
                  <a:srgbClr val="ff3300"/>
                </a:solidFill>
                <a:latin typeface="Tahoma"/>
              </a:rPr>
              <a:t>Part 2</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COT informed PRS and COPS about the cancellatio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
          <p:cNvSpPr/>
          <p:nvPr/>
        </p:nvSpPr>
        <p:spPr>
          <a:xfrm>
            <a:off x="3675600" y="3260880"/>
            <a:ext cx="179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James Robertson</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53296273-A0D7-426B-BBED-0BDD5A82F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s Proposal</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ERCOT the option to not process RPP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ERCOT does not process RPPs, then no URC will be levied on the QS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newable-Only QSEs need to submit RPPs to qualify under this proposal.</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SEs are required to submit accurate RPP dat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may at anytime audit the QSE record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6593F85-3B4B-4DDE-9EE7-103225931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McCamey Area Operations</a:t>
            </a:r>
            <a:br>
              <a:rPr sz="4000"/>
            </a:br>
            <a:r>
              <a:rPr b="1" lang="en-US" sz="4000" spc="-1" strike="noStrike">
                <a:solidFill>
                  <a:srgbClr val="e5ffff"/>
                </a:solidFill>
                <a:latin typeface="Tahoma"/>
              </a:rPr>
              <a:t>Action List</a:t>
            </a:r>
            <a:endParaRPr b="0" lang="en-US" sz="40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ress ERCOT disconnect between Operations and Planning</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ing of wind resources and rapid responder design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pid responders allowed to generate above their TGR allocat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SE name identified for the units receiving TGR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cCamey flows lin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 MW procedure for allocation to rapid responder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R to clean up tex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24A5141-3949-415E-9FE5-DB9DAFC1D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e  2007</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20A505F3-1FEF-44DB-BEE1-C5B7135389D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In Brief</a:t>
            </a:r>
            <a:r>
              <a:rPr b="1"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Working Group Re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Task Force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Stakeholder present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cCamey area operations discuss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wo Staff repor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post meeting Conference Cal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A89F46D-0EDC-4AD0-A752-2EB8ABA717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orking Group Reports</a:t>
            </a:r>
            <a:br>
              <a:rPr sz="4000"/>
            </a:br>
            <a:r>
              <a:rPr b="1"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ill not meet until August which allows for some operating data on Hilgi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tential  for a new Temple – Pecan area CSC</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tential  movement of STP</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9C2B523-A429-42CD-A491-EC0B0C383C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RTTF</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Universe of Options” probably means a menu rather than a selecti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 of the problem is defining the proble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rrent thoughts include physical, financial, and imbedded solution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DC08DE2-F624-41B3-8450-2603DBA7E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ask Force Reports</a:t>
            </a:r>
            <a:br>
              <a:rPr sz="4000"/>
            </a:br>
            <a:r>
              <a:rPr b="1" lang="en-US" sz="4000" spc="-1" strike="noStrike">
                <a:solidFill>
                  <a:srgbClr val="e5ffff"/>
                </a:solidFill>
                <a:latin typeface="Tahoma"/>
              </a:rPr>
              <a:t>LTSTF</a:t>
            </a:r>
            <a:endParaRPr b="0" lang="en-US" sz="4000" spc="-1" strike="noStrike">
              <a:solidFill>
                <a:srgbClr val="e5ffff"/>
              </a:solidFill>
              <a:latin typeface="Tahoma"/>
            </a:endParaRPr>
          </a:p>
        </p:txBody>
      </p:sp>
      <p:sp>
        <p:nvSpPr>
          <p:cNvPr id="9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une 5 meeting – Primarily Educational </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iewed LTSTF addressable reasons for failure of Summer 07 EILS Program</a:t>
            </a:r>
            <a:endParaRPr b="0" lang="en-US" sz="2400" spc="-1" strike="noStrike">
              <a:solidFill>
                <a:srgbClr val="ffffff"/>
              </a:solidFill>
              <a:latin typeface="Tahoma"/>
            </a:endParaRPr>
          </a:p>
          <a:p>
            <a:pPr lvl="1" marL="735480" indent="-28296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ck of awareness/understanding of program</a:t>
            </a:r>
            <a:endParaRPr b="0" lang="en-US" sz="2000" spc="-1" strike="noStrike">
              <a:solidFill>
                <a:srgbClr val="ffffff"/>
              </a:solidFill>
              <a:latin typeface="Tahoma"/>
            </a:endParaRPr>
          </a:p>
          <a:p>
            <a:pPr lvl="1" marL="735480" indent="-28296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ability of loads to calculate Cost/Benefit of participation</a:t>
            </a:r>
            <a:endParaRPr b="0" lang="en-US" sz="2000" spc="-1" strike="noStrike">
              <a:solidFill>
                <a:srgbClr val="ffffff"/>
              </a:solidFill>
              <a:latin typeface="Tahoma"/>
            </a:endParaRPr>
          </a:p>
          <a:p>
            <a:pPr lvl="1" marL="735480" indent="-28296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fusion of participatory requirements particularly in NOIE areas.</a:t>
            </a:r>
            <a:endParaRPr b="0" lang="en-US" sz="20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iewed Commission addressable reasons for failure of Summer program</a:t>
            </a:r>
            <a:endParaRPr b="0" lang="en-US" sz="2400" spc="-1" strike="noStrike">
              <a:solidFill>
                <a:srgbClr val="ffffff"/>
              </a:solidFill>
              <a:latin typeface="Tahoma"/>
            </a:endParaRPr>
          </a:p>
          <a:p>
            <a:pPr lvl="1" marL="735480" indent="-28296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rrent Cost cap limiting participation</a:t>
            </a:r>
            <a:endParaRPr b="0" lang="en-US" sz="2000" spc="-1" strike="noStrike">
              <a:solidFill>
                <a:srgbClr val="ffffff"/>
              </a:solidFill>
              <a:latin typeface="Tahoma"/>
            </a:endParaRPr>
          </a:p>
          <a:p>
            <a:pPr lvl="1" marL="735480" indent="-28296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rrent Program Size (500 MW) to large for initial program</a:t>
            </a:r>
            <a:endParaRPr b="0" lang="en-US" sz="20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ext Meeting 6/27 </a:t>
            </a:r>
            <a:endParaRPr b="0" lang="en-US" sz="2400" spc="-1" strike="noStrike">
              <a:solidFill>
                <a:srgbClr val="ffffff"/>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4AF0952-9C3D-4C12-A34D-A870F4CE7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Board action on EILS Self Provision</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C rejected PRR716</a:t>
            </a: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oard overturned TAC and Passed it but “encouraged” TAC to develop a different solution for self provision.</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PRR ASAP, urgent status, WMS 6/13, ROS 6/14, PRS 6/21, TAC 6/28, Board 7/17 – Next RFP for EILS is mid Augus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9E4D3D2-4FBB-44A0-91BE-B650A0DF7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ulation Procurement</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ed the approach</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Non-Spin for local congestion</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ed Option 3 (same as ROS)</a:t>
            </a:r>
            <a:endParaRPr b="0" lang="en-US" sz="28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Ancillary Servic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Term Verifiable Cos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ewable Production Potential &amp; URC</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R being drafte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C722577-C432-43BB-88C9-A016AE6DB7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de change was backed out for the May 10</a:t>
            </a:r>
            <a:r>
              <a:rPr b="0" lang="en-US" sz="2000" spc="-1" strike="noStrike" baseline="30000">
                <a:solidFill>
                  <a:srgbClr val="ffffff"/>
                </a:solidFill>
                <a:latin typeface="Tahoma"/>
              </a:rPr>
              <a:t>th</a:t>
            </a:r>
            <a:r>
              <a:rPr b="0" lang="en-US" sz="2000" spc="-1" strike="noStrike">
                <a:solidFill>
                  <a:srgbClr val="ffffff"/>
                </a:solidFill>
                <a:latin typeface="Tahoma"/>
              </a:rPr>
              <a:t> Operating Day</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on 1 – Place code back in service and update the procedures to manually deploy (can not be automated) Non-Spin for local congestion.  Not a valid option for the following reasons</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t implement PRR 650 price corrections with manual deployments of Non-Spi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E error will result from the manual deployment of Non-Spin which may be difficult for the operators to properly track and execute balancing instruction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uld cause URC and compliance tracking issues</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on 2 – Keep the original design that doesn’t utilize the Non-Spin flag</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y procure the Non-Spin Units in the Day-Ahead </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n’t ensure that the Non-Spin Obligation is covered in the Day-Ahead RPRS study</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on 3 – Place code back in service and OOMC the units in real-time for local congestion as necessary.  Preferred option</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ensure that the Non-Spin Obligation is covered in the Day-Ahead RPRS study</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y manual procure the Non-Spin Units in the adjustment period if needed to resolve local congestion</a:t>
            </a: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668BE2D0-8BDB-4643-A831-3B067E270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RCOT Staff Reports</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ulation Procurement</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ed the approach</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Non-Spin for local congestion</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S supported Option 3 (same as RO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Ancillary Servic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Term Verifiable Co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newable Production Potential &amp; URC</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BA1C6C4-0FBF-42A0-88BA-BBFF54824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7-06-06T19:29:35Z</dcterms:modified>
  <cp:revision>113</cp:revision>
  <dc:subject/>
  <dc:title>WMS Report TO TAC</dc:title>
</cp:coreProperties>
</file>