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3"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52280" y="6351480"/>
            <a:ext cx="727200" cy="392400"/>
          </a:xfrm>
          <a:prstGeom prst="rect">
            <a:avLst/>
          </a:prstGeom>
          <a:ln w="0">
            <a:noFill/>
          </a:ln>
        </p:spPr>
      </p:pic>
      <p:sp>
        <p:nvSpPr>
          <p:cNvPr id="5"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B558D72-1643-426A-BC61-658BCAB4B2F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PTF Update</a:t>
            </a:r>
            <a:r>
              <a:rPr b="0" lang="en-US" sz="1800" spc="-1" strike="noStrike">
                <a:solidFill>
                  <a:srgbClr val="ffffff"/>
                </a:solidFill>
                <a:latin typeface="Arial Black"/>
              </a:rPr>
              <a:t> </a:t>
            </a:r>
            <a:br>
              <a:rPr sz="1800"/>
            </a:br>
            <a:r>
              <a:rPr b="0" lang="en-GB" sz="2400" spc="-1" strike="noStrike">
                <a:solidFill>
                  <a:srgbClr val="808080"/>
                </a:solidFill>
                <a:latin typeface="Arial Black"/>
              </a:rPr>
              <a:t>for TAC June 07, 2007</a:t>
            </a:r>
            <a:br>
              <a:rPr sz="2400"/>
            </a:br>
            <a:r>
              <a:rPr b="0" lang="en-GB" sz="2400" spc="-1" strike="noStrike">
                <a:solidFill>
                  <a:srgbClr val="808080"/>
                </a:solidFill>
                <a:latin typeface="Arial Black"/>
              </a:rPr>
              <a:t>Trip Doggett</a:t>
            </a:r>
            <a:br>
              <a:rPr sz="3200"/>
            </a:br>
            <a:br>
              <a:rPr sz="2000"/>
            </a:br>
            <a:endParaRPr b="0" lang="en-US" sz="2400" spc="-1" strike="noStrike">
              <a:solidFill>
                <a:srgbClr val="ffffff"/>
              </a:solidFill>
              <a:latin typeface="Arial Black"/>
            </a:endParaRPr>
          </a:p>
        </p:txBody>
      </p:sp>
      <p:pic>
        <p:nvPicPr>
          <p:cNvPr id="4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2</a:t>
            </a:r>
            <a:endParaRPr b="0" lang="en-US" sz="1800" spc="-1" strike="noStrike">
              <a:solidFill>
                <a:srgbClr val="000000"/>
              </a:solidFill>
              <a:latin typeface="Arial"/>
            </a:endParaRPr>
          </a:p>
        </p:txBody>
      </p:sp>
      <p:sp>
        <p:nvSpPr>
          <p:cNvPr id="9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880" y="826920"/>
            <a:ext cx="8077320" cy="4910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Companion to PRR647</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2, TPTF approved the draft NPRR for Synchronization with PRR647, Gross and Net MW/Mvar Data Reporting, as modified by TPTF on May 21, 2007.  The motion carried by roll-call vote with 100% in favor with one abstention (FPL Energy).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Ass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PRR045, Wind Power Forecast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S Wind Power Forecasting CS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2 Approach Document</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2, TPTF approved the EDS 2 Approach v0.92.  The motion carried by roll-call vote, with 100% in favor and no abstentions.  All Market Segments were represent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Pla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 Registration and Qualification Guide</a:t>
            </a:r>
            <a:endParaRPr b="0" lang="en-US" sz="1800" spc="-1" strike="noStrike">
              <a:solidFill>
                <a:srgbClr val="000000"/>
              </a:solidFill>
              <a:latin typeface="Arial"/>
            </a:endParaRPr>
          </a:p>
        </p:txBody>
      </p:sp>
      <p:sp>
        <p:nvSpPr>
          <p:cNvPr id="10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2 (continued)</a:t>
            </a:r>
            <a:endParaRPr b="0" lang="en-US" sz="1800" spc="-1" strike="noStrike">
              <a:solidFill>
                <a:srgbClr val="000000"/>
              </a:solidFill>
              <a:latin typeface="Arial"/>
            </a:endParaRPr>
          </a:p>
        </p:txBody>
      </p:sp>
      <p:sp>
        <p:nvSpPr>
          <p:cNvPr id="10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0880" y="826920"/>
            <a:ext cx="8077320" cy="3231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2,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of Generic Transmission Constrai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2, TPTF approved the draft NPRR for Modeling of Generic Transmission Constraints as modified by TPTF.  The motion carried by roll-call vote with 100% in favor with four abstentions (LCRA, Austin Energy, City of Dallas, and Town of Flower Mound).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CCP Communication Handbook</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2, TPTF approved the ICCP Communication Handbook v0.21.  The motion carried by roll-call vote, with 100% in favor and no abstentions.  All Market Segments, except the Independent REP Market Segment, were represented.</a:t>
            </a:r>
            <a:endParaRPr b="0" lang="en-US" sz="1800" spc="-1" strike="noStrike">
              <a:solidFill>
                <a:srgbClr val="000000"/>
              </a:solidFill>
              <a:latin typeface="Arial"/>
            </a:endParaRPr>
          </a:p>
        </p:txBody>
      </p:sp>
      <p:sp>
        <p:nvSpPr>
          <p:cNvPr id="10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3</a:t>
            </a:r>
            <a:endParaRPr b="0" lang="en-US" sz="1800" spc="-1" strike="noStrike">
              <a:solidFill>
                <a:srgbClr val="000000"/>
              </a:solidFill>
              <a:latin typeface="Arial"/>
            </a:endParaRPr>
          </a:p>
        </p:txBody>
      </p:sp>
      <p:sp>
        <p:nvSpPr>
          <p:cNvPr id="11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0880" y="826920"/>
            <a:ext cx="8077320" cy="1895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Electrical Bus Clarific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draft NPRR for Electrical Bus Clarification as modified at TPTF May 23, 2007. The motion carried by roll-call vote, with 100% in favor with three abstentions (GEUS, City of Allen, and City of Eastland). All Market Segments were represented.</a:t>
            </a:r>
            <a:endParaRPr b="0" lang="en-US" sz="1800" spc="-1" strike="noStrike">
              <a:solidFill>
                <a:srgbClr val="000000"/>
              </a:solidFill>
              <a:latin typeface="Arial"/>
            </a:endParaRPr>
          </a:p>
        </p:txBody>
      </p:sp>
      <p:sp>
        <p:nvSpPr>
          <p:cNvPr id="11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3 (continued)</a:t>
            </a:r>
            <a:endParaRPr b="0" lang="en-US" sz="1800" spc="-1" strike="noStrike">
              <a:solidFill>
                <a:srgbClr val="000000"/>
              </a:solidFill>
              <a:latin typeface="Arial"/>
            </a:endParaRPr>
          </a:p>
        </p:txBody>
      </p:sp>
      <p:sp>
        <p:nvSpPr>
          <p:cNvPr id="11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80880" y="826920"/>
            <a:ext cx="8077320" cy="4763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Updated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y-Ahead Market (DAM) Ancillary Services (AS) Settlements Requirements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M Make-Whole Settlements Requirements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gibility Process for Settlements Requirements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ransfer Requirements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Real-Time (RT) Settlements Requirements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ack Start Services RT Settlements Requirements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T Emergency Operations Settlements Requirements v1.1</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tage Support RT Settlements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set of eight updated COMS Requirements (in the bulleted list above).  The motion carried by roll-call vote, with 100% in favor with four abstentions (GEUS, CenterPoint, City of Eastland, and City of Allen). All Market Segments were represented.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3 (continued)</a:t>
            </a:r>
            <a:endParaRPr b="0" lang="en-US" sz="1800" spc="-1" strike="noStrike">
              <a:solidFill>
                <a:srgbClr val="000000"/>
              </a:solidFill>
              <a:latin typeface="Arial"/>
            </a:endParaRPr>
          </a:p>
        </p:txBody>
      </p:sp>
      <p:sp>
        <p:nvSpPr>
          <p:cNvPr id="12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0880" y="826920"/>
            <a:ext cx="8077320" cy="4714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Updated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erage Incremental Energy Cost (AIEC) Settlements Requirements v1.1 and Reliability Unit Commitment (RUC) Settlements Requirements v1.1</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AIEC Settlements Requirements v1.1 and the RUC Settlements Requirements v1.1.  The motion carried by roll-call vote, with 100% in favor with one abstention (CenterPoint). All Market Segments were represent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tlement Invoices Requirements v1.1 and the Settlement Statements Requirements v1.1</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Settlement Invoices Requirements v1.1 and the Settlement Statements Requirements v1.1.  The motion carried by roll-call vote, with 94.4% in favor, 5.6% opposed, with five abstentions (LCRA, Austin Energy, CenterPoint, City of Allen, and City of Eastland). All Market Segments were represented. </a:t>
            </a:r>
            <a:endParaRPr b="0" lang="en-US" sz="1800" spc="-1" strike="noStrike">
              <a:solidFill>
                <a:srgbClr val="000000"/>
              </a:solidFill>
              <a:latin typeface="Arial"/>
            </a:endParaRPr>
          </a:p>
        </p:txBody>
      </p:sp>
      <p:sp>
        <p:nvSpPr>
          <p:cNvPr id="12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3 (continued)</a:t>
            </a:r>
            <a:endParaRPr b="0" lang="en-US" sz="1800" spc="-1" strike="noStrike">
              <a:solidFill>
                <a:srgbClr val="000000"/>
              </a:solidFill>
              <a:latin typeface="Arial"/>
            </a:endParaRPr>
          </a:p>
        </p:txBody>
      </p:sp>
      <p:sp>
        <p:nvSpPr>
          <p:cNvPr id="12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0880" y="826920"/>
            <a:ext cx="8077320" cy="5033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rcial Operations Updated Requiremen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MR RT Services Requirements v1.1</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updated RMR RT Services Requirements v1.1. The motion carried by roll-call vote, with 75% in favor and 25% opposed, with five abstentions (Brazos, Austin Energy, City of Garland, CPS San Antonio, and Reliant).  All Market Segments were represented.</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AC is not being asked to approve this milestone.  These requirements included NPRR024 requirements because the COMS team thought NPRR024 was in Baseline 1.  We learned after the meeting that NPRR024 is not in Baseline 1, so the requirements will be revised and resubmitted. </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 Registration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MP Registration Requirements v1.1.  The motion carried by roll-call vote, with 100% in favor with four abstentions (CenterPoint, City of Allen, City of Eastland, and Reliant).  All Market Segments were represented. </a:t>
            </a:r>
            <a:endParaRPr b="0" lang="en-US" sz="1800" spc="-1" strike="noStrike">
              <a:solidFill>
                <a:srgbClr val="000000"/>
              </a:solidFill>
              <a:latin typeface="Arial"/>
            </a:endParaRPr>
          </a:p>
        </p:txBody>
      </p:sp>
      <p:sp>
        <p:nvSpPr>
          <p:cNvPr id="13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3 (continued)</a:t>
            </a:r>
            <a:endParaRPr b="0" lang="en-US" sz="1800" spc="-1" strike="noStrike">
              <a:solidFill>
                <a:srgbClr val="000000"/>
              </a:solidFill>
              <a:latin typeface="Arial"/>
            </a:endParaRPr>
          </a:p>
        </p:txBody>
      </p:sp>
      <p:sp>
        <p:nvSpPr>
          <p:cNvPr id="13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0880" y="826920"/>
            <a:ext cx="8077320" cy="383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EDW Require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ject Baseline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ll-Up reporting method for Readiness Metric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Readiness Center Webpag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arket Readiness Metrics Inventor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White Pape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ed-Cycle Unit Model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int Owned Unit Model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a:t>
            </a:r>
            <a:endParaRPr b="0" lang="en-US" sz="1800" spc="-1" strike="noStrike">
              <a:solidFill>
                <a:srgbClr val="000000"/>
              </a:solidFill>
              <a:latin typeface="Arial"/>
            </a:endParaRPr>
          </a:p>
        </p:txBody>
      </p:sp>
      <p:sp>
        <p:nvSpPr>
          <p:cNvPr id="14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80880" y="792000"/>
            <a:ext cx="8610840" cy="2557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Next meetings</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ne 11 and Tuesday June 12</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ursday, June 21</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ne 25 through Wednesday June 27</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ly 9 and Tuesday July 10</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day July 23 through Wednesday July 25</a:t>
            </a: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6480">
              <a:lnSpc>
                <a:spcPct val="85000"/>
              </a:lnSpc>
              <a:spcBef>
                <a:spcPts val="675"/>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0880" y="765000"/>
            <a:ext cx="8610840" cy="49345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June 11,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S Assign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ERCOT Comments dated 5/8/07 to NPRR058, Clarification of Standard Form Market Participant Agreement</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nchronization of PRR698, Remove Default QSE Provisio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possible changes to Section 5.4.10 of the ERCOT Nodal Transition Pla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plan to limit Transmission Element outages during transitio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TPTF Charter</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and consider possible approval of:</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 Power Forecasting CSD</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T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and consider possible approval of:</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S 3 Plan</a:t>
            </a:r>
            <a:endParaRPr b="0" lang="en-US" sz="1800" spc="-1" strike="noStrike">
              <a:solidFill>
                <a:srgbClr val="000000"/>
              </a:solidFill>
              <a:latin typeface="Arial"/>
            </a:endParaRPr>
          </a:p>
        </p:txBody>
      </p:sp>
      <p:sp>
        <p:nvSpPr>
          <p:cNvPr id="15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57"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80880" y="765000"/>
            <a:ext cx="8610840" cy="5571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June 11,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draft NPR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 Transmission Network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and consider possible approval of:</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Level Agreement for EDS 1 and 2</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NPRR049, Generation Subsystem Changes to Incorporate Approved Whitepapers - Settlements clarification</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Disposition of Comments for and consider possible approval of:</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itional updated Requirements (v1.1)</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S CSD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iability Must Run Services Real-Time Settlements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l-Time Energy Settlements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M Energy Settlements Requirement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and consideration of whitepaper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ed Cycle unit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intly-Owned Units</a:t>
            </a:r>
            <a:endParaRPr b="0" lang="en-US" sz="1800" spc="-1" strike="noStrike">
              <a:solidFill>
                <a:srgbClr val="000000"/>
              </a:solidFill>
              <a:latin typeface="Arial"/>
            </a:endParaRPr>
          </a:p>
        </p:txBody>
      </p:sp>
      <p:sp>
        <p:nvSpPr>
          <p:cNvPr id="16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graphicFrame>
        <p:nvGraphicFramePr>
          <p:cNvPr id="49" name=""/>
          <p:cNvGraphicFramePr/>
          <p:nvPr/>
        </p:nvGraphicFramePr>
        <p:xfrm>
          <a:off x="380880" y="762120"/>
          <a:ext cx="8305920" cy="5472000"/>
        </p:xfrm>
        <a:graphic>
          <a:graphicData uri="http://schemas.openxmlformats.org/drawingml/2006/table">
            <a:tbl>
              <a:tblPr/>
              <a:tblGrid>
                <a:gridCol w="2440080"/>
                <a:gridCol w="4646520"/>
                <a:gridCol w="1219320"/>
              </a:tblGrid>
              <a:tr h="307080">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a:t>
                      </a:r>
                      <a:endParaRPr b="0" lang="en-US" sz="1400" spc="-1" strike="noStrike">
                        <a:solidFill>
                          <a:srgbClr val="000000"/>
                        </a:solidFill>
                        <a:latin typeface="Arial"/>
                      </a:endParaRPr>
                    </a:p>
                  </a:txBody>
                  <a:tcPr anchor="ctr">
                    <a:lnL w="1368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ctr">
                    <a:lnL w="5760">
                      <a:solidFill>
                        <a:srgbClr val="008889"/>
                      </a:solidFill>
                    </a:lnL>
                    <a:lnR w="5760">
                      <a:solidFill>
                        <a:srgbClr val="008889"/>
                      </a:solidFill>
                    </a:lnR>
                    <a:lnT w="13680">
                      <a:solidFill>
                        <a:srgbClr val="008889"/>
                      </a:solidFill>
                    </a:lnT>
                    <a:lnB w="5760">
                      <a:solidFill>
                        <a:srgbClr val="008889"/>
                      </a:solidFill>
                    </a:lnB>
                    <a:solidFill>
                      <a:srgbClr val="5469a2"/>
                    </a:solidFill>
                  </a:tcPr>
                </a:tc>
                <a:tc>
                  <a: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rpose</a:t>
                      </a:r>
                      <a:endParaRPr b="0" lang="en-US" sz="1400" spc="-1" strike="noStrike">
                        <a:solidFill>
                          <a:srgbClr val="000000"/>
                        </a:solidFill>
                        <a:latin typeface="Arial"/>
                      </a:endParaRPr>
                    </a:p>
                  </a:txBody>
                  <a:tcPr anchor="ctr">
                    <a:lnL w="5760">
                      <a:solidFill>
                        <a:srgbClr val="008889"/>
                      </a:solidFill>
                    </a:lnL>
                    <a:lnR w="13680">
                      <a:solidFill>
                        <a:srgbClr val="008889"/>
                      </a:solidFill>
                    </a:lnR>
                    <a:lnT w="13680">
                      <a:solidFill>
                        <a:srgbClr val="008889"/>
                      </a:solidFill>
                    </a:lnT>
                    <a:lnB w="5760">
                      <a:solidFill>
                        <a:srgbClr val="008889"/>
                      </a:solidFill>
                    </a:lnB>
                    <a:solidFill>
                      <a:srgbClr val="5469a2"/>
                    </a:solidFill>
                  </a:tcPr>
                </a:tc>
              </a:tr>
              <a:tr h="290160">
                <a:tc>
                  <a:txBody>
                    <a:bodyPr lIns="90000" rIns="90000" tIns="46800" bIns="46800" anchor="ctr">
                      <a:noAutofit/>
                    </a:bodyPr>
                    <a:p>
                      <a:pPr marL="117360" indent="-117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eting Summary</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recent TPTF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297720">
                <a:tc>
                  <a:txBody>
                    <a:bodyPr lIns="90000" rIns="90000" tIns="46800" bIns="46800" anchor="ctr">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xt Meetings</a:t>
                      </a:r>
                      <a:endParaRPr b="0" lang="en-US" sz="1200" spc="-1" strike="noStrike">
                        <a:solidFill>
                          <a:srgbClr val="000000"/>
                        </a:solidFill>
                        <a:latin typeface="Arial"/>
                      </a:endParaRPr>
                    </a:p>
                  </a:txBody>
                  <a:tcPr anchor="ctr"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ming activities</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review</a:t>
                      </a:r>
                      <a:endParaRPr b="0" lang="en-US" sz="1200" spc="-1" strike="noStrike">
                        <a:solidFill>
                          <a:srgbClr val="000000"/>
                        </a:solidFill>
                        <a:latin typeface="Arial"/>
                      </a:endParaRPr>
                    </a:p>
                  </a:txBody>
                  <a:tcPr anchor="ctr"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66384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pproval of proposed changes to ERCOT Nodal Transition Plan</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approved a motion to present proposed changes to the Transition Plan in all sections except 5.4.10</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r h="3913560">
                <a:tc>
                  <a:txBody>
                    <a:bodyPr lIns="90000" rIns="90000" tIns="46800" bIns="46800" anchor="t">
                      <a:noAutofit/>
                    </a:bodyPr>
                    <a:p>
                      <a:pPr marL="2253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pproval of Milestones</a:t>
                      </a:r>
                      <a:endParaRPr b="0" lang="en-US" sz="1200" spc="-1" strike="noStrike">
                        <a:solidFill>
                          <a:srgbClr val="000000"/>
                        </a:solidFill>
                        <a:latin typeface="Arial"/>
                      </a:endParaRPr>
                    </a:p>
                  </a:txBody>
                  <a:tcPr anchor="t" marL="90000" marR="90000">
                    <a:lnL w="1368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ctr">
                      <a:noAutofit/>
                    </a:bodyPr>
                    <a:p>
                      <a:pPr marL="117360" indent="-1173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AC approval of the following Milestones –</a:t>
                      </a:r>
                      <a:endParaRPr b="0" lang="en-US" sz="1200" spc="-1" strike="noStrike">
                        <a:solidFill>
                          <a:srgbClr val="000000"/>
                        </a:solidFill>
                        <a:latin typeface="Arial"/>
                      </a:endParaRPr>
                    </a:p>
                    <a:p>
                      <a:pPr lvl="2" marL="37296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Systems (COMS) Business Requirements complete for:</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Ahead Market (DAM) Ancillary Services (AS)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M Make-Whole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igibility Process for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ncial Transfer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Real-Time (RT)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ack Start Services RT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T Emergency Operations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tage Support RT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erage Incremental Energy Cost (AIEC)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ability Unit Commitment (RUC) Settl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lement Invoice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lement Statements v1.1</a:t>
                      </a:r>
                      <a:endParaRPr b="0" lang="en-US" sz="1200" spc="-1" strike="noStrike">
                        <a:solidFill>
                          <a:srgbClr val="000000"/>
                        </a:solidFill>
                        <a:latin typeface="Arial"/>
                      </a:endParaRPr>
                    </a:p>
                    <a:p>
                      <a:pPr lvl="3" marL="74448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P Registration Requirements v1.1</a:t>
                      </a:r>
                      <a:endParaRPr b="0" lang="en-US" sz="1200" spc="-1" strike="noStrike">
                        <a:solidFill>
                          <a:srgbClr val="000000"/>
                        </a:solidFill>
                        <a:latin typeface="Arial"/>
                      </a:endParaRPr>
                    </a:p>
                  </a:txBody>
                  <a:tcPr anchor="ctr" marL="90000" marR="90000">
                    <a:lnL w="5760">
                      <a:solidFill>
                        <a:srgbClr val="008889"/>
                      </a:solidFill>
                    </a:lnL>
                    <a:lnR w="5760">
                      <a:solidFill>
                        <a:srgbClr val="008889"/>
                      </a:solidFill>
                    </a:lnR>
                    <a:lnT w="5760">
                      <a:solidFill>
                        <a:srgbClr val="008889"/>
                      </a:solidFill>
                    </a:lnT>
                    <a:lnB w="5760">
                      <a:solidFill>
                        <a:srgbClr val="008889"/>
                      </a:solidFill>
                    </a:lnB>
                    <a:solidFill>
                      <a:srgbClr val="ffffff"/>
                    </a:solidFill>
                  </a:tcPr>
                </a:tc>
                <a:tc>
                  <a:txBody>
                    <a:bodyPr lIns="90000" rIns="90000" tIns="46800" bIns="46800" anchor="t">
                      <a:noAutofit/>
                    </a:bodyPr>
                    <a:p>
                      <a:pPr marL="117360" indent="-117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Vote</a:t>
                      </a:r>
                      <a:endParaRPr b="0" lang="en-US" sz="1200" spc="-1" strike="noStrike">
                        <a:solidFill>
                          <a:srgbClr val="000000"/>
                        </a:solidFill>
                        <a:latin typeface="Arial"/>
                      </a:endParaRPr>
                    </a:p>
                  </a:txBody>
                  <a:tcPr anchor="t" marL="90000" marR="90000">
                    <a:lnL w="5760">
                      <a:solidFill>
                        <a:srgbClr val="008889"/>
                      </a:solidFill>
                    </a:lnL>
                    <a:lnR w="13680">
                      <a:solidFill>
                        <a:srgbClr val="008889"/>
                      </a:solidFill>
                    </a:lnR>
                    <a:lnT w="5760">
                      <a:solidFill>
                        <a:srgbClr val="008889"/>
                      </a:solidFill>
                    </a:lnT>
                    <a:lnB w="5760">
                      <a:solidFill>
                        <a:srgbClr val="00888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80880" y="765000"/>
            <a:ext cx="8610840" cy="3978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800" spc="-1" strike="noStrike">
                <a:solidFill>
                  <a:srgbClr val="000000"/>
                </a:solidFill>
                <a:latin typeface="Arial"/>
              </a:rPr>
              <a:t>On June 11,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 and consider possible approval of:</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 Monitoring and Compliance Requirements</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CSD</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cussion of EDS testing philosophy</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Disposition of Comments for:</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Metric Inventory</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June 12, we plan to discuss:</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ryover Items from June 11</a:t>
            </a:r>
            <a:endParaRPr b="0" lang="en-US" sz="1800" spc="-1" strike="noStrike">
              <a:solidFill>
                <a:srgbClr val="000000"/>
              </a:solidFill>
              <a:latin typeface="Arial"/>
            </a:endParaRPr>
          </a:p>
          <a:p>
            <a:pPr lvl="1" marL="457200" indent="648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Joint PRS/TPTF agenda – Discussions of baseline recommendations, including, but not limited to, content of baseline 1, content of future baselines, and value engineering related to impact analyses of baseline 1 items</a:t>
            </a:r>
            <a:endParaRPr b="0" lang="en-US" sz="1800" spc="-1" strike="noStrike">
              <a:solidFill>
                <a:srgbClr val="000000"/>
              </a:solidFill>
              <a:latin typeface="Arial"/>
            </a:endParaRPr>
          </a:p>
        </p:txBody>
      </p:sp>
      <p:sp>
        <p:nvSpPr>
          <p:cNvPr id="1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roposed changes to ERCOT Nodal Transition Plan</a:t>
            </a:r>
            <a:endParaRPr b="0" lang="en-US" sz="1800" spc="-1" strike="noStrike">
              <a:solidFill>
                <a:srgbClr val="000000"/>
              </a:solidFill>
              <a:latin typeface="Arial"/>
            </a:endParaRPr>
          </a:p>
        </p:txBody>
      </p:sp>
      <p:sp>
        <p:nvSpPr>
          <p:cNvPr id="17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
          <p:cNvSpPr/>
          <p:nvPr/>
        </p:nvSpPr>
        <p:spPr>
          <a:xfrm>
            <a:off x="380880" y="914400"/>
            <a:ext cx="8458200" cy="1025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PTF moved to present TAC with TPTF’s proposed changes to all sections of the Transition Plan, with the exception of Section 5.4.10. The motion carried by roll-call vote, with 92.9% in favor and 7.1% in opposition. All Market Segments were repres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a:t>
            </a:r>
            <a:endParaRPr b="0" lang="en-US" sz="1800" spc="-1" strike="noStrike">
              <a:solidFill>
                <a:srgbClr val="000000"/>
              </a:solidFill>
              <a:latin typeface="Arial"/>
            </a:endParaRPr>
          </a:p>
        </p:txBody>
      </p:sp>
      <p:sp>
        <p:nvSpPr>
          <p:cNvPr id="180"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
          <p:cNvSpPr/>
          <p:nvPr/>
        </p:nvSpPr>
        <p:spPr>
          <a:xfrm>
            <a:off x="380880" y="914400"/>
            <a:ext cx="8458200" cy="5143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set of eight updated COMS Requirements (in the bulleted list below).  The motion carried by roll-call vote, with 100% in favor with four abstentions (GEUS, CenterPoint, City of Eastland, and City of Allen).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y-Ahead Market (DAM) Ancillary Services (AS) Settlements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M Make-Whole Settlements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gibility Process for Settlements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ransfer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Real-Time (RT) Settlements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ack Start Services RT Settlements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T Emergency Operations Settlements Requirements v1.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tage Support RT Settlements Requirements v1.1</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AIEC Settlements Requirements v1.1 and the RUC Settlements Requirements v1.1.  The motion carried by roll-call vote, with 100% in favor with one abstention (CenterPoint). All Market Segment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8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380880" y="914400"/>
            <a:ext cx="8458200" cy="2275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Settlement Invoices Requirements v1.1 and the Settlement Statements Requirements v1.1.  The motion carried by roll-call vote, with 94.4% in favor, 5.6% opposed, with five abstentions (LCRA, Austin Energy, CenterPoint, City of Allen, and City of Eastland). All Market Segments were represented.</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3, TPTF approved the MP Registration Requirements v1.1.  The motion carried by roll-call vote, with 100% in favor with four abstentions (CenterPoint, City of Allen, City of Eastland, and Reliant).  All Market Segments were repres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C Approval of Milestones (continued)</a:t>
            </a:r>
            <a:endParaRPr b="0" lang="en-US" sz="1800" spc="-1" strike="noStrike">
              <a:solidFill>
                <a:srgbClr val="000000"/>
              </a:solidFill>
              <a:latin typeface="Arial"/>
            </a:endParaRPr>
          </a:p>
        </p:txBody>
      </p:sp>
      <p:sp>
        <p:nvSpPr>
          <p:cNvPr id="19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
          <p:cNvSpPr/>
          <p:nvPr/>
        </p:nvSpPr>
        <p:spPr>
          <a:xfrm>
            <a:off x="380880" y="762120"/>
            <a:ext cx="8458200" cy="5439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he Transition Plan says: “Any declaration of the accomplishment of a major milestone (business requirements, conceptual design, and successful completion of Market Participant testing) or a decision to proceed is contingent on the approval of both ERCOT and TAC.”</a:t>
            </a:r>
            <a:endParaRPr b="0" lang="en-US" sz="18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est TAC approval of the following Milestones –</a:t>
            </a:r>
            <a:endParaRPr b="0" lang="en-US" sz="1800" spc="-1" strike="noStrike">
              <a:solidFill>
                <a:srgbClr val="000000"/>
              </a:solidFill>
              <a:latin typeface="Arial"/>
            </a:endParaRPr>
          </a:p>
          <a:p>
            <a:pPr lvl="1" marL="457200">
              <a:lnSpc>
                <a:spcPct val="85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000000"/>
                </a:solidFill>
                <a:latin typeface="Arial"/>
              </a:rPr>
              <a:t>Commercial Systems (COMS) Business Requirements complete for:</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Day-Ahead Market (DAM) Ancillary Services (AS)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M Make-Whole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igibility Process for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ncial Transfer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 Real-Time (RT)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 Start Services RT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T Emergency Operations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oltage Support RT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erage Incremental Energy Cost (AIEC)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liability Unit Commitment (RUC) Settl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tlement Invoice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tlement Statements v1.1</a:t>
            </a:r>
            <a:endParaRPr b="0" lang="en-US" sz="1400" spc="-1" strike="noStrike">
              <a:solidFill>
                <a:srgbClr val="000000"/>
              </a:solidFill>
              <a:latin typeface="Arial"/>
            </a:endParaRPr>
          </a:p>
          <a:p>
            <a:pPr lvl="2" marL="914400">
              <a:lnSpc>
                <a:spcPct val="85000"/>
              </a:lnSpc>
              <a:spcBef>
                <a:spcPts val="524"/>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 Registration Requirements v1.1</a:t>
            </a:r>
            <a:endParaRPr b="0" lang="en-US" sz="1400" spc="-1" strike="noStrike">
              <a:solidFill>
                <a:srgbClr val="000000"/>
              </a:solidFill>
              <a:latin typeface="Arial"/>
            </a:endParaRPr>
          </a:p>
          <a:p>
            <a:pPr lvl="4" marL="1828800">
              <a:lnSpc>
                <a:spcPct val="100000"/>
              </a:lnSpc>
              <a:spcBef>
                <a:spcPts val="349"/>
              </a:spcBef>
              <a:buClr>
                <a:srgbClr val="009999"/>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204"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1"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0880" y="826920"/>
            <a:ext cx="8077320" cy="4383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etings May 7 – 8 and May 21 </a:t>
            </a:r>
            <a:r>
              <a:rPr b="0" lang="en-US" sz="1400" spc="-1" strike="noStrike">
                <a:solidFill>
                  <a:srgbClr val="000000"/>
                </a:solidFill>
                <a:latin typeface="Arial"/>
              </a:rPr>
              <a:t>–</a:t>
            </a:r>
            <a:r>
              <a:rPr b="0" lang="en-US" sz="1800" spc="-1" strike="noStrike">
                <a:solidFill>
                  <a:srgbClr val="000000"/>
                </a:solidFill>
                <a:latin typeface="Arial"/>
              </a:rPr>
              <a:t> 23</a:t>
            </a:r>
            <a:endParaRPr b="0" lang="en-US" sz="1800" spc="-1" strike="noStrike">
              <a:solidFill>
                <a:srgbClr val="000000"/>
              </a:solidFill>
              <a:latin typeface="Arial"/>
            </a:endParaRPr>
          </a:p>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erprise Data Warehouse (EDW)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W documents for future TPTF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status of EDW Performance and Compliance Requirements Documen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ion and Design Authority (IDA)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P Interface Documen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Integration Activiti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S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A White Paper Review</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ed-Cycle Unit Modeling</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int Owned Unit Modeling</a:t>
            </a:r>
            <a:endParaRPr b="0" lang="en-US" sz="1800" spc="-1" strike="noStrike">
              <a:solidFill>
                <a:srgbClr val="000000"/>
              </a:solidFill>
              <a:latin typeface="Arial"/>
            </a:endParaRPr>
          </a:p>
        </p:txBody>
      </p:sp>
      <p:sp>
        <p:nvSpPr>
          <p:cNvPr id="55"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7 (continued)</a:t>
            </a:r>
            <a:endParaRPr b="0" lang="en-US" sz="1800" spc="-1" strike="noStrike">
              <a:solidFill>
                <a:srgbClr val="000000"/>
              </a:solidFill>
              <a:latin typeface="Arial"/>
            </a:endParaRPr>
          </a:p>
        </p:txBody>
      </p:sp>
      <p:sp>
        <p:nvSpPr>
          <p:cNvPr id="58"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826920"/>
            <a:ext cx="8077320" cy="41259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Management System (MMS) Clarification Issue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ED Timestamp</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ming of reallocation of McCamey Flowgate Rights before DAM</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of Interruptible Loads</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of weekly energy constraints for RUC</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ynamically Scheduled Resource Output Schedule Validatio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for SCED Up Ramp R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Level Agreement for Nodal Sandbox</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7, TPTF approved the SLA for the Sandbox Environment provided the SLA for EDS testing is available for TPTF to review by June 15, 2007.  The motion carried by roll-call vote, with 100% in favor and two abstentions (City of Dallas and Town of Flower Mound).  All Market Segments were represented.</a:t>
            </a:r>
            <a:endParaRPr b="0" lang="en-US" sz="1800" spc="-1" strike="noStrike">
              <a:solidFill>
                <a:srgbClr val="000000"/>
              </a:solidFill>
              <a:latin typeface="Arial"/>
            </a:endParaRPr>
          </a:p>
        </p:txBody>
      </p:sp>
      <p:sp>
        <p:nvSpPr>
          <p:cNvPr id="62"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7 (continued)</a:t>
            </a:r>
            <a:endParaRPr b="0" lang="en-US" sz="1800" spc="-1" strike="noStrike">
              <a:solidFill>
                <a:srgbClr val="000000"/>
              </a:solidFill>
              <a:latin typeface="Arial"/>
            </a:endParaRPr>
          </a:p>
        </p:txBody>
      </p:sp>
      <p:sp>
        <p:nvSpPr>
          <p:cNvPr id="65"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0880" y="826920"/>
            <a:ext cx="8077320" cy="1662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7,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 Constraint Competitiveness Tes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7, TPTF voted to endorse the Draft NPRR for Constraint Competitiveness Test.  The motion carried by roll-call vote, with 100% in favor and no abstentions.  All Market Segments, except the Independent Generators, were represented.</a:t>
            </a:r>
            <a:endParaRPr b="0" lang="en-US" sz="1800" spc="-1" strike="noStrike">
              <a:solidFill>
                <a:srgbClr val="000000"/>
              </a:solidFill>
              <a:latin typeface="Arial"/>
            </a:endParaRPr>
          </a:p>
        </p:txBody>
      </p:sp>
      <p:sp>
        <p:nvSpPr>
          <p:cNvPr id="69"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8</a:t>
            </a:r>
            <a:endParaRPr b="0" lang="en-US" sz="1800" spc="-1" strike="noStrike">
              <a:solidFill>
                <a:srgbClr val="000000"/>
              </a:solidFill>
              <a:latin typeface="Arial"/>
            </a:endParaRPr>
          </a:p>
        </p:txBody>
      </p:sp>
      <p:sp>
        <p:nvSpPr>
          <p:cNvPr id="72"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80880" y="826920"/>
            <a:ext cx="8077320" cy="4273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edule to review COMS use-cases and updated Requirements Document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Nodal Transition Plan through Section 6.1</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COT Market Rules review of draft PRR – Process for Transition to Nodal Market</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ew of TPTF Charter</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e Review of Nodal Transition Plan</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PTF moved to present TAC with TPTF’s proposed changes to all sections of the Transition Plan, with the exception of Section 5.4.10. The motion carried by roll-call vote, with 92.9% in favor and 7.1% in opposition.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Readiness Metrics Update </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MS Update on pre-FAT testing for accelerated delivery of SCED</a:t>
            </a:r>
            <a:endParaRPr b="0" lang="en-US" sz="1800" spc="-1" strike="noStrike">
              <a:solidFill>
                <a:srgbClr val="000000"/>
              </a:solidFill>
              <a:latin typeface="Arial"/>
            </a:endParaRPr>
          </a:p>
        </p:txBody>
      </p:sp>
      <p:sp>
        <p:nvSpPr>
          <p:cNvPr id="76"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8 (continued)</a:t>
            </a:r>
            <a:endParaRPr b="0" lang="en-US" sz="1800" spc="-1" strike="noStrike">
              <a:solidFill>
                <a:srgbClr val="000000"/>
              </a:solidFill>
              <a:latin typeface="Arial"/>
            </a:endParaRPr>
          </a:p>
        </p:txBody>
      </p:sp>
      <p:sp>
        <p:nvSpPr>
          <p:cNvPr id="79"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0880" y="826920"/>
            <a:ext cx="8077320" cy="5266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osition of comments for EMS CS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PTF voted to waive notice for a vote on the EMS CSD.  The motion carried by roll-call vote, with 100% in favor and no abstentions.  All Market Segments, except Independent Retail Electric Provider (REP), were represented.</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PTF voted to provisionally approve, for a period to extend no longer than 30 days from May 8, 2007, the EMS CSD, version 0.11, after which it will return to TPTF for final approval. Final approval by TPTF is contingent upon and will follow ERCOT's incorporation of the TPTF-reviewed whitepapers and TPTF-approved NPRRs that address design matters applicable to the EMS and EMS-MMS interfaces that are dated prior to May 8, 2007. The motion carried by roll-call vote, with 90.9% in favor and 9.1% in opposition, with five abstentions (CenterPoint, NRG Texas, Calpine, City of Allen, and City of Eastland). All Market Segments, except Independent REP,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Draft NPRR for External Transmission Network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ICCP Communication Handbook</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EMS Wind Power Forecasting CSD</a:t>
            </a:r>
            <a:endParaRPr b="0" lang="en-US" sz="1800" spc="-1" strike="noStrike">
              <a:solidFill>
                <a:srgbClr val="000000"/>
              </a:solidFill>
              <a:latin typeface="Arial"/>
            </a:endParaRPr>
          </a:p>
        </p:txBody>
      </p:sp>
      <p:sp>
        <p:nvSpPr>
          <p:cNvPr id="83"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8 (continued)</a:t>
            </a:r>
            <a:endParaRPr b="0" lang="en-US" sz="1800" spc="-1" strike="noStrike">
              <a:solidFill>
                <a:srgbClr val="000000"/>
              </a:solidFill>
              <a:latin typeface="Arial"/>
            </a:endParaRPr>
          </a:p>
        </p:txBody>
      </p:sp>
      <p:sp>
        <p:nvSpPr>
          <p:cNvPr id="86"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0880" y="826920"/>
            <a:ext cx="8077320" cy="964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8,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rly Delivery Syste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Draft NPRR for Electrical Bus Clarification</a:t>
            </a:r>
            <a:endParaRPr b="0" lang="en-US" sz="1800" spc="-1" strike="noStrike">
              <a:solidFill>
                <a:srgbClr val="000000"/>
              </a:solidFill>
              <a:latin typeface="Arial"/>
            </a:endParaRPr>
          </a:p>
        </p:txBody>
      </p:sp>
      <p:sp>
        <p:nvSpPr>
          <p:cNvPr id="90"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May 21</a:t>
            </a:r>
            <a:endParaRPr b="0" lang="en-US" sz="1800" spc="-1" strike="noStrike">
              <a:solidFill>
                <a:srgbClr val="000000"/>
              </a:solidFill>
              <a:latin typeface="Arial"/>
            </a:endParaRPr>
          </a:p>
        </p:txBody>
      </p:sp>
      <p:sp>
        <p:nvSpPr>
          <p:cNvPr id="93" name=""/>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826920"/>
            <a:ext cx="8077320" cy="4739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1, TPTF discussed the following:</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SAT testing philosophy</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al Program Update</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miting Transmission Element outages upon Nodal Implementation</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pdate on MMS Clarification Notes</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ion and Design Authority (IDA) Project</a:t>
            </a:r>
            <a:endParaRPr b="0" lang="en-US" sz="1800" spc="-1" strike="noStrike">
              <a:solidFill>
                <a:srgbClr val="000000"/>
              </a:solidFill>
              <a:latin typeface="Arial"/>
            </a:endParaRPr>
          </a:p>
          <a:p>
            <a:pPr lvl="2" marL="9144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rnal Interfaces Specification</a:t>
            </a:r>
            <a:endParaRPr b="0" lang="en-US" sz="1800" spc="-1" strike="noStrike">
              <a:solidFill>
                <a:srgbClr val="000000"/>
              </a:solidFill>
              <a:latin typeface="Arial"/>
            </a:endParaRPr>
          </a:p>
          <a:p>
            <a:pPr lvl="3" marL="1371600">
              <a:lnSpc>
                <a:spcPct val="85000"/>
              </a:lnSpc>
              <a:spcBef>
                <a:spcPts val="675"/>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May 21, TPTF approved the web services highlighted with the triple asterisks (“***”) in v0.95 of the External Interfaces Specification as a baseline with the provision of updates not less than monthly from May 21, 2007 through October 1, 2007 and as needed thereafter. The sections not marked with the triple asterisks (“***”) are not yet approved by TPTF. The motion carried by roll-call vote, with 100% in favor with three abstentions (CenterPoint, City of Dallas, and Town of Flower Mound). All Market Segments were represented.</a:t>
            </a:r>
            <a:endParaRPr b="0" lang="en-US" sz="1800" spc="-1" strike="noStrike">
              <a:solidFill>
                <a:srgbClr val="000000"/>
              </a:solidFill>
              <a:latin typeface="Arial"/>
            </a:endParaRPr>
          </a:p>
          <a:p>
            <a:pPr lvl="1" marL="457200">
              <a:lnSpc>
                <a:spcPct val="85000"/>
              </a:lnSpc>
              <a:spcBef>
                <a:spcPts val="675"/>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ft NPRR Companion to PRR647</a:t>
            </a:r>
            <a:endParaRPr b="0" lang="en-US" sz="1800" spc="-1" strike="noStrike">
              <a:solidFill>
                <a:srgbClr val="000000"/>
              </a:solidFill>
              <a:latin typeface="Arial"/>
            </a:endParaRPr>
          </a:p>
        </p:txBody>
      </p:sp>
      <p:sp>
        <p:nvSpPr>
          <p:cNvPr id="97" name=""/>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tdoggett</cp:lastModifiedBy>
  <dcterms:modified xsi:type="dcterms:W3CDTF">2007-05-31T14:58:29Z</dcterms:modified>
  <cp:revision>553</cp:revision>
  <dc:subject/>
  <dc:title>TAC Update</dc:title>
</cp:coreProperties>
</file>