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BE01-3B07-4EB4-81FB-A79DB280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B639-9DB9-423E-9331-3DB14AFC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ED58-680B-41DD-BC4D-B924941B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9FED-56A0-4687-ACD5-4230CCF9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5EFD-501B-4266-BD4B-D1365A24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FEC5-8803-4493-949F-726B3992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0064-C2AC-47E1-893D-06E1367A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F1DC-B0FD-4E2A-8DB6-8EA09103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9CFB-7C9D-4BA3-A89F-EBB580CA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7810-69B1-4F03-9E01-465A3A2D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4343-375F-4F73-859A-380E6681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D71B-6593-4248-A9F1-9220B90F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6D8B-FA74-4FBA-AF4F-B34D71FCB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3F23-5778-4556-B19F-CB4246BC2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Project Prioritization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(Corporate Operations) initial CART 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ed by Executive Committee on 6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  (IT Operations) initial CART 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ed by Executive Committee on 6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 (Market Operations) draft ready for COPS approval on 6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 (Retail Operations) draft – RO CART to determine cutline on 6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be presented to RMS for approval on 6/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(System Operations) draft ready for ROS approval on 6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ed by WMS approval on 6/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rack f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review and approval on 6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review and approval on 6/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4DC7-3C76-486A-9A42-05C72A4107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5410080"/>
            <a:ext cx="7543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Project Prioritization and Funding Request (non-Nodal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2120" y="1496880"/>
          <a:ext cx="7534080" cy="3686400"/>
        </p:xfrm>
        <a:graphic>
          <a:graphicData uri="http://schemas.openxmlformats.org/drawingml/2006/table">
            <a:tbl>
              <a:tblPr/>
              <a:tblGrid>
                <a:gridCol w="761760"/>
                <a:gridCol w="1905120"/>
                <a:gridCol w="914400"/>
                <a:gridCol w="1066680"/>
                <a:gridCol w="990720"/>
                <a:gridCol w="905040"/>
                <a:gridCol w="990360"/>
              </a:tblGrid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ously Appro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/M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M - $10M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9M - $1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M - $ 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M - $ 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5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1M - $28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495680" y="1515960"/>
            <a:ext cx="3448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unts By Priority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above line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5627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541008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 internal analysis of CO and IO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ation of RO CART cutline by ERC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E109-4C86-4CE0-9EE8-048C36BFD1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Project Prioritization Notes by Program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number of projects in various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ong focus on proces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ing up with computing infrastructure nee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budget request due to Nodal resource de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ding request is similar to prior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projects anticipating PUCT rulemak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budget request due to Nodal resource de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two projects will be executed (both started in 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lists posted at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rcot.com/services/comm/projects/pp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11DF-BF6F-497B-B92D-D522BC090D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7-06-05T21:43:08Z</dcterms:modified>
  <cp:revision>69</cp:revision>
  <dc:subject/>
  <dc:title>Instructions</dc:title>
</cp:coreProperties>
</file>