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D70E-6D2B-44C0-BF52-D908C7C1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EC87-1ACC-4B1C-A9CE-F9C04B79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2B87-CE84-471A-8166-2E34A18B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D772-B058-4DEB-9876-5108AC57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087A-B7EB-4EDD-8C01-30465D82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3986-9574-426A-8D15-8978FF22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1E05-D661-48D3-A78D-E5699B68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8BA4-FBD5-4AC4-BDA6-289D9D65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48E4-3779-42BB-A29E-96FBB379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F970-ED28-44DF-846B-1B6D6CD1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C32C-6426-47D6-A26F-FFA68DE8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A09C-99F7-4629-B461-583FCFAE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ACB7-436D-41C5-829D-9E0D3D2EA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1F1B-CA09-43E2-999C-DC60A032B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7/05/20070511-CRB.html" TargetMode="External"/><Relationship Id="rId2" Type="http://schemas.openxmlformats.org/officeDocument/2006/relationships/hyperlink" Target="http://www.ercot.com/committees/board/tac/prs/crb/index.html" TargetMode="External"/><Relationship Id="rId3" Type="http://schemas.openxmlformats.org/officeDocument/2006/relationships/hyperlink" Target="http://www.ercot.com/committees/board/tac/prs/crb/index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BA Review Board Update to TAC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B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Benefit Analysis (CBA)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A Review Board (CR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B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B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A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A was initially created in 2005 to supplement the 2006 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nitial rollout, we have learned much about the challenges of estimating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lso encountered issues from time to time at various points in the stakehold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in 2006, PRS supported the formation of a team to review CBAs on behalf of 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A Review Board met for the first time on January 2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B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of CBA Review Bo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onsistency of CBAs across all market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varying points of view into C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forum to challenge CBA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implement CBA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eer team comprised of market and ERCOT staff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teleconference to review CBA content and discuss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B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523880"/>
          <a:ext cx="8153280" cy="4616280"/>
        </p:xfrm>
        <a:graphic>
          <a:graphicData uri="http://schemas.openxmlformats.org/drawingml/2006/table">
            <a:tbl>
              <a:tblPr/>
              <a:tblGrid>
                <a:gridCol w="2717640"/>
                <a:gridCol w="2951280"/>
                <a:gridCol w="248436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 Hug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y 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bie McKe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ny Mun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an Ogel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nnon Bow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R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Gar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R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y And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B Ch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a Feuerba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zabeth Mans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A 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/RO 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aret Sach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 De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B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review of new C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CBA form enhancements to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BA proce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flow and new CBA form are posted at the following 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Doc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07/05/20070511-CRB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B area on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rcot.com/committees/board/tac/prs/crb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B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 by CRB to P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both Summary and Detail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asier stakeholder review (1 page summ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ganize sections to focus reader on ke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complexity of market benefit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focus on Net Benefit dollar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rojects have significant non-quantifiabl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sections that are rarely used or provid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(to be noted in Impacts/Benefits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ing Section (retain benefit of this section by converting these topics to prompting 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using new CBA form in 2008 project prioritiz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BA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7-05-31T18:05:05Z</dcterms:modified>
  <cp:revision>21</cp:revision>
  <dc:subject/>
  <dc:title>Instructions</dc:title>
</cp:coreProperties>
</file>