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05A-0498-452A-8B4A-A8E1A5B2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C190-EDE8-4972-B38E-5016B5EDA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081-B8AB-4EC5-BEDA-D579D392E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263-53BC-4FA5-B2B8-FA51931FA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D50B-6FB0-4E13-8F81-98E7D50A4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1B1-9DE3-47DC-A05E-58EA7BCCF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9968-8A8C-4AE0-AE49-29857C903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A30-B7E2-4A60-83A6-2731351CC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964-89B5-4CFC-A76D-63FEA91C3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55C-0D71-4B7B-92F1-1C8A40899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55B6-063C-424D-8000-17A46B0354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3482-1231-4C5C-808C-B6D5DF3971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AA4-8BCC-4DD2-9C6F-81E1FFE5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CF4-C7F5-4B22-A5AF-12017D2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55C-EB4A-4618-A925-65A64BE6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130-9FF7-494C-866E-36969ED8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CC7-1D34-4BDE-9FB6-66294268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61F-FEA8-4D11-B1B4-1709E61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0C9-5790-4AC1-B52A-7250446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71E-5E1D-46B6-8F76-E6CB7F2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02E-6EC3-4D66-B902-51990B4F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24A-ABC9-4440-9DA7-ACAB0D4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0C9-E153-44AC-851B-41E01BB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CD0-6310-4F9B-95EA-3B9253A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9DF3-226B-463D-A8E6-C15F95DF4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otocol Revisio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June 7,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Activity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dal NPRR Imple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S reviewed and commented on nodal PMO process for NPRR integration into “go live” ver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RCOT managing NPRRs for “go live” version through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“baselin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PRRs not included in “go live” will be included in futur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“version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S/TPTF to hold joint meeting regarding Baseline 1 on June 12 (will also preview Baseline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ecommendations will be considered at June 28 TAC mee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1120" y="233172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PRRs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System Changes – IA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Notice of Withdraw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Appeals Pro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odal NPRR Implement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14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Qualification &amp; Periodic Testing of LaaR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828800"/>
          <a:ext cx="8229600" cy="448164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 on behalf of DSW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ghtens the requirements for initial qualification, introduces periodic testing requirements, and provides more defined conditions for LaaR disqualification for non-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R should result in improved performance by LaaRs and improved compliance metr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 result in increased number of LaaR deployments due to new annual testing requir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gust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R 714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– Qualification &amp; Periodic Testing of LaaR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Rectangle 32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33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35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36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37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38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39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40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41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42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3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4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45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47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48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49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50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52"/>
          <p:cNvSpPr/>
          <p:nvPr/>
        </p:nvSpPr>
        <p:spPr>
          <a:xfrm>
            <a:off x="3200400" y="236232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53"/>
          <p:cNvSpPr/>
          <p:nvPr/>
        </p:nvSpPr>
        <p:spPr>
          <a:xfrm>
            <a:off x="3200400" y="2895480"/>
            <a:ext cx="380880" cy="38124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54"/>
          <p:cNvSpPr/>
          <p:nvPr/>
        </p:nvSpPr>
        <p:spPr>
          <a:xfrm>
            <a:off x="3200400" y="342900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55"/>
          <p:cNvSpPr/>
          <p:nvPr/>
        </p:nvSpPr>
        <p:spPr>
          <a:xfrm>
            <a:off x="3200400" y="396252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56"/>
          <p:cNvSpPr/>
          <p:nvPr/>
        </p:nvSpPr>
        <p:spPr>
          <a:xfrm>
            <a:off x="3200400" y="4495680"/>
            <a:ext cx="380880" cy="38124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57"/>
          <p:cNvSpPr/>
          <p:nvPr/>
        </p:nvSpPr>
        <p:spPr>
          <a:xfrm>
            <a:off x="3200400" y="5029200"/>
            <a:ext cx="380880" cy="38088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65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3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Conform 5.6.6.1 EECP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828800"/>
          <a:ext cx="8229600" cy="4476600"/>
        </p:xfrm>
        <a:graphic>
          <a:graphicData uri="http://schemas.openxmlformats.org/drawingml/2006/table">
            <a:tbl>
              <a:tblPr/>
              <a:tblGrid>
                <a:gridCol w="2743200"/>
                <a:gridCol w="698400"/>
                <a:gridCol w="47880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oses technical corrections to the progression of EECP Steps in 5.6.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rection to the Protocols to allow ERCOT to proceed to Step 4 when necessary during an EECP event to ensure system rel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S recommended approval with 1 abstention; all market segments were 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ffective July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R 723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– Conform 5.6.6.1 EECP --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URGEN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62120" y="1676520"/>
            <a:ext cx="761976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89548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8862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6"/>
          <p:cNvSpPr/>
          <p:nvPr/>
        </p:nvSpPr>
        <p:spPr>
          <a:xfrm>
            <a:off x="4800600" y="1660680"/>
            <a:ext cx="0" cy="3902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8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9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762120" y="495288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40240" y="1828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545080" y="17524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973600" y="17049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804600" y="495288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840600" y="238608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842040" y="2919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781920" y="344160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786960" y="3986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786960" y="45194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888000" y="1704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3200400" y="236232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3200400" y="2895480"/>
            <a:ext cx="380880" cy="38124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5"/>
          <p:cNvSpPr/>
          <p:nvPr/>
        </p:nvSpPr>
        <p:spPr>
          <a:xfrm>
            <a:off x="3200400" y="342900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3200400" y="3962520"/>
            <a:ext cx="380880" cy="38088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7"/>
          <p:cNvSpPr/>
          <p:nvPr/>
        </p:nvSpPr>
        <p:spPr>
          <a:xfrm>
            <a:off x="3200400" y="4495680"/>
            <a:ext cx="380880" cy="38124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28"/>
          <p:cNvSpPr/>
          <p:nvPr/>
        </p:nvSpPr>
        <p:spPr>
          <a:xfrm>
            <a:off x="3200400" y="5029200"/>
            <a:ext cx="380880" cy="380880"/>
          </a:xfrm>
          <a:prstGeom prst="pie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762120" y="5562720"/>
            <a:ext cx="7619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R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Rs Recommended for 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71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Qualification &amp; Periodic Testing of La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R 72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Conform 5.6.6.1 EEC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Other PRR St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R 719 – TRE/NERC/FERC Penalties or Assess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Withdrawn by the sub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PRS Activity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1120" y="1572840"/>
            <a:ext cx="7929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ed task forces to address the following top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R Appeals Process (TAC assign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Next Meeting – June 25, 2007 @ ERC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balbracht</cp:lastModifiedBy>
  <dcterms:modified xsi:type="dcterms:W3CDTF">2007-06-07T22:25:21Z</dcterms:modified>
  <cp:revision>122</cp:revision>
  <dc:subject/>
  <dc:title>Protocol Revision Subcommittee</dc:title>
</cp:coreProperties>
</file>