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11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9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F83A-45B6-45AC-B17C-C9333897F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32C6-3974-4246-9F7C-20933E241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3869-2E40-4AF6-95C0-EDAA5FAF3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7532-9CB6-4CE1-986B-E3B3FA8E6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BAA09-E5CA-4E55-BE74-27A1B6BE0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C2A8A-740D-4DA6-A742-C5462FCD9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DC653-01BA-40F4-BBDB-2B1A66111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3F6C0-BB0C-4487-9C6A-ADAAF4455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B95EF-AE0E-4317-A330-681645632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0E9BD-F0A6-4E78-A9A9-7C97362A9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BBD99-69D8-4F6E-A714-F3872029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7D98-2B4C-48F2-9059-7C3D2EB1F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82D94-98B9-4C3A-94DD-2E47F4A8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71361-A524-4EA9-BD38-F892BD26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99C66-9FB2-4051-B00C-3010B405B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F01E7-6863-4275-B33E-EE5E8EF8D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D568D-6237-47B0-AEE3-7EB2435AF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3222-A874-428D-8022-55B2EC907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926F-8A5F-473C-A1FE-ACF94B84B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481F-182D-47CB-BE06-AEF4AF7F8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D3F7-480D-4562-BA10-AEEC09DD5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616C-A3CF-43A9-BA4F-046453C3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140A-D977-4BF9-8D29-043B50E6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B898-4F34-447D-B1ED-D9DA6BC4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6600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306F1-6FE6-47B5-AFD1-4C0833F3CFE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66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66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66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66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66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66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66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66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7B955-04A4-4C72-9A10-8B1EA83A036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66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66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66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66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66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66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66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66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6600cc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Affects of Wind on Frequency 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C  June 7,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6191280"/>
            <a:ext cx="142884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etermining Offset for Wind SC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6191280"/>
            <a:ext cx="1428840" cy="6667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457200" y="1523880"/>
            <a:ext cx="8153280" cy="4606920"/>
          </a:xfrm>
          <a:prstGeom prst="rect">
            <a:avLst/>
          </a:prstGeom>
          <a:ln w="25560">
            <a:solidFill>
              <a:srgbClr val="669999"/>
            </a:solidFill>
            <a:miter/>
          </a:ln>
        </p:spPr>
      </p:pic>
      <p:sp>
        <p:nvSpPr>
          <p:cNvPr id="207" name=""/>
          <p:cNvSpPr/>
          <p:nvPr/>
        </p:nvSpPr>
        <p:spPr>
          <a:xfrm>
            <a:off x="1074240" y="6170760"/>
            <a:ext cx="77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ositive SCE indicates actual wind output exceeds sche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ative SCE indicates actual wind output is less than schedu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9B7A-0441-4FED-BAE3-9D46D6A2684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What is the relationship between Frequency and Real Power?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RCOT interconnect - approximately 500 – 600 MW loss of generation results in 0.1Hz drop in frequen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stern interconnect - approximately 3000 MW loss of generation results in 0.1Hz drop in frequen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dden changes in generation and/or load will result in frequency devi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43CF-8FC9-4161-9046-46B084C41D4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Frequency During High Wind Output (0500-0600 March 25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6191280"/>
            <a:ext cx="1428840" cy="666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304920" y="1477800"/>
            <a:ext cx="8381880" cy="480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1A61-80EF-4BD4-AFF7-1E083F032D5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hange in Wind and Load vs. Frequency (0500-0600 March 25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6191280"/>
            <a:ext cx="1428840" cy="6667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52280" y="1371600"/>
            <a:ext cx="8382240" cy="489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6A68-CCDA-4312-ABC4-F0650DA54B7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Frequency During High Wind Output (0200-0300 May 4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6191280"/>
            <a:ext cx="1428840" cy="6667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0" y="1295280"/>
            <a:ext cx="8686800" cy="4980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0408-8FD0-42AA-9055-2CC9F075D62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hange in Wind and Load vs. Frequency (0200-0300 May 4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6191280"/>
            <a:ext cx="1428840" cy="6667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228600" y="1447920"/>
            <a:ext cx="822960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FC79-2AB4-4653-85E7-64D4B48FB74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Frequency During Large Wind Drop-Off (0900-1200 Feb. 24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6191280"/>
            <a:ext cx="1428840" cy="6667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52280" y="1389240"/>
            <a:ext cx="8458200" cy="4852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BEEC-DCEA-474D-A9A9-4E21ACE792C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hange in Wind and Load vs. Frequency (1100-1200 Feb. 24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6191280"/>
            <a:ext cx="1428840" cy="6667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8373960" cy="489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441A-A1F0-4CD1-84AA-24C5459125D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clus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ail consultant study on the affects  of wind on A/S requirements may change these initial find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tual Wind Generation Output is considered in the manual offset for Balancing Ener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minute to minute change in  Wind Generation Output, at current installed wind capacity, doesn’t appear to have a significant impact on Frequen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minute to minute change in Load Output has a significant impact on Frequen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nd can have a significant impact on Responsive Reserve during disturbance type ev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EFB8-10E9-45E4-B502-FC37F2166C7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Review the ERCOT CPS1 scor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Describe the Wind Only QSEs affect on the Balancing Energy Offse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Describe the Wind Generation  affect on Frequenc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6191280"/>
            <a:ext cx="1428840" cy="66672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bjectiv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9D2D-48D8-4A4E-9FBD-E1DFC886907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ot Cover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ability of severe wind gusts and trips due to over-spe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ability of sudden loss of wind gene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dictability of wind generation and the affects on reserv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acts to the Grid with increasing levels of wind gene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A79F-5898-4E3F-897E-7AE17E8F87A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requency Performance Meas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012680" y="2470320"/>
            <a:ext cx="7118640" cy="19224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371600" y="4495680"/>
            <a:ext cx="6362640" cy="15224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71360" y="1447920"/>
            <a:ext cx="85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S1 simply means: A violation occurs when the 1 minute average of frequency deviation in ERCOT exceeds +/- 0.03 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BE34-2831-49E6-94B1-F584A4D9C33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PS1 Score Historical Tren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57200" y="1523880"/>
          <a:ext cx="8229600" cy="4602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229600" cy="4602240"/>
                  </a:xfrm>
                  <a:prstGeom prst="rect">
                    <a:avLst/>
                  </a:prstGeom>
                  <a:ln w="25560">
                    <a:solidFill>
                      <a:srgbClr val="669999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0" y="6191280"/>
            <a:ext cx="1428840" cy="66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D406-FDA4-42E9-B41E-B4FC7791AFB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ERCOT CPS1 Scores by Interval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4572000"/>
          </a:xfrm>
          <a:prstGeom prst="rect">
            <a:avLst/>
          </a:prstGeom>
          <a:ln w="25560">
            <a:solidFill>
              <a:srgbClr val="669999"/>
            </a:solidFill>
            <a:miter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6191280"/>
            <a:ext cx="1428840" cy="66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F1E9-3BA6-4E0B-9A51-7299283954F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Wind Capacity in the ERCOT System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6191280"/>
            <a:ext cx="1428840" cy="666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rcRect l="6250" t="4478" r="2498" b="0"/>
          <a:stretch/>
        </p:blipFill>
        <p:spPr>
          <a:xfrm>
            <a:off x="1752480" y="1447920"/>
            <a:ext cx="5791320" cy="50767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914040" y="5257800"/>
            <a:ext cx="349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Installed Wind Capacity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148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Additional 1928 M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(5076 MW Total) by 1/1/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3886200"/>
            <a:ext cx="380880" cy="380880"/>
          </a:xfrm>
          <a:prstGeom prst="ellipse">
            <a:avLst/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86200" y="3505320"/>
            <a:ext cx="228600" cy="228600"/>
          </a:xfrm>
          <a:prstGeom prst="ellipse">
            <a:avLst/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67080" y="3352680"/>
            <a:ext cx="533520" cy="533520"/>
          </a:xfrm>
          <a:prstGeom prst="ellipse">
            <a:avLst/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743200" y="3733920"/>
            <a:ext cx="152280" cy="152280"/>
          </a:xfrm>
          <a:prstGeom prst="ellipse">
            <a:avLst/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038480" y="3200400"/>
            <a:ext cx="228600" cy="228600"/>
          </a:xfrm>
          <a:prstGeom prst="ellipse">
            <a:avLst/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152120" y="2297160"/>
            <a:ext cx="9471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28 M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+800 M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681560" y="4724280"/>
            <a:ext cx="8438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56 M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062440" y="2209680"/>
            <a:ext cx="9471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4 M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+402 M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062440" y="2895480"/>
            <a:ext cx="9471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5 M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+160 M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84120" y="4114800"/>
            <a:ext cx="7556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5 M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"/>
          <p:cNvCxnSpPr>
            <a:stCxn id="177" idx="1"/>
            <a:endCxn id="174" idx="6"/>
          </p:cNvCxnSpPr>
          <p:nvPr/>
        </p:nvCxnSpPr>
        <p:spPr>
          <a:xfrm flipH="1">
            <a:off x="4800240" y="2560320"/>
            <a:ext cx="2347200" cy="105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8" idx="0"/>
            <a:endCxn id="172" idx="3"/>
          </p:cNvCxnSpPr>
          <p:nvPr/>
        </p:nvCxnSpPr>
        <p:spPr>
          <a:xfrm flipV="1">
            <a:off x="2103480" y="4211280"/>
            <a:ext cx="145800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1" idx="3"/>
            <a:endCxn id="175" idx="3"/>
          </p:cNvCxnSpPr>
          <p:nvPr/>
        </p:nvCxnSpPr>
        <p:spPr>
          <a:xfrm flipV="1">
            <a:off x="2039760" y="3863520"/>
            <a:ext cx="726480" cy="40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5" name=""/>
          <p:cNvCxnSpPr>
            <a:stCxn id="179" idx="3"/>
            <a:endCxn id="176" idx="1"/>
          </p:cNvCxnSpPr>
          <p:nvPr/>
        </p:nvCxnSpPr>
        <p:spPr>
          <a:xfrm>
            <a:off x="3014280" y="2472840"/>
            <a:ext cx="1058040" cy="761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0" idx="3"/>
            <a:endCxn id="173" idx="1"/>
          </p:cNvCxnSpPr>
          <p:nvPr/>
        </p:nvCxnSpPr>
        <p:spPr>
          <a:xfrm>
            <a:off x="3014640" y="3159000"/>
            <a:ext cx="90576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7" name=""/>
          <p:cNvSpPr/>
          <p:nvPr/>
        </p:nvSpPr>
        <p:spPr>
          <a:xfrm>
            <a:off x="4572000" y="3048120"/>
            <a:ext cx="228600" cy="228600"/>
          </a:xfrm>
          <a:prstGeom prst="ellipse">
            <a:avLst/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32480" y="1763640"/>
            <a:ext cx="100620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 M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+200 M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88" idx="2"/>
            <a:endCxn id="187" idx="7"/>
          </p:cNvCxnSpPr>
          <p:nvPr/>
        </p:nvCxnSpPr>
        <p:spPr>
          <a:xfrm flipH="1">
            <a:off x="4766400" y="2290680"/>
            <a:ext cx="369000" cy="791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0" name=""/>
          <p:cNvSpPr/>
          <p:nvPr/>
        </p:nvSpPr>
        <p:spPr>
          <a:xfrm>
            <a:off x="4038480" y="2514600"/>
            <a:ext cx="22860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214720" y="1523880"/>
            <a:ext cx="8438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186 M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91" idx="3"/>
            <a:endCxn id="190" idx="1"/>
          </p:cNvCxnSpPr>
          <p:nvPr/>
        </p:nvCxnSpPr>
        <p:spPr>
          <a:xfrm>
            <a:off x="3063960" y="1681200"/>
            <a:ext cx="1008720" cy="867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3" name=""/>
          <p:cNvSpPr/>
          <p:nvPr/>
        </p:nvSpPr>
        <p:spPr>
          <a:xfrm>
            <a:off x="5181480" y="2895480"/>
            <a:ext cx="22860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780520" y="1611360"/>
            <a:ext cx="8438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120 M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"/>
          <p:cNvCxnSpPr>
            <a:stCxn id="194" idx="2"/>
            <a:endCxn id="193" idx="7"/>
          </p:cNvCxnSpPr>
          <p:nvPr/>
        </p:nvCxnSpPr>
        <p:spPr>
          <a:xfrm flipH="1">
            <a:off x="5376240" y="1925280"/>
            <a:ext cx="826200" cy="100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6" name=""/>
          <p:cNvSpPr/>
          <p:nvPr/>
        </p:nvSpPr>
        <p:spPr>
          <a:xfrm>
            <a:off x="5334120" y="3429000"/>
            <a:ext cx="152280" cy="152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396920" y="3200400"/>
            <a:ext cx="7444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60 M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7" idx="1"/>
            <a:endCxn id="196" idx="6"/>
          </p:cNvCxnSpPr>
          <p:nvPr/>
        </p:nvCxnSpPr>
        <p:spPr>
          <a:xfrm flipH="1">
            <a:off x="5486040" y="3357720"/>
            <a:ext cx="1905840" cy="148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CDB4-18FC-43FC-82A7-EE8D89CFD18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set>
                                      <p:cBhvr>
                                        <p:cTn id="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set>
                                      <p:cBhvr>
                                        <p:cTn id="1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set>
                                      <p:cBhvr>
                                        <p:cTn id="1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RCOT Monthly Profil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6191280"/>
            <a:ext cx="1428840" cy="6667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533520" y="1523880"/>
            <a:ext cx="7995960" cy="4573800"/>
          </a:xfrm>
          <a:prstGeom prst="rect">
            <a:avLst/>
          </a:prstGeom>
          <a:ln w="25560">
            <a:solidFill>
              <a:srgbClr val="6699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300D-46CD-4AF2-A90A-394E80DD8C2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termination of the Balancing Energy Offse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alancing Energy is the difference between the Short Term Load Forecast and the sum total of the QSEs base power schedu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 Plans are utilized to validate a QSE’s ability to meet their base power sche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 manual offset is utilized when there are known issues with the base power schedules and/or generating resour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Balancing Energy Ramp begins 5 minutes before the start of the interval and ends 5 minutes after the start of the interv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Balancing Energy Deployment objective is to maintain Regulation Up and Down Reserves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A6FE-ABBF-42FD-91F3-2D27569860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8T18:12:44Z</dcterms:created>
  <dc:creator>dmaggio</dc:creator>
  <dc:description/>
  <dc:language>en-US</dc:language>
  <cp:lastModifiedBy>jdumas</cp:lastModifiedBy>
  <dcterms:modified xsi:type="dcterms:W3CDTF">2007-05-29T16:00:27Z</dcterms:modified>
  <cp:revision>34</cp:revision>
  <dc:subject/>
  <dc:title>Slide 1</dc:title>
</cp:coreProperties>
</file>