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E8D06-52E6-485A-9644-2BDC60DC8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3F2DF-1ABF-4625-A58A-41B10091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9634B-0883-4FFD-8B3A-D494C5775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43628-8830-4CFE-A344-9C6453365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6E78F-329C-435D-A8D0-D216AD34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18DEA-0ECB-4F8D-80B4-E9AEC413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FBAB5-0BE8-4568-8197-0CEB3C8E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B81F1-0722-40A2-8D23-6B9E3FB6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10752-F944-428D-AB57-7E9C80A6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5FD4F-1727-4A6A-AA1A-ED68907F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DF2D7-A683-49D9-99CB-DB610970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60E5D-1111-4601-8C33-2651502D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02CF-1876-4A4D-A09B-A0A93C1B1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723920" y="6458040"/>
            <a:ext cx="4038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37124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3152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46008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oposed Change to Methodology regarding Regulation Service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AC 6/07/2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rrent Methodolog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ides the Regulation Up and Down requirements into blocks of Hou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s the average and standard deviation of deployed Regulation Up and Down by hour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previous month and same month of the previous yea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s an exhaustion rate of 1.2% or 35 settlement intervals/mon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9E47A-4C0A-450F-9211-AF037836E7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posed Methodolog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ves the requirement to Block Hours for procurement of Regulation Up and Dow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s the 98.8 percentile of deployed Regulation Up and Down in the previous month and same month of the previous year by hour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s an exhaustion rate of 1.2% or 35 intervals/mon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s a back-cast requirement that allows ERCOT to adjust when the exhaustion rate exceeds 1.2%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0C5B4-49AF-49FB-B600-F3956DDE0C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Historical Regulation Procuremen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57280" y="944640"/>
            <a:ext cx="7974000" cy="545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705E8-1CD1-4B72-9B86-B1E0A4B531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98.8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rcentile method using the same historical data with no grouping among hours appears to produce results that are more efficient and closer to the reliability objecti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tilizing the back-cast in a feedback loop will allow ERCOT to adjust if the exhaustion rate exceeds 1.2%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D29D6-A463-4EF8-862B-01E65DA3B4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jdumas</cp:lastModifiedBy>
  <cp:lastPrinted>2007-05-03T20:39:06Z</cp:lastPrinted>
  <dcterms:modified xsi:type="dcterms:W3CDTF">2007-05-30T19:44:31Z</dcterms:modified>
  <cp:revision>41</cp:revision>
  <dc:subject/>
  <dc:title>Instructions</dc:title>
</cp:coreProperties>
</file>