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6E4-EBAA-4E46-A5BF-4E2C8239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036-7681-4CC6-A37C-0ED460A4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1A5-8275-460A-8A01-C4054123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60F-9DB4-4034-AD65-89488CE7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C4E2-B62C-43CD-9172-9298FA37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A32C-71BD-45C9-9658-6852CFEC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D40C-9317-4D11-8753-36828A20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15F5-058D-4F92-85B0-9E38F651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A489-1F76-4A6C-870B-B2CF1A00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C116-B3E7-4B29-884D-C8ECDF2D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13C2-B849-41E7-87D5-BD458BE9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CBD-398F-4341-968A-1D1BBA5E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34DA-47D3-43EE-9760-050E8D4A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F7B2-0AF7-49EE-80F2-0488F1BE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FAC4-3F59-4956-A751-D7BAA58D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45A4-2B69-473C-9075-E12FF968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8403-FB46-4C78-B39A-70AE061D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6FA-B9A3-4522-B1C6-DC4C5F7B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672-F83D-4D9C-BE62-FCF91504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AC3-418C-4A2E-A222-99258BF7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161-40BF-4F35-AA24-FE2699DD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5A6-4FDB-479D-8BB4-49DD8FEB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1B0-9449-47B3-AB67-4EE73099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F23-07EE-4077-B4DD-A8587331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2933-7CC3-4105-9E9E-2868F6E334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9AE2-CAC1-4CF5-BA2E-2617D2F0AC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MS Update to TAC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7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MCj04042630000[1]"/>
          <p:cNvPicPr/>
          <p:nvPr/>
        </p:nvPicPr>
        <p:blipFill>
          <a:blip r:embed="rId1"/>
          <a:stretch/>
        </p:blipFill>
        <p:spPr>
          <a:xfrm>
            <a:off x="1600200" y="114300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MS Activity 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MGRR052 File Naming Convention for Customer Billing Contact Information URGENT (Vo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MS Procedures: Working Group Name Change (Vo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 on TAC directive relating to identifying issues with net metering and small renewable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COT Service Level Agreement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MGRR052 File Naming Convention for Customer Billing Contact Informa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ing Flight 0407 Market Testing to support SET Version 3.0 Implementation, an issue was identified with participants file naming convention resulting in ERCOT reje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edy was for ERCOT to modify process and focus specifically on use of “csv” within file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other alternative was more e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impact to resource availability and cost impacts were min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d immediate action and URGENCY vote at RMS was approved unanimous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S requests URGENT approval from T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MS Procedures: Working Group Name Change (Vote)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ET Working Group name change to Retail Metering Working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ET was formed to provide market guidelines and protocols to support PUCT Rule 25.311, Competitive Metering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ail Metering Working Group name allows flexibility to address other retail metering issues that arise in ERCOT market stemming from PUCT or Legislative 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ET Protocols remain unaff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S Requests Affirming Vote from T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ssues with net metering and small renewable gene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ch 30, 2007 TAC directed RMS to “identify issues with net metering and small renewable generati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ail Metering WG facilitated retail market workshops to identify those issues and be considerate of impacts from Advanced Metering Rulemaking and HB 369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MWG met May 2 and June 6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et metering and small renewable generation discussion  (cont.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endations from worksh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pe of effort defined as Small Renewable Generation is 50kW and l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ove 50kW up to 2mW is covered by HB 369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ocols currently address and Settlement is suppor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gregate issues by Retail; Commercial Operations; Oth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ng issues as short term (September 2007) and long term (January 2009)solu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WG will host another workshop in 2 weeks to complete recommend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et metering and small renewable generation discussion  (cont.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l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ge transaction communicates both load and generation values (Short and a Long 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I ID Maintenance transaction that identifies “advanced” metering, if applicable (Long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rcial Op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tion for profile impacts associated with DG, TOU, DLC (long te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settlement still occur based on current profiles regardless of DG, TOU, DL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relationship between QSE, REP and Consu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generation create credit against REP lo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threshold for QSE invol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settlement occur when generation value creates a negati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et metering and small renewable generation discussion  (cont.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ering must consist of either separate meters, or a single meter, that measure both load and generator out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not experience reduction in value associated with small renewable generation due to market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RCOT Service Level Agreement Updat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 reported 100% availability in March and Apri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ditional hardware has been ordered to support failover capability and ensure availability. Should be in production late summ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 has proposed new SLA offering 99.9% service availability outside scheduled release and maintenance windows. 24 X 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 has offered additional reporting to include metrics on TML of 98% 24x7, MarkeTrak of 98% 7am-7pm M-F except holiday. A service level agreement is also being created to support Data Extract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LA and Reporting will be presented to RMS for consideration and approval on June 1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3:47:10Z</dcterms:created>
  <dc:creator>AEP</dc:creator>
  <dc:description/>
  <dc:language>en-US</dc:language>
  <cp:lastModifiedBy>balbracht</cp:lastModifiedBy>
  <dcterms:modified xsi:type="dcterms:W3CDTF">2007-06-07T22:24:41Z</dcterms:modified>
  <cp:revision>15</cp:revision>
  <dc:subject/>
  <dc:title>RMS Update to TAC</dc:title>
</cp:coreProperties>
</file>