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25C6-78F8-4ACC-9B91-FF6D8E20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DD1A-F3C3-4C0B-A863-C5320E49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D58F-72A5-4162-9479-21E2108C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91CC-7255-4470-9109-E53B4D5A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C686-6664-4B76-9F4C-98F7B12B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3A1E-E86C-44F0-A7A0-D391F5CD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43C1-A194-4729-8568-73CB910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76BE-11ED-462D-BE00-7BA7FFF4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A85E-C4A1-44D4-A9DB-700C58B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78D7-91BB-4A63-AC79-8CFC1C2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0963-A79B-4D7D-8823-60C6F07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17D4-D78E-4C7D-8BBE-40BBCDA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811D-83E2-406B-AFC3-B25EF0220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R 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F1C9-D626-46EF-B52E-CD73AA6B1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4483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R 65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fect on Pri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5809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Board of Directo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16,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R650 Impact Summary to 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ard approved PRR650 on August 15, 2006, to be effective September 1, 200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R650 price correction creates the MCPE that would have resulted if Non-Spinning energy deployments had not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reflected in the August minutes:  “Mr. McCall moved to approve PRR650 with a requirement that ERCOT provide a report to the Board on its affect on prices at the end of the third quarter of 2006 and the end of this ye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analys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mparable pre- and post-PRR650 periods (Sept05-April06(pre)and Sept06-April07(pos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change in NSRS capacity procurement costs versus cost of PRR650 price adjustments to M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34320" y="502920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R650 Impact Summary to 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6765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Spin Capacity Procurem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4956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impact of PRR650 Price Corrections to Balancing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ept06-April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,748,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283520" cy="17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5546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R650 Impact Summary to date (continued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057040" y="34286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4017960"/>
            <a:ext cx="1828800" cy="71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MM Non-Spin cost difference in Sep05 vs. Sep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der 2005 Hurricanes gas impacts (~$16 vs. $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133720"/>
            <a:ext cx="18288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MM Non-Spin cost difference Apr06 vs. April07- abnormally warm April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6386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3673440"/>
            <a:ext cx="16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MM BES price correction for 4 intervals on 4/3/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1981080"/>
            <a:ext cx="16002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07 Non-Spin cost higher than Jan06- colder Jan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038120" y="23623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d to similar time period the year before, there has been a decrease in Non-Spin Ancillary Service costs of approximately $9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lower costs due to lower Non-spinning Reserve prices ($7 million) occurred in September (Hurricane Rita) and April (EEC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costs due to increased MCPEs ($2 million) occurred due to 4 intervals of price adjustment on April 3,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7-05-30T14:04:03Z</dcterms:modified>
  <cp:revision>93</cp:revision>
  <dc:subject/>
  <dc:title>Instructions</dc:title>
</cp:coreProperties>
</file>