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CF0F-87DF-4910-9F0C-93B4F0144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52D80-FC9C-419B-BBD9-A97C822A2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BCBA-FC40-4ACA-9104-CB7503B4B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4100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00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2C1A-B2DD-401D-8A9A-2A825B566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7D0C-41B3-4E36-8613-E15743F0C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4100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0080" y="83808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22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4100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0080" y="3544560"/>
            <a:ext cx="2846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37F8-1B07-4CFF-9494-8C70ACC71F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83A00-D37D-49DC-835C-C80F55F50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0445E-713D-44CB-8DD1-9C766877F0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-3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2480-93B8-440C-ADAF-79FA65F5EF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49B5-64A0-4951-91AC-09130EAA8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800" y="354456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A305-EDC2-415A-B503-CD193CB4A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800" y="838080"/>
            <a:ext cx="43135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544560"/>
            <a:ext cx="88394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26B7-DF2A-4B77-A5A2-C77D33A5D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280" y="8380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EBA9-70D7-48F1-9D55-2FC86E336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8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6FE946-1E58-4951-870A-45AFD011E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14479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ERCOT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oject Update</a:t>
            </a:r>
            <a:br>
              <a:rPr sz="3200"/>
            </a:b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Commercial Operations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May 8, 2007</a:t>
            </a:r>
            <a:br>
              <a:rPr sz="28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 Adam Martine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777240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5715000"/>
            <a:ext cx="723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Please Note: These slides are best viewed in Slideshow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992640" y="66600"/>
            <a:ext cx="21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MO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8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49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98168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0" y="1866960"/>
            <a:ext cx="9144000" cy="3038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486400" y="2514600"/>
            <a:ext cx="2362320" cy="990720"/>
          </a:xfrm>
          <a:prstGeom prst="borderCallout1">
            <a:avLst>
              <a:gd name="adj1" fmla="val 18750"/>
              <a:gd name="adj2" fmla="val -8333"/>
              <a:gd name="adj3" fmla="val -101921"/>
              <a:gd name="adj4" fmla="val -5080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planned 2006 Carry-Over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reen Shaded Are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762120"/>
            <a:ext cx="2590920" cy="952560"/>
          </a:xfrm>
          <a:prstGeom prst="borderCallout1">
            <a:avLst>
              <a:gd name="adj1" fmla="val 18750"/>
              <a:gd name="adj2" fmla="val -8333"/>
              <a:gd name="adj3" fmla="val 190000"/>
              <a:gd name="adj4" fmla="val -4706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bov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apability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range Shaded Are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3733920"/>
            <a:ext cx="2438280" cy="1028520"/>
          </a:xfrm>
          <a:prstGeom prst="borderCallout1">
            <a:avLst>
              <a:gd name="adj1" fmla="val 18750"/>
              <a:gd name="adj2" fmla="val -8333"/>
              <a:gd name="adj3" fmla="val 188888"/>
              <a:gd name="adj4" fmla="val -496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s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elo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he Capability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llow Shaded Are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23E8-973D-4AF9-A4AE-D6D2436006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1160" y="358128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remaining active project is ERCOT.com Registered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ope of project is presentation of Operations and System Planning Data (Tmaps) data on the ERCOT public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3200" y="12600"/>
            <a:ext cx="838080" cy="644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3029040"/>
            <a:ext cx="9144000" cy="4572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67EF-A8FF-4010-9115-612B9755A7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1160" y="4524120"/>
            <a:ext cx="899172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one project Not Yet Started above the capability line – QSE Dispute Extr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source, Priority 2 – High, Rank 12, $50-$100K initial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will be initiating the project in early 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will deliver an extract to provide QSEs with detailed information regarding all submitted settlement disp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3751" r="0" b="3751"/>
          <a:stretch/>
        </p:blipFill>
        <p:spPr>
          <a:xfrm>
            <a:off x="2819520" y="0"/>
            <a:ext cx="877680" cy="650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373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3724200"/>
            <a:ext cx="9144000" cy="22860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9D39-9471-421A-8674-EC90455F3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 PPL Proposed Planning Schedule/Tim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, April 2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ed 2008 PPL Planning Process and Schedule to MOROCA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, May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Discuss and Create 2008 MO/RO P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view/Training on New CBA Form (to be used on all Carryover and Not Yet Started Projec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ll active projects “above the capability line” on current 2007 MO/RO PPLs and identify carryover and funding for 200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all inactive projects “below the capability line” on current 2007 MO/RO PPLs and determine if still need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y any new project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, May 1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PRs, CBAs and TCEs for all carryover projects and any new projects ident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, May 1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remaining project PRs, CBAs and TCEs and undertake scoring of new proje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0B68-5D8F-4E00-8B2D-F37FCDC444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8 PPL Proposed Planning Schedule/Timeline (cont’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781200"/>
            <a:ext cx="86108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iday, May 2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project priority and rank recommendations and budget estimates for 2008 MO/RO CART P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day, June 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proximate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T approval of 2008 MO/RO CART PP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day, June 1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 approval of MO CART 2008 PP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day June 25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approximately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Executive Committee approv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ursday, June 2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C approv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8DC18-9B22-4C58-9617-FBE01521F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1371600"/>
            <a:ext cx="82296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640080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EB0B-DB72-4FBD-95D0-F74F570DC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A. Martinez</dc:creator>
  <dc:description/>
  <dc:language>en-US</dc:language>
  <cp:lastModifiedBy>amartinez</cp:lastModifiedBy>
  <dcterms:modified xsi:type="dcterms:W3CDTF">2007-05-01T17:25:28Z</dcterms:modified>
  <cp:revision>119</cp:revision>
  <dc:subject>MODPO Project Status</dc:subject>
  <dc:title>COPS Update 121106</dc:title>
</cp:coreProperties>
</file>