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71F99-FB51-41C7-B8C4-C15F0C2D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DA28-FF3D-47B0-9470-39A0F4FF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80FB-8F3A-4D67-A2DA-500F314F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44B00-4357-4C94-AEFD-865A8C08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2777D-E575-4B67-8578-BC1B61AE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C2AF-D0BA-4FE4-BE17-16BD436B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A195-2A9D-4184-8F5A-033A60B7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9CC9-9294-4E64-9D58-31366B8B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76EB-4983-480B-BA4A-DFC92CBC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426A6-9207-4A5B-919C-2DB508D2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AE50-A08B-4678-AB3C-C6F92663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F575-2421-4961-ADF2-83A05060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C453-12A4-4B23-8FE9-4D1683211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723920" y="6477120"/>
            <a:ext cx="4038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3809880" y="647532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A760-8EC6-4BE6-A176-E60904185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05120" cy="763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M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Nodal Commercial Systems Project Updat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Ps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y Bill Barnes and Justin Rasberr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 ?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0056-A001-46EB-BE37-75F7BE3FAC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42840"/>
          <a:ext cx="8229600" cy="3089520"/>
        </p:xfrm>
        <a:graphic>
          <a:graphicData uri="http://schemas.openxmlformats.org/drawingml/2006/table">
            <a:tbl>
              <a:tblPr/>
              <a:tblGrid>
                <a:gridCol w="3814920"/>
                <a:gridCol w="2311200"/>
                <a:gridCol w="210348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rpo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Ba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-Market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Ba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-Market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Bar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Schedule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Rasber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Inform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and Just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FC5B-91CB-47D5-8EC1-B6000501DC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Requirement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is currently syncing all projects to the March 2007 Protocols and a number of NPRRs and whitepapers (termed Baseline 1)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seline sync is needed to make sure all projects can communicate data appropriately with one an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ture baselines will be coordinated by ERCO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S Requirements will be updated to Version 1.1 based on Baseline 1  and submitted to TPTF for review and approval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associated documentation (use cases, CSDs, test cases, etc) will be updated as Business Requirement updates are approv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4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Ps personnel should review updates to COMS requirements to stay abreast on changes to Protocol rul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AF3D4-2DBA-427C-B237-8477B65001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Requirements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520" y="822240"/>
            <a:ext cx="8732880" cy="52135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COMS Requirements are being submitted to TPTF as version 1.1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M, 3 documents -- Energy, AS, and Make W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U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lig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ements and Invoices, 2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Time Operations, 6 documents – AS, Energy, Voltage, Emergency Operations, RMR, and Bla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llowing COMS requirements version 1.1 will be submitted at a later d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putes – only after COPs has solidified changes to section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ggregation –after SDAWG discussion and decision in 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R Requirements – May 2007 due to significant changes in CRR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M – May 2007 based on revised detailed design, NPRR re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ifiable Cost – Ma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racts – will be updated within EDW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9D38-DCEB-427C-8BA2-19714782E9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Use Case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has created Use Cases to help describe the business process for specific aspects of Settl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Cases were created by both IT and business to generate a common understanding for delive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Cases will be linked to Protocols and Requirements in Req Pro and also to test cases and test scripts in order to trace testing and functionality manag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Cases will also be related to SoSa (System of System Architecture) and end to end test ca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Cases will have both the “positive” and alternative conditions (also termed “negative conditions”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Cases will be updated (eg. version 1.1 etc) as the project moves forward to align to Requirements and other work 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A145-4231-4CAA-B359-1C6E864328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OMS Use Case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2520" y="841320"/>
          <a:ext cx="4938840" cy="5132520"/>
        </p:xfrm>
        <a:graphic>
          <a:graphicData uri="http://schemas.openxmlformats.org/drawingml/2006/table">
            <a:tbl>
              <a:tblPr/>
              <a:tblGrid>
                <a:gridCol w="2469240"/>
                <a:gridCol w="2469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MS Functional A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umber of Use C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R Revenue Dispursement, Balancing, DAM, and 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 – Energy, AS, and Make Who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Aggreg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Ope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l Transfer and Late fees (GUI and Proces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 time AS and Ener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s and Invo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 Sup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able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t Monitoring and Management (CM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requirements 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5394240" y="860400"/>
            <a:ext cx="3384720" cy="33908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4040" indent="-284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of 188 Use 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number of use cases have been updated to reflect Requirements version 1.1. The version number will be listed with the use c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face use cases will be within IDA or interface team (End to En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CEA8-E2F2-41DF-956B-88EFFAC29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ini-Market and Simple Illustrative Exampl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23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ni-Market = Pool of hypothetical market dat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 to create simple illustrative examples of the nodal settlement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version will not include CRR sett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Network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of ERCOT Market Participant Dem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and Generation Q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ad only Q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 only Q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section of ERCOT generation resource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market activities and deploy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data will mocked up, but realist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lely for settlement demonstration purposes only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tocols Ru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mulas may change due to NPR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ual implementation may deviate from examp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s will be shared with Market Particip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F2BA-873B-4ACB-8B7E-16DB66F53C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leted CSDs for all Commercial Operations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ing CSDs to Version 1.1 based on Requirements Version 1.1. Should be complete by June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ed Design on ta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uld have drafts of Detailed Design documents by 2Q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nctional Decompositions completed in April 2007 on base 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destar version 4.7 successfully delivered in April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de base which will be used to build No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ing with Lodestar on installation scri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destar metadata changes version 1 submitted April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gnificant number of new tables and columns submitted to support Nod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ture changes will be tracked through version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 to start unit testing as early as Summer 2007 to meet EDS time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3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testing at the Modular level and will “build up” to ba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269F-7155-4700-868D-585F0D8385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velopment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5040" y="2925720"/>
            <a:ext cx="8229600" cy="3186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anchor="t">
            <a:normAutofit/>
          </a:bodyPr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build packages consists of multiple mod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ules aligned into business functional components (i.e. DAM Energy, DAM AS, CRR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FAT completion by mid 4th quarter 200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get SAT completion by early 1st quarter 200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, Lodestar S&amp;B slated for EDS 3 &amp; 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ements and Invoice format for EDS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dow Settlements EDS 4 (requires Extra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s Go Live with 1st CRR auc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74680" y="1189080"/>
            <a:ext cx="8132760" cy="117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DAD5C-7C3F-4C4D-9164-FEA6206169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5:00:00Z</dcterms:created>
  <dc:creator/>
  <dc:description/>
  <dc:language>en-US</dc:language>
  <cp:lastModifiedBy/>
  <dcterms:modified xsi:type="dcterms:W3CDTF">2007-04-30T19:57:22Z</dcterms:modified>
  <cp:revision>185</cp:revision>
  <dc:subject/>
  <dc:title>Electric Reliability and  Resource Adequacy Update</dc:title>
</cp:coreProperties>
</file>