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6784-FE1A-4A09-B3CC-29BCD00A5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3861-6045-488F-9212-1090D7372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77CE-9EF2-49A4-A105-AF93E798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CBF3-CD07-4539-B103-F4E1D7C8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9E50-52ED-431C-A5DE-1039F991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DBA2-FF67-4B33-A9BE-87B112C4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68AD-090E-48E6-B6A7-8D9F4080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674B-F738-4A9D-A9F1-BFFBC46C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24AF-8093-4442-B6B8-ED3C7F4C5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70A8-B99B-46D0-B226-C7E1AAE6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15D8-D3C8-4B59-B72A-B1900811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B90-7774-402C-A752-7DCF0492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32F8-F3E7-45A0-A839-0F80E69F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59AF-780F-478D-BDD1-5696D832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A555-62EA-4E7B-9B45-778D5A0537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ay 4,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C187-F117-4F2E-9E22-520F31C0CC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380880" y="1828800"/>
            <a:ext cx="8534160" cy="3656880"/>
            <a:chOff x="380880" y="1828800"/>
            <a:chExt cx="8534160" cy="365688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420120" y="1974960"/>
              <a:ext cx="8494920" cy="351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80880" y="1828800"/>
              <a:ext cx="86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.1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80880" y="1219320"/>
            <a:ext cx="82296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d5f5d"/>
                </a:solidFill>
                <a:uFillTx/>
                <a:latin typeface="Times New Roman"/>
              </a:rPr>
              <a:t>LPG Reference to Decision Tree Annual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5E1B-AC3C-46B8-9014-C9BD9070D1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8600" y="1295280"/>
            <a:ext cx="8686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 fontScale="88000"/>
          </a:bodyPr>
          <a:p>
            <a:pPr marL="256680" indent="-256680">
              <a:lnSpc>
                <a:spcPct val="95000"/>
              </a:lnSpc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age Time Period:  January 2002 through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May 200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eter reading periods for all rea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-256680">
              <a:lnSpc>
                <a:spcPct val="95000"/>
              </a:lnSpc>
              <a:spcBef>
                <a:spcPts val="99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-256680">
              <a:lnSpc>
                <a:spcPct val="95000"/>
              </a:lnSpc>
              <a:spcBef>
                <a:spcPts val="201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Classify each usage value as a winter or shoulder re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56680" indent="-256680">
              <a:lnSpc>
                <a:spcPct val="80000"/>
              </a:lnSpc>
              <a:spcBef>
                <a:spcPts val="201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Only shoulder and winter readings were used in the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Winter/Shoulder: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start &gt;= September 20 and stop &lt;= May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Winter: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start &gt;=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ember 1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and stop &lt;=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ebruary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Shoulder: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start &gt;= September 20 and stop &lt;=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November 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760" indent="-212040">
              <a:lnSpc>
                <a:spcPct val="40000"/>
              </a:lnSpc>
              <a:spcBef>
                <a:spcPts val="400"/>
              </a:spcBef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start &gt;=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March 1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</a:rPr>
              <a:t> and stop &lt;= May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760" indent="-212040">
              <a:lnSpc>
                <a:spcPct val="4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»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9800" indent="-202320">
              <a:lnSpc>
                <a:spcPct val="4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easonal Crossover Rea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880" indent="-196920">
              <a:lnSpc>
                <a:spcPct val="40000"/>
              </a:lnSpc>
              <a:spcBef>
                <a:spcPts val="224"/>
              </a:spcBef>
              <a:buClr>
                <a:srgbClr val="ff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880" indent="-19692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If 60% or more of the days in a reading are in the shoulder season the reading is classified as a shoulder 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880" indent="-19692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If 60% or more of the days in a reading are in the winter season the reading is classified as a winter 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880" indent="-19692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Other wise the reading is discar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33360" y="304920"/>
            <a:ext cx="7189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2007 Decision Tree – Residential Annual Updat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4FD-075C-4B33-997B-7A14DA91D9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812880" y="990360"/>
            <a:ext cx="8788320" cy="49942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rmAutofit/>
          </a:bodyPr>
          <a:p>
            <a:pPr lvl="1" marL="92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spcBef>
                <a:spcPts val="249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If the highest winter reading kWh/day is less tha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kWh/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then assign “RESLOW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spcBef>
                <a:spcPts val="249"/>
              </a:spcBef>
              <a:buClr>
                <a:srgbClr val="000099"/>
              </a:buClr>
              <a:buFont typeface="Times New Roman"/>
              <a:buAutoNum type="arabicPeriod" startAt="2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If R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RESHIWR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&gt; 0.60 and R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RESHIWR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&gt; R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RESLOWR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then assign “RESHIW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spcBef>
                <a:spcPts val="249"/>
              </a:spcBef>
              <a:buClr>
                <a:srgbClr val="000099"/>
              </a:buClr>
              <a:buFont typeface="Times New Roman"/>
              <a:buAutoNum type="arabicPeriod" startAt="3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If the number of readings available &gt; 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nd R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RESHIWR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&gt; 0.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nd (R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RESHIWR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0.009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) &gt; R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RESLOW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and Winter Max kWh/day &gt;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then assign “RESHIW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110000"/>
              </a:lnSpc>
              <a:spcBef>
                <a:spcPts val="99"/>
              </a:spcBef>
              <a:buNone/>
              <a:tabLst>
                <a:tab algn="l" pos="0"/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10000"/>
              </a:lnSpc>
              <a:spcBef>
                <a:spcPts val="249"/>
              </a:spcBef>
              <a:buClr>
                <a:srgbClr val="000099"/>
              </a:buClr>
              <a:buFont typeface="Times New Roman"/>
              <a:buAutoNum type="arabicPeriod" startAt="4"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Otherwise assign “RESLOW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29080"/>
                <a:tab algn="l" pos="6400800"/>
                <a:tab algn="l" pos="70358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380880"/>
            <a:ext cx="68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5f5d"/>
                </a:solidFill>
                <a:latin typeface="Arial"/>
              </a:rPr>
              <a:t>2007 Decision Tree – Residential Annual 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5127-1554-4B60-808D-72EFE3CFBE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44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dential Annual Validation for 2007 is likely to result  6.3 % migr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continued use of the  new models, future annual migration rates should be lower than the 2007 rate                ( estimated 4.2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304920"/>
            <a:ext cx="7527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 Unicode MS"/>
              </a:rPr>
              <a:t>Residential – 2007 Annual Validatio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0EAE-828A-4922-9E96-A83075A918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61760" y="1447560"/>
            <a:ext cx="739908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siness - Assignment Year for Average Load Factor calculations: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July 2006 through June 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380880"/>
            <a:ext cx="68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2007 Decision Tree – Business Annual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7BE3-2D92-4FFA-9BB4-B0411F4266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80880" y="1295280"/>
            <a:ext cx="85899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cc99"/>
                </a:solidFill>
                <a:latin typeface="Arial"/>
              </a:rPr>
              <a:t>V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S Recommends to TAC Approval of the following Decision Tree Annual Upd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520" y="3505320"/>
            <a:ext cx="8915400" cy="21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sion Tree reflecting Residential Annual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rofile Decision Tree – Annual Update DRAFT eff 06-15-07 RES.x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sion Tree reflecting Business Annual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rofile Decision Tree – Annual Update DRAFT eff 8-15-07 BUS.x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02C2-F20B-47DB-AA8B-0801910008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PGRR 020 Annual Validation Resolution Targe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5280" y="1914120"/>
            <a:ext cx="76320" cy="1036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6BDE-09C7-4122-8046-10A4D99EACA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GRR 02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8600" y="12952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1.2.1) Annual Validation of Load Profile Type Assignment for RES and BUS Load Factor ESI 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The current LPG language requires ERCOT and the TDSP to work together until all issues are resolved.  The 100% resolution target unduly burdens all involved and cannot be achieved within a reasonable timeframe because of data synchronization and other issues.  LPGRR as proposed would provide time-savings for TDSPs and ERC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DDDF-814F-4EFA-9E13-34D4916D11B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LPGRR 020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revision changes the 100% target to 9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maining 1% of transactions would continue to be worked on from a profiling reporting standpoint through “MarkeTrak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all Market Impact – minimal to TDSPs  (impact analysis posted 3/27/07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OPS recommends to TAC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99"/>
                </a:solidFill>
                <a:uFillTx/>
                <a:latin typeface="Times New Roman"/>
              </a:rPr>
              <a:t>Approval of LPGRR 0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0CF7-297C-4605-BB55-B82029893A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92B6-0B7D-4B34-A917-FD87582DF4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-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s of Recent Meeting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CCWG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Met April 1</a:t>
            </a:r>
            <a:r>
              <a:rPr b="0" lang="en-US" sz="3200" spc="-1" strike="noStrike" u="sng" baseline="30000">
                <a:solidFill>
                  <a:srgbClr val="000099"/>
                </a:solidFill>
                <a:uFillTx/>
                <a:latin typeface="Times New Roman"/>
              </a:rPr>
              <a:t>st</a:t>
            </a: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 &amp; May 1</a:t>
            </a:r>
            <a:r>
              <a:rPr b="0" lang="en-US" sz="3200" spc="-1" strike="noStrike" u="sng" baseline="30000">
                <a:solidFill>
                  <a:srgbClr val="000099"/>
                </a:solidFill>
                <a:uFillTx/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Since Last TAC Meeting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viewed &amp; edited updates to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OPSMG Section 4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(Submitted 003COPMGRR, Section 4, Market Notice Communication Process on April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Updated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OPSMG 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viewed, prepared updates to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OPSMG Section 11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(Reports &amp; Extra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rafting language for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OPSMG Section 5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(Commercial Systems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rafting Language for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OPSMG Section 13   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(Renewable Energy Cred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711F-E24F-432C-A53F-299F4D0DD8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s of April Meeting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SDA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repared draft PRR and NPRR to simplify the dispute process – following discussion at COPS April 10</a:t>
            </a:r>
            <a:r>
              <a:rPr b="0" lang="en-US" sz="24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meeting PRR was withdrawn and new language is being drafted &amp; will be submitted in June.  SDAWG will work on the verifiable costs process in nodal and zonal markets and deliver results to COPS &amp; W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orking with ERCOT Commercial Ops to define nodal data extract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D975-64E1-45CC-96DF-83E1BDFADC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PS - PWG Activity Update</a:t>
            </a: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99"/>
                </a:solidFill>
                <a:uFillTx/>
                <a:latin typeface="Times New Roman"/>
              </a:rPr>
              <a:t>PWG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Update on New Profile Implementa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Updates to Profile Decision Tree Revision and Approval Proces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9.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nnual Validation of Load Profile Type Assignment for RES &amp; Bus Load Factor ESI I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1.2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esentation - “Round 2 Sample Design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F1AA-5F9D-46DE-9EEC-41A20B5E57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1087560"/>
            <a:ext cx="7924680" cy="5581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tatus PWG 2007 Goal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8D52-73B6-44F3-BEAD-806C368D00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PS - PWG Activity Upd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ew ERCOT Load Profile Update Implementation Date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05/15/200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8F2-0063-4573-B78C-D2573C71AC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1755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WG –  New Profile Status Repor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143000"/>
            <a:ext cx="8534520" cy="47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R 109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 Transition to new load profiles, Option 3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-test almost complet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test to start week of March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 according to schedule –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Testing Comp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R 1123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Create folders for posting of Auxiliary backcasts to TML and ercot.com, and manually popul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now being performed as maintenance—no longer a SIR 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Folders have been created and Backcasts to TML Pos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R 112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Automated posting of Auxiliary backcasts to TML and ercot.c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nd tes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under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completed prior to May 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On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700E-FF16-43B9-BACD-DA98363D8E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WG –  New Profile Implem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rade date 05/15/07 onward, profiles generated from new models will be posted in the “primary” fol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les from old models will be posted in the auxiliary folder for 60 days and archived on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rcot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w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921D-EA30-481B-8A4B-3A610B38DF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Profile Decision Tree Revision and Approval Proces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9.1.1)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WG proposed changes approved by COPS for consideration and approval by TAC.</a:t>
            </a:r>
            <a:br>
              <a:rPr sz="3200"/>
            </a:b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(</a:t>
            </a:r>
            <a:r>
              <a:rPr b="1" i="1" lang="en-US" sz="3600" spc="-1" strike="noStrike">
                <a:solidFill>
                  <a:srgbClr val="00cc99"/>
                </a:solidFill>
                <a:latin typeface="Times New Roman"/>
              </a:rPr>
              <a:t>Vote</a:t>
            </a: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71E4-CDC4-4759-9F1A-F4249D3A7C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ee starr</cp:lastModifiedBy>
  <dcterms:modified xsi:type="dcterms:W3CDTF">2007-05-01T13:15:47Z</dcterms:modified>
  <cp:revision>219</cp:revision>
  <dc:subject/>
  <dc:title>Point-to-Point</dc:title>
</cp:coreProperties>
</file>