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6351-4FF8-421B-91AE-31B378FB1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4499-E21F-4909-A0A4-2C61F788E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C21E7-1D2A-4C4C-BA00-BBA93D3C8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CE13-D943-4AFD-A487-B0508CF8E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267E-42F5-4FFB-A9E7-789D47ED7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0C895-D58B-44EC-861F-BF5767010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B0656-FDAF-419B-B3EA-0BBF14ECB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244E-9944-4CF9-B4BF-A11FDAAA0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68FC-2C7F-4664-B474-249003A96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AC51-59C1-4256-A6FE-632AB8712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E1C9-9882-4457-8852-3CB57336A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BA3B-7611-4E10-96E1-A8EB53C97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B213-F71C-40C8-9274-C098048B78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23E3-03D8-4BDD-BFE9-BEEAAB086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8229600" y="662904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</a:t>
            </a:r>
            <a:fld id="{FD6C2F0E-B257-47C9-BF19-7B16E41948F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003160" y="40644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2895480"/>
            <a:ext cx="678168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47720" y="2131200"/>
            <a:ext cx="7010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8 Project Prioritizati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76160" y="320004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59984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749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Prioritization El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ing Princi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ization Process Sched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CART Budg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-27648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Font typeface="Wingdings" charset="2"/>
              <a:buChar char="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Doc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112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28800" y="74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ject Prioritiz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90720"/>
            <a:ext cx="8153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buClr>
                <a:srgbClr val="466e6c"/>
              </a:buClr>
              <a:buSzPct val="75000"/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 Prioritizatio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37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ing Principles for Project Prioritization”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e next sli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ownership of Divisional PPLs between Market Subcommittees and Divisional Project Organizations (DP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am Martin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S / R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gle L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ula Feuerbac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hn Kass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Subcommittees and DPOs will recommend the placement of the cutline in the Divisional P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focus on resource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roject Summ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24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Prioritization folder on 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561"/>
              </a:spcBef>
              <a:buClr>
                <a:srgbClr val="466e6c"/>
              </a:buClr>
              <a:buFont typeface="Wingdings" charset="2"/>
              <a:buChar char=""/>
              <a:tabLst>
                <a:tab algn="l" pos="1828800"/>
                <a:tab algn="l" pos="342900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www.ERCOT.c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/ “Quick Links” / “View Project Statu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150840"/>
            <a:ext cx="6642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Guiding Principles of Prioritization”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282920"/>
        </p:xfrm>
        <a:graphic>
          <a:graphicData uri="http://schemas.openxmlformats.org/drawingml/2006/table">
            <a:tbl>
              <a:tblPr/>
              <a:tblGrid>
                <a:gridCol w="1219320"/>
                <a:gridCol w="701028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 Fl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ryover from 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jects required by Statute, PUCT Order, NERC compliance or </a:t>
                      </a: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ritic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reliability of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id Opera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 Infrastructu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8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ercial Settlemen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High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to one or two segments, or</a:t>
                      </a:r>
                      <a:br>
                        <a:rPr sz="1400"/>
                      </a:b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a majority of market segments or ERCO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Medium valu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for only one segm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lot for non-prioritized projec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0840"/>
            <a:ext cx="6553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2008 Prioritization Process Schedule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45720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289548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3505320"/>
            <a:ext cx="106704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2286000"/>
            <a:ext cx="106704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10666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297180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 &amp; Audit 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12952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78600" y="3564000"/>
            <a:ext cx="21333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- Actual Dates May Change 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9 – Statu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7 – Recommendation to B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45160" y="1897200"/>
            <a:ext cx="23097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-- Actual Dates May Change --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17 – Preliminary Budget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/21 – Final Budget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114800" y="213372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14600" y="213372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2590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350496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8320" y="1684440"/>
            <a:ext cx="203184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8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1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4724280"/>
            <a:ext cx="1066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0960" y="5316480"/>
            <a:ext cx="3362400" cy="145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4 – Post document templates for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1 – Complete ERCOT project summ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1 – Complete required documents for new proje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4 – Strategic Review Team (SRT)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1 – Initial review at Executive Committee (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4 – Distribute Subcommittee project lists to P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2 – Distribute TAC mater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/9 – Final review at Executive Committee (E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1676520"/>
            <a:ext cx="20667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9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3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206712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0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4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200" y="4122720"/>
            <a:ext cx="204948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5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0 – Prioritize Project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0200" y="3497400"/>
            <a:ext cx="227628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/20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17 – Proces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1 – Final Prioritization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37120" y="5189400"/>
            <a:ext cx="208296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3 – Prioritization Over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7 – Process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28 – Approve 2008 Priority 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514600" y="4267080"/>
            <a:ext cx="6094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6172200"/>
            <a:ext cx="3870360" cy="441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440" indent="-55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Many of the entities above may choose to schedule a special meeting to conduct their 2008 project prio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62520" y="4267080"/>
            <a:ext cx="990360" cy="914400"/>
          </a:xfrm>
          <a:custGeom>
            <a:avLst/>
            <a:gdLst>
              <a:gd name="textAreaLeft" fmla="*/ 0 w 990360"/>
              <a:gd name="textAreaRight" fmla="*/ 990720 w 99036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16128000">
            <a:off x="6781320" y="4264560"/>
            <a:ext cx="762120" cy="762120"/>
          </a:xfrm>
          <a:custGeom>
            <a:avLst/>
            <a:gdLst>
              <a:gd name="textAreaLeft" fmla="*/ 0 w 762120"/>
              <a:gd name="textAreaRight" fmla="*/ 762480 w 762120"/>
              <a:gd name="textAreaTop" fmla="*/ -360 h 762120"/>
              <a:gd name="textAreaBottom" fmla="*/ 7621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 rot="16128000">
            <a:off x="7619760" y="2588400"/>
            <a:ext cx="762120" cy="761760"/>
          </a:xfrm>
          <a:custGeom>
            <a:avLst/>
            <a:gdLst>
              <a:gd name="textAreaLeft" fmla="*/ 0 w 762120"/>
              <a:gd name="textAreaRight" fmla="*/ 762480 w 762120"/>
              <a:gd name="textAreaTop" fmla="*/ 360 h 761760"/>
              <a:gd name="textAreaBottom" fmla="*/ 7624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Initial CART 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99072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2008 CART Budge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as proposed during 2007 project prioritiz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Corporate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IT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8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Market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0.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Retail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Systems Oper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0.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onal Tot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$    15.8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itical Path Items for Nod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5.2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3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rand Tot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$    21.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verall project budget is less than prior years due to impacts of Nodal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2171880"/>
                <a:tab algn="l" pos="26290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T budgets are subject to change based on ERCOT/market priorities and resource 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760" y="150840"/>
            <a:ext cx="563868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Required Documents</a:t>
            </a:r>
            <a:endParaRPr b="0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s Required for Placement on Divisional PP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 / SCR /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Analysi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pared by ERCOT staf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Benefit Analysis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repared by ERCOT staf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Reque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&amp; Cost Estim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Benefi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arket / ERCOT Delive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sional PPL with 2008 priorities, ranks, budgets and a proposed c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73200" y="2311200"/>
            <a:ext cx="779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d5f5d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roy Anderson</cp:lastModifiedBy>
  <dcterms:modified xsi:type="dcterms:W3CDTF">2007-05-01T21:14:41Z</dcterms:modified>
  <cp:revision>99</cp:revision>
  <dc:subject/>
  <dc:title>Slide 1</dc:title>
</cp:coreProperties>
</file>