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861-C820-4521-94AC-F99F5D7DA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111-FCA4-4D07-9AFE-B9EF94CE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9C5D-576B-4E74-9682-EF93C7E81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3299-AED7-42AA-A6FB-1DE94459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21BD-71FF-468A-BDBA-C275B589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8DF2-3DD0-43AE-91A7-B31635AE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B1C2-A96F-4CD4-8C04-43B6E8A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B2D5-078F-483E-A486-119F4E8B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7977-D251-484F-9E4D-B690F044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C181-BDB1-4280-B24B-D9159235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C988-4845-4B84-8FC6-C9D9C45A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A56-95D1-4928-9A36-DCB189BD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37DC-2EAD-4331-8CA1-E81B2C44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08D1-A991-4ABA-A049-EAF1FC6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E1AF2-6690-4DDF-9F44-E441562A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7193-F74B-4B13-80AD-8A0086CB4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9CC-EF19-4241-93C1-9113F26D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4030-6820-49E1-ABBF-6BB25812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D72-687F-41D7-BF96-4B4985A1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C66-E7B4-4743-814D-03EFFC0D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2FF7-437F-4FB5-AFFC-83C9956E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A646-6083-488F-8F2B-EC0921B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6C9-3845-4E25-A0DE-4E19838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6BC-7C8C-4CED-B587-A51AB7A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EC51-6349-447A-B944-B9A8966134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442-9562-48DB-9465-852C10124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May 1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, 003COPMGRR, Section 4, Market Notice Communication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3COPMGRR submitted April 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 review period ends May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tweaks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submit comments/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to have as COPS voting item 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/drafted COPMGRR for Section 11, Extracts and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d to add detail on how to schedule a report or ex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Pandemic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CCWG develop a communication document for a pandemic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meeting is May 16 at ERC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and recommend 003COPMGRR, Section 4, Market Notice Communication Process for 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/write Section 11, Extracts and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CWG</cp:lastModifiedBy>
  <dcterms:modified xsi:type="dcterms:W3CDTF">2007-05-01T21:39:11Z</dcterms:modified>
  <cp:revision>15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8095453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CCWG COPS Update for June</vt:lpwstr>
  </property>
  <property fmtid="{D5CDD505-2E9C-101B-9397-08002B2CF9AE}" pid="6" name="_NewReviewCycle">
    <vt:lpwstr/>
  </property>
</Properties>
</file>