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17C5-D1D6-4FCC-878E-BBBEFDFF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EAAD-241C-40B8-B365-955A1784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9927-B7F9-4AEB-B9B5-2792D411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25A9-BD2C-4480-B7AD-04464EE0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345-1A80-4FDE-8D93-D523B96A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A43-DE23-4492-9507-CA65E422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7BD-3EDA-46F1-9BA5-9EF262F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CDDB-77A4-4562-BC77-0D5A622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5AC-209E-44EC-9805-AAFA5F33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74F-A7FC-434B-A906-620CF4B1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1ED-32B2-45B0-AC7B-BA6111B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732-F05C-473E-AA33-E32F6B49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AF96-2FB0-4273-8AEA-D87B76EF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80880" y="1219320"/>
            <a:ext cx="8305920" cy="7596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000" bIns="3600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228600" y="3808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cc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DTWG</a:t>
            </a:r>
            <a:endParaRPr b="0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33cc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DTW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pdate to 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05520" y="5789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dnesd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9th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878-20A4-4CC6-9CD4-4A67CA8D1336}" type="slidenum">
              <a:t>1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mary Activities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itor/Support Implementation of SCR7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ing ERCOT System Outages and system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input to Phase 2 of the Retail Market Transaction Processing Service  Availability (RMTPSA) AKA S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Requirements for Customer Bill file from MCT meeting on Thursday 4/26/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 on requirements for a data transport failover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699B-D3A1-468B-8D2D-C78B07DCEB41}" type="slidenum">
              <a:t>2</a:t>
            </a:fld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320" y="1447920"/>
            <a:ext cx="8991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DTWG continues working with ERCOT to support implementation of SCR745 including the new architectur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ed conversion to new ERCOT NAESB application, completed on 3-9-2007. Stabilization complete 3-30-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supporting changes to Paperfree deployment phase. Volume tests on new platform 15 days at 70M+ transactions. Validated platform is currently being purcha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DED-C006-4B07-9DDA-1BC2340CC240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Continue working with the ERCOT Manager of Operations to address each system inci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5-2 TDTWG meeting, system incidents for April were review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level overview of new Service Desk Tool (PR60055- BMC Reme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41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#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683-B807-4B04-BA7E-BA4BC61FBCA8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Continue working with ERCOT and MPs to revise the Retail Market Transaction Processing Service Availability (AKA SLA) docu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the new draft SLA. Suggested a few revisions. Revised draft sent to RMS, TAC and TDTWG lists for comments. A conference call is proposed for late May with the final revision to be provided to RMS in Ju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BEB-5DAE-4F3E-8A66-0FBD9F7C5653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CBCI file and the TDTWG NAESB EDM v1.6 Implementation Gu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DTWG reviewed and agrees with the Flat File (FF) format and file naming convention for the Customer Billing Contact Information (CBCI) file as recommendation at the MCT meeting on 4-26-2007 and has added the information to the TDTWG NAESB EDM v1.6 Implementation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FE1-2B7A-4519-84CA-6F3ED227DCE9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Discussion on requirements for a data transport failover cap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DTWG discussed several Market NAESB failure scenarios (Point to Point, ERCOT, Market wide) and has recommended a workshop scheduled for June 1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draft language to add to the TDTWG NAESB EDM v 1.6 Implementation Guide to address this issu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981-4C81-40D7-BF0A-BE854D56C7EA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DD6C-9AEA-4DA5-83CF-0330DFE87BC0}" type="slidenum">
              <a:t>8</a:t>
            </a:fld>
          </a:p>
        </p:txBody>
      </p:sp>
    </p:spTree>
  </p:cSld>
  <p:transition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jcline</cp:lastModifiedBy>
  <cp:lastPrinted>2002-09-24T18:27:58Z</cp:lastPrinted>
  <dcterms:modified xsi:type="dcterms:W3CDTF">2007-05-03T12:40:18Z</dcterms:modified>
  <cp:revision>423</cp:revision>
  <dc:subject/>
  <dc:title>PowerPoint Presentation</dc:title>
</cp:coreProperties>
</file>