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47449A00-A00B-4B39-86C2-DCE894424287}"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28600" y="1066680"/>
            <a:ext cx="7264440" cy="23454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NPRR Suggested for resettlements of CRR Balancing Account:</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RCOT will also suggest a protocol revision to Nodal Protocol Section 7 and 9, Settlements and Billing, to include a true up of CRR Balancing Account Invoices, the process in which ERCOT shall recalculate the following CRR Balancing Account charge types in the event that subsequent settlement runs for an Operating Day for the DAM and RTM produce changes that affect the monthly balancing account: </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thly Refund to Short-Paid CRR Owners (CRRRAMT)</a:t>
            </a: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 Balancing Account Closure (LACRRAM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pendencies of CRR Balancing Account</a:t>
            </a:r>
            <a:endParaRPr b="0" lang="en-US" sz="1800" spc="-1" strike="noStrike">
              <a:solidFill>
                <a:srgbClr val="ffffff"/>
              </a:solidFill>
              <a:latin typeface="Arial Black"/>
            </a:endParaRPr>
          </a:p>
        </p:txBody>
      </p:sp>
      <p:pic>
        <p:nvPicPr>
          <p:cNvPr id="48" name="" descr=""/>
          <p:cNvPicPr/>
          <p:nvPr/>
        </p:nvPicPr>
        <p:blipFill>
          <a:blip r:embed="rId1"/>
          <a:stretch/>
        </p:blipFill>
        <p:spPr>
          <a:xfrm>
            <a:off x="304920" y="838080"/>
            <a:ext cx="8610480" cy="533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304920" y="1066680"/>
            <a:ext cx="8381880" cy="289296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cenarios of DAM/RTM Resettlements possibly affecting the results of CRR Balancing Account</a:t>
            </a: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ges in Adjusted Metered Load</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M Prices Adjustment due to software/data errors (upon Board Approval)</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M Data errors other than Prices</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errors in CRR Ownership record</a:t>
            </a: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TM Prices Adjustment (upon Board Approval) </a:t>
            </a:r>
            <a:endParaRPr b="0" lang="en-US" sz="12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33280" indent="-233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9:41:22Z</dcterms:created>
  <dc:creator>swang</dc:creator>
  <dc:description/>
  <dc:language>en-US</dc:language>
  <cp:lastModifiedBy>ERCOT Employee</cp:lastModifiedBy>
  <dcterms:modified xsi:type="dcterms:W3CDTF">2007-05-07T14:01:29Z</dcterms:modified>
  <cp:revision>167</cp:revision>
  <dc:subject/>
  <dc:title>Texas Nodal [title] [Description] [Name/Date/etc.]</dc:title>
</cp:coreProperties>
</file>