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7099300" cy="9399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48036-2C62-499A-90EF-64A052A5F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90FCA-3C5C-49C8-BB87-903BC41C0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4CE0F-6588-4A96-B585-0BB7576A0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DC76F-39AF-4384-9535-64D084209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5509D-43F1-4661-BB7C-D79C5B731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85BFC-CA80-4E56-9BE4-D821DD17E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F7FB4-8D09-4959-B7F3-FFCB1EF8C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56E78-6663-4621-BCE8-4112D5B7C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FD2BA-B0F7-49EC-A4E7-19E3B11E3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5DDC8-092B-497D-B43A-A69FDBB3D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DB2EC-6487-47E2-8E0C-D514C4677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E9EE4-9277-403C-A097-816C09F58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C0152-A47A-4D0D-90F0-91861D79A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C102E-208A-43E1-93D3-8F2351CC9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C581E-7168-4E41-94DD-444344168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651B2-3C7F-4B49-8C64-BF075B097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A30CC-0B98-45C6-95B8-69DFA9364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5C0F3-A559-4433-9E18-C6621B977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249AE-B014-4C6A-B0E5-6FF5A5D51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6234F-56FF-4235-A57F-9767957DF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89613-B98B-4639-B944-3C9C72841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BB58A-B120-4F6C-9088-5A928A1F6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F7285-0BD3-401E-AE00-0A8D9F9AF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4D00B-8B70-4A20-8BA7-685F2BF8C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9592A-4E96-46D3-87F6-F5A2F36A8E2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9EE82-5CE8-43A5-B489-EF2A0B5E643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19320" y="456840"/>
            <a:ext cx="183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NMM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0" y="1295280"/>
            <a:ext cx="4952880" cy="26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PTC and Case Builder UI’s</a:t>
            </a:r>
            <a:br>
              <a:rPr sz="4400"/>
            </a:b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(that we have so fa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66"/>
                </a:solidFill>
                <a:latin typeface="Arial"/>
              </a:rPr>
              <a:t>This is screen showing Test Model generator after user clicks on Select NOMCR</a:t>
            </a:r>
            <a:endParaRPr b="0" lang="en-US" sz="1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609480" y="609480"/>
            <a:ext cx="7391520" cy="695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66"/>
                </a:solidFill>
                <a:latin typeface="Arial"/>
              </a:rPr>
              <a:t>This is screen showing Production Model generator after user clicks on check selected NOMCR</a:t>
            </a:r>
            <a:endParaRPr b="0" lang="en-US" sz="1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162920" cy="67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66"/>
                </a:solidFill>
                <a:latin typeface="Arial"/>
              </a:rPr>
              <a:t>CRR Model generator (Build Model)</a:t>
            </a:r>
            <a:endParaRPr b="0" lang="en-US" sz="1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066680" y="533520"/>
            <a:ext cx="7286760" cy="685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66"/>
                </a:solidFill>
                <a:latin typeface="Arial"/>
              </a:rPr>
              <a:t>CRR Model generator (Generate Model Files)</a:t>
            </a:r>
            <a:endParaRPr b="0" lang="en-US" sz="1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7286760" cy="685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Arial"/>
              </a:rPr>
              <a:t>Scheduled Model generator</a:t>
            </a:r>
            <a:endParaRPr b="0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295280" y="609480"/>
            <a:ext cx="7058160" cy="664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" name=""/>
          <p:cNvGraphicFramePr/>
          <p:nvPr/>
        </p:nvGraphicFramePr>
        <p:xfrm>
          <a:off x="4952880" y="304920"/>
          <a:ext cx="4021200" cy="624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2880" y="304920"/>
                    <a:ext cx="4021200" cy="624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3" name=""/>
          <p:cNvGraphicFramePr/>
          <p:nvPr/>
        </p:nvGraphicFramePr>
        <p:xfrm>
          <a:off x="0" y="0"/>
          <a:ext cx="4722840" cy="6553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4722840" cy="655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Arial"/>
              </a:rPr>
              <a:t>PTC UI Summary screen</a:t>
            </a:r>
            <a:endParaRPr b="0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447920" y="549360"/>
            <a:ext cx="6514920" cy="630864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7315200" y="2286000"/>
            <a:ext cx="1601640" cy="20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This is the first screen based on your wire frame – 1</a:t>
            </a:r>
            <a:r>
              <a:rPr b="0" lang="en-US" sz="800" spc="-1" strike="noStrike" baseline="30000">
                <a:solidFill>
                  <a:srgbClr val="000000"/>
                </a:solidFill>
                <a:latin typeface="Verdana"/>
              </a:rPr>
              <a:t>st</a:t>
            </a: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 pa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Top grid is for existing projec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Clicking on any project brings the lower grid with list of NOMCRs underneat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Clicking on new (green arrows) will  allow user to create a new NOMCR under that proje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Clicking on projectid will bring up the edit project scre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391520" y="5029200"/>
            <a:ext cx="1601640" cy="64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Clicking on changerequestid will will bring up the edit NOMCR scre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Arial"/>
              </a:rPr>
              <a:t>PTC UI Create Project screen on clicking ‘Create new Project’ button on Summary</a:t>
            </a:r>
            <a:endParaRPr b="0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081160" y="1805040"/>
            <a:ext cx="4981680" cy="324792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7162920" y="2057400"/>
            <a:ext cx="1828800" cy="9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Your second wireframe pa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Clicking on Create New NOMCR on previous slide brings up this screen to let user choose the project typ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Arial"/>
              </a:rPr>
              <a:t>PTC UI Create Project screen</a:t>
            </a:r>
            <a:endParaRPr b="0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85680" y="1123920"/>
            <a:ext cx="8974080" cy="461016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5715000" y="152280"/>
            <a:ext cx="1828800" cy="9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Top part of your project detail wireframe pa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The NOMCR shown here will</a:t>
            </a: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 not </a:t>
            </a: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be visible to user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That is now for my debug that I am bringing on the right pa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Arial"/>
              </a:rPr>
              <a:t>PTC UI Create NOMCR/</a:t>
            </a:r>
            <a:r>
              <a:rPr b="0" lang="de-DE" sz="1400" spc="-1" strike="noStrike">
                <a:solidFill>
                  <a:srgbClr val="006666"/>
                </a:solidFill>
                <a:latin typeface="Arial"/>
              </a:rPr>
              <a:t>Edit NOMCR</a:t>
            </a:r>
            <a:endParaRPr b="0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295280" y="533520"/>
            <a:ext cx="5915160" cy="632448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7467480" y="2057400"/>
            <a:ext cx="1447920" cy="186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Create NOMCR page based on your wireframe and our discuss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You wanted check boxes instead of ‘None’ buttons. Also Show Dependent NOMCRs’  button instead of expanding he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Please note edit NOMCR will be very similar to this one with some minor differen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Arial"/>
              </a:rPr>
              <a:t>PTC UI Edit Project</a:t>
            </a:r>
            <a:endParaRPr b="0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609480" y="568440"/>
            <a:ext cx="6585120" cy="64548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7467480" y="2743200"/>
            <a:ext cx="1447920" cy="113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Your last wireframe pa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When user clicks on projectid on first screen, this comes up allowing user to edit the proje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Arial"/>
              </a:rPr>
              <a:t>PTC UI Select NOMCR screen on clicking ‘select NOMCR’ from Create NOMCR for dependency</a:t>
            </a:r>
            <a:endParaRPr b="0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838080" y="909720"/>
            <a:ext cx="7305840" cy="594828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5241960" y="3003480"/>
            <a:ext cx="1539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867280" y="2895480"/>
            <a:ext cx="1447920" cy="64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This is not yet ready with checkbox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This will have your advanced fil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819160" y="19807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Case Builder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295280" y="457200"/>
            <a:ext cx="1830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NM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5T20:03:29Z</dcterms:created>
  <dc:creator>Manjusri Sengupta</dc:creator>
  <dc:description/>
  <dc:language>en-US</dc:language>
  <cp:lastModifiedBy>Joel Koepke</cp:lastModifiedBy>
  <dcterms:modified xsi:type="dcterms:W3CDTF">2007-05-18T14:14:42Z</dcterms:modified>
  <cp:revision>67</cp:revision>
  <dc:subject/>
  <dc:title>          ERCOT Project Tracker and Coordinator</dc:title>
</cp:coreProperties>
</file>