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DD70-8FFD-4803-A379-C30581CC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3614-9AC9-4855-A0DC-91D0734D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8698-44F2-4C91-B25D-401EE866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A572-9F70-4B6F-A912-39AD6162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FD42-2954-4E37-9A95-0CAA50B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2EC4-28AE-418A-801B-E7D3119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540F-D4B5-4027-83B4-A187932A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3D5E-FCC1-4E67-875C-CE9986AF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48FE-0A89-4C97-8942-DF8C23D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CA36-AFAF-4E0D-8D02-2A26E17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4740-C36C-4288-B28E-7C16C37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50B5-BC31-4E8A-95B2-2407BA86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9C2-7802-45B7-8837-AD728B77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A42D-2B23-49D7-94A4-5AD5DB6EB2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57C-4AD6-4667-B22C-F1354F7C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4B7C-97EF-47EF-91F2-548A87FA54D0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Discussion of Issues (Q &amp; A)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hn Moseley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work Modeling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ACF6D5-8CCA-4CFE-8F8C-776BD0B7E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oughts to start with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MS is both a strategic, logic-based, pro-active, enterprise solution  and  a tactically integrated simulation and virtual extended enabler that provides a holistic relational mindset enterprise which harmonizes synergies in a customer driven group wide scenar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9A2F0-303F-4470-91CE-7FB03165B8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moseley</cp:lastModifiedBy>
  <dcterms:modified xsi:type="dcterms:W3CDTF">2007-05-18T12:29:06Z</dcterms:modified>
  <cp:revision>23</cp:revision>
  <dc:subject/>
  <dc:title>Instructions</dc:title>
</cp:coreProperties>
</file>