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3B08-C6F2-4DF4-8499-5FF1742D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54CE-054E-45D1-9EE9-5620984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2A49-26F3-45EA-BAAC-710EB302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C7A1-12BA-43E1-B962-3299AEC2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5F9A-B524-4954-90F6-1FB8BFB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8039-AACE-41DB-A975-3356BB9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EDAC-49C4-48A9-9AED-CB02BC6B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54DB-1587-4D5D-AE8A-EDCEAB8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B178-8599-4FBC-99B6-D276249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1BB8-4662-4A4B-A59D-4CAAB66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9EF4-7B82-4D92-BB64-892ACFD0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F9AD-1FBE-43EF-8850-C0AF2A8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5AD-E688-4484-A210-D78F5B979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7B5-4EFF-43B1-AF01-AB6859910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954-8DC6-414A-A1FF-CE527F9D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169-F9A4-41F6-A69C-0A374FE4504C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sts.ercot.com/" TargetMode="External"/><Relationship Id="rId2" Type="http://schemas.openxmlformats.org/officeDocument/2006/relationships/hyperlink" Target="http://nodal.ercot.com/docs/pd/nmms/" TargetMode="External"/><Relationship Id="rId3" Type="http://schemas.openxmlformats.org/officeDocument/2006/relationships/hyperlink" Target="mailto:jmoseley@ercot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ment of NMMS Security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/Train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Moseley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work Modeling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24C8D5-FC40-4425-9458-A363108855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ngs to pond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303" t="0" r="0" b="0"/>
          <a:stretch/>
        </p:blipFill>
        <p:spPr>
          <a:xfrm rot="5400000">
            <a:off x="6040440" y="1731600"/>
            <a:ext cx="2814480" cy="270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05740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, security can be viewed as two layers, an authentication layer, and an authorization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35268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Corporate security will control the authentication layer thru the use of digital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762120"/>
            <a:ext cx="512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st of you, there are two levels of staff between your modeling information and our modeling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648320"/>
            <a:ext cx="504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Network Modeling will control the authorization layer thru the use and ability to assign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C07788-EB08-4E3F-8D81-B9CDAB181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C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C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ally they all boil down to the concept that people who are not authorized to view/manipulate data should not be able to do 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decides if a person is authorized --- YOU DO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C0A24-DFEF-411F-B8B5-B32D255BD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will be initial issues with security access and role definition. ERCOT is requesting that as these issues are identified please let us know immediate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pt notification of problems to both Network Modeling and the ERCOT Helpdesk are essential to maintain function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’s Conspiracy Theory #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 so often IT does something to break functional systems so that they justify their existence by repairing them. (Of course I’m jok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CD1378-4C5E-4218-A3B8-B8952BED80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MS 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, if you have not already, sign up on the NMFG email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sts.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, the web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docs/pd/nmm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, my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mosele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76960" y="4419720"/>
            <a:ext cx="27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C3CE91-1E37-45F1-B9CB-16B22DC392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moseley</cp:lastModifiedBy>
  <dcterms:modified xsi:type="dcterms:W3CDTF">2007-05-18T13:21:59Z</dcterms:modified>
  <cp:revision>27</cp:revision>
  <dc:subject/>
  <dc:title>Instructions</dc:title>
</cp:coreProperties>
</file>