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678F-5953-43A3-BF8E-29C3187D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7F69-BF35-434A-9B36-E4C116E6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413-7E2D-48F9-8A58-2EB4854F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5DF-CE7C-4E35-88DC-AA1F54E9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1622-E361-466E-95F1-2F62C08A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B2AE-2408-4CF0-8ECD-33893415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1A6F-B174-489D-9C31-F4D21410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D9A0-B7DB-47C0-86BB-696B283C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2D16-8990-4DD0-AAA8-DE119AB9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4B93-4E50-4B4E-8766-E653282C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5D0C-83C7-4140-815E-9B916605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D583-5FCC-4168-839D-C69304BD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9765-0C3E-48CC-AD95-F7DA6500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A3E9-6A57-45F6-BF18-9160B2FD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2736-EFEB-481E-8206-F86EBCA2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8EB7-990B-4AC2-8526-59F36E6A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4B68-46D8-4AB3-83C0-B0339191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FE7E-34A4-4329-865D-388FED19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3756-CA64-4781-AAB9-1E4BFC90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9251-C03B-495E-8510-5BE58EF0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1E4D-47ED-4407-BBBC-788B6554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A4C6-1EB1-41AC-B311-2D85D4FE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20D4-7690-40A3-B9AC-789950C2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FC22-C5D9-45D6-9BBF-ADE3E537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62BF-80D1-4708-98A6-66B7606C74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0A37-DEAC-45C7-88F2-A0E4921C0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ists.ercot.com/cgi-bin/majordomo" TargetMode="External"/><Relationship Id="rId2" Type="http://schemas.openxmlformats.org/officeDocument/2006/relationships/hyperlink" Target="http://lists.ercot.com/cgi-bin/majordomo" TargetMode="External"/><Relationship Id="rId3" Type="http://schemas.openxmlformats.org/officeDocument/2006/relationships/hyperlink" Target="http://lists.ercot.com/cgi-bin/majordomo" TargetMode="External"/><Relationship Id="rId4" Type="http://schemas.openxmlformats.org/officeDocument/2006/relationships/hyperlink" Target="http://mail.longhornpower.com/scripts/mail/compose.mail?compose=1&amp;.ob=f4fb86b3b30465b3ecdfa4bc88e6572170604a20&amp;composeto=longtermsolutionstf@lists.ercot.com&amp;composecc=&amp;subject=&amp;body=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Long Term Solution Task Forc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C Report 5/5/0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ed b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b Wittmeyer - LTSTF Co-Chai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UC Directed Charg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ule specifically requires the market participants to identify alternatives that are defined as long-term solutions. Any long-term solution must offer ERCOT the ability to avoid shedding firm load by bringing more resources online or curtailing load voluntari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is context, the PUCT is interested in the following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tter price signals leading up to an Emergency Electric Curtailment Plan (EECP) even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ringing more resources (both interruptible load and generation) online through existing ancillary services;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xamining the priorities set by transmission/distribution service providers when shedding firm lo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quest from LTSTF Co-Chair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irm Load shedding and setting specific priorities by line, is not a market function, it is purely a reliability fun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e therefore request that WMS ask ROS review the PUCT Charge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xamining the priorities set by transmission/distribution service providers when shedding firm lo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ong Term Solution Task For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rns have been raised over uncertainty related to changing the current pro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rns have been raised over doing nothing and hoping we will at least get to the threshold participation in Ju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Solutions Currently Under Consideratio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Responsive Reser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vely Set EECP Pr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entives for loads interrupting at predefined pr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 Load Control by ERC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ext Step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/5 ERCOT Met 168 - 9:30-3: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etings contemplated bi-weekly after 6/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ail address for the list serve function on the ERCOT website: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lists.ercot.com/cgi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-bin/majordom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ask force email address is: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longtermsolutionstf@lists.ercot.c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4:34:21Z</dcterms:created>
  <dc:creator>Bob Wittmeyer</dc:creator>
  <dc:description/>
  <dc:language>en-US</dc:language>
  <cp:lastModifiedBy>Bob Wittmeyer</cp:lastModifiedBy>
  <dcterms:modified xsi:type="dcterms:W3CDTF">2007-05-14T15:33:50Z</dcterms:modified>
  <cp:revision>5</cp:revision>
  <dc:subject/>
  <dc:title>PUC Directed Char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