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D321-D68B-4726-A75C-2311B130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92F5-4ED8-4B46-9FE4-AB9DA109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5951-DA0B-483C-B98D-A74C5AD9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C09C-B914-4CE3-8E02-AB5ECA1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97BB-B6C5-4587-A245-A157EB5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68F2-40E8-42B7-8B2C-84EEFF9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5A46-C925-4010-89F9-C8474AF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60FC-BC34-4FCA-8A7E-9F213D8A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07BA-BC72-437B-80D6-EBD2835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6A15-569D-4D63-9228-3A34688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30A3-B35B-4407-8419-F032088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5C91-22D0-4E4E-A626-270E1B0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5BC-AF29-4807-82AA-8242094C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posed Change to Methodology regarding Regulation Servic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5/10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s the Regulation Up and Down requirements into blocks of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average and standard deviation of deployed Regulation Up and Down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evious month and same month of the previou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settlement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90CD-2048-420B-A094-9B10F66B1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the requirement to Block Hours for procurement of Regulation Up and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98.8 percentile of deployed Regulation Up and Down in the previous month and same month of the previous year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a back-cast requirement that allows ERCOT to adjust when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3CB-F152-4776-9094-66C66AA5BE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storical Regulation Procur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7280" y="944640"/>
            <a:ext cx="797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B5FD-5898-4F68-A80F-FA9713401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98.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method using the same historical data with no grouping among hours appears to produce results that are more efficient and closer to the reliability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ing the back-cast in a feedback loop will allow ERCOT to adjust if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C8F5-E304-4EFE-97B4-3DCB24C92F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08T22:57:17Z</dcterms:modified>
  <cp:revision>40</cp:revision>
  <dc:subject/>
  <dc:title>Instructions</dc:title>
</cp:coreProperties>
</file>