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53EBA-ADF7-4C9C-BEE6-4D130E912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F040D-7F3D-47E3-A1D3-D474A787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2DAEB-9E29-4AC9-9432-BE6015B7A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8D495-B80B-4809-912D-E4C25610B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D693B-2033-4DF6-9E0F-EA105CD8C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C595E-103A-4FC0-9905-303C5AF57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2C652-B4CD-4C10-A727-DF11FB449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7AD59-BE3E-437F-886D-BC812B2E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97614-33D5-40B0-8C93-5C056B30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CA46-C6D5-4C75-85A2-98EEB0CF3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E8D38-156C-4BCB-B0F1-C837C680F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E74AE-5D57-4C3F-A5B4-19B9FE1D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24C78-2FF0-4C60-8F7B-AA9CCA450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F8A17-A7D9-402D-A2E8-99EC15F2C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1AA95-82B7-49D0-8044-204EEC6DF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7C2CC-CEB2-48EA-8955-EA6E4C33D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249DE-BD10-473A-B6DC-96292943D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B00E-CE45-4042-B0A5-11173C05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C560F-2B3F-499E-954C-7E51EDA7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EA01-387B-470C-A291-5F32401E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979B-6955-473F-B16F-6172CB2E4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CFD1-848D-4A5B-984C-9681A41A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9397-43A0-4FAB-8109-3E501B79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30C4-9FDE-455B-97E9-168D41922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DBAC-FF41-43FB-AD71-74A4BCB672A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F2A6-2A78-4DF3-B926-9FC03BD13AE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85440"/>
            <a:ext cx="82296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999900"/>
                </a:solidFill>
                <a:latin typeface="Garamond"/>
              </a:rPr>
              <a:t>DC Tie Reservation and Scheduling with Mexico</a:t>
            </a:r>
            <a:endParaRPr b="0" lang="en-US" sz="5900" spc="-1" strike="noStrike">
              <a:solidFill>
                <a:srgbClr val="999900"/>
              </a:solidFill>
              <a:latin typeface="Garamond"/>
            </a:endParaRPr>
          </a:p>
        </p:txBody>
      </p:sp>
      <p:sp>
        <p:nvSpPr>
          <p:cNvPr id="91" name="PlaceHolder 2"/>
          <p:cNvSpPr>
            <a:spLocks noGrp="1"/>
          </p:cNvSpPr>
          <p:nvPr>
            <p:ph type="subTitle"/>
          </p:nvPr>
        </p:nvSpPr>
        <p:spPr>
          <a:xfrm>
            <a:off x="1371600" y="3269880"/>
            <a:ext cx="6400800" cy="244476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ms Siddiqi</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resenting Sharyland Utilities</a:t>
            </a:r>
            <a:endParaRPr b="0" lang="en-US" sz="26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Verdana"/>
              </a:rPr>
              <a:t>Email: </a:t>
            </a:r>
            <a:r>
              <a:rPr b="0" lang="en-US" sz="2000" spc="-1" strike="noStrike" u="sng">
                <a:solidFill>
                  <a:srgbClr val="99cc00"/>
                </a:solidFill>
                <a:uFillTx/>
                <a:latin typeface="Verdana"/>
              </a:rPr>
              <a:t>shams@crescentpower.net</a:t>
            </a:r>
            <a:endParaRPr b="0" lang="en-US" sz="20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MS Meeting</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15, 2007</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urpose of Presentation</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presentation is to inform you abou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w Sharyland DC Tie between ERCOT and CFE (Mexico)</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ervation and Scheduling processes for the CFE-ERCOT DC Ti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maining items before the Sharyland DC Tie can be used for commercial transactions</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no decisions needed from the WMS on this pres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1F0C1BE-DE54-4E33-AE57-4330DFDD3058}" type="slidenum">
              <a:t>2</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verview of Sharyland DC Tie</a:t>
            </a:r>
            <a:endParaRPr b="0" lang="en-US" sz="4400" spc="-1" strike="noStrike">
              <a:solidFill>
                <a:srgbClr val="999900"/>
              </a:solidFill>
              <a:latin typeface="Garamond"/>
            </a:endParaRPr>
          </a:p>
        </p:txBody>
      </p:sp>
      <p:sp>
        <p:nvSpPr>
          <p:cNvPr id="95"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CT Order approving CCN for Sharyland Utilities’ DC Tie issued on 4/19/05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0 MW back-to-back HVDC converter station: convert 138 kV AC to DC and then convert DC to 138 kV AC power</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large scale open-access asynchronous interconnection suitable for commercial purposes between ERCOT and CFE (Mexico)</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ed at SU’s Railroad Substation near McAllen, Texa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start capabl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d to be online by September 2007</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24E1CE8-8586-4029-9B8A-04CDCF77B71B}" type="slidenum">
              <a:t>3</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4CD68FC3-52FF-4809-9391-AF62311A4309}" type="slidenum">
              <a:t>4</a:t>
            </a:fld>
          </a:p>
        </p:txBody>
      </p:sp>
      <p:sp>
        <p:nvSpPr>
          <p:cNvPr id="3" name="PlaceHolder 2"/>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DC Tie Reservation &amp; Scheduling</a:t>
            </a:r>
            <a:endParaRPr b="0" lang="en-US" sz="44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 reservation &amp; scheduling processes for all DC Ties are the simil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servation required on ERCOT sid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ation with either SPP or CF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SEs scheduling across any DC Tie must submit NERC eTags and Balanced Schedules (DC Tie Schedules in Nodal) with ERCOT identifying the DC Tie as Supply or Obligation</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FAE33E5-A2EE-4831-A55A-6D19C34F0E9C}" type="slidenum">
              <a:t>5</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FE-ERCOT DC Tie Reservation</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ation requests must be made to CFE for service into or out of Mexico, incl. service across CFE-ERCOT DC Ties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FE is a vertically integrated government-owned utility that allows third party wheeling through its transmission system</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FE does not operate an OASIS – reservations must be contracted for with CFE, and, if transacting with a party other than CFE in Mexico, wheeling agreements with CFE may be needed</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lly, only firm transactions will be allowed (i.e. “non-firm” capacity based on counter-flows will not be offer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BF011CB-BFE6-427E-9F34-DDA0F35FF440}" type="slidenum">
              <a:t>6</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FE-ERCOT DC Tie Scheduling</a:t>
            </a: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wanting to scheduling across any DC Tie must be registered as a Purchasing-Selling Entity (PSE) for NERC Tagging and vice versa</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SE will create a NERC Tag and submit it with CFE and ERCOT as the source/sink Control Areas</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FE will validate the tag and check that a reservation exists before approving the tag</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roved tag will be available to the parties to the transaction and ERCOT as the sink/source control area</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ERCOT, the QSE submits a Balanced Schedule (or DC Tie Schedule in Nodal) with the DC Tie indicated as a Resource or Obligation: Resource/Obligation schedules are aggregated per QSE, per Congestion Management (CM) zone, and per ERCOT 15-minute scheduling intervals</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TSPs may charge for TCOS for any expor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E3D4FF5-C470-4775-B3BF-D02F5E348B3A}" type="slidenum">
              <a:t>7</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FE-ERCOT DC Tie Scheduling</a:t>
            </a: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FE coordinates approval of the transaction if Available Transfer Capability (ATC) is available in Mexico and across the DC Tie, and works with ERCOT to coordinate ATC calculations for the DC Tie</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may approve the NERC Tag if the tag complies with the ERCOT scheduling requirements and if the tag complies with NERC Tag procedures</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Day-Ahead, ERCOT verifies that the Resource/Obligation schedules submitted by a QSE match the interconnected non-ERCOT Control Area schedules generated from the NERC tags, including the DC-Tie operator’s schedule(s), and the sending/receiving control area’s schedule(s) on the opposite end of the DC Tie</a:t>
            </a:r>
            <a:endParaRPr b="0" lang="en-US" sz="2000" spc="-1" strike="noStrike">
              <a:solidFill>
                <a:srgbClr val="000000"/>
              </a:solidFill>
              <a:latin typeface="Verdana"/>
            </a:endParaRPr>
          </a:p>
          <a:p>
            <a:pPr marL="457200" indent="-45720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C Tie operator follows the NERC Tag energy profile when setting flows across the DC Tie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D2BB632-CA55-4D86-B68E-2F7D3E95D1B4}" type="slidenum">
              <a:t>8</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maining Items</a:t>
            </a:r>
            <a:endParaRPr b="0" lang="en-US" sz="44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need for a FERC order</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FE needs to develop procedures and systems for DC Tie reservations and become a NERC Tag-approving Control Area</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COT DC Tie Operating Manual as well as systems need to be updated to include the new DC Ties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of all construction and testing of the Sharyland DC Tie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ABC8CCB-7BC0-442F-89E8-7029B69D399D}" type="slidenum">
              <a:t>9</a:t>
            </a:fld>
          </a:p>
        </p:txBody>
      </p:sp>
      <p:sp>
        <p:nvSpPr>
          <p:cNvPr id="5" name="PlaceHolder 4"/>
          <p:cNvSpPr>
            <a:spLocks noGrp="1"/>
          </p:cNvSpPr>
          <p:nvPr>
            <p:ph type="dt" idx="1"/>
          </p:nvPr>
        </p:nvSpPr>
        <p:spPr/>
        <p:txBody>
          <a:bodyPr/>
          <a:p>
            <a:r>
              <a:rPr lang="en-US"/>
              <a:t>May 15.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02:34:21Z</dcterms:created>
  <dc:creator>Shams Siddiqi</dc:creator>
  <dc:description/>
  <dc:language>en-US</dc:language>
  <cp:lastModifiedBy>Shams Siddiqi</cp:lastModifiedBy>
  <dcterms:modified xsi:type="dcterms:W3CDTF">2007-05-14T21:53:49Z</dcterms:modified>
  <cp:revision>10</cp:revision>
  <dc:subject/>
  <dc:title>DC Tie Reservation &amp; Scheduling with Mexico</dc:title>
</cp:coreProperties>
</file>