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5FB3-0AC0-45F5-A117-DDB56CC1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B5C-BFAC-4AE3-B9C4-C06792EB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14F7-8D39-45D3-AF65-60ABADA9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68DE-CBAA-44B5-B568-20E8ED67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D721-E925-4DB7-BD98-9226A959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F782-767C-4CC1-A95E-5B48904B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77FA-40B2-429B-8584-A4D91CE8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B7F7-0346-4A09-9A96-D947BBC5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BCA2-8953-450C-8B2E-6A76FE4F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459-2ACC-44A9-92A2-03656433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1D95-9F89-459D-A4C3-246D727B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923-FFEA-407A-950C-7B150DDA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256000" y="6458040"/>
            <a:ext cx="350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1142640" y="6400800"/>
            <a:ext cx="39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4680000" y="638136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685B-7746-4BD2-AFEA-8413026F8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4372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56944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3360" y="1904760"/>
            <a:ext cx="6219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ind Impact/Integration Analysis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3372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arren Lashe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gional Plan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holesale Market Subcommittee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a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60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ackground – ERCOT Wind Capacit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92000" y="836280"/>
            <a:ext cx="54723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currently has ~2,981 MW of wind capacity onli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~1,605 MW additional wind capacity that will be on-line by summer 2008 (executed interconnection agreements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 = 4,586 M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,586 MW is ~7.1% of 2008 peak demand forecast for ERCOT (64,318 M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has contracted with GE International to provide an analysis of ancillary services requirements associated with additional interconnected wi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6000" y="836640"/>
            <a:ext cx="2557440" cy="1917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87280" y="2997360"/>
            <a:ext cx="2003760" cy="300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olesale Market Subcommittee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596-AC6C-4FCC-8756-D0EDE4AA627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ind Impact Study Goal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9280" y="873000"/>
            <a:ext cx="7416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changes to the methodology for assessing the level of required ancillary services (regulation, responsive, balancing, replacement and non-spinning reserv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 the amount of each ancillary service required for specific wind scenari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changes to current procedures or new procedures for operations with impending severe weather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506920" y="4433760"/>
            <a:ext cx="3637080" cy="24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olesale Market Subcommittee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C651-7C02-4323-9AED-543152E023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udy Methodolog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640" y="1160280"/>
            <a:ext cx="756144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1:  Variability and Predictability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Provide fundamental understanding of the impact of wind variability and predic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ative analysis of the hourly sum of wind generation and load (net lo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 load-wind coincidence and wind 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challenging operating peri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benchmark for net-load variability and predic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incremental impact of wind on existing uncertai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olesale Market Subcommittee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A99-3E80-4DEE-8670-85782693C8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udy Methodolog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99640" y="1125360"/>
            <a:ext cx="7201080" cy="47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2:  Ancillary Service Evalu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Ancillary Services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Amount and Cost of Increased Ancillar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ulate ERCOT A/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wind scenarios, determine A/S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e between normal operations and extreme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impacts of extreme weather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olesale Market Subcommittee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DEAE-9AE8-4AD0-BDE0-311BAAADEC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ind Level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63640" y="907920"/>
            <a:ext cx="7346880" cy="16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scope includes evaluation of specific wind scenari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 levels and locations have not yet been determin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lationship between ancillary service requirements and increasing wind capacity is likely to be non-line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63640" y="2168640"/>
            <a:ext cx="63723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propos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,000 MW wi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7.7% of Peak 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x 10,000 MW wi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5.5% of Peak 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,000 MW wi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3.3% of Peak 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scenarios would be evaluated with 2008 l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olesale Market Subcommittee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D24-3225-45DC-98DD-6B2803F1B5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udy Deliverabl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640" y="907560"/>
            <a:ext cx="7238880" cy="45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al analysis of the variability of wind resources and system lo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 of the accuracy of day-ahead wind and load forecasts and the impact on unit commitmen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 of the adequacy of ramp-rates of generation units expected to be on-line during different seasons for the three scenari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aluation of specific changes required to the current ERCOT methodology for determining the adequate levels of regulation, non-spin, and balancing energy ser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aluation of the additional system costs of maintaining adequate ancillary services for the selected scenari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detailed report documenting the methodology and results of this stud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ings due October 31, 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olesale Market Subcommittee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42B2-860E-4F81-ADC9-E4C0B1C254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cillary Services Ad Hoc Task For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000" y="907560"/>
            <a:ext cx="78850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ROS Task Force has been formed to review the scope and results of this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teleconference this week to review proposed scenarios and anticipated scope of 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updates will be presented at future ROS and WMS meet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comments to ROS or WMS list or to wlasher@erco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16360" y="3851280"/>
            <a:ext cx="3706920" cy="253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olesale Market Subcommittee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8685-574A-4C38-86B8-6B00FE8358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27280" y="130500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Questions or Com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448000" y="2276640"/>
            <a:ext cx="4032000" cy="442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olesale Market Subcommittee 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01E3-4A4E-4CFD-BEBF-17B9012AB9C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y 15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Warren Lasher</cp:lastModifiedBy>
  <dcterms:modified xsi:type="dcterms:W3CDTF">2007-05-14T20:04:13Z</dcterms:modified>
  <cp:revision>126</cp:revision>
  <dc:subject/>
  <dc:title>Instructions</dc:title>
</cp:coreProperties>
</file>