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6D58A-5D36-4DCD-93F4-7681FE580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E5069-CD85-46FF-BD31-0A18DB14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BC877-358C-4576-984A-93081893C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581BC-6283-4DEB-8124-ED300F0A6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A7D01-641D-4644-89F7-5216FABF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0DCE1-D9CE-4D73-8C3C-D7C48BA2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19A46-8585-4565-9452-41484BDE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4261A-4EAE-4249-9894-930620B1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40400-7B87-4B73-8D1F-4360CA0D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7281E-EAD7-43E6-A0BA-ADAF8616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2EB08-7C7E-42AB-B2B0-8F7AD59C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11E6E-AA3E-4B76-B743-64241784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1452-3E75-463E-AFB5-1D7251405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723920" y="6458040"/>
            <a:ext cx="4038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37124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3152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46008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placement Reserve Non-Spin  Flag Code Implementat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OS 5/10/20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on-Spin Units in Replacement Prior to Code Implement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s that QSEs planned to set aside to meet their Non-Spin Obligation were procured by Replacement in some c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Some of these cases, during deployment of Non-Spin, QSEs have asked ERCOT to relieve them of their Non-Spin Obligation per protocol 6.6.4 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Spin Obligation was not part of the Capacity Requirements in the Replacement Reserve Stud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ment Reserve would ensure that ERCOT could meet the Load Forecast Demand, Regulation Up &amp; Responsive Reserve but did not include the Non-Spin capacity oblig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Spin Obligation can be met by on-line or off-line un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could not determine the percent of Non-Spin capacity that QSEs were providing from off-line un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5890F-F602-49D2-890B-E1767AB640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fter Code Implement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-line Non-Spin units that could be started in 30 minutes or less and had their Non-Spin flag checked, were shown online in the Replacement Stud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on-Spin Capacity Obligation was added to the System Capacity Oblig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lacement Reserve could utilize the Non-Spin units to solve congestion in the stud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in Philosoph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ors had to deploy the Non-Spin resources in real-time  per protocol 6.7.4 paragraph 2, in order to solve local congestion in some area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ments of Non-Spin to manage congestion occurred on May 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amp; May 9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ly a manual workaround process with no procedure in place to manage congestion in this m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4EEE5-88A1-43F9-AE52-AB2D8EE4D9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-Run of May 7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 Black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Operating Da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ay 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perating day was re-run in study mode to determine how the procurements would have changed without the Non-Spin units shown onl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Gas turbine was started for hours 19 – 23 &amp; One Gas turbine was started for hours 19 – 23.  Each unit was started for local congestion and had been shown online in the original Replacement Stu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 Gas turbines were started for hours 12 – 17 to satisfy power balance and these units had been shown online in the original Replacement Stu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B13A7-C0DD-4220-9F35-44B12C3EF5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code change was backed out for the May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perating 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tion 1 – Place code back in service and update the procedures to manually deploy (can not be automated) Non-Spin for local congestion.  Not a valid option for the following 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’t implement PRR 650 price corrections with manual deployments of Non-Sp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E error will result from the manual deployment of Non-Spin which may be difficult for the operators to properly track and execute balancing instru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ld cause URC and compliance tracking iss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tion 2 – Keep the original design that doesn’t utilize the Non-Spin fla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 procure the Non-Spin Units in the Day-Ahea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n’t ensure that the Non-Spin Obligation is covered in the Day-Ahead RPRS stu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tion 3 – Place code back in service and OOMC the units in real-time for local congestion as necessary.  Preferred o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ensure that the Non-Spin Obligation is covered in the Day-Ahead RPRS stu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 manual procure the Non-Spin Units in the adjustment period if needed to resolve local conges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ECE8B-9FBB-4B24-BE30-1FC30E265D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jdumas</cp:lastModifiedBy>
  <cp:lastPrinted>2007-05-03T20:39:06Z</cp:lastPrinted>
  <dcterms:modified xsi:type="dcterms:W3CDTF">2007-05-14T20:54:58Z</dcterms:modified>
  <cp:revision>46</cp:revision>
  <dc:subject/>
  <dc:title>Instructions</dc:title>
</cp:coreProperties>
</file>