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5118-15DC-4C6E-8417-425932259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omac Economics recommended that Local RPRS deployments should be settled identical to O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5351-BBB3-48A4-8A33-42114430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4799-955D-4ED6-943C-A11861B5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964E-C966-4F4E-9A6E-BF8233AD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84E1-C2E5-44B7-98F4-1FC722CC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2B6B-F7BE-43F4-816F-F19DD04E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A399-4DFF-4311-9968-65E49F74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CE55-C228-46D5-A716-FE89FEFE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4D44-D45C-425A-981C-0E358076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F9C0-D15B-4F68-AFCA-9B83B126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FC22-D9E2-4FF2-900D-2877906C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55E0-A7BB-47EB-A23C-F25ADC36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CA7C-8E63-48BE-AFB2-DC283618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B23C-A6BB-4BF2-831F-A235CD92C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cal Congestion Replacement Reserve Payment Methodology PRR 7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7720" y="35053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15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S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5943600"/>
            <a:ext cx="4876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o Gonzal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C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ad, Settlements and Bi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cit discussion on the treatment of OOMC versus RPRS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de what to do with PRR 7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History of PRR7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01/19/07, WMS voted to recommend Appro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3/22/07, PRS voted to recommend approval of PRR712 as amended by ERCOT, Constellation, and P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4/20/07, PRS voted to recommend approval of PRR712 as revised by comments submitted by Reliant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5/4/07, TAC voted to remand PRR712 to PRS to consider the profit potential on the Settlement of OOMC and other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mments by TAC Me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(0,..) added by Reliant in the wrong  pla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s increase cost to the market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ettlement Exampl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685800" y="914400"/>
            <a:ext cx="7923960" cy="1296360"/>
            <a:chOff x="685800" y="914400"/>
            <a:chExt cx="7923960" cy="1296360"/>
          </a:xfrm>
        </p:grpSpPr>
        <p:grpSp>
          <p:nvGrpSpPr>
            <p:cNvPr id="59" name=""/>
            <p:cNvGrpSpPr/>
            <p:nvPr/>
          </p:nvGrpSpPr>
          <p:grpSpPr>
            <a:xfrm>
              <a:off x="685800" y="914400"/>
              <a:ext cx="3961800" cy="712800"/>
              <a:chOff x="685800" y="914400"/>
              <a:chExt cx="3961800" cy="712800"/>
            </a:xfrm>
          </p:grpSpPr>
          <p:sp>
            <p:nvSpPr>
              <p:cNvPr id="60" name=""/>
              <p:cNvSpPr/>
              <p:nvPr/>
            </p:nvSpPr>
            <p:spPr>
              <a:xfrm>
                <a:off x="777600" y="914400"/>
                <a:ext cx="3777840" cy="71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Resourc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85800" y="914400"/>
                <a:ext cx="3961800" cy="712800"/>
              </a:xfrm>
              <a:prstGeom prst="rect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4647960" y="914400"/>
              <a:ext cx="3961800" cy="712800"/>
              <a:chOff x="4647960" y="914400"/>
              <a:chExt cx="3961800" cy="712800"/>
            </a:xfrm>
          </p:grpSpPr>
          <p:sp>
            <p:nvSpPr>
              <p:cNvPr id="63" name=""/>
              <p:cNvSpPr/>
              <p:nvPr/>
            </p:nvSpPr>
            <p:spPr>
              <a:xfrm>
                <a:off x="4739400" y="914400"/>
                <a:ext cx="3778560" cy="71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Obliga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647960" y="914400"/>
                <a:ext cx="3961800" cy="712800"/>
              </a:xfrm>
              <a:prstGeom prst="rect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685800" y="1627560"/>
              <a:ext cx="3961800" cy="583200"/>
              <a:chOff x="685800" y="1627560"/>
              <a:chExt cx="3961800" cy="583200"/>
            </a:xfrm>
          </p:grpSpPr>
          <p:sp>
            <p:nvSpPr>
              <p:cNvPr id="66" name=""/>
              <p:cNvSpPr/>
              <p:nvPr/>
            </p:nvSpPr>
            <p:spPr>
              <a:xfrm>
                <a:off x="777600" y="1627560"/>
                <a:ext cx="3777840" cy="58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100 Day-Ahead schedu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85800" y="1627560"/>
                <a:ext cx="3961800" cy="583200"/>
              </a:xfrm>
              <a:prstGeom prst="rect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4647960" y="1627560"/>
              <a:ext cx="3961800" cy="583200"/>
              <a:chOff x="4647960" y="1627560"/>
              <a:chExt cx="3961800" cy="583200"/>
            </a:xfrm>
          </p:grpSpPr>
          <p:sp>
            <p:nvSpPr>
              <p:cNvPr id="69" name=""/>
              <p:cNvSpPr/>
              <p:nvPr/>
            </p:nvSpPr>
            <p:spPr>
              <a:xfrm>
                <a:off x="4739400" y="1627560"/>
                <a:ext cx="3778560" cy="58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100 Day-Ahead schedu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647960" y="1627560"/>
                <a:ext cx="3961800" cy="583200"/>
              </a:xfrm>
              <a:prstGeom prst="rect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228600" y="274320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With OOMC Deployment – 25MWh (LS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09480" y="3276720"/>
            <a:ext cx="8076600" cy="1098000"/>
            <a:chOff x="609480" y="3276720"/>
            <a:chExt cx="8076600" cy="1098000"/>
          </a:xfrm>
        </p:grpSpPr>
        <p:grpSp>
          <p:nvGrpSpPr>
            <p:cNvPr id="73" name=""/>
            <p:cNvGrpSpPr/>
            <p:nvPr/>
          </p:nvGrpSpPr>
          <p:grpSpPr>
            <a:xfrm>
              <a:off x="609480" y="3276720"/>
              <a:ext cx="4038120" cy="549000"/>
              <a:chOff x="609480" y="3276720"/>
              <a:chExt cx="4038120" cy="549000"/>
            </a:xfrm>
          </p:grpSpPr>
          <p:sp>
            <p:nvSpPr>
              <p:cNvPr id="74" name=""/>
              <p:cNvSpPr/>
              <p:nvPr/>
            </p:nvSpPr>
            <p:spPr>
              <a:xfrm>
                <a:off x="703080" y="3276720"/>
                <a:ext cx="38509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Resourc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09480" y="3276720"/>
                <a:ext cx="4038120" cy="549000"/>
              </a:xfrm>
              <a:prstGeom prst="rect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4647960" y="3276720"/>
              <a:ext cx="4038120" cy="549000"/>
              <a:chOff x="4647960" y="3276720"/>
              <a:chExt cx="4038120" cy="549000"/>
            </a:xfrm>
          </p:grpSpPr>
          <p:sp>
            <p:nvSpPr>
              <p:cNvPr id="77" name=""/>
              <p:cNvSpPr/>
              <p:nvPr/>
            </p:nvSpPr>
            <p:spPr>
              <a:xfrm>
                <a:off x="4740840" y="3276720"/>
                <a:ext cx="38512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Obliga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647960" y="3276720"/>
                <a:ext cx="4038120" cy="549000"/>
              </a:xfrm>
              <a:prstGeom prst="rect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609480" y="3825720"/>
              <a:ext cx="4038120" cy="549000"/>
              <a:chOff x="609480" y="3825720"/>
              <a:chExt cx="4038120" cy="549000"/>
            </a:xfrm>
          </p:grpSpPr>
          <p:sp>
            <p:nvSpPr>
              <p:cNvPr id="80" name=""/>
              <p:cNvSpPr/>
              <p:nvPr/>
            </p:nvSpPr>
            <p:spPr>
              <a:xfrm>
                <a:off x="703080" y="3825720"/>
                <a:ext cx="38509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100 + 25 (same zone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9480" y="3825720"/>
                <a:ext cx="4038120" cy="549000"/>
              </a:xfrm>
              <a:prstGeom prst="rect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4647960" y="3825720"/>
              <a:ext cx="4038120" cy="549000"/>
              <a:chOff x="4647960" y="3825720"/>
              <a:chExt cx="4038120" cy="549000"/>
            </a:xfrm>
          </p:grpSpPr>
          <p:sp>
            <p:nvSpPr>
              <p:cNvPr id="83" name=""/>
              <p:cNvSpPr/>
              <p:nvPr/>
            </p:nvSpPr>
            <p:spPr>
              <a:xfrm>
                <a:off x="4740840" y="3825720"/>
                <a:ext cx="38512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100 + 25 (same zone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647960" y="3825720"/>
                <a:ext cx="4038120" cy="549000"/>
              </a:xfrm>
              <a:prstGeom prst="rect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685800" y="5334120"/>
            <a:ext cx="8076600" cy="1098000"/>
            <a:chOff x="685800" y="5334120"/>
            <a:chExt cx="8076600" cy="1098000"/>
          </a:xfrm>
        </p:grpSpPr>
        <p:grpSp>
          <p:nvGrpSpPr>
            <p:cNvPr id="86" name=""/>
            <p:cNvGrpSpPr/>
            <p:nvPr/>
          </p:nvGrpSpPr>
          <p:grpSpPr>
            <a:xfrm>
              <a:off x="685800" y="5334120"/>
              <a:ext cx="4038120" cy="549000"/>
              <a:chOff x="685800" y="5334120"/>
              <a:chExt cx="4038120" cy="549000"/>
            </a:xfrm>
          </p:grpSpPr>
          <p:sp>
            <p:nvSpPr>
              <p:cNvPr id="87" name=""/>
              <p:cNvSpPr/>
              <p:nvPr/>
            </p:nvSpPr>
            <p:spPr>
              <a:xfrm>
                <a:off x="779400" y="5334120"/>
                <a:ext cx="38509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Resourc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85800" y="5334120"/>
                <a:ext cx="4038120" cy="549000"/>
              </a:xfrm>
              <a:prstGeom prst="rect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724280" y="5334120"/>
              <a:ext cx="4038120" cy="549000"/>
              <a:chOff x="4724280" y="5334120"/>
              <a:chExt cx="4038120" cy="549000"/>
            </a:xfrm>
          </p:grpSpPr>
          <p:sp>
            <p:nvSpPr>
              <p:cNvPr id="90" name=""/>
              <p:cNvSpPr/>
              <p:nvPr/>
            </p:nvSpPr>
            <p:spPr>
              <a:xfrm>
                <a:off x="4817160" y="5334120"/>
                <a:ext cx="38512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Obliga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724280" y="5334120"/>
                <a:ext cx="4038120" cy="549000"/>
              </a:xfrm>
              <a:prstGeom prst="rect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685800" y="5883120"/>
              <a:ext cx="4038120" cy="549000"/>
              <a:chOff x="685800" y="5883120"/>
              <a:chExt cx="4038120" cy="549000"/>
            </a:xfrm>
          </p:grpSpPr>
          <p:sp>
            <p:nvSpPr>
              <p:cNvPr id="93" name=""/>
              <p:cNvSpPr/>
              <p:nvPr/>
            </p:nvSpPr>
            <p:spPr>
              <a:xfrm>
                <a:off x="779400" y="5883120"/>
                <a:ext cx="38509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125 -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GSITETO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85800" y="5883120"/>
                <a:ext cx="4038120" cy="549000"/>
              </a:xfrm>
              <a:prstGeom prst="rect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724280" y="5883120"/>
              <a:ext cx="4038120" cy="549000"/>
              <a:chOff x="4724280" y="5883120"/>
              <a:chExt cx="4038120" cy="549000"/>
            </a:xfrm>
          </p:grpSpPr>
          <p:sp>
            <p:nvSpPr>
              <p:cNvPr id="96" name=""/>
              <p:cNvSpPr/>
              <p:nvPr/>
            </p:nvSpPr>
            <p:spPr>
              <a:xfrm>
                <a:off x="4817160" y="5883120"/>
                <a:ext cx="38512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  <a:ea typeface="Times New Roman"/>
                  </a:rPr>
                  <a:t>100 -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TAML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724280" y="5883120"/>
                <a:ext cx="4038120" cy="549000"/>
              </a:xfrm>
              <a:prstGeom prst="rect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" name=""/>
          <p:cNvSpPr/>
          <p:nvPr/>
        </p:nvSpPr>
        <p:spPr>
          <a:xfrm>
            <a:off x="380880" y="480060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Real Time Results – 1 h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xample Continu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80880" y="1295280"/>
          <a:ext cx="8305920" cy="1040040"/>
        </p:xfrm>
        <a:graphic>
          <a:graphicData uri="http://schemas.openxmlformats.org/drawingml/2006/table">
            <a:tbl>
              <a:tblPr/>
              <a:tblGrid>
                <a:gridCol w="2820960"/>
                <a:gridCol w="2741760"/>
                <a:gridCol w="274320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C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rtup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CGS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eneric Fue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CGM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$1,000 MW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$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$40 MW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80880" y="76212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Sett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2819520"/>
          <a:ext cx="8305920" cy="2643120"/>
        </p:xfrm>
        <a:graphic>
          <a:graphicData uri="http://schemas.openxmlformats.org/drawingml/2006/table">
            <a:tbl>
              <a:tblPr/>
              <a:tblGrid>
                <a:gridCol w="2114640"/>
                <a:gridCol w="2144520"/>
                <a:gridCol w="2149560"/>
                <a:gridCol w="1897200"/>
              </a:tblGrid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ay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tartup 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(payment/char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Generic Fue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(payment/char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SE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(payment/char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OMC- Cur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$10,000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$96,000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entury Gothic"/>
                          <a:ea typeface="Times New Roman"/>
                        </a:rPr>
                        <a:t>$86,000 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OMC – PRR7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(WMS approv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$10,000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$96,000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entury Gothic"/>
                          <a:ea typeface="Times New Roman"/>
                        </a:rPr>
                        <a:t>$86,000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OMC – PRR7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(PRS approv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$10,000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entury Gothic"/>
                          <a:ea typeface="Times New Roman"/>
                        </a:rPr>
                        <a:t>$10,000 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P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$10,000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$96,000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entury Gothic"/>
                          <a:ea typeface="Times New Roman"/>
                        </a:rPr>
                        <a:t>$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443160" y="6056280"/>
            <a:ext cx="14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 =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 =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4840" y="5715000"/>
            <a:ext cx="29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(1) Assuming no claw-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xample Continu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3160" y="6056280"/>
            <a:ext cx="14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 =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 =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1600200"/>
          <a:ext cx="8610480" cy="4267080"/>
        </p:xfrm>
        <a:graphic>
          <a:graphicData uri="http://schemas.openxmlformats.org/drawingml/2006/table">
            <a:tbl>
              <a:tblPr/>
              <a:tblGrid>
                <a:gridCol w="1787400"/>
                <a:gridCol w="1879560"/>
                <a:gridCol w="1913040"/>
                <a:gridCol w="1428840"/>
                <a:gridCol w="160164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t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(payment/char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SE capa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(payment/char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ettl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har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ar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OMC-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ur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$100,000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$86,000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$14,000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entury Gothic"/>
                          <a:ea typeface="Times New Roman"/>
                        </a:rPr>
                        <a:t>$14,000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OMC –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R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(WMS approv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$100,000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$86,000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$14,000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Century Gothic"/>
                          <a:ea typeface="Times New Roman"/>
                        </a:rPr>
                        <a:t>$14,000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OMC –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R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(PRS approv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$100,000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$10,000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$110,000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entury Gothic"/>
                          <a:ea typeface="Times New Roman"/>
                        </a:rPr>
                        <a:t>$110,000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P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$100,000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$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$100,000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cc"/>
                          </a:solidFill>
                          <a:latin typeface="Century Gothic"/>
                          <a:ea typeface="Times New Roman"/>
                        </a:rPr>
                        <a:t>$100,000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0000"/>
                      </a:solidFill>
                    </a:lnL>
                    <a:lnR w="720">
                      <a:solidFill>
                        <a:srgbClr val="ff0000"/>
                      </a:solidFill>
                    </a:lnR>
                    <a:lnT w="720">
                      <a:solidFill>
                        <a:srgbClr val="ff0000"/>
                      </a:solidFill>
                    </a:lnT>
                    <a:lnB w="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ttlement of OOMC and RPRS Deplo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OMC Payment = PS (startup) + PO (operating fu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PRS Payment = Max(0, LPS + LP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RR 7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S =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Max [ 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(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CGSC – { ∑ (MCPE * MR) })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 ]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/ # of instructed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 =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Max[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∑ [(RCGMEC – MCPE) * MIN(LSL/4, MR) ]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] added by Reli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CGMEC = Resource Category Generic Minimum Energy C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CGSC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 Resource Category Generic Startup C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SL = Resource Low Sustainable Li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CPE = Balancing Energy Market Cleari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R = Actual Metered Output of the Re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3373560"/>
            <a:ext cx="1676520" cy="207720"/>
          </a:xfrm>
          <a:custGeom>
            <a:avLst/>
            <a:gdLst/>
            <a:ahLst/>
            <a:rect l="l" t="t" r="r" b="b"/>
            <a:pathLst>
              <a:path w="1205" h="156">
                <a:moveTo>
                  <a:pt x="0" y="147"/>
                </a:moveTo>
                <a:cubicBezTo>
                  <a:pt x="30" y="127"/>
                  <a:pt x="37" y="105"/>
                  <a:pt x="71" y="94"/>
                </a:cubicBezTo>
                <a:cubicBezTo>
                  <a:pt x="100" y="74"/>
                  <a:pt x="126" y="69"/>
                  <a:pt x="159" y="59"/>
                </a:cubicBezTo>
                <a:cubicBezTo>
                  <a:pt x="325" y="63"/>
                  <a:pt x="467" y="52"/>
                  <a:pt x="620" y="103"/>
                </a:cubicBezTo>
                <a:cubicBezTo>
                  <a:pt x="688" y="0"/>
                  <a:pt x="636" y="48"/>
                  <a:pt x="664" y="76"/>
                </a:cubicBezTo>
                <a:cubicBezTo>
                  <a:pt x="681" y="93"/>
                  <a:pt x="706" y="98"/>
                  <a:pt x="726" y="112"/>
                </a:cubicBezTo>
                <a:cubicBezTo>
                  <a:pt x="807" y="106"/>
                  <a:pt x="878" y="96"/>
                  <a:pt x="957" y="85"/>
                </a:cubicBezTo>
                <a:cubicBezTo>
                  <a:pt x="995" y="87"/>
                  <a:pt x="1205" y="56"/>
                  <a:pt x="1205" y="1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2971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w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286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pend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9T14:28:22Z</dcterms:created>
  <dc:creator>igonzalez</dc:creator>
  <dc:description/>
  <dc:language>en-US</dc:language>
  <cp:lastModifiedBy>igonzalez</cp:lastModifiedBy>
  <dcterms:modified xsi:type="dcterms:W3CDTF">2007-05-14T21:33:36Z</dcterms:modified>
  <cp:revision>57</cp:revision>
  <dc:subject/>
  <dc:title>OOMC and Local RPRS Settlement Alignment</dc:title>
</cp:coreProperties>
</file>