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2A6-1B44-4AE3-83AE-3FF59D61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FB1-06FC-42B1-9E79-123056C1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360-5215-41E7-95AD-57C76204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3DA-B822-4DD9-87CA-B4EA8B0F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6A-D2B6-4D1C-A5B5-81DD0AE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954-4C4F-4145-BABF-644A5B9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688-B4D6-423C-9D73-F6CCD6C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34F-5A20-454F-B32E-A5481AC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4BF-74EF-40BC-9C50-64E3691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1E6-2332-4BD9-B710-D6226FAA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B08-9C07-4250-8183-8D8FF44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FAE-56F7-4257-9CFF-31C1F3C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1DF0-B790-47EC-9B8B-306766A5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 for Uncontrollable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5867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d, Settlements and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n Uncontrollable Renewable Resource (URR) to elect to use its Renewable Production Potential (RPP) in lieu of its Resource Plan as the basis for URC and OOME down payments 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1 (m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ost of regulation based on Energy Ratio Share –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2 (system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uncontrollable renewable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y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on 02/17/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March 1, 2004 –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did not implemen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 Cart cancelled the projec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nformed PRS and COPS about the cance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DID NOT submit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0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2057400" y="2895480"/>
              <a:ext cx="19051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3124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submitted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6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1981080" y="4648320"/>
              <a:ext cx="457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4419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st to Process R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process RPP data=$4000/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clude opportunit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RCOT’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RCOT the option to not process R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RCOT does not process RPPs, then no URC will be levied on the Q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-Only QSEs need to submit RPPs to qualify under this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are required to submit accurate RPP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may at anytime audit the QSE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20:39:20Z</dcterms:created>
  <dc:creator>ERCOT Employee</dc:creator>
  <dc:description/>
  <dc:language>en-US</dc:language>
  <cp:lastModifiedBy>igonzalez</cp:lastModifiedBy>
  <dcterms:modified xsi:type="dcterms:W3CDTF">2007-05-11T19:44:31Z</dcterms:modified>
  <cp:revision>10</cp:revision>
  <dc:subject/>
  <dc:title>Slide 1</dc:title>
</cp:coreProperties>
</file>