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F40F-8F65-464B-99C5-C3B2C9E83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3E91-56D2-4938-AED7-3E4037923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1AE9-9F1F-40A4-AAB4-6F4C8A3C4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1EFD-79C0-4F50-B4D4-F716D9639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1C8-2920-44A1-8D67-E21DB58A8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9ED8-F463-41AD-B99E-F957BB4EB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F8F8-9FDC-437E-93D9-A3959E022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DAB2-2222-402E-AEA1-A7B66F859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B5BE-82F4-4202-8B1C-943BC57A1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E244-5CCB-4918-B547-5926C3DE9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3820-0160-4510-9702-BCE30B4B6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C51A-4555-4287-99C2-07718B74F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3B3-2F48-4036-8C70-9D4411404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7/05/20070511-CRB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17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295280"/>
            <a:ext cx="8610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2007 Report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Projec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 Project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 Boar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R Review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4FCF-6F51-4666-A0C7-91F4AF6677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ion to CART Budget Chang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 Project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 of activities (up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/Benefit Analysis Review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d process flow and CBA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dal Protocol Revision Requests Review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B86B-A93C-40E0-9D98-C785F8A319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as SET 3.0 gave up funds (&gt;$1M) upon gating to Execution in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 CART had an immediate need to fund facilities work that was seeking BoD approval that very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followed process by getting Strategic Review Team and Executive Committee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MS was disturbed by the abrupt nature of the funding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C asked RMS and ERCOT to discus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s of this discussion noted on next sli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A208-3839-4C15-9140-266C562915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7652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for Managing Changes in Project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CARTs have authority to make project budget changes &lt;$10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y must still manage within their allocated CART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00k go to the ERCOT Strategic Review Team (directors)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s bring forward proposals for reallocation of fu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500k go to the ERCOT Executive Committee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ppropriate DPO manager solicits input from impacted market subcommitt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ives act on SRT recommendation (affirm/reject/chan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Market input is included in Executive Committee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budget changes &gt;=$1M go to the ERCOT Board of Directors for review and appr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l ERCOT recommendation goes before the B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6120" indent="-266760">
              <a:spcBef>
                <a:spcPts val="4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Market input is included in Bo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09C5-2AB0-4C51-8D3C-976A200FE2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y of Process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ed step to solicit market subcommittee input on changes greater than $500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formation is gathered by the DPO manager who is giving up the fun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 input should be gathered at the next regularly scheduled market subcommittee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iming doesn’t allow this process to occur at a regularly scheduled subcommittee meeting, the DPO manager will contact the subcommittee chair to determine if eith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emergency subcommittee meeting is warranted… or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arket notice should be sent to gather input from market particip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 input will be included in the EC/BoD pac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0160" indent="-304920">
              <a:spcBef>
                <a:spcPts val="451"/>
              </a:spcBef>
              <a:buClr>
                <a:srgbClr val="008080"/>
              </a:buClr>
              <a:buFont typeface="Wingdings" charset="2"/>
              <a:buChar char=""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provides additional input for approving authorities to consi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0">
              <a:spcBef>
                <a:spcPts val="451"/>
              </a:spcBef>
              <a:buNone/>
              <a:tabLst>
                <a:tab algn="l" pos="257796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Managing Project Fun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52D8-CC88-440E-9CB6-CC431BC2F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 Project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- Development of 2008 CART PPLs and support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S – Scheduled 2 conference calls to discuss (5/21, 6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– Conducted an initial review of projects on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S – Will review initial SO list when post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June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June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June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June 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June 2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ly - Initial review at Finance &amp; Audit Committe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July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ust - Available for Board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0492-4783-4913-AC3E-9D657DFFCC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066680"/>
            <a:ext cx="88394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CART is proposing the following for 200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amount of funding to complete projects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new projects to be added (except emergency sit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projects not yet started on the list either cancelled or moved to the Parking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ft 2008 PPLs and other key documents will be posted to the following page on ERCOT.c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2690640"/>
                <a:tab algn="l" pos="2971800"/>
                <a:tab algn="l" pos="394812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rcot.com/services/comm/projects/pp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DD52-FBF9-4880-9C7A-3F9D8612E1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B Statu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held on 5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BAs to review this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calendar/2007/05/20070511-CRB.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BA Proces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y for PR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BA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ewed enhanced CBA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PRR672 (Retail Market Timing Necessary for PUCT Project 29637 – Phase 1) as a test case with the new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y for PRS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130D-8818-4CE0-A046-27DC14DF2D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R Review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339966"/>
              </a:buClr>
              <a:buFont typeface="Wingdings" charset="2"/>
              <a:buChar char=""/>
              <a:tabLst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llowing NPRRs have been confirmed to have no impact by the Nodal Change Control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NPRR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0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 1, Zonal PRR Synchronization &amp; ERCOT Staff Clarific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0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 5, Zonal PRR Synchronization &amp; ERCOT Staff Clar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07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 9, Zonal PRR Synchronization &amp; ERCOT Staff Clar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ynch. of PRR630 &amp; Sec 3, Mgmt Activities for ERCO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vision to Credit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 2, Zonal PRR Synchronization &amp; ERCOT Staff Clar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5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onal PRR Synchronization Section 22 Attachment 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7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continuation of Interest Charge for Defaulting Entities at Time of Upli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19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lack Start Testing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2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rrection to Formatting of Section 8.1.2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25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finition of Annual Plann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27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lock Offers in CRR A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28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RR Trading in Block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3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ition of CRR Account Holder Qualification Crit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38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ynchronization of PRR6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4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rrections to Sec 7, Congestion Revenue Righ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46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al-Time ICCP Communication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48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vised Wording of Opportunity Outages for Transmission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PRR05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rifications for HSL Values for WGRs &amp; WGR Values to be Used in the RUC Capacity Sh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tabLst>
                <a:tab algn="l" pos="0"/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ems that had been previously approved by PRS, TAC and the 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buClr>
                <a:srgbClr val="339966"/>
              </a:buClr>
              <a:buFont typeface="Wingdings" charset="2"/>
              <a:buChar char=""/>
              <a:tabLst>
                <a:tab algn="l" pos="1143000"/>
                <a:tab algn="l" pos="143352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ew process continues for remaining NP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640C-A15F-4343-8B48-2057354929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Troy Anderson</dc:creator>
  <dc:description/>
  <dc:language>en-US</dc:language>
  <cp:lastModifiedBy>Troy Anderson</cp:lastModifiedBy>
  <dcterms:modified xsi:type="dcterms:W3CDTF">2007-05-14T20:02:30Z</dcterms:modified>
  <cp:revision>303</cp:revision>
  <dc:subject/>
  <dc:title>Slide 1</dc:title>
</cp:coreProperties>
</file>