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3E12DE1-FF9E-446E-8069-AE100CC8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arrie Tucker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ursday, 05/10/2007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last update, TPTF convened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2-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3-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accomplish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Readiness &amp; Transition (IRT) Project – Approval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S-1 Approach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Registration Approach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NPRR, Clarification of the Standard Form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Systems (COMS) Project – Approval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NPRRs regarding credit and settleme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 Revenue Rights (CRR) Project – Approval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NPRR, Reconfiguring the Annual CRR A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Management System (MMS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age Scheduler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Data Warehouse (EDW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for Nodal Section 17, Market Monitoring and 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Model Management Systems (NMMS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 on Hub Cla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PRRs implementing PUC Rule 25.505; Removal of Pseudo-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onth, TPTF has met/will mee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1-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to discu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ERCOT Readiness and Transition (IRT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EDS 3 Detailed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f EDS 4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Data Warehouse (EDW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of integration, valu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and Design Authority (IDA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 Interfac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Management System (EMS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Power Forecasting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54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S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from MIS Project, MMS Project, Market 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whitepapers regarding Combined Cycle Units and Jointly-Owned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several NPR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Transmission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ng of Generic Transmission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ss and Net MW/Mvar Data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t Competitiveness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ronization of EECP Event Real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>ctucker</dc:creator>
  <dc:description/>
  <dc:language>en-US</dc:language>
  <cp:lastModifiedBy>ERCOT</cp:lastModifiedBy>
  <dcterms:modified xsi:type="dcterms:W3CDTF">2007-04-30T18:45:10Z</dcterms:modified>
  <cp:revision>84</cp:revision>
  <dc:subject/>
  <dc:title>Texas Nodal</dc:title>
</cp:coreProperties>
</file>