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5B3D-B618-4BBD-B555-662D4C20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A53B-76D8-48D3-AC68-5FD55E14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746B-637D-40EC-A0A3-40A2CDAD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E15C-7A18-4039-A45F-A77875ED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EB19-B54E-4B74-B62B-FDE75CF8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FAFB-6975-4C8E-8211-CFE71D10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D06D-22BF-400E-8650-4657AE36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8B56-8C26-4966-96F2-D66221A7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1417-B966-400B-B53D-3B5A2EF9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2481-4E8E-4F77-BABD-8A024142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F7DA-9FB6-44F2-8AE3-346F2A5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C02B-2A6B-4B80-A33D-971F4AFC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1A70-35BD-4F76-9736-877F42CA6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23920" y="645804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3712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315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4600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posed Change to Methodology regarding Regulation Service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S 5/10/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s the Regulation Up and Down requirements into blocks of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s the average and standard deviation of deployed Regulation Up and Down by hou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evious month and same month of the previous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s an exhaustion rate of 1.2% or 35 settlement intervals/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8530-782E-4E46-98D1-522DEADE2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posed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s the requirement to Block Hours for procurement of Regulation Up and D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s the 98.8 percentile of deployed Regulation Up and Down in the previous month and same month of the previous year by hou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s an exhaustion rate of 1.2% or 35 intervals/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s a back-cast requirement that allows ERCOT to adjust when the exhaustion rate exceeds 1.2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8ADD-1176-4D2E-837A-5F7F0534BD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istorical Regulation Procure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7280" y="944640"/>
            <a:ext cx="797400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96E0-54A1-47A9-B976-6D2E288A2C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98.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 method using the same historical data with no grouping among hours appears to produce results that are more efficient and closer to the reliability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ing the back-cast in a feedback loop will allow ERCOT to adjust if the exhaustion rate exceeds 1.2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4C3D-A9C8-4204-8EB3-38FFD5CF23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dumas</cp:lastModifiedBy>
  <cp:lastPrinted>2007-05-03T20:39:06Z</cp:lastPrinted>
  <dcterms:modified xsi:type="dcterms:W3CDTF">2007-05-08T22:57:17Z</dcterms:modified>
  <cp:revision>40</cp:revision>
  <dc:subject/>
  <dc:title>Instructions</dc:title>
</cp:coreProperties>
</file>