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73A6-945C-4626-BF50-1EFB875DD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4314-2BDA-415B-BA70-7A3127E18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E0C6A-4A0F-4C5B-9D72-AC174A1F0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AF4D-D644-408D-B372-3E6A4875E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E6CF6-3816-446C-818E-E5B9AF18B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FE3D-5550-4CC5-8EBA-0DFE792EB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E3EF-F1C3-4735-B080-C1A6EBA97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7BC6-B32C-4A31-98F4-2B6260A3C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9056-C33C-4732-BFD9-B00F554E4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710F-2F71-46C3-8DC1-06F5AE7C2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E2FD-A7C6-4C19-A45E-555ADA831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0122-67C0-4DA5-9669-B042801E9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CBCE-2DEF-448C-829B-40D264187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18AB-994B-4B18-BFE1-048582937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A3F958BB-A938-4763-BD95-E81F42552AB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003160" y="40644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895480"/>
            <a:ext cx="678168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47720" y="2131200"/>
            <a:ext cx="7010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8 Project Prioritiz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76160" y="3200040"/>
            <a:ext cx="5181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rioritization Proces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749"/>
              </a:spcBef>
              <a:buClr>
                <a:srgbClr val="466e6c"/>
              </a:buClr>
              <a:buSzPct val="7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Prioritization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ing Princi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ation Process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CART Budg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rioritiz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90720"/>
            <a:ext cx="8153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SzPct val="75000"/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Prioritiza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37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ing Principles for Project Prioritization”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e next sl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ownership of Divisional PPLs between Market Subcommittees and Divisional Project Organizations (DP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S / R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gle L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ula Feuerba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Kass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ubcommittees and DPOs will recommend the placement of the cutline in the Divisional 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focus on resource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roject Summ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Prioritization folder on 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/ “Quick Links” / “View Project Statu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0840"/>
            <a:ext cx="664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Guiding Principles of Prioritization”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282920"/>
        </p:xfrm>
        <a:graphic>
          <a:graphicData uri="http://schemas.openxmlformats.org/drawingml/2006/table">
            <a:tbl>
              <a:tblPr/>
              <a:tblGrid>
                <a:gridCol w="1219320"/>
                <a:gridCol w="701028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F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ryover from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cts required by Statute, PUCT Order, NERC compliance or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critic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reliability of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id Opera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Infrastruct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ercial Settle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High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a majority of market segments or ERC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High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one or two segments, or</a:t>
                      </a: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edium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a majority of market segments or ERCO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edium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only one seg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lot for non-prioritized projec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50840"/>
            <a:ext cx="65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2008 Prioritization Process Schedule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45720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289548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3505320"/>
            <a:ext cx="1067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10666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228600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10666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9718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 &amp; Audit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12952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78600" y="3564000"/>
            <a:ext cx="21333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- Actual Dates May Change 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9 – Statu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17 – Recommendation to B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45160" y="1897200"/>
            <a:ext cx="23097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- Actual Dates May Change 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17 – Preliminary Budget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/21 – Final Budget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114800" y="21337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21337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2590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752480" y="350496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8320" y="1684440"/>
            <a:ext cx="203184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8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1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47242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0960" y="5316480"/>
            <a:ext cx="3362400" cy="145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4 – Post document templates for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31 – Complete ERCOT project summ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31 – Complete required documents for new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4 – Strategic Review Team (SRT)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1 – Initial review at Executive Committee (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4 – Distribute Subcommittee project lists to P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2 – Distribute TAC mate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9 – Final review at Executive Committee (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676520"/>
            <a:ext cx="20667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9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3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206712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0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4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200" y="4122720"/>
            <a:ext cx="204948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5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0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0200" y="3497400"/>
            <a:ext cx="227628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/20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7 – Proces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1 – Final Prioritization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37120" y="5189400"/>
            <a:ext cx="20829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3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7 – Proces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8 – Approve 2008 Priority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514600" y="426708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6172200"/>
            <a:ext cx="3870360" cy="441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Many of the entities above may choose to schedule a special meeting to conduct their 2008 project prio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62520" y="4267080"/>
            <a:ext cx="990360" cy="914400"/>
          </a:xfrm>
          <a:custGeom>
            <a:avLst/>
            <a:gdLst>
              <a:gd name="textAreaLeft" fmla="*/ 0 w 990360"/>
              <a:gd name="textAreaRight" fmla="*/ 990720 w 99036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6128000">
            <a:off x="6781320" y="4264560"/>
            <a:ext cx="762120" cy="762120"/>
          </a:xfrm>
          <a:custGeom>
            <a:avLst/>
            <a:gdLst>
              <a:gd name="textAreaLeft" fmla="*/ 0 w 762120"/>
              <a:gd name="textAreaRight" fmla="*/ 762480 w 762120"/>
              <a:gd name="textAreaTop" fmla="*/ -360 h 762120"/>
              <a:gd name="textAreaBottom" fmla="*/ 762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 rot="16128000">
            <a:off x="7619760" y="2588400"/>
            <a:ext cx="762120" cy="761760"/>
          </a:xfrm>
          <a:custGeom>
            <a:avLst/>
            <a:gdLst>
              <a:gd name="textAreaLeft" fmla="*/ 0 w 762120"/>
              <a:gd name="textAreaRight" fmla="*/ 762480 w 762120"/>
              <a:gd name="textAreaTop" fmla="*/ 360 h 761760"/>
              <a:gd name="textAreaBottom" fmla="*/ 7624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Initial CART Bu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99072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2008 CART Budge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as proposed during 2007 project prioritiz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Corporate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IT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Market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.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Retail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Systems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0.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onal Tot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$    15.8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itical Path Items for Nod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5.2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rand Tot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$    21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all project budget is less than prior years due to impacts of Nodal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T budgets are subject to change based on ERCOT/market priorities and resource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150840"/>
            <a:ext cx="563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Required Document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Required for Placement on Divisional P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 / SCR /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Analysi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pared by ERCOT staff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Benefit Analysi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pared by ERCOT staff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Requ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&amp; Cost Estim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Benefit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arket / ERCOT Delive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al PPL with 2008 priorities, ranks, budgets and a proposed cut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73200" y="2311200"/>
            <a:ext cx="779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d5f5d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roy Anderson</cp:lastModifiedBy>
  <dcterms:modified xsi:type="dcterms:W3CDTF">2007-05-01T21:14:41Z</dcterms:modified>
  <cp:revision>99</cp:revision>
  <dc:subject/>
  <dc:title>Slide 1</dc:title>
</cp:coreProperties>
</file>