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BCB4-CA68-4808-A86C-6F6CD569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8CEC-CF94-4BF1-B841-1B071444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18AD-7EBE-475C-8B5A-766E60B9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AE41-F9C7-4523-A09C-6F16897E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6B1D-22B3-442D-9C99-333999CD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2798-B428-47F0-9AEE-FB01AE4E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971A-64CB-403E-875B-0699363C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8333-8A04-49B8-8DFA-9A7504C7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7153-972F-4AF4-93E0-E49457FB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3399-3BA4-486A-B1AA-50958A14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8BD7-7D15-4980-B310-D43A93A6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631A-D519-44A5-B516-D49D0D71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6F77-169F-4139-82C1-90A39A63F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CAM Trial Period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May -10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estion on April 16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Outages affected the North – South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le-Pecan Creek 345 Dckt was the binding constr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SEs in North moved down while QSEs in South were move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70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7680" y="237960"/>
            <a:ext cx="8648640" cy="6382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800600" y="2362320"/>
            <a:ext cx="304920" cy="304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29200" y="2666880"/>
            <a:ext cx="60948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1480" y="3200400"/>
            <a:ext cx="358164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MPTHS5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Creek – Temple Switch / Tradinghouse – Temple Pecan Creek 345 kV Dc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67080" y="1676520"/>
            <a:ext cx="60984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371600"/>
            <a:ext cx="289548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loa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Creek – Temple Pecan Creek 138 k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343400" y="2209680"/>
            <a:ext cx="457200" cy="106704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2590920"/>
            <a:ext cx="25146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Flow is North to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281952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AM computed correct OC3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D used OC3s to dispatch generation rather than OC2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C3 shift factors are computed from the real-time network model while OC2s are computed from historical off-lin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me units are dispatched in both; The primary difference is more accurate shift factors with OC3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AM compares the real-time status to the QSE Resource Plan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plans needed to be updated in some cases to reflect actual uni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QSEs requested Ancillary Service exemptions under 6.6.4 Obligations to Honor Ancillary Service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ome cases the QSE requesting the exemption had all of their AS on one gener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ome cases a QSE was issued multiple unit specific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AM has run in production for approximately 90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should consider creating a North – South 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generators impact Temple-Pecan Creek 345 Dck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t using OC3s delivered similar results as using OC2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of congestion with manual OOME would possibly limit the number of units involved but would still impact AS delivery and would not be as economi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problem can exist in Nodal, however under Section 5.5.2 paragraph (7) &amp; Section 6.4.8.1.2 ERCOT can analyze deliverability of AS and inform the QSE that a resource does not qualify to deliver AS and it must be provided from a different resource or via a bilateral arrangement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 such language in Zonal ex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23:38:54Z</dcterms:created>
  <dc:creator>chadthompson</dc:creator>
  <dc:description/>
  <dc:language>en-US</dc:language>
  <cp:lastModifiedBy>jdumas</cp:lastModifiedBy>
  <dcterms:modified xsi:type="dcterms:W3CDTF">2007-05-09T15:59:19Z</dcterms:modified>
  <cp:revision>35</cp:revision>
  <dc:subject/>
  <dc:title>Slide 1</dc:title>
</cp:coreProperties>
</file>