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5141-9EFE-4D82-AFD5-D437E9CD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E0F6-5365-4811-876C-D37D3FD3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CA00-5E83-479C-8FCF-6F60ADC6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AC90-59C7-486B-BA60-BEE0E906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F52C-331D-4C9B-A4CB-C410C6F0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C9ED-7472-41C0-A824-1F0DFFFF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43A0-2CE3-45AA-A46B-73D3CF59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B029-2608-4512-B7DC-63D3C4FF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2A0F-F696-4F39-B1B1-26D08176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F041-F300-4E3F-B1F5-2B74D8CD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7CCC-CEA1-462F-BC16-5F4FB0ED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11B4-08BE-4FC6-A733-1469320F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6C30-F174-4A68-A902-599DA69EF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23920" y="6458040"/>
            <a:ext cx="403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3712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315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4600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placement Reserve Non-Spin  Flag Code Implement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S 5/10/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n-Spin Units in Replacement Prior to Code Implement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s that QSEs planned to set aside to meet their Non-Spin Obligation were procured by Replacement in some c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of these cases, during deployment of Non-Spin, QSEs have asked ERCOT to relieve them of their Non-Spin Obligation per protocol 6.6.4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Spin Obligation was not part of the Capacity Requirements in the Replacement Reserve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ment Reserve would ensure that ERCOT could meet the Load Forecast Demand, Regulation Up &amp; Responsive Reserve but did not include the Non-Spin capacity oblig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Spin Obligation can be met by on-line or off-line 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could not determine the percent of Non-Spin capacity that QSEs were providing from off-line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D2626-9247-45F8-A282-599D5B7F5E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fter Code Implement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-line Non-Spin units that could be started in 30 minutes or less and had their Non-Spin flag checked, were shown online in the Replacement Stu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on-Spin Capacity Obligation was added to the System Capacity Oblig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cement Reserve could utilize the Non-Spin units to solve congestion in the stu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Philosop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ors had to deploy the Non-Spin resources in real-time  per protocol 6.7.4 paragraph 2, in order to solve local congestion in some are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s of Non-Spin to manage congestion occurred on May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May 9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a manual workaround process with no procedure in place to manage congestion in this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096C-69A6-4C75-AF59-2805C5EDDB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-Run of May 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Operating Da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y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perating day was re-run in study mode to determine how the procurements would have changed without the Non-Spin units shown on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Gas turbine was started for hours 19 – 23 &amp; One Gas turbine was started for hours 19 – 23.  Each unit was started for local congestion and had been shown online in the original Replacement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Gas turbines were started for hours 12 – 17 to satisfy power balance and these units had been shown online in the original Replacement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CC70-A2B5-4E45-9072-7D3D887EAD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de change was backed out for the May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perating 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1 – Place code back in service and update the procedures to manually deploy (can not be automated) Non-Spin for local conges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2 – Keep the original design that doesn’t utilize the Non-Spin fla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FA5C-BAED-4C59-BABA-21D93836B9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jdumas</cp:lastModifiedBy>
  <cp:lastPrinted>2007-05-03T20:39:06Z</cp:lastPrinted>
  <dcterms:modified xsi:type="dcterms:W3CDTF">2007-05-09T23:11:51Z</dcterms:modified>
  <cp:revision>43</cp:revision>
  <dc:subject/>
  <dc:title>Instructions</dc:title>
</cp:coreProperties>
</file>