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94C-5EA9-4B73-9D96-9A66C19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0DD-0165-451B-AC01-A10C567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7FF-00CD-41F0-BFFB-BC541D0D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E2F-3ECA-41F5-9AC9-41732B34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63F-8C38-411C-9FB2-A037370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611-C38F-4CB9-9D9C-939EABA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697-FED7-4F77-A61D-02CE8558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B3A-2AE9-41DB-AB2A-BA47349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6C8-ABCF-4F33-A4E0-B7D8E4A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CA0-D8E4-491A-A7FD-7AE8E52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3A5-FE50-4FBA-8A12-9A3BDA3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365-2D5D-48EE-9FF7-B93B4FB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30E-4EA3-4085-AFC7-A363C238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10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has finished our review of the CLR Pilot project and the Controllable Load Qualification Procedure and found them to be technically sound and consistent with the Zonal Protoc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has been working with Arthur Boecker to tune/improve the ERCOT frequency contro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one some preliminary review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ext meeting is May 22 and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5-09T21:38:43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3215668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</vt:lpwstr>
  </property>
</Properties>
</file>