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8D5-F31A-483E-AE5A-689A1055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9A3-C510-4741-9EAC-A56D2832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DA7-3E35-4435-955E-32FD4710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E27-6793-4DD6-BCBB-C2056794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3143-CEB8-4790-B175-0E62A09F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1083-E522-427D-A033-E59FC68E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0F3C-C953-4C05-AD87-B7AA8F49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748-D760-4403-ACAE-3E5DA829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7954-8F29-419A-8E15-962DA2D2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A1BB-CA94-4BDB-8769-A49257FA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7BBA-723A-4559-89CA-4CAF4AE5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22F-BC4E-4266-9C1F-10C0424E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2DE3-4C7C-48B9-ACBC-7B91788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B4E3-67BA-4F50-A659-2DBD5717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DACF-D7CF-411C-ADD4-A913933E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F179-BDD4-4C4D-A766-18819DF4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3443-264B-42D9-BF17-7395444A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139-953D-4DDC-8576-23F52BD2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5BA-F6B4-432C-BB4F-6945682F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107-E4E9-48B2-918F-6C2FA4B2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349-FFB6-43C5-8D13-1015FE0D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F3D-908E-4B6D-9073-4963338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4D9-C3B2-4FD9-92B5-6D12333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C44-A18E-4A01-A272-9CB7F395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570F-4495-4883-805F-2AA888DC47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237D-999F-46CF-9CFD-A4DCF43935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0119-6C05-42BA-9DF1-8ABDCC7C6B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 Protocol Violation Notices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 notices related to Section 6.5.4(2) – tripping requirements for L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ary of corrective 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tional training provided to QSE Operators – training material and signed statements from Operators provi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procedures developed that automate notification process – Operator training and sign-off provi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ed drill 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ining provided to LaaR with emphasis on the importance of deploying LaaR per Protoc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eived certification statements from LaaR that related Protocols requirements had been read and understoo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ulty breaker identified and replaced by one La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299-A108-41DF-A29E-E670128198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 (Continu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notice related to Section 6.5.1.1(4) – telemet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rective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laced UPS requiring manual reset with UPS that automatically resets after power out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corrective actions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62F-A56C-4D6A-81D7-805FDF0B2B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or Tr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de-through capability of generators during disturb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olation Notice issued to Generator Owner for non-compliance with an ERCOT Operating Guides Requirement – Operating Guide 3.1.4.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rective 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ing to discuss corrective action plan with Generating Ent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ting Entity has hired a consultant to review plant relaying – preliminary results has indicated a relay setting probl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tional documentation and mitigation schedule received on April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FE1-6B02-427A-9932-D1B1184839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Operations has requested that LaaR retest under-frequency relays that did not trip automa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 QSEs – 61 L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to be completed by May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to be identical to initial qualification tes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Protocol Violation Notices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mmary of corrective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notice related to Section 6.5.4(2) – tripping requirements for Laa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ultaneous telephone notification of all La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ually triggered EMS audio alarm signal telemetered to all La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ual tripping of one LaaR if it has not begun to ramp down 5 minutes after notif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623-E207-4ED2-B0AF-ACD658B862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 (Continu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notices related to Section 6.5.1.1(4) – telemet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ary of corrective 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eting between QSE and LaaR to re-emphasize requirements, review issues, and develop corrective a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ied and replaced failed transduc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spended participation by violating LaaR until corrective actions tak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ll-time field manager position created to ensure performance of re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d corrective actions largely completed – some additional validation requi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-performing LaaR to test to validate that corrective actions working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full-time field manager position not yet fil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2DF-98FF-4381-80C6-00F2E84C9A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ind-Only Portfolio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-minute average scores for wind-only portfolios have ranged from 5 to 6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ch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quests for Information issued to 5 wind-only QSEs and ERCOT I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to understand what efforts and activities QSEs are undertaking to improve their wind-only portfolios’ perform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All responses received by ERCOT Compliance – responses forwarded to ROS Chai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iance to participate as needed and monitor progres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EB7-FB95-4A4D-89F9-DBEC4FEE73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1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monitoring criteria (PRR 525) implemented in January 2005 – steady CPS1 score improvement for first 6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PS1 performance peaked in June 2006 – 15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 661 – Effective July 1, 2006 – SCE Performance Charge replaces disqual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 662 – Effective July 1, 2006 – 1) Allowed additional exemptions to QSEs, and 2) excluded uncontrollable renewable resources from complying with the metri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SEs removed wind resources from portfolios and placed in new wind-only sub-Q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A48-EC51-4202-BE58-272695B14F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1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lining performance expected during shoulder months (March/April &amp; October/November)……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wer generating units on line because of lower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generating units are cycled daily (turned on to meet load demand and later turned off when load subsid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0 MW (nameplate) of wind generation in ERCOT makes up a larger percentage of on-line gener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ch CPS1 score – 120.6; expect similar score in Apr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should begin to improve again in May – if not………………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133-E30A-4759-9B3F-033BCFEE22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further declined in M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ch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rch 2007:  120.59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rch 2006:  143.16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March 2007:  139.59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March 2006:  128.56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March indicate 32 QSEs passed / 3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C10-CF82-46BE-AD50-1049B9CC24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946-CA65-4B36-AE33-76D98D0AC8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6AB-9424-4A8A-877B-F633EB241B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8E0-2D3B-49E7-8AA4-E91AAC3E4D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EE7-9E92-4B63-8E0F-8D240F2A61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ch 2007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3C7-7870-452D-B123-01E27F5F02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366-91BD-4D35-B867-74B4FF0AEC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O / RE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ty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Latest draft list submitted to NERC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work-in-progre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amp;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NERC issued letters to all owners, operators, &amp; users of the ERCOT Bulk Power System identified by ERCOT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entity can challenge its listing and function with NER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 19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FERC approved the Texas Regional Entity Delegation Agre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1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ubmi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ft of 2008 Texas RE Business Plan &amp; Budget to NER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ne 4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NERC Reliability Standards take effect; mandatory compliance be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C50-F6BA-416A-8711-4B4A8F761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mhenry</cp:lastModifiedBy>
  <dcterms:modified xsi:type="dcterms:W3CDTF">2007-05-07T21:52:53Z</dcterms:modified>
  <cp:revision>489</cp:revision>
  <dc:subject/>
  <dc:title>PRR 525 Compliance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mhenry@ercot.com</vt:lpwstr>
  </property>
  <property fmtid="{D5CDD505-2E9C-101B-9397-08002B2CF9AE}" pid="3" name="_AuthorEmailDisplayName">
    <vt:lpwstr>Henry, Mark</vt:lpwstr>
  </property>
  <property fmtid="{D5CDD505-2E9C-101B-9397-08002B2CF9AE}" pid="4" name="_EmailSubject">
    <vt:lpwstr>Please review '05_11._070504_TAC_Compliance_Presentation'</vt:lpwstr>
  </property>
  <property fmtid="{D5CDD505-2E9C-101B-9397-08002B2CF9AE}" pid="5" name="_NewReviewCycle">
    <vt:lpwstr/>
  </property>
  <property fmtid="{D5CDD505-2E9C-101B-9397-08002B2CF9AE}" pid="6" name="_ReviewCycleID">
    <vt:r8>-1657150103</vt:r8>
  </property>
  <property fmtid="{D5CDD505-2E9C-101B-9397-08002B2CF9AE}" pid="7" name="_TentativeReviewCycleID">
    <vt:r8>-1657150103</vt:r8>
  </property>
</Properties>
</file>