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EFFC-0C60-4F52-8079-24EBCCB5C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3AFE-0886-4BB0-9CC5-910105890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6A01-E184-462D-827B-6BAB1E92D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2E78-2DE6-4F16-A613-5F262F940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D144-B3D4-4870-82A8-9783B8BE3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0DA7-3710-41D4-98D3-2DA783EDA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A961-1ADE-4E5F-9256-5DB3C86B1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A0E8-0066-4236-BE82-721713E5A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1C4F-79D8-4B98-808C-D78F3040A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0812-20AF-4D2A-A51B-2975E30FE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D715-04BB-4901-B38D-FC69E67A6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E9EF-B006-49D8-AF3D-824AFB5C1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EA4F9-C981-4CC6-BF74-39E0376FA9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ning Changes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26/07 – 4/30/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20040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ERCOT logo n swoosh smallest" descr=""/>
          <p:cNvPicPr/>
          <p:nvPr/>
        </p:nvPicPr>
        <p:blipFill>
          <a:blip r:embed="rId1"/>
          <a:stretch/>
        </p:blipFill>
        <p:spPr>
          <a:xfrm>
            <a:off x="0" y="6248520"/>
            <a:ext cx="2743200" cy="609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3352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E feedback disab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ist from 156MW to 161MW (30mHz to 31mH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ergency Assist from 260MW to 239MW (50mHz to 46mH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l gain from 0.3 to 0.3 (many chang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ist gain from 0.52 to 0.4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ic deadband from 56MW to 48M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ll boost from 50 MW to 40 M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Conforming Load was briefly 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ERCOT logo n swoosh smallest" descr=""/>
          <p:cNvPicPr/>
          <p:nvPr/>
        </p:nvPicPr>
        <p:blipFill>
          <a:blip r:embed="rId1"/>
          <a:stretch/>
        </p:blipFill>
        <p:spPr>
          <a:xfrm>
            <a:off x="0" y="6248520"/>
            <a:ext cx="2743200" cy="609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62120" y="1523880"/>
            <a:ext cx="7467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d positive feedback from QSEs at PDCWG meeting (fewer unit reversal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S1 monthly score improved from 120.59 in March to 126.92 in Apr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S2 monthly score improved from 86.43 in March to 88.08 in Apr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19320" y="304920"/>
            <a:ext cx="541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ults of Tu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ERCOT logo n swoosh smallest" descr=""/>
          <p:cNvPicPr/>
          <p:nvPr/>
        </p:nvPicPr>
        <p:blipFill>
          <a:blip r:embed="rId1"/>
          <a:stretch/>
        </p:blipFill>
        <p:spPr>
          <a:xfrm>
            <a:off x="0" y="6248520"/>
            <a:ext cx="2743200" cy="6094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04920" y="22860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blems with further Improv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990720"/>
            <a:ext cx="7467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settings are based on ERCOT ACE.  Turbine governor deadbands are set based on 60.00 Hz.  When ERCOT performs Time Error corrections, the ACE scheduled frequency is offset by +/- 0.02 Hz.  This causes the thresholds of the Assist and Emergency Assist of the Regulation deployment to NOT be coordinated with the governor dead-bands.  This will result in poorer control during Time Error corrections.  This is not a new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ERCOT logo n swoosh smallest" descr=""/>
          <p:cNvPicPr/>
          <p:nvPr/>
        </p:nvPicPr>
        <p:blipFill>
          <a:blip r:embed="rId1"/>
          <a:stretch/>
        </p:blipFill>
        <p:spPr>
          <a:xfrm>
            <a:off x="0" y="6248520"/>
            <a:ext cx="2743200" cy="6094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62120" y="1447920"/>
            <a:ext cx="739116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CA Frequency Control “Persistence” logic is not fully understood.  Some Regulation deployment “stall” continues to delay deployment sooner than needed.  Further investigation into the logic may improve t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COT Frequency Desk Operator has, for the most part, left the “Requested ACE % Feedback” set at 100 for the past mon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2286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lems with further Improv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ERCOT logo n swoosh smallest" descr=""/>
          <p:cNvPicPr/>
          <p:nvPr/>
        </p:nvPicPr>
        <p:blipFill>
          <a:blip r:embed="rId1"/>
          <a:stretch/>
        </p:blipFill>
        <p:spPr>
          <a:xfrm>
            <a:off x="0" y="6248520"/>
            <a:ext cx="2743200" cy="609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ERCOT logo n swoosh smallest" descr=""/>
          <p:cNvPicPr/>
          <p:nvPr/>
        </p:nvPicPr>
        <p:blipFill>
          <a:blip r:embed="rId1"/>
          <a:stretch/>
        </p:blipFill>
        <p:spPr>
          <a:xfrm>
            <a:off x="0" y="6248520"/>
            <a:ext cx="2743200" cy="6094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533520"/>
            <a:ext cx="8674200" cy="59306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676520" y="6477120"/>
            <a:ext cx="41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 Bar – Regulation Prov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ERCOT logo n swoosh smallest" descr=""/>
          <p:cNvPicPr/>
          <p:nvPr/>
        </p:nvPicPr>
        <p:blipFill>
          <a:blip r:embed="rId1"/>
          <a:stretch/>
        </p:blipFill>
        <p:spPr>
          <a:xfrm>
            <a:off x="0" y="6248520"/>
            <a:ext cx="2743200" cy="6094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35080" y="463680"/>
            <a:ext cx="8673840" cy="59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ERCOT logo n swoosh smallest" descr=""/>
          <p:cNvPicPr/>
          <p:nvPr/>
        </p:nvPicPr>
        <p:blipFill>
          <a:blip r:embed="rId1"/>
          <a:stretch/>
        </p:blipFill>
        <p:spPr>
          <a:xfrm>
            <a:off x="0" y="6248520"/>
            <a:ext cx="2743200" cy="6094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35080" y="463680"/>
            <a:ext cx="8673840" cy="59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2T20:31:35Z</dcterms:created>
  <dc:creator>aboecker</dc:creator>
  <dc:description/>
  <dc:language>en-US</dc:language>
  <cp:lastModifiedBy>jhealy</cp:lastModifiedBy>
  <dcterms:modified xsi:type="dcterms:W3CDTF">2007-05-03T19:58:36Z</dcterms:modified>
  <cp:revision>18</cp:revision>
  <dc:subject/>
  <dc:title>Gateway System Evaluation</dc:title>
</cp:coreProperties>
</file>