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49EB-4531-4DE1-A9BC-3CE1C91A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6AE0-C7B4-4528-B3D9-F361460E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3251-FCFA-4736-AD60-E386C330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8E0D-026D-4EAE-877C-E3EBFA5B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65B3-CFBD-48CB-AB7B-8613FFF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ACB7-530D-44DE-8710-BB69A40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D09E-0B64-4D67-9E8B-07E9F28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79C5-C67D-47CF-B12A-56A4A80F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DC7C-3144-4042-AB98-AC290297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C20C-E594-4051-9068-3D04DE4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2B07-47D1-432B-92AD-EA02A7F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70F1-558E-4592-BBEF-8574F32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2CB-C5F6-4FD7-9031-89FA164CB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 1 – ROS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08840" y="-180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94D078-ABE8-4ADE-99C7-F704813C14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dal.ercot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DS 1 – ROS Upd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arly Delivery Syste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10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745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S 1 RO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a Testing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-to-Point Estimates and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-to-Point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70CD-7388-4D5F-8F61-3A0212219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80010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eta Testing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sting Completed (Friday April 20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f 16 TSPs par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of 22 QSEs par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complete - 2200 points checked out of 2400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 errors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n-quality code re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rror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equipment on ERCOT Network Model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, mis-mapped or indirectly mapped points = 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ity reversed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ode (not counted in the 10% errors f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elemetered = 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eld Telemetered = 2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8726-2011-4321-8D39-802648FE0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836604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-to-Point Estimates and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imating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Zonal point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,0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500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QSEs (represents aggregated Q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+ uni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+ loa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imating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oint will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min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erify (on ave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oa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ll add 30 additional Nod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dditional Nodal unit and load point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odal points to verify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,0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0623-CC90-4C72-B1F1-39B6E91950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-to-Point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sting Begins Monday June 4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enterPoint Energy and TXU (TSP)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irst stage of QSE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econd stage of QSE verifications + TSP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maining QSE and TSP ve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ICCP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 ERCOT WebEx meetings (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tact Craig Dillon – cdillon@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the ERCOT ICCP group 2 weeks before ver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associations with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Service Request to build-up Nodal poin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team is contacting each TSP and QSE to confirm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eadiness Cente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Key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1 Weekly Status Report – contains detaile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5823-BBAA-44C2-AEE1-164666BFFD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5-08T15:51:02Z</dcterms:modified>
  <cp:revision>247</cp:revision>
  <dc:subject/>
  <dc:title>Electric Reliability and  Resource Adequacy Update</dc:title>
</cp:coreProperties>
</file>