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F542-61E3-4B62-BD86-2DBA45C8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4FEAC-0A63-40A6-B936-12292741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8DF1-B8CE-49CE-990F-2AF80303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5411-5883-4A31-8A76-BB640C35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876A-DD04-4A24-9F6C-0EF4597C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3F04-2872-45FA-8E54-3663A158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D4B9-8586-45B5-AD2B-0BAAE9BA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C358-53AE-478C-ACE8-C7AB7012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3B2F-032D-4C2F-BF60-B688B582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C7A6-1870-4965-AB22-95867D24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A333-792A-446F-A09B-498743C2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A037-6363-4377-B6DB-725DF730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2F36-AF5A-4C44-8D82-CA5B56E0B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723920" y="6477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 1 – Approach and 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908840" y="-1800"/>
            <a:ext cx="8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76BE897-2EB4-4C3E-B5A3-44822DE704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nodal.ercot.com/" TargetMode="External"/><Relationship Id="rId2" Type="http://schemas.openxmlformats.org/officeDocument/2006/relationships/hyperlink" Target="http://lists.ercot.com/cgi-bin/majordomo" TargetMode="External"/><Relationship Id="rId3" Type="http://schemas.openxmlformats.org/officeDocument/2006/relationships/hyperlink" Target="mailto:TexasNodal@ercot.co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eds1@erco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eds1@ercot.co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eds1@ercot.co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DS 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arly Delivery System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16104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Preparation WebEx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onathan Pulcini, Project Manag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y 9,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3640" y="1549440"/>
            <a:ext cx="8093160" cy="4576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667600" y="38088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TEXAS MARKET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25920" y="4251240"/>
            <a:ext cx="3444840" cy="1524240"/>
          </a:xfrm>
          <a:prstGeom prst="wedgeRectCallout">
            <a:avLst>
              <a:gd name="adj1" fmla="val -46268"/>
              <a:gd name="adj2" fmla="val -10604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ccess to TML is via User Digital Certificate issued by Market Participant’s User Security Administr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61680" cy="5883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66680" y="2971800"/>
            <a:ext cx="3459240" cy="1279440"/>
          </a:xfrm>
          <a:prstGeom prst="wedgeRectCallout">
            <a:avLst>
              <a:gd name="adj1" fmla="val -43944"/>
              <a:gd name="adj2" fmla="val -14081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elect ‘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rket Activitie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and then ‘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reate Service Request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’ to create a new ICCP service requ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11120" y="1463760"/>
            <a:ext cx="8305920" cy="4351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93640" y="3932280"/>
            <a:ext cx="2438640" cy="1600200"/>
          </a:xfrm>
          <a:prstGeom prst="wedgeRectCallout">
            <a:avLst>
              <a:gd name="adj1" fmla="val 84245"/>
              <a:gd name="adj2" fmla="val -9553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ust be submitted by MP’s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Primary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or 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Secondary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Authorized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455840"/>
            <a:ext cx="8305920" cy="4351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3589200"/>
            <a:ext cx="2971800" cy="1600200"/>
          </a:xfrm>
          <a:prstGeom prst="wedgeRectCallout">
            <a:avLst>
              <a:gd name="adj1" fmla="val 69870"/>
              <a:gd name="adj2" fmla="val -458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hoose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CCP Servic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Request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from the Request Type and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CCP Change Request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from the Request Sub-type drop down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5942160"/>
            <a:ext cx="660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ERCOT is in the process of modifying the TML interface to reflect these changes. A Market Notice will be sent to all MPs when this modification is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00120"/>
            <a:ext cx="8305920" cy="4351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66680" y="3633840"/>
            <a:ext cx="2438640" cy="1828800"/>
          </a:xfrm>
          <a:prstGeom prst="wedgeRectCallout">
            <a:avLst>
              <a:gd name="adj1" fmla="val 102342"/>
              <a:gd name="adj2" fmla="val 1128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ovide a description of the service request in the long description field – for example, ‘New ICCP Changes for XXX Substation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61680" cy="6327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74680" y="4343400"/>
            <a:ext cx="2011320" cy="1782720"/>
          </a:xfrm>
          <a:prstGeom prst="wedgeRectCallout">
            <a:avLst>
              <a:gd name="adj1" fmla="val 57259"/>
              <a:gd name="adj2" fmla="val 4937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ttach a completed ICCP Change Request Form to the service request and Sub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451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oint to Point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oint to Point Te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CCP Service Request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CCP Change Request 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E7E8-D4D9-42FE-AA1A-985B5EB771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CCP Handbook Discuss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451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CCP Handb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rafted and available on ERCOT.COM on 4/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mments on draft were due from MPs </a:t>
            </a:r>
            <a:br>
              <a:rPr sz="2400"/>
            </a:b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y M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eviewed with changes in yesterday’s TPTF meeting; review still 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ome common ICCP Q/A attached to today’s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CCP Q/A Today – Bill Blevins and ICCP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AE5E-8654-4921-A413-24ABB1156C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r more information . . .</a:t>
            </a: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9144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t Texas Nodal Website: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odal.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cribe to biweekly newsletter: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sts.ercot.com/cgi-bin/majordom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Select TexasNodal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il questions, comments or feedback to the Nodal Transition Readiness Center at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exasNodal@ercot.c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call (512) 248-3900 to speak with a represen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 your accoun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624D-7A70-4B9E-8B6F-761BCC2C7E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DS 1 – Early Delivery Sys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47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:00 pm -1:30 p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ing Discu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tting ICCP Service Request 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ing/Service Request Q&amp;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:30 pm – 3:00 p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on the latest revisions to the ICCP handbo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CP Handbook Q&amp;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6E0B-7EB2-4C40-8B33-6C24EFE23F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DS 1 – Early Delivery Syst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47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oint to Point Verification Testing -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esting Timeline is June 1</a:t>
            </a:r>
            <a:r>
              <a:rPr b="1" lang="en-US" sz="2800" spc="-1" strike="noStrike" baseline="30000">
                <a:solidFill>
                  <a:srgbClr val="0000cc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– Sept 30</a:t>
            </a:r>
            <a:r>
              <a:rPr b="1" lang="en-US" sz="2800" spc="-1" strike="noStrike" baseline="30000">
                <a:solidFill>
                  <a:srgbClr val="0000cc"/>
                </a:solidFill>
                <a:latin typeface="Arial"/>
              </a:rPr>
              <a:t>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S1 is scheduling with MPs currently for all time slo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Jonathan Pulcini at 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ds1@ercot.com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to schedule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384E-EC42-4256-AB26-E47841FABA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DS 1 Testing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189080"/>
          <a:ext cx="8229600" cy="4287960"/>
        </p:xfrm>
        <a:graphic>
          <a:graphicData uri="http://schemas.openxmlformats.org/drawingml/2006/table">
            <a:tbl>
              <a:tblPr/>
              <a:tblGrid>
                <a:gridCol w="1554120"/>
                <a:gridCol w="6675480"/>
              </a:tblGrid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TSP and QSE Testing:  confir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OR ELECTRIC DELIVERY COMPANY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POINT ENERGY HOUSTON ELECTRIC LLC AND NRG TEXAS L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SE Testing and TSP Testing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is currently 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SE Testing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is currently 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SE and TSP Testing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is currently 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3A80-55FC-45CD-ACB6-7979DCED18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Prepar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93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y May 30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nfirm testing schedule with ERCOT for each 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P must confirm number of testing resources available during scheduled time s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ny other questions or issues that need to be addressed; ERCOT will schedule a call with MP to answer questions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C for EDS1 Testing - Contact Jonathan Pulcini at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ds1@ercot.com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schedule t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A90E-B2AA-4BDC-AF5B-3181E50564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sting Prepar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54920" cy="49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weeks before t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 network teams will confirm and test connectivity with ERCOT (ERCOT Transition Readiness Center will facilitate scheduling connectivity test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SEs will submit ICCP points via ICCP Service Request process to allow ERCOT to load and verify data prior to tes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eek before t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Ps will submit all new and existing ICCP points via ICCP Service Request process to allow ERCOT to verify data with existing ICCP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will reconfirm list of stations and schedule with 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will send testing checklists to MPs for final confirm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C for EDS1 Testing - Contact Jonathan Pulcini 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ds1@ercot.c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chedule t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850E-1078-4AEF-A823-FF2C6F33CF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CCP Service Request Proc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4516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urpo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 a process to capture all changes for ICCP points being submitted by Market Participants (MP) for the NODAL market modif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ablish a secure and historical central records of telemetry change requests to ensure accuracy and consistency in managing ICCP chan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 Participants (MPs) will submit ICCP changes using the ICCP Service Request Form to the ERCOT ICCP team through the Texas Market Link (TML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CCP team processes these changes as received and performs a series of checks with the MP to verify the accuracy of the changes (ICCP point additions/ deletions) before and after they are loaded into the system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54EC-5699-4776-9D68-1283FB24A7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CCP Service Request Proc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960120"/>
            <a:ext cx="745164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CP Change Request 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Excel form that a MP must use to submit any ICCP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information that both the ICCP Team and ERCOT Operations need to process the changes corr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CP Service Request Form was sent along with meeting materials and will be posted to Nodal web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e Access and Author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Participant’s (MP) access Texas Market Link by user digital certific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’s authorized representative’s certificate acts as MP’s authorization for ICCP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through procedure in next slide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DFAD-DCE7-4F61-99F8-96C0D2CE8B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36440" y="1463760"/>
          <a:ext cx="8869320" cy="38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63760"/>
                    <a:ext cx="8869320" cy="38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666880" y="355680"/>
            <a:ext cx="42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CP Change Request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7-05-09T15:25:45Z</dcterms:modified>
  <cp:revision>221</cp:revision>
  <dc:subject/>
  <dc:title>Electric Reliability and  Resource Adequacy Update</dc:title>
</cp:coreProperties>
</file>