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A99F-2E3A-49A7-95ED-20193F05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87D6-F693-416B-AA12-03892A9F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8CE3-2074-4333-8FDB-2358A179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BDB1-5943-44B8-A040-F5797C72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DDBD-2F35-4EFB-8405-27DC3A0C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CB4A-D745-44BE-AC37-95076760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7745-E678-417C-8F48-DC672E22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72E7A-FF41-4387-A0AE-CCF7ACD8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83A1-3DA8-4DE2-A365-DC18775D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7465-D38E-44DF-BE70-B0895F4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AAEA-E3E6-4C2C-9383-B8628E6B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57E5-F0C5-4767-B8F3-DEAB2B21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1E7-BC18-4487-9AFC-16C5130E7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1DC5-A476-4ECC-833B-5E2C3084A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굴림"/>
              </a:rPr>
              <a:t>ERCOT Nodal ICCP Communication Handbook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ll Blevi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rank Kendal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andbook Activities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 2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PTF approved SCADA requirements docu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discussed ICCP codes with AREVA, ERCOT Operations, NMMS, MMS, ICCP beta testing group (EDS), EIP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xas Nodal Enterprise Integration External Interfaces Specif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MS grou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discussed ICCP codes with TPTF March 2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1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ted for TPTF comments thru May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ru May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RCOT staff modify based on com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view with TPTF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1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st for Nodal Market Participa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DS phase delivery 2 starts point to point check out with TSP Market Participa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CP handboo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dience of the handbook is: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Participants ICCP Vend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ICCP Vend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technical staf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Market Participant technical staf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Market Participant business representativ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business staf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CP handboo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oal of the ICCP handbook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 ERCOT and Market participant ICCP vendors and technical staff on methods and processes to uniformly configure and implement a high availability ICCP data transf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to enable the ERCOT EMS SCADA system to provide Market and Reliability functions required by the Texas Nodal Protoco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CP handboo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CCP handbook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ection 1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trodu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describes the purpose and scope of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RCOT Nodal ICCP Communication Handboo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2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necting to the ERCOT Wide Area Network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3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CCP Conven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vides details on the ICCP client/server architecture and describes parameters necessary for all Market Participants to successfully establish communication with ERCOT using ICCP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4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nection requirement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5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S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nection requirement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6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Available to All Market Participa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scribes data produced by ERCOT available to all Market Participants with ICCP nod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tion 7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Calculated Locally by ERC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scribes values that ERCOT calculates from TSP telemtered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CP handboo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w Inform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 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in reference to EIP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exas Nodal Enterprise Integration External Interfaces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Equipment dia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quipment delivered by ERCOT (Fig-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architecture for high availabil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ERCOT architecture will support both Taylor and Austin communication nodes l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DA will receive information from first primary and will shift to second primary Node on a loss of first primary.(Fig-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tion 3.4 Quality Code and Source detai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CP domain con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4-6 to describe code trans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ion 3.4.1 illustrated examples of ICCP code handling for MP and ERCO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P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39 naming convention exam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SE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22-24 naming convention and examp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ED and Nodal LFC infor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available to all market particip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CP point naming conven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CP handboo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nresolve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 Conven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ments from MPs are that the current sign convention is confu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Block 4 messa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form text reasons for operation beyond HSL, LSL and Ramp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CP handbook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6:39:04Z</dcterms:created>
  <dc:creator>Bill Blevins</dc:creator>
  <dc:description/>
  <dc:language>en-US</dc:language>
  <cp:lastModifiedBy>Bill Blevins</cp:lastModifiedBy>
  <dcterms:modified xsi:type="dcterms:W3CDTF">2007-04-23T12:59:25Z</dcterms:modified>
  <cp:revision>4</cp:revision>
  <dc:subject/>
  <dc:title>ERCOT Nodal ICCP Communication Handbook </dc:title>
</cp:coreProperties>
</file>