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4B01-234B-45E1-9C49-8746639E1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AE8C-8BCA-474D-BDCF-BA3BB1016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E563-2E06-4AD0-A70B-C2FE5561F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F13D-DE2D-413C-AE1C-68939AF49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443F-277D-4FF0-9636-D6CDE7410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FA0F-2CE6-4094-ACAD-3CF803DBD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942A-E57D-46D4-8E24-D81A74C4A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84DB-952E-4BF0-95D2-9D79E8C9D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5ADA-18A1-42B1-88BA-CB62731D1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E793-8DAB-432C-A1B7-B573D0115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B087-BFD8-4A1D-95A1-D2ADB507F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2944-3708-44BB-BB88-4D21AEC5B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2AE8-082F-48D5-B491-64BFBD88C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10BE-367D-47C8-8D03-FDC376660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8B5AB0E8-3D50-4E67-AA99-09C1194D8DE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003160" y="40644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895480"/>
            <a:ext cx="678168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7720" y="2131200"/>
            <a:ext cx="7010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Project Prioritiz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76160" y="32000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749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Prioritization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Process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CART Budg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9072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Prioritiza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37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ing Principles for Project Prioritization”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e next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ownership of Divisional PPLs between Market Subcommittees and Divisional Project Organizations (DP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S / R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gle L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ula Feuerba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Kas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ubcommittees and DPOs will recommend the placement of the cutline in the Divisional 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focus on resource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oject Summ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Prioritization folder on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/ “Quick Links” / “View Project Statu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0840"/>
            <a:ext cx="664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Guiding Principles of Prioritization”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28292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F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ryover from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s required by Statute, PUCT Order, NERC compliance or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ritic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reliability of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 Opera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Infrastruc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ercial Settle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one or two segments, or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only one seg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lot for non-prioritized projec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0840"/>
            <a:ext cx="65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2008 Prioritization Process Schedul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5720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289548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505320"/>
            <a:ext cx="1067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228600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9718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 &amp; Audit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12952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78600" y="3564000"/>
            <a:ext cx="21333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- Actual Dates May Change 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9 – Statu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7 – Recommendation to 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45160" y="1897200"/>
            <a:ext cx="23097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- Actual Dates May Change 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7 – Preliminary Budget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/21 – Final Budget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114800" y="21337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1337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2590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350496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8320" y="1684440"/>
            <a:ext cx="203184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8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1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47242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960" y="5316480"/>
            <a:ext cx="3362400" cy="145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4 – Post document templates for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1 – Complete ERCOT project summ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1 – Complete required documents for new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4 – Strategic Review Team (SRT)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1 – Initial review at Executive Committee (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4 – Distribute Subcommittee project lists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2 – Distribute TAC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9 – Final review at Executive Committee (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676520"/>
            <a:ext cx="20667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9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3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206712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0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4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200" y="4122720"/>
            <a:ext cx="204948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5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0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497400"/>
            <a:ext cx="227628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/20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7 – Proces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1 – Final Prioritization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37120" y="5189400"/>
            <a:ext cx="20829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7 – Proces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8 – Approve 2008 Priority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514600" y="42670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6172200"/>
            <a:ext cx="3870360" cy="441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Many of the entities above may choose to schedule a special meeting to conduct their 2008 project prio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62520" y="4267080"/>
            <a:ext cx="990360" cy="914400"/>
          </a:xfrm>
          <a:custGeom>
            <a:avLst/>
            <a:gdLst>
              <a:gd name="textAreaLeft" fmla="*/ 0 w 990360"/>
              <a:gd name="textAreaRight" fmla="*/ 990720 w 99036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6128000">
            <a:off x="6781320" y="426456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-360 h 762120"/>
              <a:gd name="textAreaBottom" fmla="*/ 762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 rot="16128000">
            <a:off x="7619760" y="2588400"/>
            <a:ext cx="762120" cy="761760"/>
          </a:xfrm>
          <a:custGeom>
            <a:avLst/>
            <a:gdLst>
              <a:gd name="textAreaLeft" fmla="*/ 0 w 762120"/>
              <a:gd name="textAreaRight" fmla="*/ 762480 w 762120"/>
              <a:gd name="textAreaTop" fmla="*/ 360 h 761760"/>
              <a:gd name="textAreaBottom" fmla="*/ 7624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Initial CART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99072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2008 CART Budge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s proposed during 2007 project prioritiz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Corporate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IT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Market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.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Retail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Systems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0.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onal Tot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$    15.8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tical Path Items for Nod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5.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rand Tot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$    21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all project budget is less than prior years due to impacts of Nodal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T budgets are subject to change based on ERCOT/market priorities and resource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150840"/>
            <a:ext cx="563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quired Document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Required for Placement on Divisional P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/ SCR /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Analysi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pared by ERCOT staf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Benefit Analysi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pared by ERCOT staf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Req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&amp; Cost Estim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Benefi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arket / ERCOT Delive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PL with 2008 priorities, ranks, budgets and a proposed c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73200" y="2311200"/>
            <a:ext cx="779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d5f5d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roy Anderson</cp:lastModifiedBy>
  <dcterms:modified xsi:type="dcterms:W3CDTF">2007-05-01T21:14:41Z</dcterms:modified>
  <cp:revision>99</cp:revision>
  <dc:subject/>
  <dc:title>Slide 1</dc:title>
</cp:coreProperties>
</file>