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717A-FE9E-47F6-BF43-A0D1D5277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8150-897A-43EC-AB15-2BB35549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7243-827B-4C9A-B890-5048277EF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4BCE-280B-4D36-8479-49330500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1F68-E4AE-4CC2-B682-95B98AF0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2AED-6269-409E-8B89-40CF89BF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5F3C-1580-41C2-91F2-C9562E3B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CB54-0EB6-4C9E-ABEB-3C4FE6B8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539E-8720-469E-A34F-074D8BE8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20DF-7A73-4CFB-9C48-DA770317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C569-52A9-41F0-BD5C-4DF92E1B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AD47-4F02-4455-BDA2-507E2C11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5937-9536-4C24-BEB8-237DA5995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ning Change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26/07 – 4/30/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0040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ERCOT logo n swoosh smallest" descr=""/>
          <p:cNvPicPr/>
          <p:nvPr/>
        </p:nvPicPr>
        <p:blipFill>
          <a:blip r:embed="rId1"/>
          <a:stretch/>
        </p:blipFill>
        <p:spPr>
          <a:xfrm>
            <a:off x="0" y="6248520"/>
            <a:ext cx="2743200" cy="609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352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E feedback disab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st from 156MW to 161MW (30mHz to 31mH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ergency Assist from 260MW to 239MW (50mHz to 46mH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 gain from 0.3 to 0.3 (many chang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st gain from 0.52 to 0.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 deadband from 56MW to 48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ll boost from 50 MW to 40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Conforming Load was briefly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ERCOT logo n swoosh smallest" descr=""/>
          <p:cNvPicPr/>
          <p:nvPr/>
        </p:nvPicPr>
        <p:blipFill>
          <a:blip r:embed="rId1"/>
          <a:stretch/>
        </p:blipFill>
        <p:spPr>
          <a:xfrm>
            <a:off x="0" y="6248520"/>
            <a:ext cx="2743200" cy="609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120" y="152388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d positive feedback from QSEs at PDCWG meeting (fewer unit reversa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S1 monthly score improved from 120.59 in March to 126.92 in Apr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S2 monthly score improved from 86.43 in March to 88.08 in Apr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304920"/>
            <a:ext cx="54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 of Tu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ERCOT logo n swoosh smallest" descr=""/>
          <p:cNvPicPr/>
          <p:nvPr/>
        </p:nvPicPr>
        <p:blipFill>
          <a:blip r:embed="rId1"/>
          <a:stretch/>
        </p:blipFill>
        <p:spPr>
          <a:xfrm>
            <a:off x="0" y="6248520"/>
            <a:ext cx="2743200" cy="609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22860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s with further Improv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99072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settings are based on ERCOT ACE.  Turbine governor deadbands are set based on 60.00 Hz.  When ERCOT performs Time Error corrections, the ACE scheduled frequency is offset by +/- 0.02 Hz.  This causes the thresholds of the Assist and Emergency Assist of the Regulation deployment to NOT be coordinated with the governor dead-bands.  This will result in poorer control during Time Error corrections.  This is not a new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ERCOT logo n swoosh smallest" descr=""/>
          <p:cNvPicPr/>
          <p:nvPr/>
        </p:nvPicPr>
        <p:blipFill>
          <a:blip r:embed="rId1"/>
          <a:stretch/>
        </p:blipFill>
        <p:spPr>
          <a:xfrm>
            <a:off x="0" y="6248520"/>
            <a:ext cx="2743200" cy="609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1447920"/>
            <a:ext cx="739116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A Frequency Control “Persistence” logic is not fully understood.  Some Regulation deployment “stall” continues to delay deployment sooner than needed.  Further investigation into the logic may improve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Frequency Desk Operator has, for the most part, left the “Requested ACE % Feedback” set at 100 for the past mon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2286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lems with further Improv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ERCOT logo n swoosh smallest" descr=""/>
          <p:cNvPicPr/>
          <p:nvPr/>
        </p:nvPicPr>
        <p:blipFill>
          <a:blip r:embed="rId1"/>
          <a:stretch/>
        </p:blipFill>
        <p:spPr>
          <a:xfrm>
            <a:off x="0" y="6248520"/>
            <a:ext cx="2743200" cy="60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ERCOT logo n swoosh smallest" descr=""/>
          <p:cNvPicPr/>
          <p:nvPr/>
        </p:nvPicPr>
        <p:blipFill>
          <a:blip r:embed="rId1"/>
          <a:stretch/>
        </p:blipFill>
        <p:spPr>
          <a:xfrm>
            <a:off x="0" y="6248520"/>
            <a:ext cx="2743200" cy="609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8674200" cy="5930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76520" y="6477120"/>
            <a:ext cx="41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 Bar – Regulation Prov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ERCOT logo n swoosh smallest" descr=""/>
          <p:cNvPicPr/>
          <p:nvPr/>
        </p:nvPicPr>
        <p:blipFill>
          <a:blip r:embed="rId1"/>
          <a:stretch/>
        </p:blipFill>
        <p:spPr>
          <a:xfrm>
            <a:off x="0" y="6248520"/>
            <a:ext cx="2743200" cy="609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35080" y="463680"/>
            <a:ext cx="8673840" cy="59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ERCOT logo n swoosh smallest" descr=""/>
          <p:cNvPicPr/>
          <p:nvPr/>
        </p:nvPicPr>
        <p:blipFill>
          <a:blip r:embed="rId1"/>
          <a:stretch/>
        </p:blipFill>
        <p:spPr>
          <a:xfrm>
            <a:off x="0" y="6248520"/>
            <a:ext cx="2743200" cy="609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35080" y="463680"/>
            <a:ext cx="8673840" cy="59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2T20:31:35Z</dcterms:created>
  <dc:creator>aboecker</dc:creator>
  <dc:description/>
  <dc:language>en-US</dc:language>
  <cp:lastModifiedBy>jhealy</cp:lastModifiedBy>
  <dcterms:modified xsi:type="dcterms:W3CDTF">2007-05-03T19:58:36Z</dcterms:modified>
  <cp:revision>18</cp:revision>
  <dc:subject/>
  <dc:title>Gateway System Evaluation</dc:title>
</cp:coreProperties>
</file>