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0910-CAEB-400E-9889-BD86B902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F1FC-F800-40B8-87AB-4C6315E9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083F-3201-4106-AC0B-F49F821F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32FA-ACD7-4876-A0EC-DD7BE34C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7234-759B-479F-A9F5-13AB2411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3D9A-1F14-4263-954C-D1BBA2F6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D80A-66E1-4BEE-9D26-699FED67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0755-C33A-4058-8B64-8B0ADD5D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549E-BFDF-4537-9246-E0BC75A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E491-DAC0-4B0F-BECB-C6A39FDD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8415-DC5A-4B5C-83AD-56EDFE0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6E3F-F78C-4362-9D67-42256C8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5F0F-E2F6-4E02-AC3F-F5FACEDCB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 1 – ROS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908840" y="-180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4D82A96-CAAD-4989-9207-E5A6F9E9A0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dal.ercot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DS 1 – ROS Upd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arly Delivery Syste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10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60120"/>
            <a:ext cx="745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S 1 RO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a Testing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-to-Point Estimates and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-to-Point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64FA-D5B3-4116-B076-CC49F7A024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60120"/>
            <a:ext cx="80010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eta Testing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sting Completed (Friday April 20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f 16 TSPs par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of 22 QSEs par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complete - 2200 points checked out of 2400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 errors 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n-quality code re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rror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equipment on ERCOT Network Model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, mis-mapped or indirectly mapped points = 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ity reversed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Code (not counted in the 10% errors f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Telemetered = 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ield Telemetered = 2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7019-1B31-44C1-805A-D16426C09F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60120"/>
            <a:ext cx="836604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int-to-Point Estimates and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imating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Zonal point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,0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500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QSEs (represents aggregated Q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+ uni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+ loa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imating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oint will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min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erify (on ave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oa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ill add 30 additional Nod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dditional Nodal unit and load point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odal points to verify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,0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9D81-6151-41D5-BF58-AB5576284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int-to-Point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sting Begins Monday June 4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enterPoint Energy and TXU (TSP)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irst stage of QSE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econd stage of QSE verifications + TSP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maining QSE and TSP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ICCP 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 ERCOT WebEx meetings (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tact Craig Dillon – cdillon@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the ERCOT ICCP group 2 weeks before ver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associations with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Service Request to build-up Nodal poin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team is contacting each TSP and QSE to confirm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eadiness Cente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Key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1 Weekly Status Report – contains detaile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893F-DAF2-47FB-93FA-22EABFB74D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5-08T15:51:02Z</dcterms:modified>
  <cp:revision>247</cp:revision>
  <dc:subject/>
  <dc:title>Electric Reliability and  Resource Adequacy Update</dc:title>
</cp:coreProperties>
</file>