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5693-1CA3-4D26-9D09-C557B38B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8BE8-4A59-4EBE-A2FC-F5022B90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F13A-76AB-4A0B-AA1E-4DAE8F1A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2314-E9B9-44D1-86C8-2DF72F40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C560-23AC-4300-9EB6-94D47553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A1B3-2504-4687-AC42-D75F4CCD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875C-1867-4D6A-BF81-3F55D128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E0A7-A4E1-493F-BBE6-0813D431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B7C2-4857-4449-898E-3CA89C1D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2FB0-1849-4CA1-94F9-2D405277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BA6A-9767-480C-8976-F4DD5E2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9471-1294-4EB9-ACC1-0B9C656A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A5C7-10CA-4EA3-A54F-B6C919114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23920" y="645804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3712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315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4600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posed Change to Methodology regarding Regulation Service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S 5/10/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Methodolo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s the Regulation Up and Down requirements into blocks of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s the average and standard deviation of deployed Regulation Up and Down by hou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evious month and same month of the previous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s an exhaustion rate of 1.2% or 35 settlement intervals/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709D-F987-46BC-BEB0-38F84DF5D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posed Methodolo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s the requirement to Block Hours for procurement of Regulation Up and D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s the 98.8 percentile of deployed Regulation Up and Down in the previous month and same month of the previous year by hou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s an exhaustion rate of 1.2% or 35 intervals/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s a back-cast requirement that allows ERCOT to adjust when the exhaustion rate exceeds 1.2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0DC8-00A1-4E84-A2CA-2BDBD212D4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istorical Regulation Procure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7280" y="944640"/>
            <a:ext cx="797400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CCD5-A115-4D30-A0C2-7B77F85891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98.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 method using the same historical data with no grouping among hours appears to produce results that are more efficient and closer to the reliability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ing the back-cast in a feedback loop will allow ERCOT to adjust if the exhaustion rate exceeds 1.2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EA41-95E6-42EB-92A4-B4C4AF80E9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dumas</cp:lastModifiedBy>
  <cp:lastPrinted>2007-05-03T20:39:06Z</cp:lastPrinted>
  <dcterms:modified xsi:type="dcterms:W3CDTF">2007-05-08T22:57:17Z</dcterms:modified>
  <cp:revision>40</cp:revision>
  <dc:subject/>
  <dc:title>Instructions</dc:title>
</cp:coreProperties>
</file>