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EC9-1971-4A72-A1A3-8CDFB371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AE9-FA74-4806-A07D-6F066E4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FC2-6C61-48E2-8168-F856BBA1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921-6BE9-4B78-9209-83355A4E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6F82-E650-4591-ADC2-C25B0288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6BB-6EC6-4F73-9ED4-9FE284E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9D5B-025A-428E-8BCF-B7AB685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20F-7CD1-468F-9B4E-9B4D8DF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DCEE-3F18-4EB3-875C-2E8D0EB8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5D5-A7A8-4E4F-9F90-B4943C2A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45F-7610-4D9E-8FE2-9FEEA8D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D3A-8A92-4AFB-8E51-FAB50A20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A02-927D-4DE9-A054-D8FBE38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135-C399-4C4A-920E-792D834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B782-ECFC-4D99-A945-60795936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DE6-9AD1-4575-B506-4FBEDD04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7497-48F2-4E09-82E6-194DA0A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31F-713A-4C8D-BFC5-9ABE270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8FF-74BD-4D5D-809C-329424E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292-0DF6-4616-812C-F29CA16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D36-BF03-4843-81D6-5740DB96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5E0-6171-4C34-BD8C-4869F72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FBF-9912-4F75-8E11-BED6BA0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1C6-5672-4E5C-BAB6-594C5CE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864-9824-4D8E-A725-D3FFA230C0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C811-6231-429A-828B-99F822E15E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ECB4-27F3-41D7-9213-E1D06FEC5E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 notices related to Section 6.5.4(2) – tripping requirements for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training provided to QSE Operators – training material and signed statements from Operators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procedures developed that automate notification process – Operator training and sign-off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ed drill 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ining provided to LaaR with emphasis on the importance of deploying LaaR per Protoc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d certification statements from LaaR that related Protocols requirements had been read and understoo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ulty breaker identified and replaced by one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086-4C4D-4E29-B83D-8C11FE8A7F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laced UPS requiring manual reset with UPS that automatically resets after power out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corrective actions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EC8-CB9D-4274-8EF3-8412947E46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de-through capability of generators during disturb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ion Notice issued to Generator Owner for non-compliance with an ERCOT Operating Guides Requirement – Operating Guide 3.1.4.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ing to discuss corrective action plan with Generating Ent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ing Entity has hired a consultant to review plant relaying – preliminary results has indicated a relay setting probl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documentation and mitigation schedule received on April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6C5-3D81-444B-8573-E6C348B78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Operations has requested that LaaR retest under-frequency relays that did not trip automa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QSEs – 61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completed by May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identical to initial qualification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4(2) – tripping requirements for Laa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taneous telephone notification of all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ly triggered EMS audio alarm signal telemetered to all La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 tripping of one LaaR if it has not begun to ramp down 5 minutes after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EBF-BA5E-463E-8094-2BF3B0BFC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notices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 between QSE and LaaR to re-emphasize requirements, review issues, and develop corrective a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ied and replaced failed transdu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pended participation by violating LaaR until corrective actions ta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-time field manager position created to ensure performance of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 corrective actions largely completed – some additional validation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-performing LaaR to test to validate that corrective actions working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full-time field manager position not yet fil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83D-0A38-405F-90C9-607FA66CA6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nd-Only Portfolio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-minute average scores for wind-only portfolios have ranged from 5 to 6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h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quests for Information issued to 5 wind-only QSEs and ERCOT I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to understand what efforts and activities QSEs are undertaking to improve their wind-only portfolios’ perfor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All responses received by ERCOT Compliance – responses forwarded to ROS Chai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iance to participate as needed and monitor progre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A09-BFB0-4737-87C7-B6B4450EA0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onitoring criteria (PRR 525) implemented in January 2005 – steady CPS1 score improvement for first 6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S1 performance peaked in June 2006 – 15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1 – Effective July 1, 2006 – SCE Performance Charge replaces disqual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2 – Effective July 1, 2006 – 1) Allowed additional exemptions to QSEs, and 2) excluded uncontrollable renewable resources from complying with the metr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SEs removed wind resources from portfolios and placed in new wind-only sub-Q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4BD-67B6-47AF-95D4-5D4D6C7D1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ining performance expected during shoulder months (March/April &amp; October/November)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wer generating units on line because of lower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generating units are cycled daily (turned on to meet load demand and later turned off when load subsid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0 MW (nameplate) of wind generation in ERCOT makes up a larger percentage of on-line gene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CPS1 score – 120.6; expect similar score in Apr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should begin to improve again in May – if not…………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8C4-AD37-48B4-95E4-4DF34F142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further declined in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7:  120.59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6:  143.16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7:  139.59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6:  128.56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March indicate 32 QSEs passed / 3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1CE-258A-44D6-BCD5-0E9971AE5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91D-B188-4C83-AB67-06AE0C73B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9CC-BD89-4147-80FB-737139EBE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6BA-830B-41D8-9EFF-9C922FFE0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3BD-C89B-46EE-A1D7-35D4B80812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ch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734-0EA3-49EF-B200-1EBD04312C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056-A469-4FCF-9FD4-5A813BB0B5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Latest draft list submitted to NERC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ork-in-progre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amp;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NERC issued letters to all owners, operators, &amp; users of the ERCOT Bulk Power System identified by ERCOT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9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FERC approved the Texas Regional Entity Delegation Agre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1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ubmi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ft of 2008 Texas RE Business Plan &amp; Budget to NER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NERC Reliability Standards take effect; mandatory compliance be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818-4D9F-4AF2-AA8B-D26400D5BD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mhenry</cp:lastModifiedBy>
  <dcterms:modified xsi:type="dcterms:W3CDTF">2007-05-07T21:52:53Z</dcterms:modified>
  <cp:revision>489</cp:revision>
  <dc:subject/>
  <dc:title>PRR 525 Compliance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mhenry@ercot.com</vt:lpwstr>
  </property>
  <property fmtid="{D5CDD505-2E9C-101B-9397-08002B2CF9AE}" pid="3" name="_AuthorEmailDisplayName">
    <vt:lpwstr>Henry, Mark</vt:lpwstr>
  </property>
  <property fmtid="{D5CDD505-2E9C-101B-9397-08002B2CF9AE}" pid="4" name="_EmailEntryID">
    <vt:lpwstr>00000000E40420146F57174D83BDFBEBF2D130460700E125D9B764E4DA448BFC30A2A3ECD211000000B972F60000A8F0C0500F07BC4C8C9F54CDE913A077000000057DAA0000</vt:lpwstr>
  </property>
  <property fmtid="{D5CDD505-2E9C-101B-9397-08002B2CF9AE}" pid="5" name="_EmailSubject">
    <vt:lpwstr>Please review '05_11._070504_TAC_Compliance_Presentation'</vt:lpwstr>
  </property>
  <property fmtid="{D5CDD505-2E9C-101B-9397-08002B2CF9AE}" pid="6" name="_NewReviewCycle">
    <vt:lpwstr/>
  </property>
  <property fmtid="{D5CDD505-2E9C-101B-9397-08002B2CF9AE}" pid="7" name="_ReviewCycleID">
    <vt:r8>-1657150103</vt:r8>
  </property>
  <property fmtid="{D5CDD505-2E9C-101B-9397-08002B2CF9AE}" pid="8" name="_TentativeReviewCycleID">
    <vt:r8>-1657150103</vt:r8>
  </property>
</Properties>
</file>