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ABC1F25B-821B-4819-94EF-86791470C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1800"/>
            </a:b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Transition Plan Task Force</a:t>
            </a:r>
            <a:br>
              <a:rPr sz="2800"/>
            </a:b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ROS Meeting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arrie Tucker, ERCOT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hursday, 05/10/2007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last update, TPTF convened 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22-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23-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 accomplish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Readiness &amp; Transition (IRT) Project – Approval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S-1 Approach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 Registration Approach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NPRR, Clarification of the Standard Form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rcial Systems (COMS) Project – Approval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NPRRs regarding credit and settlemen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 Revenue Rights (CRR) Project – Approval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NPRR, Reconfiguring the Annual CRR A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Management System (MMS) Project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age Scheduler Conceptu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Data Warehouse (EDW) Project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for Nodal Section 17, Market Monitoring and 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Model Management Systems (NMMS) Project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 on Hub Cla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NPRRs implementing PUC Rule 25.505; Removal of Pseudo-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onth, TPTF has met/will mee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1-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to discu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ERCOT Readiness and Transition (IRT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EDS 3 Detailed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of EDS 4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Data Warehouse (EDW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of integration, valu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and Design Authority (IDA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Participant Interfac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Management System (EMS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 Conceptu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Power Forecasting Conceptu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54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 to discuss (continued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S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us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s from MIS Project, MMS Project, Market Read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whitepapers regarding Combined Cycle Units and Jointly-Owned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several NPR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Transmission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ing of Generic Transmission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ss and Net MW/Mvar Data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aint Competitiveness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ronization of EECP Event Realig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5471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3:33:38Z</dcterms:created>
  <dc:creator>ctucker</dc:creator>
  <dc:description/>
  <dc:language>en-US</dc:language>
  <cp:lastModifiedBy>ERCOT</cp:lastModifiedBy>
  <dcterms:modified xsi:type="dcterms:W3CDTF">2007-04-30T18:45:10Z</dcterms:modified>
  <cp:revision>84</cp:revision>
  <dc:subject/>
  <dc:title>Texas Nodal</dc:title>
</cp:coreProperties>
</file>