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A108-955E-4C6D-8B2F-0CFE631CA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9A8C-E607-4831-B6B6-D1A1CB3AF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3FDD-C77D-4C62-8BAA-7985D2B4B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C9B8-6868-4F27-8FA4-64931E37B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84CB-0882-44F6-8361-C7B582382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D97A-8CE3-4E0E-B21D-335B249D9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55FA-7B9C-4578-9DA0-8DA6776E8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72AD-CAFE-43B6-A802-D96B2D1C9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15AE-8AA5-40B5-9387-8E1208A9D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5B64-4A8D-492A-9AF1-89722FA05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DB63-9CA9-4F2C-8E5B-73D7850FF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8014-851B-4C8E-85DB-47FC2C64E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6855-A6E3-44C4-A4BB-4EBD6EAB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Funding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23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as SET 3.0 gave up funds (&gt;$1M) upon gating to Execution in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 CART had an immediate need to fund facilities work that was seeking BoD approval that very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followed process by getting Strategic Review Team and Executive Committee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MS was disturbed by the abrupt nature of the funding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C asked RMS and ERCOT to discuss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s of this discussion noted on 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FC7B-E5DD-4D80-A9B1-BD4BAD9AA91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for Managing Changes in Project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 CARTs have authority to make project budget changes &lt;$10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y must still manage within their allocated CART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100k go to the ERCOT Strategic Review Team (directors)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s bring forward proposals for reallocation of funds (including the CART which was releasing the funds in ques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500k go to the ERCOT Executive Committee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ives act on SRT recommendation (affirm/reject/chan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1M go to the ERCOT Board of Directors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ppropriate DPO manager solicits input from impacted market subcommitt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l ERCOT recommendation goes before the B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6120" indent="-266760">
              <a:spcBef>
                <a:spcPts val="4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Market input is included in BoD mater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923F-32E2-4458-84A1-F9A2CD8EE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y of Process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ed step to solicit market subcommittee input on changes greater than $1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formation is gathered by the DPO manager who is giving up the fun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rket input should be gathered at the next regularly scheduled market subcommitte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iming doesn’t allow this process to occur at a regularly scheduled subcommittee meeting, the DPO manager will contact the subcommittee chair to determine if eith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emergency subcommittee meeting is warranted… or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market notice should be sent to gather input from market particip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rket input will be included in the BoD pa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provides additional input for the BoD members to consi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0">
              <a:spcBef>
                <a:spcPts val="451"/>
              </a:spcBef>
              <a:buNone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BF3A-7518-41EF-A3C1-7A58D9CEB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Troy Anderson</dc:creator>
  <dc:description/>
  <dc:language>en-US</dc:language>
  <cp:lastModifiedBy>Troy Anderson</cp:lastModifiedBy>
  <dcterms:modified xsi:type="dcterms:W3CDTF">2007-05-01T19:42:10Z</dcterms:modified>
  <cp:revision>270</cp:revision>
  <dc:subject/>
  <dc:title>Slide 1</dc:title>
</cp:coreProperties>
</file>