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0BF-0B2D-4402-83DE-3A2507D4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B008-B22D-4D91-94E5-726EC6A2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1B5-BCF6-4971-A26F-35AE8BD5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4F5-5F3E-4078-8B64-47FA8EE9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B764-2F53-423D-8B2B-CFA91FE9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9B45-69C4-4829-BFFC-0156059A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36DD-CDDA-45BA-A623-60C6A593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FC4A-0AEC-40D7-B602-1752A700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624E-926C-487C-AE7E-4F5F1865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5927-1EE2-44C1-A6E5-6354C937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1A47-13EF-46B9-ADAB-42325B06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029-C9E1-40D7-AD63-8AD85DE1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6574-5605-4902-9E1B-7D01D780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FDB7-1109-4AC7-BC59-DB201A1B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7922-2CA6-4D79-88F5-AB5F04F8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131E-A317-4609-B972-2EB62B6F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5E30-931C-450F-A72C-B8D3662B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053-0C92-4AAC-B79C-1E3380AC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474E-359A-4692-8272-0135797B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D716-1383-404E-8888-76343346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D5E4-0E5F-4309-9F4E-4284B996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9DC-3A0A-4D8A-8EFF-AFE4732B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253-DC3B-48EC-A2D1-1B1FE596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DD6A-7FE3-4FEC-81BE-E5F48212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28CE-0648-483A-84CD-A4B929F900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00F0-0A22-4937-B051-ED81B76552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rket Metrics Working Grou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2498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S Update: May 9,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ril 17 MMWG M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ance Measures Rulema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CT Staff hopes to publish PFD s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lition of CRs &amp; TDSPs have provided Staff with some sugg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have good discussion at next MMWG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ril 17 MMWG M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rak Reporting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d through draft report from ERC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to bring revised reports in M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oritized reports for ERC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 report of Day to Day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AG Detail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 report of DEV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o present first round of reports to RMS in Ju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ril 17 MMWG M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rak Enhancements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30960" indent="-501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apping up gathering enhancements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89160" indent="-42948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work through ERCOT questions of issues submitted in Apr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9160" indent="-42948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have an enhancement you’d like to recommend – PLEASE DO SO NOW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0960" indent="-501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COT to bring Draft SCR to MMWG in M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0960" indent="-501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ation of all reporting &amp; enhancements on MMWG web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89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xt meeting is Thursday, May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:00 am to 3:00 P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Room 16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 from PUCT Staff on Rulem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revised reports from ERC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Draft SCR for MT Enhanc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ap-up Enhancements gathering ef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GT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xt meeting is Friday, May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:00 am to 3:00 P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Room 206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on getting web page se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begin working through issue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51:13Z</dcterms:created>
  <dc:creator>jgarcia</dc:creator>
  <dc:description/>
  <cp:keywords/>
  <dc:language>en-US</dc:language>
  <cp:lastModifiedBy>Jen Garcia</cp:lastModifiedBy>
  <dcterms:modified xsi:type="dcterms:W3CDTF">2007-05-01T17:16:45Z</dcterms:modified>
  <cp:revision>18</cp:revision>
  <dc:subject/>
  <dc:title>Market Metrics Working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71033</vt:lpwstr>
  </property>
</Properties>
</file>