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FF53-8C04-4206-8A7B-6B1ACD296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CA7E-D48F-4B84-9BFC-D22944B4F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A057-0661-4708-84AE-7DD67D1E5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1034-8E30-4A00-8606-484A12528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1736-A0A7-4C73-8603-7A377A1B6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632A-22C7-4AF6-BA4A-8FF71B25B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04B2-8184-4BB3-8795-D3E90E490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74F4-344E-4102-988B-96D42514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C25B-727D-4040-AB63-5D3A46D89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EE60-740F-4CBC-828D-5C97EEA35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5A37-CE59-4AF5-ABE8-B13C998B0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127-914B-4494-856E-F2FF0FA61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3F2-24AC-42D4-A3D4-6C096519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2333520" y="5466960"/>
            <a:ext cx="36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hparrish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50121_07 Retail Business Processes (RBP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Sub-project of the Service Oriented Architecture (SOA) Initia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rojec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Transaction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8534520" cy="67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 – Completed 12/10/2006 (within schedule and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bilization effort – Completed 03/2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ing –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cent Activities As of 05/0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Stabilization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Architecture Assessment by TIB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Draft Monitoring Enhancement Plan to be completed by Retail Commercial Operations in conjunction with Nodal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 Overall Project Lessons Lear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Project Sig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 Metrics for August 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Processing Metrics – Middlewar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508040"/>
          <a:ext cx="8153280" cy="4511880"/>
        </p:xfrm>
        <a:graphic>
          <a:graphicData uri="http://schemas.openxmlformats.org/drawingml/2006/table">
            <a:tbl>
              <a:tblPr/>
              <a:tblGrid>
                <a:gridCol w="3151080"/>
                <a:gridCol w="2502000"/>
                <a:gridCol w="250020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Volume per 10 minutes (Seebeyo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Processing Time in Seebeyond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4/2006 (M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5/2006 (Tue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6/2006 (Wed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7/2006 (Thu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Average December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Volume per 10 minutes (TIB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Processing Time in TIBCO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2/2007 (M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3/207 (T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4/2007 (W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5/2007 (Thu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Average March,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57200" y="9144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ember, 2006 (Seebeyond) compared to March, 2007 (TIB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1739880"/>
          <a:ext cx="8229600" cy="4051440"/>
        </p:xfrm>
        <a:graphic>
          <a:graphicData uri="http://schemas.openxmlformats.org/drawingml/2006/table">
            <a:tbl>
              <a:tblPr/>
              <a:tblGrid>
                <a:gridCol w="3095640"/>
                <a:gridCol w="2444760"/>
                <a:gridCol w="2689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Volume per 10 minutes (Seebeyo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Processing Time in Seebeyond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4/2006 (M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5/2006 (Tue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6/2006 (Wed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07/2006 (Thu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Average December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Volume per 10 minutes (TIB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Processing Time in TIBCO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30/2007 (M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01/2007 (T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02/2007 (W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03/2007 (Thu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Average April,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Processing Metrics – Middleware Cont’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91440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ember, 2006 (Seebeyond) compared to April, 2007 (TIBC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Processing Metrics – Against Protoc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below represents Initiating Transactions Only provided by ETS.  Complete Transaction Protocol Report from ETS is located with Meeting Materia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681200"/>
          <a:ext cx="8229600" cy="4643280"/>
        </p:xfrm>
        <a:graphic>
          <a:graphicData uri="http://schemas.openxmlformats.org/drawingml/2006/table">
            <a:tbl>
              <a:tblPr/>
              <a:tblGrid>
                <a:gridCol w="1439640"/>
                <a:gridCol w="1287720"/>
                <a:gridCol w="1006200"/>
                <a:gridCol w="1648080"/>
                <a:gridCol w="1514520"/>
                <a:gridCol w="133344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siness Proc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 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Required Respo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ing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/7/2006 Avg Time Within Protocol (Seebeyo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/03/2007 Avg Time Within Protocol (TIB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25: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29: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54: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7: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5: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15: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-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04: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5: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0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8: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00: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11: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4:05: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13: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-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01: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4: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1:00: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34: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59: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00:22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143000" y="63691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5238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parrish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7-05-07T22:36:26Z</dcterms:modified>
  <cp:revision>76</cp:revision>
  <dc:subject/>
  <dc:title>Instructions</dc:title>
</cp:coreProperties>
</file>