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69C52-2755-4B8D-80C6-DC7BA3C3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67A6F-8043-47A1-BDB2-89272B2A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25C02-93BE-4E42-8C0E-0920CE40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6B89F-803A-4201-BCC7-DF3F9EFB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470D-44E6-4CAA-BF6D-0CA0EEE9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87EAD-690A-4D72-B889-2F89F720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A45CB-7597-406E-97A9-9CFB1ED4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C610-FA16-4E86-A217-A0D636AB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11E3-A839-427A-BF8A-F5DB03B5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22544-31F3-444C-A4A4-911C8545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68F85-86D1-42D1-8FCC-3E7CC5D5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2F90E-83A8-4CA1-9347-8DE28ABE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629E-2973-4618-8306-56667F4FF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pril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7 Net Service Availability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914400"/>
          <a:ext cx="784872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784872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pril 2007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43120" y="1066680"/>
          <a:ext cx="74563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1066680"/>
                    <a:ext cx="74563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3520" y="838080"/>
          <a:ext cx="7924680" cy="538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38080"/>
                    <a:ext cx="792468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smallwood</cp:lastModifiedBy>
  <dcterms:modified xsi:type="dcterms:W3CDTF">2007-05-02T22:02:58Z</dcterms:modified>
  <cp:revision>54</cp:revision>
  <dc:subject/>
  <dc:title>Instructions</dc:title>
</cp:coreProperties>
</file>