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CAD-D294-417B-AFFB-BB641584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7A3-BF6E-447C-95B7-66791EE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45C-30B2-4387-B44D-A5F43D38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BB1-EAA4-43DC-AC26-812ECE2B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B74-8737-49C9-9055-730309B8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7EC-5526-4556-ACD4-B596FDD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B8F-249D-43AD-9293-6F05E871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556-6B6E-425C-A4BE-787AD7F8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8CE-8314-4C36-8784-F0A401A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039-8453-4808-91FB-D03EFE9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1A7-D69E-4E63-84E1-06661158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F81-843A-4A44-B690-BFF3D0C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519-21A0-4336-9104-01C2729B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5/22/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rak SIR Rel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ular combination of transitions results in issues being ‘stuck’ without possibility of resolution for Sub Type Cancel with and without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e logic has been corrected for the offending combination of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1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DESIID field definition allows alpha characters which contradicts field spec expectations of Market Participant back-e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DESIID field definition updated to type num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 Close transition fails to update particular field values (Close Date) a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 Closed issues update appropriate fields consistent with issues closed via other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k Insert issues do not have a Withdraw option as do all other issu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users will have Withdraw transition option for Bulk Inser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erformed against optional fields with no data present causing unnecessary performan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without data present will not be sent to ERCOT Registration System for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users do not have access to a usability field in the DEVLSE workflow: Requested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dropdown list available to GUI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I specs (XSDs, WSDLs) available via market notice and 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Trak Inf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D – IAS issues clearing Owner fields after ERCOT transition Select IAS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S workflow updated to retain Owner information unless over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cy in field requirement –vs-  availability on ERCOT Initiated issues resulted in a manual work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Comment field will be made available at the appropriat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Initiated field: Exception Code added to the MarkeTrak GUI without corresponding update to API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PI specs (XSDs, WSDLs) available on market notice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&gt; MarkeTrak Info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Type dropdown list does not include 650 transac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dropdown list available to GUI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I specs (XSDs, WSDLs) available via market notice and 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Trak Inf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 Issue Insert requires that the user wait for processing of the submission file to receive confirmation of successful issu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application performs validation and provides pertinent information for failed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of ESI ID field of 7 characters during submission inconsistent with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 ID field validation changed to 8 characters in the MarkeTrak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ssue with the adapter from MarkeTrak to the ERCOT Registration System results in some submission and transition activities being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users will have the option to bypass this validation when the adapter is unstable and continue with submission and transac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forced to navigate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&gt;MarkeTrak Info to access the applications Us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dded from the MarkeTrak toolbar directly to the Us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55/112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exist with the date/time logic used for DEVLS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date/time fields in MarkeTrak in a consistent manner with User’s Guide and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1:02:18Z</dcterms:created>
  <dc:creator>dmichelsen</dc:creator>
  <dc:description/>
  <dc:language>en-US</dc:language>
  <cp:lastModifiedBy>dmichelsen</cp:lastModifiedBy>
  <dcterms:modified xsi:type="dcterms:W3CDTF">2007-05-03T14:03:28Z</dcterms:modified>
  <cp:revision>5</cp:revision>
  <dc:subject/>
  <dc:title>05/22/2007</dc:title>
</cp:coreProperties>
</file>