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C8F-A4AA-48B3-8A76-EF3BF957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371-1BD4-4A52-A00C-3D886C4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E1A-926C-4B75-B875-63A0F51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467-BEBE-4482-99C5-4407CD4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1AC-0427-487B-B592-D70FE6F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5F0-B25B-4254-99F3-354542F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F32-A35A-4B8E-BBB6-68DF754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7A7-6FC8-4E29-86C4-DCEEBCE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2BB-39C6-4DF1-8F61-0AEA454A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0B3-C6AE-48B0-81D4-3E7E102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3F0-9398-4D8B-8EFC-1A420A6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12D-0F4A-454E-B3ED-74D86FD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46A-7C4F-494D-AE8F-C6A7FF5F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9th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799-324D-4E71-ADA5-BF7C1333DBC8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Requirements for Customer Bill file from MCT meeting on Thursday 4/26/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n requirements for a data transport failover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96D-035B-4361-9744-C36D6F3FDAB9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DTWG continues working with ERCOT to support implementation of SCR745 including the new architectu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conversion to new ERCOT NAESB application, completed on 3-9-2007. Stabilization complete 3-30-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supporting changes to Paperfree deployment phase. Volume tests on new platform 15 days at 70M+ transactions. Validated platform is currently being purch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248-E148-4C52-9311-043D35AAA400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5-2 TDTWG meeting, system incidents for April were revie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level overview of new Service Desk Tool (PR60055- BMC Reme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F6C-0263-4B8C-BDB6-E8AB8D4F3910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Continue working with ERCOT and MPs to revise the Retail Market Transaction Processing Service Availability (AKA SLA) docu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the new draft SLA. Suggested a few revisions. Revised draft sent to RMS, TAC and TDTWG lists for comments. A conference call is proposed for late May with the final revision to be provided to RMS in J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1F4-F1C6-4C80-8681-88B2218EF5B1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BCI file and the TDTWG NAESB EDM v1.6 Implementation Gu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and agrees with the Flat File (FF) format and file naming convention for the Customer Billing Contact Information (CBCI) file as recommendation at the MCT meeting on 4-26-2007 and has added the information to the TDTWG NAESB EDM v1.6 Implementation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99F-48F9-4800-BAEA-A638DAE6B276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cussion on requirements for a data transport failover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discussed several Market NAESB failure scenarios (Point to Point, ERCOT, Market wide) and has recommended a workshop scheduled for Jun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draft language to add to the TDTWG NAESB EDM v 1.6 Implementation Guide to address this iss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113-5AF1-42F5-8D84-49E38336283E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05D-B262-433D-AB43-28888A08E96D}" type="slidenum">
              <a:t>8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05-03T12:40:18Z</dcterms:modified>
  <cp:revision>423</cp:revision>
  <dc:subject/>
  <dc:title>PowerPoint Presentation</dc:title>
</cp:coreProperties>
</file>