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BEA4-49DE-481B-9893-1AF2AB519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3004-65FC-4DB2-B47E-8E97E1CAE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CE8-D1DD-46B2-A480-EFBB3269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4CD2-5CC8-4D53-8ACE-B8727788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8D0-34BA-4B71-A8C0-D93A12FD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C982-DDFF-4732-8EF4-2035FD47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BD2-A06D-4F10-BAF8-C8C3D8DB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E22-24AF-4EB6-B644-42EC2F04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8BE-F104-469E-9794-302717BE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62D-CBC8-4FE1-91DC-D04A454E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8D45-C78B-480C-A264-D7BEEF2B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D7A7-3DE4-4FA9-B029-EA56FAC4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581-815C-4D65-8FD1-8338CCF5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F105-5E5F-4C9B-9B89-EB5021EA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6419-88B4-49A2-91BC-A868E1858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ay 4,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080-33E8-48B3-8B7D-B2265CE456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380880" y="1828800"/>
            <a:ext cx="8534160" cy="3656880"/>
            <a:chOff x="380880" y="1828800"/>
            <a:chExt cx="8534160" cy="365688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420120" y="1974960"/>
              <a:ext cx="8494920" cy="351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80880" y="1828800"/>
              <a:ext cx="86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.1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80880" y="1219320"/>
            <a:ext cx="8229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d5f5d"/>
                </a:solidFill>
                <a:uFillTx/>
                <a:latin typeface="Times New Roman"/>
              </a:rPr>
              <a:t>LPG Reference to Decision Tree Annual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CAF-018B-4025-BF62-F7703EF4E7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1295280"/>
            <a:ext cx="8686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 fontScale="88000"/>
          </a:bodyPr>
          <a:p>
            <a:pPr marL="256680" indent="-25668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age Time Period:  January 2002 through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May 200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eter reading periods for all rea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-256680">
              <a:lnSpc>
                <a:spcPct val="95000"/>
              </a:lnSpc>
              <a:spcBef>
                <a:spcPts val="99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-256680">
              <a:lnSpc>
                <a:spcPct val="95000"/>
              </a:lnSpc>
              <a:spcBef>
                <a:spcPts val="201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Classify each usage value as a winter or shoulder re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-256680">
              <a:lnSpc>
                <a:spcPct val="80000"/>
              </a:lnSpc>
              <a:spcBef>
                <a:spcPts val="201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Only shoulder and winter readings were used in th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Winter/Shoulder: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start &gt;= September 20 and stop &lt;= May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Winter: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start &gt;=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ember 1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and stop &lt;=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ebruary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Shoulder: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start &gt;= September 20 and stop &lt;=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November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760" indent="-212040">
              <a:lnSpc>
                <a:spcPct val="40000"/>
              </a:lnSpc>
              <a:spcBef>
                <a:spcPts val="400"/>
              </a:spcBef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start &gt;=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March 1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and stop &lt;= May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760" indent="-21204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»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easonal Crossover Rea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880" indent="-196920">
              <a:lnSpc>
                <a:spcPct val="40000"/>
              </a:lnSpc>
              <a:spcBef>
                <a:spcPts val="224"/>
              </a:spcBef>
              <a:buClr>
                <a:srgbClr val="ff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880" indent="-19692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If 60% or more of the days in a reading are in the shoulder season the reading is classified as a shoulder 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880" indent="-19692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If 60% or more of the days in a reading are in the winter season the reading is classified as a winter 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880" indent="-19692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Other wise the reading is discar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7189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2007 Decision Tree – Residential Annual Updat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4ECA-4467-4C5C-83E6-3502A11277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812880" y="990360"/>
            <a:ext cx="8788320" cy="4994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lvl="1" marL="92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spcBef>
                <a:spcPts val="24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If the highest winter reading kWh/day is less tha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kWh/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hen assign “RESLOW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spcBef>
                <a:spcPts val="249"/>
              </a:spcBef>
              <a:buClr>
                <a:srgbClr val="000099"/>
              </a:buClr>
              <a:buFont typeface="Times New Roman"/>
              <a:buAutoNum type="arabicPeriod" startAt="2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If R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RESHIWR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&gt; 0.60 and R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RESHIWR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&gt; R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RESLOWR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hen assign “RESHIW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spcBef>
                <a:spcPts val="249"/>
              </a:spcBef>
              <a:buClr>
                <a:srgbClr val="000099"/>
              </a:buClr>
              <a:buFont typeface="Times New Roman"/>
              <a:buAutoNum type="arabicPeriod" startAt="3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If the number of readings available &gt;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nd R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RESHIWR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&gt; 0.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nd (R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RESHIWR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009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) &gt; R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RESLOW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nd Winter Max kWh/day &gt;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hen assign “RESHIW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spcBef>
                <a:spcPts val="249"/>
              </a:spcBef>
              <a:buClr>
                <a:srgbClr val="000099"/>
              </a:buClr>
              <a:buFont typeface="Times New Roman"/>
              <a:buAutoNum type="arabicPeriod" startAt="4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Otherwise assign “RESLOW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380880"/>
            <a:ext cx="68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5f5d"/>
                </a:solidFill>
                <a:latin typeface="Arial"/>
              </a:rPr>
              <a:t>2007 Decision Tree – Residential Annual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151-6AD3-43FD-9ECA-C787026F43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dential Annual Validation for 2007 is likely to result  6.3 % migr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continued use of the  new models, future annual migration rates should be lower than the 2007 rate                ( estimated 4.2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304920"/>
            <a:ext cx="7527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 Unicode MS"/>
              </a:rPr>
              <a:t>Residential – 2007 Annual Validatio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C3C-AC9E-4264-AC81-2B2070500C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447560"/>
            <a:ext cx="739908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siness - Assignment Year for Average Load Factor calculations: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July 2006 through June 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38088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2007 Decision Tree – Business Annual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AE6-AC99-46A1-BFFA-EBC4D95870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1295280"/>
            <a:ext cx="85899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cc99"/>
                </a:solidFill>
                <a:latin typeface="Arial"/>
              </a:rPr>
              <a:t>V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S Recommends to TAC Approval of the following Decision Tree Annual Upd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520" y="3505320"/>
            <a:ext cx="891540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sion Tree reflecting Residential Annual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ofile Decision Tree – Annual Update DRAFT eff 06-15-07 RES.x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sion Tree reflecting Business Annual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ofile Decision Tree – Annual Update DRAFT eff 8-15-07 BUS.x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E58-B128-4222-AF1B-C3CF050C07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PGRR 020 Annual Validation Resolution Targe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5280" y="1914120"/>
            <a:ext cx="76320" cy="103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FBEA-12D9-4BBA-96EA-1A0885C2C7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GRR 02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1.2.1) Annual Validation of Load Profile Type Assignment for RES and BUS Load Factor ESI 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e current LPG language requires ERCOT and the TDSP to work together until all issues are resolved.  The 100% resolution target unduly burdens all involved and cannot be achieved within a reasonable timeframe because of data synchronization and other issues.  LPGRR as proposed would provide time-savings for TDSPs and ERC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70B9-592D-4209-AEF3-8BF73C1AC2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GRR 02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revision changes the 100% target to 9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maining 1% of transactions would continue to be worked on from a profiling reporting standpoint through “MarkeTrak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Market Impact – minimal to TDSPs  (impact analysis posted 3/27/07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PS recommends to TAC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99"/>
                </a:solidFill>
                <a:uFillTx/>
                <a:latin typeface="Times New Roman"/>
              </a:rPr>
              <a:t>Approval of LPGRR 0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DCB-B883-4769-8C84-FB5C31201B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AB8-9A1B-4FE5-B64F-7A06EDFD5C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-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s of Recent Meeting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CCWG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Met April 1</a:t>
            </a:r>
            <a:r>
              <a:rPr b="0" lang="en-US" sz="3200" spc="-1" strike="noStrike" u="sng" baseline="30000">
                <a:solidFill>
                  <a:srgbClr val="000099"/>
                </a:solidFill>
                <a:uFillTx/>
                <a:latin typeface="Times New Roman"/>
              </a:rPr>
              <a:t>st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 &amp; May 1</a:t>
            </a:r>
            <a:r>
              <a:rPr b="0" lang="en-US" sz="3200" spc="-1" strike="noStrike" u="sng" baseline="30000">
                <a:solidFill>
                  <a:srgbClr val="000099"/>
                </a:solidFill>
                <a:uFillTx/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Since Last TAC Meeting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viewed &amp; edited updates to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OPSMG Section 4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(Submitted 003COPMGRR, Section 4, Market Notice Communication Process on April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Updated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OPSMG 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viewed, prepared updates to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OPSMG Section 11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(Reports &amp; Extra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rafting language for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OPSMG Section 5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(Commercial Systems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rafting Language for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OPSMG Section 13   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(Renewable Energy Cred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D65-DCB3-461A-A812-75E8A95C71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s of April Meeting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SDA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epared draft PRR and NPRR to simplify the dispute process – following discussion at COPS April 10</a:t>
            </a:r>
            <a:r>
              <a:rPr b="0" lang="en-US" sz="24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meeting PRR was withdrawn and new language is being drafted &amp; will be submitted in June.  SDAWG will work on the verifiable costs process in nodal and zonal markets and deliver results to COPS &amp; W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orking with ERCOT Commercial Ops to define nodal data extract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87C-BEF0-4978-B951-ACF42CB0B1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PS - PWG Activity Updat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PWG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Update on New Profile Implementa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Updates to Profile Decision Tree Revision and Approval Proces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9.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nnual Validation of Load Profile Type Assignment for RES &amp; Bus Load Factor ESI I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1.2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esentation - “Round 2 Sample Design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61E-E034-4150-8CBE-ED3217F299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1087560"/>
            <a:ext cx="7924680" cy="5581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tatus PWG 2007 Goal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D0B4-876D-413F-8409-1BA117A679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PS - PWG Activity Upd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ew ERCOT Load Profile Update Implementation Date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05/15/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E66A-38AA-4E8A-B4B6-3234B80E8D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1755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WG –  New Profile Status Repor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143000"/>
            <a:ext cx="8534520" cy="47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R 109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 Transition to new load profiles, Option 3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-test almost complet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test to start week of March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 according to schedule –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Testing Comp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R 1123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Create folders for posting of Auxiliary backcasts to TML and ercot.com, and manually popul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now being performed as maintenance—no longer a SIR 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Folders have been created and Backcasts to TML Pos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R 112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Automated posting of Auxiliary backcasts to TML and ercot.c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d tes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under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completed prior to May 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On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66FF-67CF-40BF-8483-5BB7D3D873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WG –  New Profile Implem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rade date 05/15/07 onward, profiles generated from new models will be posted in the “primary” fol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les from old models will be posted in the auxiliary folder for 60 days and archived on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rcot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w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0E2C-2E88-48EC-97EA-22100882DF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file Decision Tree Revision and Approval Proces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9.1.1)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WG proposed changes approved by COPS for consideration and approval by TAC.</a:t>
            </a:r>
            <a:br>
              <a:rPr sz="3200"/>
            </a:b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cc99"/>
                </a:solidFill>
                <a:latin typeface="Times New Roman"/>
              </a:rPr>
              <a:t>Vote</a:t>
            </a: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4F11-9AFC-44CA-A02F-46AAAEB698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balbracht</cp:lastModifiedBy>
  <dcterms:modified xsi:type="dcterms:W3CDTF">2007-05-02T19:02:00Z</dcterms:modified>
  <cp:revision>219</cp:revision>
  <dc:subject/>
  <dc:title>Point-to-Point</dc:title>
</cp:coreProperties>
</file>