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918B-E535-4F86-9551-1EBAFFF9C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B6ED-9E10-4DD7-AA77-B1C5BE96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6E63-444D-441C-BE5D-AA116A01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EBBF-A563-48BE-8852-5BAEB905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FB31-E29B-4205-AE8D-B203C58B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3079-C702-4E1D-A902-ADB2B38B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F983-D295-4908-AB93-7AF47AE4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7701-B14C-4667-8CA5-0622E617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C5D5-9292-4D03-A674-C68E535D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32F0-A9D9-442E-AD2A-59E96EE5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4CE8-F89B-4CAB-B6C8-968A7F44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6A95-8D73-4263-80D0-0F553DD8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6A7D-EF34-4DA4-B7C1-DF1D2A4F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255A-D9AC-4E7E-BE50-546F7B43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A04E-6314-418F-96EA-02B93C440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9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9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191120" cy="225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04/13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to begin with Day 1 transactions flowing: 04/16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407 scheduled to conclude: 05/29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: 06/15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New REPs – 21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New Umbrella D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Existing REPs testing in a new territory – 0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s testing new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 testing Change of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 (New Umbrella DUNs) changing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,032 Total T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comp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tarted on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05/02/07 at 9:00 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.94%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6.67% by end of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 outstanding transactions for Week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bound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Outbound from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32 outstanding transactions for Week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7 Inbound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5 Outbound from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20 outstanding transactions for Week 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est Days 11-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6 Inbound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72 Outbound from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2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outstanding transactions for Week 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est Days 16-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Inbound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Outbound from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407 is testing for TX SET Version 3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s which have elected not to test for TX SET 3.0 will lose their ERCOT cert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cripts were developed specifically for TX SET 3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 Robin testing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isting CR who is currently certified in an IOU or MOU/EC territory will test with at least one IOU TDSP or MOU/EC T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esting with at least one IOU or MOU/EC TDSP, the CR will be certified in all IOU and MOU/EC TDSP territories with whom they were previously cer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for Thought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407 is the largest Flight since MIMO in 05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O had 28,669 Total Tasks (compared to 22,0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O had 2,028 Total Scripts (compared to 2,1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largest Flight was 0104, which had a total of 16,000 Tota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schamblee</cp:lastModifiedBy>
  <dcterms:modified xsi:type="dcterms:W3CDTF">2007-05-02T15:24:15Z</dcterms:modified>
  <cp:revision>72</cp:revision>
  <dc:subject/>
  <dc:title>Instructions</dc:title>
</cp:coreProperties>
</file>