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9E1A52-97E3-4218-82B9-972092C3E4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DB80C-8E83-4C5E-9489-3F91D29BC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97FCB5-6EDE-4B1D-B2E8-0DEF433E02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5DF593-4936-46FF-BC35-6E4E44C868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7B5AB-483F-4514-BDB5-719AEFD9F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7CAD0-9910-4150-9CD2-7DBB4898E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E346A-C72F-48BB-99D0-F2F533C98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C6A1F-2530-48E6-BDCC-D8B24418D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C47E0-664D-4C34-AFEE-F6DD04C99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6B159-3432-42DA-9516-F0D7A48EF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66EFC-7676-4E91-B2D8-295B50F76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15E81-EE58-462F-A7D2-761863F5CE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EDAC4-4620-4C96-8C29-39739ACAA1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MS 2007 Goals Update to TAC</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3,200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MS 2007 Goals Updat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and improve SCR745, Retail Market Outage Evaluation &amp; Resolution, implementation and reporting. </a:t>
            </a:r>
            <a:endParaRPr b="0" lang="en-US" sz="2000" spc="-1" strike="noStrike">
              <a:solidFill>
                <a:srgbClr val="000000"/>
              </a:solidFill>
              <a:latin typeface="Arial"/>
            </a:endParaRPr>
          </a:p>
          <a:p>
            <a:pPr lvl="1" marL="743040" indent="-285840">
              <a:lnSpc>
                <a:spcPct val="80000"/>
              </a:lnSpc>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Reported to be moving into closing stage. MP’s will now define post success criteria and monitor to see if action accomplished intent of eliminating single points of failure.</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 ERCOT Service Availability Agreement to be inclusive of service degradation Issues. </a:t>
            </a:r>
            <a:endParaRPr b="0" lang="en-US" sz="2000" spc="-1" strike="noStrike">
              <a:solidFill>
                <a:srgbClr val="000000"/>
              </a:solidFill>
              <a:latin typeface="Arial"/>
            </a:endParaRPr>
          </a:p>
          <a:p>
            <a:pPr lvl="1" marL="743040" indent="-285840">
              <a:lnSpc>
                <a:spcPct val="80000"/>
              </a:lnSpc>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An updated SLA is in development and is inclusive of, in a separate report, service degradation issues. Anticipate RMS vote on new SLA during June 13 RMS meeting.</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 implementation of SCR748, Website Enhancements for ERCOT Outage Notifications.</a:t>
            </a:r>
            <a:endParaRPr b="0" lang="en-US" sz="2000" spc="-1" strike="noStrike">
              <a:solidFill>
                <a:srgbClr val="000000"/>
              </a:solidFill>
              <a:latin typeface="Arial"/>
            </a:endParaRPr>
          </a:p>
          <a:p>
            <a:pPr lvl="1" marL="743040" indent="-285840">
              <a:lnSpc>
                <a:spcPct val="80000"/>
              </a:lnSpc>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Slated for 3Q07 implementation</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MS 2007 Goals Updat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9360">
            <a:solidFill>
              <a:srgbClr val="000000"/>
            </a:solidFill>
            <a:miter/>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ful TX SET 3.0 Implementation</a:t>
            </a:r>
            <a:endParaRPr b="0" lang="en-US" sz="2000" spc="-1" strike="noStrike">
              <a:solidFill>
                <a:srgbClr val="000000"/>
              </a:solidFill>
              <a:latin typeface="Arial"/>
            </a:endParaRPr>
          </a:p>
          <a:p>
            <a:pPr lvl="1" marL="743040" indent="-285840">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TX SET and MCT have defined processes inclusive of market shutdown timing prior to and during transition.</a:t>
            </a:r>
            <a:endParaRPr b="0" lang="en-US" sz="2000" spc="-1" strike="noStrike">
              <a:solidFill>
                <a:srgbClr val="000000"/>
              </a:solidFill>
              <a:latin typeface="Arial"/>
            </a:endParaRPr>
          </a:p>
          <a:p>
            <a:pPr lvl="1" marL="743040" indent="-285840">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TTPT developed additional scripts to support MP testing</a:t>
            </a:r>
            <a:endParaRPr b="0" lang="en-US" sz="2000" spc="-1" strike="noStrike">
              <a:solidFill>
                <a:srgbClr val="000000"/>
              </a:solidFill>
              <a:latin typeface="Arial"/>
            </a:endParaRPr>
          </a:p>
          <a:p>
            <a:pPr lvl="1" marL="743040" indent="-285840">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Flight 0407 Market testing in progr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MarkeTrak Ph II enhancements and performance monitoring</a:t>
            </a:r>
            <a:endParaRPr b="0" lang="en-US" sz="2000" spc="-1" strike="noStrike">
              <a:solidFill>
                <a:srgbClr val="000000"/>
              </a:solidFill>
              <a:latin typeface="Arial"/>
            </a:endParaRPr>
          </a:p>
          <a:p>
            <a:pPr lvl="1" marL="743040" indent="-285840">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MMWG has been developing documentation identifying enhancements to market tool. ERCOT has taken market feedback and is developing first draft of SCR that will be reviewed at May 10 MMWG meeting.</a:t>
            </a:r>
            <a:endParaRPr b="0" lang="en-US" sz="1800" spc="-1" strike="noStrike">
              <a:solidFill>
                <a:srgbClr val="000000"/>
              </a:solidFill>
              <a:latin typeface="Arial"/>
            </a:endParaRPr>
          </a:p>
          <a:p>
            <a:pPr lvl="1" marL="743040" indent="-285840">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IGTF is also contributing suggestions for change to support consistent and timely resolution to variances.</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MS 2007 Goals Update</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 PUCT Activities: Advanced Meter Rulemaking, Performance Measures and, Prepay Rulemakings</a:t>
            </a:r>
            <a:endParaRPr b="0" lang="en-US" sz="2000" spc="-1" strike="noStrike">
              <a:solidFill>
                <a:srgbClr val="000000"/>
              </a:solidFill>
              <a:latin typeface="Arial"/>
            </a:endParaRPr>
          </a:p>
          <a:p>
            <a:pPr lvl="1" marL="743040" indent="-285840">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AMR Special Meeting to discuss proposal for adoption May 8 and then to PUC Open Meeting on May 10. COMET/Retail Metering WG monitoring along with onsite renewable generation activity.</a:t>
            </a:r>
            <a:endParaRPr b="0" lang="en-US" sz="1800" spc="-1" strike="noStrike">
              <a:solidFill>
                <a:srgbClr val="000000"/>
              </a:solidFill>
              <a:latin typeface="Arial"/>
            </a:endParaRPr>
          </a:p>
          <a:p>
            <a:pPr lvl="1" marL="743040" indent="-285840">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CR's and TDSP's met collaboratively for the purpose of developing a joint recommendation for the pending Performance Measures Rulemaking.  The recommendation was presented to Staff on April 30.</a:t>
            </a:r>
            <a:endParaRPr b="0" lang="en-US" sz="1800" spc="-1" strike="noStrike">
              <a:solidFill>
                <a:srgbClr val="000000"/>
              </a:solidFill>
              <a:latin typeface="Arial"/>
            </a:endParaRPr>
          </a:p>
          <a:p>
            <a:pPr lvl="1" marL="743040" indent="-285840">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Prepay Rulemaking:  No Update</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ity Move-ins:  Continue PRR672, Retail Market Timing Necessary for PUCT Project 29637, effort to improve ERCOT throughput of 814_20 maintenance transaction  </a:t>
            </a:r>
            <a:endParaRPr b="0" lang="en-US" sz="2000" spc="-1" strike="noStrike">
              <a:solidFill>
                <a:srgbClr val="000000"/>
              </a:solidFill>
              <a:latin typeface="Arial"/>
            </a:endParaRPr>
          </a:p>
          <a:p>
            <a:pPr lvl="1" marL="743040" indent="-285840">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PRR707 developed and approved to support ERCOT ability to improve 814_20 processing</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MS 2007 Goals Updat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goal added at 5/3/07 TAC Leadership Meeting:</a:t>
            </a:r>
            <a:endParaRPr b="0"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Identify and Elevate the issues related to net metering and small renewable distributed gene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7T15:11:19Z</dcterms:created>
  <dc:creator>AEP</dc:creator>
  <dc:description/>
  <dc:language>en-US</dc:language>
  <cp:lastModifiedBy>AEP</cp:lastModifiedBy>
  <dcterms:modified xsi:type="dcterms:W3CDTF">2007-05-07T16:44:46Z</dcterms:modified>
  <cp:revision>2</cp:revision>
  <dc:subject/>
  <dc:title>RMS 2007 Goals Update to TAC</dc:title>
</cp:coreProperties>
</file>