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4F0-252D-4773-B466-BD4BABA6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789-A4BD-4BD7-A040-D66A53F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C3C-9E2D-4771-B4F9-724F0EFD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4C1-2D58-4A19-B118-25A46A07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6D8-9C00-41BE-9351-3B8651C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D52-BF61-49A9-A474-38EB786A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4C8-997E-4B1B-821B-E1E75D41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F0C-5977-4590-8787-F48345D7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D21-047A-4237-9683-AD8994E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A00-139E-483B-9262-7A0FD28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774-C9CE-4B99-8DE3-62C4BE13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0A2-229D-421B-838B-52A07F9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F1C9-329C-4841-A4E5-F1DCBC83F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5A0-2C5C-4DBC-A3CC-1CF88DDD6E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Switch V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880" y="6384960"/>
            <a:ext cx="77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AS Issue Voting Details: 04/01/07– 4/3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600200"/>
          <a:ext cx="7696080" cy="4421160"/>
        </p:xfrm>
        <a:graphic>
          <a:graphicData uri="http://schemas.openxmlformats.org/drawingml/2006/table">
            <a:tbl>
              <a:tblPr/>
              <a:tblGrid>
                <a:gridCol w="1539720"/>
                <a:gridCol w="1584360"/>
                <a:gridCol w="1494000"/>
                <a:gridCol w="1554120"/>
                <a:gridCol w="1523880"/>
              </a:tblGrid>
              <a:tr h="102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2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807-E226-40ED-A44A-2D535FDEA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447920"/>
          <a:ext cx="8001000" cy="487656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19320"/>
                <a:gridCol w="1371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84F-87B1-454B-A806-D21C087215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Non-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447920"/>
          <a:ext cx="8001000" cy="358128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19320"/>
                <a:gridCol w="137160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Non-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9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491-8ABC-43E7-8E35-A174E4A41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Issues Submitted By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38496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Submitted By Source: 04/01/07 – 04/3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62120" y="1295280"/>
          <a:ext cx="7391160" cy="5042160"/>
        </p:xfrm>
        <a:graphic>
          <a:graphicData uri="http://schemas.openxmlformats.org/drawingml/2006/table">
            <a:tbl>
              <a:tblPr/>
              <a:tblGrid>
                <a:gridCol w="2164680"/>
                <a:gridCol w="1194840"/>
                <a:gridCol w="1343880"/>
                <a:gridCol w="1492920"/>
                <a:gridCol w="119484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bu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Submitted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67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1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0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DA0-4690-4421-A570-4C903BD2A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Withdrawn Faile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3849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Withdrawn or Failed Analysis: 04/01/07 – 04/3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600200"/>
          <a:ext cx="7848720" cy="419040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Failed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7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7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ithdra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85A-4624-40FC-9585-68B1A9C85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4D0-040D-424D-A50F-B8D0F7D2B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88D-7210-4BDD-97E1-F3E4629919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1600200"/>
          <a:ext cx="7772400" cy="5010120"/>
        </p:xfrm>
        <a:graphic>
          <a:graphicData uri="http://schemas.openxmlformats.org/drawingml/2006/table">
            <a:tbl>
              <a:tblPr/>
              <a:tblGrid>
                <a:gridCol w="2610000"/>
                <a:gridCol w="917640"/>
                <a:gridCol w="1057320"/>
                <a:gridCol w="1066680"/>
                <a:gridCol w="1066680"/>
                <a:gridCol w="10540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Cancel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Obj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COT Operation R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it no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jected by 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xecu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Exce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C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y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e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U-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537-EE78-448F-9C49-BA0801C73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177-A958-4553-BE87-5745193967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5000" y="3505320"/>
          <a:ext cx="741708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3505320"/>
                    <a:ext cx="7417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F65-060A-45DE-A0FB-07F3DC0D4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5800" cy="39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C2C-9CB4-41D8-8E06-C5BA085DB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231-C5BA-411D-A24F-8B0BD51C2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Submitted by Sub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371600"/>
          <a:ext cx="8229600" cy="482436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167652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97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TD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out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nadvertent 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issing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ject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p of Rec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iebel CHG/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Usage/Billing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D2D 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94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8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2E2-1F0F-4532-A426-8CE6FD8AE7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7-05-02T19:04:33Z</dcterms:modified>
  <cp:revision>673</cp:revision>
  <dc:subject/>
  <dc:title>PowerPoint Presentation</dc:title>
</cp:coreProperties>
</file>