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916F-67F1-4BAA-BBEA-BAF808D8D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8E5-B312-495D-A59F-D58AA686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EF3-CED0-4EC2-8004-0A470275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C58-E5A9-4946-B632-677B95A8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D87-F0C1-4DF3-A1DD-C216E417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D17-FB0B-42F3-B016-0B80A454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147-12B3-4C03-B796-95F8F71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B0D-2A18-4F53-B310-7D9A53BB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258-5E10-4652-97C6-1C05ED4C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DD5-BA62-4B9D-AFD0-9FAB22F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CB6-D9E9-475C-8902-D749E5F0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10D-0131-4525-AB69-A058B89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2CE-799E-4E77-9E29-7B0BBC3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F522-53B1-4619-8703-681156DB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9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Metering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br>
              <a:rPr sz="9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ail Market Workshop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5/09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79820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C Req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itial Pla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 of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7339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-76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AC Request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MS Reported to TAC that a Broad Range of Issues were Beginning to Surface Associated with Renewabl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C Requested that RMS Coordinate a Task Forc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ERCOT Protocols and PUC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t Issues and Identify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ort back to T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RMS, WMS, COPS and Variou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etitive Metering Working Group (COMET WG) leadership was Assigned the responsibility to Plan an Agenda and Lead the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146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itial Plan and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160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Meeting Forum to Educate Attend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nda Created to Provide Information Related to Small Renewable Gener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CT Substantiv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islativ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ion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DSPs Role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ed Austin Energy’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view of the ERCOT REC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instorm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502320" y="208080"/>
            <a:ext cx="25146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8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st of 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definition for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newabl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ous Options for REP B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Monthly Usag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 Settlement Data for Renewabl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r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able Metering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greg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res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320760"/>
            <a:ext cx="2514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0" y="15228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8288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inue to Track Development of Rules and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hedule Next Meeting in the First week of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tegorize Issues, Gaps,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cuss and Recommend Assignment of Tasks to appropri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1523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076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a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67172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7-05-03T19:59:38Z</dcterms:modified>
  <cp:revision>125</cp:revision>
  <dc:subject/>
  <dc:title>Slide 1</dc:title>
</cp:coreProperties>
</file>