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A4D-8BEF-43E4-B95D-802786E05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AB8-DE89-4E96-86A6-7BF135AD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8A20-113B-4D75-BBC5-205BD990E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3492-C901-4DE9-B7A3-B2B158502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B4B2-6F57-436C-96B5-0A59C1242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B442-3A81-4E75-9825-E0A55935C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EA39-C0AD-4CD0-A3E1-A17AE4DA2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7171-9942-40AF-BCA4-ED33BD12E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7F27-7A8B-4D53-A22D-A35E9F585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76DA-4E9C-4209-AE77-00B56854B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C44E-B601-44A2-91EB-30B33BCEC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AED0-8097-42FF-A1A9-6F31FE7EA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80A5-F9AF-4D73-A24F-0A0E8A8C1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8744-EC97-4BE4-9422-D7BAA33F9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91046261-74C6-4F2F-940E-0DF89B39FA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ART 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gle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a Feuerb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Ka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ioritization folder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0840"/>
            <a:ext cx="664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uiding Principles of Prioritization”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084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2008 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95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897200"/>
            <a:ext cx="23097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Preliminary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21 – Final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8320" y="1684440"/>
            <a:ext cx="203184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5316480"/>
            <a:ext cx="3362400" cy="14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ost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4 – Strategic Review Team (SRT)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Initi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9 – Fin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4122720"/>
            <a:ext cx="204948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497400"/>
            <a:ext cx="22762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Prioritization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8 – Approve 2008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42670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6172200"/>
            <a:ext cx="3870360" cy="441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Many of the entities above may choose to schedule a special meeting to conduct their 2008 project prio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62520" y="4267080"/>
            <a:ext cx="990360" cy="914400"/>
          </a:xfrm>
          <a:custGeom>
            <a:avLst/>
            <a:gdLst>
              <a:gd name="textAreaLeft" fmla="*/ 0 w 990360"/>
              <a:gd name="textAreaRight" fmla="*/ 990720 w 99036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128000">
            <a:off x="6781320" y="426456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6128000">
            <a:off x="7619760" y="258840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Initial CART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2008 CART Budge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s proposed during 2007 project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orporate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arke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tail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Systems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onal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15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ical Path Items for Nod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and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ject budget is less than prior years due to impacts of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budgets are subject to change based on ERCOT/market priorities and resource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8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5-01T21:14:41Z</dcterms:modified>
  <cp:revision>99</cp:revision>
  <dc:subject/>
  <dc:title>Slide 1</dc:title>
</cp:coreProperties>
</file>