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E79-ADDD-4D94-A147-F53CA74F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EE1-85A4-4846-9CDA-6C0B1D1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2C1-71BD-410D-95AF-6EB5080B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C93-602D-4AB1-8054-B69F1BD9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72F-D086-4A8C-AA66-0643D21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1D9-E451-4534-815A-426182D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27B-559D-4EE8-A145-BB360A8D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177-BB0E-4729-9F98-6E239AF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F3E-2754-4BA7-A676-F43F802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F70-CC52-4A0A-AFF4-09908C7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0F4-619F-41A5-A84B-1A464E7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8B8-46A2-45FA-AB5E-91CA507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D40-030D-43B1-BD55-9CEBBB1D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9th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762-D159-4C3E-9159-56665FF8FE9A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Requirements for Customer Bill file from MCT meeting on Thursday 4/26/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n requirements for a data transport failover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7D7-3E72-4EA2-B995-C6B5DC89DC6D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DTWG continues working with ERCOT to support implementation of SCR745 including the new architectu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conversion to new ERCOT NAESB application, completed on 3-9-2007. Stabilization complete 3-30-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supporting changes to Paperfree deployment phase. Volume tests on new platform 15 days at 70M+ transactions. Validated platform is currently being purch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102-0435-40F9-81BD-9F289B8037BE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5-2 TDTWG meeting, system incidents for April were revie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level overview of new Service Desk Tool (PR60055- BMC Reme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7E8-BBB5-4BB0-9ABE-DCE650998A3E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Continue working with ERCOT and MPs to revise the Retail Market Transaction Processing Service Availability (AKA SLA) docu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the new draft SLA. Suggested a few revisions. Revised draft sent to RMS, TAC and TDTWG lists for comments. A conference call is proposed for late May with the final revision to be provided to RMS in J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F08-A589-4639-BB67-E5B4863F001B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BCI file and the TDTWG NAESB EDM v1.6 Implementation Gu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and agrees with the Flat File (FF) format and file naming convention for the Customer Billing Contact Information (CBCI) file as recommendation at the MCT meeting on 4-26-2007 and has added the information to the TDTWG NAESB EDM v1.6 Implementation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43C-AE04-48C0-8343-5F0B7E9ADFFE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cussion on requirements for a data transport failover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discussed several Market NAESB failure scenarios (Point to Point, ERCOT, Market wide) and has recommended a workshop scheduled for Jun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draft language to add to the TDTWG NAESB EDM v 1.6 Implementation Guide to address this iss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A41-0893-4605-A20E-AAC77F5ADA1B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193-DC37-43D2-AF7B-8DB78128E948}" type="slidenum">
              <a:t>8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05-03T12:40:18Z</dcterms:modified>
  <cp:revision>423</cp:revision>
  <dc:subject/>
  <dc:title>PowerPoint Presentation</dc:title>
</cp:coreProperties>
</file>