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B929-6003-44C0-9654-D6F3C19A9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57A6-FD88-41AE-B2DC-6C4A6DFE5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E641-4FDE-495C-8502-803B60C30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A892-B18B-419F-8CB5-6BE633FD9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638B-C5AC-4A2D-9339-9E8F4B129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6ED7-AB9F-4A99-B6ED-84EAB0668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8A7E-8CBC-4BAF-BBF5-C75788B05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F5CD-3DDF-477C-A5A7-682CCD03A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6D5F-EFB5-4BE5-9376-0AEDDDDCA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3606-B6B2-4920-B993-750C11C9E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24E7-376C-4D74-B05D-2FC1EBCE9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1FA5-64FD-4A04-B4AD-BEEFC17E1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7B0D-BFC9-4947-9FC0-402FBD719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61960" y="2206800"/>
            <a:ext cx="6172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A Review Board Update to 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9,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295280"/>
            <a:ext cx="85341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test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date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BA Process Flow (v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sed CBA Form (v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BA Test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R6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CC5F-D09D-40B1-B019-BC5C262F00B2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st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nnon Bowling and Jennifer Garcia participated in the April CRB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sed the process flow to accommodate CRB review prior to subcommittee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ed data from PRR672 CBA into new form as a test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ed post-project measurement section to C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meeting = 5/11/2007 at 1:0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AF97-16AF-46F4-938B-83FD71B8BBB2}" type="slidenum">
              <a:t>3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ercot.com/calendar/2007/05/20070511-CRB.htm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d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are available at the above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BA Process Flow (v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sed CBA Form (v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R672 C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CF4A-0C71-4689-AC54-8DF60B4CB9C0}" type="slidenum">
              <a:t>4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roy Anderson</cp:lastModifiedBy>
  <dcterms:modified xsi:type="dcterms:W3CDTF">2007-05-01T22:35:34Z</dcterms:modified>
  <cp:revision>242</cp:revision>
  <dc:subject/>
  <dc:title>Slide 1</dc:title>
</cp:coreProperties>
</file>