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5959-0E0F-47C1-BE49-7623200E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C9C9-E634-4926-9756-D020C02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96A2-1C5D-400F-94DD-0DED6A94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3981-CD0F-4469-A3F0-953CD933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94FF-7109-4D56-94B5-91E0FA7E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933D-A402-4897-8CBA-D7D21C26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B974-0561-46E8-9AA6-7549D074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5806-6AC8-4EE8-9ED8-DB0BE9F8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E9B5-FF08-43BE-A313-175BF47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54B3-78A9-4345-BF64-D2D92DB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CC14-65D8-444F-92D3-8B0D1299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E6DE-8091-4971-A650-327BF0B6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E8DE-7EC0-4D68-95EA-9CAFD1B10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tail Systems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78487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78487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Systems Architecture Change &amp; RF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e change has been success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stability has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ed in 100% availability for March and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hardware has been ordered to make architecture change failover capable and highly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in testing environment in June/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o production environment in July/Aug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Infrastructure, Architecture and Application analysis proposals have been received and are being review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will be selected in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Market IT Services SL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Market IT Services SLA expanded to include MarkeTrak and TML in addition to Transaction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Extracts &amp; Reporting SLA is being prepared by ERCOT – it will be treated as a separate service &amp; agreement and completed after the Retail Market IT Services S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 &amp;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of 5/7 - distribute SLA document &amp; summary reports to distribution lists and solicit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transaction processing notice list, Retail market call list, TDSP primary contact list, CR primary contac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of 5/28 – distribute any changes to the documents based on market participant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view at June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DT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at June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MS for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5-07T16:47:49Z</dcterms:modified>
  <cp:revision>66</cp:revision>
  <dc:subject/>
  <dc:title>Instructions</dc:title>
</cp:coreProperties>
</file>