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D2A-03F5-420F-8747-9B2E16E4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0C6-E69E-4F92-9342-A3D1D25F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0DD-FD60-4A6D-A45B-481DF674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34C-784D-4E21-AA69-940AC3C9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BC6-144C-4A5D-8BD5-AF4A7CC1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B73-D638-4B84-970D-10A3A66A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009-32B0-4A74-B927-76A53B6C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E55-6D9B-4B91-A0F6-0FCF820D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5BC-B57A-48BE-A1EC-1FCB0533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2F2-4B5F-4423-815A-5AD71ECF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AEF-B311-47C7-B27E-F744DD59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7C8-C711-41D8-B3FD-BE7B36FD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C9C9-7455-4AEC-88DF-BBA5AB42D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5/22/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rkeTrak SIR Relea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0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cular combination of transitions results in issues being ‘stuck’ without possibility of resolution for Sub Type Cancel with and without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e logic has been corrected for the offending combination of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1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DESIID field definition allows alpha characters which contradicts field spec expectations of Market Participant back-e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DESIID field definition updated to type num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2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 Close transition fails to update particular field values (Close Date) a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 Closed issues update appropriate fields consistent with issues closed via other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2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k Insert issues do not have a Withdraw option as do all other issu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users will have Withdraw transition option for Bulk Inser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2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performed against optional fields with no data present causing unnecessary performance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s without data present will not be sent to ERCOT Registration System for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2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 users do not have access to a usability field in the DEVLSE workflow: Requested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dropdown list available to GUI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PI specs (XSDs, WSDLs) available via market notice and o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eTrak Info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2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2D – IAS issues clearing Owner fields after ERCOT transition Select IAS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S workflow updated to retain Owner information unless over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09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istency in field requirement –vs-  availability on ERCOT Initiated issues resulted in a manual work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Comment field will be made available at the appropriat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09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Initiated field: Exception Code added to the MarkeTrak GUI without corresponding update to API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API specs (XSDs, WSDLs) available on market notice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&gt; MarkeTrak Info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09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Type dropdown list does not include 650 transacti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dropdown list available to GUI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PI specs (XSDs, WSDLs) available via market notice and o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eTrak Info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09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k Issue Insert requires that the user wait for processing of the submission file to receive confirmation of successful issue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application performs validation and provides pertinent information for failed sub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0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of ESI ID field of 7 characters during submission inconsistent with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I ID field validation changed to 8 characters in the MarkeTrak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issue with the adapter from MarkeTrak to the ERCOT Registration System results in some submission and transition activities being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users will have the option to bypass this validation when the adapter is unstable and continue with submission and transac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s forced to navigate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-&gt;MarkeTrak Info to access the applications User’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added from the MarkeTrak toolbar directly to the User’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11055/112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exist with the date/time logic used for DEVLS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date/time fields in MarkeTrak in a consistent manner with User’s Guide and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21:02:18Z</dcterms:created>
  <dc:creator>dmichelsen</dc:creator>
  <dc:description/>
  <dc:language>en-US</dc:language>
  <cp:lastModifiedBy>dmichelsen</cp:lastModifiedBy>
  <dcterms:modified xsi:type="dcterms:W3CDTF">2007-05-03T14:03:28Z</dcterms:modified>
  <cp:revision>5</cp:revision>
  <dc:subject/>
  <dc:title>05/22/2007</dc:title>
</cp:coreProperties>
</file>