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8D06-3EF7-494E-8C81-CD77019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B0B9-C718-485C-9A46-3757E630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A27D-CE6A-4DC3-8E1D-436C2646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3985-FB86-46B3-AAEB-5724722E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EC4E-851D-4998-8592-A22F2F3C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CDF-F4DB-4CA0-9607-1C07D7E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2083-DF2A-496D-861B-7751C03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BFDD-3EEB-4E67-88A9-7B9574E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1206-E5CA-4818-B41B-90794A8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12FE-51F4-4289-9018-0072362C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3244-E546-4647-A45E-ABBDF0B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5C47-794D-47F1-85F9-DA5F433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C8B2-5EA9-42F6-AEAB-C4CAA0D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5A8-F892-438C-889D-1714423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B334-D872-4157-8CE4-A29F348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E1A6-2B7B-468E-BC56-05E41BB6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1071-E4A8-4FA5-AE72-2550523F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C47B-1987-4450-B231-13ED80F3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D9D7-31E2-4524-B42A-F0F7AD16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8FB2-AAF2-4872-B739-0B662359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74B0-FB5F-4F83-90CA-E7FB69AD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DAB0-775F-4DE6-B974-82F50E8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EE68-34F9-4CB1-9B82-E363662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94DA-D9B5-4005-ACDE-0DFB6EE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35E4-1517-4526-B92E-B026896CC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B5BC-084B-44B3-A96A-A1E298583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X SET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Update to RM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dnesday, May 9, 200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on of the Drop to AR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MAKING TO AMEND COMMISSION SUBSTANTIVE RULES CONSISTENT WITH §25.43, PROVIDER OF LAST RESORT (POLR) Project 33025 was approved on February 16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Effective March 8, 20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Competitive Retailers shall no longer send 814_10 Drop to AREP transactions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tocol and Retail Market Guide changes required to support Ru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 Changes Requ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Section 2 – “Acronym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‘AREP’  Affiliate Retail Electric Provid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Section 15 – “Customer Registratio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anguage that will allow ERCOT to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ll 814_10 Drop to AREP transactions received from a CR a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Drop to AREP Processes, Timelines,  and References found in thi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Section 19 – “TX SET Trans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anguage that ERCOT will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n 814_10 with an 814_11 Drop Respons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814_10 Transaction to show that i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onger a valid transac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Market Guid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Market Guide Section 2 –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Drop to A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Drop to Competitive Retai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Drop to POL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 are no longer valid with the adoption of the new POLR rule and the elimination of Price to Beat (P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action Timing Matrix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Retail Market Guide Section 7.7 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Timing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was created as an abbreviated version of Protocol’s Section 15 several changes are required with the implementation of PRRs 672, 693, and PRR 707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SET developed a redline document that will bring the 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Timing Matr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in synch with the updated version of Protocol’s Section 15 – ‘Customer Enrollme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 for TX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timeline with recommended Protocol Revisions to Sections 2, 15, and 19 to RMS (June 13th) and PRS (June 21st)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MGR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timeline with recommended  Retail Market Guide Revisions to Section 2.1 ‘Definitions’  and Section 7.7 ‘Transaction Timing Matrix’ to RMS for the June 13th mee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 for TX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our May 23, 2007 meeting, TX SET will start our yearly discussion concerning is there a Market need and/or potentially new Rule requirements on the horizon where a new TX SET Version Release is needed for 2008 to assist RMS with planning the 2008 PP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/Tasks we want 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etering Rul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erformance Measures Rulemaking could there be any changes needed to transactions to support new repor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coming from Small Renewable Generation Workshops that may affec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ET Version 3.0 Evaluation or Lessons Learned feedback may require transaction/process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Issues with Transactions and/o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6191-AA14-4A44-A54B-7C672360C3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1:13:22Z</dcterms:created>
  <dc:creator>00015621</dc:creator>
  <dc:description/>
  <dc:language>en-US</dc:language>
  <cp:lastModifiedBy>00015621</cp:lastModifiedBy>
  <dcterms:modified xsi:type="dcterms:W3CDTF">2007-05-01T15:55:44Z</dcterms:modified>
  <cp:revision>17</cp:revision>
  <dc:subject/>
  <dc:title>TX SET update to RMS</dc:title>
</cp:coreProperties>
</file>