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937-6F5F-4C6D-B82C-B17688A0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073-AD0B-4045-88F2-D846A21E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1F7-FC7D-44D2-8758-4B6AB2F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3A3-D303-484D-82A1-FC47C9E4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66E-2148-4A0A-8C2A-CA1F8467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1C2-35C5-4F88-B6D1-808ABD8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FB1-ABAA-48A1-B039-F38F6456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D5C-C727-4433-8170-2042A74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D0D-A887-42EA-B79C-A3A9150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2A0-A1F9-4E53-9FC0-D038556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DAE6-5A13-42CE-BA0F-CFC8245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581-DBE4-4478-BCBC-C416453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2DC2-4EB7-4E12-B9F1-E909016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3C87-9BC6-4247-A47A-C5F173F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95E-E2C9-4FEE-8E18-1D709693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1FF6-E0BD-42AC-9A90-938B6D3C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CBA-6652-44E5-9EB0-C20EB285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9AD-BF2E-4730-8B64-5DB14516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340-CAE2-45FB-A0AC-EAEA135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AE-9E01-4AF2-B4DC-EACC7E09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A4F-10A5-4996-8999-C44A8AA7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1D6-7A95-48E2-AECF-A4F9346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FDF-D97C-40BC-80E5-748087F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18D-4189-4630-8377-C4F9419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AE1-F10C-42C4-9718-E18269266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F23-6039-44CB-9E30-9B99E5E413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4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MS Activity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GRR049 Electronic Authorization for Historical Usage Letters of Authorization (LOA).  </a:t>
            </a:r>
            <a:r>
              <a:rPr b="1" lang="en-US" sz="3200" spc="-1" strike="noStrike">
                <a:solidFill>
                  <a:srgbClr val="6fa9b7"/>
                </a:solidFill>
                <a:latin typeface="Tahoma"/>
              </a:rPr>
              <a:t>Voting I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s SET 3.0 Implementation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MO/PPL and Stakeholder Communication Process Upd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l Market Workshop Related to Small Renewable Generation Upd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Service Availability Update from Aaron Smallw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RMGRR049 Electronic Authorization for Historical Usage LO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R option of using electronic  authorization request when submitting LOA for historical usage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larification on expiration date of L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option for level of detail being requested for IDR ac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st impacts to ERCOT or MP’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162920" y="57913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MGRR049 Electronic Authorization for Historical Usage LO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S unanimously voted to recommend approval of RMGRR049 as presented. All Market Segments were present for the vo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S requests TAC approv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238880" y="4954680"/>
          <a:ext cx="1905120" cy="125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954680"/>
                    <a:ext cx="19051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3946680" y="3313080"/>
            <a:ext cx="374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 rot="10800000">
            <a:off x="758880" y="1967400"/>
            <a:ext cx="754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TX SET Implementation Upd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in Flight Test 0407 for version 3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s electing not to test for SET 3.0 will lose ERCOT cert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ght 0407 is the largest Flight since the solution to out-of sequence order processing (MIMO) in 05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O had 28,669 Total Tasks, 3.0 has 22,0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O had 2,028 Total Scripts, 3.0 has 215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ion Weekend is June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s have defined shutdown timing and sequence of events to support tran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 PMO/PPL and Stakeholder Communication Process Upd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y of Process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ded step to solicit market subcommittee input on changes greater than $1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 information is gathered by the DPO manager who is giving up the fund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rket input should be gathered at the next regularly scheduled market subcommittee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iming doesn’t allow this process to occur at a regularly scheduled subcommittee meeting, the DPO manager will contact the subcommittee chair to determine if eithe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emergency subcommittee meeting is warranted… or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market notice should be sent to gather input from market particip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rket input will be included in the BoD pac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provides additional input for the BoD members to consi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 Retail Market Workshop Related to Small Renewable Generation Update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ing held on May 2 with Stakeholders to review rules and protocols to support ability of identifying issues and gaps associated with market communication processes, settlement impacts and metering requi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133720" y="161280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5. ERCOT Service Availability Update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 Avail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 on RF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 on S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AEP</cp:lastModifiedBy>
  <dcterms:modified xsi:type="dcterms:W3CDTF">2007-04-27T16:44:35Z</dcterms:modified>
  <cp:revision>7</cp:revision>
  <dc:subject/>
  <dc:title>RMS Update to TAC</dc:title>
</cp:coreProperties>
</file>