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9CE-0EB1-4D42-8A9A-14BCF9B7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AC5-C244-4264-BFA1-440527C1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A8F-212A-4FDA-A450-F6A3565F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8FA-B52E-4D17-B5F2-6F05965F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1AAC-27DD-41EC-98CF-370F09DB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01F8-2C8A-483C-8817-899A11AB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E7EA-158E-47AF-85A6-4EB5E278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1A95-6D80-425B-A7BE-172074C2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3C57-E810-46ED-925E-3C87B1EC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A53B-EBB7-4410-B71B-297D88B6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838E-511B-4355-B685-F7E8A123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8A2-B49E-48D5-97CD-222F5A83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3902-233F-4E36-901F-F33BFC43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9FC0-0F24-464D-9FAB-2C0B968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9E59-4476-43E9-A959-890F68D2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2654-235C-49FC-B3AD-14ACCE61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F272-96AD-4C8D-90E2-B5727434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322-3161-4632-BA51-DCDF07B3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21A-012A-47D2-B384-39CC4658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C54-B51B-403F-902C-ADE1D3D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742-B47A-494C-92A1-32F1168F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E87-62DF-4BD1-A9E3-BC2B701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6B7-1D67-412C-857E-7247794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82F-3A58-4095-85AB-D05CA9D9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DE55-908C-460D-9653-5071C186C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4321-BE44-4650-83F1-E98217A74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ay 4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711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Update of ERCOT Protocols to Comply With NERC Name Chang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712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Local Congestion Replacement Reserve Payment Methodology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828800"/>
          <a:ext cx="8229600" cy="42102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 on behalf of WM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ifies RPRS local congestion payment method to be identical to OOMC; inserts a “Max” function in the start-up and operating calculation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istency in settlement between the two similar servic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opposing and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y 1, 2007/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712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Local Congestion Replacement Reserve Payment Methodology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15000" y="236232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naged w/in current budg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15000" y="3352680"/>
            <a:ext cx="29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inor Lodestar modification under current budg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16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Self-Provision of Emergency Interruptible Load Service --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8288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PS Energy, Mun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ends EILS protocol to allow for self-provision by all QSEs; addresses PUC Subst. R. 25.507(i); update ERCOT forms following initial RF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QSEs to self-provide EI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y increase LRS cost to QSEs not self-provi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by segment vote of 5.667 to 0.333 with 5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ne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16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Self-Provision of Emergency Interruptible Load Service --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15000" y="236232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naged w/in current budg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15000" y="3352680"/>
            <a:ext cx="29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y require minor system modif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Rs Recommended for Appro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01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Enabling of Stranded Capacity During Alerts --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09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Scarcity Pricing Mechan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1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Validation Tests Upd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11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Update of ERCOT Protocols to Comply with NERC Name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12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Local Congestion Replacement Reserve Payment Method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716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Self-Provision of Emergency Interruptible Load Service (EILS) --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PRR 046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Real-Time ICCP Communications Only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28800"/>
          <a:ext cx="8229600" cy="42102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s all real-time communications will use ICC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sures that required data volume can be supported and meet data quality requirem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PRR 046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Real-Time ICCP Communications Only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15000" y="2286000"/>
            <a:ext cx="29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naged w/in current budget and sched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PRR 05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Update of Nodal Protocols to Comply with NERC Name Chang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57200" y="1828800"/>
          <a:ext cx="8229600" cy="40989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dates protocols references to NERC; reflects name change; companion NPRR to PRR 71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protocols to current NERC nam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PRR 054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Update of Nodal Protocols to Comply with NERC Name Chang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15000" y="2286000"/>
            <a:ext cx="29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naged w/in current budget and sched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1120" y="233172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 PRRs for Appr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n-System Changes – IAs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 NPRRs for Appr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Notice of Rejection; 1 Withdraw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odal NPRR Implementation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Appeals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ns Down” on Zonal Wholesale System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NPRR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PRRs Recommended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 046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– Real-time ICCP Communica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 05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– Update of Nodal Protocols to Comply with NERC Name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Other PRR Stat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PRR056 – Modify Competitive Load Z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ejected by segment vote of 4.0 to 1.0 with 5 abstentions; Coop Segment was not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R 715 – Simplifying the Dispute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Withdrawn by the subm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Activity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tablished task forces to address the following top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Appeals Process (TAC assign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19 Revi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Activity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s Down” on Zonal Wholesale System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Recognized that the number of PRRs requiring zonal wholesale system changes has slow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ferred discussion until close of legislative s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Activity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dal NPRR Implementation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S determined existing protocols allow it to defer action on NPRRs not determined to be needed for “go liv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RCOT PMO and TPTF process will determine NPRRs needed for “go live” and determination will be reviewed by P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S needs to develop a process for consideration of deferred NPRRs when “go live” + 1 version is structu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01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Enabling of Stranded Capacity During Alerts --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2102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PSEG, IG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QSEs to represent previously stranded capacity as available and capable of being included in their capability during an Ale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y provide ERCOT incremental on-line capacity during aler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opposed and 3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ne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01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Enabling of Stranded Capacity During Alerts --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09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Scarcity Pricing Mechanis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828800"/>
          <a:ext cx="8229600" cy="41180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orporates scarcity pricing mechanism including offer caps.  ERCOT Staff is currently performing these calculation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to PUC Subst. R. 25.505(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Jul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09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Scarcity Pricing Mechanis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710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Validation Tests Updat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828800"/>
          <a:ext cx="8229600" cy="4094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Reliant Energy, IP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oves requirement to post exception reports stemming from the Load Profile Type and Weather Zone validation tests to the M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s current protocol langu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710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Validation Tests Updat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711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Update of ERCOT Protocols to Comply With NERC Name Chang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828800"/>
          <a:ext cx="8229600" cy="40989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dates protocols references to NERC; reflects name chang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protocols to current NERC nam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EG</cp:lastModifiedBy>
  <dcterms:modified xsi:type="dcterms:W3CDTF">2007-05-02T21:00:02Z</dcterms:modified>
  <cp:revision>116</cp:revision>
  <dc:subject/>
  <dc:title>Protocol Revision Subcommittee</dc:title>
</cp:coreProperties>
</file>