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1A9-F43D-4268-A4A9-FD958E1A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D40-C848-4299-9811-BE6CF748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A6C-B0E6-46F4-BE52-D5A36EAB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039-710C-487F-A3E3-6E0F8A22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69F9-9912-4D08-BEA8-9581AC45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1C46-A426-4754-9FCA-05A434E5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527E-1F86-4495-8087-8C0472E1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236-2F5E-4645-88C5-182D8038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CD23-EF4D-4C84-A9B9-0CC91714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C31-048D-4000-A29F-CE2E0C04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080-8459-420C-A53D-340F492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EEC-0B96-43AA-A4A3-2826C839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E2E-B04A-4ED1-8B8D-A77B2E55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51B0-52D3-4D56-B026-0A5F9FF9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4271-5661-48EC-9890-AEF8DBB0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4629-849A-48B4-B554-C3BF2054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B8AD-71C9-446D-A522-FF342C01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B88-8B9C-4E71-A46D-4F2B0118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BE5-F69D-422B-8299-FB7A1FA4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995-724D-4BFE-A6C2-6AA25398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30B-175F-4767-970D-91663E0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0C4-D796-4652-B3AA-F9F6750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BB3-8E21-42AF-B489-C63A05B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D65-DE02-4AB3-9F51-5E14922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83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643C-1C0B-4B08-A12A-781A06D0217A}" type="slidenum"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12193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83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530-C09C-4586-9A61-D433468637A1}" type="slidenum"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2193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ERCOT</a:t>
            </a:r>
            <a:endParaRPr b="0" lang="en-US" sz="40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666880"/>
            <a:ext cx="430200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PS – Report to TAC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ound 2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mple Design Review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ay 4, 2007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2139e"/>
                </a:solidFill>
                <a:latin typeface="Arial"/>
              </a:rPr>
              <a:t>“</a:t>
            </a:r>
            <a:r>
              <a:rPr b="1" i="1" lang="en-US" sz="2800" spc="-1" strike="noStrike" u="sng">
                <a:solidFill>
                  <a:srgbClr val="62139e"/>
                </a:solidFill>
                <a:uFillTx/>
                <a:latin typeface="Arial"/>
              </a:rPr>
              <a:t>Short Version”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D679-CE0C-47D9-871C-49C355277A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Background Information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5560" y="1371240"/>
            <a:ext cx="8180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or Round 1 of the LRS sample design ERCOT offered to coordinate our sample designs with all of the TDSPs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XU-ED was interested in coordinatio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RCOT incorporated their sample into our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RCOT and TXU have already agreed to do this again for Round 2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RCOT presented an initial LRS precision analysis and sample design options for Round 2 at the June 28, 2006 PWG meetin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xtensive discussion with Market participants took place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RCOT presented an updated LRS precision analysis at the February 27, 2007 PWG meeting.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EP suggested that ERCOT perform analysis to determine if the recommended separate primary voltage samples were necessary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RCOT had a follow-up meeting with Kathy Scott on March 5 to discuss TDSP concerns related to the recommended complete sample replacement for Round 2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Based on TDSP input, ERCOT revisited the Round 2 sample design for the March 27, 2007 PWG meeting.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RCOT incorporated retention of some Round 1 sample points for Round 2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RCOT reduced Round 2 requirement for Primary Voltage Sample Point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38B-474F-4A5E-A3C0-4F176E445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"/>
              </a:rPr>
              <a:t>Round 1 Sample High Level Design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6360" y="4081320"/>
            <a:ext cx="787392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ound 1 Sample was designed and selected mid-2004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pproximately half-sized samples were selected to facilitate load research start-up proces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he need to increase sample sizes in subsequent rounds was expected and communicated to the market during Round 1 planning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opulation was defined with 48 Sample Cells (one for each of the Profile Type / Weather Zone Combinations)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High level sample design process consists of determining total sample size and allocating sample points to each cel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9640" y="1590840"/>
            <a:ext cx="7488360" cy="21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B48-0867-4E65-B559-891324DE6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854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839"/>
                </a:solidFill>
                <a:latin typeface="Arial Black"/>
              </a:rPr>
              <a:t>Precision vs Sample Size</a:t>
            </a: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2040" y="3478320"/>
            <a:ext cx="38401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recision improvement varies across sample cells and across interval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creasing sample size has a diminishing return on precision improvement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hus the impact over a year of adding sample points varies by sample cell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3680" y="1487520"/>
            <a:ext cx="4686120" cy="424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110200" y="1469880"/>
            <a:ext cx="3724200" cy="177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760" y="5848200"/>
            <a:ext cx="829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Illustration of the relationship between precision and sample size for a median interval by Profile Typ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272-6094-4C69-820F-665CBC020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8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Sample Allocation Optimization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5560" y="1355760"/>
            <a:ext cx="8064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Minimum Sample Siz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or Round 1 analysis, profile migration caused numerous issues due to small sample sizes in some cell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For Round 2 minimum sample size per sample cell will be 120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Maximum Sample Siz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aximum set to avoid excessive sampling in a few sample cell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aximum for Business sample cells set to 400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aximum for Residential sample cells set to 600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ptimization method: Iteratively allocate increments of 20 sample points to a selected sample cel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t each step, allocate points to produce the most improvement in reducing dollar estimation error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Where, dollar estimation error = (Precision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× Dollars) summed across all interval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The allocations are based on both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he Dollars associated with each of the sample cell in each interval, and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he precision improvement that would be realized by adding 20 sample points, and the diminishing return on that improvement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AB6-B5F3-4A39-A5B3-9C3F1E52D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839"/>
                </a:solidFill>
                <a:latin typeface="Arial Black"/>
              </a:rPr>
              <a:t>Annualized Dollar Error Reduction Based on Sample Size Increases</a:t>
            </a:r>
            <a:endParaRPr b="0" lang="en-US" sz="2400" spc="-1" strike="noStrike">
              <a:solidFill>
                <a:srgbClr val="00b83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7800" y="1278000"/>
            <a:ext cx="7872480" cy="5414760"/>
            <a:chOff x="577800" y="1278000"/>
            <a:chExt cx="7872480" cy="5414760"/>
          </a:xfrm>
        </p:grpSpPr>
        <p:sp>
          <p:nvSpPr>
            <p:cNvPr id="99" name=""/>
            <p:cNvSpPr/>
            <p:nvPr/>
          </p:nvSpPr>
          <p:spPr>
            <a:xfrm>
              <a:off x="6605640" y="1947960"/>
              <a:ext cx="1652760" cy="554400"/>
            </a:xfrm>
            <a:prstGeom prst="rect">
              <a:avLst/>
            </a:prstGeom>
            <a:noFill/>
            <a:ln w="9360">
              <a:solidFill>
                <a:srgbClr val="00b8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Non - Optimized</a:t>
              </a: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66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Allocation of points</a:t>
              </a:r>
              <a:endParaRPr b="0" lang="en-US" sz="1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221160" y="2354400"/>
              <a:ext cx="30636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6183360" y="2545920"/>
              <a:ext cx="690480" cy="4070520"/>
            </a:xfrm>
            <a:custGeom>
              <a:avLst/>
              <a:gdLst>
                <a:gd name="textAreaLeft" fmla="*/ 441360 w 690480"/>
                <a:gd name="textAreaRight" fmla="*/ 690840 w 690480"/>
                <a:gd name="textAreaTop" fmla="*/ 105840 h 4070520"/>
                <a:gd name="textAreaBottom" fmla="*/ 3964680 h 407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12000" y="4238640"/>
              <a:ext cx="153828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b8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Optimized Allocation of Additional Points</a:t>
              </a: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221160" y="2122560"/>
              <a:ext cx="30636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873840" y="2614680"/>
              <a:ext cx="107316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616120" y="1278000"/>
              <a:ext cx="3492720" cy="54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038240" y="1878120"/>
              <a:ext cx="960480" cy="276480"/>
            </a:xfrm>
            <a:prstGeom prst="rect">
              <a:avLst/>
            </a:prstGeom>
            <a:noFill/>
            <a:ln w="9360">
              <a:solidFill>
                <a:srgbClr val="00b8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Round 1</a:t>
              </a: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75040" y="2084400"/>
              <a:ext cx="3841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75040" y="2314440"/>
              <a:ext cx="3841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7800" y="2200320"/>
              <a:ext cx="1420920" cy="276480"/>
            </a:xfrm>
            <a:prstGeom prst="rect">
              <a:avLst/>
            </a:prstGeom>
            <a:noFill/>
            <a:ln w="9360">
              <a:solidFill>
                <a:srgbClr val="00b8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Min sample size</a:t>
              </a: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2800" y="3889440"/>
              <a:ext cx="3841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38240" y="3730680"/>
              <a:ext cx="960480" cy="276480"/>
            </a:xfrm>
            <a:prstGeom prst="rect">
              <a:avLst/>
            </a:prstGeom>
            <a:noFill/>
            <a:ln w="9360">
              <a:solidFill>
                <a:srgbClr val="00b8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Round 2</a:t>
              </a: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DBE-DFD3-4267-9A8F-1C6E96F953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Final Round 2 High Level Design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3720" y="5320800"/>
            <a:ext cx="77184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otal sample size 9,160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1480" y="1316160"/>
            <a:ext cx="7950240" cy="2571120"/>
            <a:chOff x="501480" y="1316160"/>
            <a:chExt cx="7950240" cy="257112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501480" y="1722240"/>
              <a:ext cx="7950240" cy="21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11200" y="1316160"/>
              <a:ext cx="7912080" cy="398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Round 2 Sample</a:t>
              </a:r>
              <a:endParaRPr b="0" lang="en-US" sz="2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922400" y="3998880"/>
            <a:ext cx="5145120" cy="11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D1E-61D1-466E-B3B7-E3150AD138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77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 Black"/>
              </a:rPr>
              <a:t>Next Steps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07880" y="1585800"/>
            <a:ext cx="656748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RCOT will complete detail sample design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tratification within sample cell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llocation of sample points to strata within sample cell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ample lists will be provided to TDSPs prior to the April PWG meeting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WG will discuss installation timelines for the new IDR installs and other issues related to Round 2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WG will work on LPG Section 15 to reflect PUCT Rule and procedures being adopted to conduct load research in the ERCOT market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EA2-A776-4674-8E24-8C18F771F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Questions 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36720" y="1700280"/>
            <a:ext cx="3337200" cy="3827520"/>
            <a:chOff x="2736720" y="1700280"/>
            <a:chExt cx="3337200" cy="3827520"/>
          </a:xfrm>
        </p:grpSpPr>
        <p:sp>
          <p:nvSpPr>
            <p:cNvPr id="122" name=""/>
            <p:cNvSpPr/>
            <p:nvPr/>
          </p:nvSpPr>
          <p:spPr>
            <a:xfrm>
              <a:off x="2736720" y="2084400"/>
              <a:ext cx="3337200" cy="2690640"/>
            </a:xfrm>
            <a:custGeom>
              <a:avLst/>
              <a:gdLst/>
              <a:ahLst/>
              <a:rect l="l" t="t" r="r" b="b"/>
              <a:pathLst>
                <a:path w="2102" h="1695">
                  <a:moveTo>
                    <a:pt x="0" y="0"/>
                  </a:moveTo>
                  <a:lnTo>
                    <a:pt x="376" y="1695"/>
                  </a:lnTo>
                  <a:lnTo>
                    <a:pt x="1855" y="1409"/>
                  </a:lnTo>
                  <a:lnTo>
                    <a:pt x="210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eff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32000" y="1700280"/>
              <a:ext cx="2568600" cy="3827520"/>
            </a:xfrm>
            <a:custGeom>
              <a:avLst/>
              <a:gdLst/>
              <a:ahLst/>
              <a:rect l="l" t="t" r="r" b="b"/>
              <a:pathLst>
                <a:path w="1618" h="2411">
                  <a:moveTo>
                    <a:pt x="1005" y="1233"/>
                  </a:moveTo>
                  <a:lnTo>
                    <a:pt x="1015" y="1219"/>
                  </a:lnTo>
                  <a:lnTo>
                    <a:pt x="1029" y="1203"/>
                  </a:lnTo>
                  <a:lnTo>
                    <a:pt x="1045" y="1189"/>
                  </a:lnTo>
                  <a:lnTo>
                    <a:pt x="1066" y="1175"/>
                  </a:lnTo>
                  <a:lnTo>
                    <a:pt x="1090" y="1161"/>
                  </a:lnTo>
                  <a:lnTo>
                    <a:pt x="1113" y="1147"/>
                  </a:lnTo>
                  <a:lnTo>
                    <a:pt x="1139" y="1133"/>
                  </a:lnTo>
                  <a:lnTo>
                    <a:pt x="1167" y="1119"/>
                  </a:lnTo>
                  <a:lnTo>
                    <a:pt x="1200" y="1102"/>
                  </a:lnTo>
                  <a:lnTo>
                    <a:pt x="1233" y="1083"/>
                  </a:lnTo>
                  <a:lnTo>
                    <a:pt x="1266" y="1065"/>
                  </a:lnTo>
                  <a:lnTo>
                    <a:pt x="1299" y="1046"/>
                  </a:lnTo>
                  <a:lnTo>
                    <a:pt x="1332" y="1022"/>
                  </a:lnTo>
                  <a:lnTo>
                    <a:pt x="1364" y="999"/>
                  </a:lnTo>
                  <a:lnTo>
                    <a:pt x="1395" y="973"/>
                  </a:lnTo>
                  <a:lnTo>
                    <a:pt x="1426" y="943"/>
                  </a:lnTo>
                  <a:lnTo>
                    <a:pt x="1454" y="912"/>
                  </a:lnTo>
                  <a:lnTo>
                    <a:pt x="1480" y="877"/>
                  </a:lnTo>
                  <a:lnTo>
                    <a:pt x="1503" y="839"/>
                  </a:lnTo>
                  <a:lnTo>
                    <a:pt x="1522" y="797"/>
                  </a:lnTo>
                  <a:lnTo>
                    <a:pt x="1538" y="753"/>
                  </a:lnTo>
                  <a:lnTo>
                    <a:pt x="1550" y="703"/>
                  </a:lnTo>
                  <a:lnTo>
                    <a:pt x="1557" y="650"/>
                  </a:lnTo>
                  <a:lnTo>
                    <a:pt x="1559" y="591"/>
                  </a:lnTo>
                  <a:lnTo>
                    <a:pt x="1557" y="553"/>
                  </a:lnTo>
                  <a:lnTo>
                    <a:pt x="1555" y="514"/>
                  </a:lnTo>
                  <a:lnTo>
                    <a:pt x="1548" y="476"/>
                  </a:lnTo>
                  <a:lnTo>
                    <a:pt x="1538" y="441"/>
                  </a:lnTo>
                  <a:lnTo>
                    <a:pt x="1543" y="436"/>
                  </a:lnTo>
                  <a:lnTo>
                    <a:pt x="1550" y="431"/>
                  </a:lnTo>
                  <a:lnTo>
                    <a:pt x="1555" y="427"/>
                  </a:lnTo>
                  <a:lnTo>
                    <a:pt x="1559" y="422"/>
                  </a:lnTo>
                  <a:lnTo>
                    <a:pt x="1585" y="392"/>
                  </a:lnTo>
                  <a:lnTo>
                    <a:pt x="1604" y="356"/>
                  </a:lnTo>
                  <a:lnTo>
                    <a:pt x="1613" y="319"/>
                  </a:lnTo>
                  <a:lnTo>
                    <a:pt x="1618" y="279"/>
                  </a:lnTo>
                  <a:lnTo>
                    <a:pt x="1613" y="242"/>
                  </a:lnTo>
                  <a:lnTo>
                    <a:pt x="1604" y="204"/>
                  </a:lnTo>
                  <a:lnTo>
                    <a:pt x="1585" y="169"/>
                  </a:lnTo>
                  <a:lnTo>
                    <a:pt x="1559" y="138"/>
                  </a:lnTo>
                  <a:lnTo>
                    <a:pt x="1543" y="124"/>
                  </a:lnTo>
                  <a:lnTo>
                    <a:pt x="1527" y="113"/>
                  </a:lnTo>
                  <a:lnTo>
                    <a:pt x="1510" y="101"/>
                  </a:lnTo>
                  <a:lnTo>
                    <a:pt x="1491" y="94"/>
                  </a:lnTo>
                  <a:lnTo>
                    <a:pt x="1473" y="87"/>
                  </a:lnTo>
                  <a:lnTo>
                    <a:pt x="1451" y="82"/>
                  </a:lnTo>
                  <a:lnTo>
                    <a:pt x="1430" y="77"/>
                  </a:lnTo>
                  <a:lnTo>
                    <a:pt x="1409" y="77"/>
                  </a:lnTo>
                  <a:lnTo>
                    <a:pt x="1390" y="77"/>
                  </a:lnTo>
                  <a:lnTo>
                    <a:pt x="1374" y="80"/>
                  </a:lnTo>
                  <a:lnTo>
                    <a:pt x="1355" y="84"/>
                  </a:lnTo>
                  <a:lnTo>
                    <a:pt x="1339" y="89"/>
                  </a:lnTo>
                  <a:lnTo>
                    <a:pt x="1322" y="96"/>
                  </a:lnTo>
                  <a:lnTo>
                    <a:pt x="1308" y="103"/>
                  </a:lnTo>
                  <a:lnTo>
                    <a:pt x="1294" y="113"/>
                  </a:lnTo>
                  <a:lnTo>
                    <a:pt x="1280" y="122"/>
                  </a:lnTo>
                  <a:lnTo>
                    <a:pt x="1254" y="108"/>
                  </a:lnTo>
                  <a:lnTo>
                    <a:pt x="1226" y="94"/>
                  </a:lnTo>
                  <a:lnTo>
                    <a:pt x="1200" y="82"/>
                  </a:lnTo>
                  <a:lnTo>
                    <a:pt x="1170" y="70"/>
                  </a:lnTo>
                  <a:lnTo>
                    <a:pt x="1141" y="59"/>
                  </a:lnTo>
                  <a:lnTo>
                    <a:pt x="1111" y="49"/>
                  </a:lnTo>
                  <a:lnTo>
                    <a:pt x="1080" y="40"/>
                  </a:lnTo>
                  <a:lnTo>
                    <a:pt x="1047" y="30"/>
                  </a:lnTo>
                  <a:lnTo>
                    <a:pt x="1015" y="23"/>
                  </a:lnTo>
                  <a:lnTo>
                    <a:pt x="982" y="16"/>
                  </a:lnTo>
                  <a:lnTo>
                    <a:pt x="946" y="12"/>
                  </a:lnTo>
                  <a:lnTo>
                    <a:pt x="911" y="7"/>
                  </a:lnTo>
                  <a:lnTo>
                    <a:pt x="876" y="5"/>
                  </a:lnTo>
                  <a:lnTo>
                    <a:pt x="841" y="2"/>
                  </a:lnTo>
                  <a:lnTo>
                    <a:pt x="803" y="0"/>
                  </a:lnTo>
                  <a:lnTo>
                    <a:pt x="766" y="0"/>
                  </a:lnTo>
                  <a:lnTo>
                    <a:pt x="674" y="2"/>
                  </a:lnTo>
                  <a:lnTo>
                    <a:pt x="589" y="14"/>
                  </a:lnTo>
                  <a:lnTo>
                    <a:pt x="510" y="28"/>
                  </a:lnTo>
                  <a:lnTo>
                    <a:pt x="434" y="49"/>
                  </a:lnTo>
                  <a:lnTo>
                    <a:pt x="366" y="77"/>
                  </a:lnTo>
                  <a:lnTo>
                    <a:pt x="303" y="106"/>
                  </a:lnTo>
                  <a:lnTo>
                    <a:pt x="247" y="141"/>
                  </a:lnTo>
                  <a:lnTo>
                    <a:pt x="195" y="178"/>
                  </a:lnTo>
                  <a:lnTo>
                    <a:pt x="150" y="216"/>
                  </a:lnTo>
                  <a:lnTo>
                    <a:pt x="110" y="258"/>
                  </a:lnTo>
                  <a:lnTo>
                    <a:pt x="77" y="303"/>
                  </a:lnTo>
                  <a:lnTo>
                    <a:pt x="49" y="345"/>
                  </a:lnTo>
                  <a:lnTo>
                    <a:pt x="28" y="389"/>
                  </a:lnTo>
                  <a:lnTo>
                    <a:pt x="12" y="434"/>
                  </a:lnTo>
                  <a:lnTo>
                    <a:pt x="2" y="476"/>
                  </a:lnTo>
                  <a:lnTo>
                    <a:pt x="0" y="518"/>
                  </a:lnTo>
                  <a:lnTo>
                    <a:pt x="2" y="546"/>
                  </a:lnTo>
                  <a:lnTo>
                    <a:pt x="5" y="575"/>
                  </a:lnTo>
                  <a:lnTo>
                    <a:pt x="12" y="600"/>
                  </a:lnTo>
                  <a:lnTo>
                    <a:pt x="19" y="626"/>
                  </a:lnTo>
                  <a:lnTo>
                    <a:pt x="30" y="650"/>
                  </a:lnTo>
                  <a:lnTo>
                    <a:pt x="42" y="673"/>
                  </a:lnTo>
                  <a:lnTo>
                    <a:pt x="59" y="694"/>
                  </a:lnTo>
                  <a:lnTo>
                    <a:pt x="75" y="713"/>
                  </a:lnTo>
                  <a:lnTo>
                    <a:pt x="96" y="732"/>
                  </a:lnTo>
                  <a:lnTo>
                    <a:pt x="120" y="748"/>
                  </a:lnTo>
                  <a:lnTo>
                    <a:pt x="148" y="762"/>
                  </a:lnTo>
                  <a:lnTo>
                    <a:pt x="176" y="776"/>
                  </a:lnTo>
                  <a:lnTo>
                    <a:pt x="207" y="786"/>
                  </a:lnTo>
                  <a:lnTo>
                    <a:pt x="237" y="793"/>
                  </a:lnTo>
                  <a:lnTo>
                    <a:pt x="272" y="795"/>
                  </a:lnTo>
                  <a:lnTo>
                    <a:pt x="308" y="797"/>
                  </a:lnTo>
                  <a:lnTo>
                    <a:pt x="352" y="795"/>
                  </a:lnTo>
                  <a:lnTo>
                    <a:pt x="395" y="788"/>
                  </a:lnTo>
                  <a:lnTo>
                    <a:pt x="430" y="779"/>
                  </a:lnTo>
                  <a:lnTo>
                    <a:pt x="463" y="760"/>
                  </a:lnTo>
                  <a:lnTo>
                    <a:pt x="496" y="739"/>
                  </a:lnTo>
                  <a:lnTo>
                    <a:pt x="526" y="708"/>
                  </a:lnTo>
                  <a:lnTo>
                    <a:pt x="557" y="671"/>
                  </a:lnTo>
                  <a:lnTo>
                    <a:pt x="587" y="626"/>
                  </a:lnTo>
                  <a:lnTo>
                    <a:pt x="606" y="603"/>
                  </a:lnTo>
                  <a:lnTo>
                    <a:pt x="625" y="582"/>
                  </a:lnTo>
                  <a:lnTo>
                    <a:pt x="643" y="565"/>
                  </a:lnTo>
                  <a:lnTo>
                    <a:pt x="665" y="551"/>
                  </a:lnTo>
                  <a:lnTo>
                    <a:pt x="688" y="539"/>
                  </a:lnTo>
                  <a:lnTo>
                    <a:pt x="712" y="532"/>
                  </a:lnTo>
                  <a:lnTo>
                    <a:pt x="737" y="528"/>
                  </a:lnTo>
                  <a:lnTo>
                    <a:pt x="763" y="525"/>
                  </a:lnTo>
                  <a:lnTo>
                    <a:pt x="780" y="525"/>
                  </a:lnTo>
                  <a:lnTo>
                    <a:pt x="794" y="528"/>
                  </a:lnTo>
                  <a:lnTo>
                    <a:pt x="808" y="530"/>
                  </a:lnTo>
                  <a:lnTo>
                    <a:pt x="822" y="532"/>
                  </a:lnTo>
                  <a:lnTo>
                    <a:pt x="831" y="535"/>
                  </a:lnTo>
                  <a:lnTo>
                    <a:pt x="841" y="539"/>
                  </a:lnTo>
                  <a:lnTo>
                    <a:pt x="850" y="546"/>
                  </a:lnTo>
                  <a:lnTo>
                    <a:pt x="857" y="551"/>
                  </a:lnTo>
                  <a:lnTo>
                    <a:pt x="862" y="556"/>
                  </a:lnTo>
                  <a:lnTo>
                    <a:pt x="867" y="563"/>
                  </a:lnTo>
                  <a:lnTo>
                    <a:pt x="869" y="577"/>
                  </a:lnTo>
                  <a:lnTo>
                    <a:pt x="871" y="598"/>
                  </a:lnTo>
                  <a:lnTo>
                    <a:pt x="871" y="617"/>
                  </a:lnTo>
                  <a:lnTo>
                    <a:pt x="869" y="635"/>
                  </a:lnTo>
                  <a:lnTo>
                    <a:pt x="862" y="652"/>
                  </a:lnTo>
                  <a:lnTo>
                    <a:pt x="850" y="666"/>
                  </a:lnTo>
                  <a:lnTo>
                    <a:pt x="831" y="685"/>
                  </a:lnTo>
                  <a:lnTo>
                    <a:pt x="801" y="706"/>
                  </a:lnTo>
                  <a:lnTo>
                    <a:pt x="761" y="729"/>
                  </a:lnTo>
                  <a:lnTo>
                    <a:pt x="707" y="757"/>
                  </a:lnTo>
                  <a:lnTo>
                    <a:pt x="662" y="783"/>
                  </a:lnTo>
                  <a:lnTo>
                    <a:pt x="613" y="811"/>
                  </a:lnTo>
                  <a:lnTo>
                    <a:pt x="568" y="847"/>
                  </a:lnTo>
                  <a:lnTo>
                    <a:pt x="524" y="889"/>
                  </a:lnTo>
                  <a:lnTo>
                    <a:pt x="486" y="936"/>
                  </a:lnTo>
                  <a:lnTo>
                    <a:pt x="456" y="992"/>
                  </a:lnTo>
                  <a:lnTo>
                    <a:pt x="437" y="1055"/>
                  </a:lnTo>
                  <a:lnTo>
                    <a:pt x="430" y="1128"/>
                  </a:lnTo>
                  <a:lnTo>
                    <a:pt x="432" y="1158"/>
                  </a:lnTo>
                  <a:lnTo>
                    <a:pt x="434" y="1189"/>
                  </a:lnTo>
                  <a:lnTo>
                    <a:pt x="441" y="1215"/>
                  </a:lnTo>
                  <a:lnTo>
                    <a:pt x="449" y="1243"/>
                  </a:lnTo>
                  <a:lnTo>
                    <a:pt x="458" y="1266"/>
                  </a:lnTo>
                  <a:lnTo>
                    <a:pt x="472" y="1290"/>
                  </a:lnTo>
                  <a:lnTo>
                    <a:pt x="486" y="1311"/>
                  </a:lnTo>
                  <a:lnTo>
                    <a:pt x="503" y="1330"/>
                  </a:lnTo>
                  <a:lnTo>
                    <a:pt x="510" y="1337"/>
                  </a:lnTo>
                  <a:lnTo>
                    <a:pt x="519" y="1344"/>
                  </a:lnTo>
                  <a:lnTo>
                    <a:pt x="528" y="1351"/>
                  </a:lnTo>
                  <a:lnTo>
                    <a:pt x="538" y="1358"/>
                  </a:lnTo>
                  <a:lnTo>
                    <a:pt x="547" y="1365"/>
                  </a:lnTo>
                  <a:lnTo>
                    <a:pt x="559" y="1369"/>
                  </a:lnTo>
                  <a:lnTo>
                    <a:pt x="568" y="1374"/>
                  </a:lnTo>
                  <a:lnTo>
                    <a:pt x="580" y="1379"/>
                  </a:lnTo>
                  <a:lnTo>
                    <a:pt x="538" y="1405"/>
                  </a:lnTo>
                  <a:lnTo>
                    <a:pt x="500" y="1435"/>
                  </a:lnTo>
                  <a:lnTo>
                    <a:pt x="465" y="1470"/>
                  </a:lnTo>
                  <a:lnTo>
                    <a:pt x="437" y="1508"/>
                  </a:lnTo>
                  <a:lnTo>
                    <a:pt x="413" y="1552"/>
                  </a:lnTo>
                  <a:lnTo>
                    <a:pt x="395" y="1599"/>
                  </a:lnTo>
                  <a:lnTo>
                    <a:pt x="385" y="1649"/>
                  </a:lnTo>
                  <a:lnTo>
                    <a:pt x="380" y="1700"/>
                  </a:lnTo>
                  <a:lnTo>
                    <a:pt x="383" y="1742"/>
                  </a:lnTo>
                  <a:lnTo>
                    <a:pt x="390" y="1785"/>
                  </a:lnTo>
                  <a:lnTo>
                    <a:pt x="404" y="1824"/>
                  </a:lnTo>
                  <a:lnTo>
                    <a:pt x="420" y="1864"/>
                  </a:lnTo>
                  <a:lnTo>
                    <a:pt x="141" y="2291"/>
                  </a:lnTo>
                  <a:lnTo>
                    <a:pt x="540" y="2408"/>
                  </a:lnTo>
                  <a:lnTo>
                    <a:pt x="554" y="2411"/>
                  </a:lnTo>
                  <a:lnTo>
                    <a:pt x="568" y="2411"/>
                  </a:lnTo>
                  <a:lnTo>
                    <a:pt x="580" y="2408"/>
                  </a:lnTo>
                  <a:lnTo>
                    <a:pt x="594" y="2404"/>
                  </a:lnTo>
                  <a:lnTo>
                    <a:pt x="604" y="2397"/>
                  </a:lnTo>
                  <a:lnTo>
                    <a:pt x="613" y="2387"/>
                  </a:lnTo>
                  <a:lnTo>
                    <a:pt x="622" y="2375"/>
                  </a:lnTo>
                  <a:lnTo>
                    <a:pt x="627" y="2364"/>
                  </a:lnTo>
                  <a:lnTo>
                    <a:pt x="629" y="2336"/>
                  </a:lnTo>
                  <a:lnTo>
                    <a:pt x="622" y="2310"/>
                  </a:lnTo>
                  <a:lnTo>
                    <a:pt x="604" y="2291"/>
                  </a:lnTo>
                  <a:lnTo>
                    <a:pt x="580" y="2277"/>
                  </a:lnTo>
                  <a:lnTo>
                    <a:pt x="359" y="2211"/>
                  </a:lnTo>
                  <a:lnTo>
                    <a:pt x="512" y="1977"/>
                  </a:lnTo>
                  <a:lnTo>
                    <a:pt x="535" y="1996"/>
                  </a:lnTo>
                  <a:lnTo>
                    <a:pt x="561" y="2012"/>
                  </a:lnTo>
                  <a:lnTo>
                    <a:pt x="589" y="2026"/>
                  </a:lnTo>
                  <a:lnTo>
                    <a:pt x="618" y="2038"/>
                  </a:lnTo>
                  <a:lnTo>
                    <a:pt x="648" y="2047"/>
                  </a:lnTo>
                  <a:lnTo>
                    <a:pt x="676" y="2054"/>
                  </a:lnTo>
                  <a:lnTo>
                    <a:pt x="709" y="2057"/>
                  </a:lnTo>
                  <a:lnTo>
                    <a:pt x="740" y="2059"/>
                  </a:lnTo>
                  <a:lnTo>
                    <a:pt x="770" y="2057"/>
                  </a:lnTo>
                  <a:lnTo>
                    <a:pt x="798" y="2054"/>
                  </a:lnTo>
                  <a:lnTo>
                    <a:pt x="827" y="2047"/>
                  </a:lnTo>
                  <a:lnTo>
                    <a:pt x="855" y="2038"/>
                  </a:lnTo>
                  <a:lnTo>
                    <a:pt x="883" y="2028"/>
                  </a:lnTo>
                  <a:lnTo>
                    <a:pt x="909" y="2014"/>
                  </a:lnTo>
                  <a:lnTo>
                    <a:pt x="935" y="2000"/>
                  </a:lnTo>
                  <a:lnTo>
                    <a:pt x="958" y="1984"/>
                  </a:lnTo>
                  <a:lnTo>
                    <a:pt x="1106" y="2411"/>
                  </a:lnTo>
                  <a:lnTo>
                    <a:pt x="1465" y="2223"/>
                  </a:lnTo>
                  <a:lnTo>
                    <a:pt x="1465" y="2223"/>
                  </a:lnTo>
                  <a:lnTo>
                    <a:pt x="1487" y="2207"/>
                  </a:lnTo>
                  <a:lnTo>
                    <a:pt x="1498" y="2183"/>
                  </a:lnTo>
                  <a:lnTo>
                    <a:pt x="1503" y="2157"/>
                  </a:lnTo>
                  <a:lnTo>
                    <a:pt x="1496" y="2132"/>
                  </a:lnTo>
                  <a:lnTo>
                    <a:pt x="1489" y="2120"/>
                  </a:lnTo>
                  <a:lnTo>
                    <a:pt x="1477" y="2110"/>
                  </a:lnTo>
                  <a:lnTo>
                    <a:pt x="1468" y="2101"/>
                  </a:lnTo>
                  <a:lnTo>
                    <a:pt x="1454" y="2096"/>
                  </a:lnTo>
                  <a:lnTo>
                    <a:pt x="1442" y="2094"/>
                  </a:lnTo>
                  <a:lnTo>
                    <a:pt x="1428" y="2094"/>
                  </a:lnTo>
                  <a:lnTo>
                    <a:pt x="1414" y="2096"/>
                  </a:lnTo>
                  <a:lnTo>
                    <a:pt x="1402" y="2101"/>
                  </a:lnTo>
                  <a:lnTo>
                    <a:pt x="1184" y="2214"/>
                  </a:lnTo>
                  <a:lnTo>
                    <a:pt x="1062" y="1860"/>
                  </a:lnTo>
                  <a:lnTo>
                    <a:pt x="1078" y="1822"/>
                  </a:lnTo>
                  <a:lnTo>
                    <a:pt x="1090" y="1782"/>
                  </a:lnTo>
                  <a:lnTo>
                    <a:pt x="1097" y="1742"/>
                  </a:lnTo>
                  <a:lnTo>
                    <a:pt x="1099" y="1700"/>
                  </a:lnTo>
                  <a:lnTo>
                    <a:pt x="1097" y="1665"/>
                  </a:lnTo>
                  <a:lnTo>
                    <a:pt x="1092" y="1630"/>
                  </a:lnTo>
                  <a:lnTo>
                    <a:pt x="1083" y="1595"/>
                  </a:lnTo>
                  <a:lnTo>
                    <a:pt x="1071" y="1562"/>
                  </a:lnTo>
                  <a:lnTo>
                    <a:pt x="1057" y="1531"/>
                  </a:lnTo>
                  <a:lnTo>
                    <a:pt x="1038" y="1501"/>
                  </a:lnTo>
                  <a:lnTo>
                    <a:pt x="1017" y="1473"/>
                  </a:lnTo>
                  <a:lnTo>
                    <a:pt x="993" y="1447"/>
                  </a:lnTo>
                  <a:lnTo>
                    <a:pt x="982" y="1435"/>
                  </a:lnTo>
                  <a:lnTo>
                    <a:pt x="968" y="1423"/>
                  </a:lnTo>
                  <a:lnTo>
                    <a:pt x="953" y="1414"/>
                  </a:lnTo>
                  <a:lnTo>
                    <a:pt x="942" y="1402"/>
                  </a:lnTo>
                  <a:lnTo>
                    <a:pt x="925" y="1393"/>
                  </a:lnTo>
                  <a:lnTo>
                    <a:pt x="911" y="1386"/>
                  </a:lnTo>
                  <a:lnTo>
                    <a:pt x="897" y="1376"/>
                  </a:lnTo>
                  <a:lnTo>
                    <a:pt x="881" y="1369"/>
                  </a:lnTo>
                  <a:lnTo>
                    <a:pt x="899" y="1360"/>
                  </a:lnTo>
                  <a:lnTo>
                    <a:pt x="918" y="1348"/>
                  </a:lnTo>
                  <a:lnTo>
                    <a:pt x="935" y="1334"/>
                  </a:lnTo>
                  <a:lnTo>
                    <a:pt x="951" y="1318"/>
                  </a:lnTo>
                  <a:lnTo>
                    <a:pt x="965" y="1301"/>
                  </a:lnTo>
                  <a:lnTo>
                    <a:pt x="979" y="1280"/>
                  </a:lnTo>
                  <a:lnTo>
                    <a:pt x="993" y="1259"/>
                  </a:lnTo>
                  <a:lnTo>
                    <a:pt x="1005" y="1233"/>
                  </a:lnTo>
                  <a:close/>
                </a:path>
              </a:pathLst>
            </a:custGeom>
            <a:solidFill>
              <a:srgbClr val="19bff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78600" y="1960560"/>
              <a:ext cx="384120" cy="368280"/>
            </a:xfrm>
            <a:custGeom>
              <a:avLst/>
              <a:gdLst/>
              <a:ahLst/>
              <a:rect l="l" t="t" r="r" b="b"/>
              <a:pathLst>
                <a:path w="242" h="232">
                  <a:moveTo>
                    <a:pt x="120" y="0"/>
                  </a:moveTo>
                  <a:lnTo>
                    <a:pt x="134" y="0"/>
                  </a:lnTo>
                  <a:lnTo>
                    <a:pt x="146" y="2"/>
                  </a:lnTo>
                  <a:lnTo>
                    <a:pt x="158" y="5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1" y="19"/>
                  </a:lnTo>
                  <a:lnTo>
                    <a:pt x="200" y="26"/>
                  </a:lnTo>
                  <a:lnTo>
                    <a:pt x="209" y="35"/>
                  </a:lnTo>
                  <a:lnTo>
                    <a:pt x="223" y="52"/>
                  </a:lnTo>
                  <a:lnTo>
                    <a:pt x="233" y="73"/>
                  </a:lnTo>
                  <a:lnTo>
                    <a:pt x="240" y="94"/>
                  </a:lnTo>
                  <a:lnTo>
                    <a:pt x="242" y="115"/>
                  </a:lnTo>
                  <a:lnTo>
                    <a:pt x="240" y="139"/>
                  </a:lnTo>
                  <a:lnTo>
                    <a:pt x="233" y="162"/>
                  </a:lnTo>
                  <a:lnTo>
                    <a:pt x="221" y="181"/>
                  </a:lnTo>
                  <a:lnTo>
                    <a:pt x="207" y="197"/>
                  </a:lnTo>
                  <a:lnTo>
                    <a:pt x="188" y="214"/>
                  </a:lnTo>
                  <a:lnTo>
                    <a:pt x="167" y="223"/>
                  </a:lnTo>
                  <a:lnTo>
                    <a:pt x="146" y="230"/>
                  </a:lnTo>
                  <a:lnTo>
                    <a:pt x="120" y="232"/>
                  </a:lnTo>
                  <a:lnTo>
                    <a:pt x="108" y="232"/>
                  </a:lnTo>
                  <a:lnTo>
                    <a:pt x="97" y="230"/>
                  </a:lnTo>
                  <a:lnTo>
                    <a:pt x="85" y="228"/>
                  </a:lnTo>
                  <a:lnTo>
                    <a:pt x="73" y="223"/>
                  </a:lnTo>
                  <a:lnTo>
                    <a:pt x="61" y="218"/>
                  </a:lnTo>
                  <a:lnTo>
                    <a:pt x="52" y="211"/>
                  </a:lnTo>
                  <a:lnTo>
                    <a:pt x="43" y="204"/>
                  </a:lnTo>
                  <a:lnTo>
                    <a:pt x="33" y="197"/>
                  </a:lnTo>
                  <a:lnTo>
                    <a:pt x="19" y="178"/>
                  </a:lnTo>
                  <a:lnTo>
                    <a:pt x="10" y="160"/>
                  </a:lnTo>
                  <a:lnTo>
                    <a:pt x="3" y="139"/>
                  </a:lnTo>
                  <a:lnTo>
                    <a:pt x="0" y="115"/>
                  </a:lnTo>
                  <a:lnTo>
                    <a:pt x="3" y="94"/>
                  </a:lnTo>
                  <a:lnTo>
                    <a:pt x="10" y="73"/>
                  </a:lnTo>
                  <a:lnTo>
                    <a:pt x="19" y="52"/>
                  </a:lnTo>
                  <a:lnTo>
                    <a:pt x="33" y="35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73" y="10"/>
                  </a:lnTo>
                  <a:lnTo>
                    <a:pt x="85" y="5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6040" y="4049640"/>
              <a:ext cx="701640" cy="700200"/>
            </a:xfrm>
            <a:custGeom>
              <a:avLst/>
              <a:gdLst/>
              <a:ahLst/>
              <a:rect l="l" t="t" r="r" b="b"/>
              <a:pathLst>
                <a:path w="442" h="441">
                  <a:moveTo>
                    <a:pt x="442" y="220"/>
                  </a:moveTo>
                  <a:lnTo>
                    <a:pt x="439" y="248"/>
                  </a:lnTo>
                  <a:lnTo>
                    <a:pt x="434" y="276"/>
                  </a:lnTo>
                  <a:lnTo>
                    <a:pt x="425" y="302"/>
                  </a:lnTo>
                  <a:lnTo>
                    <a:pt x="413" y="328"/>
                  </a:lnTo>
                  <a:lnTo>
                    <a:pt x="411" y="333"/>
                  </a:lnTo>
                  <a:lnTo>
                    <a:pt x="409" y="335"/>
                  </a:lnTo>
                  <a:lnTo>
                    <a:pt x="404" y="340"/>
                  </a:lnTo>
                  <a:lnTo>
                    <a:pt x="402" y="344"/>
                  </a:lnTo>
                  <a:lnTo>
                    <a:pt x="385" y="365"/>
                  </a:lnTo>
                  <a:lnTo>
                    <a:pt x="366" y="384"/>
                  </a:lnTo>
                  <a:lnTo>
                    <a:pt x="348" y="401"/>
                  </a:lnTo>
                  <a:lnTo>
                    <a:pt x="324" y="415"/>
                  </a:lnTo>
                  <a:lnTo>
                    <a:pt x="301" y="426"/>
                  </a:lnTo>
                  <a:lnTo>
                    <a:pt x="275" y="433"/>
                  </a:lnTo>
                  <a:lnTo>
                    <a:pt x="249" y="438"/>
                  </a:lnTo>
                  <a:lnTo>
                    <a:pt x="221" y="441"/>
                  </a:lnTo>
                  <a:lnTo>
                    <a:pt x="200" y="441"/>
                  </a:lnTo>
                  <a:lnTo>
                    <a:pt x="178" y="436"/>
                  </a:lnTo>
                  <a:lnTo>
                    <a:pt x="157" y="431"/>
                  </a:lnTo>
                  <a:lnTo>
                    <a:pt x="136" y="424"/>
                  </a:lnTo>
                  <a:lnTo>
                    <a:pt x="117" y="415"/>
                  </a:lnTo>
                  <a:lnTo>
                    <a:pt x="99" y="403"/>
                  </a:lnTo>
                  <a:lnTo>
                    <a:pt x="80" y="389"/>
                  </a:lnTo>
                  <a:lnTo>
                    <a:pt x="63" y="375"/>
                  </a:lnTo>
                  <a:lnTo>
                    <a:pt x="38" y="342"/>
                  </a:lnTo>
                  <a:lnTo>
                    <a:pt x="16" y="305"/>
                  </a:lnTo>
                  <a:lnTo>
                    <a:pt x="5" y="262"/>
                  </a:lnTo>
                  <a:lnTo>
                    <a:pt x="0" y="220"/>
                  </a:lnTo>
                  <a:lnTo>
                    <a:pt x="5" y="178"/>
                  </a:lnTo>
                  <a:lnTo>
                    <a:pt x="16" y="136"/>
                  </a:lnTo>
                  <a:lnTo>
                    <a:pt x="38" y="98"/>
                  </a:lnTo>
                  <a:lnTo>
                    <a:pt x="63" y="63"/>
                  </a:lnTo>
                  <a:lnTo>
                    <a:pt x="80" y="49"/>
                  </a:lnTo>
                  <a:lnTo>
                    <a:pt x="99" y="35"/>
                  </a:lnTo>
                  <a:lnTo>
                    <a:pt x="117" y="25"/>
                  </a:lnTo>
                  <a:lnTo>
                    <a:pt x="136" y="16"/>
                  </a:lnTo>
                  <a:lnTo>
                    <a:pt x="157" y="9"/>
                  </a:lnTo>
                  <a:lnTo>
                    <a:pt x="178" y="4"/>
                  </a:lnTo>
                  <a:lnTo>
                    <a:pt x="200" y="0"/>
                  </a:lnTo>
                  <a:lnTo>
                    <a:pt x="221" y="0"/>
                  </a:lnTo>
                  <a:lnTo>
                    <a:pt x="242" y="0"/>
                  </a:lnTo>
                  <a:lnTo>
                    <a:pt x="263" y="4"/>
                  </a:lnTo>
                  <a:lnTo>
                    <a:pt x="284" y="9"/>
                  </a:lnTo>
                  <a:lnTo>
                    <a:pt x="305" y="16"/>
                  </a:lnTo>
                  <a:lnTo>
                    <a:pt x="324" y="25"/>
                  </a:lnTo>
                  <a:lnTo>
                    <a:pt x="343" y="35"/>
                  </a:lnTo>
                  <a:lnTo>
                    <a:pt x="359" y="49"/>
                  </a:lnTo>
                  <a:lnTo>
                    <a:pt x="376" y="63"/>
                  </a:lnTo>
                  <a:lnTo>
                    <a:pt x="404" y="98"/>
                  </a:lnTo>
                  <a:lnTo>
                    <a:pt x="425" y="136"/>
                  </a:lnTo>
                  <a:lnTo>
                    <a:pt x="437" y="178"/>
                  </a:lnTo>
                  <a:lnTo>
                    <a:pt x="442" y="220"/>
                  </a:lnTo>
                  <a:close/>
                </a:path>
              </a:pathLst>
            </a:custGeom>
            <a:solidFill>
              <a:srgbClr val="c6eff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52680" y="1919160"/>
              <a:ext cx="2035440" cy="1787760"/>
            </a:xfrm>
            <a:custGeom>
              <a:avLst/>
              <a:gdLst/>
              <a:ahLst/>
              <a:rect l="l" t="t" r="r" b="b"/>
              <a:pathLst>
                <a:path w="1282" h="1126">
                  <a:moveTo>
                    <a:pt x="739" y="1039"/>
                  </a:moveTo>
                  <a:lnTo>
                    <a:pt x="728" y="1060"/>
                  </a:lnTo>
                  <a:lnTo>
                    <a:pt x="716" y="1079"/>
                  </a:lnTo>
                  <a:lnTo>
                    <a:pt x="702" y="1095"/>
                  </a:lnTo>
                  <a:lnTo>
                    <a:pt x="685" y="1107"/>
                  </a:lnTo>
                  <a:lnTo>
                    <a:pt x="664" y="1114"/>
                  </a:lnTo>
                  <a:lnTo>
                    <a:pt x="636" y="1121"/>
                  </a:lnTo>
                  <a:lnTo>
                    <a:pt x="603" y="1126"/>
                  </a:lnTo>
                  <a:lnTo>
                    <a:pt x="563" y="1126"/>
                  </a:lnTo>
                  <a:lnTo>
                    <a:pt x="547" y="1126"/>
                  </a:lnTo>
                  <a:lnTo>
                    <a:pt x="530" y="1124"/>
                  </a:lnTo>
                  <a:lnTo>
                    <a:pt x="516" y="1121"/>
                  </a:lnTo>
                  <a:lnTo>
                    <a:pt x="502" y="1117"/>
                  </a:lnTo>
                  <a:lnTo>
                    <a:pt x="490" y="1112"/>
                  </a:lnTo>
                  <a:lnTo>
                    <a:pt x="481" y="1107"/>
                  </a:lnTo>
                  <a:lnTo>
                    <a:pt x="472" y="1100"/>
                  </a:lnTo>
                  <a:lnTo>
                    <a:pt x="462" y="1093"/>
                  </a:lnTo>
                  <a:lnTo>
                    <a:pt x="446" y="1070"/>
                  </a:lnTo>
                  <a:lnTo>
                    <a:pt x="436" y="1044"/>
                  </a:lnTo>
                  <a:lnTo>
                    <a:pt x="432" y="1016"/>
                  </a:lnTo>
                  <a:lnTo>
                    <a:pt x="429" y="990"/>
                  </a:lnTo>
                  <a:lnTo>
                    <a:pt x="432" y="952"/>
                  </a:lnTo>
                  <a:lnTo>
                    <a:pt x="441" y="920"/>
                  </a:lnTo>
                  <a:lnTo>
                    <a:pt x="455" y="887"/>
                  </a:lnTo>
                  <a:lnTo>
                    <a:pt x="479" y="854"/>
                  </a:lnTo>
                  <a:lnTo>
                    <a:pt x="504" y="826"/>
                  </a:lnTo>
                  <a:lnTo>
                    <a:pt x="540" y="798"/>
                  </a:lnTo>
                  <a:lnTo>
                    <a:pt x="582" y="770"/>
                  </a:lnTo>
                  <a:lnTo>
                    <a:pt x="631" y="741"/>
                  </a:lnTo>
                  <a:lnTo>
                    <a:pt x="690" y="711"/>
                  </a:lnTo>
                  <a:lnTo>
                    <a:pt x="742" y="680"/>
                  </a:lnTo>
                  <a:lnTo>
                    <a:pt x="782" y="652"/>
                  </a:lnTo>
                  <a:lnTo>
                    <a:pt x="814" y="622"/>
                  </a:lnTo>
                  <a:lnTo>
                    <a:pt x="840" y="589"/>
                  </a:lnTo>
                  <a:lnTo>
                    <a:pt x="857" y="551"/>
                  </a:lnTo>
                  <a:lnTo>
                    <a:pt x="869" y="509"/>
                  </a:lnTo>
                  <a:lnTo>
                    <a:pt x="871" y="460"/>
                  </a:lnTo>
                  <a:lnTo>
                    <a:pt x="866" y="408"/>
                  </a:lnTo>
                  <a:lnTo>
                    <a:pt x="852" y="369"/>
                  </a:lnTo>
                  <a:lnTo>
                    <a:pt x="836" y="338"/>
                  </a:lnTo>
                  <a:lnTo>
                    <a:pt x="817" y="315"/>
                  </a:lnTo>
                  <a:lnTo>
                    <a:pt x="798" y="301"/>
                  </a:lnTo>
                  <a:lnTo>
                    <a:pt x="779" y="286"/>
                  </a:lnTo>
                  <a:lnTo>
                    <a:pt x="758" y="275"/>
                  </a:lnTo>
                  <a:lnTo>
                    <a:pt x="735" y="265"/>
                  </a:lnTo>
                  <a:lnTo>
                    <a:pt x="709" y="258"/>
                  </a:lnTo>
                  <a:lnTo>
                    <a:pt x="683" y="254"/>
                  </a:lnTo>
                  <a:lnTo>
                    <a:pt x="655" y="249"/>
                  </a:lnTo>
                  <a:lnTo>
                    <a:pt x="624" y="249"/>
                  </a:lnTo>
                  <a:lnTo>
                    <a:pt x="591" y="251"/>
                  </a:lnTo>
                  <a:lnTo>
                    <a:pt x="556" y="256"/>
                  </a:lnTo>
                  <a:lnTo>
                    <a:pt x="521" y="265"/>
                  </a:lnTo>
                  <a:lnTo>
                    <a:pt x="483" y="279"/>
                  </a:lnTo>
                  <a:lnTo>
                    <a:pt x="443" y="301"/>
                  </a:lnTo>
                  <a:lnTo>
                    <a:pt x="406" y="329"/>
                  </a:lnTo>
                  <a:lnTo>
                    <a:pt x="368" y="366"/>
                  </a:lnTo>
                  <a:lnTo>
                    <a:pt x="333" y="411"/>
                  </a:lnTo>
                  <a:lnTo>
                    <a:pt x="307" y="448"/>
                  </a:lnTo>
                  <a:lnTo>
                    <a:pt x="286" y="474"/>
                  </a:lnTo>
                  <a:lnTo>
                    <a:pt x="267" y="495"/>
                  </a:lnTo>
                  <a:lnTo>
                    <a:pt x="248" y="507"/>
                  </a:lnTo>
                  <a:lnTo>
                    <a:pt x="232" y="516"/>
                  </a:lnTo>
                  <a:lnTo>
                    <a:pt x="213" y="519"/>
                  </a:lnTo>
                  <a:lnTo>
                    <a:pt x="192" y="521"/>
                  </a:lnTo>
                  <a:lnTo>
                    <a:pt x="169" y="521"/>
                  </a:lnTo>
                  <a:lnTo>
                    <a:pt x="147" y="521"/>
                  </a:lnTo>
                  <a:lnTo>
                    <a:pt x="126" y="519"/>
                  </a:lnTo>
                  <a:lnTo>
                    <a:pt x="108" y="514"/>
                  </a:lnTo>
                  <a:lnTo>
                    <a:pt x="89" y="509"/>
                  </a:lnTo>
                  <a:lnTo>
                    <a:pt x="72" y="502"/>
                  </a:lnTo>
                  <a:lnTo>
                    <a:pt x="58" y="495"/>
                  </a:lnTo>
                  <a:lnTo>
                    <a:pt x="44" y="486"/>
                  </a:lnTo>
                  <a:lnTo>
                    <a:pt x="32" y="476"/>
                  </a:lnTo>
                  <a:lnTo>
                    <a:pt x="18" y="458"/>
                  </a:lnTo>
                  <a:lnTo>
                    <a:pt x="9" y="434"/>
                  </a:lnTo>
                  <a:lnTo>
                    <a:pt x="2" y="411"/>
                  </a:lnTo>
                  <a:lnTo>
                    <a:pt x="0" y="380"/>
                  </a:lnTo>
                  <a:lnTo>
                    <a:pt x="2" y="361"/>
                  </a:lnTo>
                  <a:lnTo>
                    <a:pt x="4" y="340"/>
                  </a:lnTo>
                  <a:lnTo>
                    <a:pt x="11" y="317"/>
                  </a:lnTo>
                  <a:lnTo>
                    <a:pt x="23" y="291"/>
                  </a:lnTo>
                  <a:lnTo>
                    <a:pt x="35" y="265"/>
                  </a:lnTo>
                  <a:lnTo>
                    <a:pt x="54" y="240"/>
                  </a:lnTo>
                  <a:lnTo>
                    <a:pt x="75" y="211"/>
                  </a:lnTo>
                  <a:lnTo>
                    <a:pt x="101" y="183"/>
                  </a:lnTo>
                  <a:lnTo>
                    <a:pt x="115" y="169"/>
                  </a:lnTo>
                  <a:lnTo>
                    <a:pt x="131" y="155"/>
                  </a:lnTo>
                  <a:lnTo>
                    <a:pt x="150" y="141"/>
                  </a:lnTo>
                  <a:lnTo>
                    <a:pt x="169" y="127"/>
                  </a:lnTo>
                  <a:lnTo>
                    <a:pt x="192" y="111"/>
                  </a:lnTo>
                  <a:lnTo>
                    <a:pt x="218" y="96"/>
                  </a:lnTo>
                  <a:lnTo>
                    <a:pt x="246" y="80"/>
                  </a:lnTo>
                  <a:lnTo>
                    <a:pt x="277" y="66"/>
                  </a:lnTo>
                  <a:lnTo>
                    <a:pt x="312" y="52"/>
                  </a:lnTo>
                  <a:lnTo>
                    <a:pt x="347" y="40"/>
                  </a:lnTo>
                  <a:lnTo>
                    <a:pt x="387" y="28"/>
                  </a:lnTo>
                  <a:lnTo>
                    <a:pt x="429" y="19"/>
                  </a:lnTo>
                  <a:lnTo>
                    <a:pt x="474" y="12"/>
                  </a:lnTo>
                  <a:lnTo>
                    <a:pt x="521" y="5"/>
                  </a:lnTo>
                  <a:lnTo>
                    <a:pt x="573" y="3"/>
                  </a:lnTo>
                  <a:lnTo>
                    <a:pt x="627" y="0"/>
                  </a:lnTo>
                  <a:lnTo>
                    <a:pt x="659" y="0"/>
                  </a:lnTo>
                  <a:lnTo>
                    <a:pt x="692" y="3"/>
                  </a:lnTo>
                  <a:lnTo>
                    <a:pt x="723" y="5"/>
                  </a:lnTo>
                  <a:lnTo>
                    <a:pt x="753" y="7"/>
                  </a:lnTo>
                  <a:lnTo>
                    <a:pt x="784" y="10"/>
                  </a:lnTo>
                  <a:lnTo>
                    <a:pt x="814" y="14"/>
                  </a:lnTo>
                  <a:lnTo>
                    <a:pt x="843" y="19"/>
                  </a:lnTo>
                  <a:lnTo>
                    <a:pt x="871" y="26"/>
                  </a:lnTo>
                  <a:lnTo>
                    <a:pt x="897" y="33"/>
                  </a:lnTo>
                  <a:lnTo>
                    <a:pt x="925" y="40"/>
                  </a:lnTo>
                  <a:lnTo>
                    <a:pt x="951" y="50"/>
                  </a:lnTo>
                  <a:lnTo>
                    <a:pt x="977" y="57"/>
                  </a:lnTo>
                  <a:lnTo>
                    <a:pt x="1000" y="68"/>
                  </a:lnTo>
                  <a:lnTo>
                    <a:pt x="1024" y="78"/>
                  </a:lnTo>
                  <a:lnTo>
                    <a:pt x="1047" y="89"/>
                  </a:lnTo>
                  <a:lnTo>
                    <a:pt x="1068" y="101"/>
                  </a:lnTo>
                  <a:lnTo>
                    <a:pt x="1066" y="111"/>
                  </a:lnTo>
                  <a:lnTo>
                    <a:pt x="1063" y="120"/>
                  </a:lnTo>
                  <a:lnTo>
                    <a:pt x="1063" y="132"/>
                  </a:lnTo>
                  <a:lnTo>
                    <a:pt x="1063" y="141"/>
                  </a:lnTo>
                  <a:lnTo>
                    <a:pt x="1068" y="181"/>
                  </a:lnTo>
                  <a:lnTo>
                    <a:pt x="1080" y="218"/>
                  </a:lnTo>
                  <a:lnTo>
                    <a:pt x="1096" y="254"/>
                  </a:lnTo>
                  <a:lnTo>
                    <a:pt x="1122" y="284"/>
                  </a:lnTo>
                  <a:lnTo>
                    <a:pt x="1136" y="298"/>
                  </a:lnTo>
                  <a:lnTo>
                    <a:pt x="1153" y="310"/>
                  </a:lnTo>
                  <a:lnTo>
                    <a:pt x="1169" y="319"/>
                  </a:lnTo>
                  <a:lnTo>
                    <a:pt x="1188" y="329"/>
                  </a:lnTo>
                  <a:lnTo>
                    <a:pt x="1207" y="336"/>
                  </a:lnTo>
                  <a:lnTo>
                    <a:pt x="1225" y="340"/>
                  </a:lnTo>
                  <a:lnTo>
                    <a:pt x="1247" y="343"/>
                  </a:lnTo>
                  <a:lnTo>
                    <a:pt x="1268" y="345"/>
                  </a:lnTo>
                  <a:lnTo>
                    <a:pt x="1275" y="371"/>
                  </a:lnTo>
                  <a:lnTo>
                    <a:pt x="1280" y="397"/>
                  </a:lnTo>
                  <a:lnTo>
                    <a:pt x="1282" y="425"/>
                  </a:lnTo>
                  <a:lnTo>
                    <a:pt x="1282" y="453"/>
                  </a:lnTo>
                  <a:lnTo>
                    <a:pt x="1282" y="453"/>
                  </a:lnTo>
                  <a:lnTo>
                    <a:pt x="1282" y="453"/>
                  </a:lnTo>
                  <a:lnTo>
                    <a:pt x="1282" y="453"/>
                  </a:lnTo>
                  <a:lnTo>
                    <a:pt x="1282" y="453"/>
                  </a:lnTo>
                  <a:lnTo>
                    <a:pt x="1272" y="455"/>
                  </a:lnTo>
                  <a:lnTo>
                    <a:pt x="1265" y="455"/>
                  </a:lnTo>
                  <a:lnTo>
                    <a:pt x="1256" y="455"/>
                  </a:lnTo>
                  <a:lnTo>
                    <a:pt x="1249" y="455"/>
                  </a:lnTo>
                  <a:lnTo>
                    <a:pt x="1216" y="455"/>
                  </a:lnTo>
                  <a:lnTo>
                    <a:pt x="1183" y="455"/>
                  </a:lnTo>
                  <a:lnTo>
                    <a:pt x="1150" y="453"/>
                  </a:lnTo>
                  <a:lnTo>
                    <a:pt x="1120" y="448"/>
                  </a:lnTo>
                  <a:lnTo>
                    <a:pt x="1089" y="444"/>
                  </a:lnTo>
                  <a:lnTo>
                    <a:pt x="1061" y="439"/>
                  </a:lnTo>
                  <a:lnTo>
                    <a:pt x="1033" y="432"/>
                  </a:lnTo>
                  <a:lnTo>
                    <a:pt x="1007" y="422"/>
                  </a:lnTo>
                  <a:lnTo>
                    <a:pt x="1002" y="420"/>
                  </a:lnTo>
                  <a:lnTo>
                    <a:pt x="995" y="420"/>
                  </a:lnTo>
                  <a:lnTo>
                    <a:pt x="991" y="420"/>
                  </a:lnTo>
                  <a:lnTo>
                    <a:pt x="984" y="420"/>
                  </a:lnTo>
                  <a:lnTo>
                    <a:pt x="967" y="422"/>
                  </a:lnTo>
                  <a:lnTo>
                    <a:pt x="953" y="427"/>
                  </a:lnTo>
                  <a:lnTo>
                    <a:pt x="941" y="434"/>
                  </a:lnTo>
                  <a:lnTo>
                    <a:pt x="930" y="444"/>
                  </a:lnTo>
                  <a:lnTo>
                    <a:pt x="920" y="455"/>
                  </a:lnTo>
                  <a:lnTo>
                    <a:pt x="913" y="467"/>
                  </a:lnTo>
                  <a:lnTo>
                    <a:pt x="911" y="481"/>
                  </a:lnTo>
                  <a:lnTo>
                    <a:pt x="908" y="497"/>
                  </a:lnTo>
                  <a:lnTo>
                    <a:pt x="913" y="521"/>
                  </a:lnTo>
                  <a:lnTo>
                    <a:pt x="925" y="542"/>
                  </a:lnTo>
                  <a:lnTo>
                    <a:pt x="941" y="558"/>
                  </a:lnTo>
                  <a:lnTo>
                    <a:pt x="962" y="568"/>
                  </a:lnTo>
                  <a:lnTo>
                    <a:pt x="965" y="570"/>
                  </a:lnTo>
                  <a:lnTo>
                    <a:pt x="995" y="580"/>
                  </a:lnTo>
                  <a:lnTo>
                    <a:pt x="1026" y="587"/>
                  </a:lnTo>
                  <a:lnTo>
                    <a:pt x="1059" y="591"/>
                  </a:lnTo>
                  <a:lnTo>
                    <a:pt x="1092" y="598"/>
                  </a:lnTo>
                  <a:lnTo>
                    <a:pt x="1127" y="603"/>
                  </a:lnTo>
                  <a:lnTo>
                    <a:pt x="1162" y="605"/>
                  </a:lnTo>
                  <a:lnTo>
                    <a:pt x="1197" y="608"/>
                  </a:lnTo>
                  <a:lnTo>
                    <a:pt x="1235" y="608"/>
                  </a:lnTo>
                  <a:lnTo>
                    <a:pt x="1240" y="605"/>
                  </a:lnTo>
                  <a:lnTo>
                    <a:pt x="1244" y="605"/>
                  </a:lnTo>
                  <a:lnTo>
                    <a:pt x="1249" y="605"/>
                  </a:lnTo>
                  <a:lnTo>
                    <a:pt x="1254" y="605"/>
                  </a:lnTo>
                  <a:lnTo>
                    <a:pt x="1230" y="650"/>
                  </a:lnTo>
                  <a:lnTo>
                    <a:pt x="1204" y="690"/>
                  </a:lnTo>
                  <a:lnTo>
                    <a:pt x="1171" y="725"/>
                  </a:lnTo>
                  <a:lnTo>
                    <a:pt x="1134" y="755"/>
                  </a:lnTo>
                  <a:lnTo>
                    <a:pt x="1094" y="784"/>
                  </a:lnTo>
                  <a:lnTo>
                    <a:pt x="1052" y="809"/>
                  </a:lnTo>
                  <a:lnTo>
                    <a:pt x="1009" y="833"/>
                  </a:lnTo>
                  <a:lnTo>
                    <a:pt x="965" y="856"/>
                  </a:lnTo>
                  <a:lnTo>
                    <a:pt x="930" y="875"/>
                  </a:lnTo>
                  <a:lnTo>
                    <a:pt x="894" y="894"/>
                  </a:lnTo>
                  <a:lnTo>
                    <a:pt x="861" y="915"/>
                  </a:lnTo>
                  <a:lnTo>
                    <a:pt x="831" y="936"/>
                  </a:lnTo>
                  <a:lnTo>
                    <a:pt x="803" y="957"/>
                  </a:lnTo>
                  <a:lnTo>
                    <a:pt x="777" y="983"/>
                  </a:lnTo>
                  <a:lnTo>
                    <a:pt x="756" y="1009"/>
                  </a:lnTo>
                  <a:lnTo>
                    <a:pt x="739" y="1039"/>
                  </a:lnTo>
                  <a:close/>
                </a:path>
              </a:pathLst>
            </a:custGeom>
            <a:solidFill>
              <a:srgbClr val="c6eff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97280" y="2071800"/>
              <a:ext cx="14292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45" y="0"/>
                  </a:moveTo>
                  <a:lnTo>
                    <a:pt x="64" y="5"/>
                  </a:lnTo>
                  <a:lnTo>
                    <a:pt x="78" y="15"/>
                  </a:lnTo>
                  <a:lnTo>
                    <a:pt x="87" y="29"/>
                  </a:lnTo>
                  <a:lnTo>
                    <a:pt x="90" y="45"/>
                  </a:lnTo>
                  <a:lnTo>
                    <a:pt x="87" y="64"/>
                  </a:lnTo>
                  <a:lnTo>
                    <a:pt x="78" y="78"/>
                  </a:lnTo>
                  <a:lnTo>
                    <a:pt x="64" y="87"/>
                  </a:lnTo>
                  <a:lnTo>
                    <a:pt x="45" y="92"/>
                  </a:lnTo>
                  <a:lnTo>
                    <a:pt x="26" y="87"/>
                  </a:lnTo>
                  <a:lnTo>
                    <a:pt x="12" y="78"/>
                  </a:lnTo>
                  <a:lnTo>
                    <a:pt x="3" y="64"/>
                  </a:lnTo>
                  <a:lnTo>
                    <a:pt x="0" y="45"/>
                  </a:lnTo>
                  <a:lnTo>
                    <a:pt x="3" y="29"/>
                  </a:lnTo>
                  <a:lnTo>
                    <a:pt x="12" y="15"/>
                  </a:lnTo>
                  <a:lnTo>
                    <a:pt x="26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9bff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97400" y="207180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45" y="0"/>
                  </a:moveTo>
                  <a:lnTo>
                    <a:pt x="64" y="5"/>
                  </a:lnTo>
                  <a:lnTo>
                    <a:pt x="78" y="15"/>
                  </a:lnTo>
                  <a:lnTo>
                    <a:pt x="87" y="29"/>
                  </a:lnTo>
                  <a:lnTo>
                    <a:pt x="92" y="45"/>
                  </a:lnTo>
                  <a:lnTo>
                    <a:pt x="87" y="64"/>
                  </a:lnTo>
                  <a:lnTo>
                    <a:pt x="78" y="78"/>
                  </a:lnTo>
                  <a:lnTo>
                    <a:pt x="64" y="87"/>
                  </a:lnTo>
                  <a:lnTo>
                    <a:pt x="45" y="92"/>
                  </a:lnTo>
                  <a:lnTo>
                    <a:pt x="29" y="87"/>
                  </a:lnTo>
                  <a:lnTo>
                    <a:pt x="15" y="78"/>
                  </a:lnTo>
                  <a:lnTo>
                    <a:pt x="5" y="64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5" y="15"/>
                  </a:lnTo>
                  <a:lnTo>
                    <a:pt x="29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9bff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920-F572-4688-8ADD-21565DBA4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7:33Z</dcterms:created>
  <dc:creator>twerkheiser</dc:creator>
  <dc:description/>
  <cp:keywords/>
  <dc:language>en-US</dc:language>
  <cp:lastModifiedBy>lee starr</cp:lastModifiedBy>
  <dcterms:modified xsi:type="dcterms:W3CDTF">2007-04-24T21:27:55Z</dcterms:modified>
  <cp:revision>137</cp:revision>
  <dc:subject/>
  <dc:title>ERCO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33</vt:lpwstr>
  </property>
</Properties>
</file>