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6F72-25FD-439C-86FB-BB00AC8A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A345-E972-4439-BF00-735AB2E1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353D-49E3-40BF-B2CB-FEFC5E11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D139-569D-449D-B50E-C0F78FB8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A2E8-E199-4844-8A25-0DE9FC41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8F64-A63B-41DD-969E-D1C2A631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D6DA-D9B6-4497-BDB1-7E3FFE71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BFA3-D52B-48FE-BAAA-E04DAF1C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BFB3-2880-4320-B4E2-F5373B90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6BD7-3D02-4AE4-8550-CA9A7292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9C61-D74A-48CD-A8EC-7DDCC11F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1D5A-BA8F-4700-9FC0-A3A67732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9CA9-02A2-4C94-A561-E86D5FC5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E143-9A11-48C0-AF0B-759F1D8A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A2F7-A214-4FBC-99EA-429F6185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1996-5FAF-49B5-81E2-D9EE4936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64C3-5312-470B-866A-2A0DFA4E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D258-0B9A-4CD5-A267-273B9FC7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3B83-A1ED-4B8C-83F1-319DAFD1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F43D-022A-4E32-A701-0AC517CB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7BC2-D8CD-4803-A8D3-06AF65A5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E570-99D2-49BF-A563-3B8A8F05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74FE-3F2F-4729-ACD2-020E1276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4636-8B47-4589-95DE-55B28FE1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96FD-ECDA-4DC7-ADB1-EF93192C7CD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A0A0-A114-4A02-B175-0C33C09FD46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liance Upda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20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9DE1-E02B-475E-A1C1-39EF6B413B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ctober 3, 2006 Ev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atus of Corrective A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aR Perform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 Protocol Violation Notices iss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 notices related to Section 6.5.4(2) – tripping requirements for La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mmary of corrective a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itional training provided to QSE Operators – training material and signed statements from Operators provid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w procedures developed that automate notification process – Operator training and sign-off provid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formed drill seque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ining provided to LaaR with emphasis on the importance of deploying LaaR per Protoco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eived certification statements from LaaR that related Protocols requirements had been read and understoo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ulty breaker identified and replaced by one La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5828-F4FE-453D-924A-231FB45A11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ctober 3, 2006 Ev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atus of Corrective A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aR Performance (Continu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e notice related to Section 6.5.1.1(4) – telemetry requir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rective 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placed UPS requiring manual reset with UPS that automatically resets after power out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corrective actions comple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0B53-84DE-4DBE-BB9C-56B170404E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cember 22, 2006 Ev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Status of Corrective A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tor Tri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de-through capability of generators during disturba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iolation Notice issued to Generator Owner for non-compliance with an ERCOT Operating Guides Requirement – Operating Guide 3.1.4.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rective a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inuing to discuss corrective action plan with Generating Ent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ating Entity has hired a consultant to review plant relaying – preliminary results has indicated a relay setting probl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itional documentation and mitigation schedule received on April 1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6123-84C5-4696-BE18-CAD9E91D88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cember 22, 2006 Ev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Status of Corrective A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aR perform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 Operations has requested that LaaR retest under-frequency relays that did not trip automat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 QSEs – 61 La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ing to be completed by May 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ing to be identical to initial qualification tes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ree Protocol Violation Notices iss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mmary of corrective 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e notice related to Section 6.5.4(2) – tripping requirements for Laa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multaneous telephone notification of all La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ually triggered EMS audio alarm signal telemetered to all Laa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ual tripping of one LaaR if it has not begun to ramp down 5 minutes after notifi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30EE-1455-42D8-B5DC-650BB74488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cember 22, 2006 Ev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Status of Corrective A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aR Performance (Continu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wo notices related to Section 6.5.1.1(4) – telemetry requir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mmary of corrective a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eting between QSE and LaaR to re-emphasize requirements, review issues, and develop corrective a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dentified and replaced failed transduc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spended participation by violating LaaR until corrective actions tak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ll-time field manager position created to ensure performance of resour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quired corrective actions largely completed – some additional validation requir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-performing LaaR to test to validate that corrective actions working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w full-time field manager position not yet fill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83C9-A68D-47DA-93EC-E6C192DAFB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ind-Only Portfolio Performa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-minute average scores for wind-only portfolios have ranged from 5 to 60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ch 2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Requests for Information issued to 5 wind-only QSEs and ERCOT I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empt to understand what efforts and activities QSEs are undertaking to improve their wind-only portfolios’ performa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ril 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All responses received by ERCOT Compliance – responses forwarded to ROS Chai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iance to participate as needed and monitor progres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FC8B-A34C-4B5A-A01A-9EB13A5B60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PS1 Performa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monitoring criteria (PRR 525) implemented in January 2005 – steady CPS1 score improvement for first 6 mont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PS1 performance peaked in June 2006 – 154.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R 661 – Effective July 1, 2006 – SCE Performance Charge replaces disqual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R 662 – Effective July 1, 2006 – 1) Allowed additional exemptions to QSEs, and 2) excluded uncontrollable renewable resources from complying with the metric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SEs removed wind resources from portfolios and placed in new wind-only sub-Q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DCAE-9F49-4649-9EA5-BBA1815ED0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PS1 Performa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lining performance expected during shoulder months (March/April &amp; October/November)……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wer generating units on line because of lower de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y generating units are cycled daily (turned on to meet load demand and later turned off when load subsid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,000 MW (nameplate) of wind generation in ERCOT makes up a larger percentage of on-line genera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rch CPS1 score – 120.6; expect similar score in Apr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should begin to improve again in May – if not………………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A118-489A-4440-AFD1-4A1D86812A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rol Performance Highligh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RC CPS1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further declined in M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rch performanc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arch 2007:  120.59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arch 2006:  143.16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2 month rolling averag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pril 2006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March 2007:  139.59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pril 2005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March 2006:  128.56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R 525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for March indicate 32 QSEs passed / 3 non-wind-only QSEs failed the mea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posted on the ERCOT Compliance Web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CE Performance Sc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97C2-444A-48E6-8D4E-2C1AD8FF98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 CPS1 Performance Comparison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424A-9DC0-4121-8018-2ABB38D692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’s CPS1 Monthly Tren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BDC4-9435-4E41-A91F-9B2AC896C2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 CPS1 by Interv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19D-4F75-4CFA-98C2-228388A35E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SE PRR525 10-Minut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val Scor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6EDF-3925-42B0-9B51-74315674AF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ch 2007 Resource Plan Performance Metr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66640" y="167652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4FFB-E98C-450F-87E8-8FAE72E091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9753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525 Passing 10-Min Interv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centage Tre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54EE-6A3D-4D9D-8EA7-D31E2F0CCF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O / RE Activit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ity Regist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ch 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Latest draft list submitted to NERC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work-in-progre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ril 1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&amp; 1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NERC issued letters to all owners, operators, &amp; users of the ERCOT Bulk Power System identified by ERCOT Compli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y entity can challenge its listing and function with NERC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ril 19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FERC approved the Texas Regional Entity Delegation Agre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11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Submit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raft of 2008 Texas RE Business Plan &amp; Budget to NER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ne 4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NERC Reliability Standards take effect; mandatory compliance beg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6D81-4D8D-4419-BB9E-E7CF9A2D03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17:43Z</dcterms:created>
  <dc:creator>lrobinson</dc:creator>
  <dc:description/>
  <dc:language>en-US</dc:language>
  <cp:lastModifiedBy>LGrimm</cp:lastModifiedBy>
  <dcterms:modified xsi:type="dcterms:W3CDTF">2007-04-27T18:09:57Z</dcterms:modified>
  <cp:revision>487</cp:revision>
  <dc:subject/>
  <dc:title>PRR 525 Compliance Analysis</dc:title>
</cp:coreProperties>
</file>