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2C4-6F57-4F96-8FF7-4C18D927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1F7-4AA5-4D94-AF9F-C22FC52B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3C3-9E2D-43B7-9523-D58555F3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80A-C25C-464A-991C-1A033703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DD2-75F0-413F-8641-AC20AE8D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2594-1FDB-402F-97CF-767D6E72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29C3-AEC9-403B-97AD-41D3AF38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9C99-78A6-4246-B390-B6BD84C3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556E-7912-44AB-93F3-A8F6F7D3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5213-4366-4147-A928-C82F5DE7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18BC-B751-4754-8060-2EFBFAB8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4DE-BEC6-4EF3-84DA-83D2FA4D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9067-C87A-446C-8B92-530C576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ECBC-1DFB-4008-AF2B-B6688CB8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33C9-6808-4F5F-BEFA-D0C42EA1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82C3-7FED-4A55-8C68-53041DC9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279A-2C2F-487E-BC29-EB94CCAE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7B1-6313-4198-97D1-F8DC0B8C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3C1-C3F5-4D4A-9B69-2FEB42D1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4D3-29FF-45FC-8B7C-29C34537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DD6-749E-4233-B08E-26C59E57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6E4-FA73-4F65-8D03-C9C9EEC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2F1-8893-4D47-A03B-AB7D41A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B70-1281-40CF-97FA-43B3FA1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6C5-6BF0-4F86-9A6E-8E6F585D3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754C-B12F-4AA9-B671-90B872487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sts.ercot.com/cgi-bin/majordomo" TargetMode="External"/><Relationship Id="rId2" Type="http://schemas.openxmlformats.org/officeDocument/2006/relationships/hyperlink" Target="http://lists.ercot.com/cgi-bin/majordomo" TargetMode="External"/><Relationship Id="rId3" Type="http://schemas.openxmlformats.org/officeDocument/2006/relationships/hyperlink" Target="http://lists.ercot.com/cgi-bin/majordomo" TargetMode="External"/><Relationship Id="rId4" Type="http://schemas.openxmlformats.org/officeDocument/2006/relationships/hyperlink" Target="http://mail.longhornpower.com/scripts/mail/compose.mail?compose=1&amp;.ob=f4fb86b3b30465b3ecdfa4bc88e6572170604a20&amp;composeto=longtermsolutionstf@lists.ercot.com&amp;composecc=&amp;subject=&amp;body=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ong Term Solution Task Forc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 Report 5/5/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b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 Wittmeyer - LTSTF Co-Chai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C Directed Char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Long-Term Solution Task Force (LTSTF), reporting to WMS and ROS, has a mission of finding alternative solutions to EI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rule specifically requires the market participants to identify alternatives that are defined as long-term solutions. Any long-term solution must offer ERCOT the ability to avoid shedding firm load by bringing more resources online or curtailing load voluntaril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is context, the PUCT is interested in the following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tter price signals leading up to an Emergency Electric Curtailment Plan (EECP) even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ringing more resources (both interruptible load and generation) online through existing ancillary services;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Examining the priorities set by transmission/distribution service providers when shedding firm lo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COT Staff has final signoff on replacement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ng Term Solution Task For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s have been raised over uncertainty related to changing the current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s have been raised over doing nothing and hoping we will at least get to the threshold participation in Ju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olutions Currently Under Consider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ly Set EECP Pr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Responsive Re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LaaR provided Responsive Re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of Day Responsive Reserve oblig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 Load Control by ERC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ext Step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/7 ERCOT Met 168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9:00 – 12:4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/5 ERCOT Met 168 - 9:30-3: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ail address for the list serve function on the ERCOT website: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lists.ercot.com/cgi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-bin/majordom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ask force email address is: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longtermsolutionstf@lists.ercot.c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4:34:21Z</dcterms:created>
  <dc:creator>Bob Wittmeyer</dc:creator>
  <dc:description/>
  <dc:language>en-US</dc:language>
  <cp:lastModifiedBy>Bob Wittmeyer</cp:lastModifiedBy>
  <dcterms:modified xsi:type="dcterms:W3CDTF">2007-05-02T19:33:12Z</dcterms:modified>
  <cp:revision>3</cp:revision>
  <dc:subject/>
  <dc:title>PUC Directed Char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