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38C-0DDD-4117-953F-0521494A9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6322-8AF7-4570-B9EC-8B4B414D5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C07-0BA9-4C03-A9F8-7578C2BC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C98-0FF2-4074-A309-F2824D2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9B5-18EA-4942-84A6-B010811F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6DB-F625-4096-8110-928BDB7E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146-659F-442E-A60B-2DCEDD5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BFF-8F99-49E1-98E1-144C112C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341-4EE2-4E2D-8876-E6BD809B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325-2009-46D4-A4AB-FE3B7196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8AD-CD6A-4120-BC2E-705CD7AD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B6E-4F7C-43B4-A393-D2EADA5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BD9-D895-40AE-8DAE-B7C044E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AD5-7935-40DF-B84E-89A4057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839-7EB9-467C-980A-AED71CC65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y 4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112-185B-4DB2-9445-32201BCC33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80880" y="1828800"/>
            <a:ext cx="8534160" cy="3656880"/>
            <a:chOff x="380880" y="1828800"/>
            <a:chExt cx="8534160" cy="36568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20120" y="1974960"/>
              <a:ext cx="8494920" cy="35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0880" y="1828800"/>
              <a:ext cx="86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.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80880" y="121932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d5f5d"/>
                </a:solidFill>
                <a:uFillTx/>
                <a:latin typeface="Times New Roman"/>
              </a:rPr>
              <a:t>LPG Reference to Decision Tree Annual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E30-67BC-4C0D-9F01-4884C2497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952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88000"/>
          </a:bodyPr>
          <a:p>
            <a:pPr marL="256680" indent="-25668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ge Time Period:  January 2002 through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ay 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er reading periods for all rea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95000"/>
              </a:lnSpc>
              <a:spcBef>
                <a:spcPts val="99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95000"/>
              </a:lnSpc>
              <a:spcBef>
                <a:spcPts val="201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lassify each usage value as a winter or shoulder 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80000"/>
              </a:lnSpc>
              <a:spcBef>
                <a:spcPts val="201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Only shoulder and winter readings were used in th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inter/Should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September 20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int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ember 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and stop &l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ebruar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hould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September 20 and stop &l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vember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760" indent="-212040"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arch 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760" indent="-21204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»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easonal Crossover Rea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lnSpc>
                <a:spcPct val="40000"/>
              </a:lnSpc>
              <a:spcBef>
                <a:spcPts val="224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f 60% or more of the days in a reading are in the shoulder season the reading is classified as a should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f 60% or more of the days in a reading are in the winter season the reading is classified as a wint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ther wise the reading is 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189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2007 Decision Tree – Residential Annual Updat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F12-6C62-4140-99E7-D103D5A2B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12880" y="990360"/>
            <a:ext cx="8788320" cy="4994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92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highest winter reading kWh/day is less th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kWh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LO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0.60 and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LO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HI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number of readings available &gt;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0.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(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009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) &gt;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LOW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Winter Max kWh/day &gt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HI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therwise assign “RESLO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8088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2007 Decision Tree – Residential Annual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144-BCBC-4949-86F9-E804530A3A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ial Annual Validation for 2007 is likely to result  6.3 % mig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ntinued use of the  new models, future annual migration rates should be lower than the 2007 rate                ( estimated 4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920"/>
            <a:ext cx="7527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 Unicode MS"/>
              </a:rPr>
              <a:t>Residential – 2007 Annual Valid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2B7-ACE6-4356-9510-A08A367E03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39908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- Assignment Year for Average Load Factor calculations: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uly 2006 through June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8088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7 Decision Tree – Business Annual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65A-0791-4BC3-9EBB-B2789F2600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295280"/>
            <a:ext cx="85899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S Recommends to TAC Approval of the following Decision Tree Annual Upd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3505320"/>
            <a:ext cx="8915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Tree reflecting Residential Annu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file Decision Tree – Annual Update DRAFT eff 06-15-07 RES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Tree reflecting Business Annu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file Decision Tree – Annual Update DRAFT eff 8-15-07 BUS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134-E414-47EB-BDD4-9FB21D0749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GRR 020 Annual Validation Resolution Targ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1914120"/>
            <a:ext cx="76320" cy="103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2DC-3E29-4374-8E6D-D28BF1A043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GRR 02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1.2.1) Annual Validation of Load Profile Type Assignment for RES and BUS Load Factor ESI 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current LPG language requires ERCOT and the TDSP to work together until all issues are resolved.  The 100% resolution target unduly burdens all involved and cannot be achieved within a reasonable timeframe because of data synchronization and other issues.  LPGRR as proposed would provide time-savings for TDSPs and ERC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8F3-01D2-470B-B344-41DBBDD337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GRR 02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revision changes the 100% target to 9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ing 1% of transactions would continue to be worked on from a profiling reporting standpoint through “MarkeTrak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Market Impact – minimal to TDSPs  (impact analysis posted 3/27/0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PS recommends to TA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Approval of LPGRR 0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82A-ACF7-4C88-B25E-F655556DE4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096-79E3-4EAC-B30B-3617EB1F56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Recent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Met April 1</a:t>
            </a:r>
            <a:r>
              <a:rPr b="0" lang="en-US" sz="32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st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&amp; May 1</a:t>
            </a:r>
            <a:r>
              <a:rPr b="0" lang="en-US" sz="32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ince Last TAC Meet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&amp; edited updates to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4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Submitted 003COPMGRR, Section 4, Market Notice Communication Process on April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pdated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, prepared updates to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1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Reports &amp; Extra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rafting language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5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Commercial Systems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rafting Language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3   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Renewable Energy Cr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7EF-AADC-4A1E-875A-E9B8001D2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April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epared draft PRR and NPRR to simplify the dispute process – following discussion at COPS April 10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meeting PRR was withdrawn and new language is being drafted &amp; will be submitted in June.  SDAWG will work on the verifiable costs process in nodal and zonal markets and deliver results to COPS &amp; W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rking with ERCOT Commercial Ops to define nodal data extract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81E-23F5-42E6-A850-5CD84F687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 on New Profile Implement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s to Profile Decision Tree Revision and Approval Proc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9.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nnual Validation of Load Profile Type Assignment for RES &amp; Bus Load Factor ESI I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1.2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sentation - “Round 2 Sample Desig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361-F88D-460E-85CF-8862A1A02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087560"/>
            <a:ext cx="7924680" cy="55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tatus PWG 2007 Goal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1D5-192D-4AE3-9ACD-AAEDA1495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w ERCOT Load Profile Update Implementation Dat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5/15/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B67-F1FA-4327-BED1-3E6681A04C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Status Repor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143000"/>
            <a:ext cx="853452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09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 –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Testing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 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Folders have been created and Backcasts to TML Pos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d te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On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19A-3E4B-4496-88E4-E1F4A83E1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e date 05/15/07 onward, profiles generated from new models will be posted in the “primary” f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s from old models will remain posted in auxiliary folder for 60 days and archived o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E37-A977-4E6D-8B8D-0C19B6CAD5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file Decision Tree Revision and Approval Proces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9.1.1)</a:t>
            </a:r>
            <a:br>
              <a:rPr sz="3600"/>
            </a:br>
            <a:br>
              <a:rPr sz="44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proposed changes approved by COPS for consideration and approval by TAC.</a:t>
            </a:r>
            <a:br>
              <a:rPr sz="3200"/>
            </a:b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cc99"/>
                </a:solidFill>
                <a:latin typeface="Times New Roman"/>
              </a:rPr>
              <a:t>Vote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875-5558-4199-9D42-7B7133424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4-30T15:31:02Z</dcterms:modified>
  <cp:revision>218</cp:revision>
  <dc:subject/>
  <dc:title>Point-to-Point</dc:title>
</cp:coreProperties>
</file>