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B624-EF25-4BEF-A7B1-ED9B87EE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0D92-B7F0-4F96-BAF8-B7EDBC9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2383-4961-451B-9A46-5F2BC18F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5539-941E-4176-9D4C-07800A2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9D77-08B6-445F-9E56-3544533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D9F9-AAF7-409A-A62C-020C9D2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5CBC-967E-49F5-A853-5CFDC26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C673-D0D9-4217-968E-E0D2ECC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4E14-13BB-45A4-9C9F-88865289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37DB-2453-43E2-9B21-BD9F8C0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2A87-691E-44C3-B4DC-0A8FE89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70D5-2A45-4226-A992-D7443B0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29D-E247-4C25-BDCF-ECE69C69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tail Systems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7848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848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Systems Architecture Change &amp; RF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change has been success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stability has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in 100% availability for March and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hardware has been ordered to make architecture change failover capable and high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in testing environment in June/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production environment in July/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Infrastructure, Architecture and Application analysis proposals have been received and are being review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will be selected in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IT Services SL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Market IT Services SLA expanded to include MarkeTrak and TML in addition to Transaction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xtracts &amp; Reporting SLA is being prepared by ERCOT – it will be treated as a separate service &amp; agreement and completed after the Retail Market IT Services S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 &amp;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5/7 - distribute SLA document &amp; summary reports to distribution lists and solici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transaction processing notice list, Retail market call list, TDSP primary contact list, CR primary contac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5/28 – distribute any changes to the documents based on market participan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view at Jun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DT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at June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MS for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5-03T22:52:36Z</dcterms:modified>
  <cp:revision>66</cp:revision>
  <dc:subject/>
  <dc:title>Instructions</dc:title>
</cp:coreProperties>
</file>