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605CE5B-C045-4F74-A429-44468B574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5840" y="698400"/>
            <a:ext cx="4656240" cy="3492720"/>
          </a:xfrm>
          <a:prstGeom prst="rect">
            <a:avLst/>
          </a:prstGeom>
          <a:ln w="0">
            <a:noFill/>
          </a:ln>
        </p:spPr>
      </p:sp>
      <p:sp>
        <p:nvSpPr>
          <p:cNvPr id="11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oting items for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body of work being done by task forces – work in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reports from LTSF and RTF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LS – everything goes through PRS Status report and review of self provision PRR which will come back through P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 auction issues – Beths report – WMS supported ERCOT recommendation – it will show up at TAC in the form of an NPR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ice catch by the DS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the issue of the Negative bidding by LaaRs and that we have a gap resulting from the rejection of NPRR18 (splitting the bid stacks) – nothing in Nodacols on Ancillary service floors, more work needs to be done to flesh out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raised at the PRS and I will include it in the WMS report to TAC.  It is a very good catch by the DSW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e a short history of the things that have been put forth so far:  Bid Floor, Split Stacks and Credit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TTF work still proceeding should rap up by next month and will take a take a large chunk of TAC time in JUN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most responsive, we will have to resist the urge to provide the PUC with AN ANSWER.  Rather, we will provide a set of answers that, the PUC can choose from</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t of the problem is defining the problem.</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interpretations of the problem may push one towards different solution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way to understand the objective of this group is to accept that there are public policy driven results that will not thrive in the economically efficient market design ERCOT is moving to.    The entire CREZ project is to facilitate public policy established by the legislatur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solutions are being tested against a set of standards that define what is acceptable which include a desire for an “efficient” solution.  I understand efficient to mean “don’t mess with SCED”  Both the physical and the financial options involve pre-processing outside of SCED that will limit what SCED has to work with, which off course does limit pure economic efficiency but it results in as good an answer as you can get with the limitations you have decided to place on the solu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ways to provide priority 1 physical  (Day ahead operating limit similar to Zonal-McCammy and 1 financial and the financial options has two choices – adjusted offer floors and adjusted offer curves.  By imbedded I mean already built into the nodal market design.  Under one problem definition, this may well be a good answer</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a question that TAC may choose to give guidance on – Does WMS have a role in deciding if Priority Dispatch is necessary – which gets back to the Problem Definition thing agai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 TAC may want to weigh in on if and how the wisdom of this stakeholder process might be conveyed to the PUC.</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 by for a Mark Bruce presentation in June that will bring this subject to you for a decis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b will flesh this out for more as a separate agenda it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s thing on CR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stinct absence of words on the slide – thus limiting the document able mistakes that I make in this present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MS action will move forward as an NPRR which will come back to TAC through the P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AB3DC-B48A-49CC-B66B-3EB59540E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ED0E2-93B2-4A77-BCF6-72A50770F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569E5-6EB4-4C8E-8E1F-C21B29706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8BD10-A660-48FB-B6C6-87740D1CC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71544-64FA-4626-BB62-D442E46CC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84D8C-0E67-49FE-BBFE-9705B1C71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E5A68-C4C4-4271-86E4-5A1622DE5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A3F28-80CC-401C-A1A7-E70F7805E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5F71A-1C02-4E30-9FF2-7D957B669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9944A-A73E-4576-A0A0-8EB8411D3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DD440-7635-4DF9-BBD6-C26CC6C8A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B30A5-BEC4-4CF1-AC6C-96270C77E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AB16D-492C-4794-BD9C-80B528A8B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9AEA6-1C31-4396-936F-1166A1B34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7140D-1A42-45EC-976C-8CBF946E9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FE3E8-C09E-44F1-BB18-729856936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D7036-B0DD-40A1-AD7E-C3C5DE4C4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98E9D-F66C-4BCA-9385-28993AF3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D517C-CF8A-4CAC-88B4-E82A0BE5B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DEDC8-349E-4598-9F03-FB32C7A39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A4CD-C8C9-4E1F-BE9D-5FA6B1114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0D06-6091-41DC-ABA5-0B3EB943A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455EE-5B4C-4281-B700-7C1E13A39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EA788-E3E6-4759-BFDB-F81A94553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5E6B-AADD-46EA-82C3-5F4E4509DA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0CD6-9304-4D60-892E-42790191B1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2007 </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E292B3B0-11D4-4724-8857-482515A827B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Working Group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discussion on EI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dal implementation guidanc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Staff repor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B1FE250-8ED1-4645-B900-EBB075595C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gative LaaR bid issue is back</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story: Extreme negative bids create credit angst</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Zero bid floor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plit Stac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dit solution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8C00D6F-8174-4786-898B-897CFB6143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RTTF</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Universe of Options” probably means a menu rather than a selectio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rt of the problem is defining the proble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rrent thoughts include physical, financial, and imbedded solution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AD08358-011E-4879-AF0A-1FB6AF87CB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LTSTF</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w Chair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ob Wittmeyer </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llis Rankin </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ptions forming up around:</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e ancillary service (RRS)</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eater load participation</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e direct operational control</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720C8E5-DA7F-404E-BCB0-0A610B929A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Nodal Implementation Guidance</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Annual CRR auction as defined in the Nodal protocols is a problem too big to be solved in a reasonable amount of time with available software and hardwar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rough multiple discussions with TPTF the CRR project team has developed a recommendation for restructuring the Annual CRR auction.</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their April 3 meeting, TPTF asked that WMS review and opine about the CRR team’s recommendatio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7DACDE9-33C2-4AEA-B178-BB55F65CD5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533520" y="2209680"/>
            <a:ext cx="8305560" cy="924120"/>
          </a:xfrm>
          <a:prstGeom prst="rect">
            <a:avLst/>
          </a:prstGeom>
          <a:ln w="0">
            <a:noFill/>
          </a:ln>
        </p:spPr>
      </p:pic>
      <p:pic>
        <p:nvPicPr>
          <p:cNvPr id="102" name="" descr=""/>
          <p:cNvPicPr/>
          <p:nvPr/>
        </p:nvPicPr>
        <p:blipFill>
          <a:blip r:embed="rId3"/>
          <a:stretch/>
        </p:blipFill>
        <p:spPr>
          <a:xfrm>
            <a:off x="609480" y="3276720"/>
            <a:ext cx="8077320" cy="792000"/>
          </a:xfrm>
          <a:prstGeom prst="rect">
            <a:avLst/>
          </a:prstGeom>
          <a:ln w="0">
            <a:noFill/>
          </a:ln>
        </p:spPr>
      </p:pic>
      <p:pic>
        <p:nvPicPr>
          <p:cNvPr id="103" name="" descr=""/>
          <p:cNvPicPr/>
          <p:nvPr/>
        </p:nvPicPr>
        <p:blipFill>
          <a:blip r:embed="rId4"/>
          <a:stretch/>
        </p:blipFill>
        <p:spPr>
          <a:xfrm>
            <a:off x="762120" y="4419720"/>
            <a:ext cx="7924680" cy="766800"/>
          </a:xfrm>
          <a:prstGeom prst="rect">
            <a:avLst/>
          </a:prstGeom>
          <a:ln w="0">
            <a:noFill/>
          </a:ln>
        </p:spPr>
      </p:pic>
      <p:pic>
        <p:nvPicPr>
          <p:cNvPr id="104" name="" descr=""/>
          <p:cNvPicPr/>
          <p:nvPr/>
        </p:nvPicPr>
        <p:blipFill>
          <a:blip r:embed="rId5"/>
          <a:stretch/>
        </p:blipFill>
        <p:spPr>
          <a:xfrm>
            <a:off x="762120" y="5462640"/>
            <a:ext cx="8001000" cy="857160"/>
          </a:xfrm>
          <a:prstGeom prst="rect">
            <a:avLst/>
          </a:prstGeom>
          <a:ln w="0">
            <a:noFill/>
          </a:ln>
        </p:spPr>
      </p:pic>
      <p:pic>
        <p:nvPicPr>
          <p:cNvPr id="105" name="" descr=""/>
          <p:cNvPicPr/>
          <p:nvPr/>
        </p:nvPicPr>
        <p:blipFill>
          <a:blip r:embed="rId6"/>
          <a:stretch/>
        </p:blipFill>
        <p:spPr>
          <a:xfrm>
            <a:off x="3809880" y="380880"/>
            <a:ext cx="1447920" cy="1443240"/>
          </a:xfrm>
          <a:prstGeom prst="rect">
            <a:avLst/>
          </a:prstGeom>
          <a:ln w="0">
            <a:noFill/>
          </a:ln>
        </p:spPr>
      </p:pic>
      <p:sp>
        <p:nvSpPr>
          <p:cNvPr id="2" name="PlaceHolder 1"/>
          <p:cNvSpPr>
            <a:spLocks noGrp="1"/>
          </p:cNvSpPr>
          <p:nvPr>
            <p:ph type="sldNum" idx="3"/>
          </p:nvPr>
        </p:nvSpPr>
        <p:spPr/>
        <p:txBody>
          <a:bodyPr/>
          <a:p>
            <a:fld id="{E05A31A2-28D2-4BEC-89AF-EE2C52392C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609480" y="990720"/>
          <a:ext cx="8077320" cy="2160360"/>
        </p:xfrm>
        <a:graphic>
          <a:graphicData uri="http://schemas.openxmlformats.org/presentationml/2006/ole">
            <p:oleObj r:id="rId2" spid="">
              <p:embed/>
              <p:pic>
                <p:nvPicPr>
                  <p:cNvPr id="107" name="" descr=""/>
                  <p:cNvPicPr/>
                  <p:nvPr/>
                </p:nvPicPr>
                <p:blipFill>
                  <a:blip r:embed="rId3"/>
                  <a:stretch/>
                </p:blipFill>
                <p:spPr>
                  <a:xfrm>
                    <a:off x="609480" y="990720"/>
                    <a:ext cx="8077320" cy="2160360"/>
                  </a:xfrm>
                  <a:prstGeom prst="rect">
                    <a:avLst/>
                  </a:prstGeom>
                  <a:ln w="0">
                    <a:noFill/>
                  </a:ln>
                </p:spPr>
              </p:pic>
            </p:oleObj>
          </a:graphicData>
        </a:graphic>
      </p:graphicFrame>
      <p:sp>
        <p:nvSpPr>
          <p:cNvPr id="108" name=""/>
          <p:cNvSpPr/>
          <p:nvPr/>
        </p:nvSpPr>
        <p:spPr>
          <a:xfrm>
            <a:off x="685800" y="3962520"/>
            <a:ext cx="8077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MS endorses ERCOT’s recommendation to restructure the Annual CRR auction from a single optimization to six independent optimizations.</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73DB3CF9-8720-4E1E-A7BA-5623FCBBA7D4}"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7-05-03T11:47:00Z</dcterms:modified>
  <cp:revision>101</cp:revision>
  <dc:subject/>
  <dc:title>WMS Report TO TAC</dc:title>
</cp:coreProperties>
</file>