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D7B3-19B5-4BBA-B953-CAA3D0726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6EDA-47AC-465B-972E-31A44AE6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ECE1-EC0B-40F0-A1DB-F00CB2154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F8C2-76B5-4B7F-BE1D-37389ED20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9701-FEA4-4F95-8A1E-7577FDA6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7380-4C92-4174-87C2-3B79E770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E83E-41CF-4FFB-8D4F-3DAAD587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A4CE-6412-4015-91FF-A3279F8E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8103-D380-4822-969A-3C5BEB1B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0E38-258D-4440-A88E-63B6DFD9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148A-EB3F-4295-AE74-63E064AA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AB72-3F38-4B10-BF04-6A7F08DC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DA8B-FE48-4AC4-9E3B-9F29CDF9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75EF-3099-458E-8CE0-7484F969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B9E3-9884-4052-A5DD-74279CD1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E40C-547C-4ED4-B96B-5F49855B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1BB3-400B-433B-A6AB-20998D1D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034A-BB26-4E18-BF13-06FF3411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2F6F-F012-4D41-9B9B-7B5149D2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DA81-EA67-4F2F-AE23-979E3E2D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2BC3-6F62-4057-9671-034E43DE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AF67-B03A-4341-B78F-51342403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F163-EFD9-46F9-BBCE-BB4586D5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E813-6042-4024-9E5C-1B12D7A0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D029-15C8-4F23-905E-9BCDA1D90C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492D-DEC3-418E-B286-B4A1AC5D688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RMS Update to TAC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 4, 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MS Activity 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MGRR049 Electronic Authorization for Historical Usage Letters of Authorization (LOA).  </a:t>
            </a:r>
            <a:r>
              <a:rPr b="1" lang="en-US" sz="3200" spc="-1" strike="noStrike">
                <a:solidFill>
                  <a:srgbClr val="6fa9b7"/>
                </a:solidFill>
                <a:latin typeface="Tahoma"/>
              </a:rPr>
              <a:t>Voting I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xas SET 3.0 Implementation Upd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MO/PPL and Stakeholder Communication Process Upd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ail Market Workshop Related to Small Renewable Generation Upd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RCOT Service Availability Update from Aaron Smallw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1. RMGRR049 Electronic Authorization for Historical Usage LOA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s CR option of using electronic  authorization request when submitting LOA for historical usage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s clarification on expiration date of LO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s option for level of detail being requested for IDR accou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cost impacts to ERCOT or MP’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162920" y="5791320"/>
            <a:ext cx="10666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RMGRR049 Electronic Authorization for Historical Usage LOA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MS unanimously voted to recommend approval of RMGRR049 as presented. All Market Segments were present for the vo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MS requests TAC approv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238880" y="4954680"/>
          <a:ext cx="1905120" cy="125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4954680"/>
                    <a:ext cx="1905120" cy="12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3946680" y="3313080"/>
            <a:ext cx="374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 rot="10800000">
            <a:off x="758880" y="1967400"/>
            <a:ext cx="754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2. TX SET Implementation Updat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ket in Flight Test 0407 for version 3.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s electing not to test for SET 3.0 will lose ERCOT certif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ight 0407 is the largest Flight since the solution to out-of sequence order processing (MIMO) in 050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MO had 28,669 Total Tasks, 3.0 has 22,03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MO had 2,028 Total Scripts, 3.0 has 215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gration Weekend is June 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keholders have defined shutdown timing and sequence of events to support trans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3. PMO/PPL and Stakeholder Communication Process Updat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mmary of Process Cha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dded step to solicit market subcommittee input on changes greater than $1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is information is gathered by the DPO manager who is giving up the fund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market input should be gathered at the next regularly scheduled market subcommittee mee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timing doesn’t allow this process to occur at a regularly scheduled subcommittee meeting, the DPO manager will contact the subcommittee chair to determine if either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 emergency subcommittee meeting is warranted… or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market notice should be sent to gather input from market participa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market input will be included in the BoD pack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s provides additional input for the BoD members to consid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4. Retail Market Workshop Related to Small Renewable Generation Update</a:t>
            </a:r>
            <a:br>
              <a:rPr sz="40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eting held on May 2 with Stakeholders to review rules and protocols to support ability of identifying issues and gaps associated with market communication processes, settlement impacts and metering requirem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2133720" y="1612800"/>
            <a:ext cx="495288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5. ERCOT Service Availability Update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vice Avail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chitecture Chan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pdate on RF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pdate on S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21:28:43Z</dcterms:created>
  <dc:creator>AEP</dc:creator>
  <dc:description/>
  <dc:language>en-US</dc:language>
  <cp:lastModifiedBy>AEP</cp:lastModifiedBy>
  <dcterms:modified xsi:type="dcterms:W3CDTF">2007-04-27T16:44:35Z</dcterms:modified>
  <cp:revision>7</cp:revision>
  <dc:subject/>
  <dc:title>RMS Update to TAC</dc:title>
</cp:coreProperties>
</file>