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3.wmf" ContentType="image/x-wmf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0342-B3DD-4EFE-A25D-8D03D214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3D35-ECFE-42DF-A489-8A2DA099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4C33-6054-4229-ABE6-7C4936FE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9AE2-633C-492D-B681-87D3FE40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66464-60DB-473B-A30F-54B44906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B2EF9-DA92-4C3F-BAE6-2C32A877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81F6A9-6A4F-4BC8-A5CD-6FEF32FF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2D107-1FE2-42B8-97F2-BD90C0B5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51EB9-75CD-4979-A363-85A4D3D2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A9741-8EBB-479C-87D5-8C29574F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ECFF6-50D9-4807-9FB6-73E254AF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CD9F25-3712-4623-BF06-9153CDA4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6097D7-B68A-4399-8DE8-3F94AB21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211DC-751C-4DAA-BABE-AE3F2158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B2405-ADC7-4600-8A91-081FEEFE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E6F79B-B6B7-451B-8587-BE9DF05B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F6807-6B1D-4582-B390-41CA6082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70BA4-8CB5-4A70-AF95-0BA4C9F0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5C25E-7966-43E9-9EFC-0F438A17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7558-B2A0-40A5-ACE9-D5AED758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6231-CD4F-4F8B-BD5A-6143229F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C7E4-9359-49A1-8472-05F3E6D1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914C-1887-4D9E-AAA5-C69BB633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CB0F-73D2-40F3-AACA-CB303270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1A7B-EC0A-47B6-97AB-7DA9FC5EC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April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D8B7-8106-42AD-BF28-F02289C98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y 4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C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AA82-2D9E-41D4-9274-D663A9A15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24160" y="224784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Texas Nodal Market Implementatio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Data Center Data Migr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13.png"/><Relationship Id="rId10" Type="http://schemas.openxmlformats.org/officeDocument/2006/relationships/image" Target="../media/image19.wmf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xas Nodal Program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erry Sulliva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ecutive Director, Texas Nodal Progra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280" y="1406520"/>
            <a:ext cx="4788000" cy="40165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S 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CED, Load Frequency Control and CRR trial Au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oach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ft document issued for TPTF review and com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ailed Pla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tailed plan issued for TPTF review and com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P Handbook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ument Market participant EDS day to day testing activities and scenarios. Draft version scheduled for end of May rele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S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DAM, RUC, SASM, Settlements and Outage Scheduler, and 168 hour tes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oach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DS 4 approach document to be issued for May 5 TPTF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19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EDS 3 &amp; 4 detailed planning and execution activities are ramping up …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4940280" y="860400"/>
            <a:ext cx="372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diagrams show the overall EDS schedule and high-level EDS 3 tim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16687" t="19503" r="14439" b="11127"/>
          <a:stretch/>
        </p:blipFill>
        <p:spPr>
          <a:xfrm>
            <a:off x="5351400" y="1387440"/>
            <a:ext cx="2863800" cy="217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351400" y="3670200"/>
            <a:ext cx="2863800" cy="21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33" name=""/>
          <p:cNvGrpSpPr/>
          <p:nvPr/>
        </p:nvGrpSpPr>
        <p:grpSpPr>
          <a:xfrm>
            <a:off x="5362560" y="0"/>
            <a:ext cx="3784680" cy="685800"/>
            <a:chOff x="5362560" y="0"/>
            <a:chExt cx="3784680" cy="685800"/>
          </a:xfrm>
        </p:grpSpPr>
        <p:pic>
          <p:nvPicPr>
            <p:cNvPr id="234" name="" descr=""/>
            <p:cNvPicPr/>
            <p:nvPr/>
          </p:nvPicPr>
          <p:blipFill>
            <a:blip r:embed="rId3"/>
            <a:stretch/>
          </p:blipFill>
          <p:spPr>
            <a:xfrm>
              <a:off x="5362560" y="0"/>
              <a:ext cx="378468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6324480" y="0"/>
              <a:ext cx="867240" cy="6825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79640" y="0"/>
              <a:ext cx="867240" cy="6825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86760" y="0"/>
              <a:ext cx="867240" cy="6825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0AAE-9F10-45B6-861D-602F99B87D7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eriodic program baseline synchronization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ith latest Protocol revision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0" t="16822" r="16689" b="31953"/>
          <a:stretch/>
        </p:blipFill>
        <p:spPr>
          <a:xfrm>
            <a:off x="2062080" y="4305240"/>
            <a:ext cx="3705480" cy="16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0" name=""/>
          <p:cNvSpPr/>
          <p:nvPr/>
        </p:nvSpPr>
        <p:spPr>
          <a:xfrm>
            <a:off x="3851280" y="4629240"/>
            <a:ext cx="1876320" cy="129996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240600" y="3008160"/>
            <a:ext cx="2782800" cy="889560"/>
          </a:xfrm>
          <a:prstGeom prst="wedgeRoundRectCallout">
            <a:avLst>
              <a:gd name="adj1" fmla="val -66824"/>
              <a:gd name="adj2" fmla="val -39282"/>
              <a:gd name="adj3" fmla="val 1666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 of the 65 (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5%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 items have at least 1 project with a high or a medium impact (category 1 or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40600" y="1974960"/>
            <a:ext cx="2782800" cy="889560"/>
          </a:xfrm>
          <a:prstGeom prst="wedgeRoundRectCallout">
            <a:avLst>
              <a:gd name="adj1" fmla="val -66643"/>
              <a:gd name="adj2" fmla="val -30583"/>
              <a:gd name="adj3" fmla="val 1666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 of the 65 (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5%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 items have all projects with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mal or no impa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ategory 3 or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40600" y="5230800"/>
            <a:ext cx="2781000" cy="889560"/>
          </a:xfrm>
          <a:prstGeom prst="wedgeRoundRectCallout">
            <a:avLst>
              <a:gd name="adj1" fmla="val -68546"/>
              <a:gd name="adj2" fmla="val -36976"/>
              <a:gd name="adj3" fmla="val 1666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act categorization continues for new items to get ahead for the next synchronization – work in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73280" y="1671480"/>
            <a:ext cx="284040" cy="2565720"/>
          </a:xfrm>
          <a:custGeom>
            <a:avLst/>
            <a:gdLst>
              <a:gd name="textAreaLeft" fmla="*/ 181440 w 284040"/>
              <a:gd name="textAreaRight" fmla="*/ 284040 w 284040"/>
              <a:gd name="textAreaTop" fmla="*/ 66600 h 2565720"/>
              <a:gd name="textAreaBottom" fmla="*/ 2499120 h 256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62120" y="4305240"/>
            <a:ext cx="284040" cy="1623960"/>
          </a:xfrm>
          <a:custGeom>
            <a:avLst/>
            <a:gdLst>
              <a:gd name="textAreaLeft" fmla="*/ 181440 w 284040"/>
              <a:gd name="textAreaRight" fmla="*/ 284040 w 284040"/>
              <a:gd name="textAreaTop" fmla="*/ 42120 h 1623960"/>
              <a:gd name="textAreaBottom" fmla="*/ 1581840 h 16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2198520"/>
            <a:ext cx="1567080" cy="1519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log lis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5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luding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roved NPR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ft NPR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e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000" y="1379520"/>
            <a:ext cx="1671480" cy="459000"/>
          </a:xfrm>
          <a:custGeom>
            <a:avLst/>
            <a:gdLst>
              <a:gd name="textAreaLeft" fmla="*/ 0 w 1671480"/>
              <a:gd name="textAreaRight" fmla="*/ 1671840 w 16714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77" y="0"/>
                </a:lnTo>
                <a:lnTo>
                  <a:pt x="21600" y="10800"/>
                </a:lnTo>
                <a:lnTo>
                  <a:pt x="182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line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ay,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000" y="4865760"/>
            <a:ext cx="1554120" cy="50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 NPR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amp; white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2040" y="939960"/>
            <a:ext cx="8359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ctr" pos="2222640"/>
                <a:tab algn="ctr" pos="725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“Impact Categorization Matrix” helps triage the impacts for all the items across all the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rcRect l="0" t="22385" r="24191" b="5303"/>
          <a:stretch/>
        </p:blipFill>
        <p:spPr>
          <a:xfrm>
            <a:off x="2055960" y="1671480"/>
            <a:ext cx="3711600" cy="256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1" name=""/>
          <p:cNvSpPr/>
          <p:nvPr/>
        </p:nvSpPr>
        <p:spPr>
          <a:xfrm>
            <a:off x="3851280" y="2554200"/>
            <a:ext cx="1935000" cy="115740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51280" y="1871640"/>
            <a:ext cx="1935000" cy="54468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25480" y="1609560"/>
            <a:ext cx="4168800" cy="0"/>
          </a:xfrm>
          <a:prstGeom prst="line">
            <a:avLst/>
          </a:prstGeom>
          <a:ln w="95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000" y="4027320"/>
            <a:ext cx="1671480" cy="459000"/>
          </a:xfrm>
          <a:custGeom>
            <a:avLst/>
            <a:gdLst>
              <a:gd name="textAreaLeft" fmla="*/ 0 w 1671480"/>
              <a:gd name="textAreaRight" fmla="*/ 1671840 w 16714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77" y="0"/>
                </a:lnTo>
                <a:lnTo>
                  <a:pt x="21600" y="10800"/>
                </a:lnTo>
                <a:lnTo>
                  <a:pt x="182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lin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arch 1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25480" y="4267080"/>
            <a:ext cx="4168800" cy="0"/>
          </a:xfrm>
          <a:prstGeom prst="line">
            <a:avLst/>
          </a:prstGeom>
          <a:ln w="95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353200" y="0"/>
            <a:ext cx="3784320" cy="685800"/>
            <a:chOff x="5353200" y="0"/>
            <a:chExt cx="3784320" cy="685800"/>
          </a:xfrm>
        </p:grpSpPr>
        <p:pic>
          <p:nvPicPr>
            <p:cNvPr id="257" name="" descr=""/>
            <p:cNvPicPr/>
            <p:nvPr/>
          </p:nvPicPr>
          <p:blipFill>
            <a:blip r:embed="rId3"/>
            <a:stretch/>
          </p:blipFill>
          <p:spPr>
            <a:xfrm>
              <a:off x="5353200" y="0"/>
              <a:ext cx="37843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6315120" y="0"/>
              <a:ext cx="866880" cy="6825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70280" y="0"/>
              <a:ext cx="866880" cy="6825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77040" y="0"/>
              <a:ext cx="866880" cy="6825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AB27-92FB-4CD6-AEB8-0F47B136783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30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RCOT has an agreed approach to evaluate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system wide impacts of NPRRs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390600" y="2363760"/>
            <a:ext cx="4089240" cy="50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ign owners to produce suitably packaged “Change Reques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800" y="1616040"/>
            <a:ext cx="4092840" cy="50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up the items for  implementation synergies/effici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6200" y="3112920"/>
            <a:ext cx="4116600" cy="710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CCB analysis – Identify high level recommendations &amp; time frame for implementations (i.e. EDS1/2/3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0600" y="4062240"/>
            <a:ext cx="4087800" cy="50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date schedule, budget and system architecture. Validate timefr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800" y="4811760"/>
            <a:ext cx="4091040" cy="50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CCB reviews the budget, schedule and technic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6200" y="5560920"/>
            <a:ext cx="4064040" cy="30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mit to CCB for 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487840" y="3428640"/>
            <a:ext cx="1465560" cy="243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4360" y="1031760"/>
            <a:ext cx="8359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ctr" pos="2222640"/>
                <a:tab algn="ctr" pos="725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ext steps and 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 some i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73480" y="1552680"/>
            <a:ext cx="3461040" cy="4447080"/>
          </a:xfrm>
          <a:custGeom>
            <a:avLst/>
            <a:gdLst>
              <a:gd name="textAreaLeft" fmla="*/ 168840 w 3461040"/>
              <a:gd name="textAreaRight" fmla="*/ 3292200 w 3461040"/>
              <a:gd name="textAreaTop" fmla="*/ 168840 h 4447080"/>
              <a:gd name="textAreaBottom" fmla="*/ 4278240 h 4447080"/>
            </a:gdLst>
            <a:ahLst/>
            <a:rect l="textAreaLeft" t="textAreaTop" r="textAreaRight" b="textAreaBottom"/>
            <a:pathLst>
              <a:path w="21600" h="27753">
                <a:moveTo>
                  <a:pt x="3600" y="0"/>
                </a:moveTo>
                <a:arcTo wR="3600" hR="3600" stAng="16200000" swAng="-5400000"/>
                <a:lnTo>
                  <a:pt x="0" y="24153"/>
                </a:lnTo>
                <a:arcTo wR="3600" hR="3600" stAng="10800000" swAng="-5400000"/>
                <a:lnTo>
                  <a:pt x="18000" y="277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 NPRRs to go through the Nodal PMO initially, instead of being directly forwarded to PRS for their second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draft NPRR that is not essential for go-live should be “tabl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the backlog, category 3 &amp; 4 will be accepted within the existing budget/contin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the backlog, categories 1 &amp; 2 will have a cost and schedule impact leading to suitably packaged change re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ing forward, categories 1, 2 &amp; 3 will be subject to potential change requests  ( as designs and development will have progressed that much fur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9240" y="2122560"/>
            <a:ext cx="0" cy="241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89240" y="2871720"/>
            <a:ext cx="0" cy="241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9240" y="3821040"/>
            <a:ext cx="0" cy="241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89240" y="4568760"/>
            <a:ext cx="0" cy="241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89240" y="5330880"/>
            <a:ext cx="0" cy="241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5680" y="3187800"/>
            <a:ext cx="533520" cy="633240"/>
          </a:xfrm>
          <a:custGeom>
            <a:avLst/>
            <a:gdLst>
              <a:gd name="textAreaLeft" fmla="*/ 66600 w 533520"/>
              <a:gd name="textAreaRight" fmla="*/ 466920 w 533520"/>
              <a:gd name="textAreaTop" fmla="*/ 158400 h 633240"/>
              <a:gd name="textAreaBottom" fmla="*/ 475200 h 633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353200" y="0"/>
            <a:ext cx="3784320" cy="685800"/>
            <a:chOff x="5353200" y="0"/>
            <a:chExt cx="3784320" cy="685800"/>
          </a:xfrm>
        </p:grpSpPr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>
              <a:off x="5353200" y="0"/>
              <a:ext cx="37843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6315120" y="0"/>
              <a:ext cx="866880" cy="6825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70280" y="0"/>
              <a:ext cx="866880" cy="6825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77040" y="0"/>
              <a:ext cx="866880" cy="6825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32143-E1FE-4E48-9DF7-06FF5D4F49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961320" y="762120"/>
            <a:ext cx="1566720" cy="2536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30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Nodal Organization Development Pla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"/>
          <p:cNvSpPr/>
          <p:nvPr/>
        </p:nvSpPr>
        <p:spPr>
          <a:xfrm>
            <a:off x="249120" y="888840"/>
            <a:ext cx="1311480" cy="331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spcBef>
                <a:spcPts val="337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op Down Sizing Analysis (comple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3360" y="2597040"/>
            <a:ext cx="1074600" cy="3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GB" sz="800" spc="-1" strike="noStrike">
                <a:solidFill>
                  <a:srgbClr val="009999"/>
                </a:solidFill>
                <a:latin typeface="Arial"/>
              </a:rPr>
              <a:t>Accelerated Organization Siz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43280" y="1384200"/>
            <a:ext cx="1738080" cy="3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GB" sz="800" spc="-1" strike="noStrike">
                <a:solidFill>
                  <a:srgbClr val="009999"/>
                </a:solidFill>
                <a:latin typeface="Arial"/>
              </a:rPr>
              <a:t>Current State                    Baseline 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300320"/>
            <a:ext cx="1030320" cy="3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GB" sz="800" spc="-1" strike="noStrike">
                <a:solidFill>
                  <a:srgbClr val="009999"/>
                </a:solidFill>
                <a:latin typeface="Arial"/>
              </a:rPr>
              <a:t>ISO Benchmar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GB" sz="800" spc="-1" strike="noStrike">
                <a:solidFill>
                  <a:srgbClr val="009999"/>
                </a:solidFill>
                <a:latin typeface="Arial"/>
              </a:rPr>
              <a:t>System O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162160" y="900000"/>
            <a:ext cx="1195560" cy="331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spcBef>
                <a:spcPts val="337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hase One        April ’07 – Nov ‘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0" y="2562120"/>
            <a:ext cx="1703160" cy="3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GB" sz="800" spc="-1" strike="noStrike">
                <a:solidFill>
                  <a:srgbClr val="009999"/>
                </a:solidFill>
                <a:latin typeface="Arial"/>
              </a:rPr>
              <a:t>Future-State                          Sizing 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37200" y="3897360"/>
            <a:ext cx="1344600" cy="17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GB" sz="800" spc="-1" strike="noStrike">
                <a:solidFill>
                  <a:srgbClr val="009999"/>
                </a:solidFill>
                <a:latin typeface="Arial"/>
              </a:rPr>
              <a:t>Gap Assess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43120" y="981000"/>
            <a:ext cx="179280" cy="155520"/>
          </a:xfrm>
          <a:prstGeom prst="rightArrow">
            <a:avLst>
              <a:gd name="adj1" fmla="val 50000"/>
              <a:gd name="adj2" fmla="val 28819"/>
            </a:avLst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24120" y="981000"/>
            <a:ext cx="179640" cy="155520"/>
          </a:xfrm>
          <a:prstGeom prst="rightArrow">
            <a:avLst>
              <a:gd name="adj1" fmla="val 50000"/>
              <a:gd name="adj2" fmla="val 28877"/>
            </a:avLst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129440" y="912960"/>
            <a:ext cx="1195560" cy="33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spcBef>
                <a:spcPts val="337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fficiency  Analysis Post Go-L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691320" y="1008000"/>
            <a:ext cx="179280" cy="155520"/>
          </a:xfrm>
          <a:prstGeom prst="rightArrow">
            <a:avLst>
              <a:gd name="adj1" fmla="val 50000"/>
              <a:gd name="adj2" fmla="val 28819"/>
            </a:avLst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88040" y="1351080"/>
            <a:ext cx="1300320" cy="3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GB" sz="800" spc="-1" strike="noStrike">
                <a:solidFill>
                  <a:srgbClr val="009999"/>
                </a:solidFill>
                <a:latin typeface="Arial"/>
              </a:rPr>
              <a:t>Performance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GB" sz="800" spc="-1" strike="noStrike">
                <a:solidFill>
                  <a:srgbClr val="009999"/>
                </a:solidFill>
                <a:latin typeface="Arial"/>
              </a:rPr>
              <a:t>Quality 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2327400" y="1690560"/>
            <a:ext cx="947520" cy="738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336760" y="2865600"/>
            <a:ext cx="938160" cy="7315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228600" y="2865600"/>
            <a:ext cx="1359000" cy="8586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5320800" y="5436360"/>
            <a:ext cx="1129680" cy="591120"/>
            <a:chOff x="5320800" y="5436360"/>
            <a:chExt cx="1129680" cy="591120"/>
          </a:xfrm>
        </p:grpSpPr>
        <p:sp>
          <p:nvSpPr>
            <p:cNvPr id="300" name=""/>
            <p:cNvSpPr/>
            <p:nvPr/>
          </p:nvSpPr>
          <p:spPr>
            <a:xfrm>
              <a:off x="5320800" y="5436360"/>
              <a:ext cx="1114560" cy="591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20800" y="5945760"/>
              <a:ext cx="1114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20800" y="5866200"/>
              <a:ext cx="1114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20800" y="5784840"/>
              <a:ext cx="1114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20800" y="5623920"/>
              <a:ext cx="1114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20800" y="5544360"/>
              <a:ext cx="1114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20800" y="5463000"/>
              <a:ext cx="1114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20800" y="5436360"/>
              <a:ext cx="1114560" cy="59112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20800" y="5735520"/>
              <a:ext cx="1114560" cy="291960"/>
            </a:xfrm>
            <a:custGeom>
              <a:avLst/>
              <a:gdLst/>
              <a:ahLst/>
              <a:rect l="l" t="t" r="r" b="b"/>
              <a:pathLst>
                <a:path w="4419" h="1212">
                  <a:moveTo>
                    <a:pt x="0" y="1212"/>
                  </a:moveTo>
                  <a:lnTo>
                    <a:pt x="0" y="0"/>
                  </a:lnTo>
                  <a:lnTo>
                    <a:pt x="130" y="0"/>
                  </a:lnTo>
                  <a:lnTo>
                    <a:pt x="252" y="0"/>
                  </a:lnTo>
                  <a:lnTo>
                    <a:pt x="381" y="0"/>
                  </a:lnTo>
                  <a:lnTo>
                    <a:pt x="504" y="0"/>
                  </a:lnTo>
                  <a:lnTo>
                    <a:pt x="633" y="0"/>
                  </a:lnTo>
                  <a:lnTo>
                    <a:pt x="755" y="0"/>
                  </a:lnTo>
                  <a:lnTo>
                    <a:pt x="885" y="0"/>
                  </a:lnTo>
                  <a:lnTo>
                    <a:pt x="1007" y="0"/>
                  </a:lnTo>
                  <a:lnTo>
                    <a:pt x="1137" y="0"/>
                  </a:lnTo>
                  <a:lnTo>
                    <a:pt x="1259" y="0"/>
                  </a:lnTo>
                  <a:lnTo>
                    <a:pt x="1389" y="0"/>
                  </a:lnTo>
                  <a:lnTo>
                    <a:pt x="1519" y="0"/>
                  </a:lnTo>
                  <a:lnTo>
                    <a:pt x="1641" y="0"/>
                  </a:lnTo>
                  <a:lnTo>
                    <a:pt x="1770" y="0"/>
                  </a:lnTo>
                  <a:lnTo>
                    <a:pt x="1893" y="0"/>
                  </a:lnTo>
                  <a:lnTo>
                    <a:pt x="2022" y="0"/>
                  </a:lnTo>
                  <a:lnTo>
                    <a:pt x="2144" y="0"/>
                  </a:lnTo>
                  <a:lnTo>
                    <a:pt x="2274" y="0"/>
                  </a:lnTo>
                  <a:lnTo>
                    <a:pt x="2396" y="0"/>
                  </a:lnTo>
                  <a:lnTo>
                    <a:pt x="2526" y="0"/>
                  </a:lnTo>
                  <a:lnTo>
                    <a:pt x="2648" y="0"/>
                  </a:lnTo>
                  <a:lnTo>
                    <a:pt x="2778" y="0"/>
                  </a:lnTo>
                  <a:lnTo>
                    <a:pt x="2900" y="0"/>
                  </a:lnTo>
                  <a:lnTo>
                    <a:pt x="3030" y="0"/>
                  </a:lnTo>
                  <a:lnTo>
                    <a:pt x="3160" y="0"/>
                  </a:lnTo>
                  <a:lnTo>
                    <a:pt x="3282" y="0"/>
                  </a:lnTo>
                  <a:lnTo>
                    <a:pt x="3411" y="0"/>
                  </a:lnTo>
                  <a:lnTo>
                    <a:pt x="3534" y="0"/>
                  </a:lnTo>
                  <a:lnTo>
                    <a:pt x="3663" y="0"/>
                  </a:lnTo>
                  <a:lnTo>
                    <a:pt x="3785" y="0"/>
                  </a:lnTo>
                  <a:lnTo>
                    <a:pt x="3915" y="0"/>
                  </a:lnTo>
                  <a:lnTo>
                    <a:pt x="4037" y="0"/>
                  </a:lnTo>
                  <a:lnTo>
                    <a:pt x="4167" y="0"/>
                  </a:lnTo>
                  <a:lnTo>
                    <a:pt x="4289" y="0"/>
                  </a:lnTo>
                  <a:lnTo>
                    <a:pt x="4419" y="0"/>
                  </a:lnTo>
                  <a:lnTo>
                    <a:pt x="4419" y="1212"/>
                  </a:lnTo>
                  <a:lnTo>
                    <a:pt x="4289" y="1212"/>
                  </a:lnTo>
                  <a:lnTo>
                    <a:pt x="4167" y="1212"/>
                  </a:lnTo>
                  <a:lnTo>
                    <a:pt x="4037" y="1212"/>
                  </a:lnTo>
                  <a:lnTo>
                    <a:pt x="3915" y="1212"/>
                  </a:lnTo>
                  <a:lnTo>
                    <a:pt x="3785" y="1212"/>
                  </a:lnTo>
                  <a:lnTo>
                    <a:pt x="3663" y="1212"/>
                  </a:lnTo>
                  <a:lnTo>
                    <a:pt x="3534" y="1212"/>
                  </a:lnTo>
                  <a:lnTo>
                    <a:pt x="3411" y="1212"/>
                  </a:lnTo>
                  <a:lnTo>
                    <a:pt x="3282" y="1212"/>
                  </a:lnTo>
                  <a:lnTo>
                    <a:pt x="3160" y="1212"/>
                  </a:lnTo>
                  <a:lnTo>
                    <a:pt x="3030" y="1212"/>
                  </a:lnTo>
                  <a:lnTo>
                    <a:pt x="2900" y="1212"/>
                  </a:lnTo>
                  <a:lnTo>
                    <a:pt x="2778" y="1212"/>
                  </a:lnTo>
                  <a:lnTo>
                    <a:pt x="2648" y="1212"/>
                  </a:lnTo>
                  <a:lnTo>
                    <a:pt x="2526" y="1212"/>
                  </a:lnTo>
                  <a:lnTo>
                    <a:pt x="2396" y="1212"/>
                  </a:lnTo>
                  <a:lnTo>
                    <a:pt x="2274" y="1212"/>
                  </a:lnTo>
                  <a:lnTo>
                    <a:pt x="2144" y="1212"/>
                  </a:lnTo>
                  <a:lnTo>
                    <a:pt x="2022" y="1212"/>
                  </a:lnTo>
                  <a:lnTo>
                    <a:pt x="1893" y="1212"/>
                  </a:lnTo>
                  <a:lnTo>
                    <a:pt x="1770" y="1212"/>
                  </a:lnTo>
                  <a:lnTo>
                    <a:pt x="1641" y="1212"/>
                  </a:lnTo>
                  <a:lnTo>
                    <a:pt x="1519" y="1212"/>
                  </a:lnTo>
                  <a:lnTo>
                    <a:pt x="1389" y="1212"/>
                  </a:lnTo>
                  <a:lnTo>
                    <a:pt x="1259" y="1212"/>
                  </a:lnTo>
                  <a:lnTo>
                    <a:pt x="1137" y="1212"/>
                  </a:lnTo>
                  <a:lnTo>
                    <a:pt x="1007" y="1212"/>
                  </a:lnTo>
                  <a:lnTo>
                    <a:pt x="885" y="1212"/>
                  </a:lnTo>
                  <a:lnTo>
                    <a:pt x="755" y="1212"/>
                  </a:lnTo>
                  <a:lnTo>
                    <a:pt x="633" y="1212"/>
                  </a:lnTo>
                  <a:lnTo>
                    <a:pt x="504" y="1212"/>
                  </a:lnTo>
                  <a:lnTo>
                    <a:pt x="381" y="1212"/>
                  </a:lnTo>
                  <a:lnTo>
                    <a:pt x="252" y="1212"/>
                  </a:lnTo>
                  <a:lnTo>
                    <a:pt x="130" y="1212"/>
                  </a:lnTo>
                  <a:lnTo>
                    <a:pt x="0" y="12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20800" y="5650200"/>
              <a:ext cx="1114560" cy="55080"/>
            </a:xfrm>
            <a:custGeom>
              <a:avLst/>
              <a:gdLst/>
              <a:ahLst/>
              <a:rect l="l" t="t" r="r" b="b"/>
              <a:pathLst>
                <a:path w="579" h="29">
                  <a:moveTo>
                    <a:pt x="0" y="29"/>
                  </a:moveTo>
                  <a:lnTo>
                    <a:pt x="17" y="26"/>
                  </a:lnTo>
                  <a:lnTo>
                    <a:pt x="33" y="23"/>
                  </a:lnTo>
                  <a:lnTo>
                    <a:pt x="50" y="20"/>
                  </a:lnTo>
                  <a:lnTo>
                    <a:pt x="66" y="17"/>
                  </a:lnTo>
                  <a:lnTo>
                    <a:pt x="83" y="14"/>
                  </a:lnTo>
                  <a:lnTo>
                    <a:pt x="99" y="12"/>
                  </a:lnTo>
                  <a:lnTo>
                    <a:pt x="116" y="9"/>
                  </a:lnTo>
                  <a:lnTo>
                    <a:pt x="132" y="6"/>
                  </a:lnTo>
                  <a:lnTo>
                    <a:pt x="149" y="3"/>
                  </a:lnTo>
                  <a:lnTo>
                    <a:pt x="165" y="0"/>
                  </a:lnTo>
                  <a:lnTo>
                    <a:pt x="182" y="0"/>
                  </a:lnTo>
                  <a:lnTo>
                    <a:pt x="199" y="0"/>
                  </a:lnTo>
                  <a:lnTo>
                    <a:pt x="215" y="0"/>
                  </a:lnTo>
                  <a:lnTo>
                    <a:pt x="232" y="0"/>
                  </a:lnTo>
                  <a:lnTo>
                    <a:pt x="248" y="0"/>
                  </a:lnTo>
                  <a:lnTo>
                    <a:pt x="265" y="0"/>
                  </a:lnTo>
                  <a:lnTo>
                    <a:pt x="281" y="0"/>
                  </a:lnTo>
                  <a:lnTo>
                    <a:pt x="298" y="0"/>
                  </a:lnTo>
                  <a:lnTo>
                    <a:pt x="314" y="0"/>
                  </a:lnTo>
                  <a:lnTo>
                    <a:pt x="331" y="0"/>
                  </a:lnTo>
                  <a:lnTo>
                    <a:pt x="347" y="0"/>
                  </a:lnTo>
                  <a:lnTo>
                    <a:pt x="364" y="0"/>
                  </a:lnTo>
                  <a:lnTo>
                    <a:pt x="380" y="0"/>
                  </a:lnTo>
                  <a:lnTo>
                    <a:pt x="397" y="1"/>
                  </a:lnTo>
                  <a:lnTo>
                    <a:pt x="414" y="2"/>
                  </a:lnTo>
                  <a:lnTo>
                    <a:pt x="430" y="3"/>
                  </a:lnTo>
                  <a:lnTo>
                    <a:pt x="447" y="3"/>
                  </a:lnTo>
                  <a:lnTo>
                    <a:pt x="463" y="4"/>
                  </a:lnTo>
                  <a:lnTo>
                    <a:pt x="480" y="5"/>
                  </a:lnTo>
                  <a:lnTo>
                    <a:pt x="496" y="6"/>
                  </a:lnTo>
                  <a:lnTo>
                    <a:pt x="513" y="7"/>
                  </a:lnTo>
                  <a:lnTo>
                    <a:pt x="529" y="8"/>
                  </a:lnTo>
                  <a:lnTo>
                    <a:pt x="546" y="8"/>
                  </a:lnTo>
                  <a:lnTo>
                    <a:pt x="562" y="9"/>
                  </a:lnTo>
                  <a:lnTo>
                    <a:pt x="579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20800" y="5819040"/>
              <a:ext cx="1114560" cy="185400"/>
            </a:xfrm>
            <a:custGeom>
              <a:avLst/>
              <a:gdLst/>
              <a:ahLst/>
              <a:rect l="l" t="t" r="r" b="b"/>
              <a:pathLst>
                <a:path w="579" h="98">
                  <a:moveTo>
                    <a:pt x="0" y="4"/>
                  </a:moveTo>
                  <a:lnTo>
                    <a:pt x="17" y="3"/>
                  </a:lnTo>
                  <a:lnTo>
                    <a:pt x="33" y="2"/>
                  </a:lnTo>
                  <a:lnTo>
                    <a:pt x="50" y="3"/>
                  </a:lnTo>
                  <a:lnTo>
                    <a:pt x="66" y="1"/>
                  </a:lnTo>
                  <a:lnTo>
                    <a:pt x="83" y="0"/>
                  </a:lnTo>
                  <a:lnTo>
                    <a:pt x="99" y="5"/>
                  </a:lnTo>
                  <a:lnTo>
                    <a:pt x="116" y="7"/>
                  </a:lnTo>
                  <a:lnTo>
                    <a:pt x="132" y="9"/>
                  </a:lnTo>
                  <a:lnTo>
                    <a:pt x="149" y="15"/>
                  </a:lnTo>
                  <a:lnTo>
                    <a:pt x="165" y="18"/>
                  </a:lnTo>
                  <a:lnTo>
                    <a:pt x="182" y="20"/>
                  </a:lnTo>
                  <a:lnTo>
                    <a:pt x="199" y="40"/>
                  </a:lnTo>
                  <a:lnTo>
                    <a:pt x="215" y="41"/>
                  </a:lnTo>
                  <a:lnTo>
                    <a:pt x="232" y="50"/>
                  </a:lnTo>
                  <a:lnTo>
                    <a:pt x="248" y="55"/>
                  </a:lnTo>
                  <a:lnTo>
                    <a:pt x="265" y="51"/>
                  </a:lnTo>
                  <a:lnTo>
                    <a:pt x="281" y="50"/>
                  </a:lnTo>
                  <a:lnTo>
                    <a:pt x="298" y="73"/>
                  </a:lnTo>
                  <a:lnTo>
                    <a:pt x="314" y="74"/>
                  </a:lnTo>
                  <a:lnTo>
                    <a:pt x="331" y="77"/>
                  </a:lnTo>
                  <a:lnTo>
                    <a:pt x="347" y="71"/>
                  </a:lnTo>
                  <a:lnTo>
                    <a:pt x="364" y="98"/>
                  </a:lnTo>
                  <a:lnTo>
                    <a:pt x="380" y="98"/>
                  </a:lnTo>
                  <a:lnTo>
                    <a:pt x="397" y="94"/>
                  </a:lnTo>
                  <a:lnTo>
                    <a:pt x="414" y="94"/>
                  </a:lnTo>
                  <a:lnTo>
                    <a:pt x="430" y="94"/>
                  </a:lnTo>
                  <a:lnTo>
                    <a:pt x="447" y="94"/>
                  </a:lnTo>
                  <a:lnTo>
                    <a:pt x="463" y="94"/>
                  </a:lnTo>
                  <a:lnTo>
                    <a:pt x="480" y="93"/>
                  </a:lnTo>
                  <a:lnTo>
                    <a:pt x="496" y="93"/>
                  </a:lnTo>
                  <a:lnTo>
                    <a:pt x="513" y="93"/>
                  </a:lnTo>
                  <a:lnTo>
                    <a:pt x="529" y="93"/>
                  </a:lnTo>
                  <a:lnTo>
                    <a:pt x="546" y="93"/>
                  </a:lnTo>
                  <a:lnTo>
                    <a:pt x="562" y="93"/>
                  </a:lnTo>
                  <a:lnTo>
                    <a:pt x="579" y="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42040" y="568836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5343480" y="569016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53560" y="56995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5343480" y="569952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5353560" y="56901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72640" y="568260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5374080" y="568440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84160" y="56937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374080" y="569376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384160" y="56844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05400" y="56768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>
              <a:off x="5407200" y="56786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16920" y="568836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5407200" y="56883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416920" y="567864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36360" y="567108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437800" y="567324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47880" y="56826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437800" y="568260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5447880" y="56732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68760" y="566532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5470920" y="566748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80280" y="5676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470920" y="5676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480280" y="566748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99720" y="566172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5501520" y="566388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11240" y="567324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5501520" y="56732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511240" y="566388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32480" y="565596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5534280" y="56581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44000" y="566748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534280" y="566748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544000" y="56581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63080" y="5650200"/>
              <a:ext cx="26640" cy="2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5565240" y="56520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574600" y="56617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565240" y="56617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5574600" y="56520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95840" y="564480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5598000" y="56466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07360" y="56559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5598000" y="56559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5607360" y="56466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2680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562860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3832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562860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563832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65956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566136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67108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566136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567108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9232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5693760" y="564084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0384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693760" y="565020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70384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2292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572508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3480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572508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73480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5568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575748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67200" y="565020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575748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5767200" y="564084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8664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5788080" y="564084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9816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788080" y="565020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579816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81940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582120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30560" y="565020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82120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830560" y="564084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5000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585180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61520" y="565020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85180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5861520" y="564084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8276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588456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9428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88456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589428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1372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 flipV="1">
              <a:off x="591552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2488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591552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592488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4612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594828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5800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594828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95800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97708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597888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8860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597888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98860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0984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601200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2136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01200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602136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4044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04260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05232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04260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05232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73200" y="56408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75360" y="56426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85080" y="56520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075360" y="56520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085080" y="56426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106320" y="56426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107400" y="564480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17840" y="56541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6107400" y="565416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117840" y="56448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36920" y="564480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6139080" y="56466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148440" y="56559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6139080" y="56559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6148440" y="56466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69680" y="564480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6171480" y="56466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81200" y="565596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171480" y="56559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6181200" y="564660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00280" y="564660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flipV="1">
              <a:off x="6201720" y="564840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12160" y="56581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201720" y="565812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212160" y="56484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33040" y="564840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623520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44560" y="56599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6235200" y="56599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624456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64000" y="5650200"/>
              <a:ext cx="26640" cy="2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flipV="1">
              <a:off x="6265800" y="56520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75520" y="566172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6265800" y="56617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6275520" y="565200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96400" y="565200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 flipV="1">
              <a:off x="6298560" y="56541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08280" y="566388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6298560" y="566388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6308280" y="56541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27360" y="565416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6329520" y="56559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38880" y="56653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329520" y="56653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6338880" y="56559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60120" y="565416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6362280" y="56559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71640" y="56653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6362280" y="56653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6371640" y="56559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91080" y="565596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6392880" y="56581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02600" y="566748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392880" y="566748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6402600" y="56581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23840" y="565812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6425640" y="56599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35360" y="566928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425640" y="566928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6435360" y="56599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47800" y="5819040"/>
              <a:ext cx="11160" cy="115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23" y="0"/>
                  </a:moveTo>
                  <a:lnTo>
                    <a:pt x="45" y="48"/>
                  </a:lnTo>
                  <a:lnTo>
                    <a:pt x="0" y="4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78400" y="581724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411160" y="5819040"/>
              <a:ext cx="11520" cy="115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3" y="0"/>
                  </a:moveTo>
                  <a:lnTo>
                    <a:pt x="46" y="48"/>
                  </a:lnTo>
                  <a:lnTo>
                    <a:pt x="0" y="4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442120" y="5815440"/>
              <a:ext cx="11160" cy="1116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3" y="0"/>
                  </a:moveTo>
                  <a:lnTo>
                    <a:pt x="45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474520" y="581328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505480" y="582264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38240" y="582660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68840" y="583056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601600" y="584172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632560" y="5847120"/>
              <a:ext cx="11520" cy="115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3" y="0"/>
                  </a:moveTo>
                  <a:lnTo>
                    <a:pt x="46" y="48"/>
                  </a:lnTo>
                  <a:lnTo>
                    <a:pt x="0" y="4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65320" y="585108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698080" y="5888880"/>
              <a:ext cx="11520" cy="115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3" y="0"/>
                  </a:moveTo>
                  <a:lnTo>
                    <a:pt x="46" y="48"/>
                  </a:lnTo>
                  <a:lnTo>
                    <a:pt x="0" y="4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28680" y="589104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61440" y="5907960"/>
              <a:ext cx="11160" cy="1116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2" y="0"/>
                  </a:moveTo>
                  <a:lnTo>
                    <a:pt x="45" y="47"/>
                  </a:lnTo>
                  <a:lnTo>
                    <a:pt x="0" y="47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92400" y="5917320"/>
              <a:ext cx="11160" cy="115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23" y="0"/>
                  </a:moveTo>
                  <a:lnTo>
                    <a:pt x="45" y="48"/>
                  </a:lnTo>
                  <a:lnTo>
                    <a:pt x="0" y="4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24800" y="591012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56120" y="5907960"/>
              <a:ext cx="11160" cy="1116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2" y="0"/>
                  </a:moveTo>
                  <a:lnTo>
                    <a:pt x="45" y="47"/>
                  </a:lnTo>
                  <a:lnTo>
                    <a:pt x="0" y="47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888520" y="595152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919120" y="595368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51880" y="5959080"/>
              <a:ext cx="11520" cy="115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3" y="0"/>
                  </a:moveTo>
                  <a:lnTo>
                    <a:pt x="46" y="48"/>
                  </a:lnTo>
                  <a:lnTo>
                    <a:pt x="0" y="4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982840" y="594792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79320" y="599148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12080" y="5991480"/>
              <a:ext cx="11160" cy="1116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3" y="0"/>
                  </a:moveTo>
                  <a:lnTo>
                    <a:pt x="45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42680" y="599148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175440" y="5991480"/>
              <a:ext cx="11160" cy="1116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2" y="0"/>
                  </a:moveTo>
                  <a:lnTo>
                    <a:pt x="45" y="47"/>
                  </a:lnTo>
                  <a:lnTo>
                    <a:pt x="0" y="47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206400" y="5991480"/>
              <a:ext cx="11160" cy="1116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3" y="0"/>
                  </a:moveTo>
                  <a:lnTo>
                    <a:pt x="45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38800" y="598932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269760" y="5989320"/>
              <a:ext cx="11160" cy="1116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2" y="0"/>
                  </a:moveTo>
                  <a:lnTo>
                    <a:pt x="45" y="47"/>
                  </a:lnTo>
                  <a:lnTo>
                    <a:pt x="0" y="47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302520" y="598932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333120" y="598932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365880" y="598932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96840" y="598932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29600" y="598932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250920" y="1635120"/>
            <a:ext cx="1339920" cy="81900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motion time"/>
          <p:cNvPicPr/>
          <p:nvPr/>
        </p:nvPicPr>
        <p:blipFill>
          <a:blip r:embed="rId5"/>
          <a:stretch/>
        </p:blipFill>
        <p:spPr>
          <a:xfrm>
            <a:off x="7169040" y="1754280"/>
            <a:ext cx="1170000" cy="9158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6"/>
          <a:srcRect l="18748" t="19241" r="18748" b="4810"/>
          <a:stretch/>
        </p:blipFill>
        <p:spPr>
          <a:xfrm>
            <a:off x="5257800" y="4089240"/>
            <a:ext cx="1220760" cy="87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2" name=""/>
          <p:cNvSpPr/>
          <p:nvPr/>
        </p:nvSpPr>
        <p:spPr>
          <a:xfrm>
            <a:off x="7501320" y="5545080"/>
            <a:ext cx="142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~ 25 of 4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part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a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7"/>
          <a:stretch/>
        </p:blipFill>
        <p:spPr>
          <a:xfrm>
            <a:off x="7823160" y="4780080"/>
            <a:ext cx="746280" cy="745920"/>
          </a:xfrm>
          <a:prstGeom prst="rect">
            <a:avLst/>
          </a:prstGeom>
          <a:ln w="0">
            <a:noFill/>
          </a:ln>
        </p:spPr>
      </p:pic>
      <p:grpSp>
        <p:nvGrpSpPr>
          <p:cNvPr id="524" name=""/>
          <p:cNvGrpSpPr/>
          <p:nvPr/>
        </p:nvGrpSpPr>
        <p:grpSpPr>
          <a:xfrm>
            <a:off x="2325600" y="4078440"/>
            <a:ext cx="990720" cy="865080"/>
            <a:chOff x="2325600" y="4078440"/>
            <a:chExt cx="990720" cy="865080"/>
          </a:xfrm>
        </p:grpSpPr>
        <p:pic>
          <p:nvPicPr>
            <p:cNvPr id="525" name="" descr=""/>
            <p:cNvPicPr/>
            <p:nvPr/>
          </p:nvPicPr>
          <p:blipFill>
            <a:blip r:embed="rId8"/>
            <a:stretch/>
          </p:blipFill>
          <p:spPr>
            <a:xfrm>
              <a:off x="2440440" y="4198680"/>
              <a:ext cx="799560" cy="6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3012120" y="4163760"/>
              <a:ext cx="143640" cy="1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325600" y="4078440"/>
              <a:ext cx="990720" cy="86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2162160" y="3730680"/>
            <a:ext cx="13892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GB" sz="800" spc="-1" strike="noStrike">
                <a:solidFill>
                  <a:srgbClr val="009999"/>
                </a:solidFill>
                <a:latin typeface="Arial"/>
              </a:rPr>
              <a:t>Preliminary Organization Alignment 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048200" y="905040"/>
            <a:ext cx="639720" cy="3189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ark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ri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229360" y="905040"/>
            <a:ext cx="1195200" cy="331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spcBef>
                <a:spcPts val="337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hase Two         Nov ‘07  – Nov ‘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94200" y="981000"/>
            <a:ext cx="179280" cy="155520"/>
          </a:xfrm>
          <a:prstGeom prst="rightArrow">
            <a:avLst>
              <a:gd name="adj1" fmla="val 50000"/>
              <a:gd name="adj2" fmla="val 28819"/>
            </a:avLst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288040" y="1382760"/>
            <a:ext cx="1003320" cy="3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GB" sz="800" spc="-1" strike="noStrike">
                <a:solidFill>
                  <a:srgbClr val="009999"/>
                </a:solidFill>
                <a:latin typeface="Arial"/>
              </a:rPr>
              <a:t>Refined Sizing 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9"/>
          <a:stretch/>
        </p:blipFill>
        <p:spPr>
          <a:xfrm>
            <a:off x="5369040" y="1684440"/>
            <a:ext cx="938160" cy="731880"/>
          </a:xfrm>
          <a:prstGeom prst="rect">
            <a:avLst/>
          </a:prstGeom>
          <a:ln w="0">
            <a:noFill/>
          </a:ln>
        </p:spPr>
      </p:pic>
      <p:grpSp>
        <p:nvGrpSpPr>
          <p:cNvPr id="534" name=""/>
          <p:cNvGrpSpPr/>
          <p:nvPr/>
        </p:nvGrpSpPr>
        <p:grpSpPr>
          <a:xfrm>
            <a:off x="5324400" y="2849400"/>
            <a:ext cx="990720" cy="865440"/>
            <a:chOff x="5324400" y="2849400"/>
            <a:chExt cx="990720" cy="865440"/>
          </a:xfrm>
        </p:grpSpPr>
        <p:pic>
          <p:nvPicPr>
            <p:cNvPr id="535" name="" descr=""/>
            <p:cNvPicPr/>
            <p:nvPr/>
          </p:nvPicPr>
          <p:blipFill>
            <a:blip r:embed="rId10"/>
            <a:stretch/>
          </p:blipFill>
          <p:spPr>
            <a:xfrm>
              <a:off x="5439240" y="2970000"/>
              <a:ext cx="7995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6010920" y="2935080"/>
              <a:ext cx="143640" cy="1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24400" y="2849400"/>
              <a:ext cx="990720" cy="86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5160960" y="2549520"/>
            <a:ext cx="13892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GB" sz="800" spc="-1" strike="noStrike">
                <a:solidFill>
                  <a:srgbClr val="009999"/>
                </a:solidFill>
                <a:latin typeface="Arial"/>
              </a:rPr>
              <a:t>Refined  Alignment 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197080" y="5227560"/>
            <a:ext cx="1389240" cy="17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GB" sz="800" spc="-1" strike="noStrike">
                <a:solidFill>
                  <a:srgbClr val="009999"/>
                </a:solidFill>
                <a:latin typeface="Arial"/>
              </a:rPr>
              <a:t>Staffing &amp; Recruiting 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301480" y="5436360"/>
            <a:ext cx="1129680" cy="591120"/>
            <a:chOff x="2301480" y="5436360"/>
            <a:chExt cx="1129680" cy="591120"/>
          </a:xfrm>
        </p:grpSpPr>
        <p:sp>
          <p:nvSpPr>
            <p:cNvPr id="541" name=""/>
            <p:cNvSpPr/>
            <p:nvPr/>
          </p:nvSpPr>
          <p:spPr>
            <a:xfrm>
              <a:off x="2301480" y="5436360"/>
              <a:ext cx="1114560" cy="591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301480" y="5945760"/>
              <a:ext cx="1114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01480" y="5866200"/>
              <a:ext cx="1114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301480" y="5784840"/>
              <a:ext cx="1114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01480" y="5623920"/>
              <a:ext cx="1114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301480" y="5544360"/>
              <a:ext cx="1114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01480" y="5463000"/>
              <a:ext cx="1114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301480" y="5436360"/>
              <a:ext cx="1114560" cy="59112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301480" y="5735520"/>
              <a:ext cx="1114560" cy="291960"/>
            </a:xfrm>
            <a:custGeom>
              <a:avLst/>
              <a:gdLst/>
              <a:ahLst/>
              <a:rect l="l" t="t" r="r" b="b"/>
              <a:pathLst>
                <a:path w="4419" h="1212">
                  <a:moveTo>
                    <a:pt x="0" y="1212"/>
                  </a:moveTo>
                  <a:lnTo>
                    <a:pt x="0" y="0"/>
                  </a:lnTo>
                  <a:lnTo>
                    <a:pt x="130" y="0"/>
                  </a:lnTo>
                  <a:lnTo>
                    <a:pt x="252" y="0"/>
                  </a:lnTo>
                  <a:lnTo>
                    <a:pt x="381" y="0"/>
                  </a:lnTo>
                  <a:lnTo>
                    <a:pt x="504" y="0"/>
                  </a:lnTo>
                  <a:lnTo>
                    <a:pt x="633" y="0"/>
                  </a:lnTo>
                  <a:lnTo>
                    <a:pt x="755" y="0"/>
                  </a:lnTo>
                  <a:lnTo>
                    <a:pt x="885" y="0"/>
                  </a:lnTo>
                  <a:lnTo>
                    <a:pt x="1007" y="0"/>
                  </a:lnTo>
                  <a:lnTo>
                    <a:pt x="1137" y="0"/>
                  </a:lnTo>
                  <a:lnTo>
                    <a:pt x="1259" y="0"/>
                  </a:lnTo>
                  <a:lnTo>
                    <a:pt x="1389" y="0"/>
                  </a:lnTo>
                  <a:lnTo>
                    <a:pt x="1519" y="0"/>
                  </a:lnTo>
                  <a:lnTo>
                    <a:pt x="1641" y="0"/>
                  </a:lnTo>
                  <a:lnTo>
                    <a:pt x="1770" y="0"/>
                  </a:lnTo>
                  <a:lnTo>
                    <a:pt x="1893" y="0"/>
                  </a:lnTo>
                  <a:lnTo>
                    <a:pt x="2022" y="0"/>
                  </a:lnTo>
                  <a:lnTo>
                    <a:pt x="2144" y="0"/>
                  </a:lnTo>
                  <a:lnTo>
                    <a:pt x="2274" y="0"/>
                  </a:lnTo>
                  <a:lnTo>
                    <a:pt x="2396" y="0"/>
                  </a:lnTo>
                  <a:lnTo>
                    <a:pt x="2526" y="0"/>
                  </a:lnTo>
                  <a:lnTo>
                    <a:pt x="2648" y="0"/>
                  </a:lnTo>
                  <a:lnTo>
                    <a:pt x="2778" y="0"/>
                  </a:lnTo>
                  <a:lnTo>
                    <a:pt x="2900" y="0"/>
                  </a:lnTo>
                  <a:lnTo>
                    <a:pt x="3030" y="0"/>
                  </a:lnTo>
                  <a:lnTo>
                    <a:pt x="3160" y="0"/>
                  </a:lnTo>
                  <a:lnTo>
                    <a:pt x="3282" y="0"/>
                  </a:lnTo>
                  <a:lnTo>
                    <a:pt x="3411" y="0"/>
                  </a:lnTo>
                  <a:lnTo>
                    <a:pt x="3534" y="0"/>
                  </a:lnTo>
                  <a:lnTo>
                    <a:pt x="3663" y="0"/>
                  </a:lnTo>
                  <a:lnTo>
                    <a:pt x="3785" y="0"/>
                  </a:lnTo>
                  <a:lnTo>
                    <a:pt x="3915" y="0"/>
                  </a:lnTo>
                  <a:lnTo>
                    <a:pt x="4037" y="0"/>
                  </a:lnTo>
                  <a:lnTo>
                    <a:pt x="4167" y="0"/>
                  </a:lnTo>
                  <a:lnTo>
                    <a:pt x="4289" y="0"/>
                  </a:lnTo>
                  <a:lnTo>
                    <a:pt x="4419" y="0"/>
                  </a:lnTo>
                  <a:lnTo>
                    <a:pt x="4419" y="1212"/>
                  </a:lnTo>
                  <a:lnTo>
                    <a:pt x="4289" y="1212"/>
                  </a:lnTo>
                  <a:lnTo>
                    <a:pt x="4167" y="1212"/>
                  </a:lnTo>
                  <a:lnTo>
                    <a:pt x="4037" y="1212"/>
                  </a:lnTo>
                  <a:lnTo>
                    <a:pt x="3915" y="1212"/>
                  </a:lnTo>
                  <a:lnTo>
                    <a:pt x="3785" y="1212"/>
                  </a:lnTo>
                  <a:lnTo>
                    <a:pt x="3663" y="1212"/>
                  </a:lnTo>
                  <a:lnTo>
                    <a:pt x="3534" y="1212"/>
                  </a:lnTo>
                  <a:lnTo>
                    <a:pt x="3411" y="1212"/>
                  </a:lnTo>
                  <a:lnTo>
                    <a:pt x="3282" y="1212"/>
                  </a:lnTo>
                  <a:lnTo>
                    <a:pt x="3160" y="1212"/>
                  </a:lnTo>
                  <a:lnTo>
                    <a:pt x="3030" y="1212"/>
                  </a:lnTo>
                  <a:lnTo>
                    <a:pt x="2900" y="1212"/>
                  </a:lnTo>
                  <a:lnTo>
                    <a:pt x="2778" y="1212"/>
                  </a:lnTo>
                  <a:lnTo>
                    <a:pt x="2648" y="1212"/>
                  </a:lnTo>
                  <a:lnTo>
                    <a:pt x="2526" y="1212"/>
                  </a:lnTo>
                  <a:lnTo>
                    <a:pt x="2396" y="1212"/>
                  </a:lnTo>
                  <a:lnTo>
                    <a:pt x="2274" y="1212"/>
                  </a:lnTo>
                  <a:lnTo>
                    <a:pt x="2144" y="1212"/>
                  </a:lnTo>
                  <a:lnTo>
                    <a:pt x="2022" y="1212"/>
                  </a:lnTo>
                  <a:lnTo>
                    <a:pt x="1893" y="1212"/>
                  </a:lnTo>
                  <a:lnTo>
                    <a:pt x="1770" y="1212"/>
                  </a:lnTo>
                  <a:lnTo>
                    <a:pt x="1641" y="1212"/>
                  </a:lnTo>
                  <a:lnTo>
                    <a:pt x="1519" y="1212"/>
                  </a:lnTo>
                  <a:lnTo>
                    <a:pt x="1389" y="1212"/>
                  </a:lnTo>
                  <a:lnTo>
                    <a:pt x="1259" y="1212"/>
                  </a:lnTo>
                  <a:lnTo>
                    <a:pt x="1137" y="1212"/>
                  </a:lnTo>
                  <a:lnTo>
                    <a:pt x="1007" y="1212"/>
                  </a:lnTo>
                  <a:lnTo>
                    <a:pt x="885" y="1212"/>
                  </a:lnTo>
                  <a:lnTo>
                    <a:pt x="755" y="1212"/>
                  </a:lnTo>
                  <a:lnTo>
                    <a:pt x="633" y="1212"/>
                  </a:lnTo>
                  <a:lnTo>
                    <a:pt x="504" y="1212"/>
                  </a:lnTo>
                  <a:lnTo>
                    <a:pt x="381" y="1212"/>
                  </a:lnTo>
                  <a:lnTo>
                    <a:pt x="252" y="1212"/>
                  </a:lnTo>
                  <a:lnTo>
                    <a:pt x="130" y="1212"/>
                  </a:lnTo>
                  <a:lnTo>
                    <a:pt x="0" y="12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301480" y="5650200"/>
              <a:ext cx="1114560" cy="55080"/>
            </a:xfrm>
            <a:custGeom>
              <a:avLst/>
              <a:gdLst/>
              <a:ahLst/>
              <a:rect l="l" t="t" r="r" b="b"/>
              <a:pathLst>
                <a:path w="579" h="29">
                  <a:moveTo>
                    <a:pt x="0" y="29"/>
                  </a:moveTo>
                  <a:lnTo>
                    <a:pt x="17" y="26"/>
                  </a:lnTo>
                  <a:lnTo>
                    <a:pt x="33" y="23"/>
                  </a:lnTo>
                  <a:lnTo>
                    <a:pt x="50" y="20"/>
                  </a:lnTo>
                  <a:lnTo>
                    <a:pt x="66" y="17"/>
                  </a:lnTo>
                  <a:lnTo>
                    <a:pt x="83" y="14"/>
                  </a:lnTo>
                  <a:lnTo>
                    <a:pt x="99" y="12"/>
                  </a:lnTo>
                  <a:lnTo>
                    <a:pt x="116" y="9"/>
                  </a:lnTo>
                  <a:lnTo>
                    <a:pt x="132" y="6"/>
                  </a:lnTo>
                  <a:lnTo>
                    <a:pt x="149" y="3"/>
                  </a:lnTo>
                  <a:lnTo>
                    <a:pt x="165" y="0"/>
                  </a:lnTo>
                  <a:lnTo>
                    <a:pt x="182" y="0"/>
                  </a:lnTo>
                  <a:lnTo>
                    <a:pt x="199" y="0"/>
                  </a:lnTo>
                  <a:lnTo>
                    <a:pt x="215" y="0"/>
                  </a:lnTo>
                  <a:lnTo>
                    <a:pt x="232" y="0"/>
                  </a:lnTo>
                  <a:lnTo>
                    <a:pt x="248" y="0"/>
                  </a:lnTo>
                  <a:lnTo>
                    <a:pt x="265" y="0"/>
                  </a:lnTo>
                  <a:lnTo>
                    <a:pt x="281" y="0"/>
                  </a:lnTo>
                  <a:lnTo>
                    <a:pt x="298" y="0"/>
                  </a:lnTo>
                  <a:lnTo>
                    <a:pt x="314" y="0"/>
                  </a:lnTo>
                  <a:lnTo>
                    <a:pt x="331" y="0"/>
                  </a:lnTo>
                  <a:lnTo>
                    <a:pt x="347" y="0"/>
                  </a:lnTo>
                  <a:lnTo>
                    <a:pt x="364" y="0"/>
                  </a:lnTo>
                  <a:lnTo>
                    <a:pt x="380" y="0"/>
                  </a:lnTo>
                  <a:lnTo>
                    <a:pt x="397" y="1"/>
                  </a:lnTo>
                  <a:lnTo>
                    <a:pt x="414" y="2"/>
                  </a:lnTo>
                  <a:lnTo>
                    <a:pt x="430" y="3"/>
                  </a:lnTo>
                  <a:lnTo>
                    <a:pt x="447" y="3"/>
                  </a:lnTo>
                  <a:lnTo>
                    <a:pt x="463" y="4"/>
                  </a:lnTo>
                  <a:lnTo>
                    <a:pt x="480" y="5"/>
                  </a:lnTo>
                  <a:lnTo>
                    <a:pt x="496" y="6"/>
                  </a:lnTo>
                  <a:lnTo>
                    <a:pt x="513" y="7"/>
                  </a:lnTo>
                  <a:lnTo>
                    <a:pt x="529" y="8"/>
                  </a:lnTo>
                  <a:lnTo>
                    <a:pt x="546" y="8"/>
                  </a:lnTo>
                  <a:lnTo>
                    <a:pt x="562" y="9"/>
                  </a:lnTo>
                  <a:lnTo>
                    <a:pt x="579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01480" y="5819040"/>
              <a:ext cx="1114560" cy="185400"/>
            </a:xfrm>
            <a:custGeom>
              <a:avLst/>
              <a:gdLst/>
              <a:ahLst/>
              <a:rect l="l" t="t" r="r" b="b"/>
              <a:pathLst>
                <a:path w="579" h="98">
                  <a:moveTo>
                    <a:pt x="0" y="4"/>
                  </a:moveTo>
                  <a:lnTo>
                    <a:pt x="17" y="3"/>
                  </a:lnTo>
                  <a:lnTo>
                    <a:pt x="33" y="2"/>
                  </a:lnTo>
                  <a:lnTo>
                    <a:pt x="50" y="3"/>
                  </a:lnTo>
                  <a:lnTo>
                    <a:pt x="66" y="1"/>
                  </a:lnTo>
                  <a:lnTo>
                    <a:pt x="83" y="0"/>
                  </a:lnTo>
                  <a:lnTo>
                    <a:pt x="99" y="5"/>
                  </a:lnTo>
                  <a:lnTo>
                    <a:pt x="116" y="7"/>
                  </a:lnTo>
                  <a:lnTo>
                    <a:pt x="132" y="9"/>
                  </a:lnTo>
                  <a:lnTo>
                    <a:pt x="149" y="15"/>
                  </a:lnTo>
                  <a:lnTo>
                    <a:pt x="165" y="18"/>
                  </a:lnTo>
                  <a:lnTo>
                    <a:pt x="182" y="20"/>
                  </a:lnTo>
                  <a:lnTo>
                    <a:pt x="199" y="40"/>
                  </a:lnTo>
                  <a:lnTo>
                    <a:pt x="215" y="41"/>
                  </a:lnTo>
                  <a:lnTo>
                    <a:pt x="232" y="50"/>
                  </a:lnTo>
                  <a:lnTo>
                    <a:pt x="248" y="55"/>
                  </a:lnTo>
                  <a:lnTo>
                    <a:pt x="265" y="51"/>
                  </a:lnTo>
                  <a:lnTo>
                    <a:pt x="281" y="50"/>
                  </a:lnTo>
                  <a:lnTo>
                    <a:pt x="298" y="73"/>
                  </a:lnTo>
                  <a:lnTo>
                    <a:pt x="314" y="74"/>
                  </a:lnTo>
                  <a:lnTo>
                    <a:pt x="331" y="77"/>
                  </a:lnTo>
                  <a:lnTo>
                    <a:pt x="347" y="71"/>
                  </a:lnTo>
                  <a:lnTo>
                    <a:pt x="364" y="98"/>
                  </a:lnTo>
                  <a:lnTo>
                    <a:pt x="380" y="98"/>
                  </a:lnTo>
                  <a:lnTo>
                    <a:pt x="397" y="94"/>
                  </a:lnTo>
                  <a:lnTo>
                    <a:pt x="414" y="94"/>
                  </a:lnTo>
                  <a:lnTo>
                    <a:pt x="430" y="94"/>
                  </a:lnTo>
                  <a:lnTo>
                    <a:pt x="447" y="94"/>
                  </a:lnTo>
                  <a:lnTo>
                    <a:pt x="463" y="94"/>
                  </a:lnTo>
                  <a:lnTo>
                    <a:pt x="480" y="93"/>
                  </a:lnTo>
                  <a:lnTo>
                    <a:pt x="496" y="93"/>
                  </a:lnTo>
                  <a:lnTo>
                    <a:pt x="513" y="93"/>
                  </a:lnTo>
                  <a:lnTo>
                    <a:pt x="529" y="93"/>
                  </a:lnTo>
                  <a:lnTo>
                    <a:pt x="546" y="93"/>
                  </a:lnTo>
                  <a:lnTo>
                    <a:pt x="562" y="93"/>
                  </a:lnTo>
                  <a:lnTo>
                    <a:pt x="579" y="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22720" y="568836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flipV="1">
              <a:off x="2324160" y="569016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334240" y="56995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2324160" y="569952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2334240" y="56901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353320" y="568260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2354760" y="568440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64840" y="56937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354760" y="569376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2364840" y="56844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386080" y="56768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 flipV="1">
              <a:off x="2387880" y="56786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97600" y="568836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2387880" y="56883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2397600" y="567864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417040" y="567108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flipV="1">
              <a:off x="2418480" y="567324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428560" y="56826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2418480" y="568260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2428560" y="56732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49440" y="566532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flipV="1">
              <a:off x="2451600" y="566748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460960" y="5676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2451600" y="5676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2460960" y="566748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80400" y="566172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 flipV="1">
              <a:off x="2482200" y="566388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91920" y="567324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2482200" y="56732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2491920" y="566388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513160" y="565596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2514960" y="56581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524680" y="566748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2514960" y="566748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2524680" y="56581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43760" y="5650200"/>
              <a:ext cx="26640" cy="2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2545920" y="56520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55280" y="56617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545920" y="56617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2555280" y="56520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76520" y="564480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flipV="1">
              <a:off x="2578680" y="56466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88040" y="56559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2578680" y="56559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2588040" y="56466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60748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260928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1900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260928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261900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64024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264204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5176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264204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265176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67300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2674440" y="564084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8452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2674440" y="565020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268452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0360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270576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71548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70576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271548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73636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 flipV="1">
              <a:off x="273816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747880" y="565020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273816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2747880" y="564084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76732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2768760" y="564084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77884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2768760" y="565020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277884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80008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280188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811240" y="565020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280188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2811240" y="564084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83068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flipV="1">
              <a:off x="283248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42200" y="565020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83248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2842200" y="564084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86344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286524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87496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286524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287496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89440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289620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90556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289620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290556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92680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292896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93868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292896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293868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95776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flipV="1">
              <a:off x="295956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96928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295956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96928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9052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299268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00204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299268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300204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21120" y="56390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302328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03300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302328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3033000" y="56408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53880" y="56408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3056040" y="56426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065760" y="56520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3056040" y="56520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3065760" y="564264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087000" y="564264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3088080" y="564480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098520" y="56541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3088080" y="565416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3098520" y="56448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117600" y="564480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flipV="1">
              <a:off x="3119760" y="56466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129120" y="56559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3119760" y="56559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3129120" y="56466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50360" y="564480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 flipV="1">
              <a:off x="3152160" y="56466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61880" y="565596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3152160" y="56559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3161880" y="564660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180960" y="564660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3182400" y="564840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192840" y="56581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3182400" y="565812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192840" y="56484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13720" y="564840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 flipV="1">
              <a:off x="321588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25240" y="56599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3215880" y="56599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3225240" y="56502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44680" y="5650200"/>
              <a:ext cx="26640" cy="2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3246480" y="565200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56200" y="566172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3246480" y="56617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3256200" y="5652000"/>
              <a:ext cx="97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77080" y="565200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 flipV="1">
              <a:off x="3279240" y="56541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88960" y="566388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3279240" y="566388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3288960" y="56541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308040" y="565416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3310200" y="56559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319560" y="56653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3310200" y="56653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3319560" y="56559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340800" y="565416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 flipV="1">
              <a:off x="3342960" y="56559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352320" y="56653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3342960" y="56653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3352320" y="565596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371760" y="565596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 flipV="1">
              <a:off x="3373560" y="56581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383280" y="566748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3373560" y="566748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383280" y="56581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404520" y="5658120"/>
              <a:ext cx="26640" cy="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3406320" y="56599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16040" y="566928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3406320" y="566928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3416040" y="5659920"/>
              <a:ext cx="93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328480" y="5819040"/>
              <a:ext cx="11160" cy="115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23" y="0"/>
                  </a:moveTo>
                  <a:lnTo>
                    <a:pt x="45" y="48"/>
                  </a:lnTo>
                  <a:lnTo>
                    <a:pt x="0" y="4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359080" y="581724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391840" y="5819040"/>
              <a:ext cx="11520" cy="115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3" y="0"/>
                  </a:moveTo>
                  <a:lnTo>
                    <a:pt x="46" y="48"/>
                  </a:lnTo>
                  <a:lnTo>
                    <a:pt x="0" y="4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422800" y="5815440"/>
              <a:ext cx="11160" cy="1116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3" y="0"/>
                  </a:moveTo>
                  <a:lnTo>
                    <a:pt x="45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455200" y="581328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486160" y="582264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518920" y="582660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549520" y="583056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82280" y="584172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13240" y="5847120"/>
              <a:ext cx="11520" cy="115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3" y="0"/>
                  </a:moveTo>
                  <a:lnTo>
                    <a:pt x="46" y="48"/>
                  </a:lnTo>
                  <a:lnTo>
                    <a:pt x="0" y="4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46000" y="585108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78760" y="5888880"/>
              <a:ext cx="11520" cy="115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3" y="0"/>
                  </a:moveTo>
                  <a:lnTo>
                    <a:pt x="46" y="48"/>
                  </a:lnTo>
                  <a:lnTo>
                    <a:pt x="0" y="4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709360" y="589104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742120" y="5907960"/>
              <a:ext cx="11160" cy="1116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2" y="0"/>
                  </a:moveTo>
                  <a:lnTo>
                    <a:pt x="45" y="47"/>
                  </a:lnTo>
                  <a:lnTo>
                    <a:pt x="0" y="47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73080" y="5917320"/>
              <a:ext cx="11160" cy="115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23" y="0"/>
                  </a:moveTo>
                  <a:lnTo>
                    <a:pt x="45" y="48"/>
                  </a:lnTo>
                  <a:lnTo>
                    <a:pt x="0" y="4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805480" y="591012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36800" y="5907960"/>
              <a:ext cx="11160" cy="1116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2" y="0"/>
                  </a:moveTo>
                  <a:lnTo>
                    <a:pt x="45" y="47"/>
                  </a:lnTo>
                  <a:lnTo>
                    <a:pt x="0" y="47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69200" y="595152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99800" y="595368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932560" y="5959080"/>
              <a:ext cx="11520" cy="115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3" y="0"/>
                  </a:moveTo>
                  <a:lnTo>
                    <a:pt x="46" y="48"/>
                  </a:lnTo>
                  <a:lnTo>
                    <a:pt x="0" y="48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963520" y="594792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60000" y="599148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092760" y="5991480"/>
              <a:ext cx="11160" cy="1116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3" y="0"/>
                  </a:moveTo>
                  <a:lnTo>
                    <a:pt x="45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123360" y="599148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156120" y="5991480"/>
              <a:ext cx="11160" cy="1116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2" y="0"/>
                  </a:moveTo>
                  <a:lnTo>
                    <a:pt x="45" y="47"/>
                  </a:lnTo>
                  <a:lnTo>
                    <a:pt x="0" y="47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87080" y="5991480"/>
              <a:ext cx="11160" cy="1116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3" y="0"/>
                  </a:moveTo>
                  <a:lnTo>
                    <a:pt x="45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219480" y="598932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250440" y="5989320"/>
              <a:ext cx="11160" cy="1116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2" y="0"/>
                  </a:moveTo>
                  <a:lnTo>
                    <a:pt x="45" y="47"/>
                  </a:lnTo>
                  <a:lnTo>
                    <a:pt x="0" y="47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283200" y="598932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313800" y="598932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346560" y="598932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77520" y="598932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410280" y="5989320"/>
              <a:ext cx="11520" cy="1116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0"/>
                  </a:moveTo>
                  <a:lnTo>
                    <a:pt x="46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5165640" y="5240160"/>
            <a:ext cx="1389240" cy="17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GB" sz="800" spc="-1" strike="noStrike">
                <a:solidFill>
                  <a:srgbClr val="009999"/>
                </a:solidFill>
                <a:latin typeface="Arial"/>
              </a:rPr>
              <a:t>Staffing &amp; Recruiting 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330720" y="1684440"/>
            <a:ext cx="144360" cy="1925640"/>
          </a:xfrm>
          <a:custGeom>
            <a:avLst/>
            <a:gdLst>
              <a:gd name="textAreaLeft" fmla="*/ 0 w 144360"/>
              <a:gd name="textAreaRight" fmla="*/ 52200 w 144360"/>
              <a:gd name="textAreaTop" fmla="*/ 50040 h 1925640"/>
              <a:gd name="textAreaBottom" fmla="*/ 1875600 h 19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222720" y="2519280"/>
            <a:ext cx="136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‘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1"/>
          <a:stretch/>
        </p:blipFill>
        <p:spPr>
          <a:xfrm>
            <a:off x="5345280" y="0"/>
            <a:ext cx="3784320" cy="68580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5345280" y="0"/>
            <a:ext cx="866520" cy="682560"/>
          </a:xfrm>
          <a:prstGeom prst="roundRect">
            <a:avLst>
              <a:gd name="adj" fmla="val 16667"/>
            </a:avLst>
          </a:prstGeom>
          <a:solidFill>
            <a:srgbClr val="eaeaea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63080" y="0"/>
            <a:ext cx="866520" cy="682560"/>
          </a:xfrm>
          <a:prstGeom prst="roundRect">
            <a:avLst>
              <a:gd name="adj" fmla="val 16667"/>
            </a:avLst>
          </a:prstGeom>
          <a:solidFill>
            <a:srgbClr val="eaeaea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69120" y="0"/>
            <a:ext cx="868320" cy="682560"/>
          </a:xfrm>
          <a:prstGeom prst="roundRect">
            <a:avLst>
              <a:gd name="adj" fmla="val 16667"/>
            </a:avLst>
          </a:prstGeom>
          <a:solidFill>
            <a:srgbClr val="eaeaea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7D560-55B0-40A0-A66B-E3EA11CFF2D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933480"/>
          <a:ext cx="8229600" cy="3614760"/>
        </p:xfrm>
        <a:graphic>
          <a:graphicData uri="http://schemas.openxmlformats.org/drawingml/2006/table">
            <a:tbl>
              <a:tblPr/>
              <a:tblGrid>
                <a:gridCol w="3814920"/>
                <a:gridCol w="3638520"/>
                <a:gridCol w="776160"/>
              </a:tblGrid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Program Statu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Participate Readiness Seminar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Progress Highligh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Plan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/Scope Change Control Up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tional Development P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FC29-CE76-45E1-8B99-CE0F8673B0F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473280" y="714240"/>
            <a:ext cx="2738520" cy="1400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378480" y="2114640"/>
            <a:ext cx="2705040" cy="4101840"/>
          </a:xfrm>
          <a:prstGeom prst="rect">
            <a:avLst/>
          </a:prstGeom>
          <a:solidFill>
            <a:srgbClr val="73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/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45000" y="2114640"/>
            <a:ext cx="2705040" cy="4101840"/>
          </a:xfrm>
          <a:prstGeom prst="rect">
            <a:avLst/>
          </a:prstGeom>
          <a:solidFill>
            <a:srgbClr val="73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2114640"/>
            <a:ext cx="2705040" cy="4101840"/>
          </a:xfrm>
          <a:prstGeom prst="rect">
            <a:avLst/>
          </a:prstGeom>
          <a:solidFill>
            <a:srgbClr val="73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4970520"/>
            <a:ext cx="9007200" cy="1131840"/>
          </a:xfrm>
          <a:prstGeom prst="rect">
            <a:avLst/>
          </a:prstGeom>
          <a:solidFill>
            <a:srgbClr val="a6c0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320" y="3192480"/>
            <a:ext cx="9007200" cy="1738440"/>
          </a:xfrm>
          <a:prstGeom prst="rect">
            <a:avLst/>
          </a:prstGeom>
          <a:solidFill>
            <a:srgbClr val="a6c0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rogram remains Amber and is being assessed continually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1185840" y="2684520"/>
            <a:ext cx="2182680" cy="353880"/>
          </a:xfrm>
          <a:prstGeom prst="rect">
            <a:avLst/>
          </a:prstGeom>
          <a:solidFill>
            <a:srgbClr val="ff993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2960" y="3371760"/>
            <a:ext cx="269856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st monthly committed cost and forecasts are under by 10% of budget to date. Funding for Identity Management and change controls being def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2684520"/>
            <a:ext cx="2182680" cy="353880"/>
          </a:xfrm>
          <a:prstGeom prst="rect">
            <a:avLst/>
          </a:prstGeom>
          <a:solidFill>
            <a:srgbClr val="ff993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99240" y="2684520"/>
            <a:ext cx="2182680" cy="353880"/>
          </a:xfrm>
          <a:prstGeom prst="rect">
            <a:avLst/>
          </a:prstGeom>
          <a:solidFill>
            <a:srgbClr val="ff993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78480" y="3371760"/>
            <a:ext cx="270504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log baseline established &amp; impacts categorized.  First set of 15 NPRRs passed through ERCOT process. QA plans and metrics finalized for April base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960" y="5288040"/>
            <a:ext cx="555840" cy="247680"/>
          </a:xfrm>
          <a:prstGeom prst="rect">
            <a:avLst/>
          </a:prstGeom>
          <a:solidFill>
            <a:srgbClr val="cc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1960" y="5557680"/>
            <a:ext cx="555840" cy="247680"/>
          </a:xfrm>
          <a:prstGeom prst="rect">
            <a:avLst/>
          </a:prstGeom>
          <a:solidFill>
            <a:srgbClr val="ff993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1960" y="5829480"/>
            <a:ext cx="555840" cy="222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960" y="5288040"/>
            <a:ext cx="8791560" cy="247680"/>
          </a:xfrm>
          <a:prstGeom prst="rect">
            <a:avLst/>
          </a:prstGeom>
          <a:solidFill>
            <a:srgbClr val="cc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0240" y="5829480"/>
            <a:ext cx="8423280" cy="247320"/>
          </a:xfrm>
          <a:prstGeom prst="rect">
            <a:avLst/>
          </a:prstGeom>
          <a:solidFill>
            <a:srgbClr val="0099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7280" y="5557680"/>
            <a:ext cx="8796240" cy="247680"/>
          </a:xfrm>
          <a:prstGeom prst="rect">
            <a:avLst/>
          </a:prstGeom>
          <a:solidFill>
            <a:srgbClr val="ff993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39680" y="5829480"/>
            <a:ext cx="246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imate at Complete = &lt;$248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39680" y="5553000"/>
            <a:ext cx="246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imate at Complete = $248 - $263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81160" y="5276880"/>
            <a:ext cx="21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imate at Complete = &gt;$263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35440" y="5843520"/>
            <a:ext cx="21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-live = 12/1/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36880" y="5567400"/>
            <a:ext cx="218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-live = &lt;30 days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38680" y="5291280"/>
            <a:ext cx="21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-live = &gt;30 days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32640" y="5851440"/>
            <a:ext cx="21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 is aligned with current protoc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89720" y="5583240"/>
            <a:ext cx="247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 is aligned to previous version of protoc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89720" y="5299200"/>
            <a:ext cx="246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 is not wholly aligned to protoc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 rot="5400000">
            <a:off x="3312720" y="1514880"/>
            <a:ext cx="320760" cy="650880"/>
          </a:xfrm>
          <a:custGeom>
            <a:avLst/>
            <a:gdLst>
              <a:gd name="textAreaLeft" fmla="*/ 0 w 320760"/>
              <a:gd name="textAreaRight" fmla="*/ 321120 w 320760"/>
              <a:gd name="textAreaTop" fmla="*/ 360 h 650880"/>
              <a:gd name="textAreaBottom" fmla="*/ 651600 h 65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8100000">
            <a:off x="4958640" y="1821960"/>
            <a:ext cx="336600" cy="195480"/>
          </a:xfrm>
          <a:prstGeom prst="rightArrow">
            <a:avLst>
              <a:gd name="adj1" fmla="val 50000"/>
              <a:gd name="adj2" fmla="val 43048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 rot="16200000">
            <a:off x="6327720" y="412560"/>
            <a:ext cx="320760" cy="1011240"/>
          </a:xfrm>
          <a:custGeom>
            <a:avLst/>
            <a:gdLst>
              <a:gd name="textAreaLeft" fmla="*/ -360 w 320760"/>
              <a:gd name="textAreaRight" fmla="*/ 320760 w 320760"/>
              <a:gd name="textAreaTop" fmla="*/ -360 h 1011240"/>
              <a:gd name="textAreaBottom" fmla="*/ 1011240 h 101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66960" y="3371760"/>
            <a:ext cx="266400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/ MP web services specifications issued on time.  Market Readiness Seminar for MP started.  Confidence i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S 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 delivery needs to be improved with greater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49E7-49C4-4225-9C8F-79F0F69A275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30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Nodal success is dependent on three critical component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968400" y="838080"/>
            <a:ext cx="756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Arial"/>
              </a:rPr>
              <a:t>The success formula is stark and unforgiving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12760" y="1284120"/>
            <a:ext cx="7263000" cy="1114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47840" y="3235320"/>
            <a:ext cx="4673520" cy="1528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46720" y="48816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40480" y="4881600"/>
            <a:ext cx="66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2/1/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95560" y="4881600"/>
            <a:ext cx="66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43160" y="3227400"/>
            <a:ext cx="4673520" cy="1388880"/>
          </a:xfrm>
          <a:custGeom>
            <a:avLst/>
            <a:gdLst/>
            <a:ahLst/>
            <a:rect l="l" t="t" r="r" b="b"/>
            <a:pathLst>
              <a:path w="3330" h="1157">
                <a:moveTo>
                  <a:pt x="0" y="0"/>
                </a:moveTo>
                <a:cubicBezTo>
                  <a:pt x="531" y="293"/>
                  <a:pt x="1063" y="586"/>
                  <a:pt x="1618" y="779"/>
                </a:cubicBezTo>
                <a:cubicBezTo>
                  <a:pt x="2173" y="972"/>
                  <a:pt x="3045" y="1094"/>
                  <a:pt x="3330" y="1157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43160" y="3235320"/>
            <a:ext cx="4665600" cy="1538280"/>
          </a:xfrm>
          <a:custGeom>
            <a:avLst/>
            <a:gdLst/>
            <a:ahLst/>
            <a:rect l="l" t="t" r="r" b="b"/>
            <a:pathLst>
              <a:path w="3324" h="1281">
                <a:moveTo>
                  <a:pt x="0" y="1273"/>
                </a:moveTo>
                <a:cubicBezTo>
                  <a:pt x="510" y="1277"/>
                  <a:pt x="1021" y="1281"/>
                  <a:pt x="1410" y="1240"/>
                </a:cubicBezTo>
                <a:cubicBezTo>
                  <a:pt x="1799" y="1199"/>
                  <a:pt x="2018" y="1233"/>
                  <a:pt x="2337" y="1026"/>
                </a:cubicBezTo>
                <a:cubicBezTo>
                  <a:pt x="2656" y="819"/>
                  <a:pt x="2990" y="409"/>
                  <a:pt x="3324" y="0"/>
                </a:cubicBezTo>
              </a:path>
            </a:pathLst>
          </a:custGeom>
          <a:noFill/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71880" y="3449520"/>
            <a:ext cx="9586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dal Contr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54680" y="344952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diness Metri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1246320" y="3814560"/>
            <a:ext cx="15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mportance to Nodal Su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97040" y="5180040"/>
            <a:ext cx="1276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rogress Indica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86400" y="5180040"/>
            <a:ext cx="15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erformance Indica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98880" y="5140440"/>
            <a:ext cx="1411200" cy="253800"/>
          </a:xfrm>
          <a:prstGeom prst="rightArrow">
            <a:avLst>
              <a:gd name="adj1" fmla="val 50000"/>
              <a:gd name="adj2" fmla="val 139007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48600" y="5581800"/>
            <a:ext cx="378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i="1" lang="en-US" sz="1600" spc="-1" strike="noStrike">
                <a:solidFill>
                  <a:srgbClr val="800000"/>
                </a:solidFill>
                <a:latin typeface="Arial"/>
              </a:rPr>
              <a:t>the emphasis will change over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06640" y="247176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</a:rPr>
              <a:t>NODAL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60640" y="246204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</a:rPr>
              <a:t>ERCOT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16800" y="244944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800000"/>
                </a:solidFill>
                <a:uFillTx/>
                <a:latin typeface="Arial"/>
              </a:rPr>
              <a:t>ALL OF U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13200" y="244944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09AA-B1B8-49D8-869C-7517C16B5C7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rket Participant Readiness Update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34909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articipant Readiness Seminar held on 4/26/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 150 Accountable Executives and Project Managers atten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meeting concentrated 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dal Ov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S schedule and p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is contained within the “Understanding: Texas Nodal Market Implementation” broch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353200" y="0"/>
            <a:ext cx="3784320" cy="685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315120" y="0"/>
            <a:ext cx="866880" cy="682560"/>
          </a:xfrm>
          <a:prstGeom prst="roundRect">
            <a:avLst>
              <a:gd name="adj" fmla="val 16667"/>
            </a:avLst>
          </a:prstGeom>
          <a:solidFill>
            <a:srgbClr val="eaeaea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71000" y="0"/>
            <a:ext cx="866520" cy="682560"/>
          </a:xfrm>
          <a:prstGeom prst="roundRect">
            <a:avLst>
              <a:gd name="adj" fmla="val 16667"/>
            </a:avLst>
          </a:prstGeom>
          <a:solidFill>
            <a:srgbClr val="eaeaea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53200" y="0"/>
            <a:ext cx="866520" cy="682560"/>
          </a:xfrm>
          <a:prstGeom prst="roundRect">
            <a:avLst>
              <a:gd name="adj" fmla="val 16667"/>
            </a:avLst>
          </a:prstGeom>
          <a:solidFill>
            <a:srgbClr val="eaeaea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47800" y="4950000"/>
            <a:ext cx="74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</a:rPr>
              <a:t>Theme: “ </a:t>
            </a:r>
            <a:r>
              <a:rPr b="1" i="1" lang="en-US" sz="1400" spc="-1" strike="noStrike" u="sng">
                <a:solidFill>
                  <a:srgbClr val="800000"/>
                </a:solidFill>
                <a:uFillTx/>
                <a:latin typeface="Arial"/>
              </a:rPr>
              <a:t>NO MARKET PARTICIPANT IS LEFT BEHIND</a:t>
            </a:r>
            <a:r>
              <a:rPr b="1" i="1" lang="en-US" sz="1400" spc="-1" strike="noStrike">
                <a:solidFill>
                  <a:srgbClr val="8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B328-61E5-46FF-8FF7-711E512B9C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AC role in Market Participant Readiness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1273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is suggesting that TAC be the oversight for Market Participant Read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C should be a forum for Market Participants to provide feedback on their schedule, and testing cap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C should work with ERCOT to adjust Market Participant testing schedule as nee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C with ERCOT readiness inputs should “manage” the Wall of Sh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353200" y="0"/>
            <a:ext cx="3784320" cy="685800"/>
            <a:chOff x="5353200" y="0"/>
            <a:chExt cx="3784320" cy="68580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5353200" y="0"/>
              <a:ext cx="37843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6315120" y="0"/>
              <a:ext cx="867240" cy="68292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69920" y="0"/>
              <a:ext cx="867240" cy="68292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53200" y="0"/>
              <a:ext cx="867240" cy="68292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57200" y="5268960"/>
            <a:ext cx="79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</a:rPr>
              <a:t>In order for Nodal to succeed, TAC must take an active role in Market Participant Read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600B-CE8D-4611-8D2D-C658B5930D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ajor achievements have continued in April…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4829040" y="950760"/>
            <a:ext cx="4111920" cy="478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2680" indent="-112680">
              <a:lnSpc>
                <a:spcPct val="95000"/>
              </a:lnSpc>
              <a:spcBef>
                <a:spcPts val="56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endors, Requirements, and CS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y vendor base products have been delivered ahead of schedu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l vendors working on aggressive delivery schedule to make Nodal timel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standing approvals relate to EDW (non-critica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whelmingly positive response from Market Particip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irements being updated to March 2007 Nodal Protocol Base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CSDs with the exception of EDW and Disputes (planned for 2Q2007) have been submitted or are approved from TPT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t projects have started detailed design and build ph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5000"/>
              </a:lnSpc>
              <a:spcBef>
                <a:spcPts val="56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S: Nodal ICCP installation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MS: Accelerated SCED pre-FAT testing nearly complete and on schedu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S: Lodestar Version 4.7 delivered successfu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MMS: Phase 1a delivered successfu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: prototype delivered ear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faces (EIP): Enterprise Integration Project delivered final ERCOT/MP Interface Sp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faces (EIP): First interfaces exposed to market for MPs to test connectivity and off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faces (EIP): About to select a System Integrator to build interfa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faces (EIP): Substantial work in progress on multiple internal integrations, for example analyzing source and sink syste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R: Market Readiness brochures for MP readiness created and distribu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ining: Launched web based training cl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ining: Launched LMS (Learning Management Seminar) to automate tes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5000"/>
              </a:lnSpc>
              <a:spcBef>
                <a:spcPts val="56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rket Operations Sandbo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goal is to prove the feasibility of the architecture and to promote Market Participant eng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Sandbox interfaces implemented and 19 MPs have tes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ket Operations Sandbox and interface deployment schedule produced before the 4/30/2007 milestone to TPT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55600" indent="-141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28600" y="939960"/>
          <a:ext cx="4295880" cy="4398840"/>
        </p:xfrm>
        <a:graphic>
          <a:graphicData uri="http://schemas.openxmlformats.org/drawingml/2006/table">
            <a:tbl>
              <a:tblPr/>
              <a:tblGrid>
                <a:gridCol w="2106720"/>
                <a:gridCol w="946080"/>
                <a:gridCol w="833400"/>
                <a:gridCol w="4096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rol Milest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sel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ual/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Budget basel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17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17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irements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31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2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dor SOW BO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/10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73737"/>
                          </a:solidFill>
                          <a:latin typeface="Arial"/>
                          <a:ea typeface="Times New Roman"/>
                        </a:rPr>
                        <a:t>02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y CSD sub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/31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/31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 Operations Sandbo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/31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/31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y CSD 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/28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/28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face specs – fi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/31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/31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interface exposed to M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/31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/31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S 1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/15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/01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S 2/3 plan shared with TPT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/2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S 2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S 3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/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S 4 plan shared with TPT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S 4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/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/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l Time Go L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/1/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/1/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-Ahead Go L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/8/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/8/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990720" y="5776920"/>
            <a:ext cx="74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</a:rPr>
              <a:t>Future milestones are dictated by the Nodal Build critical path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353200" y="0"/>
            <a:ext cx="378432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315120" y="0"/>
            <a:ext cx="866880" cy="682560"/>
          </a:xfrm>
          <a:prstGeom prst="roundRect">
            <a:avLst>
              <a:gd name="adj" fmla="val 16667"/>
            </a:avLst>
          </a:prstGeom>
          <a:solidFill>
            <a:srgbClr val="eaeaea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71000" y="0"/>
            <a:ext cx="866520" cy="682560"/>
          </a:xfrm>
          <a:prstGeom prst="roundRect">
            <a:avLst>
              <a:gd name="adj" fmla="val 16667"/>
            </a:avLst>
          </a:prstGeom>
          <a:solidFill>
            <a:srgbClr val="eaeaea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77040" y="0"/>
            <a:ext cx="868320" cy="682560"/>
          </a:xfrm>
          <a:prstGeom prst="roundRect">
            <a:avLst>
              <a:gd name="adj" fmla="val 16667"/>
            </a:avLst>
          </a:prstGeom>
          <a:solidFill>
            <a:srgbClr val="eaeaea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E9FF9-FAB6-4F23-A812-406BF75BDC3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imeline update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55520" y="792000"/>
            <a:ext cx="8759880" cy="52722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5353200" y="0"/>
            <a:ext cx="3784320" cy="685800"/>
            <a:chOff x="5353200" y="0"/>
            <a:chExt cx="3784320" cy="685800"/>
          </a:xfrm>
        </p:grpSpPr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5353200" y="0"/>
              <a:ext cx="37843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6315120" y="0"/>
              <a:ext cx="866880" cy="6825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270280" y="0"/>
              <a:ext cx="866880" cy="6825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77040" y="0"/>
              <a:ext cx="866880" cy="6825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D9391-DF56-408A-BC05-3B7EC69C2D2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1406520"/>
            <a:ext cx="4724640" cy="45068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S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arm Processing and Point to Point Ver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pproach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pproach document drafted and approved by TPT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eta Testin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a Test identified 10% error r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oint-to-Point Verificatio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RCOT request for complete point-to-point verification approved by TPT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DS Executio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larm processing configuration initiated, Point-to-Point testing to begin June 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S 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oad Modeling, State Estimator, Network Security Analysis and Network Model Management Ver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pproach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raft document issued for TPTF review and commen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pdated Approach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vised document to be released week of May 7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DS Executio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cheduled to begin in May 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5172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EDS 1 &amp; 2 detailed planning and execution activities are underway …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4714920" y="860400"/>
            <a:ext cx="424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diagrams show the EDS timelines and high-level functionality for each of the phase &amp; Beta Test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12524" t="19444" r="16525" b="11112"/>
          <a:stretch/>
        </p:blipFill>
        <p:spPr>
          <a:xfrm>
            <a:off x="5324400" y="372420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rcRect l="10409" t="19503" r="20718" b="11127"/>
          <a:stretch/>
        </p:blipFill>
        <p:spPr>
          <a:xfrm>
            <a:off x="5324400" y="1382760"/>
            <a:ext cx="2917800" cy="220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23" name=""/>
          <p:cNvGrpSpPr/>
          <p:nvPr/>
        </p:nvGrpSpPr>
        <p:grpSpPr>
          <a:xfrm>
            <a:off x="5362560" y="0"/>
            <a:ext cx="3784680" cy="685800"/>
            <a:chOff x="5362560" y="0"/>
            <a:chExt cx="3784680" cy="685800"/>
          </a:xfrm>
        </p:grpSpPr>
        <p:pic>
          <p:nvPicPr>
            <p:cNvPr id="224" name="" descr=""/>
            <p:cNvPicPr/>
            <p:nvPr/>
          </p:nvPicPr>
          <p:blipFill>
            <a:blip r:embed="rId3"/>
            <a:stretch/>
          </p:blipFill>
          <p:spPr>
            <a:xfrm>
              <a:off x="5362560" y="0"/>
              <a:ext cx="378468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324480" y="0"/>
              <a:ext cx="867240" cy="6825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79640" y="0"/>
              <a:ext cx="867240" cy="6825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86760" y="0"/>
              <a:ext cx="867240" cy="682560"/>
            </a:xfrm>
            <a:prstGeom prst="roundRect">
              <a:avLst>
                <a:gd name="adj" fmla="val 16667"/>
              </a:avLst>
            </a:prstGeom>
            <a:solidFill>
              <a:srgbClr val="eaeaea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FC58E-24EB-4F6E-844D-FB5233217E9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chudgar</cp:lastModifiedBy>
  <dcterms:modified xsi:type="dcterms:W3CDTF">2007-04-30T20:15:12Z</dcterms:modified>
  <cp:revision>262</cp:revision>
  <dc:subject/>
  <dc:title>Texas Nodal Market Implementation ERCOT Board of Directors Meeting Budget Rationale October 17, 2006  Kathy Hager, Market Redesign Program Director </dc:title>
</cp:coreProperties>
</file>