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9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0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1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8DF5C-ADBD-45B2-A942-74ECD30C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2E71DA-1B51-4B9A-BFC6-5E234E49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60C023-28D6-4DAE-ADE3-816C3B157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C3E3DB-1171-45FD-B9A5-5F909CFCC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44BE66-036D-4F93-A412-5CD94F07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31188D-BBEF-42A7-9CDF-0E9236B2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5AFEE2-305C-412E-AECB-7194A0EF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4C9A2D-1770-497D-ABA1-51D6E330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6DEA5D-DED6-463C-8B67-6D16241B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2A6901-E97E-4F4E-93C6-DF197704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EFC0AD-69B0-4B84-9A1A-143A68C5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4E6E31-9C99-4B04-AF11-97780DCF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18D58E-37A4-4A60-B63E-A21DC64A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2973EF-D31F-486B-8AF7-5EFAF9B9B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10A7-5A5E-41E9-B9C8-493A81A3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CF13-378F-41CA-81E7-0A3C16E2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1A59-C65F-4BCF-8B13-9E94F42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A251-C8D6-40EF-8AB0-9D677E2A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30E1-4D31-453E-83DD-197DEBDF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75DB-DF8C-4258-BAE4-39D01C79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A0E-2BB7-4A03-A1FF-4336371B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D443-E938-4ECD-9480-50D8CD9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993D-334A-4B66-A672-834B900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79E4-9037-426B-905C-A7FADEF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C2FF-67FF-42F6-B07A-B1C7BC2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FE6F-D768-4B2E-A60C-013579B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30D3-440B-4BA0-8D0E-D526264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6FE-93E0-4E57-887C-F7042BB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381-27EC-4CFE-8278-C4A3F3F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1CC-9AF7-4F5C-B777-1484F57D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3D49-C181-4D14-B549-139FFC87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D0E4-1E66-47C6-843F-3D6505F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5EB4-DFB7-4E09-A1C1-A4F7EE2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EAC2-1402-44AD-9A55-17E65419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3F4F-DAF1-4BCC-8E7D-0BF29C1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0FF3-98A3-48D6-83B7-9FD3D73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343A-5124-480D-973E-877D5E9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F462-0D76-42EB-8FCF-DB48B38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64EA-D5D2-47D2-B7BB-AF6C3B8D4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22B8-4031-4EC6-9EB2-C8F9A15A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3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xas Nodal Program 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BD3-2648-4A18-9145-EBB1743A4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y 4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4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ta Center Server Consoli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vid Forf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ta Center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083C-D432-49E5-A6A5-998747C10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is migrating 73 servers to 4 AIX server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0680" y="1066680"/>
            <a:ext cx="7305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working with all Project Managers and ERC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tees to implement our pl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Plan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dis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the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overal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guard Marke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ffect Texas Set 3.0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3F2A-BD03-4FBF-8814-6131474F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nsolidation addresses critical  Data Center Capacity constrai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122400" y="1727280"/>
          <a:ext cx="866772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727280"/>
                    <a:ext cx="866772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2" descr="C:\Documents and Settings\dforfia\Desktop\Taylor Data Center.jpg"/>
          <p:cNvPicPr/>
          <p:nvPr/>
        </p:nvPicPr>
        <p:blipFill>
          <a:blip r:embed="rId3"/>
          <a:stretch/>
        </p:blipFill>
        <p:spPr>
          <a:xfrm>
            <a:off x="5330880" y="774720"/>
            <a:ext cx="1630440" cy="75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dforfia\Desktop\Austin Data Center.jpg"/>
          <p:cNvPicPr/>
          <p:nvPr/>
        </p:nvPicPr>
        <p:blipFill>
          <a:blip r:embed="rId4"/>
          <a:stretch/>
        </p:blipFill>
        <p:spPr>
          <a:xfrm>
            <a:off x="7621560" y="706320"/>
            <a:ext cx="9032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64C-7B9E-47BB-B91A-E9696954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4"/>
          <p:cNvSpPr/>
          <p:nvPr/>
        </p:nvSpPr>
        <p:spPr>
          <a:xfrm>
            <a:off x="138240" y="988920"/>
            <a:ext cx="3886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5"/>
          <p:cNvSpPr/>
          <p:nvPr/>
        </p:nvSpPr>
        <p:spPr>
          <a:xfrm>
            <a:off x="138240" y="6249960"/>
            <a:ext cx="3886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7"/>
          <p:cNvSpPr/>
          <p:nvPr/>
        </p:nvSpPr>
        <p:spPr>
          <a:xfrm>
            <a:off x="4024440" y="988920"/>
            <a:ext cx="0" cy="5257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20"/>
          <p:cNvSpPr/>
          <p:nvPr/>
        </p:nvSpPr>
        <p:spPr>
          <a:xfrm>
            <a:off x="1128600" y="685800"/>
            <a:ext cx="2081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ion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50"/>
          <p:cNvGrpSpPr/>
          <p:nvPr/>
        </p:nvGrpSpPr>
        <p:grpSpPr>
          <a:xfrm>
            <a:off x="138240" y="990720"/>
            <a:ext cx="3886200" cy="5257800"/>
            <a:chOff x="138240" y="990720"/>
            <a:chExt cx="3886200" cy="5257800"/>
          </a:xfrm>
        </p:grpSpPr>
        <p:sp>
          <p:nvSpPr>
            <p:cNvPr id="165" name="Rectangle 153"/>
            <p:cNvSpPr/>
            <p:nvPr/>
          </p:nvSpPr>
          <p:spPr>
            <a:xfrm>
              <a:off x="138240" y="990720"/>
              <a:ext cx="388620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6"/>
            <p:cNvSpPr/>
            <p:nvPr/>
          </p:nvSpPr>
          <p:spPr>
            <a:xfrm>
              <a:off x="138240" y="99072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70"/>
            <p:cNvSpPr/>
            <p:nvPr/>
          </p:nvSpPr>
          <p:spPr>
            <a:xfrm>
              <a:off x="2881440" y="3160800"/>
              <a:ext cx="9144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1"/>
            <p:cNvSpPr/>
            <p:nvPr/>
          </p:nvSpPr>
          <p:spPr>
            <a:xfrm>
              <a:off x="2043000" y="3160800"/>
              <a:ext cx="838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2"/>
            <p:cNvSpPr/>
            <p:nvPr/>
          </p:nvSpPr>
          <p:spPr>
            <a:xfrm>
              <a:off x="1204920" y="3160800"/>
              <a:ext cx="838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73"/>
            <p:cNvSpPr/>
            <p:nvPr/>
          </p:nvSpPr>
          <p:spPr>
            <a:xfrm>
              <a:off x="2881440" y="275436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m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74"/>
            <p:cNvSpPr/>
            <p:nvPr/>
          </p:nvSpPr>
          <p:spPr>
            <a:xfrm>
              <a:off x="2043000" y="2754360"/>
              <a:ext cx="838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ired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re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75"/>
            <p:cNvSpPr/>
            <p:nvPr/>
          </p:nvSpPr>
          <p:spPr>
            <a:xfrm>
              <a:off x="1204920" y="2754360"/>
              <a:ext cx="838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gr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6"/>
            <p:cNvSpPr/>
            <p:nvPr/>
          </p:nvSpPr>
          <p:spPr>
            <a:xfrm>
              <a:off x="442800" y="3506760"/>
              <a:ext cx="335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77"/>
            <p:cNvSpPr/>
            <p:nvPr/>
          </p:nvSpPr>
          <p:spPr>
            <a:xfrm>
              <a:off x="442800" y="3160800"/>
              <a:ext cx="7621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78"/>
            <p:cNvSpPr/>
            <p:nvPr/>
          </p:nvSpPr>
          <p:spPr>
            <a:xfrm>
              <a:off x="442800" y="2754360"/>
              <a:ext cx="762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rting To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79"/>
            <p:cNvSpPr/>
            <p:nvPr/>
          </p:nvSpPr>
          <p:spPr>
            <a:xfrm>
              <a:off x="442800" y="2408400"/>
              <a:ext cx="3353040" cy="345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80"/>
            <p:cNvSpPr/>
            <p:nvPr/>
          </p:nvSpPr>
          <p:spPr>
            <a:xfrm>
              <a:off x="2576520" y="5845320"/>
              <a:ext cx="12193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.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81"/>
            <p:cNvSpPr/>
            <p:nvPr/>
          </p:nvSpPr>
          <p:spPr>
            <a:xfrm>
              <a:off x="2576520" y="5438880"/>
              <a:ext cx="1219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82"/>
            <p:cNvSpPr/>
            <p:nvPr/>
          </p:nvSpPr>
          <p:spPr>
            <a:xfrm>
              <a:off x="2043000" y="4614840"/>
              <a:ext cx="83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3"/>
            <p:cNvSpPr/>
            <p:nvPr/>
          </p:nvSpPr>
          <p:spPr>
            <a:xfrm>
              <a:off x="2043000" y="4056120"/>
              <a:ext cx="8384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if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84"/>
            <p:cNvSpPr/>
            <p:nvPr/>
          </p:nvSpPr>
          <p:spPr>
            <a:xfrm>
              <a:off x="2043000" y="2205000"/>
              <a:ext cx="8384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85"/>
            <p:cNvSpPr/>
            <p:nvPr/>
          </p:nvSpPr>
          <p:spPr>
            <a:xfrm>
              <a:off x="2043000" y="1928880"/>
              <a:ext cx="838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86"/>
            <p:cNvSpPr/>
            <p:nvPr/>
          </p:nvSpPr>
          <p:spPr>
            <a:xfrm>
              <a:off x="2043000" y="1489320"/>
              <a:ext cx="8384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tir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7"/>
            <p:cNvSpPr/>
            <p:nvPr/>
          </p:nvSpPr>
          <p:spPr>
            <a:xfrm>
              <a:off x="2881440" y="461484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8"/>
            <p:cNvSpPr/>
            <p:nvPr/>
          </p:nvSpPr>
          <p:spPr>
            <a:xfrm>
              <a:off x="2881440" y="4056120"/>
              <a:ext cx="914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maining to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89"/>
            <p:cNvSpPr/>
            <p:nvPr/>
          </p:nvSpPr>
          <p:spPr>
            <a:xfrm>
              <a:off x="2881440" y="220500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90"/>
            <p:cNvSpPr/>
            <p:nvPr/>
          </p:nvSpPr>
          <p:spPr>
            <a:xfrm>
              <a:off x="2881440" y="1928880"/>
              <a:ext cx="9144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91"/>
            <p:cNvSpPr/>
            <p:nvPr/>
          </p:nvSpPr>
          <p:spPr>
            <a:xfrm>
              <a:off x="2881440" y="1489320"/>
              <a:ext cx="914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% Rema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92"/>
            <p:cNvSpPr/>
            <p:nvPr/>
          </p:nvSpPr>
          <p:spPr>
            <a:xfrm>
              <a:off x="1509840" y="5845320"/>
              <a:ext cx="1066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4.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93"/>
            <p:cNvSpPr/>
            <p:nvPr/>
          </p:nvSpPr>
          <p:spPr>
            <a:xfrm>
              <a:off x="1509840" y="543888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t Mi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ytes U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4"/>
            <p:cNvSpPr/>
            <p:nvPr/>
          </p:nvSpPr>
          <p:spPr>
            <a:xfrm>
              <a:off x="1204920" y="4614840"/>
              <a:ext cx="83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95"/>
            <p:cNvSpPr/>
            <p:nvPr/>
          </p:nvSpPr>
          <p:spPr>
            <a:xfrm>
              <a:off x="1204920" y="4056120"/>
              <a:ext cx="838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view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96"/>
            <p:cNvSpPr/>
            <p:nvPr/>
          </p:nvSpPr>
          <p:spPr>
            <a:xfrm>
              <a:off x="1204920" y="2205000"/>
              <a:ext cx="8380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97"/>
            <p:cNvSpPr/>
            <p:nvPr/>
          </p:nvSpPr>
          <p:spPr>
            <a:xfrm>
              <a:off x="1204920" y="1928880"/>
              <a:ext cx="838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8"/>
            <p:cNvSpPr/>
            <p:nvPr/>
          </p:nvSpPr>
          <p:spPr>
            <a:xfrm>
              <a:off x="1204920" y="1489320"/>
              <a:ext cx="838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gr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99"/>
            <p:cNvSpPr/>
            <p:nvPr/>
          </p:nvSpPr>
          <p:spPr>
            <a:xfrm>
              <a:off x="442800" y="5845320"/>
              <a:ext cx="10670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7.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00"/>
            <p:cNvSpPr/>
            <p:nvPr/>
          </p:nvSpPr>
          <p:spPr>
            <a:xfrm>
              <a:off x="442800" y="5438880"/>
              <a:ext cx="1067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-Mi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ytes U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01"/>
            <p:cNvSpPr/>
            <p:nvPr/>
          </p:nvSpPr>
          <p:spPr>
            <a:xfrm>
              <a:off x="442800" y="5092920"/>
              <a:ext cx="3353040" cy="345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base Storage (in G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02"/>
            <p:cNvSpPr/>
            <p:nvPr/>
          </p:nvSpPr>
          <p:spPr>
            <a:xfrm>
              <a:off x="442800" y="4889520"/>
              <a:ext cx="335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03"/>
            <p:cNvSpPr/>
            <p:nvPr/>
          </p:nvSpPr>
          <p:spPr>
            <a:xfrm>
              <a:off x="442800" y="4614840"/>
              <a:ext cx="76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04"/>
            <p:cNvSpPr/>
            <p:nvPr/>
          </p:nvSpPr>
          <p:spPr>
            <a:xfrm>
              <a:off x="442800" y="40561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Fi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05"/>
            <p:cNvSpPr/>
            <p:nvPr/>
          </p:nvSpPr>
          <p:spPr>
            <a:xfrm>
              <a:off x="442800" y="3710160"/>
              <a:ext cx="3353040" cy="345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s/Scrip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06"/>
            <p:cNvSpPr/>
            <p:nvPr/>
          </p:nvSpPr>
          <p:spPr>
            <a:xfrm>
              <a:off x="442800" y="2205000"/>
              <a:ext cx="7621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spcBef>
                  <a:spcPts val="125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07"/>
            <p:cNvSpPr/>
            <p:nvPr/>
          </p:nvSpPr>
          <p:spPr>
            <a:xfrm>
              <a:off x="442800" y="1928880"/>
              <a:ext cx="762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08"/>
            <p:cNvSpPr/>
            <p:nvPr/>
          </p:nvSpPr>
          <p:spPr>
            <a:xfrm>
              <a:off x="442800" y="148932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rting Tot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9"/>
            <p:cNvSpPr/>
            <p:nvPr/>
          </p:nvSpPr>
          <p:spPr>
            <a:xfrm>
              <a:off x="442800" y="1143000"/>
              <a:ext cx="3353040" cy="346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0"/>
            <p:cNvSpPr/>
            <p:nvPr/>
          </p:nvSpPr>
          <p:spPr>
            <a:xfrm>
              <a:off x="442800" y="1143000"/>
              <a:ext cx="33530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11"/>
            <p:cNvSpPr/>
            <p:nvPr/>
          </p:nvSpPr>
          <p:spPr>
            <a:xfrm>
              <a:off x="442800" y="14893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2"/>
            <p:cNvSpPr/>
            <p:nvPr/>
          </p:nvSpPr>
          <p:spPr>
            <a:xfrm>
              <a:off x="442800" y="192888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13"/>
            <p:cNvSpPr/>
            <p:nvPr/>
          </p:nvSpPr>
          <p:spPr>
            <a:xfrm>
              <a:off x="442800" y="22050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14"/>
            <p:cNvSpPr/>
            <p:nvPr/>
          </p:nvSpPr>
          <p:spPr>
            <a:xfrm>
              <a:off x="442800" y="24084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15"/>
            <p:cNvSpPr/>
            <p:nvPr/>
          </p:nvSpPr>
          <p:spPr>
            <a:xfrm>
              <a:off x="442800" y="40561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16"/>
            <p:cNvSpPr/>
            <p:nvPr/>
          </p:nvSpPr>
          <p:spPr>
            <a:xfrm>
              <a:off x="442800" y="46148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7"/>
            <p:cNvSpPr/>
            <p:nvPr/>
          </p:nvSpPr>
          <p:spPr>
            <a:xfrm>
              <a:off x="442800" y="48895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8"/>
            <p:cNvSpPr/>
            <p:nvPr/>
          </p:nvSpPr>
          <p:spPr>
            <a:xfrm>
              <a:off x="442800" y="50929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19"/>
            <p:cNvSpPr/>
            <p:nvPr/>
          </p:nvSpPr>
          <p:spPr>
            <a:xfrm>
              <a:off x="442800" y="543888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20"/>
            <p:cNvSpPr/>
            <p:nvPr/>
          </p:nvSpPr>
          <p:spPr>
            <a:xfrm>
              <a:off x="442800" y="58453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21"/>
            <p:cNvSpPr/>
            <p:nvPr/>
          </p:nvSpPr>
          <p:spPr>
            <a:xfrm>
              <a:off x="1204920" y="1489320"/>
              <a:ext cx="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22"/>
            <p:cNvSpPr/>
            <p:nvPr/>
          </p:nvSpPr>
          <p:spPr>
            <a:xfrm>
              <a:off x="2043000" y="1489320"/>
              <a:ext cx="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23"/>
            <p:cNvSpPr/>
            <p:nvPr/>
          </p:nvSpPr>
          <p:spPr>
            <a:xfrm>
              <a:off x="2881440" y="1489320"/>
              <a:ext cx="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24"/>
            <p:cNvSpPr/>
            <p:nvPr/>
          </p:nvSpPr>
          <p:spPr>
            <a:xfrm>
              <a:off x="1204920" y="4056120"/>
              <a:ext cx="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5"/>
            <p:cNvSpPr/>
            <p:nvPr/>
          </p:nvSpPr>
          <p:spPr>
            <a:xfrm>
              <a:off x="2043000" y="4056120"/>
              <a:ext cx="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6"/>
            <p:cNvSpPr/>
            <p:nvPr/>
          </p:nvSpPr>
          <p:spPr>
            <a:xfrm>
              <a:off x="2881440" y="4056120"/>
              <a:ext cx="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27"/>
            <p:cNvSpPr/>
            <p:nvPr/>
          </p:nvSpPr>
          <p:spPr>
            <a:xfrm>
              <a:off x="3795840" y="1143000"/>
              <a:ext cx="0" cy="4978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28"/>
            <p:cNvSpPr/>
            <p:nvPr/>
          </p:nvSpPr>
          <p:spPr>
            <a:xfrm>
              <a:off x="442800" y="6121440"/>
              <a:ext cx="33530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29"/>
            <p:cNvSpPr/>
            <p:nvPr/>
          </p:nvSpPr>
          <p:spPr>
            <a:xfrm>
              <a:off x="1509840" y="5438880"/>
              <a:ext cx="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30"/>
            <p:cNvSpPr/>
            <p:nvPr/>
          </p:nvSpPr>
          <p:spPr>
            <a:xfrm>
              <a:off x="2576520" y="5438880"/>
              <a:ext cx="0" cy="6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31"/>
            <p:cNvSpPr/>
            <p:nvPr/>
          </p:nvSpPr>
          <p:spPr>
            <a:xfrm>
              <a:off x="442800" y="275436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2"/>
            <p:cNvSpPr/>
            <p:nvPr/>
          </p:nvSpPr>
          <p:spPr>
            <a:xfrm>
              <a:off x="442800" y="3160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33"/>
            <p:cNvSpPr/>
            <p:nvPr/>
          </p:nvSpPr>
          <p:spPr>
            <a:xfrm>
              <a:off x="442800" y="350676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34"/>
            <p:cNvSpPr/>
            <p:nvPr/>
          </p:nvSpPr>
          <p:spPr>
            <a:xfrm>
              <a:off x="442800" y="371016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-50760" bIns="-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35"/>
            <p:cNvSpPr/>
            <p:nvPr/>
          </p:nvSpPr>
          <p:spPr>
            <a:xfrm>
              <a:off x="1204920" y="275436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36"/>
            <p:cNvSpPr/>
            <p:nvPr/>
          </p:nvSpPr>
          <p:spPr>
            <a:xfrm>
              <a:off x="2043000" y="275436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37"/>
            <p:cNvSpPr/>
            <p:nvPr/>
          </p:nvSpPr>
          <p:spPr>
            <a:xfrm>
              <a:off x="2881440" y="275436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44"/>
            <p:cNvSpPr/>
            <p:nvPr/>
          </p:nvSpPr>
          <p:spPr>
            <a:xfrm>
              <a:off x="442800" y="1143000"/>
              <a:ext cx="0" cy="4978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5300280" y="1095120"/>
            <a:ext cx="3398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le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ed 8 datab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mmissioned 4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temporar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presentations for TAC, RMS and CO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 Prog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with MORO and CO Carts for sign-off on Wave 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93600" y="117360"/>
            <a:ext cx="8427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urrent Consolidation efforts have focused on low-hanging fr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C88-593C-4FE1-B3F5-0C498BFE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maining work Potentially Impacts Project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52280" y="1244520"/>
            <a:ext cx="3989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Release Steps To Compl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Te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tential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and availability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the test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enter capacity for th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141800" y="1225440"/>
            <a:ext cx="4981680" cy="4890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et Operations / Retai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77_01 – ERCOT.COM Secured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24_02 -  Enhancements to SCR727 – Market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60101_01- Load Profile Transition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66_04 – Lodestar Upgrade to 4.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61_01 - EDW EAI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70006_01 – Website Enhancements for ERCOT ou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ystem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70 - Unit Testing - Electronic Submittal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4E41-60FC-4798-B3F1-9C1FADFD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798640" y="714240"/>
            <a:ext cx="6345360" cy="5289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93600" y="117360"/>
            <a:ext cx="59961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igh Level Wave Plan - completion by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93600" y="2595600"/>
            <a:ext cx="29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lication  Migration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Te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060F-3ABA-4438-BBF0-983301DB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Forfia</cp:lastModifiedBy>
  <dcterms:modified xsi:type="dcterms:W3CDTF">2007-04-30T21:32:23Z</dcterms:modified>
  <cp:revision>261</cp:revision>
  <dc:subject/>
  <dc:title>Texas Nodal Market Implementation ERCOT Board of Directors Meeting Budget Rationale October 17, 2006  Kathy Hager, Market Redesign Program Director </dc:title>
</cp:coreProperties>
</file>