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74500-FD5C-45BB-B0F3-FDBAB5010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A9E01-85D0-4D16-A653-CD5F72E06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C2E0C-86B0-4833-86C6-F60882D62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4523B-8DFA-42AB-B3BD-4CE36B55D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4EA9BD-9FD9-4817-BE04-0EB42E82A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0ED99-1DFD-4CBD-87CF-15B11D534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82260-7E01-4191-A111-1523C6D23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C4371-4C35-4162-943A-DA7E9FF47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913B2-C1AF-480C-A7C9-6725C556FB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097C9-78B7-4347-A4FD-2CEDB77C1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C8210-9EAA-4FF1-AE38-F0D1506EC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9D06-9EF0-439E-94BB-A605DFAF56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F8426-3195-4CBD-ACA2-A36E668512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WG Long Term Strateg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we maximize scarce re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 on AMR </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cerpt  from working notes document of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15, 2006 COMET working group.</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p has consensus that, at a minimum, for residential customers the data granularity required is daily consumption data with the functionality to go to hourly data to support TOU offering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oup has consensus that, at a minimum, for C&amp;I customers the data granularity required is daily consumption data with the functionality to go to hourly data to support TOU offerings and  fifteen minute data to support the IDR threshold in the ERCOT Marke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s on AMR </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use Bill 2129</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8 (A) – Encourages TDU’s to do AM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8 (B) requires even year updates to legislature from PUC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800" spc="-1" strike="noStrike">
                <a:solidFill>
                  <a:srgbClr val="000000"/>
                </a:solidFill>
                <a:latin typeface="Arial"/>
              </a:rPr>
              <a:t>PUCT Project #31418</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T is developing recommendations now.</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wman Rule ~ end of summer 2006</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Rul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XUED Committed?</a:t>
            </a:r>
            <a:endParaRPr b="0" lang="en-US" sz="2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year roll out indicated in press releas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gged Dynamic Issu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roll out in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and MP system focus shifts to Nodal design in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ere testing and development bandwidth to do this bef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ideal state for PWG?</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les exist to allow  division of non-IDR meter readings and non-metered loads into smaller time periods to allow for real time settlement.</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ll ESIID’s had IDR meters we would not need profiles.</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current state for PWG?</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rofiles are based on very old research data that was actually gathered to allow prediction of peak demand.</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les are assigned based on load characteristics that allow for significant profile assignment migration year over year.</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ummary: NOT DESIRABL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e next state? (Today+1)</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 in 2006, perhaps the first “demographic” based profile shall be introduced.    Much better for those ESIID’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006 a more stable assignment mechanism will be introduced that will cover 85% of all ESIID’s and load.</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Better but not ide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ay + 2</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 in 2007 the current profiles will be updated based on current load research data that has an 90/15 accuracy rating.  Ongoing migrations will be limited to about 3% of ESIID’s annually.</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About as good as static profiles can g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Today +3  (Iterat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 in 2008 there could be further updated profile releases with 90/10 or better accuracy criteria and further reductions in migration.</a:t>
            </a:r>
            <a:endParaRPr b="0" lang="en-US" sz="3200" spc="-1" strike="noStrike">
              <a:solidFill>
                <a:srgbClr val="000000"/>
              </a:solidFill>
              <a:latin typeface="Arial"/>
            </a:endParaRPr>
          </a:p>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Maintains the best static profiles  we can g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sible Today +3  (Lagged Dynamic)</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 protocol and guide language supports lagged dynamic profiling.   Significant ERCOT and MP system changes would be required some time in 2008 or 2009 time frame.</a:t>
            </a:r>
            <a:endParaRPr b="0" lang="en-US" sz="2800" spc="-1" strike="noStrike">
              <a:solidFill>
                <a:srgbClr val="000000"/>
              </a:solidFill>
              <a:latin typeface="Arial"/>
            </a:endParaRPr>
          </a:p>
          <a:p>
            <a:pPr marL="5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LRS meters be used  for this or do we to deploy a new sample as well?</a:t>
            </a:r>
            <a:endParaRPr b="0" lang="en-US" sz="2800" spc="-1" strike="noStrike">
              <a:solidFill>
                <a:srgbClr val="000000"/>
              </a:solidFill>
              <a:latin typeface="Arial"/>
            </a:endParaRPr>
          </a:p>
          <a:p>
            <a:pPr marL="5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Still require profiles for initial settlement but much more accurate finals and true ups.</a:t>
            </a:r>
            <a:endParaRPr b="0" lang="en-US" sz="2800" spc="-1" strike="noStrike">
              <a:solidFill>
                <a:srgbClr val="000000"/>
              </a:solidFill>
              <a:latin typeface="Arial"/>
            </a:endParaRPr>
          </a:p>
          <a:p>
            <a:pPr marL="58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sible Today +3  (Demographics)</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demographic profile in is likely in 2006, why not create others?</a:t>
            </a:r>
            <a:endParaRPr b="0" lang="en-US" sz="3200" spc="-1" strike="noStrike">
              <a:solidFill>
                <a:srgbClr val="000000"/>
              </a:solidFill>
              <a:latin typeface="Arial"/>
            </a:endParaRPr>
          </a:p>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Still profiles but more accurate?</a:t>
            </a:r>
            <a:endParaRPr b="0" lang="en-US" sz="3200" spc="-1" strike="noStrike">
              <a:solidFill>
                <a:srgbClr val="000000"/>
              </a:solidFill>
              <a:latin typeface="Arial"/>
            </a:endParaRPr>
          </a:p>
          <a:p>
            <a:pPr marL="58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sible Today +3  (Advanced Meters)</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8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granularity of daily reads.   Not  clear if all rural meters will be included.  Need a profile to spread daily cut into intervals.  Best case is 2008 some meter data starts to roll in. </a:t>
            </a:r>
            <a:endParaRPr b="0" lang="en-US" sz="2800" spc="-1" strike="noStrike">
              <a:solidFill>
                <a:srgbClr val="000000"/>
              </a:solidFill>
              <a:latin typeface="Arial"/>
            </a:endParaRPr>
          </a:p>
          <a:p>
            <a:pPr marL="58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8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Profiling still required but at a much different level.  (Profile within a day rather than a mon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9T18:28:24Z</dcterms:created>
  <dc:creator>Brad Boles</dc:creator>
  <dc:description/>
  <dc:language>en-US</dc:language>
  <cp:lastModifiedBy>ERCOT</cp:lastModifiedBy>
  <dcterms:modified xsi:type="dcterms:W3CDTF">2006-05-22T21:27:16Z</dcterms:modified>
  <cp:revision>7</cp:revision>
  <dc:subject/>
  <dc:title>PWG Long Term Strategy</dc:title>
</cp:coreProperties>
</file>