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479-A497-425F-AA47-9B5270C6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2DD4-DF66-4B22-9D08-E46CC2B6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866-E651-4A10-8CF9-D27852EE8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8335-551B-4DE3-920D-5934B161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426-34CC-4B4E-989B-471355AF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361-6D79-4B86-9A01-26B61CFF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68A-D117-46A7-9126-B61B0741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EFC-1055-4AE5-974E-8CE35AC2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1887-345B-43A7-A5B1-5A4AF439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0FA0-27AB-4058-8D33-B17118CF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23A-1CD8-48A9-AD90-92AC4CCC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589-44E9-4A37-900E-9A657DE6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3DB5-676F-466A-9F58-6A0C6261C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75284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V="1">
            <a:off x="0" y="1219320"/>
            <a:ext cx="9144000" cy="936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view of Impacts to UFE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 Ratio Sha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AV Profile ID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ERCOT Staff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/26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1493640" cy="15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8923-23F1-43D5-B0A0-F63A1E198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20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 Abs. Percentage Point Change in U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2120" y="1225440"/>
            <a:ext cx="7615080" cy="563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F91E-B3EA-4195-A3C2-E38E4383D782}" type="slidenum">
              <a:t>10</a:t>
            </a:fld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FE in 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0960" y="1211400"/>
            <a:ext cx="7630920" cy="56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D76-CBCF-4941-A3EB-0F2F064E9F03}" type="slidenum">
              <a:t>11</a:t>
            </a:fld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5943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the Profile I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affec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ad Ratio S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1805040" cy="13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2E0-D2C1-421D-A869-94D536588522}" type="slidenum">
              <a:t>12</a:t>
            </a:fld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and 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686-15EC-4877-8CF1-FA472A36A69A}" type="slidenum">
              <a:t>13</a:t>
            </a:fld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and 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57160" y="1216080"/>
            <a:ext cx="7472520" cy="564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A34-FD12-4C07-83BD-33A3094B20FC}" type="slidenum">
              <a:t>14</a:t>
            </a:fld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and 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47800" y="1208160"/>
            <a:ext cx="7481880" cy="56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E72-B8A0-4728-8666-7D2D307F2F28}" type="slidenum">
              <a:t>15</a:t>
            </a:fld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and MW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1201680"/>
            <a:ext cx="7491600" cy="565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434B-220B-49D3-9DD4-FD97C07BC078}" type="slidenum">
              <a:t>16</a:t>
            </a:fld>
          </a:p>
        </p:txBody>
      </p:sp>
    </p:spTree>
  </p:cSld>
  <p:transition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by LS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5800" y="1214280"/>
            <a:ext cx="7643880" cy="564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053-FB2F-4BB0-95C0-54EE6DCB4E73}" type="slidenum">
              <a:t>17</a:t>
            </a:fld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by LS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214280"/>
            <a:ext cx="7643880" cy="564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FBF-4211-4327-B4F0-EC7EAD84C6D3}" type="slidenum">
              <a:t>18</a:t>
            </a:fld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by LS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1231920"/>
            <a:ext cx="7620120" cy="562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72D-D4EE-4008-8874-3AE98121172E}" type="slidenum">
              <a:t>19</a:t>
            </a:fld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est Settlements to See Effects of 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13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test environment to run settlements for different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a sample of 30 (or so) days to analy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est settlements with currently assigned Profile IDs and capture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st environment, change Profile IDs as directed by the Annual Valid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est settlements with changed Profile IDs and captur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changes in UFE and Load Ratio Sh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93B-BAAB-4432-BEB6-498EA06EA7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by LS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1216080"/>
            <a:ext cx="7643520" cy="564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535-6A70-418D-A427-FB5E8E53CC34}" type="slidenum">
              <a:t>20</a:t>
            </a:fld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for One 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960" y="1220760"/>
            <a:ext cx="755316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8BA-B87F-4D0D-B4A8-5AE7BB9199DA}" type="slidenum">
              <a:t>21</a:t>
            </a:fld>
          </a:p>
        </p:txBody>
      </p:sp>
    </p:spTree>
  </p:cSld>
  <p:transition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for One 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960" y="1220760"/>
            <a:ext cx="7553160" cy="563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96B-02AA-4775-BE80-AF689FE7312B}" type="slidenum">
              <a:t>22</a:t>
            </a:fld>
          </a:p>
        </p:txBody>
      </p:sp>
    </p:spTree>
  </p:cSld>
  <p:transition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in Load Ratio Share for One 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227240"/>
            <a:ext cx="7543800" cy="56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D828-477E-40A0-887F-C481EE7250FF}" type="slidenum">
              <a:t>23</a:t>
            </a:fld>
          </a:p>
        </p:txBody>
      </p:sp>
    </p:spTree>
  </p:cSld>
  <p:transition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LP Staff’s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800760" y="4343400"/>
            <a:ext cx="2343240" cy="2361960"/>
            <a:chOff x="6800760" y="4343400"/>
            <a:chExt cx="2343240" cy="236196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6800760" y="4343400"/>
              <a:ext cx="23432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942320" y="4724280"/>
              <a:ext cx="914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ose ERCOT guys sure seem to know what they’re doing..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with submission of 2005 Annual Validation Profile ID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PWG-sponsored efforts to improve the Profile Type assignment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nsideration of shifting Profile Type calculation responsibilities to ERCOT primarily to allow use of several years worth of data in th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671-8819-4A7A-80DE-D5F0F94032A1}" type="slidenum">
              <a:t>24</a:t>
            </a:fld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Days to Analy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d ERCOT-wide Residential load pro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ghted Weather Zone load profile by ESI ID 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ed Heating Degree Days and Cooling Degree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ed at daily kWh as a percentage of monthly kW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timately segmented based on the following rat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905120" y="4648320"/>
            <a:ext cx="5257800" cy="671040"/>
            <a:chOff x="1905120" y="4648320"/>
            <a:chExt cx="5257800" cy="671040"/>
          </a:xfrm>
        </p:grpSpPr>
        <p:sp>
          <p:nvSpPr>
            <p:cNvPr id="51" name=""/>
            <p:cNvSpPr/>
            <p:nvPr/>
          </p:nvSpPr>
          <p:spPr>
            <a:xfrm>
              <a:off x="1905120" y="4648320"/>
              <a:ext cx="52578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HIWR daily kWh / RESHIWR monthly kW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LOWR daily kWh / RESLOWR monthly kW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33560" y="4981680"/>
              <a:ext cx="5181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369-98B2-407E-91CC-0C182D1CF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Days to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1173240"/>
            <a:ext cx="7620120" cy="568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6EC-1619-4308-990E-1D30786580F1}" type="slidenum">
              <a:t>4</a:t>
            </a:fld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5943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the Profile I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affec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F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892080" cy="17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B8A-4875-40B2-B252-85EBBFFC634E}" type="slidenum">
              <a:t>5</a:t>
            </a:fld>
          </a:p>
        </p:txBody>
      </p:sp>
    </p:spTree>
  </p:cSld>
  <p:transition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FE for Trade Date 12/23/04 (Stratum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87320" y="1162080"/>
            <a:ext cx="7575480" cy="569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5C0-074A-4F61-8DA6-29C2F4C15937}" type="slidenum">
              <a:t>6</a:t>
            </a:fld>
          </a:p>
        </p:txBody>
      </p:sp>
    </p:spTree>
  </p:cSld>
  <p:transition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FE for Trade Date 11/16/04 (Stratum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3520" y="941400"/>
            <a:ext cx="7867440" cy="59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A58-C9C4-42EC-A046-5E04DC4AEED7}" type="slidenum">
              <a:t>7</a:t>
            </a:fld>
          </a:p>
        </p:txBody>
      </p:sp>
    </p:spTree>
  </p:cSld>
  <p:transition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FE for Trade Date 04/27/05 (Stratum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932040"/>
            <a:ext cx="7848360" cy="59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A5C3-67F1-4132-9F7F-FFD10ED295AD}" type="slidenum">
              <a:t>8</a:t>
            </a:fld>
          </a:p>
        </p:txBody>
      </p:sp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FE for Trade Date 02/11/05 (Stratum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1127160"/>
            <a:ext cx="7610400" cy="5730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3143-54AD-49FD-B402-0417292818DF}" type="slidenum">
              <a:t>9</a:t>
            </a:fld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16:39:25Z</dcterms:created>
  <dc:creator>craish</dc:creator>
  <dc:description/>
  <dc:language>en-US</dc:language>
  <cp:lastModifiedBy>AMarquez</cp:lastModifiedBy>
  <dcterms:modified xsi:type="dcterms:W3CDTF">2005-10-25T22:00:36Z</dcterms:modified>
  <cp:revision>67</cp:revision>
  <dc:subject/>
  <dc:title>Slide 1</dc:title>
</cp:coreProperties>
</file>