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850-9CEF-4B46-AB32-6C0806BC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6C8-051F-4F75-B379-143ACE8D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F6A-C426-4940-8162-4FFE0468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4F0-754C-4EF5-8ADF-362D4AE0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E3F9-CE34-4599-AC7B-230ADE3D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CBE-9C38-4A23-8FC6-888D1830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CA6-B685-4FDB-9670-CF8DF5C0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5D1-5F73-4249-A412-6D461E4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80F-7D54-4111-8450-60E6AEE2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BBD-E9AA-49D4-8689-20E6A27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DEF-853C-4283-994C-19526665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071-DF89-402E-AA54-0197C969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C606-A197-4073-BB85-17B12B057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5400" y="2130120"/>
            <a:ext cx="7764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COT Staff Analysis of Weather Sensitivity Code Chan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46040" y="3929040"/>
            <a:ext cx="6400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8,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6301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ysis 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4120" y="1547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based on currently active ID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both NOIE and IOU ESI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prospective changes based on ERCOT’s 2004 assignment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period is market open to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5CE-1269-4D7A-9804-046E6519F5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rent Weather Sensitivity Code Assignment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d Change 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7760" y="1239840"/>
            <a:ext cx="622116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5920" y="3697200"/>
            <a:ext cx="6835680" cy="189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34800" y="3274920"/>
            <a:ext cx="76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out 28%  of current ESIIDs classified as weather sensitive, 23% for IOUs and 63% for NO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5480" y="5772240"/>
            <a:ext cx="67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out 26%  of current ESIIDs have had one or more code changes since market 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893-9FF1-4DF9-BDC6-078895E787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eather Sensitivity Code Ch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59160" y="3697200"/>
            <a:ext cx="5491080" cy="2386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09600" y="1136520"/>
            <a:ext cx="5530680" cy="2292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646600" y="177804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0% of IOU, 70% of NOIE  ESIIDs with no assignment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52280" y="4351320"/>
            <a:ext cx="253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bout 14%  of current ESIIDs are changing as a result of 2004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5A0-A24A-4E7E-BD0B-3BB6BC6D8F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236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ar-by-Year Weather Sensitivity Cod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9600" y="1469880"/>
            <a:ext cx="3954600" cy="1470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10160" y="1469880"/>
            <a:ext cx="3956040" cy="1470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47760" y="3870360"/>
            <a:ext cx="3916440" cy="1455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640400" y="3881520"/>
            <a:ext cx="3887640" cy="1444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148360" y="3121200"/>
            <a:ext cx="29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 had a significant migration (88% of changes) to 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1880" y="5502240"/>
            <a:ext cx="314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4 had a significant migration (69% of changes) to NW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87920" y="5502240"/>
            <a:ext cx="372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7% of ESIIDs with 2004 changes were reverting to pre-2003 cod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720" y="3121200"/>
            <a:ext cx="326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2 WS Review was not Performed by ERCO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142-2A3F-43AD-B1AE-A147D6E3BB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Action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3360" y="1201680"/>
            <a:ext cx="833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inue using current methodology … current data loading rates lower the impact of applying proxy d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 all IDRs to WS … WS proxy day routine okay for most ESIIDs and falls back to NWS proxy day if no suitable days are fo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ign all IDRs to NWS … reduced processing for proxy day routine, may not introduce that much inaccu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ever … if Initial Settlement is moved from 17 to 10 days, the proxy day routine will be invoked more often … a less accurate routine will increase profiling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duct analysis to improve WS assignment 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ok at R-square distrib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 multiple-year window for the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orporate additional variable(s) e.g. summer ratio, kW/kWh minimu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lier analysis e.g. some ESIIDs have large year-to-year changes in R-squ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y dead-b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4787-76C4-4E23-AC6B-0B6FA271DA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ERCOT&amp;CNP</cp:lastModifiedBy>
  <cp:lastPrinted>2002-05-17T20:57:43Z</cp:lastPrinted>
  <dcterms:modified xsi:type="dcterms:W3CDTF">2006-03-09T17:19:43Z</dcterms:modified>
  <cp:revision>293</cp:revision>
  <dc:subject/>
  <dc:title>Retail Transactions Report</dc:title>
</cp:coreProperties>
</file>