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35B-F3D8-4EF1-92ED-E968FB8D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9E8-F80E-44A9-985A-7681D3CE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41D-EBC3-493A-965F-F6EDD3EF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C90-4D83-4E2C-A3B5-7BC58470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C2F1-0B29-4759-9E14-2895B820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962C-EEDA-48C6-82A7-43C31552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D5DA-E796-4E1B-9F1C-08BB11F8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DDB5-64D8-437E-ACED-41D9DF2B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9A09-54B9-4360-A626-EAA322FB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B8D1-E3D1-4875-9AE8-64294E7E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A338-8148-4521-AFD7-528CB80D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47DC-C485-4F61-A687-11EB3208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2FC6-8ABE-47BC-9EAE-0D1BE027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F78C-A75B-4590-9C47-5E23B837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24C0-FFE3-444F-BA4F-99FC0397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EFB1-1CDD-4AB3-9929-BA857EC3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148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42800" y="13716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52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148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42800" y="3799800"/>
            <a:ext cx="2600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3DF-44A9-43F0-857E-5F0591F4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B12-CAA5-4CB8-9F74-D360D044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22F3-A5A4-47FF-9EAE-6B07426A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4D4-392A-4F3D-9B05-D47B388F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805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1096-F489-464C-A9CD-B6A7A400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0146-894D-4720-ABEA-CB869C61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7998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2668-DC78-4194-89FE-05224B79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371600"/>
            <a:ext cx="3941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99800"/>
            <a:ext cx="80773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1BB5-9B27-43FF-B44D-2A1ED4C6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839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106D-5F2B-4EB0-B3B1-5203111AD923}" type="slidenum"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12193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83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40044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28C3-1CEA-473B-929C-A1A334D35F10}" type="slidenum">
              <a:rPr b="0" lang="en-US" sz="10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219320"/>
            <a:ext cx="6172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ERCOT</a:t>
            </a:r>
            <a:endParaRPr b="0" lang="en-US" sz="40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1640" y="2666880"/>
            <a:ext cx="4267080" cy="38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RS Detail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ample Design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WG Presentation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pril 24, 2007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5D9E-AFB3-4C1A-897F-4DB5C8ED22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839"/>
                </a:solidFill>
                <a:latin typeface="Arial Black"/>
              </a:rPr>
              <a:t>Retainable Round 1 Sample Points  </a:t>
            </a:r>
            <a:endParaRPr b="0" lang="en-US" sz="24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08200" y="4887720"/>
            <a:ext cx="752760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able shows retainable secondary sample points only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Non retained sample points may be selected for the round 2 sampl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DSPs should consider waiting until round 2 sample list is provided to start recorder removal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0480" y="1316160"/>
            <a:ext cx="6619680" cy="150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39640" y="2968560"/>
            <a:ext cx="2190960" cy="181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3073320" y="2992320"/>
            <a:ext cx="5646960" cy="180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AA6-13EE-4D97-88E4-A21113D813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quired RESHI Sample Size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673280" y="1284120"/>
            <a:ext cx="6124680" cy="544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FBD-D8D1-420A-9DDD-08270FE528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quired RESLO Sample Size</a:t>
            </a:r>
            <a:r>
              <a:rPr b="0" lang="en-US" sz="2400" spc="-1" strike="noStrike">
                <a:solidFill>
                  <a:srgbClr val="00b83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73280" y="1300320"/>
            <a:ext cx="6124680" cy="51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36D-C0D8-4534-96BE-AA3393E5CB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quired BUSHI Sample Size</a:t>
            </a:r>
            <a:r>
              <a:rPr b="0" lang="en-US" sz="2400" spc="-1" strike="noStrike">
                <a:solidFill>
                  <a:srgbClr val="00b83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076400" y="1316160"/>
            <a:ext cx="7076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9CB-D6D1-48DA-AD2E-E6DC433E4D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quired BUSLO Sample Size</a:t>
            </a:r>
            <a:r>
              <a:rPr b="0" lang="en-US" sz="2400" spc="-1" strike="noStrike">
                <a:solidFill>
                  <a:srgbClr val="00b83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68280" y="1284120"/>
            <a:ext cx="6681960" cy="514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13A-A542-42CA-8E1B-8E75446578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quired BUSMED Sample Size</a:t>
            </a:r>
            <a:r>
              <a:rPr b="0" lang="en-US" sz="2400" spc="-1" strike="noStrike">
                <a:solidFill>
                  <a:srgbClr val="00b83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46040" y="1292400"/>
            <a:ext cx="6605640" cy="49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BC7-66B3-4C92-88E0-A9D7BA1716F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quired BUSNODEM Sample Size</a:t>
            </a:r>
            <a:r>
              <a:rPr b="0" lang="en-US" sz="2400" spc="-1" strike="noStrike">
                <a:solidFill>
                  <a:srgbClr val="00b839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46000" y="1316160"/>
            <a:ext cx="7452000" cy="471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685-D33E-40DB-8E40-622C1BE6A1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SHI Retained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692360" y="1284120"/>
            <a:ext cx="6124320" cy="544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90B-E1AB-43B5-B51E-41DC729FB8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73280" y="1316160"/>
            <a:ext cx="6124680" cy="5124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SLO Retained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E31A-484F-43CB-AA4C-23CEBB9D8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HI Retained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43000" y="1316160"/>
            <a:ext cx="707724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669-5FEA-4E61-8440-98A101C039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741708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High-level Sample Design Review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Detail Sample Design and Allocation to TDSPs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ample Point Retention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New Primary and Backup Sample Point Selection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50D-0DCD-44BD-820E-FB1AAFF72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LO Retained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71760" y="1297080"/>
            <a:ext cx="6610320" cy="508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488-2D6A-4F7D-A03D-4DFB9EF77B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06120" y="38052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MED Retained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1254240"/>
            <a:ext cx="7077240" cy="52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631-D7BD-492D-8314-9AE9A2CD66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06480" y="380520"/>
            <a:ext cx="7337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NODEM Retained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335240" y="1393920"/>
            <a:ext cx="707688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F9B9-47A0-41FF-8233-FEF1BD63DB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SHI New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11440" y="1284120"/>
            <a:ext cx="6124320" cy="544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61C-2F7D-45AB-90F9-D278CEE6F0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ESLO New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711440" y="1278000"/>
            <a:ext cx="6124320" cy="51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D80-0F5A-4904-8D28-99CBDD8C14C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HI New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258920" y="1278000"/>
            <a:ext cx="7076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E92-5941-4D83-BDA4-CEB815CA88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LO New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308240" y="1289160"/>
            <a:ext cx="6572160" cy="50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B8C-6A45-42B5-A244-E0F280E6C71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MED New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30480" y="1316160"/>
            <a:ext cx="6759360" cy="504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B484-4ED6-480A-938C-D785AF33D4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Round 2 – </a:t>
            </a:r>
            <a:br>
              <a:rPr sz="2800"/>
            </a:b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BUSNODEM New Sample Points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16000" y="1316160"/>
            <a:ext cx="7373880" cy="42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159F-F989-4AE0-9DB8-E7F51B640E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 Black"/>
              </a:rPr>
              <a:t>Round</a:t>
            </a:r>
            <a:r>
              <a:rPr b="0" lang="en-US" sz="2800" spc="-1" strike="noStrike">
                <a:solidFill>
                  <a:srgbClr val="00b839"/>
                </a:solidFill>
                <a:latin typeface="Arial Black"/>
              </a:rPr>
              <a:t> 2 – TDSP Summary</a:t>
            </a:r>
            <a:endParaRPr b="0" lang="en-US" sz="28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923760" y="1833480"/>
            <a:ext cx="738036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3ED-3DF8-46E2-85E1-05D6BCCB88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Final Round 2 High Level Design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93720" y="5320800"/>
            <a:ext cx="771840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otal sample size 9,160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01480" y="1316160"/>
            <a:ext cx="7950240" cy="2571120"/>
            <a:chOff x="501480" y="1316160"/>
            <a:chExt cx="7950240" cy="257112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501480" y="1722240"/>
              <a:ext cx="7950240" cy="21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1200" y="1316160"/>
              <a:ext cx="7912080" cy="3988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c1c1c"/>
                  </a:solidFill>
                  <a:latin typeface="Arial"/>
                </a:rPr>
                <a:t>Round 2 Sample</a:t>
              </a:r>
              <a:endParaRPr b="0" lang="en-US" sz="20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922400" y="3998880"/>
            <a:ext cx="5145120" cy="11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209B-36FE-4F37-A5D0-8D19127419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30160" y="3805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 Black"/>
              </a:rPr>
              <a:t>Round 2 – TDSP Summary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23760" y="1700280"/>
            <a:ext cx="772668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338-7A37-4E50-9E9A-960E13CD70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677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 Black"/>
              </a:rPr>
              <a:t>Next Steps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1880" y="1585440"/>
            <a:ext cx="768024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WG will discuss installation timelines for the new IDR installs and other issues related to Round 2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WG will work on LPG Section 15 to reflect PUCT Rule and procedures being adopted to conduct load research in the ERCOT marke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4833-8A33-474E-ACCB-97E079AFAF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Detail Sample Design Inputs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741708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Error Ratios in each sample cell 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edian value used within each cell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eliminary sample size in each cell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Load factor in each cell (from LRS results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opulation data at the ESIID level including annualized kWh to be used as the basis for stratification within cell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8DB-938A-423A-BCB5-BF86BC107A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Detail Sample Design Inputs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93720" y="1355760"/>
            <a:ext cx="7910280" cy="5414760"/>
            <a:chOff x="693720" y="1355760"/>
            <a:chExt cx="7910280" cy="541476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693720" y="1355760"/>
              <a:ext cx="3961440" cy="541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4866480" y="1355760"/>
              <a:ext cx="3737520" cy="290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608800" y="4735440"/>
            <a:ext cx="2226960" cy="15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C6E2-0FE1-4C7F-942C-87776E5940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Determine Stratum Boundaries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4960" y="1525320"/>
            <a:ext cx="741672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Model Based sample design was used to determine stratum boundaries and sample allocation to strata (equal allocation results)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Number of strata within a cell was specified based on the cell total sample siz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Minimum sample size within a stratum is 40 (3 strata for cells with 120 total points)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rror Ratios in each sample cell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Maximum number of strata is 5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Model Based stratification occasionally resulted in additional certainty strata (100% sampling within the stratum)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aused by ESIIDs with unusually high or low usage values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liminated by changing the boundary to include the ESIIDs in the adjacent stratum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Primary voltage ESIIDs were included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in the population for all cells except th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4 identified as having significant proportio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of the load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These four were treated as separate strata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within each cel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418000" y="4352760"/>
            <a:ext cx="2764080" cy="207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54D-1F4E-4D51-A6BC-69906D24F3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68320" y="380520"/>
            <a:ext cx="681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Determine TDSP Sample Allocation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4960" y="1525320"/>
            <a:ext cx="741672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termine percent of ESIIDs within each stratum by TDSP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ssign proportional share of sample points to each TDSP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pply TDSP valid data factor to their share of the sample points and round up to the nearest whole number to account for expected valid data collection rate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21040" y="4667400"/>
            <a:ext cx="2151000" cy="18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6831-46F6-46BD-B087-F96DA730CC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Sample Point Retention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525320"/>
            <a:ext cx="80312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Retainable Round 1 sample points for each TDSP were identified by  cell and stratum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XUED new load research sample points also were identified by  cell and stratum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he number of additional sample points needed by cell and stratum was determined for each TDSP, within each cell and stratum :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or TXUED: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spcBef>
                <a:spcPts val="14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RCOT new points = required sample size – retained points – TXUED new points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For all other TDSPs: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ERCOT new points = required sample size – retained points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25000"/>
              </a:lnSpc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1F9-AAAF-40CF-AF03-8BB4BC8CEE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574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839"/>
                </a:solidFill>
                <a:latin typeface="Arial"/>
              </a:rPr>
              <a:t>Sample Point Lists</a:t>
            </a:r>
            <a:endParaRPr b="0" lang="en-US" sz="3200" spc="-1" strike="noStrike">
              <a:solidFill>
                <a:srgbClr val="00b839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4600" y="1278000"/>
            <a:ext cx="8031240" cy="51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Three sample point lists will be provided to TDSPs for both the RES and BUS profile groups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etainable Round 1 sample points for each TDSP were identified by  cell and stratum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The number of new sample points needed by cell and stratum was determined for each TDSP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TXUED new load research sample points also were identified by cell and stratum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within each cell and stratum :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ERCOT new points = required sample size – retained point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400"/>
              </a:spcBef>
              <a:spcAft>
                <a:spcPts val="400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The number of retained sample points by cell and stratum was determined for each TDSP :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1225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Retained Sample Points = LRS Rnd1 Retainable Points + (TXUED new LR points)**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225"/>
              </a:spcBef>
              <a:spcAft>
                <a:spcPts val="3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A list of Backup (Replacement) Sample Points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 by cell and stratum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# of Backup Sample points = Max(25, Required Count * 15)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** Applied to TXUED proportionate share of required sample points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4D6-B0AD-4EF5-BA63-E6EFD17A4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9:07:33Z</dcterms:created>
  <dc:creator>twerkheiser</dc:creator>
  <dc:description/>
  <cp:keywords/>
  <dc:language>en-US</dc:language>
  <cp:lastModifiedBy>DOtt</cp:lastModifiedBy>
  <dcterms:modified xsi:type="dcterms:W3CDTF">2007-04-25T14:44:48Z</dcterms:modified>
  <cp:revision>118</cp:revision>
  <dc:subject/>
  <dc:title>ERCO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33</vt:lpwstr>
  </property>
</Properties>
</file>