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4.wmf" ContentType="image/x-wmf"/>
  <Override PartName="/ppt/media/image25.wmf" ContentType="image/x-wmf"/>
  <Override PartName="/ppt/media/image3.jpeg" ContentType="image/jpeg"/>
  <Override PartName="/ppt/media/image28.wmf" ContentType="image/x-wmf"/>
  <Override PartName="/ppt/media/image5.wmf" ContentType="image/x-wmf"/>
  <Override PartName="/ppt/media/image35.wmf" ContentType="image/x-wmf"/>
  <Override PartName="/ppt/media/image4.jpeg" ContentType="image/jpeg"/>
  <Override PartName="/ppt/media/image38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6.wmf" ContentType="image/x-wmf"/>
  <Override PartName="/ppt/media/image36.wmf" ContentType="image/x-wmf"/>
  <Override PartName="/ppt/media/image37.wmf" ContentType="image/x-wmf"/>
  <Override PartName="/ppt/media/image42.wmf" ContentType="image/x-wmf"/>
  <Override PartName="/ppt/media/image31.wmf" ContentType="image/x-wmf"/>
  <Override PartName="/ppt/media/image32.wmf" ContentType="image/x-wmf"/>
  <Override PartName="/ppt/media/image44.wmf" ContentType="image/x-wmf"/>
  <Override PartName="/ppt/media/image33.wmf" ContentType="image/x-wmf"/>
  <Override PartName="/ppt/media/image45.wmf" ContentType="image/x-wmf"/>
  <Override PartName="/ppt/media/image34.wmf" ContentType="image/x-wmf"/>
  <Override PartName="/ppt/media/image46.wmf" ContentType="image/x-wmf"/>
  <Override PartName="/ppt/media/image51.wmf" ContentType="image/x-wmf"/>
  <Override PartName="/ppt/media/image43.wmf" ContentType="image/x-wmf"/>
  <Override PartName="/ppt/media/image53.jpeg" ContentType="image/jpeg"/>
  <Override PartName="/ppt/media/image52.wmf" ContentType="image/x-wmf"/>
  <Override PartName="/ppt/media/image15.wmf" ContentType="image/x-wmf"/>
  <Override PartName="/ppt/media/image3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1.jpeg" ContentType="image/jpeg"/>
  <Override PartName="/ppt/media/image50.wmf" ContentType="image/x-wmf"/>
  <Override PartName="/ppt/media/image9.wmf" ContentType="image/x-wmf"/>
  <Override PartName="/ppt/media/image39.wmf" ContentType="image/x-wmf"/>
  <Override PartName="/ppt/media/image49.wmf" ContentType="image/x-wmf"/>
  <Override PartName="/ppt/media/image12.wmf" ContentType="image/x-wmf"/>
  <Override PartName="/ppt/media/image41.wmf" ContentType="image/x-wmf"/>
  <Override PartName="/ppt/media/image8.png" ContentType="image/png"/>
  <Override PartName="/ppt/media/image16.wmf" ContentType="image/x-wmf"/>
  <Override PartName="/ppt/media/image7.png" ContentType="image/png"/>
  <Override PartName="/ppt/media/image4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EF9A-BD43-413A-A8CC-A3F68CBD9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62481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920" y="4526640"/>
            <a:ext cx="62481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15CE-7397-468E-BFC6-69BE35AF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30488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9760" y="3809880"/>
            <a:ext cx="30488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920" y="4526640"/>
            <a:ext cx="30488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9760" y="4526640"/>
            <a:ext cx="30488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CF24-7538-49E1-AF60-D52162F37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20116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0400" y="3809880"/>
            <a:ext cx="20116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73240" y="3809880"/>
            <a:ext cx="20116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920" y="4526640"/>
            <a:ext cx="20116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0400" y="4526640"/>
            <a:ext cx="20116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73240" y="4526640"/>
            <a:ext cx="20116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905C-1418-4113-ABEE-218B34F05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0CCB-A79C-4AD9-9536-E4AAFD455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3809880"/>
            <a:ext cx="6248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EE90-E86D-47EB-9B15-CA7CACFB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6248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145D-B0EE-44B9-B2E6-4FC8D1471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304884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9760" y="3809880"/>
            <a:ext cx="304884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F6F8-CF95-48CC-B0B5-332B68E4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886C-2A2C-4CA3-A613-0A5AACE3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1371600"/>
            <a:ext cx="640080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4559-3311-4362-9117-887E8AB0E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30488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9760" y="3809880"/>
            <a:ext cx="304884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920" y="4526640"/>
            <a:ext cx="30488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35B2-DFB4-4B77-8601-1822DDA7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920" y="3809880"/>
            <a:ext cx="6248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C997-2EF7-405C-B8BD-6CAB3E3F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304884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9760" y="3809880"/>
            <a:ext cx="30488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9760" y="4526640"/>
            <a:ext cx="30488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6404-7A33-491A-A9D9-AC105114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30488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9760" y="3809880"/>
            <a:ext cx="30488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920" y="4526640"/>
            <a:ext cx="62481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C6CC-EEFC-4911-A7F7-9665C32A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62481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920" y="4526640"/>
            <a:ext cx="62481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F3BDF-3A02-4341-9C4C-98BFE043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30488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9760" y="3809880"/>
            <a:ext cx="30488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920" y="4526640"/>
            <a:ext cx="30488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9760" y="4526640"/>
            <a:ext cx="30488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42B5-4C87-4E35-8AA9-19C7F5637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20116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0400" y="3809880"/>
            <a:ext cx="20116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73240" y="3809880"/>
            <a:ext cx="20116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920" y="4526640"/>
            <a:ext cx="20116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0400" y="4526640"/>
            <a:ext cx="20116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73240" y="4526640"/>
            <a:ext cx="201168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2B9E-C83F-43BF-8303-984979367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62481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D2AD-07AB-4657-A923-63563C1A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304884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9760" y="3809880"/>
            <a:ext cx="304884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678A-EABF-492F-8547-F33B4827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F205-93B3-48ED-91B3-2429E9FB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1371600"/>
            <a:ext cx="640080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CC81-AE79-42BA-BDBB-4A261F01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30488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9760" y="3809880"/>
            <a:ext cx="304884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920" y="4526640"/>
            <a:ext cx="30488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3B77-D914-4DDD-BE41-0BA3B3D2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304884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9760" y="3809880"/>
            <a:ext cx="30488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9760" y="4526640"/>
            <a:ext cx="30488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8627-150D-4CEC-BF25-C939745D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30488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9760" y="3809880"/>
            <a:ext cx="30488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920" y="4526640"/>
            <a:ext cx="62481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951C-3004-47D1-9DCB-26718A63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895120"/>
            <a:ext cx="6781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67840" indent="-1666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01560" indent="-1666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501560" indent="-1666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501560" indent="-1666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0520" y="61722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1687-4555-40DB-84BA-4E865FF562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010280" y="617220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533520" y="617220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4DAC-973C-4A5E-B877-3CD3BCA405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4876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Oil &amp; Gas</a:t>
            </a:r>
            <a:br>
              <a:rPr sz="4000"/>
            </a:b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Final Sample Analysis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1920" y="3962520"/>
            <a:ext cx="480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27, 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257800" y="3276720"/>
            <a:ext cx="3657600" cy="2401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257800" y="457200"/>
            <a:ext cx="36576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Example: BUSMEDLF ESI ID</a:t>
            </a:r>
            <a:br>
              <a:rPr sz="3200"/>
            </a:b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 March 1 – May 31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8915400" cy="4572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28600" y="1676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5a"/>
                </a:solidFill>
                <a:latin typeface="Arial"/>
              </a:rPr>
              <a:t>kW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1600200"/>
            <a:ext cx="11430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38480" y="5867280"/>
            <a:ext cx="11430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3751-91C8-41AE-9CA8-F931452E24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Example: BUSMEDLF ESI ID</a:t>
            </a:r>
            <a:br>
              <a:rPr sz="3200"/>
            </a:b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 March 1 – May 31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8915400" cy="4572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52280" y="1676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5a"/>
                </a:solidFill>
                <a:latin typeface="Arial"/>
              </a:rPr>
              <a:t>kW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5867280"/>
            <a:ext cx="11430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6200" y="1630440"/>
            <a:ext cx="11430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DA8A-DD94-4290-BC40-91129BE20F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Example: BUSMEDLF ESI ID</a:t>
            </a:r>
            <a:br>
              <a:rPr sz="3200"/>
            </a:b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 March 1 – May 31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8915400" cy="4572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886200" y="1600200"/>
            <a:ext cx="11430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38480" y="5867280"/>
            <a:ext cx="11430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676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5a"/>
                </a:solidFill>
                <a:latin typeface="Arial"/>
              </a:rPr>
              <a:t>kW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B0B4-35AD-43FF-AF00-6D1F845934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Example: BUSHILF ESI ID</a:t>
            </a:r>
            <a:br>
              <a:rPr sz="3200"/>
            </a:b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 March 1 – May 31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8915400" cy="4572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886200" y="1630440"/>
            <a:ext cx="11430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1676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5a"/>
                </a:solidFill>
                <a:latin typeface="Arial"/>
              </a:rPr>
              <a:t>kW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62520" y="5867280"/>
            <a:ext cx="11430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126F-C651-4248-ACD0-05B476AD4F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Example: BUSHILF ESI ID</a:t>
            </a:r>
            <a:br>
              <a:rPr sz="3200"/>
            </a:b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 March 1 – May 31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8915400" cy="3047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28600" y="4267080"/>
            <a:ext cx="8915400" cy="2521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038480" y="4038480"/>
            <a:ext cx="8384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1219320"/>
            <a:ext cx="8384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1295280"/>
            <a:ext cx="457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70c"/>
                </a:solidFill>
                <a:latin typeface="Arial"/>
              </a:rPr>
              <a:t>kWh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662940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4267080"/>
            <a:ext cx="6094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70c"/>
                </a:solidFill>
                <a:latin typeface="Arial"/>
              </a:rPr>
              <a:t>kWh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5343-B935-46B9-A16F-7E357B2694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066680" y="914400"/>
            <a:ext cx="7467840" cy="55656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 Black"/>
              </a:rPr>
              <a:t>Distribution of Sample Precision</a:t>
            </a:r>
            <a:endParaRPr b="0" lang="en-US" sz="28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5715000" y="1981080"/>
            <a:ext cx="2514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70c"/>
                </a:solidFill>
                <a:latin typeface="Arial"/>
              </a:rPr>
              <a:t>Mean 6.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70c"/>
                </a:solidFill>
                <a:latin typeface="Arial"/>
              </a:rPr>
              <a:t>Precision for 93% of Intervals &lt; 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926B-1313-4DDA-B94A-FA622A3671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6781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 Black"/>
              </a:rPr>
              <a:t>Composite Profile Development</a:t>
            </a:r>
            <a:endParaRPr b="0" lang="en-US" sz="28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d in Load Profiling Guides Section 12.6.2.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d for comparison if a single profile is to be used  across several Weather Z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295280" y="3124080"/>
                <a:ext cx="221004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t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3733920" y="3124080"/>
            <a:ext cx="4572000" cy="313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70c"/>
                </a:solidFill>
                <a:latin typeface="Arial"/>
              </a:rPr>
              <a:t>Whe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70c"/>
                </a:solidFill>
                <a:latin typeface="Arial"/>
              </a:rPr>
              <a:t>f*t = interval fraction at interval t for the composite Load Pro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70c"/>
                </a:solidFill>
                <a:latin typeface="Arial"/>
              </a:rPr>
              <a:t>Ez = total annual energy of ESI IDs in the proposed segment in Weather Zone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70c"/>
                </a:solidFill>
                <a:latin typeface="Arial"/>
              </a:rPr>
              <a:t>fzt =interval fraction at interval t for the existing Load Profile using the weather data for Weather Z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70c"/>
                </a:solidFill>
                <a:latin typeface="Arial"/>
              </a:rPr>
              <a:t>n = total number of Weather Z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5813-88C3-4F4E-9B4E-CBA481B077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 Black"/>
              </a:rPr>
              <a:t>Profile and Sample Comparison</a:t>
            </a:r>
            <a:endParaRPr b="0" lang="en-US" sz="2800" spc="-1" strike="noStrike">
              <a:solidFill>
                <a:srgbClr val="99ccff"/>
              </a:solidFill>
              <a:latin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990720" y="914400"/>
            <a:ext cx="7543800" cy="53434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019160" y="6316560"/>
            <a:ext cx="5457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baseline="50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800" spc="-1" strike="noStrike" baseline="5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ay of lowest total absolute kWh difference for 11/01/04 thru 10/31/0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1E59-05A4-4F57-BDA1-CC4B197FBD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 Black"/>
              </a:rPr>
              <a:t>Profile and Sample Comparison</a:t>
            </a:r>
            <a:endParaRPr b="0" lang="en-US" sz="2800" spc="-1" strike="noStrike">
              <a:solidFill>
                <a:srgbClr val="99ccff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990720" y="914400"/>
            <a:ext cx="7543800" cy="5343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066680" y="6324480"/>
            <a:ext cx="6050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baseline="5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800" spc="-1" strike="noStrike" baseline="5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ay of 25th percentile total absolute kWh difference for 11/01/04 thru 10/31/0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9B98-F95A-40C3-9051-AAD21377DE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 Black"/>
              </a:rPr>
              <a:t>Profile and Sample Comparison</a:t>
            </a:r>
            <a:endParaRPr b="0" lang="en-US" sz="2800" spc="-1" strike="noStrike">
              <a:solidFill>
                <a:srgbClr val="99ccff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990720" y="914400"/>
            <a:ext cx="7543800" cy="5343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000080" y="6338880"/>
            <a:ext cx="555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baseline="5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800" spc="-1" strike="noStrike" baseline="5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ay of median total absolute kWh difference for 11/01/04 thru 10/31/0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514F-BDA3-4293-81A1-39023B0F8C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76320"/>
            <a:ext cx="67816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Background Information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XU ED provided a list of ESI IDs with SIC codes indicating Oil &amp; Gas (8,58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were mapped into LRS sample c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21 LRS sample points were identified as Oil &amp; G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 LRS sample cells identified with significant population counts having no sample points avail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questor agreed to fund IDR installation/data collection for ERCOT selected sample points in those cells (data collected for March – May 2005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XU ED performed field verification on all Oil &amp; Gas sample 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,342 ESI IDs were included in this preliminary analysis covering the March – May time peri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I IDs included in analysis based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tive during the analysis peri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lete NIDR usage avail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file Group was BUSNODEM, BUSLOLF, BUSMEDLF, BUSHI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long to a cell with LRS interval data available for one or more ESI I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data was scanned to verify that usage patterns were likely to be Oil &amp; Gas (none were considered miss-classifi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14F6-9A65-4270-808F-E53402E92C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 Black"/>
              </a:rPr>
              <a:t>Profile and Sample Comparison</a:t>
            </a:r>
            <a:endParaRPr b="0" lang="en-US" sz="2800" spc="-1" strike="noStrike">
              <a:solidFill>
                <a:srgbClr val="99ccff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990720" y="914400"/>
            <a:ext cx="7543800" cy="5343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990720" y="6324480"/>
            <a:ext cx="611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baseline="50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800" spc="-1" strike="noStrike" baseline="5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ay of 75th percentile total absolute kWh difference for 11/01/04 thru 10/31/0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0890-ABC8-4BDA-A304-A27679860E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 Black"/>
              </a:rPr>
              <a:t>Profile and Sample Comparison</a:t>
            </a:r>
            <a:endParaRPr b="0" lang="en-US" sz="2800" spc="-1" strike="noStrike">
              <a:solidFill>
                <a:srgbClr val="99ccff"/>
              </a:solidFill>
              <a:latin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990720" y="914400"/>
            <a:ext cx="7543800" cy="5343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914400" y="6324480"/>
            <a:ext cx="5457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baseline="50000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800" spc="-1" strike="noStrike" baseline="5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Day of highest total absolute kWh difference for 11/01/04 thru 10/31/0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69E9-8F8A-423F-A27F-C10A17828F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 Black"/>
              </a:rPr>
              <a:t>Profile and Sample Comparison</a:t>
            </a:r>
            <a:endParaRPr b="0" lang="en-US" sz="2800" spc="-1" strike="noStrike">
              <a:solidFill>
                <a:srgbClr val="99ccff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7772400" cy="510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FF35-3326-4A8D-95F1-A5FF18C3B3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 Black"/>
              </a:rPr>
              <a:t>Profile and Sample Differences</a:t>
            </a:r>
            <a:endParaRPr b="0" lang="en-US" sz="2800" spc="-1" strike="noStrike">
              <a:solidFill>
                <a:srgbClr val="99ccff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066680" y="914400"/>
            <a:ext cx="7467840" cy="556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BA08-AF87-4975-B08E-704C8618A9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 Black"/>
              </a:rPr>
              <a:t>Profile and Sample Differences</a:t>
            </a:r>
            <a:endParaRPr b="0" lang="en-US" sz="2800" spc="-1" strike="noStrike">
              <a:solidFill>
                <a:srgbClr val="99ccff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7391520" cy="550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BD74-DF0F-491F-BCF5-710D42BDFBB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 Black"/>
              </a:rPr>
              <a:t>Profile and Sample Differences</a:t>
            </a:r>
            <a:endParaRPr b="0" lang="en-US" sz="2800" spc="-1" strike="noStrike">
              <a:solidFill>
                <a:srgbClr val="99ccff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066680" y="914400"/>
            <a:ext cx="7467840" cy="556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7EC9-FC2E-4371-A943-A56C4CA07FD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 Black"/>
              </a:rPr>
              <a:t>Profile and Sample Differences</a:t>
            </a:r>
            <a:endParaRPr b="0" lang="en-US" sz="2800" spc="-1" strike="noStrike">
              <a:solidFill>
                <a:srgbClr val="99ccff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219320" y="914400"/>
            <a:ext cx="7315200" cy="5452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F121-D60B-4DCE-8F6C-85EB55E9CE2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 Black"/>
              </a:rPr>
              <a:t>Differences for Fall</a:t>
            </a:r>
            <a:endParaRPr b="0" lang="en-US" sz="2800" spc="-1" strike="noStrike">
              <a:solidFill>
                <a:srgbClr val="99ccff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7391520" cy="55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BDD3-A926-43E3-A2A2-F672217CA47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 Black"/>
              </a:rPr>
              <a:t>Differences for Winter 2004-2005</a:t>
            </a:r>
            <a:endParaRPr b="0" lang="en-US" sz="2800" spc="-1" strike="noStrike">
              <a:solidFill>
                <a:srgbClr val="99ccff"/>
              </a:solidFill>
              <a:latin typeface="Arial Black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7391520" cy="55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792B-C6B0-49F0-9C6F-F6F2A7AA500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 Black"/>
              </a:rPr>
              <a:t>Differences for Spring 2005</a:t>
            </a:r>
            <a:endParaRPr b="0" lang="en-US" sz="2800" spc="-1" strike="noStrike">
              <a:solidFill>
                <a:srgbClr val="99ccff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143000" y="914400"/>
            <a:ext cx="7391520" cy="55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064B-9E69-4682-A25C-FB8B85C0B5F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 Black"/>
              </a:rPr>
              <a:t>Oil &amp; Gas Sample Size by Stratum</a:t>
            </a:r>
            <a:endParaRPr b="0" lang="en-US" sz="28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819520"/>
            <a:ext cx="129528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pulation Size: 7,34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Size: 4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a: 76 out of 1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19320" y="914400"/>
            <a:ext cx="6960960" cy="574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32EC-64F8-44A4-A25E-1DC12F7895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 Black"/>
              </a:rPr>
              <a:t>Differences for Summer 2005</a:t>
            </a:r>
            <a:endParaRPr b="0" lang="en-US" sz="2800" spc="-1" strike="noStrike">
              <a:solidFill>
                <a:srgbClr val="99ccff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066680" y="914400"/>
            <a:ext cx="7467840" cy="556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A982-9B0A-448D-B45F-A9ECF5C9F19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 Black"/>
              </a:rPr>
              <a:t>Profile and Unscaled Sample Differences</a:t>
            </a:r>
            <a:endParaRPr b="0" lang="en-US" sz="2800" spc="-1" strike="noStrike">
              <a:solidFill>
                <a:srgbClr val="99ccff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066680" y="914400"/>
            <a:ext cx="7467840" cy="556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8F4B-DF83-4DE2-B94B-DF50F495FC7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 Black"/>
              </a:rPr>
              <a:t>Profile and Sample Differences</a:t>
            </a:r>
            <a:endParaRPr b="0" lang="en-US" sz="2800" spc="-1" strike="noStrike">
              <a:solidFill>
                <a:srgbClr val="99ccff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066680" y="914400"/>
            <a:ext cx="7467840" cy="556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69FA-F6BD-45D0-9452-35BA50A5834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Oil Gas LRS vs Composite Profile</a:t>
            </a:r>
            <a:br>
              <a:rPr sz="3200"/>
            </a:b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Load Factor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990720" y="1157400"/>
            <a:ext cx="6858000" cy="510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F8EC-C818-4280-81B9-A2DA1DA4D23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Oil Gas LRS vs Composite Profile</a:t>
            </a:r>
            <a:br>
              <a:rPr sz="3200"/>
            </a:b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On Peak vs Off Peak kWh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6320" y="1709640"/>
            <a:ext cx="8762760" cy="392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B2C2-663D-426F-B119-323C96E01DD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 Black"/>
              </a:rPr>
              <a:t>Oil Gas LRS vs Composite Profile</a:t>
            </a:r>
            <a:br>
              <a:rPr sz="2800"/>
            </a:br>
            <a:r>
              <a:rPr b="0" lang="en-US" sz="2800" spc="-1" strike="noStrike">
                <a:solidFill>
                  <a:srgbClr val="99ccff"/>
                </a:solidFill>
                <a:latin typeface="Arial Black"/>
              </a:rPr>
              <a:t>Monthly kWh Fractions</a:t>
            </a:r>
            <a:endParaRPr b="0" lang="en-US" sz="2800" spc="-1" strike="noStrike">
              <a:solidFill>
                <a:srgbClr val="99ccff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914400" y="944640"/>
            <a:ext cx="7086600" cy="534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A9E7-954B-4EFA-91ED-EE390FF56E7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 Black"/>
              </a:rPr>
              <a:t>Oil Gas LRS vs Composite Profile</a:t>
            </a:r>
            <a:br>
              <a:rPr sz="2800"/>
            </a:br>
            <a:r>
              <a:rPr b="0" lang="en-US" sz="2800" spc="-1" strike="noStrike">
                <a:solidFill>
                  <a:srgbClr val="99ccff"/>
                </a:solidFill>
                <a:latin typeface="Arial Black"/>
              </a:rPr>
              <a:t>Monthly kWh Fractions</a:t>
            </a:r>
            <a:endParaRPr b="0" lang="en-US" sz="2800" spc="-1" strike="noStrike">
              <a:solidFill>
                <a:srgbClr val="99ccff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914400" y="914400"/>
            <a:ext cx="7086600" cy="536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2D3E-9FFA-4257-AC17-572D7BCEA4A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Arial Black"/>
              </a:rPr>
              <a:t>Oil Gas LRS vs Composite Profile</a:t>
            </a:r>
            <a:endParaRPr b="0" lang="en-US" sz="3600" spc="-1" strike="noStrike">
              <a:solidFill>
                <a:srgbClr val="99ccff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80880" y="995400"/>
            <a:ext cx="8305920" cy="494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B2F0-A153-498F-9284-D58663C2E41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90676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ff"/>
                </a:solidFill>
                <a:latin typeface="Arial Black"/>
              </a:rPr>
              <a:t>Oil Gas LRS vs Composite Profile</a:t>
            </a:r>
            <a:endParaRPr b="0" lang="en-US" sz="3600" spc="-1" strike="noStrike">
              <a:solidFill>
                <a:srgbClr val="99ccff"/>
              </a:solidFill>
              <a:latin typeface="Arial Black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34800" y="914400"/>
            <a:ext cx="8352000" cy="489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A7DC-3335-412D-B6D2-F82A65BABFB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 Black"/>
              </a:rPr>
              <a:t>Load Weighted Average Price (LWAP) in $/Mwh</a:t>
            </a:r>
            <a:r>
              <a:rPr b="0" lang="en-US" sz="2800" spc="-1" strike="noStrike">
                <a:solidFill>
                  <a:srgbClr val="99cc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ideal profile model is applied to a homogeneous set of ESI 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il/Gas ESI-ID’s are dissimilar in both shape and load fa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y have similar Load Weighted Average Prices (LWAP) they can be settled accurately with the same pro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an ESI ID, LWAP is computed 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WAP comparisons were performed to assess similariti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295280" y="4241880"/>
                <a:ext cx="609624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WAP</m:t>
                    </m:r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oIntervals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Wh</m:t>
                            </m:r>
                            <m:r>
                              <m:t xml:space="preserve">i</m:t>
                            </m:r>
                            <m:r>
                              <m:t xml:space="preserve">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CPE</m:t>
                            </m:r>
                            <m:r>
                              <m:t xml:space="preserve">i</m:t>
                            </m:r>
                          </m:e>
                        </m:d>
                      </m:e>
                    </m:nary>
                    <m:r>
                      <m:t xml:space="preserve">/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oIntervals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kWh</m:t>
                        </m:r>
                        <m:r>
                          <m:t xml:space="preserve">i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3D57-ACFC-467A-A89E-B347C21D266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 Black"/>
              </a:rPr>
              <a:t>Oil &amp; Gas Sample Size by Stratum</a:t>
            </a:r>
            <a:endParaRPr b="0" lang="en-US" sz="28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6781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statistical analysis purposes original sample strata were consolidated into 22 analysis str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imum of 5 sample points per analysis strat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a were consolidated based on the same or similar case we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ase weight = sample size/population siz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CB8F-2085-4C24-AE47-689F160F48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 Black"/>
              </a:rPr>
              <a:t>Load Weighted Average Price (LWAP) in $/Mwh</a:t>
            </a:r>
            <a:r>
              <a:rPr b="0" lang="en-US" sz="3600" spc="-1" strike="noStrike">
                <a:solidFill>
                  <a:srgbClr val="99ccff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99ccff"/>
              </a:solidFill>
              <a:latin typeface="Arial Black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80880" y="1523880"/>
          <a:ext cx="8458200" cy="426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523880"/>
                    <a:ext cx="845820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4DB3-CA04-4373-B822-8F7326545E5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 Black"/>
              </a:rPr>
              <a:t>Population LWAP MPU Estimation</a:t>
            </a:r>
            <a:endParaRPr b="0" lang="en-US" sz="2800" spc="-1" strike="noStrike">
              <a:solidFill>
                <a:srgbClr val="99ccff"/>
              </a:solidFill>
              <a:latin typeface="Arial Black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09480" y="1447920"/>
          <a:ext cx="6934320" cy="4205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447920"/>
                    <a:ext cx="6934320" cy="42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844E-4CC2-40B4-857B-1424C43BD64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 Black"/>
              </a:rPr>
              <a:t>Population LWAP MPU Confidence Limits</a:t>
            </a: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838080" y="1219320"/>
          <a:ext cx="6934320" cy="5105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219320"/>
                    <a:ext cx="693432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726B-1E83-41B6-A114-21CDE74B1F1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 Black"/>
              </a:rPr>
              <a:t>Population LWAP Estimation </a:t>
            </a:r>
            <a:br>
              <a:rPr sz="2800"/>
            </a:br>
            <a:r>
              <a:rPr b="0" lang="en-US" sz="2800" spc="-1" strike="noStrike">
                <a:solidFill>
                  <a:srgbClr val="99ccff"/>
                </a:solidFill>
                <a:latin typeface="Arial Black"/>
              </a:rPr>
              <a:t>Energy Weighted</a:t>
            </a:r>
            <a:r>
              <a:rPr b="0" lang="en-US" sz="4000" spc="-1" strike="noStrike">
                <a:solidFill>
                  <a:srgbClr val="99cc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99ccff"/>
              </a:solidFill>
              <a:latin typeface="Arial Black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838080" y="1219320"/>
          <a:ext cx="5486400" cy="5105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219320"/>
                    <a:ext cx="54864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6324480" y="30481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WAP Variance is the Measure of Homogeneity referenced in the LP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F439-A4A5-4285-8930-7BB4C69EBEF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Comparison of Estimated LWAP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838080" y="1447920"/>
          <a:ext cx="7391520" cy="4728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447920"/>
                    <a:ext cx="7391520" cy="47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C90B-7145-4930-8D13-22A04B47F3B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 Black"/>
              </a:rPr>
              <a:t>Weather Sensitivity Analysis Definition</a:t>
            </a:r>
            <a:endParaRPr b="0" lang="en-US" sz="28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d in Protocols Section 11.4.3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ollowing variables are calculated for each business day (excluding weekends and holidays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ily kW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erage weather zone daily temp = ((Max + Min)/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 correlation factor, R-Square (Pearson Product Moment Coefficient of Determination), is calculated for each oil/gas sample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 resulting 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Square value is greater than or equal to 0.6, then the sample point is defined as “Weather Sensitive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C06D-8B77-41B2-B725-1161C24A0CB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ff"/>
                </a:solidFill>
                <a:latin typeface="Arial Black"/>
              </a:rPr>
              <a:t>Weather Sensitivity Analysis Definition</a:t>
            </a:r>
            <a:endParaRPr b="0" lang="en-US" sz="28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ree weather sensitivity studies were perform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mmer: 06/01/05 – 09/31/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ter: 12/01/04 – 02/28/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udy Period: 11/01/04 – 10/31/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D716-9CB3-4BF7-8A6B-67ED62A8CD1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Weather Sensitivity Analysis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762120" y="1447920"/>
            <a:ext cx="74610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C0AA-8EC6-4146-A13E-FE4A9BDD899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Weather Sensitivity Analysis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62120" y="1371600"/>
            <a:ext cx="7696080" cy="492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2209-0807-402D-A1CB-7A95B5AD515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Weather Sensitivity Analysis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762120" y="1371600"/>
            <a:ext cx="754380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ECF8-60B4-42DE-9222-EF8CFA3990E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8915400" cy="4653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152280"/>
            <a:ext cx="9144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Example: BUSNODEM ESI ID</a:t>
            </a:r>
            <a:br>
              <a:rPr sz="3200"/>
            </a:b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 March 1 – May 3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676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5a"/>
                </a:solidFill>
                <a:latin typeface="Arial"/>
              </a:rPr>
              <a:t>kW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86200" y="5943600"/>
            <a:ext cx="11430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1600200"/>
            <a:ext cx="11430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5A29-92C7-4533-BDB2-4A70F335E3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Weather Sensitivity Analysis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762120" y="1371600"/>
            <a:ext cx="7619760" cy="494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7579-56DB-4386-8F74-59572241468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Weather Sensitivity Analysis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7467840" cy="491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9035-48FD-44A6-A408-51AEAB47E79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Weather Sensitivity Analysis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7467840" cy="494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15C5-22EE-4102-B31E-835852BF5E9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Weather Sensitivity Analysis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73915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F72D-B241-4D48-977E-3389EBD0825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Weather Sensitivity Analysis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838080" y="1447920"/>
            <a:ext cx="7620120" cy="419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95AF-6B45-471D-85A2-BBCE930AD3F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rcRect l="0" t="17500" r="0" b="23750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Example: BUSNODEM ESI ID</a:t>
            </a:r>
            <a:br>
              <a:rPr sz="3200"/>
            </a:b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 March 1 – May 31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80880" y="1685880"/>
            <a:ext cx="8535960" cy="433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A309-63C9-4BAD-84D3-34B99445E5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Example: BUSLOLF ESI ID</a:t>
            </a:r>
            <a:br>
              <a:rPr sz="3200"/>
            </a:b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 March 1 – May 31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60200" y="1555920"/>
            <a:ext cx="8831520" cy="446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B4B2-040B-4818-8143-7FE449373A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73080"/>
            <a:ext cx="91440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Example: BUSLOLF ESI ID</a:t>
            </a:r>
            <a:br>
              <a:rPr sz="3200"/>
            </a:b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 March 1 – May 31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3962520" y="2895480"/>
            <a:ext cx="11430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91320" y="3200400"/>
            <a:ext cx="9903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335268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5a"/>
                </a:solidFill>
                <a:latin typeface="Arial"/>
              </a:rPr>
              <a:t>kW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28600" y="1803240"/>
            <a:ext cx="8686800" cy="43689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4920" y="1905120"/>
            <a:ext cx="609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70c"/>
                </a:solidFill>
                <a:latin typeface="Arial"/>
              </a:rPr>
              <a:t>kW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8480" y="1905120"/>
            <a:ext cx="8384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5958000"/>
            <a:ext cx="83808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584C-F7A6-47C3-9095-16CDBB339A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Example: BUSLOLF ESI ID</a:t>
            </a:r>
            <a:br>
              <a:rPr sz="3200"/>
            </a:br>
            <a:r>
              <a:rPr b="0" lang="en-US" sz="3200" spc="-1" strike="noStrike">
                <a:solidFill>
                  <a:srgbClr val="99ccff"/>
                </a:solidFill>
                <a:latin typeface="Arial Black"/>
              </a:rPr>
              <a:t> March 1 – May 31</a:t>
            </a:r>
            <a:endParaRPr b="0" lang="en-US" sz="3200" spc="-1" strike="noStrike">
              <a:solidFill>
                <a:srgbClr val="99ccff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8915400" cy="4572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038480" y="5867280"/>
            <a:ext cx="11430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1600200"/>
            <a:ext cx="11430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1676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5a"/>
                </a:solidFill>
                <a:latin typeface="Arial"/>
              </a:rPr>
              <a:t>kW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6D65-9563-47E1-8EA3-0BB6BB47E7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22:31:18Z</dcterms:created>
  <dc:creator>twerkheiser</dc:creator>
  <dc:description/>
  <cp:keywords/>
  <dc:language>en-US</dc:language>
  <cp:lastModifiedBy>ERCOT</cp:lastModifiedBy>
  <dcterms:modified xsi:type="dcterms:W3CDTF">2006-04-26T18:38:14Z</dcterms:modified>
  <cp:revision>100</cp:revision>
  <dc:subject/>
  <dc:title>Oil and Ga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421033</vt:lpwstr>
  </property>
</Properties>
</file>