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15.jpeg" ContentType="image/jpeg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31.jpeg" ContentType="image/jpeg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8A74A-3923-4387-87FE-F31198C46E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9423B-8C7E-406A-9F65-2E200BF48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0B987-02DE-4ED0-982B-A74733C23B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CC887-828C-4BE4-8D26-51FB735615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1E020-84FA-4F9C-99F3-8B84241490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8F198-3B93-46D0-B8F7-4AA83FC86D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C2567-3154-48E3-924E-7689B46C1B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43638-D646-4703-B560-C47C950115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78641-3F10-4628-9A23-00A0581CA9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84FE9-7D09-49B8-AFDE-21E1BD1C43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1BF41-6D3C-4725-8BB9-59D76329C3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2020D-71E1-47F9-8AB6-865F3D4438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4784-EA0A-41C9-8548-CAE2004C2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9080" y="1888920"/>
            <a:ext cx="62485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5 Residentia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ting &amp; Fuel Type Surve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58640" y="335268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Load Profi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ation to PWG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tober 26, 200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92320" y="76320"/>
            <a:ext cx="772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Heat Pump/Age of Res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384200" y="971640"/>
            <a:ext cx="6375600" cy="4910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50308-5714-47F3-8217-3263C37CFB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752480" y="763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Q4 – Air Conditioning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68320" y="1166760"/>
            <a:ext cx="5619960" cy="5106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AB23C-7157-4FE9-8383-6A83BAEFA1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752480" y="763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Central Air Conditioning/Window W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7760" y="6232680"/>
            <a:ext cx="191880" cy="191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89240" y="6232680"/>
            <a:ext cx="192240" cy="191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62520" y="6232680"/>
            <a:ext cx="192240" cy="191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15160" y="6156360"/>
            <a:ext cx="29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ndow/Wall – No Central 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" y="6156360"/>
            <a:ext cx="261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al AC – No Window/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05160" y="615780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al AC &amp; Window/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30480" y="1247760"/>
            <a:ext cx="6221160" cy="479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E515E-D3E2-4A44-8903-0A9C3A9D19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47760" y="6232680"/>
            <a:ext cx="191880" cy="191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89240" y="6232680"/>
            <a:ext cx="192240" cy="191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62520" y="6232680"/>
            <a:ext cx="192240" cy="191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15160" y="6156360"/>
            <a:ext cx="29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p. Cooler – No Central 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1480" y="6156360"/>
            <a:ext cx="261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al AC – No Evap. Coo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41520" y="615780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al AC &amp; Evap. Coo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763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Central Air Conditioning/Evapo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268280" y="1276200"/>
            <a:ext cx="6183360" cy="476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77859-957E-45A6-A819-DE2487DF48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09600" y="6232680"/>
            <a:ext cx="191880" cy="191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27400" y="6232680"/>
            <a:ext cx="192240" cy="191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16600" y="6232680"/>
            <a:ext cx="192240" cy="191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31080" y="6156360"/>
            <a:ext cx="29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vap. Cooler – No Window 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1880" y="6156360"/>
            <a:ext cx="28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ndow Wall – No Evap. Coo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41520" y="615780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ndow Wall &amp; Evap. Coo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52480" y="763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Window Wall AC/Evapo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230480" y="1208160"/>
            <a:ext cx="6221160" cy="479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466F7-815D-4428-8026-092828D8BE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 flipH="1" rot="21564000">
            <a:off x="3456720" y="2391840"/>
            <a:ext cx="1739880" cy="18036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262480" y="2698920"/>
            <a:ext cx="1959120" cy="653760"/>
          </a:xfrm>
          <a:prstGeom prst="wedgeEllipseCallout">
            <a:avLst>
              <a:gd name="adj1" fmla="val -43032"/>
              <a:gd name="adj2" fmla="val 769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orte"/>
              </a:rPr>
              <a:t>BO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79622-1447-423F-9ACC-A7EC97CF25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22360" y="7632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Q5 – Added Central Elec. Cooling/H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112840" y="1009800"/>
            <a:ext cx="4916520" cy="549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42EE0-BC0A-4A64-9AE1-2CB3FDF741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52480" y="763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Q6 – Sq. Footage of Living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967040" y="893880"/>
            <a:ext cx="5240160" cy="556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D828B-C0A2-4220-BB90-6B99B5B010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752480" y="763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Q7 – Age of Res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077920" y="1009800"/>
            <a:ext cx="5110200" cy="545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95D6A-6F15-4999-B598-C5320AE9B1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70040" y="6578640"/>
            <a:ext cx="191880" cy="191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61920" y="648000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89240" y="6480000"/>
            <a:ext cx="24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/Bottled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31080" y="6480000"/>
            <a:ext cx="19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/Not 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35160" y="6578640"/>
            <a:ext cx="192240" cy="191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78440" y="6578640"/>
            <a:ext cx="192240" cy="191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52480" y="763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imary Heat/Age of Res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23760" y="809640"/>
            <a:ext cx="6989760" cy="538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31C16-6267-4A39-A16E-EC4EDB17E0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46040" y="76320"/>
            <a:ext cx="75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Residential Heating &amp; Fuel Type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31880" y="2392200"/>
            <a:ext cx="7772400" cy="4300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jectiv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a more accurate algorithm to predict presence and use of electric heat for residential customers and collect data to support analysis to potentially develop new profile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sig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-23004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,000 bilingual survey forms (including pilot) mail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-23004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ified by Weather Zone and Profile Typ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74880" indent="-22392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Arial"/>
              <a:buChar char="—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,563 RESHIWR per Weather Zo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74880" indent="-22392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Arial"/>
              <a:buChar char="—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,562 RESLOWR per Weather Zo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573360" y="932040"/>
            <a:ext cx="1300320" cy="130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AC4CC-79AC-46A1-B049-A54C8A5FA4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70040" y="6578640"/>
            <a:ext cx="191880" cy="191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61920" y="648000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189240" y="6480000"/>
            <a:ext cx="24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/Bottled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31080" y="6480000"/>
            <a:ext cx="19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/Not 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35160" y="6578640"/>
            <a:ext cx="192240" cy="191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78440" y="6578640"/>
            <a:ext cx="192240" cy="191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763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imary Heat/Age of Res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456080" y="3583080"/>
            <a:ext cx="3840120" cy="29588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85920" y="779400"/>
            <a:ext cx="3841560" cy="2960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4457880" y="770040"/>
            <a:ext cx="3840120" cy="2962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384120" y="3581280"/>
            <a:ext cx="3841920" cy="2959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0019A-C298-4D23-8AB0-0D1685AF3E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70040" y="6578640"/>
            <a:ext cx="191880" cy="191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61920" y="648000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89240" y="6500880"/>
            <a:ext cx="24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/Bottled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31080" y="6480000"/>
            <a:ext cx="19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/Not 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35160" y="6578640"/>
            <a:ext cx="192240" cy="191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878440" y="6578640"/>
            <a:ext cx="192240" cy="191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52480" y="763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imary Heat/Age of Res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456080" y="3618000"/>
            <a:ext cx="3841920" cy="2960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85920" y="3619440"/>
            <a:ext cx="3840120" cy="29592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456080" y="779400"/>
            <a:ext cx="3841920" cy="29574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385920" y="777960"/>
            <a:ext cx="3841560" cy="295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84EFF-B647-412A-9ACC-A33E246B0C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833480" y="950760"/>
            <a:ext cx="5618160" cy="3168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01480" y="4181400"/>
            <a:ext cx="8143920" cy="21272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752480" y="763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Q8 – Water Heating System Fuel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5A5F4-03A6-48B8-9397-E63999401D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752480" y="763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imary Heat/Water Heating System Fu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806480" y="1201680"/>
            <a:ext cx="5875560" cy="471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DCE47-9525-4FB2-AD21-113C694693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37720" y="1676520"/>
            <a:ext cx="5410440" cy="2590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805120" y="2430360"/>
            <a:ext cx="3648240" cy="273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7D3EF-21FF-446A-A7D6-F65AB8A8762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52480" y="763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Residential Survey Results</a:t>
            </a: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d5f5d"/>
                </a:solidFill>
                <a:latin typeface="Arial"/>
              </a:rPr>
              <a:t>(including Pil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31880" y="1123920"/>
            <a:ext cx="7772400" cy="50306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 fontScale="94000"/>
          </a:bodyPr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97960" indent="-21600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,669 responses as of 09/30/200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97960" indent="-21600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4% response 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97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 Calls Generat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97960" indent="-21600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8 calls received (ERCOT provided ‘800’ numbe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97960" indent="-21600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quent Questions/Com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6200" indent="-2102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—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re info about surv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6200" indent="-2102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—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ong name to address match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6200" indent="-2102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—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account set u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6200" indent="-2102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—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aints regarding electric serv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97960" indent="-21600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$38,772 actual cost ($50,000 was the approved budget) includ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6200" indent="-2102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—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 Research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6200" indent="-2102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—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 to Address Servi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6200" indent="-2102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—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0’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6200" indent="-2102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—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 Office ser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6200" indent="-2102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—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6200" indent="-2102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—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sc (ex., mileag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6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97960" indent="-21600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vings resulted largely from ERCOT obtaining &amp; using a temporary PO Box &amp; Business Reply Mail accou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AA4CC-0A42-468F-B442-7A9002C952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62120" y="893520"/>
            <a:ext cx="7772400" cy="572292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slides represent responses received from the ERCOT 2005 Heating and Fuel Type Survey.  Responses are unvalidat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9160" indent="-34272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vey Ques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55520" indent="-30456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AutoNum type="arabicPeriod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lassific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Dwelling typ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st fits this addres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55520" indent="-30456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AutoNum type="arabicPeriod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primary type of home heating used at this residenc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55520" indent="-30456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AutoNum type="arabicPeriod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replied “electricity” to question 2, is your heating system a heat pump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55520" indent="-30456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AutoNum type="arabicPeriod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type of air conditioning is used at this residenc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55520" indent="-30456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AutoNum type="arabicPeriod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you added central electric cooling or heating in the last 2 year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55520" indent="-30456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AutoNum type="arabicPeriod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approximate square footage of living space in your residenc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55520" indent="-30456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AutoNum type="arabicPeriod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approximate age of your residenc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55520" indent="-30456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AutoNum type="arabicPeriod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fuel does the water heating system for this residence us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1346040" y="76320"/>
            <a:ext cx="75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Residential Heating &amp; Fuel Type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9CB3D-74C8-4253-9CB4-6F828A121E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52480" y="763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Responses by WZone/Profile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692360" y="5925960"/>
            <a:ext cx="618336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1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51460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.5%          12.6%     10.5%        9.9%         13.6%       11.3%       10.6%        14.1%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1576440" y="5964120"/>
            <a:ext cx="230040" cy="152640"/>
          </a:xfrm>
          <a:prstGeom prst="rightArrow">
            <a:avLst>
              <a:gd name="adj1" fmla="val 50000"/>
              <a:gd name="adj2" fmla="val 3767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772240"/>
            <a:ext cx="165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s / Mailed by W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08240" y="1031760"/>
            <a:ext cx="6408720" cy="49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7AE19-E708-4DDC-ABB1-398F957E37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52480" y="763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Q1 – Dwelling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152280" y="1257480"/>
            <a:ext cx="5607000" cy="43225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54720" y="2239920"/>
            <a:ext cx="3649680" cy="218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1510E-A73D-46D8-A2FA-85C96E521D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752480" y="763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Q2 – Primary Home 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70040" y="6116760"/>
            <a:ext cx="191880" cy="191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61920" y="601992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89240" y="6019920"/>
            <a:ext cx="24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/Bottled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31080" y="6019920"/>
            <a:ext cx="19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/Not 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35160" y="6116760"/>
            <a:ext cx="192240" cy="191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878440" y="6116760"/>
            <a:ext cx="192240" cy="191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38240" y="849240"/>
            <a:ext cx="6489720" cy="499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B1777-5CCF-4016-AA90-BE646BAE7E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752480" y="763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Q2 – Primary Home 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0040" y="6002280"/>
            <a:ext cx="191880" cy="192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61920" y="590400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89240" y="5904000"/>
            <a:ext cx="24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/Bottled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31080" y="5904000"/>
            <a:ext cx="19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/Not 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74520" y="1819440"/>
            <a:ext cx="4530600" cy="3490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0" y="1816200"/>
            <a:ext cx="4532400" cy="3494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035160" y="6002280"/>
            <a:ext cx="192240" cy="1922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78440" y="6002280"/>
            <a:ext cx="192240" cy="192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76400" y="1066680"/>
            <a:ext cx="71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Profile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C82AF-E031-42FF-8F6E-292789A0CF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52480" y="763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Q3 – If Electricity, is it a Heat Pum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00120" y="855720"/>
            <a:ext cx="6797880" cy="523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9108D-EAEA-4A3C-BBBE-B7716F1908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twerkheiser</cp:lastModifiedBy>
  <dcterms:modified xsi:type="dcterms:W3CDTF">2005-10-25T21:53:04Z</dcterms:modified>
  <cp:revision>217</cp:revision>
  <dc:subject/>
  <dc:title>Slide 1</dc:title>
</cp:coreProperties>
</file>