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EEBF-0068-41BE-AC06-AB98C34AB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B283-7410-4BE0-B836-EAEA49C08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FB7F-7FEE-4BED-9112-2B5962B27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8D29-BFB1-4BA3-85F8-062EBEE1E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3687B-13AF-4073-B2B5-132FC7F8A8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28A7C-BF26-4360-A8B5-085B834756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3CCC-B74F-449E-A834-3E532A15D3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0F489-07D0-4CF0-984B-36CFE3C33D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3F8F7-2CB5-415C-B110-98EC6B3BE5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E236E-14D0-4636-A865-C630E347CB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2684C-E2BC-46BC-8D09-6E93D6E1F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4029-6140-4CA5-B7B3-E12C3D647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AC5E0-F216-4947-963C-C5C6CC0F89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E4187-99AE-4077-99DD-769E826E93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89C51-1CC9-492A-94AF-BCF696F3E7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FA585-1F99-4C9D-896A-7BE305FB50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E7BC5-279A-4403-B435-EF5E9E581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CF24-56DF-42CD-B56B-D12E63336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BFE0-525C-411B-B21A-8AFF0446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3D61-D548-47A1-8603-00AC27D64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2C5D-F576-4B40-9407-D18EDD3D7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7A97-B597-44F4-85A5-389700FC6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AF48-C549-40E0-A831-CF22F8201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F3F7-C3FB-4EA9-9F16-2407D54A0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169A-E92B-4FF1-9BB2-31B4B7A6A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E27E-1419-4DE6-802C-C63E7C0EFA9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Q1 - 2007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7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49604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426744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54864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57150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F4F6-793E-49C4-A678-CB01976327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33720" y="3733920"/>
            <a:ext cx="4419360" cy="2590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2AB8-7189-4A30-8EDA-7C09F9F7E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N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D5D0-7502-45EE-A8FE-C0C114A85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W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343400" cy="2514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35456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4038840" cy="2438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A891-DEE2-475F-AF0C-DD87AD5B07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Shadow Prices for 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Jan – Mar 2007</a:t>
            </a: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0" y="388620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472280" cy="281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19112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D102-D48A-4ED6-87C9-7E02D8FE3E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Transmission Projects Update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llje – Holl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P – Hill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llje - Par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m Cr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868D-FF21-4843-9901-C449ED3EA8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project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2B4F-5A6C-4569-8C7B-E4D9896ED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5105520"/>
          <a:ext cx="7728120" cy="1218960"/>
        </p:xfrm>
        <a:graphic>
          <a:graphicData uri="http://schemas.openxmlformats.org/drawingml/2006/table">
            <a:tbl>
              <a:tblPr/>
              <a:tblGrid>
                <a:gridCol w="1035000"/>
                <a:gridCol w="870120"/>
                <a:gridCol w="870120"/>
                <a:gridCol w="761760"/>
                <a:gridCol w="838440"/>
                <a:gridCol w="914400"/>
                <a:gridCol w="114300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–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403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876920"/>
            <a:ext cx="3657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quality data available through February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371B-744D-4CD5-A6E1-E40E83FFB2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5105520"/>
          <a:ext cx="5823000" cy="1212840"/>
        </p:xfrm>
        <a:graphic>
          <a:graphicData uri="http://schemas.openxmlformats.org/drawingml/2006/table">
            <a:tbl>
              <a:tblPr/>
              <a:tblGrid>
                <a:gridCol w="1044360"/>
                <a:gridCol w="781200"/>
                <a:gridCol w="780840"/>
                <a:gridCol w="825480"/>
                <a:gridCol w="989280"/>
                <a:gridCol w="742680"/>
                <a:gridCol w="65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–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5454-9274-4D2B-A417-8BCF108C47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143000"/>
          <a:ext cx="7391520" cy="5076720"/>
        </p:xfrm>
        <a:graphic>
          <a:graphicData uri="http://schemas.openxmlformats.org/drawingml/2006/table">
            <a:tbl>
              <a:tblPr/>
              <a:tblGrid>
                <a:gridCol w="914400"/>
                <a:gridCol w="609840"/>
                <a:gridCol w="685800"/>
                <a:gridCol w="609480"/>
                <a:gridCol w="685800"/>
                <a:gridCol w="581040"/>
                <a:gridCol w="714240"/>
                <a:gridCol w="581040"/>
                <a:gridCol w="7146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–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55C7-4AFE-440B-8AF6-1DD975E6E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90720"/>
          <a:ext cx="7391520" cy="495288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  <a:gridCol w="68580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-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F206-4C35-4166-8E20-7A25EF7A1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Mar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321F-05C4-48C7-BF8B-D9520F69C3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Mar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A067-BA65-4E45-AD73-52742B79C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Mar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April 17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2938-409D-456C-9B77-18E77AA432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7-04-12T20:16:21Z</dcterms:modified>
  <cp:revision>9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