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4F6-0C72-4269-ABEF-BE423019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8C8-472A-4CE9-9016-F7948C9DB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C22-E2F0-4DEE-979E-2DF28B18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80A-799C-4E2C-87FF-5F8DD21A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5D83-E32D-4BCE-9D9C-688F69C2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411-229D-4A73-B096-C87738C0A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8A0-C189-4BDB-A9DF-8B8E9F81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899C-F2B0-4393-A763-AD1958EB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1DC-39E5-4220-A2B4-BE7689D6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2E0-CBAA-4FA9-AA29-BEAA41E1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410-F035-4BCF-BAFD-3395E40E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A3C-3BB5-4E70-848A-EF38C131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2B90-332C-499A-8BE8-C12653CD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98A-57D3-47E3-89A5-6C57CB06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0DF-5C92-42AC-9056-23D7F7F1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D81-9CB0-40F5-A460-F517DC07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5021-3551-457A-AECC-C8B61549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718-9AC3-4BB5-A428-FB5EA3169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BC03-57B5-459C-9795-A91E8155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49EC-C670-439D-B04B-1395B0F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F7CC-C7EF-4063-94AE-4F86FDE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E2C1-62E5-41F6-A7F4-B2432A9E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EEC9-F356-4CBC-B9F4-5104D90E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A7AB-BD5B-4DCB-A084-DCB7AB0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393D-D98D-4614-BC42-411CC1E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BEE3-75B5-4972-BDFF-D7E321A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DB1B-7603-40A4-8A13-9186A0B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26EB-D906-495B-925A-02EAA915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8387-413E-4C3D-959B-41BF543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A022-5545-4FC4-B8D6-C5EA1D5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526-EA33-4DF0-9FE7-D727C0BA8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126-BDB9-4AE1-AA15-5542C9775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0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9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9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R Optimization Recommend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ager, Congestion Analysis &amp; Revenue Righ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Project Tea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onfidence that six separate auctions will solve within the 80-Hour requirement individually and all together (with additional hardwar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decoupling is supported b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difference in how much network capacity is made available in Year 1 versus Yea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eviously awarded CRRs exist for Year 2 of the next annual a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auctions for each year will not support submittal of bids or offers for a 24-month stri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the Year 1 Auction will have no bearing on the results from Yea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-month strips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of Use block decoupling is supported b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tocols already reflect that the winner of a 24-Hour CRR product will be awarded the capacity in three Time-Of-Use 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re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auctions for each Time-Of-Use block will not support submittal of bids or offers for a 24-Hour produ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rom the auction of one TOU will have no bearing on the results from the auction of other T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-Hour product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s monthly granularity which facilitates the allocation of Capacity Option PCRRs with their associated 40% annual capacity factor lim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Limits for each of the six optimizations will be managed via the self-imposed credit lim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 of the six self-imposed credit limits will not be allowed to exceed the CRR Auction activity credit limit, as defined in Section 16.11.4.6.1 per NPRR0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and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ed Motion from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endorses ERCOT’s recommendation to restructure the Annual CRR auction from a single optimization to six independent optimiz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R team will begin the process to implement this recommend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roposed NPRR for TPTF consideration at an upcom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detailed review of CRR documentation to determine if revisions are requi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vised CRR documentation, if necessary, for TPTF review and/or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review for impact assessment by other Nodal projec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24160" y="224784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DITIONAL DETAIL Optimization Runtime Reduction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liminate Weekend Time-Of-U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5471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ing a TOU only does not reduce optimization runtime sufficien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ing a third TOU block increases the number of periods by 50% and optimization runtime exponenti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-Hour product could still be made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other markets only offer two TOU bloc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s differentiation in Weekend (WE) congestion costs enough to warrant a separate CRR produc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5272200"/>
            <a:ext cx="7619760" cy="747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5653080" cy="92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ing from Monthly to Season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54712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planning model development activities transition easier as each season represented by one Network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seasons will not likely align with calendar quarters, annual auction timing would require modif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A season could be Decem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February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ll it be problematic for CRRs to be for terms that bridge calendar yea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691240" cy="1030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5257800"/>
            <a:ext cx="7619760" cy="7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oupling Years - Monthl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20480"/>
            <a:ext cx="82296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from Year 1 have no bearing on the results from Year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difference in how much network capacity is made available in Year 1 versus Year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reviously awarded CRRs in the next annual au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auctions for each year will not allow the award of a 24 month str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at is more valuable --  Long term products (24 month CRRs) or access to CRRs in second ye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76520" y="866880"/>
            <a:ext cx="5472000" cy="1190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75438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ouple Time-Of-U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4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from the auction of one TOU will have no bearing on the results from the auction of other TO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-Hour product wi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11200" cy="50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5765760" cy="124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R Product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ying in an A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8280"/>
            <a:ext cx="809784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1 shows an Account Holder’s ability to buy a 24-Hour block that includes ALL Hours Everyday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Not supported in annual auction with six optimiza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2 shows an Account Holder’s ability to buy a Weekday block that includes Hours 0700 – 2200 Every Monday through Fri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3 shows an Account Holder’s ability to buy multiple time period in separate blocks, in this exampl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eekday block that includes Hours 0700 – 2200 Everyday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eekend block that includes Hours 0700 – 2200 Saturday through Sun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hown – an Off-Peak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s for multiple blocks are not lin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114720" cy="212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" y="91440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312444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91440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438640" cy="24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629400" y="91440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077320" y="38160"/>
            <a:ext cx="102852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y are we here today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nual CRR auction as defined in the Nodal protocols is a problem too big to be solved in a reasonable amount of time with available software and hard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multiple discussions with TPTF the CRR project team has developed a recommendation for restructuring the Annual CRR au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ir April 3 meeting, TPTF asked that WMS review and opine about the CRR team’s recommen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ducts in the A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87324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-Hour Buy awarded to the Account Holder as three separate blocks:  Weekend, Weekday, and Off-Pe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count Holder can offer his holdings in three types of blocks:  Weekday, Weekend, and Off-Pea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day, Weekend, and Off-Peak blocks offered are not linked.  Therefore, there is no guarantee that all will be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30400" y="1314360"/>
            <a:ext cx="3008160" cy="2217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1028880" cy="6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788000" y="1066680"/>
            <a:ext cx="346536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19720" y="838080"/>
            <a:ext cx="8856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supported Bid (Buy) Alternatives in A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06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4 shows that an Account Holder may NOT buy a block that includes hours other than 0700 – 22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5 shows that an Account Holder may NOT buy a block that does not include all of the days of the mon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9560" y="1098720"/>
            <a:ext cx="2998800" cy="2216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38080" y="114300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60960" y="1098720"/>
            <a:ext cx="3008160" cy="221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257800" y="114300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077320" y="38160"/>
            <a:ext cx="102852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ateral Tra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s can be trad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any two registered Account Hol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the 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he 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ime of use amounts for a particular day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single day of a CRR month is bilaterally traded, the remaining days of the month may not be offered into an annual or monthly a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of bilateral trades will be subject credit approval based on the impact of the trade to both the current owner and proposed ow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ilateral trades must be registered in the CRR system at a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ime TB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available in the Day Ahead Mar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ported Bilateral Trade Alterna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54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Holder that won a 24-Hour block, will be awarded the three Time-of-Use blocks which may be separately tr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f the blocks can be for any number of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day and Weekend blocks can only be traded for hours 0700 – 22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-Peak blocks can be traded for hours 0100 – 0600 and 2300 – 24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800520" cy="3124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8596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day’s 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CRR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optimization runtime issu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defined annual auction is estimated to take 1300 hours to so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SR-1 specifies that the annual auction optimization complete within 80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ptions to reduce optimization run-time and trade-of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recommended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 input from 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800600"/>
            <a:ext cx="5486400" cy="1305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uld like to leave with a WMS vote, either an endorsement of the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 in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Products / Time of U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ekday On Peak Time of Use Blocks (hours 0700 – 2200 M-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ekend On Peak Time of Use Blocks (hours 0700 – 2200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 Peak Time of Use Blocks (hours 0000 – 0600; 2300 – 2400 all day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-hour combination of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The winner of a 24-hour block, will be awarded the three primary times of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arded in whole month strips, not less than one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% of network capacity for months 1-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of network capacity for months 13-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of PCRRs, MCFRIs and previously awarded CRRs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ole months not less than one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ligations are available for one-month strips for one-month terms, between any source and s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ions are available between a limited set of sources and sinks for other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of network capacity for coming 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of PCRRs, MCFRIs and previously awarded CRRs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whole month str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ligations will be available between any sources and s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72320" y="3801960"/>
            <a:ext cx="609840" cy="304920"/>
          </a:xfrm>
          <a:prstGeom prst="rect">
            <a:avLst/>
          </a:prstGeom>
          <a:solidFill>
            <a:srgbClr val="c0c0c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419720"/>
            <a:ext cx="8001000" cy="304560"/>
          </a:xfrm>
          <a:prstGeom prst="rect">
            <a:avLst/>
          </a:prstGeom>
          <a:solidFill>
            <a:srgbClr val="c0c0c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mization Runtime Description &amp;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 005 (August 2006 Nodal Protocols) clarified that the annual CRR auction should simultaneously optimize three Time-Of-Use (TOU) blocks across 24 month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is referred to as 72 periods (24 months x 3 TO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bids/offers for any number (1 to 24) of consecutive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R Team is not aware of another software solution that can optimize 72 periods simultaneously within the 80 hour timefram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JM’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lution (using Nexant competitor software) solves 1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s simultaneously and was thought to be pushing the envel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RCOT now understands that this optimization takes 15-40 hours to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comparison is not one-to-one due to differences in other elements, such as number of buses, branches, contingenci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029200"/>
            <a:ext cx="18288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me-of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D = Week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= Week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= Off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On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804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7764480" y="3785760"/>
            <a:ext cx="22860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5319720"/>
            <a:ext cx="486072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mization Run-Time Approaches Previously Discuss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ing a Time-Of-Use block – each TOU acts as another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uration of Calendar Periods, such as seasonal models instead of monthly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upling Optimizations – separating groups of periods (e.g. Year One and Year Tw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8280" y="5410080"/>
            <a:ext cx="777240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se approaches can be applied individually or in 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selected approach must also apply to the allo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74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76160" y="4267080"/>
            <a:ext cx="7543800" cy="80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62120" y="2698920"/>
            <a:ext cx="7543800" cy="7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proach Dimen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838080"/>
            <a:ext cx="1905120" cy="211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pproach 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Eliminate Time-Of-Use (TO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crease Duration of Calendar Peri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Decouple  Optim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6727680" cy="512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34320" y="4343400"/>
            <a:ext cx="1904760" cy="1143000"/>
          </a:xfrm>
          <a:prstGeom prst="leftArrow">
            <a:avLst>
              <a:gd name="adj1" fmla="val 50000"/>
              <a:gd name="adj2" fmla="val 41661"/>
            </a:avLst>
          </a:prstGeom>
          <a:solidFill>
            <a:srgbClr val="3333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6483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mmended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10160" y="1302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6800" y="4183200"/>
            <a:ext cx="6345360" cy="1600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commended Approach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couple Time-Of-Use and Years / Maintain Monthly Granular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3124080"/>
          <a:ext cx="80769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8076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33720" y="838080"/>
          <a:ext cx="4800600" cy="2093760"/>
        </p:xfrm>
        <a:graphic>
          <a:graphicData uri="http://schemas.openxmlformats.org/drawingml/2006/table">
            <a:tbl>
              <a:tblPr/>
              <a:tblGrid>
                <a:gridCol w="893880"/>
                <a:gridCol w="1025640"/>
                <a:gridCol w="995400"/>
                <a:gridCol w="895320"/>
                <a:gridCol w="990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endar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U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764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ouple TOU and Decouple Years / Month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W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– Yea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44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838440" cy="83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38680"/>
            <a:ext cx="85341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nual CRR Auction would be comprised of six separate opti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0:29:58Z</dcterms:created>
  <dc:creator>Beth Garza</dc:creator>
  <dc:description/>
  <dc:language>en-US</dc:language>
  <cp:lastModifiedBy>Beth Garza</cp:lastModifiedBy>
  <dcterms:modified xsi:type="dcterms:W3CDTF">2007-04-12T21:25:11Z</dcterms:modified>
  <cp:revision>7</cp:revision>
  <dc:subject/>
  <dc:title>CRR Optimization Recommendation</dc:title>
</cp:coreProperties>
</file>