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53F93-73AC-420F-B91E-CF63DB4D1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591CA-D5F6-4958-BB54-C737DE44B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C4DDD-1DE4-49D7-9819-3858B597E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3337A-CB44-4A68-BEE4-01F8A1FE7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A95D0-CA6C-492E-A9A4-797C79937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A36AF-172D-44D6-95A3-3DCAEE6B5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34630-5DA3-43BB-B099-F0335BABC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A965C-EA06-48EB-B660-853C5EE85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7D2BE-E99A-4AD7-A37F-773EC1393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50831-4386-468E-9EAF-3960A44B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FBD71-D917-4962-AD68-099A1B37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92B5B-F59E-4F29-A743-BAAB22AD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A187F-10D0-433D-B0DD-0FD1DEF223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6952C-4FF0-4A01-9763-E6CE94066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rcot.com/mktinfo/services/bal/index.html" TargetMode="External"/><Relationship Id="rId2" Type="http://schemas.openxmlformats.org/officeDocument/2006/relationships/hyperlink" Target="http://www.ercot.com/mktinfo/services/bal/index.html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RR650: NSRS &amp; MCP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Brandon Whittl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upervisor, Market Suppor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holesale Market Subcommitte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April 17th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PRR650, Balancing Energy Price Adjustment Due to NSRS Energy Deploymen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R650 was effective September 1, 200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R650 price correction is performed when Non-Spinning Reserve Service (NSRS) is deployed and there is no zonal conges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es an MCPE that would have resulted if the NSRS deployments had not occurred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holesale Market Subcommitte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pril 17th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PRR650, Balancing Energy Price Adjustment Due to NSRS Energy Deploymen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762120" y="1066680"/>
            <a:ext cx="7772400" cy="2743200"/>
            <a:chOff x="762120" y="1066680"/>
            <a:chExt cx="7772400" cy="2743200"/>
          </a:xfrm>
        </p:grpSpPr>
        <p:sp>
          <p:nvSpPr>
            <p:cNvPr id="97" name=""/>
            <p:cNvSpPr/>
            <p:nvPr/>
          </p:nvSpPr>
          <p:spPr>
            <a:xfrm>
              <a:off x="1981080" y="1676160"/>
              <a:ext cx="0" cy="6094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28800" y="1676160"/>
              <a:ext cx="0" cy="380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905120" y="1676160"/>
              <a:ext cx="0" cy="380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62120" y="1066680"/>
              <a:ext cx="1828800" cy="533160"/>
            </a:xfrm>
            <a:prstGeom prst="flowChart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14400" y="1066680"/>
              <a:ext cx="1828800" cy="609480"/>
            </a:xfrm>
            <a:prstGeom prst="flowChart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38080" y="1066680"/>
              <a:ext cx="2133720" cy="533160"/>
            </a:xfrm>
            <a:prstGeom prst="flowChartProcess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ES Clea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3" name=""/>
            <p:cNvCxnSpPr>
              <a:stCxn id="102" idx="2"/>
            </p:cNvCxnSpPr>
            <p:nvPr/>
          </p:nvCxnSpPr>
          <p:spPr>
            <a:xfrm>
              <a:off x="1904760" y="1599480"/>
              <a:ext cx="108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4" name=""/>
            <p:cNvCxnSpPr/>
            <p:nvPr/>
          </p:nvCxnSpPr>
          <p:spPr>
            <a:xfrm>
              <a:off x="1904760" y="2895480"/>
              <a:ext cx="1080" cy="305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5" name=""/>
            <p:cNvSpPr/>
            <p:nvPr/>
          </p:nvSpPr>
          <p:spPr>
            <a:xfrm>
              <a:off x="1828800" y="289548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6" name=""/>
            <p:cNvCxnSpPr/>
            <p:nvPr/>
          </p:nvCxnSpPr>
          <p:spPr>
            <a:xfrm>
              <a:off x="3124080" y="2361600"/>
              <a:ext cx="457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7" name=""/>
            <p:cNvSpPr/>
            <p:nvPr/>
          </p:nvSpPr>
          <p:spPr>
            <a:xfrm>
              <a:off x="3048120" y="213336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581280" y="3200040"/>
              <a:ext cx="2286000" cy="533520"/>
            </a:xfrm>
            <a:prstGeom prst="flowChartProcess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rform Price Corre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9" name=""/>
            <p:cNvCxnSpPr/>
            <p:nvPr/>
          </p:nvCxnSpPr>
          <p:spPr>
            <a:xfrm>
              <a:off x="4723920" y="2895480"/>
              <a:ext cx="1080" cy="305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0" name=""/>
            <p:cNvSpPr/>
            <p:nvPr/>
          </p:nvSpPr>
          <p:spPr>
            <a:xfrm>
              <a:off x="4648320" y="289548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867280" y="2133360"/>
              <a:ext cx="609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2" name=""/>
            <p:cNvCxnSpPr/>
            <p:nvPr/>
          </p:nvCxnSpPr>
          <p:spPr>
            <a:xfrm>
              <a:off x="5943600" y="2361600"/>
              <a:ext cx="5342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3" name=""/>
            <p:cNvSpPr/>
            <p:nvPr/>
          </p:nvSpPr>
          <p:spPr>
            <a:xfrm>
              <a:off x="914400" y="3200040"/>
              <a:ext cx="2057400" cy="609840"/>
            </a:xfrm>
            <a:prstGeom prst="flowChartTerminator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o 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2120" y="1904760"/>
              <a:ext cx="2361960" cy="99072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SRS Deployed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477120" y="2057040"/>
              <a:ext cx="2057400" cy="609840"/>
            </a:xfrm>
            <a:prstGeom prst="flowChartTerminator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o 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81280" y="1904760"/>
              <a:ext cx="2362320" cy="99072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SC Binding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304920" y="4038480"/>
            <a:ext cx="853416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ce Correc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manually removes NSRS deployments from SPD input file and re-runs SPD for each interval, procuring the BES that would have otherwise been necessary without NSRS deployme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justed MCPE is posted in BES report (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rcot.com/mktinfo/services/bal/index.htm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holesale Market Subcommitte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pril 17th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657600" y="289548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371600" y="579132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Slide Credits: Carrie Tucker and Matt Mer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holesale Market Subcommitte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pril 17th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balbracht</cp:lastModifiedBy>
  <dcterms:modified xsi:type="dcterms:W3CDTF">2007-04-13T19:29:18Z</dcterms:modified>
  <cp:revision>26</cp:revision>
  <dc:subject/>
  <dc:title>PRR650</dc:title>
</cp:coreProperties>
</file>