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04C-732F-4EC4-9FD6-0C986D61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12A-741D-47AE-B75B-DAC329B9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99D-CCBE-4C61-8A74-EB67573D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6C5-E541-4E10-AEE1-20FEE434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8F3-D34E-4E41-8FCD-606B4F2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5EB-8333-48EC-A638-0C9347C9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28A-7D21-4D2C-B902-A1C3116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FFC-15FC-499B-BBF5-F97C8AC9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BD4-ED77-4E20-BEDC-CDC4B52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AA3-E044-413B-886F-C3A30D8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4C9-5F0E-49DF-81BF-1EADFC02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113-DE4D-40DD-9DD9-A6FC344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264-8BC0-40BE-A1D1-2E38D0CB2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Appeals of PRRs and other Contest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Board Ret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Process for PRRs Recommended by T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epares a TAC Recommen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hip of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epares an Impact Analysi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Chair presents a summary during the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R Appe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appeal of a TAC rejection, the Protocols do not specify the content of the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y filed appeals are placed on the agenda of the next scheduled Boar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detailed procedure in the Protocols regarding how the appeal is presented to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Appeal Process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ior to appealing to the Board, should a market participant be required to seek re-hearing or reconsideration at TA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Appeal Process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 order to ensure a balanced debate of the issues, should TAC appoint a TAC member to make the counterargument, i.e., to serve as the advocate for TAC’s deci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Appeal Process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 the market participant appealing a TAC decision be required to submit a detailed description of the nature of the appeal and arguments supporting the app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so, should ERCOT staff perform a review of the detailed description with the objective of identifying any factually incorrect asser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Appeal Process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 ERCOT Staff be a required to develop its own position with respect to the issues being appealed and advocate its position before TAC and/or the Bo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Basic Types of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s related to ERCOT as a business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role of a corporate Board using principles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iness judgmen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s related to the electric markets that ERCOT admin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role typically played by corporat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based on public interest and ratemak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ard Decis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ed to Market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in the form of Protocol Revision Requests that are either being accepted or rejected by 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Rs come to the Board with fairly broad stakehold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exceptional cases that create decision-making challenges for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f Today’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there changes we should make to the way the Board handles contested PPRs to enhance the quality of the Board’s decision-mak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for th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the guiding principles for the Board’s decision-mak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of the existing PRR appe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/critique of new appeal process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ocess should assist the Board in making an informed decision on contested market desig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ocess should encourage stakeholders to resolve issues at the TAC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ocess should insure that contentious issues are fully vetted at the TAC level and that the Board understands what transpired at TAC and the key elements of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time frames should be short to ensure timely review by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keholders and Board members should have adequate advance notice of the nature of the appeal prior to the Board m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Board’s handling of appeals should show due respect for and deference to the stakeholder proces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 recognize that there are issues for which a majority vote, stakeholder process may not produce an optimal decision from a public interest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1:28:09Z</dcterms:created>
  <dc:creator>Brad Cox</dc:creator>
  <dc:description/>
  <dc:language>en-US</dc:language>
  <cp:lastModifiedBy>dzake</cp:lastModifiedBy>
  <dcterms:modified xsi:type="dcterms:W3CDTF">2007-03-20T21:38:37Z</dcterms:modified>
  <cp:revision>4</cp:revision>
  <dc:subject/>
  <dc:title>Handling Appeals of PRRs and other Contested Issues</dc:title>
</cp:coreProperties>
</file>