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B8A9-007B-4257-B6C2-0C99024F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5F3D7-5A6C-4E63-AE03-6F397AEB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B6C1-9950-4B7B-AFD1-61351BA8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2612-66B9-4067-ADDC-5ABCB64E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1AEA-C31D-4663-8240-44CB4F8B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C4AA-7B32-4C13-B038-2F3AB4C0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8B70-D9FA-4E22-8DCE-C5B50307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7113-FE7B-4470-9908-A263A7FC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091B-ED06-476A-99A7-FF7820AB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188E-3489-4BF8-AFE1-90D0E9C8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0F325-56E3-440D-9070-B1B979EC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77DF-DDB2-415B-968D-68783B02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DF58-F133-44D8-A633-CF29A95CF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ch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 Net Service Availability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990720"/>
          <a:ext cx="7848720" cy="51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7848720" cy="51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ch 2007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43120" y="1066680"/>
          <a:ext cx="7456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066680"/>
                    <a:ext cx="7456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62120" y="838080"/>
          <a:ext cx="7924680" cy="53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38080"/>
                    <a:ext cx="792468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7-04-03T23:27:35Z</dcterms:modified>
  <cp:revision>51</cp:revision>
  <dc:subject/>
  <dc:title>Instructions</dc:title>
</cp:coreProperties>
</file>