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38B-F1FF-4645-8469-583CB57B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CDA-A078-40D2-89C3-6481D1E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7A7-F2C0-415B-9B74-FD819591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0D4-8B35-48FC-9C36-423A4A44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A88-C76C-410E-9D00-BCF873E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A29-F9DE-49FC-872B-6637511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4DA-B1B4-4A8A-B070-4117C56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295-88E3-4319-A858-15A4A2A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0BE-EB68-42A7-9F03-A9402D7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DD1-8C28-4EFC-A49C-A52C6E7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0F7-7B93-47AA-8767-B6C3BCC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E12-1F23-4670-A27C-EF0361D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0BB-7A5E-4B0A-BBE3-40FC73D1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508-14E9-4A9E-B454-360896017B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Switch V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880" y="6384960"/>
            <a:ext cx="77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AS Issue Voting Details: 03/01/07– 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00200"/>
          <a:ext cx="7696080" cy="4419720"/>
        </p:xfrm>
        <a:graphic>
          <a:graphicData uri="http://schemas.openxmlformats.org/drawingml/2006/table">
            <a:tbl>
              <a:tblPr/>
              <a:tblGrid>
                <a:gridCol w="1539720"/>
                <a:gridCol w="1584360"/>
                <a:gridCol w="1494000"/>
                <a:gridCol w="1554120"/>
                <a:gridCol w="1523880"/>
              </a:tblGrid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460-4E0E-4DAE-BB82-98996594C6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47920"/>
          <a:ext cx="8001000" cy="482256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63A-B2C7-457D-AFEA-A7F2C003A3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Non-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447920"/>
          <a:ext cx="8001000" cy="358128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Non-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69B-A091-46EB-8F64-4906FDC27C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Issues Submitted B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38496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Submitted By Source: 03/01/07 – 0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523880"/>
          <a:ext cx="7543800" cy="4437360"/>
        </p:xfrm>
        <a:graphic>
          <a:graphicData uri="http://schemas.openxmlformats.org/drawingml/2006/table">
            <a:tbl>
              <a:tblPr/>
              <a:tblGrid>
                <a:gridCol w="2209680"/>
                <a:gridCol w="1219320"/>
                <a:gridCol w="1371600"/>
                <a:gridCol w="1523880"/>
                <a:gridCol w="121932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bu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Submitted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7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4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3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5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D20-BCEF-4EEF-8067-8A75DE4EA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Withdrawn Faile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384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Withdrawn or Failed Analysis: 03/01/07 – 0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600200"/>
          <a:ext cx="7848720" cy="419040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Failed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ithdra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BB6-EDD8-4F42-BC43-3E5B3464B9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15C-6AA4-46A3-9496-7F4D488FA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ED0-D455-4A84-AB27-111FD40AB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5CF-C76D-44B1-8230-96128933E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098-7065-48CA-A9F3-D657225D45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4582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9FC-E82A-4C0C-901E-E2B28AC7C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4280" y="1523880"/>
            <a:ext cx="79740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1ED-C24C-4A71-9C7B-5348E7D4B3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EC9-413D-4FBF-8189-D3CB22BE5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Submitted by Sub Type – Monthly To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371600"/>
          <a:ext cx="8229600" cy="482436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167652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97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TD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out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nadvertent 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issing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ject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p of Rec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iebel CHG/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Usage/Billing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D2D 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4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349-67C9-40CE-87BF-7F28DBB92D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7-04-02T20:35:01Z</dcterms:modified>
  <cp:revision>663</cp:revision>
  <dc:subject/>
  <dc:title>PowerPoint Presentation</dc:title>
</cp:coreProperties>
</file>