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19BAC7-C878-48D0-97B2-F58BDC950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036517-FD6D-4C35-98E1-960F47243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F99B94-1EEC-4CBC-811D-0847DD212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63C127-143E-4B67-AB80-112A3A22B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078AEA-BA35-4C2C-8285-FC0279CCC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1CFA1-E38F-4B16-9CDC-E9C5869C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B272C-C96B-47B7-B7AB-190160CC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46979-3DCA-4D8A-A944-7436E915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B3E23-27B5-4910-9F68-79C5BF67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A9CDB-5D97-4AEF-B845-7207A3F4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51920" y="8100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B9049-5331-4EA4-A92D-03DBF147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A30B9-6929-487B-B6C6-3A5341F6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71753-38CD-4304-971D-3AD942FE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03C62-3A0E-403B-96E6-C6606C72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CFCC3-F0C0-4314-A994-36B7CC0D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130D7-E6AF-4AA1-B0AE-AE8765AE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0EBCD-5554-442A-8E42-C1A82B9A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51920" y="8100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8100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B469839-8613-4459-ADA7-E86D47DBD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858000" y="6392880"/>
            <a:ext cx="21337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4580-A569-437D-A6F8-FA05B851A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dt" idx="4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4D72-2B99-4A99-8577-5874A8F68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5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6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C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Texas Nodal Market Implementation</a:t>
            </a:r>
            <a:br>
              <a:rPr sz="1600"/>
            </a:br>
            <a:r>
              <a:rPr b="0" lang="en-GB" sz="2000" spc="-1" strike="noStrike">
                <a:solidFill>
                  <a:srgbClr val="808080"/>
                </a:solidFill>
                <a:latin typeface="Arial Black"/>
              </a:rPr>
              <a:t>Data Center Data Migration</a:t>
            </a:r>
            <a:br>
              <a:rPr sz="2000"/>
            </a:br>
            <a:br>
              <a:rPr sz="2000"/>
            </a:b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Briefing for RMS, April 11, 2007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3" name="Picture 3" descr="logo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xas Nodal Program Up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urrent Situa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028520"/>
            <a:ext cx="41972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Data Cen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need to increase storage and test environments due to Nodal demands along with Zona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proven technology solution in the Nodal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already paid for the new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solution has lower operating costs, higher reliability, and reduces the space and electric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Documents and Settings\dforfia\Desktop\Taylor Data Center.jpg"/>
          <p:cNvPicPr/>
          <p:nvPr/>
        </p:nvPicPr>
        <p:blipFill>
          <a:blip r:embed="rId1"/>
          <a:stretch/>
        </p:blipFill>
        <p:spPr>
          <a:xfrm>
            <a:off x="4772160" y="1316160"/>
            <a:ext cx="3298680" cy="1550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4697280" y="2924280"/>
            <a:ext cx="33242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C-1 Data Center (floor schemat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C:\Documents and Settings\dforfia\Desktop\Austin Data Center.jpg"/>
          <p:cNvPicPr/>
          <p:nvPr/>
        </p:nvPicPr>
        <p:blipFill>
          <a:blip r:embed="rId2"/>
          <a:stretch/>
        </p:blipFill>
        <p:spPr>
          <a:xfrm>
            <a:off x="5405400" y="3657600"/>
            <a:ext cx="1857240" cy="16956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4749840" y="5462640"/>
            <a:ext cx="33242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in Data Center (floor schemat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xas Nodal Program Up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data requirements are immense but  being covere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2160" y="1562040"/>
          <a:ext cx="8913600" cy="47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1562040"/>
                    <a:ext cx="89136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Picture 2" descr="C:\Documents and Settings\dforfia\Desktop\Taylor Data Center.jpg"/>
          <p:cNvPicPr/>
          <p:nvPr/>
        </p:nvPicPr>
        <p:blipFill>
          <a:blip r:embed="rId3"/>
          <a:stretch/>
        </p:blipFill>
        <p:spPr>
          <a:xfrm>
            <a:off x="5330880" y="774720"/>
            <a:ext cx="1630440" cy="755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Documents and Settings\dforfia\Desktop\Austin Data Center.jpg"/>
          <p:cNvPicPr/>
          <p:nvPr/>
        </p:nvPicPr>
        <p:blipFill>
          <a:blip r:embed="rId4"/>
          <a:stretch/>
        </p:blipFill>
        <p:spPr>
          <a:xfrm>
            <a:off x="7621560" y="706320"/>
            <a:ext cx="903240" cy="82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xas Nodal Program Up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is migrating 73 servers to 4 AIX servers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ill do this with the minimum disru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a plan t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 the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e the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overal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guard Market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servi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ffect Texas Set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there are always risks to be aware of in server mig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working with all the project managers and ERCOT committees to reduce risk and to optimize the tim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xas Nodal Program Up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Why it is complicate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600" y="872640"/>
            <a:ext cx="49528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refresh of Unix Servers not included on release schedu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is on IO CART’s PPL list fo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complicated because of technology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dal EDS 3 release for January 2008 requires equipment installations in September 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ready” for market t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omes the disaster recovery area for Nodal after go 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7251F21-4746-456A-97A1-669FF79F9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413320" y="1324080"/>
            <a:ext cx="3249720" cy="8427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73 Server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000 Servers need migration, this will prov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3 years of time, until more power is brough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437080" y="2805120"/>
            <a:ext cx="3149640" cy="8431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of migratio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since equi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torage is needed by September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 flipH="1">
            <a:off x="4890600" y="1746360"/>
            <a:ext cx="52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 flipH="1">
            <a:off x="4901760" y="3198960"/>
            <a:ext cx="52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xas Nodal Program Up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1DACC019-2657-4F8E-9CC8-B378235F3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xas Nodal Program Up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pare</cp:lastModifiedBy>
  <dcterms:modified xsi:type="dcterms:W3CDTF">2007-04-03T20:41:43Z</dcterms:modified>
  <cp:revision>227</cp:revision>
  <dc:subject/>
  <dc:title>Texas Nodal Market Implementation ERCOT Board of Directors Meeting Budget Rationale October 17, 2006  Kathy Hager, Market Redesign Program Director </dc:title>
</cp:coreProperties>
</file>