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27EA-E4B8-406E-A2B3-020C6132A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D8F6-F8E5-413A-AA22-F1809CC5A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E707-7352-4A2F-99C0-B432B745F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117D-A3F1-41FD-A14D-4F7AFB59B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3E63-C17C-4019-8A02-BCCE6697A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DAA7-4CF8-454C-BD99-706081DB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AFDA-E9E9-4E4C-A471-26F89C230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417C-DBAC-4A60-A9CB-1BF5D3BEA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FF7F-34A3-448F-A883-8976BC86B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E315-A6F5-43E3-8998-13C61A72B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2EC1-9BAB-4ADB-ACEC-7513B6752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35C7-3F45-48BA-B609-B5C20577A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C769-1C64-4970-BD28-9EC6FDEB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meetings/crb/keydocs/2007/0315/CBA_Process_v5.doc" TargetMode="External"/><Relationship Id="rId2" Type="http://schemas.openxmlformats.org/officeDocument/2006/relationships/hyperlink" Target="http://www.ercot.com/committees/board/tac/prs/crb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A Review Board Update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9528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Benefit Analysis (CBA)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 Board (C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Recommendations of C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DEB4-E3BE-4792-8D76-9E4C1FA56D7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BA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was initially created in 2005 to supplement the 2006 project priori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initial rollout, we have learned much about the challenges of estimating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also encountered issues from time to time at various points in the stakehold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 in 2006, PRS supported the formation of a team to review CBAs on behalf of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 Board met for the first time on January 26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3E23-546F-4D13-8E29-DD387E23E17F}" type="slidenum">
              <a:t>3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s of CBA Review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consistency of CBAs across all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e varying points of view into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forum to challenge CBA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and implement CBA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eer team comprised of market and ERCOT staf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teleconference to review CBA content and discus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BBAC-B6E9-4140-84E0-626CDB3732D6}" type="slidenum">
              <a:t>4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0666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76520"/>
          <a:ext cx="8001000" cy="4495680"/>
        </p:xfrm>
        <a:graphic>
          <a:graphicData uri="http://schemas.openxmlformats.org/drawingml/2006/table">
            <a:tbl>
              <a:tblPr/>
              <a:tblGrid>
                <a:gridCol w="2667240"/>
                <a:gridCol w="2895480"/>
                <a:gridCol w="24382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 Hug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y 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pendent Gen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McKe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 Owned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ny Mun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 Owned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an Ogel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oy And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B 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Feuerb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zabeth Man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BA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m Marti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/RO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t M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BA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aret Sach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e D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83F-ACA0-4934-AB80-66DCAB3021AD}" type="slidenum">
              <a:t>5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review of new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CBA form enhancements to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proce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meetings/crb/keydocs/2007/0315/CBA_Process_v5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B area on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committees/board/tac/prs/crb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d draft documents will be posted to the April 12 meeting page on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AB6B-D7E6-415F-A0CC-61281B8B6011}" type="slidenum">
              <a:t>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3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Recommendations of CRB (dra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e both Summary and Detail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easier stakeholder review (1 page summ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organize sections to focus reader on ke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complexity of market benefi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 focus on Net Benefit dollar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ojects have significant non-quantifiabl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te sections that are rarely used or provid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Reduction (should be noted in Impacts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ing Section (retain benefit of this section by converting these topics to prompting 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y end up with a combined Impact Analysis and CB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AF0C-D8B1-4A4F-8838-2853438CD674}" type="slidenum">
              <a:t>7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will the new form be avail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hoping to submit to PRS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I get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ct Troy at 512-248-3905 or tanderson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1D9D-6A91-41EF-8291-0F14B4A7FA67}" type="slidenum">
              <a:t>8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4-04T15:42:58Z</dcterms:modified>
  <cp:revision>239</cp:revision>
  <dc:subject/>
  <dc:title>Slide 1</dc:title>
</cp:coreProperties>
</file>