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B86-1B59-4468-86AD-E47418B3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F186-C92B-44D6-A5AA-9AA9A970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90-C038-4102-8B99-87379B12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C4D-4494-46ED-97DC-5C97AFB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197-6EE5-440B-AD82-3DA48E59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B99-4FBC-499C-ABF2-FD38361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8E9-BCF6-4C44-8A47-78FED1BA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9D8-2A15-42A7-859A-5F2D839A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FC2-DD47-4ACE-80FC-9A81A32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E9B-E4A4-4F7E-96F1-86380A2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534-5614-4E14-99AE-C00D117E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C49-B69B-4612-BE20-9A236D3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824-1EC4-497C-9277-9D40502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051-55D4-4E7A-9CC1-14E0EF4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1515-D417-4953-925F-0C16C258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rch 13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796-5127-4102-9779-A72DDD2B4B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976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1371600"/>
            <a:ext cx="6629040" cy="2437920"/>
            <a:chOff x="1295280" y="1371600"/>
            <a:chExt cx="6629040" cy="2437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1295280" y="1371600"/>
              <a:ext cx="66290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94000" y="3450960"/>
              <a:ext cx="23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Auxiliary Backcasted Load Pro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2885760" y="3619440"/>
            <a:ext cx="6476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16160" y="3625920"/>
            <a:ext cx="41904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276880" y="3581280"/>
            <a:ext cx="1038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3438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w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57240" y="4514760"/>
            <a:ext cx="4084920" cy="1379520"/>
            <a:chOff x="1857240" y="4514760"/>
            <a:chExt cx="4084920" cy="1379520"/>
          </a:xfrm>
        </p:grpSpPr>
        <p:sp>
          <p:nvSpPr>
            <p:cNvPr id="88" name=""/>
            <p:cNvSpPr/>
            <p:nvPr/>
          </p:nvSpPr>
          <p:spPr>
            <a:xfrm>
              <a:off x="3117960" y="4514760"/>
              <a:ext cx="28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2280" y="58593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240" y="451656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57240" y="45212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9040" y="451800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rcRect l="8277" t="45931" r="34488" b="27564"/>
            <a:stretch/>
          </p:blipFill>
          <p:spPr>
            <a:xfrm>
              <a:off x="1866960" y="4524480"/>
              <a:ext cx="40701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535120" y="5027760"/>
              <a:ext cx="298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79680" y="4976640"/>
              <a:ext cx="340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317.154823.Bcst03162007_aux.csv 20070316.154743.Bcst03152007_aux.csv 20070315.154748.Bcst03142007_aux.csv 20070314.154823.Bcst03132007_aux.c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95480" y="4781520"/>
              <a:ext cx="2143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979640" y="4765680"/>
              <a:ext cx="33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S Reference Sans Serif"/>
                </a:rPr>
                <a:t>Auxiliary Backcasted Profiles Ex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938-5FBF-499D-8A36-7F92238D34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28600"/>
            <a:ext cx="8610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GRR0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69608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BE4-0599-4F27-8E85-D4611D2586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8381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PS recommends to TAC approval of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LPGRR0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268-D0DA-416D-8B62-C294F098D8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3D2-0EEB-46D1-875C-A89F4730C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March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March 6 at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revised Outage Template for Market No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d COPSMG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ggested adding a Code to be used to track to Retail, Wholesale or Market Wide, date of issue, issue number for day, and number of notices sent relating to original notice – ERCOT can implement within existing notic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49F-455F-4A66-B38A-642BAE81F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March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paring draft PRR and NPRR to simplify the dispute process – for discussion at COPS April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and submit comments on TPT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goals and target completion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d update on status of implementing new loa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quested approval of LPGRR018 (voting ite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1BE-7E60-4018-BE73-C246A74D1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228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ntique Olive Roman"/>
              </a:rPr>
              <a:t>March 13th Meeting – PWG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F83-F3CF-442B-AD3C-99E66993C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F89-2368-4CD7-A444-F5F6641E6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853452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o be completed by Wednesday, March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472-FCF9-485F-A991-FE5F12842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oad Profile models are scheduled to be implemented on May 15, 2007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 transition plan Option 3M allows for a mixture of old and new profiles to be used in sett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backcasted load profiles (from new models) are scheduled to start posting to the TML and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arch 14,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rket Notice will be sent out 7 to 10 days before actual posting be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F95-A1EF-41BF-924F-3D3A7C6137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ould be posted in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704-6258-46AF-9A1A-341CE8ACD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60480" y="1797120"/>
            <a:ext cx="6611760" cy="3651120"/>
            <a:chOff x="960480" y="1797120"/>
            <a:chExt cx="6611760" cy="3651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2440" t="35261" r="5739" b="10774"/>
            <a:stretch/>
          </p:blipFill>
          <p:spPr>
            <a:xfrm>
              <a:off x="960480" y="1797120"/>
              <a:ext cx="6611760" cy="29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490920" y="4649760"/>
              <a:ext cx="4022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19400" y="3724200"/>
              <a:ext cx="1733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638520" y="3876840"/>
              <a:ext cx="34671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238640" y="3895560"/>
              <a:ext cx="316224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52720"/>
              <a:ext cx="3352680" cy="8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.(03-17-2007 15:48:23 ).Bcst03162007_aux.csv ext.(03-16-2007 15:47:43 ).Bcst03152007_aux.csv ext.(03-15-2007 15:47:48 ).Bcst03142007_aux.csv ext.(03-14-2007 15:48:23 ).Bcst03132007_aux.csv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5520" y="3689280"/>
              <a:ext cx="251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MS Reference Sans Serif"/>
                </a:rPr>
                <a:t>Auxiliary Backcasted Profiles 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35520" y="368928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MS Reference Sans Serif"/>
              </a:rPr>
              <a:t>Auxiliary Backcasted Profiles Ex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92600" y="3672000"/>
            <a:ext cx="2222280" cy="276480"/>
            <a:chOff x="6492600" y="3672000"/>
            <a:chExt cx="2222280" cy="276480"/>
          </a:xfrm>
        </p:grpSpPr>
        <p:sp>
          <p:nvSpPr>
            <p:cNvPr id="76" name=""/>
            <p:cNvSpPr/>
            <p:nvPr/>
          </p:nvSpPr>
          <p:spPr>
            <a:xfrm>
              <a:off x="7590960" y="36720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w fol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492600" y="3814920"/>
              <a:ext cx="1037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431-0E7D-4491-AA9D-29ADF6B9FB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3-25T17:47:36Z</dcterms:modified>
  <cp:revision>206</cp:revision>
  <dc:subject/>
  <dc:title>Point-to-Point</dc:title>
</cp:coreProperties>
</file>