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142A-ED2D-4F63-BA1A-5C6EC38F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A168-E66B-43AF-8494-2D9FDA2F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3704-3C59-4C07-8D74-B6593AAD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BBD2-1DFD-4C93-905E-9C21FD61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70F0-3C04-4D2C-ADE9-BDC1023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D3C0-9787-451F-9E68-00CFDBD7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3D90-63BC-4A04-9EBC-5A617EBF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E25F-BEA7-4CBD-BFC7-2CDAA7C7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3ABF-1847-4A7F-8672-765EA74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3B52-B33F-434E-9F8E-479A24E7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B76E-8492-4811-BD8D-6FE7BA0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46D0-E84D-47C1-B76A-A1E15D91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66B-7224-4718-A840-55085191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rms/mct/index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hyperlink" Target="mailto:jfrederick@ercot.com" TargetMode="External"/><Relationship Id="rId3" Type="http://schemas.openxmlformats.org/officeDocument/2006/relationships/hyperlink" Target="mailto:smunson@ercot.com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2000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ket Coordination Team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pril 11, 2007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Susan Muns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Retail Market Liaiso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4290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ange to Market Requirements – March MCT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Appendix F:  Replacement Invoice and Usage Data Example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larify Ts &amp; Cs Requirement 3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justments To Previously Transmitt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82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ation on PR 4003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 Production Implementation and Contingency Plan for Texas SET 3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Call to be held to discuss the Draf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April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 – 11:30 am C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-225-7280 (pass code: 15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lan is located in Key Documents on MCT page of ERCO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minder:  Where are Texas SET 3.0 Key Documents Kept?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T page –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rms/mct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hat is t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Requirements Final Version 1.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3.0 - MCT Issues &amp; FAQs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Chang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Guides Version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Implementation Plan DR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 Dates and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ril 26 – ERCOT Me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y 24 – ERCOT Me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une 27 – ERCOT Met Center or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uly 25 – Location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ust 29 – Location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: all meetings are held in conjunction with TX SET meetin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52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ture Meetings/Market Commun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Cont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371600"/>
            <a:ext cx="73152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Project Manag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SR. Business An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pe Parri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nnifer Freder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frederick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522 (w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733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771-9582 (c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413-0815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Market Li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an Mu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munson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3881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826-0564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/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838080"/>
          <a:ext cx="8077320" cy="4832640"/>
        </p:xfrm>
        <a:graphic>
          <a:graphicData uri="http://schemas.openxmlformats.org/drawingml/2006/table">
            <a:tbl>
              <a:tblPr/>
              <a:tblGrid>
                <a:gridCol w="2438280"/>
                <a:gridCol w="2895840"/>
                <a:gridCol w="2743200"/>
              </a:tblGrid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Constraint from May Retail Relea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resourc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Mandate of 07/01/2007 poses tight timel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resourc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X Server Consoli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resourc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533520"/>
          <a:ext cx="8991720" cy="61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9172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6278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40038_01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u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 target for schedule, budget, and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ject Phase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ion –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ing –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– Mandated completion date July 1, 2007; Go-Live 06/24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ing – Target completion is post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Recent Activity as of April 4, 2007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RE UAT 100%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grate Core Build to CERT (TIBCO, Siebel, Paperfree, TML, NAESB, E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egin Connectivity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Next Steps for ERCOT as of April 4, 2007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egin Flight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egin ETS and Reprocessing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alize Production Migration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xt Steps for MC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 to monitor Market issues and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 work on Production Implementation and Contingency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Status Reporting - C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258920"/>
          <a:ext cx="8229600" cy="43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58920"/>
                    <a:ext cx="82296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Status Reporting - C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88960" y="1066680"/>
          <a:ext cx="796464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1066680"/>
                    <a:ext cx="79646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Status Reporting – ERCOT and TDS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28560" y="1066680"/>
          <a:ext cx="788508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66680"/>
                    <a:ext cx="7885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Status Reporting – ERCOT and TDS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11080" y="1066680"/>
          <a:ext cx="752004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066680"/>
                    <a:ext cx="7520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s not Reporting - Apri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ance Power Company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ridg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eler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Power and Light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 Now 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wy 3 MHP, LLC dba Smart Choic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Power Company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Mexico Natural Gas LP dba Texas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 Buy Electric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e Electric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ng Energ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ERCOT</cp:lastModifiedBy>
  <dcterms:modified xsi:type="dcterms:W3CDTF">2007-04-10T16:57:49Z</dcterms:modified>
  <cp:revision>178</cp:revision>
  <dc:subject/>
  <dc:title>Slide 1</dc:title>
</cp:coreProperties>
</file>