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671A-3F77-4F55-81F9-6AC2F7F9A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B608-B209-468D-A26C-E14B5D37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335E-8581-40F7-ACA8-ECB922963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3B3C-94D5-4F40-BE2D-5F7EEFEAE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FDDD-2B6F-4503-8940-62F7E4AB1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B127-BA22-4A8D-9E12-5196E4AC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D5A1-323A-48E1-ABE7-0118CDD9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4763-1932-4A63-88A5-5641D517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8EEA-E9D2-48DD-8083-7DBEAF56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5796-0E1E-4093-B5F6-BA761743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A114-A21B-4FE8-9CD9-ACC1BFDC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FF7C-5EF9-406F-85D4-46DE2B4F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B366-683E-4DF2-A2CF-ABC08956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814B-E4E6-4B5B-9790-A41CBF9B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A9A4-4E90-4F2B-8283-1A845CC3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EE46-FD31-4CA0-BF24-FD2CA5AAA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EDC0-FD31-41A4-AC3B-388BCE25B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C96D-FDFC-434F-83F9-DD90AABD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2832-5532-42D2-9CCE-44783564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22C6-8F4A-490D-945C-6099BB87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89DA-938C-476B-A4E9-2011FF72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7D8C-5B7A-4661-A520-235BEFB6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845A-FE94-427D-8FFD-E4728C57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642C-CA7C-4045-9F14-E28FF951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FB40-6C3D-49EB-8124-3FA30D2DC4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5874-8BE9-4520-8325-ACAA9CD2C5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rket Metrics Working Grou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2498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MS Update: April 11,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209680" y="3657600"/>
            <a:ext cx="479124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rch 23 MMWG Mee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ormance Measures Rulema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CT Staff hopes to have PFD published by April MMWG me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rak Phase 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ed through initial reporting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COT to bring these reports to next meeting for further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an gathering enhancements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ation of all reporting &amp; enhancements on MMWG web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xt meeting is Tuesday, April 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:00 am to 3:00 P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 Energy’s Off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Greenway Plaza, Suite 6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uston, Tex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date from PUCT Staff on Rulema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 data from ERCOT on initial reporting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ve further into enhancement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4:51:13Z</dcterms:created>
  <dc:creator>jgarcia</dc:creator>
  <dc:description/>
  <cp:keywords/>
  <dc:language>en-US</dc:language>
  <cp:lastModifiedBy>Jen Garcia</cp:lastModifiedBy>
  <dcterms:modified xsi:type="dcterms:W3CDTF">2007-04-03T18:09:19Z</dcterms:modified>
  <cp:revision>12</cp:revision>
  <dc:subject/>
  <dc:title>Market Metrics Working Grou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71033</vt:lpwstr>
  </property>
</Properties>
</file>