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930-CA33-4011-946A-15574711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0CA-9881-4A71-9328-B8E39C9F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099-CD7D-43A2-A26A-11AF074D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738-D99C-4520-B04D-4B77491E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074-2FFA-4768-A035-ECFF2834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6A1-2841-4E9F-8A8B-11458CA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76B-CDA4-436B-ACF1-58706C66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165-F3BD-4AC0-8CDC-9435B8D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3C0-D6E0-4F71-87D9-5B79614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42E-BE1F-41F1-A28F-4B96223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A21-B0CB-4382-A1CA-DD775372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63F-AF01-45EA-9D34-DBF12FE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0A4B-ABF8-43F5-9C7F-8B541CD15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1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9F2-B9E0-4B3C-87BF-6D9AD5E7BCE4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put to Phase 2 of the Retail Market Transaction Processing Service  Availability (RMTPSA) AKA 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ized TDTWG NAESB EDM v1.6 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rak API Architecture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AD6-923F-4E9B-942A-384F72D6AB6E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DTWG continue working with ERCOT to support implementation of SCR745 including the new architectu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conversion to new ERCOT NAESB application, completed on 3-9-2007. Stabilization complete 3-30-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supporting changes to Paperfree deployment phase. Update to be provided by 5-1-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BD0-9175-47B0-8155-87ECC3CAD153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ntinue working with the ERCOT Manager of Operations to address each system inc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4-10 TDTWG meeting, system incidents for March were review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Rs to address PaperFree duplicate transaction issue implemented 3-20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217-7C7A-4AA7-9460-F25BD687672A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Continue working with ERCOT and MPs to revise the Retail Market Transaction Processing Service Availability (AKA SLA)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reviewed expanded SLA Reporting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E25-427D-4378-A62C-862E8D363BC0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Finalized and posted TDTWG NAESB EDM v1.6 Implementation Gu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future work to include the Flat File (FF) format and file naming convention for the Customer Billing Contact Information (CBCI) file to the TDTWG NAESB EDM v1.6 Implementation Gu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586-2F03-400A-A8A9-69BBCEBB7930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depth review of the MarkeTrak API Architecture presented to TDTW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to work with ERCOT technical resource on the MarkeTrak A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documentation attached to TDTWG 4-10-2007 Meeting Calen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01E-DEF2-4EEA-BB90-8FE6959D2666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577-F0D8-4A1D-9B85-E14989335E92}" type="slidenum">
              <a:t>8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Farley</cp:lastModifiedBy>
  <cp:lastPrinted>2002-09-24T18:27:58Z</cp:lastPrinted>
  <dcterms:modified xsi:type="dcterms:W3CDTF">2007-04-10T18:57:36Z</dcterms:modified>
  <cp:revision>420</cp:revision>
  <dc:subject/>
  <dc:title>PowerPoint Presentation</dc:title>
</cp:coreProperties>
</file>