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7DCF-559B-4FB5-8BCF-7E34330C8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4FA3-1B9A-405F-BFD0-3BF64CEBF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DCCA-DD98-4B4A-AB79-1514AB17C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03B1-0C58-4F7A-B4E6-69AA76067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4AFB-6AC1-43ED-8163-8EB7AECC5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76E4-14D9-4615-B6A1-574AE6D00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74DE-370E-401D-A3E8-99014BC30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0B63-3A65-4052-BAFC-E430DC12E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6F2E-5399-4D75-9329-7865CB2E5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EC7B-9912-4598-8552-95C01822D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DA99-6AA1-482C-9798-ABA8F8A78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0102-0A0D-4ACD-AEBD-713B039FA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0543-A5B8-4494-A61D-727E730D4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11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3F0447-9E85-4FED-B1EC-2B44EAD77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pril 11, 2007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 RO P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520" y="762120"/>
            <a:ext cx="8994960" cy="54864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6320" y="762120"/>
            <a:ext cx="8994600" cy="2514600"/>
            <a:chOff x="76320" y="762120"/>
            <a:chExt cx="8994600" cy="25146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76320" y="762120"/>
              <a:ext cx="8994600" cy="9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867280" y="2286000"/>
              <a:ext cx="2210040" cy="990720"/>
            </a:xfrm>
            <a:prstGeom prst="borderCallout1">
              <a:avLst>
                <a:gd name="adj1" fmla="val 18750"/>
                <a:gd name="adj2" fmla="val -8333"/>
                <a:gd name="adj3" fmla="val -96152"/>
                <a:gd name="adj4" fmla="val -121263"/>
              </a:avLst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planned 2006 Carry-over Pro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Green Shaded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320" y="1143000"/>
            <a:ext cx="8994600" cy="2158920"/>
            <a:chOff x="76320" y="1143000"/>
            <a:chExt cx="8994600" cy="215892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76320" y="1811160"/>
              <a:ext cx="899460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095880" y="1143000"/>
              <a:ext cx="2210040" cy="1066680"/>
            </a:xfrm>
            <a:prstGeom prst="borderCallout1">
              <a:avLst>
                <a:gd name="adj1" fmla="val 18750"/>
                <a:gd name="adj2" fmla="val -8333"/>
                <a:gd name="adj3" fmla="val 128273"/>
                <a:gd name="adj4" fmla="val -103018"/>
              </a:avLst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BOVE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the  current Capability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range Shaded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4520" y="3386160"/>
            <a:ext cx="8994960" cy="2862360"/>
            <a:chOff x="74520" y="3386160"/>
            <a:chExt cx="8994960" cy="286236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74520" y="3386160"/>
              <a:ext cx="899496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248520" y="3429000"/>
              <a:ext cx="2209680" cy="10666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118175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ELOW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the  current Capability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Yellow Shaded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B0C4-8EEB-4622-87C1-082928037B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planned 2006 Carry-Over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1160" y="350532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 50121_07, Retail Business Processes (SOA) project recently clos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marked as “Complete” in next PPL update posted to ERC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coming cha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 60006_01, ERCOT Outage Evaluation and Resolution (SCR745) is about to go into Clos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1875" r="0" b="1875"/>
          <a:stretch/>
        </p:blipFill>
        <p:spPr>
          <a:xfrm>
            <a:off x="2743200" y="12600"/>
            <a:ext cx="838080" cy="64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4520" y="758880"/>
            <a:ext cx="8994960" cy="26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D877-1E03-42CE-B87C-44657128B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O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502884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projects gated into the next project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 50088_01, ETS Transition to EDW, gated into the Plann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 70006_01, Website Enhancements for ERCOT Outages, gated into the Plann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coming cha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 60008_01, MarkeTrak Enhancements to gate into Initiation; update will be reflected in next PPL posted to ERC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“not yet started” projects to determine next Initiation to activate when resources are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875" r="0" b="1875"/>
          <a:stretch/>
        </p:blipFill>
        <p:spPr>
          <a:xfrm>
            <a:off x="2741760" y="7920"/>
            <a:ext cx="841320" cy="649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20" y="765000"/>
            <a:ext cx="8994960" cy="426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E222-EA39-4DC1-8EC7-FE14499B89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EL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1160" y="5381640"/>
            <a:ext cx="89917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-11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 project below the capability line was cancelled – PR 70010, Transition of Production Reporting to EIS-Reta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11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pe addresses transition of several Retail related reports from running against Production source data to running against the EIS/ODS environment.  Analysis indicates several reports have already been migrated via other EIS-related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11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has decided to cancel the project and transfer remaining scope to PR 50088_01, ETS Transition to EDW (this project above the cut line and a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1875" r="0" b="1875"/>
          <a:stretch/>
        </p:blipFill>
        <p:spPr>
          <a:xfrm>
            <a:off x="2741760" y="-7920"/>
            <a:ext cx="841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520" y="727200"/>
            <a:ext cx="8994960" cy="46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C4BC-893D-4A48-AC7F-A1B0CC14B5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762120"/>
          <a:ext cx="8382240" cy="4773600"/>
        </p:xfrm>
        <a:graphic>
          <a:graphicData uri="http://schemas.openxmlformats.org/drawingml/2006/table">
            <a:tbl>
              <a:tblPr/>
              <a:tblGrid>
                <a:gridCol w="2514600"/>
                <a:gridCol w="990720"/>
                <a:gridCol w="487692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s released by cancellation of project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unds available to release since project was not above the Capability Line and was not allocated any of the $4.88M funding for RO P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8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approved RO funding allocation after release of TX SET 3.0 excess of $2.1M  to CO C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9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ange of $4M – $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~$43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RO Capability Line Budget Funding and 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 of ERCOT.com Secured Area project from RO to MO last month helped narrow the budget shortage for MarkeTrak Enhancements project (previously, RO was running short by about $200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7BEC-3DCE-4795-9CBB-3577A16AD7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37160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E535-87D6-49FC-9556-22865B88E2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amartinez</cp:lastModifiedBy>
  <dcterms:modified xsi:type="dcterms:W3CDTF">2007-04-04T17:04:24Z</dcterms:modified>
  <cp:revision>339</cp:revision>
  <dc:subject/>
  <dc:title>Role of Account Management at ERCOT</dc:title>
</cp:coreProperties>
</file>