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9783A54-1562-4BC7-8E2D-5E7F92C1C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54ACA13-01E7-4740-8493-CC7DDD6D2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EB57A04-5DB7-4763-A85F-E3B5E3F85DC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8EFCC22-5CD0-4CD0-840C-121B58131EB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4CDA4C-BE74-4883-A176-648C8FBC52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F2442-44D3-44F4-AD39-F8A77D267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95A3A-41DD-4257-ADFF-50252C1F0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51995-841F-49A7-AA83-ACD816CCC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532D9-5997-48C0-9545-FB82FDF05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01490-6AFF-45EA-9003-2D39937B2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1E949-78E4-460B-8C92-7E47A92DB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3740C59-8213-45BA-9AE0-BC708BFA8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428C5-3B8A-4E9B-9BA7-C6D8E854E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18F71-DFF8-415F-8796-8CB87B101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B35E2-B035-4833-82FC-BBB0ACBD9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18BA6-EF59-45A2-AC62-44E2C665E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B889F-2226-4BC0-BA7E-179DB99E7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4D93D50-C7AA-4B8B-BF07-86A041E0F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1242746-B61F-44D2-9335-5D7607394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355FFBB-44C8-4BF6-84F2-57A4D1934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AD23762-0E7B-450C-8845-4B198C8295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B1D692A-B0B7-443F-AC2E-54AD009704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F4FC062-ED8A-4A26-B9DD-633B0FD4C8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D74111F-DF0E-439A-9F1F-11EC02EB722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A61C-1C56-4401-BBA6-33D872E5BBE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11B0-498F-493A-8DED-A00B9CCF434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TAC Summary Update to RMS</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ril 11,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380880" y="762120"/>
            <a:ext cx="8382240" cy="54864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C Update to BOD included discussions on Service Level Agreement.  BOD directed CIO Ron Hinsley and CMO Ray Giuliani to return to May meeting with a solution for communication shortfalls when there are issues with weekend process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707 received two last minute revisions, both post- PRS review. One provided language that specifically stated the estimated $50-100K ERCOT systems cost was associated to processing of 814_20 adds within one Retail Business Hour and also the 867_02 usage being forwarded within 4 hours.  At TAC, questions were raised about the cost associated with 867_02 processing since ERCOT had volunteered last fall they already met or beat the requirement.  ERCOT responded they were not sure of RBP implementation impact and had therefore left some contingency dollars in place.  PRR707 was approved unanimously with 2 abstentions from commercial consumers and with the action item that ERCOT must review and update cost estimat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380520" y="685800"/>
            <a:ext cx="8077320" cy="54482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MS update to TAC included discussion associated with market processes necessary to support  rapid growth with distributed generation installations.  TAC is interested in forming a task force to address what appears to be issues crossing multiple sub-committee lines but asked that the RMS COMET WG go ahead and vet further and identify the issues before proceeding with the TAC Task For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included in RMS update to TAC was PMO Director's presentation provided to RMS last month that showed the process, monetary thresholds and ERCOT parties involved with movement of budget dollars.  TAC chair commented on the effort stakeholders and ERCOT had gone through in developing the current project budget and prioritization process.  He supported RMS recommendation to review with PMO the process and communications associated with re-allocating budget dollar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3T18:36:18Z</dcterms:created>
  <dc:creator>AEP</dc:creator>
  <dc:description/>
  <dc:language>en-US</dc:language>
  <cp:lastModifiedBy>AEP</cp:lastModifiedBy>
  <dcterms:modified xsi:type="dcterms:W3CDTF">2007-04-03T18:51:29Z</dcterms:modified>
  <cp:revision>2</cp:revision>
  <dc:subject/>
  <dc:title>TAC Summary Update to RMS</dc:title>
</cp:coreProperties>
</file>