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4D24-52FC-4C26-82DD-F172D9600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1A9A-BF70-497F-833A-61866F1A1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50E3-D5CA-4DA1-8612-CFD740DF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6D36-A567-4534-A8BE-F7801AF2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9C81-5BFC-450E-8A78-4CF793A6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52D8-96D8-47BA-BF28-D4DD93D9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88EB-15EE-4229-A3B4-0912624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6AC8-2798-4DA4-A4E0-3B5381F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403D-5C83-4A25-9432-506BA321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4874-A7AA-4294-898B-37C38538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69E7-2AA6-4B1F-8397-9D43BD0B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1DA4-E40D-4C19-822D-E4CD9B66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30BB-CA6D-40D8-9AD0-D5DDC44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0581-1AC9-4830-B48F-6EA113E7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17DC-4AE6-4DA1-A9AD-891017018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11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ril 11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04/13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to begin with Day 1 transactions flowing: 04/16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scheduled to conclude: 05/29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: 06/15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w REPs – 21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New Umbrella D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Existing REPs testing in a new territory – 0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s testing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testing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(New Umbrella DUNs) changing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,032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 with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f 6 complete with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 of 87 complete with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Connectivity tests outstanding between CRs and TDS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is testing for TX SET Version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s which have elected not to test for TX SET 3.0 will lose their ERCOT cer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cripts were developed specifically for TX SET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Robin testing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isting CR who is currently certified in an IOU or MOU/EC territory will test with at least one IOU TDSP or MOU/EC T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esting with at least one IOU or MOU/EC TDSP, the CR will be certified in all IOU and MOU/EC TDSP territories with whom they were previously cer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for Though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is the largest Flight since MIMO in 05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O had 28,669 Total Tasks (compared to 22,0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O had 2,028 Total Scripts (compared to 2,1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largest Flight was 0104, which had a total of 16,000 Tota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chamblee</cp:lastModifiedBy>
  <dcterms:modified xsi:type="dcterms:W3CDTF">2007-04-03T21:18:28Z</dcterms:modified>
  <cp:revision>70</cp:revision>
  <dc:subject/>
  <dc:title>Instructions</dc:title>
</cp:coreProperties>
</file>