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72C8-C42C-46E6-A545-147180E9B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F48F-89B6-43AF-9AC4-115189E82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D526-A51A-4F9A-99F9-573212BB2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E3E5-FB47-4366-B62C-E96F22709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3BB0-BECF-4FD3-80DE-CAF439AAC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5F7D-23C0-417C-A84C-4AE456E50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C4E3-440D-4936-B2A7-979278744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3C5B-F8BE-4A82-897B-1C6CDEFA5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9255-8D80-45FE-92B1-5EBD56D97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205E-0839-4564-AE39-E4DFF5449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AE0A-F4FF-4D04-9417-256A48EE8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2501-CFA7-49F4-B15B-639A26E1D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B22-76A6-47E6-9D7D-516B6F87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34320" y="641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F97A14-5389-477F-AD68-135D3AAF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293480"/>
            <a:ext cx="7238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SCR 745 –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 - 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7242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Ps have successfully migrated to the new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metrics capture on new servers available on 03/12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NAESB URL disabled on 03/3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coming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essons lea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covered under Retail Transaction Processing Availability Report agenda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002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7-04-04T00:21:42Z</dcterms:modified>
  <cp:revision>106</cp:revision>
  <dc:subject/>
  <dc:title>Instructions</dc:title>
</cp:coreProperties>
</file>