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86C3F-5412-495D-963B-423F3A58C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200AD-ACDF-4E19-B3CB-89A3EF8D6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4B98F-686D-4B03-9415-98CBBCE3E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2727C-59FF-431C-B37D-A0E7CA575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A1784-33BF-4647-889B-667401765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FBCBC-11ED-4C1E-B8E3-349CA98DC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ED8B5-06B6-4F37-BEC9-8F6C36242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5FE7E-BB0A-4425-9943-6CAE7AACD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5B800-4F93-4EC3-AF20-9DD474625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E4957-AE44-4AE1-A58E-5D2C693C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28792-4033-43D4-9A32-94070B66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8C0EE-6F16-45FF-9CE0-8A0C23BC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D3B7A-0606-4300-BF5C-FE344FBE1F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76160" y="1905120"/>
            <a:ext cx="647676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tail Systems Reporting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3240" y="3581280"/>
            <a:ext cx="53337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M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4/11/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etailed Supporting Data – Outages and Degrad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 date of f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1219320"/>
            <a:ext cx="381024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ailed data includ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ification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cation metho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itoring, MP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 imp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imp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 ca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urrent Service Availability Reporting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t i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up or down measurement of service 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s included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(NAES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lation (PaperFre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ration (Sieb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ion (TIBC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bases (Orac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rastructure (hardware that allows processing to happ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any of these systems are unavailable or have problems that stop transaction processing it negatively affects this met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urrent Service Availability Reporting - Exampl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843120" y="1066680"/>
          <a:ext cx="745632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3120" y="1066680"/>
                    <a:ext cx="745632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urrent Service Availability Reporting – Summary Exampl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09480" y="838080"/>
          <a:ext cx="948384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838080"/>
                    <a:ext cx="948384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xpanded SLA and Reporting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A is being expanded to includ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ail service degrad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L 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rak 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extracts &amp; reporting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anded SLA reporting format being developed by ERCOT with TDTWG and will be approved by 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ages and degradations categorized where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ual and monthly summariz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ailed supporting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ew report will likely be stored on the RMS homepag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xpanded SLA Timelin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to present draft expanded SLA to TDTWG on 4/10/07 for review and revi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ference calls will occur to review the final draft to the market for comments and ques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l expanded SLA to be presented at May RMS for approv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raft Format for Future SLA Reporting – Annual Summary</a:t>
            </a:r>
            <a:br>
              <a:rPr sz="2000"/>
            </a:b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Partial Year 2007 Data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861048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raft Format for Future SLA Reporting – Monthly Summary</a:t>
            </a:r>
            <a:br>
              <a:rPr sz="2000"/>
            </a:b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Outage Data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8487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raft Format for Future SLA Reporting – Monthly Summary</a:t>
            </a:r>
            <a:br>
              <a:rPr sz="2000"/>
            </a:b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Degradation Data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229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Christian Brennan</cp:lastModifiedBy>
  <dcterms:modified xsi:type="dcterms:W3CDTF">2007-04-03T21:48:43Z</dcterms:modified>
  <cp:revision>60</cp:revision>
  <dc:subject/>
  <dc:title>Instructions</dc:title>
</cp:coreProperties>
</file>