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79F73-0937-4425-B677-06A274454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7AD01-39EB-429A-BC25-90A759C0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C175-A70B-4B72-A566-5CD85B7D0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1D62-BCCA-4A74-BDF2-0175B3BF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C127D-D661-401F-B4B5-1DECD3DF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FDEE-05CA-41B1-A84F-06E22B54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02A68-48DB-4960-A4D6-5FD8CBBF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851DE-CED8-44D8-A6AD-2EE98EE5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4EC1-E81A-4A9F-B800-3E203C2F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B7CB9-0B57-48F6-99B9-A54B7D39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D7CBD-7BC4-427D-9FA0-5D52782B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5A2BB-FAB7-4626-A7AF-D6285E38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33B3-A1EE-4DB4-AC71-6BE723DAA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828800" cy="914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rms/mct/index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hparrish@ercot.com" TargetMode="External"/><Relationship Id="rId2" Type="http://schemas.openxmlformats.org/officeDocument/2006/relationships/hyperlink" Target="mailto:jfrederick@ercot.com" TargetMode="External"/><Relationship Id="rId3" Type="http://schemas.openxmlformats.org/officeDocument/2006/relationships/hyperlink" Target="mailto:smunson@ercot.com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2000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ffffff"/>
                </a:solidFill>
                <a:latin typeface="Lucida Bright"/>
              </a:rPr>
              <a:t>Market Coordination Team Update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Retail Market Subcommitte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Bright"/>
              </a:rPr>
              <a:t>April 11, 2007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Susan Munso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Lucida Brigh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Lucida Bright"/>
              </a:rPr>
              <a:t>Retail Market Liaison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1143000" y="3429000"/>
            <a:ext cx="7162920" cy="0"/>
          </a:xfrm>
          <a:prstGeom prst="line">
            <a:avLst/>
          </a:prstGeom>
          <a:ln w="31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159984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s / Issu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838080"/>
          <a:ext cx="8077320" cy="5151600"/>
        </p:xfrm>
        <a:graphic>
          <a:graphicData uri="http://schemas.openxmlformats.org/drawingml/2006/table">
            <a:tbl>
              <a:tblPr/>
              <a:tblGrid>
                <a:gridCol w="2438280"/>
                <a:gridCol w="2895840"/>
                <a:gridCol w="2743200"/>
              </a:tblGrid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ig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0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50121_07 RBP – Stabilization necessary for successful implement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estone compl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February Retail Rele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 and resource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estone compl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CT Mandate of 07/01/2007 poses tight timelin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edule and resource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estone comple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533520"/>
          <a:ext cx="8991720" cy="61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899172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ject Schedu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66680" y="62784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2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40038_01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51920" y="7621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tatus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 target for schedule, budget, and 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ject Phases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ion –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nning –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ion – Mandated completion date July 1, 2007; Go-Live 06/24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osing – Target completion is post go-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cent Activity as of March 5, 2007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te Test Plans, Scripting and Data Prep for I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te Core Build TIBCO, Siebel, Paperfree, TML, NAESB, E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e Core Build to iTEST (TIBCO, Siebel, Paperfree, TML, NAESB, E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 UAT on 03/05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ext Steps for ERCOT as of March 5, 2007: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ize Build ETS and Re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te Market Test Plans, Scripting, and Data Pre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t Up Market Test Environ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e to Market Test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ext Steps for MCT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nue to monitor Market issues and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inue work on Production Implementation and Contingency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hange to Market Requirements – March MCT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Appendix F:  Replacement Invoice and Usage Data Example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larify Ts &amp; Cs Requirement 3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justments To Previously Transmitted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3822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formation on PR 40038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ft Production Implementation and Contingency Plan for Texas SET 3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 Call to be held to discuss the Draf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rsday, April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:00 – 11:30 am C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2-225-7280 (pass code: 157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Plan is located in Key Documents on MCT page of ERCO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minder:  Where are Texas SET 3.0 Key Documents Kept?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CT page – ERCO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rms/mct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what is t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SET Version 3.0 Requirements Final Version 1.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SET 3.0 - MCT Issues &amp; FAQs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SET Version 3.0 Change Contr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SET Guides Version 3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SET Version 3.0 Implementation Plan DRAF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ing Dates and Loc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pril 26 – ERCOT Me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y 24 – ERCOT Me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une 27 – ERCOT Met Center or Conference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uly 25 – Location T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ust 29 – Location T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e: all meetings are held in conjunction with TX SET meetin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1522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uture Meetings/Market Communic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RCOT Conta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371600"/>
            <a:ext cx="73152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Project Manag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SR. Business Analy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pe Parris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Jennifer Freder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parrish@ercot.co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frederick@erco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248-6522 (w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248-6733 (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771-9582 (c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413-0815 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COT Market Liais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san Mu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munson@erco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248-3881 (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12-826-0564 (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6248520"/>
            <a:ext cx="7238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ject: PR40038_01    Current Phase: Execution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 PPL   Source: Market/PUCT   Priority: 0-Carryover   Rank: 1    Budget: $1-$3 MM    Program Area: R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5:21:16Z</dcterms:created>
  <dc:creator>jkassel</dc:creator>
  <dc:description/>
  <dc:language>en-US</dc:language>
  <cp:lastModifiedBy>ERCOT</cp:lastModifiedBy>
  <dcterms:modified xsi:type="dcterms:W3CDTF">2007-04-02T20:56:35Z</dcterms:modified>
  <cp:revision>173</cp:revision>
  <dc:subject/>
  <dc:title>Slide 1</dc:title>
</cp:coreProperties>
</file>