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7934-8AC5-4CB0-BA24-B3EE0A837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717A-1416-4188-8594-880B5032D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78D8-DBAE-4AFF-A904-B5CDE52A9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A5B8-731B-497D-AF62-A90291BAC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FD88B-CA7E-4BA4-ACCC-A75B04ED0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B4970-93E0-4F52-B41B-2C81C6C31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8B281-1757-40A3-95B8-70745B5C7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60364-9B4B-4DF2-946C-41E267860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2BF97-D2B9-47F4-A72D-9DB209A8B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7B049-F815-4BAC-8CE2-CE9A4146E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BF07C-9034-428E-A13B-2818FA82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0E2F-3411-4A63-AB57-381ED8C40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E82FD-DA92-47BE-BDB6-53F0935BD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4218D-1731-4FE3-B778-0682FC953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7FDBE-A24E-4A26-BCA0-D0DB0BAD1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EEC53-105E-471F-8DD9-739862893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5504D-6873-4EC4-987B-A20644172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6A81-127F-47AC-AF76-238A2D82D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3D1E-7105-4490-B9AD-04CB5C845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A586-32F6-41F8-B8F4-97D2A4C66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D2C6-D392-40CB-A531-C9E832D6C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2DC8-E3CA-4766-9CF8-CA9036BF7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706A-2829-4F51-A34D-836DD485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06BC-8EEE-47D5-9B4E-B0CD3E8B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2C886-5408-45D5-8254-A61C85584EE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EFDF3-4CDB-4EE4-B5AB-B5A854E7639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arket Metrics Working Group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2498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MS Update: April 11,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209680" y="3657600"/>
            <a:ext cx="479124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arch 23 MMWG Meet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formance Measures Rulema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CT Staff hopes to have PFD published by April MMWG mee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Trak Phase 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ed through initial reporting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COT to bring these reports to next meeting for further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gan gathering enhancements requ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ation of all reporting &amp; enhancements on MMWG web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xt meeting is Tuesday, April 1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:00 am to 3:00 P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ct Energy’s Off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2 Greenway Plaza, Suite 6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uston, Tex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date from PUCT Staff on Rulema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view data from ERCOT on initial reporting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ve further into enhancement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5T14:51:13Z</dcterms:created>
  <dc:creator>jgarcia</dc:creator>
  <dc:description/>
  <cp:keywords/>
  <dc:language>en-US</dc:language>
  <cp:lastModifiedBy>Jen Garcia</cp:lastModifiedBy>
  <dcterms:modified xsi:type="dcterms:W3CDTF">2007-04-03T18:09:19Z</dcterms:modified>
  <cp:revision>12</cp:revision>
  <dc:subject/>
  <dc:title>Market Metrics Working Group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071033</vt:lpwstr>
  </property>
</Properties>
</file>