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7CD3F-11E5-4B69-8596-6E8364A74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BF81-1BAD-4CE9-851A-9EC2A0A78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62A4-5F66-4D3E-A333-99F6FEA99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9AD-B8E3-4E98-B3A5-7A5DFA25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4BD-2636-45DF-B583-DAF8EA08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7CE-2417-490F-8D0D-C4DA0FB3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D03C-F8CF-43BE-9205-29F5CA6C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F1D-12F4-4A53-BDA3-5CC0AAF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F6E9-5120-4D07-A859-B584419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C4D6-9687-40A4-8572-AC3AE7A9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FB2-DA1D-4B98-84CF-9ACC7E2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964-6B9F-484D-B208-A261A94A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D51-3E97-4E37-A8F9-133E49DC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732C-2500-4BE0-97CC-13659138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BB83-E64B-4CF5-882D-B11B428CC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rch 13, 200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742-6773-4B66-9A6D-E7031EACEC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9976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95280" y="1371600"/>
            <a:ext cx="6629040" cy="2437920"/>
            <a:chOff x="1295280" y="1371600"/>
            <a:chExt cx="6629040" cy="2437920"/>
          </a:xfrm>
        </p:grpSpPr>
        <p:pic>
          <p:nvPicPr>
            <p:cNvPr id="81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1295280" y="1371600"/>
              <a:ext cx="6629040" cy="24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294000" y="3450960"/>
              <a:ext cx="2358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Auxiliary Backcasted Load Pro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 flipH="1">
            <a:off x="2885760" y="3619440"/>
            <a:ext cx="6476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116160" y="3625920"/>
            <a:ext cx="41904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276880" y="3581280"/>
            <a:ext cx="1038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53280" y="3438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w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857240" y="4514760"/>
            <a:ext cx="4084920" cy="1379520"/>
            <a:chOff x="1857240" y="4514760"/>
            <a:chExt cx="4084920" cy="1379520"/>
          </a:xfrm>
        </p:grpSpPr>
        <p:sp>
          <p:nvSpPr>
            <p:cNvPr id="88" name=""/>
            <p:cNvSpPr/>
            <p:nvPr/>
          </p:nvSpPr>
          <p:spPr>
            <a:xfrm>
              <a:off x="3117960" y="4514760"/>
              <a:ext cx="28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62280" y="58593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4240" y="451656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57240" y="45212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59040" y="451800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rcRect l="8277" t="45931" r="34488" b="27564"/>
            <a:stretch/>
          </p:blipFill>
          <p:spPr>
            <a:xfrm>
              <a:off x="1866960" y="4524480"/>
              <a:ext cx="40701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3"/>
            <a:stretch/>
          </p:blipFill>
          <p:spPr>
            <a:xfrm>
              <a:off x="2535120" y="5027760"/>
              <a:ext cx="298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479680" y="4976640"/>
              <a:ext cx="340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317.154823.Bcst03162007_aux.csv 20070316.154743.Bcst03152007_aux.csv 20070315.154748.Bcst03142007_aux.csv 20070314.154823.Bcst03132007_aux.c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1995480" y="4781520"/>
              <a:ext cx="2143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979640" y="4765680"/>
              <a:ext cx="33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S Reference Sans Serif"/>
                </a:rPr>
                <a:t>Auxiliary Backcasted Profiles Ex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0728-7DE3-4755-84F5-AB6C606548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228600"/>
            <a:ext cx="8610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PGRR01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69608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85A-F62A-4C88-9652-3249D89D47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1523880"/>
            <a:ext cx="8381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COPS recommends to TAC approval of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LPGRR01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638-E302-4B06-A97F-BD06DA9A7E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CEC-ACC7-4CDE-A427-B31DC66357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ights of March 1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Met March 6 at ERC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revised Outage Template for Market Notif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Updated COPSMG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uggested adding a Code to be used to track to Retail, Wholesale or Market Wide, date of issue, issue number for day, and number of notices sent relating to original notice – ERCOT can implement within existing notice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A568-AB6B-41C9-B0F1-C588530C6E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March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SDA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eparing draft PRR and NPRR to simplify the dispute process – for discussion at COPS April 10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 and submit comments on TPTF docu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viewed goals and target completion 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vided update on status of implementing new load pro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quested approval of LPGRR018 (voting item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D90-B8B6-4FD5-8BD9-06E498C112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5410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33720" y="228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ntique Olive Roman"/>
              </a:rPr>
              <a:t>March 13th Meeting – PWG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BFE0-1A92-43FE-B419-8DCA271651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B24-1865-45E6-939F-8D368A4C94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Status Repor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143000"/>
            <a:ext cx="853452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09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3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o be completed by Wednesday, March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IR 112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A8C0-EBA6-4C1A-894C-4AC3A692B9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Load Profile models are scheduled to be implemented on May 15, 2007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 transition plan Option 3M allows for a mixture of old and new profiles to be used in settl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y backcasted load profiles (from new models) are scheduled to start posting to the TML and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March 14, 200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rket Notice will be sent out 7 to 10 days before actual posting be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291B-505A-41DC-AACE-0770F610F4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PWG –  New Profile Implem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e date 05/15/07 onward, profiles generated from new models will be posted in the “primary” fol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s from old models would be posted in auxiliary folder for 60 days and archived on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.c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fterw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E7F-85CE-49C8-83D8-2AFDDA2EE2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60480" y="1797120"/>
            <a:ext cx="6611760" cy="3651120"/>
            <a:chOff x="960480" y="1797120"/>
            <a:chExt cx="6611760" cy="36511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rcRect l="2440" t="35261" r="5739" b="10774"/>
            <a:stretch/>
          </p:blipFill>
          <p:spPr>
            <a:xfrm>
              <a:off x="960480" y="1797120"/>
              <a:ext cx="6611760" cy="29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3490920" y="4649760"/>
              <a:ext cx="4022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019400" y="3724200"/>
              <a:ext cx="1733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3"/>
            <a:stretch/>
          </p:blipFill>
          <p:spPr>
            <a:xfrm>
              <a:off x="3638520" y="3876840"/>
              <a:ext cx="34671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238640" y="3895560"/>
              <a:ext cx="316224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91120" y="3852720"/>
              <a:ext cx="3352680" cy="8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.(03-17-2007 15:48:23 ).Bcst03162007_aux.csv ext.(03-16-2007 15:47:43 ).Bcst03152007_aux.csv ext.(03-15-2007 15:47:48 ).Bcst03142007_aux.csv ext.(03-14-2007 15:48:23 ).Bcst03132007_aux.csv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5520" y="3689280"/>
              <a:ext cx="251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MS Reference Sans Serif"/>
                </a:rPr>
                <a:t>Auxiliary Backcasted Profiles 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3935520" y="368928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MS Reference Sans Serif"/>
              </a:rPr>
              <a:t>Auxiliary Backcasted Profiles Ex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92600" y="3672000"/>
            <a:ext cx="2222280" cy="276480"/>
            <a:chOff x="6492600" y="3672000"/>
            <a:chExt cx="2222280" cy="276480"/>
          </a:xfrm>
        </p:grpSpPr>
        <p:sp>
          <p:nvSpPr>
            <p:cNvPr id="76" name=""/>
            <p:cNvSpPr/>
            <p:nvPr/>
          </p:nvSpPr>
          <p:spPr>
            <a:xfrm>
              <a:off x="7590960" y="36720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w fol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6492600" y="3814920"/>
              <a:ext cx="1037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64388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Auxiliary Backcasted Load Profil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22A2-180D-44BE-9377-D5B1A992AB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3-25T17:47:36Z</dcterms:modified>
  <cp:revision>206</cp:revision>
  <dc:subject/>
  <dc:title>Point-to-Point</dc:title>
</cp:coreProperties>
</file>