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9E50-9AAB-4889-BA7D-9E0FE60ED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C06F3-751C-4D32-9C0A-321DF5D76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AB0B-3402-41B1-B590-8BE5F34C5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81BB8-5C46-4666-A09A-CCB3FAB35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96505-8231-4E59-8350-C406D5266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0510-4B24-450C-B997-4895229E3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CB1C-BAEB-45F2-AC80-79DD74351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7E56-B305-4399-B5D2-453AB14FD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61DD8-804C-4A4B-AE2E-9E37039C0D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34DD-D3B8-40DC-8242-4AF5CD6B6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FD93C-D81D-4BDD-BF22-E214C047B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3C411-2ABC-4432-95E4-8D8FA16DC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8FFA-8511-46E8-AA75-F3D9ABBC7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rcot.com/meetings/crb/keydocs/2007/0315/CBA_Process_v5.doc" TargetMode="External"/><Relationship Id="rId2" Type="http://schemas.openxmlformats.org/officeDocument/2006/relationships/hyperlink" Target="http://www.ercot.com/committees/board/tac/prs/crb/index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361960" y="2206800"/>
            <a:ext cx="6172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BA Review Board Update to 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y Anders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gram Management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il 11,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295280"/>
            <a:ext cx="8534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st Benefit Analysis (CBA)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Review Board (CR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Recommendations of C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2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9F18A-E399-44DE-8104-8B433B539A69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BA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was initially created in 2005 to supplement the 2006 project prioritiz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ce initial rollout, we have learned much about the challenges of estimating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have also encountered issues from time to time at various points in the stakeholde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te in 2006, PRS supported the formation of a team to review CBAs on behalf of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Review Board met for the first time on January 26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54BC-BFD2-4AA8-A1F5-71450BB79752}" type="slidenum">
              <a:t>3</a:t>
            </a:fld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s of CBA Review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 consistency of CBAs across all market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roduce varying points of view into C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forum to challenge CBA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y and implement CBA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nteer team comprised of market and ERCOT staff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thly teleconference to review CBA content and discuss process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287D0-0242-4EAC-99D5-F2432537CEAD}" type="slidenum">
              <a:t>4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06668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676520"/>
          <a:ext cx="8001000" cy="4495680"/>
        </p:xfrm>
        <a:graphic>
          <a:graphicData uri="http://schemas.openxmlformats.org/drawingml/2006/table">
            <a:tbl>
              <a:tblPr/>
              <a:tblGrid>
                <a:gridCol w="2667240"/>
                <a:gridCol w="2895480"/>
                <a:gridCol w="2438280"/>
              </a:tblGrid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g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l Hug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y J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dependent Gen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bie McKee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or Owned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ny Muno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or Owned U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nan Ogel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ket In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oy And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B Ch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ula Feuerb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izabeth Manso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BA 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am Martin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/RO C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t Mo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BA 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garet Sachn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C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e Dep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66865-14E4-49B0-8437-A80BBEFBA9D2}" type="slidenum">
              <a:t>5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143000"/>
            <a:ext cx="8534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thly review of new C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se CBA form enhancements to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BA process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meetings/crb/keydocs/2007/0315/CBA_Process_v5.d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B area on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ercot.com/committees/board/tac/prs/crb/ind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dated draft documents will be posted to the April 12 meeting page on ERC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06D3D-1744-429B-9B50-AA83C2BC00F0}" type="slidenum">
              <a:t>6</a:t>
            </a:fld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0666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93000"/>
          </a:bodyPr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Recommendations of CRB (draf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570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ise both Summary and Detail t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easier stakeholder review (1 page summ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organize sections to focus reader on ke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complexity of market benefit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570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e focus on Net Benefit dollar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projects have significant non-quantifiabl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570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iminate sections that are rarely used or provid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 Reduction (should be noted in Impacts s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4680" indent="-1652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ing Section (retain benefit of this section by converting these topics to prompting ques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3240" indent="-25704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y end up with a combined Impact Analysis and CBA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A26A-8C10-45D9-8FB4-F98269ACBB24}" type="slidenum">
              <a:t>7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52480" y="763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5f5d"/>
                </a:solidFill>
                <a:latin typeface="Arial"/>
              </a:rPr>
              <a:t>CBA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219320"/>
            <a:ext cx="8763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700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will the new form be avail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re hoping to submit to PRS in Ma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 I get invol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ct Troy at 512-248-3905 or tanderson@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1600200"/>
                <a:tab algn="l" pos="4000680"/>
                <a:tab algn="l" pos="5143680"/>
                <a:tab algn="l" pos="60580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330A-38BD-46BC-A656-37CC5103691D}" type="slidenum">
              <a:t>8</a:t>
            </a:fld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Troy Anderson</cp:lastModifiedBy>
  <dcterms:modified xsi:type="dcterms:W3CDTF">2007-04-04T15:42:58Z</dcterms:modified>
  <cp:revision>239</cp:revision>
  <dc:subject/>
  <dc:title>Slide 1</dc:title>
</cp:coreProperties>
</file>