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D732-64F3-4528-8E37-E75B8248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2642A-F23E-44D7-B94E-996C79B8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847B2-642A-423A-B9FF-E6C8C242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F31F-3FD7-4AA3-AA87-B589A40F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723B-9413-4D71-BA69-13A1D7AA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C490D-3B92-4DD8-B9E5-C32DA9C2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71AD-754E-4C08-B296-F5A1F21A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A6A4-6EA2-4EFF-B70B-4FE54600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3E4E-ADC5-43A5-BCF3-0354A788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55D7-B83E-4EC9-BBF7-55D95E80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7AD97-B5BE-4806-B608-6253031F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FF23E-5901-47C2-84AB-5471ABC9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328-0CA5-4583-8A7E-A11947CFB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RCOT Service Availability Metr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7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2007 Net Service Availability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990720"/>
          <a:ext cx="7848720" cy="51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1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rch 2007 Net Service Avail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843120" y="1066680"/>
          <a:ext cx="745632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066680"/>
                    <a:ext cx="745632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ail Transaction Processing Availability Summar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762120" y="838080"/>
          <a:ext cx="7924680" cy="53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92468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asmallwood</cp:lastModifiedBy>
  <dcterms:modified xsi:type="dcterms:W3CDTF">2007-04-03T23:27:35Z</dcterms:modified>
  <cp:revision>51</cp:revision>
  <dc:subject/>
  <dc:title>Instructions</dc:title>
</cp:coreProperties>
</file>