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009-AC08-4AD7-BE54-37E135EC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C55-FFB9-475E-A932-BE66A06F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D49C-9426-4FE5-965A-3E7DF308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EAE7-88B4-4474-B26A-FE8ADB3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3134-A6AB-4EC0-969C-6372FFA7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285D-5BC1-4673-AF1E-B1027EF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BF10-4F9B-44C4-AB69-92A7F13A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163-6099-495E-8963-78BE4EB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CF5-C80A-4C47-96E9-78FFA22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CF8-9577-458D-BA22-656DE9EA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F78-9CF4-431F-B7FB-297CCCE4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B62-C097-4B60-8046-85B1CFC3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D6C-2E00-48F1-A7E3-8BB8B5113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828800" cy="982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28600" y="1143000"/>
            <a:ext cx="8686800" cy="7632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6360" bIns="363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1295280"/>
            <a:ext cx="7848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porting materials for R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vided b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ail Customer Choice (RCC)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72D0-F4DF-42EE-B58C-4CDFAC1AA6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advertent Switch V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5880" y="6384960"/>
            <a:ext cx="779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AS Issue Voting Details: 03/01/07– 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143000" y="229716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1600200"/>
          <a:ext cx="7696080" cy="4419720"/>
        </p:xfrm>
        <a:graphic>
          <a:graphicData uri="http://schemas.openxmlformats.org/drawingml/2006/table">
            <a:tbl>
              <a:tblPr/>
              <a:tblGrid>
                <a:gridCol w="1539720"/>
                <a:gridCol w="1584360"/>
                <a:gridCol w="1494000"/>
                <a:gridCol w="1554120"/>
                <a:gridCol w="1523880"/>
              </a:tblGrid>
              <a:tr h="102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in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osing MP Vo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5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Vote not received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59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isag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Vo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D4BB-41BA-4CC6-9F3E-0FC8BFAE25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447920"/>
          <a:ext cx="8001000" cy="482256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and Sto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art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date change: Stop Tim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ERCOT system not MP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active –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C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SE in MP sys not ERCOT: inactiv - TDS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108-BD0F-4C43-B954-0E8A906F91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553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DEV Non-LSE Issues Sub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112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33520" y="1447920"/>
          <a:ext cx="8001000" cy="358128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19320"/>
                <a:gridCol w="1371600"/>
              </a:tblGrid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Total DEV Non-LSE Issues Submit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3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5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F3DD-9890-4E9C-B521-0D4DB5233A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2590920" y="304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Issues Submitted By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638496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Submitted By Source: 03/01/07 – 0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143000" y="179244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1523880"/>
          <a:ext cx="7543800" cy="4437360"/>
        </p:xfrm>
        <a:graphic>
          <a:graphicData uri="http://schemas.openxmlformats.org/drawingml/2006/table">
            <a:tbl>
              <a:tblPr/>
              <a:tblGrid>
                <a:gridCol w="2209680"/>
                <a:gridCol w="1219320"/>
                <a:gridCol w="1371600"/>
                <a:gridCol w="1523880"/>
                <a:gridCol w="1219320"/>
              </a:tblGrid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gu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a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bul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3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4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Exist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C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Non-IDR Us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8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Submitted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74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44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33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5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C0DE-FDF4-4D3F-A5EB-E0D6A4E25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33720" y="304920"/>
            <a:ext cx="6858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rak Withdrawn Faile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6384960"/>
            <a:ext cx="815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otal Issues Withdrawn or Failed Analysis: 03/01/07 – 03/31/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63760" y="24652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600200"/>
          <a:ext cx="7848720" cy="419040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2000"/>
                <a:gridCol w="1962360"/>
              </a:tblGrid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2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DEV-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Failed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0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73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Withdra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s by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Issue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9E15-141F-4AF4-9F3C-430ADDBEBD1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1295280"/>
            <a:ext cx="9144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olution Meas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3962520"/>
            <a:ext cx="80773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1B5-B345-4EBA-BB72-9DA5C79E61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143000"/>
            <a:ext cx="8763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COT periodically receives 867_03 Finals and 867_04s for service orders that are Cancelled in ERCOT systems.  The Service Order Sub-Statuses that are considered Cancelled are:  CR Requested, Customer Objection, ERCOT Operating Rule, Manual, Permit Not Received, with Exception, Unexecutable and Rejected by TDSP.   This can indicate an out-of-sync condition between the TDSP and ERC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99"/>
                </a:solidFill>
                <a:uFillTx/>
                <a:latin typeface="Times New Roman"/>
              </a:rPr>
              <a:t>Mechanism for Handling 867 RCSO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RCOT produces 867RCSO data each Friday and submits a report file to each TDSP and CR via the ERCOT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tep 2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 TDSPs review the report line items and take one of the following a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ancell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further action is requ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If the TDSP has completed the service ord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hey will initiate a day-to-day MarkeTrak issue and work with ERCOT to get ERCOT systems changed to complete.  Completion of cancelled service orders will require the approval of the CR initiating the transa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Note: For Cancel by Customer Objection, the TDSP will honor the cancel in their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67s received on Cancelled Service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0C4-6666-492D-B3F9-52B561336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867s received on Cancelled Service Orders - 2007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7543800" cy="381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24A4-7638-4580-83B1-D5DEFDE31C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-Active Transa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olution Measures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CA7-A9E9-4563-A941-AE3A6470C5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1219320"/>
            <a:ext cx="8610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issing 867 Repo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issing 867 Report will provide TDSPs information about Service Orders in a scheduled state for which ERCOT has not received an 867 completing transaction at least seven days after the scheduled meter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ekly report provided to the TDSP via the ERCOT Por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tats Summar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4920" y="3581280"/>
            <a:ext cx="84582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38C8-74BE-46CE-9628-AEE5659A6F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sing 867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84280" y="1523880"/>
            <a:ext cx="79740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ECE-20A2-4C38-9346-C2C04D00F9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1295280"/>
            <a:ext cx="83059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rkeTrak Issue Stat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581280"/>
            <a:ext cx="5029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906-AEC4-4D1E-B361-B9B27C6889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y to Day Issues Submitted by Sub Type – Monthly To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1588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1371600"/>
            <a:ext cx="54864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1371600"/>
          <a:ext cx="8229600" cy="4824360"/>
        </p:xfrm>
        <a:graphic>
          <a:graphicData uri="http://schemas.openxmlformats.org/drawingml/2006/table">
            <a:tbl>
              <a:tblPr/>
              <a:tblGrid>
                <a:gridCol w="3276720"/>
                <a:gridCol w="1447560"/>
                <a:gridCol w="1676520"/>
                <a:gridCol w="182880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ub-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an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eb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 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6369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997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42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 Approval – TD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Cancel without Approv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Inadvertent Sw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0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Missing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ject TX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Rep of Rec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Siebel CHG/Inf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Usage/Billing Iss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1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Total D2D Issues Submit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8be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66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8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3333"/>
                          </a:solidFill>
                          <a:uFillTx/>
                          <a:latin typeface="Times New Roman"/>
                          <a:ea typeface="Times New Roman"/>
                        </a:rPr>
                        <a:t>94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d2db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0E12-119A-4318-A503-6FCA7924E6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21:45:07Z</dcterms:created>
  <dc:creator>kcotner</dc:creator>
  <dc:description/>
  <dc:language>en-US</dc:language>
  <cp:lastModifiedBy>kfarley</cp:lastModifiedBy>
  <cp:lastPrinted>2002-09-24T18:27:58Z</cp:lastPrinted>
  <dcterms:modified xsi:type="dcterms:W3CDTF">2007-04-02T20:35:01Z</dcterms:modified>
  <cp:revision>663</cp:revision>
  <dc:subject/>
  <dc:title>PowerPoint Presentation</dc:title>
</cp:coreProperties>
</file>