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FB3E4-3670-41A9-93C5-9F54203657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8ACEB-05D0-4E5A-B07A-2824C01918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4A5E9-AE20-493E-AE7A-B8D3E6494B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CF024-9117-4C28-9279-2E111A3AA4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04172-B336-4D15-BAC9-6B9F831024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C9C8F-9727-40B6-8A15-AF2C9467D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2291F-CB33-47D0-B022-340CDC3122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ED587-2B57-4A38-B9CE-B4C22AD9C7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7E516-A0F4-4B76-ABE5-3225364D6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F960F-68D9-4655-AE32-3305D8E30C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38E8F-640E-43F5-90A4-2AA6583FCA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943F9-765D-4F25-9A08-B144831CBD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6CC5-368E-4C1E-BC21-A0F1A688B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219320" y="6400800"/>
            <a:ext cx="1600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ril 11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620120" y="64008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218B0D89-57C4-4A74-8C72-820BD458F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martinez@ercot.co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19807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RO Projects Financial Overview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Retail Market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April 11, 2007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Adam Martinez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Market Operations Division Projects Organiz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3352680"/>
            <a:ext cx="716256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104760"/>
            <a:ext cx="87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7 RO P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4520" y="762120"/>
            <a:ext cx="8994960" cy="548640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76320" y="762120"/>
            <a:ext cx="8994600" cy="2514600"/>
            <a:chOff x="76320" y="762120"/>
            <a:chExt cx="8994600" cy="251460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76320" y="762120"/>
              <a:ext cx="8994600" cy="96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867280" y="2286000"/>
              <a:ext cx="2210040" cy="990720"/>
            </a:xfrm>
            <a:prstGeom prst="borderCallout1">
              <a:avLst>
                <a:gd name="adj1" fmla="val 18750"/>
                <a:gd name="adj2" fmla="val -8333"/>
                <a:gd name="adj3" fmla="val -96152"/>
                <a:gd name="adj4" fmla="val -121263"/>
              </a:avLst>
            </a:prstGeom>
            <a:solidFill>
              <a:srgbClr val="cc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nplanned 2006 Carry-over Proje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Green Shaded Are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76320" y="1143000"/>
            <a:ext cx="8994600" cy="2158920"/>
            <a:chOff x="76320" y="1143000"/>
            <a:chExt cx="8994600" cy="215892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76320" y="1811160"/>
              <a:ext cx="8994600" cy="14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6095880" y="1143000"/>
              <a:ext cx="2210040" cy="1066680"/>
            </a:xfrm>
            <a:prstGeom prst="borderCallout1">
              <a:avLst>
                <a:gd name="adj1" fmla="val 18750"/>
                <a:gd name="adj2" fmla="val -8333"/>
                <a:gd name="adj3" fmla="val 128273"/>
                <a:gd name="adj4" fmla="val -103018"/>
              </a:avLst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jects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ABOVE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the  current Capability 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Orange Shaded Are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74520" y="3386160"/>
            <a:ext cx="8994960" cy="2862360"/>
            <a:chOff x="74520" y="3386160"/>
            <a:chExt cx="8994960" cy="286236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74520" y="3386160"/>
              <a:ext cx="899496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6248520" y="3429000"/>
              <a:ext cx="2209680" cy="1066680"/>
            </a:xfrm>
            <a:prstGeom prst="borderCallout1">
              <a:avLst>
                <a:gd name="adj1" fmla="val 18750"/>
                <a:gd name="adj2" fmla="val -8333"/>
                <a:gd name="adj3" fmla="val 121875"/>
                <a:gd name="adj4" fmla="val -118175"/>
              </a:avLst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jects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BELOW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the  current Capability 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Yellow Shaded Are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0D66C-CBFD-41E1-97BA-DD93CB4C3C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planned 2006 Carry-Over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1160" y="350532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 50121_07, Retail Business Processes (SOA) project recently clos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14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be marked as “Complete” in next PPL update posted to ERCO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pcoming chan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14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 60006_01, ERCOT Outage Evaluation and Resolution (SCR745) is about to go into Closing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1875" r="0" b="1875"/>
          <a:stretch/>
        </p:blipFill>
        <p:spPr>
          <a:xfrm>
            <a:off x="2743200" y="12600"/>
            <a:ext cx="838080" cy="644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74520" y="758880"/>
            <a:ext cx="8994960" cy="26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54BE0-2035-4B27-8158-4DD9CD1666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BOV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he Capability Lin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5028840"/>
            <a:ext cx="8991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-114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 projects gated into the next project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14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 50088_01, ETS Transition to EDW, gated into the Planning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14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 70006_01, Website Enhancements for ERCOT Outages, gated into the Planning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pcoming chan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14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 60008_01, MarkeTrak Enhancements to gate into Initiation; update will be reflected in next PPL posted to ERCO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114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f “not yet started” projects to determine next Initiation to activate when resources are avai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1875" r="0" b="1875"/>
          <a:stretch/>
        </p:blipFill>
        <p:spPr>
          <a:xfrm>
            <a:off x="2741760" y="7920"/>
            <a:ext cx="841320" cy="649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4520" y="765000"/>
            <a:ext cx="8994960" cy="426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63D71-3541-4E15-A6C7-206DC8C1F1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ELO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he Capability Lin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1160" y="5381640"/>
            <a:ext cx="899172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10880" indent="-110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e project below the capability line was cancelled – PR 70010, Transition of Production Reporting to EIS-Retai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110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pe addresses transition of several Retail related reports from running against Production source data to running against the EIS/ODS environment.  Analysis indicates several reports have already been migrated via other EIS-related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32640" indent="-1108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has decided to cancel the project and transfer remaining scope to PR 50088_01, ETS Transition to EDW (this project above the cut line and ac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1875" r="0" b="1875"/>
          <a:stretch/>
        </p:blipFill>
        <p:spPr>
          <a:xfrm>
            <a:off x="2741760" y="-7920"/>
            <a:ext cx="841320" cy="649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4520" y="727200"/>
            <a:ext cx="8994960" cy="468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DD2B7-9E2B-496C-9B86-F1F5A6BFF0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ancial Overview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80880" y="762120"/>
          <a:ext cx="8382240" cy="4773600"/>
        </p:xfrm>
        <a:graphic>
          <a:graphicData uri="http://schemas.openxmlformats.org/drawingml/2006/table">
            <a:tbl>
              <a:tblPr/>
              <a:tblGrid>
                <a:gridCol w="2514600"/>
                <a:gridCol w="990720"/>
                <a:gridCol w="4876920"/>
              </a:tblGrid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 PPL Budget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ou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s/com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ds released by cancellation of project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apability 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funds available to release since project was not above the Capability Line and was not allocated any of the $4.88M funding for RO PP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RO Capability Line Budget Fun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88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approved RO funding allocation after release of TX SET 3.0 excess of $2.1M  to CO C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Spend of projects above the Capability Li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.92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range of $4M – $5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Vari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~$43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 between RO Capability Line Budget Funding and Current Forecast Spend of projects above the Capability 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er of ERCOT.com Secured Area project from RO to MO last month helped narrow the budget shortage for MarkeTrak Enhancements project (previously, RO was running short by about $200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5BBD9-042F-4C9D-97ED-D28FDED323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/ Conta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371600"/>
            <a:ext cx="82296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m D. Martin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, Market Operations Divisional Projects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12) 248-38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martinez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F7EBE-F539-409B-984C-AB48C46F06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amartinez</cp:lastModifiedBy>
  <dcterms:modified xsi:type="dcterms:W3CDTF">2007-04-04T17:04:24Z</dcterms:modified>
  <cp:revision>339</cp:revision>
  <dc:subject/>
  <dc:title>Role of Account Management at ERCOT</dc:title>
</cp:coreProperties>
</file>