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1B260E2-BE3A-4FE6-A6AD-F2AF91374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F0C2B8-22D2-485D-B8C6-EFCD2B18E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4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A89C00-E6FF-44E6-A934-0DD0823C4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DFF735-B08B-4582-A2C8-9D591BCD6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183149-2441-4845-9E94-3B0F786C0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0171-97E5-49EA-95B8-5C4CE326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F0CAB-6CC1-4BA3-9F6E-24B3A495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D2D6A-0CFA-4E31-85AD-A2AADEF6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D2969-9D26-4597-B08C-7D7ECBBB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90A98-60C6-4555-9296-54F35C9D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51920" y="8100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BB06E-FADC-4616-92A6-6DE537B5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55A6D-81AC-4E58-AFAD-9FC21B93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0C987-EB82-46E0-B2CE-DE071086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F7093-ACC5-4347-A184-B6190AB6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AC502-7892-4072-A180-A9FBFAF0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2D753-2A97-41A7-A125-A0DB9FC8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E4C44-E7E5-4283-A82E-880F416FE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51920" y="8100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1920" y="8100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C5A5D18-9B0A-4A7C-B37B-90F231A6D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858000" y="6392880"/>
            <a:ext cx="213372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ead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 th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69E2-4AC2-4FB2-B853-01AD6DCEE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3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dt" idx="4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DD9B-97E5-4686-A4A4-1684DD310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5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6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C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8080"/>
                </a:solidFill>
                <a:latin typeface="Arial Black"/>
              </a:rPr>
              <a:t>Texas Nodal Market Implementation</a:t>
            </a:r>
            <a:br>
              <a:rPr sz="1600"/>
            </a:br>
            <a:r>
              <a:rPr b="0" lang="en-GB" sz="2000" spc="-1" strike="noStrike">
                <a:solidFill>
                  <a:srgbClr val="808080"/>
                </a:solidFill>
                <a:latin typeface="Arial Black"/>
              </a:rPr>
              <a:t>Data Center Data Migration</a:t>
            </a:r>
            <a:br>
              <a:rPr sz="2000"/>
            </a:br>
            <a:br>
              <a:rPr sz="2000"/>
            </a:br>
            <a:r>
              <a:rPr b="0" lang="en-GB" sz="1600" spc="-1" strike="noStrike">
                <a:solidFill>
                  <a:srgbClr val="808080"/>
                </a:solidFill>
                <a:latin typeface="Arial"/>
              </a:rPr>
              <a:t>Briefing for RMS, April 11, 2007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3" name="Picture 3" descr="logo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xas Nodal Program Up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urrent Situati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028520"/>
            <a:ext cx="41972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Data Cen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increase storage and test environments due to Nodal demands along with Zon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 proven technology solution in the Nodal bud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already paid for the new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solution has lower operating costs, higher reliability, and reduces the space and electric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C:\Documents and Settings\dforfia\Desktop\Taylor Data Center.jpg"/>
          <p:cNvPicPr/>
          <p:nvPr/>
        </p:nvPicPr>
        <p:blipFill>
          <a:blip r:embed="rId1"/>
          <a:stretch/>
        </p:blipFill>
        <p:spPr>
          <a:xfrm>
            <a:off x="4772160" y="1316160"/>
            <a:ext cx="3298680" cy="1550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4697280" y="2924280"/>
            <a:ext cx="33242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C-1 Data Center (floor schemat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C:\Documents and Settings\dforfia\Desktop\Austin Data Center.jpg"/>
          <p:cNvPicPr/>
          <p:nvPr/>
        </p:nvPicPr>
        <p:blipFill>
          <a:blip r:embed="rId2"/>
          <a:stretch/>
        </p:blipFill>
        <p:spPr>
          <a:xfrm>
            <a:off x="5405400" y="3657600"/>
            <a:ext cx="1857240" cy="16956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4749840" y="5462640"/>
            <a:ext cx="33242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in Data Center (floor schemat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xas Nodal Program Up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data requirements are immense but  being covere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92160" y="1562040"/>
          <a:ext cx="8913600" cy="47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160" y="1562040"/>
                    <a:ext cx="89136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Picture 2" descr="C:\Documents and Settings\dforfia\Desktop\Taylor Data Center.jpg"/>
          <p:cNvPicPr/>
          <p:nvPr/>
        </p:nvPicPr>
        <p:blipFill>
          <a:blip r:embed="rId3"/>
          <a:stretch/>
        </p:blipFill>
        <p:spPr>
          <a:xfrm>
            <a:off x="5330880" y="774720"/>
            <a:ext cx="1630440" cy="755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C:\Documents and Settings\dforfia\Desktop\Austin Data Center.jpg"/>
          <p:cNvPicPr/>
          <p:nvPr/>
        </p:nvPicPr>
        <p:blipFill>
          <a:blip r:embed="rId4"/>
          <a:stretch/>
        </p:blipFill>
        <p:spPr>
          <a:xfrm>
            <a:off x="7621560" y="706320"/>
            <a:ext cx="903240" cy="82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xas Nodal Program Up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Nodal is migrating 73 servers to 4 AIX servers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ill do this with the minimum disrup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a plan t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th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 the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overall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guard Marke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service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ffect Texas Set 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, there are always risks to be aware of in server mig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working with all the project managers and ERCOT committees to reduce risk and to optimize the tim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xas Nodal Program Up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Why it is complicated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600" y="872640"/>
            <a:ext cx="49528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refresh of Unix Servers not included on release schedu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is on IO CART’s PPL list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complicated because of technology 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dal EDS 3 release for January 2008 requires equipment installations in September 200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ready” for market t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comes the disaster recovery area for Nodal after go l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4D5284A6-9A81-492C-9B04-37C30BD88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413320" y="1324080"/>
            <a:ext cx="3249720" cy="84276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73 Servers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000 Servers need migration, this will prov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 years of time, until more power is brough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437080" y="2805120"/>
            <a:ext cx="3149640" cy="8431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9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ing of migration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since equi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orage is needed by September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9"/>
          <p:cNvSpPr/>
          <p:nvPr/>
        </p:nvSpPr>
        <p:spPr>
          <a:xfrm flipH="1">
            <a:off x="4890600" y="1746360"/>
            <a:ext cx="5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 flipH="1">
            <a:off x="4901760" y="3198960"/>
            <a:ext cx="52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xas Nodal Program Up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8100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115560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odal.ercot.c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66A6FAAE-0737-44B3-AEEC-C4F283F90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xas Nodal Program Updat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pare</cp:lastModifiedBy>
  <dcterms:modified xsi:type="dcterms:W3CDTF">2007-04-03T20:41:43Z</dcterms:modified>
  <cp:revision>227</cp:revision>
  <dc:subject/>
  <dc:title>Texas Nodal Market Implementation ERCOT Board of Directors Meeting Budget Rationale October 17, 2006  Kathy Hager, Market Redesign Program Director </dc:title>
</cp:coreProperties>
</file>