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7D1362-2E32-44D4-A578-5698EEB6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9555FE-B74C-4F57-886B-A14ECEFFB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B6F30A-D327-4177-A9E6-F9A2DD3D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B49253-E130-4A76-84B2-5510CFB1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4E88B4F-F921-4380-9DF9-ECF3770E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F1C2-B1A7-4AF3-A1FC-820AA45B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E766-48DE-436E-BE97-161EDE22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7F075-37E7-4680-875E-7766B41E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508D7-91D7-455D-B2FA-732F5CC4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186F-AC45-40DC-87D1-130E4839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BA46-D89C-4973-8B0E-C8D863C9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EE787-9C9A-489C-8A88-18F633ED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A9957-E25F-45FC-B909-10CAF82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DCD8-1064-4970-80EC-AE1CA787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9EED8-9C75-4AD9-B28A-F57E260A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1071-69FF-4559-916F-33B89751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C2A1-C64E-48CD-BAB4-F68E3FD5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D3E0245-41C8-4C88-A81A-D852CFEA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9288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2F97-DCBA-40A4-AE51-FAF0CA16C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E46B-A5F6-4919-BE3E-388DCFA1F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600"/>
            </a:br>
            <a:r>
              <a:rPr b="0" lang="en-GB" sz="2000" spc="-1" strike="noStrike">
                <a:solidFill>
                  <a:srgbClr val="808080"/>
                </a:solidFill>
                <a:latin typeface="Arial Black"/>
              </a:rPr>
              <a:t>Data Center Data Migration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riefing for RMS, April 11, 2007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3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Situ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028520"/>
            <a:ext cx="4197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ata Ce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increase storage and test environments due to Nodal demands along with Zon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proven technology solution in the Nod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already paid for the new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solution has lower operating costs, higher reliability, and reduces the space and electr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dforfia\Desktop\Taylor Data Center.jpg"/>
          <p:cNvPicPr/>
          <p:nvPr/>
        </p:nvPicPr>
        <p:blipFill>
          <a:blip r:embed="rId1"/>
          <a:stretch/>
        </p:blipFill>
        <p:spPr>
          <a:xfrm>
            <a:off x="4772160" y="1316160"/>
            <a:ext cx="3298680" cy="1550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697280" y="292428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C-1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Documents and Settings\dforfia\Desktop\Austin Data Center.jpg"/>
          <p:cNvPicPr/>
          <p:nvPr/>
        </p:nvPicPr>
        <p:blipFill>
          <a:blip r:embed="rId2"/>
          <a:stretch/>
        </p:blipFill>
        <p:spPr>
          <a:xfrm>
            <a:off x="5405400" y="3657600"/>
            <a:ext cx="1857240" cy="1695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749840" y="546264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in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data requirements are immense but  being cover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2160" y="1562040"/>
          <a:ext cx="8913600" cy="47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562040"/>
                    <a:ext cx="89136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2" descr="C:\Documents and Settings\dforfia\Desktop\Taylor Data Center.jpg"/>
          <p:cNvPicPr/>
          <p:nvPr/>
        </p:nvPicPr>
        <p:blipFill>
          <a:blip r:embed="rId3"/>
          <a:stretch/>
        </p:blipFill>
        <p:spPr>
          <a:xfrm>
            <a:off x="5330880" y="774720"/>
            <a:ext cx="1630440" cy="7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dforfia\Desktop\Austin Data Center.jpg"/>
          <p:cNvPicPr/>
          <p:nvPr/>
        </p:nvPicPr>
        <p:blipFill>
          <a:blip r:embed="rId4"/>
          <a:stretch/>
        </p:blipFill>
        <p:spPr>
          <a:xfrm>
            <a:off x="7621560" y="706320"/>
            <a:ext cx="903240" cy="8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s migrating 73 servers to 4 AIX server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do this with the minimum disru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a plan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th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the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veral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guard Mark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fect Texas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there are always risks to be aware of in server mi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working with all the project managers and ERCOT committees to reduce risk and to optimize the ti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y it is complica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8726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refresh of Unix Servers not included on release sched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is on IO CART’s PPL list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licated because of technolog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EDS 3 release for January 2008 requires equipment installations in September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ready” for 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 the disaster recovery area for Nodal after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69671FE-D045-4D48-AF7B-DBAF0C07D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413320" y="1324080"/>
            <a:ext cx="3249720" cy="842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73 Serve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00 Servers need migration, this will pro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 years of time, until more power is brough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37080" y="2805120"/>
            <a:ext cx="3149640" cy="843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of migra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since equi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orage is needed by Sept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890600" y="17463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4901760" y="31989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2A7AC83-BD5C-498C-9AC8-B884873B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pare</cp:lastModifiedBy>
  <dcterms:modified xsi:type="dcterms:W3CDTF">2007-04-03T20:41:43Z</dcterms:modified>
  <cp:revision>227</cp:revision>
  <dc:subject/>
  <dc:title>Texas Nodal Market Implementation ERCOT Board of Directors Meeting Budget Rationale October 17, 2006  Kathy Hager, Market Redesign Program Director </dc:title>
</cp:coreProperties>
</file>