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7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8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92AD-7856-4850-9BF0-A9DB3A83B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4C59-01C2-47F3-A483-7CAA9345F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2163-472A-497A-9A45-B49FC5C3B1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2B7C3-2F04-4412-8888-0496380B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D2AE-940E-46F7-A3CA-10CE147E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BA54-42A4-41E7-8993-E5CC64AC12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CAE2-6FB3-4370-9075-E5F5634B46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1666-E297-49CB-8403-9675046FE3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3226-4F4A-4D96-BF30-DDDE14DE9C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563-EDB2-4E90-90B3-0C034EC9EE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CF3-58A7-484B-AEC8-A1ECF911C6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7F2A-42D7-48F1-A5DB-82ED375452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B6D-1768-4C98-AB8A-DBB4C73413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7503-CEC9-4B7A-8FB1-247E7746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1C5-31B5-4D41-82F4-94D84D14B8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204-8CCC-4FEF-AEB0-5C404A8AC0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B0C8-0843-4399-8952-DB811DA482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5525-842B-4A8F-BC20-E78FEC3C8B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C696-675A-4775-8E5E-FB99FFAC19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03681-902A-4C5F-8116-ECEE0775A0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F3BB24-1A35-41EE-A725-3E087DD5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15B05-1623-41BA-B09D-B7D12D49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A159F6-C66C-4AAC-95D6-95DEBD76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A0056-8BCE-42D9-ADDA-34B1764C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2D78C-0653-4341-ABEF-023B10B0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812E9-D48F-4B57-9295-AC620A65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88F8A-B06A-4D8F-8B30-E84A0C1B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BB3B0-657D-40DC-BF84-3FCE282F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22E70-68D7-4F25-B712-BA65C0C7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3CA2C-4FD9-4D1E-9CD5-E8778B11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DF6B5-44E9-4858-9A8C-31906316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149AF-A3DA-4EFD-B520-1DE34FB67F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4ACAE-A200-4A9D-8181-6C48ACC7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6ADF8-A91F-40C9-BB6D-A02B717D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68AE-AD0C-4858-A6C8-927C5C150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5A26-CECC-4B25-8FD1-0258FF48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20B2-7EC2-49A1-834D-00BA5951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BBC3D-A5E6-4E46-98D1-7668BE3C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34C6-7D0C-48E9-A334-B72BDD7F9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529D-EE14-4713-B0B0-F17F8A285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2C9C-3C57-4883-A5E0-559CEB0B06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d B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Cirro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Vice-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10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1DC9-7F53-40A4-8D38-ED1F970A64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762120" y="2209680"/>
            <a:ext cx="7543800" cy="2895480"/>
            <a:chOff x="762120" y="2209680"/>
            <a:chExt cx="7543800" cy="289548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797040" y="2325600"/>
              <a:ext cx="7508880" cy="27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762120" y="2209680"/>
              <a:ext cx="766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.1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976320" y="1523880"/>
            <a:ext cx="71899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5f5d"/>
                </a:solidFill>
                <a:latin typeface="Arial"/>
              </a:rPr>
              <a:t>LPG Reference to Decision Tree Annual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CE5B-9E6B-4853-BAB2-9AB8F8BB70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80000"/>
          </a:bodyPr>
          <a:p>
            <a:pPr marL="233280" indent="-23328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Time Period:  January 2002 through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y 20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ter reading periods for all rea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5000"/>
              </a:lnSpc>
              <a:spcBef>
                <a:spcPts val="99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fy each usage value as a winter or shoulder r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-2332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houlder and winter readings were used in th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ter/Shoulde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&gt;= September 20 and stop &lt;= May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te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&gt;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ecember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stop &lt;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ebruary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e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&gt;= September 20 and stop &lt;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vember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39520" indent="-192960">
              <a:lnSpc>
                <a:spcPct val="40000"/>
              </a:lnSpc>
              <a:spcBef>
                <a:spcPts val="400"/>
              </a:spcBef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&gt;=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arch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stop &lt;= May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39520" indent="-192960">
              <a:lnSpc>
                <a:spcPct val="4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83960">
              <a:lnSpc>
                <a:spcPct val="4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asonal Crossover Rea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9760" indent="-178920">
              <a:lnSpc>
                <a:spcPct val="4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779760" indent="-1789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f 60% or more of the days in a reading are in the shoulder season the reading is classified as a shoulder 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9760" indent="-1789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f 60% or more of the days in a reading are in the winter season the reading is classified as a winter 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779760" indent="-17892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ther wise the reading is discar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54080" y="1219320"/>
            <a:ext cx="71899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80"/>
                </a:solidFill>
                <a:latin typeface="Arial"/>
              </a:rPr>
              <a:t>2007 Decision Tree – Residential Annual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3C4E9-1401-4338-816C-71EAEC83C4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85600" y="1752120"/>
            <a:ext cx="6810120" cy="42879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lvl="1" marL="92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highest winter reading kWh/day is less than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Wh/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assign “RESLOW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88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HIW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0.60 and 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HIW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LOW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assign “RESHIW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88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number of readings available &gt;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HIW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gt; 0.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(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HIW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.00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&gt; 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LOW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Winter Max kWh/day &gt;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n assign “RESHIW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110000"/>
              </a:lnSpc>
              <a:spcBef>
                <a:spcPts val="88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wise assign “RESLOW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1295280"/>
            <a:ext cx="68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2007 Decision Tree – Residential Annual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29ABD-C4F8-4240-B78F-8754A8EB8D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294920" y="1981080"/>
            <a:ext cx="618516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tial Annual Validation for 2007 is likely to result 6.3 % mig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ntinued use of the  new models, future annual migration rates should be lower than the 2007 rate ( estimated 4.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1447920"/>
            <a:ext cx="7527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Residential – 2007 Annual Validatio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1A202-5316-4A47-95D8-A00AE35E8B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81000" y="2819160"/>
            <a:ext cx="71820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- Assignment Year for Average Load Factor calculations: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uly 2006 through Jun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33640" y="1752480"/>
            <a:ext cx="68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5f5d"/>
                </a:solidFill>
                <a:latin typeface="Arial"/>
              </a:rPr>
              <a:t>2007 Decision Tree – Business Annual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03D0-5A33-46C0-B803-8A22ECBFC4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9120" y="779400"/>
            <a:ext cx="85899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 COPS recommend to the TAC approval of the following Decision Tree Annual Upd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3160" y="3962520"/>
            <a:ext cx="830556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Tree reflecting Residential Annual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Decision Tree – Annual Update DRAFT eff 06-15-07 RES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Tree reflecting Business Annual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Decision Tree – Annual Update DRAFT eff 8-15-07 BUS.x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F964-D953-4EBC-BEA5-6117C8A5B2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1393920"/>
            <a:ext cx="86104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LC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 Sponsorshi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Market or P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) Budget and Project allocation above th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) PWG Goal and ERCOT Staff resource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) Develop scope for concept approval b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) Develop PRR and LPGRR language to fine t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) Implementation of ERCOT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7) Timeline (target summer 20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76103-D9D7-4820-9F09-8D9CB8BF91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876920" cy="2590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2120" y="5105520"/>
            <a:ext cx="80010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meets on the fourth Tuesday of the Month thru 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4838-55D4-4975-AC44-BF3CE060EB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D576A-3769-40EA-9218-D26C052E29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828800"/>
            <a:ext cx="7925040" cy="45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new Version 2 ERCOT Profiles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Schedule. All 72 combinations of profiles shall be sent to the auxiliary backcast fi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S sample selection round two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ample sites lists to be delivered to TDSP and presentation to PWG in April. See 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http://www.ercot.com/meetings/pwg/keydocs/2007/0327/LRS_Update_PWG_Meeting_032707.ppt#276,10,Milestone Time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Oil &amp; Gas Profile – BUSOGFLT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AC approved on March 8. Pending Board Appro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7 Annual Validation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PGRR020 Resolution Target 99%. Impact Analysis has PWG consens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the methodology for profile scaling factors (per UFETF Nov. 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2004, 2005 &amp; 2006 UFE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ways to accommodate extreme events in Settlement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3386-E123-4EB1-B346-C285499CDC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828800"/>
            <a:ext cx="792504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Long Term Strategy of Load Profiles including refresh tim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R Analysis – 2 issues outstanding from origina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f having more weather stations adds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f the weighting of weather stations is appropr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10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IDR installation procedure language to ensure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having 2 decimals on load profiles significantly affect sett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LPG language on list based profiles and univers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CT Docket responses to demand response or AMR rul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rea on PWG web page for key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ual Review of load profiles as specified in marke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to identify new profiles as specified in marke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793800"/>
                <a:tab algn="l" pos="1190520"/>
                <a:tab algn="l" pos="1587600"/>
                <a:tab algn="l" pos="1984320"/>
                <a:tab algn="l" pos="2381400"/>
                <a:tab algn="l" pos="2778120"/>
                <a:tab algn="l" pos="3174840"/>
                <a:tab algn="l" pos="3571920"/>
                <a:tab algn="l" pos="3968640"/>
                <a:tab algn="l" pos="4365720"/>
                <a:tab algn="l" pos="4762440"/>
                <a:tab algn="l" pos="5159520"/>
                <a:tab algn="l" pos="5556240"/>
                <a:tab algn="l" pos="5952960"/>
                <a:tab algn="l" pos="6350040"/>
                <a:tab algn="l" pos="6746760"/>
                <a:tab algn="l" pos="7143840"/>
                <a:tab algn="l" pos="7540560"/>
                <a:tab algn="l" pos="7937640"/>
                <a:tab algn="l" pos="8334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1AE4-ADDB-4329-B1C2-0F84A2D93A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9051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830240"/>
            <a:ext cx="84582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the TOU procedures on the Load Profiling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ways to improve Business Profile ID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analysis of DLC demonstration programs.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WG discussed and shall place on April meeting agenda to design scope. LPGRR and PRR drafts pen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Protocol and LPG language for appropriateness for large Opt-in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82EA4-3850-4628-AC4E-3C244CDEBB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762120" y="2362320"/>
            <a:ext cx="7696080" cy="206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ERCOT Load Profil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5/15/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12D3-3DAC-4C9F-B5EF-6A4AD6CA92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1755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s i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9120" y="1685880"/>
            <a:ext cx="7897680" cy="48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 10920 --  Transition to new load profiles, Option 3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-test is comple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test awaiting availability of a test environmen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 according to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 11236 -- Create folders for posting of Auxiliary backcasts to TML and ERCOT.com, and manually popu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performed as maintenance – not a S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ders cre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ders manually populated period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 11240 -- Automated posting of Auxiliary backcasts to TML and ERCOT.c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ing is underw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implemented on May 15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302CD-9519-4CE2-90C5-EBC75852F7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55320" y="1447920"/>
            <a:ext cx="710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xiliary Backcasted Load Pro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2362320"/>
            <a:ext cx="819936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2 records in each daily file (9 profile types and 8 weather z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profile types from new model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HILF, BUSMEDLF, BUSLO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NODEM, RESHIWR, RESLOWR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ofile types from old models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DRRQ, NMLIGHT, NMF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d and posted for 184 days after May 15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3018-EDE8-4241-A4EA-B017689DFE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1393920"/>
            <a:ext cx="86104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nual Validation Resolution Targe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OPS recommend to the TAC approval of LPGRR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F05A-E4EF-490A-A89A-D20BB5C855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7-03-29T19:30:02Z</dcterms:modified>
  <cp:revision>242</cp:revision>
  <dc:subject/>
  <dc:title>PowerPoint Presentation</dc:title>
</cp:coreProperties>
</file>