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BC11F-8D49-4DFE-89DA-615D1E177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8D80-56E7-4529-A1B5-E2171B083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E0A5-F4F9-4C2E-AD96-EAE0AD34B2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F347-72A4-4794-AAEB-AD5A46618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6F9F9-AFD0-49E7-BEC4-233C379AD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6277-FF97-4166-BB76-B9BE5FEA3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C8202-87C2-45F5-9CD9-640799A1E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7AF3-DE11-4C0E-B90C-6039F83C2B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4C3AB-A93B-4C86-B5F8-D6B1502F3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6F96-6B92-418A-885A-4F318E1D4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4221-780A-4766-A72D-38B2BD55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585C-7CE5-495B-95D0-76A7324E6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EF3A-A795-44E2-9A7B-81C222343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34320" y="64134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51EEF2-34EC-411D-9A27-4874B18F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293480"/>
            <a:ext cx="723888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SCR 745 – Outage Evaluation &amp; Resolution Phases I &amp; I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PR 60006_01 - Project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Adam D. Martinez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Mgr, Market Operations DPO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7242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Activ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Stat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MPs have successfully migrated to the new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metrics capture on new servers available on 03/12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d NAESB URL disabled on 03/30/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coming Activ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lessons lear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 covered under Retail Transaction Processing Availability Report agenda i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6002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martinez</cp:lastModifiedBy>
  <dcterms:modified xsi:type="dcterms:W3CDTF">2007-04-04T00:21:42Z</dcterms:modified>
  <cp:revision>106</cp:revision>
  <dc:subject/>
  <dc:title>Instructions</dc:title>
</cp:coreProperties>
</file>