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85E0-29C9-42F8-B9C2-845DE03BD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3382-BB57-4CF5-BC32-09382B24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FFC2-E9F0-43E6-B6EC-10891240D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E32-805D-44F3-9906-2A097646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580B-9D96-4865-BA08-E505ADEB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465-D1BC-4099-BCDF-6A416A35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46D8-BADF-4702-88F1-29DDA405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FE34-B04F-42C4-B17D-0911D460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B69F-DF22-49AB-8C32-DABAC8C3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FDE-E763-487B-8CCD-E99370B7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235-D7CA-43E1-860A-F2EEA561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5923-996F-4302-970C-71668CD6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AC0-9801-4C9C-9279-109A98EB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D0A1-30B8-491C-AD11-BF9A49DF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5AF6-A85B-40B9-9F7B-1166C6617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rch 13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0D4-FE58-4822-BAF5-105237F0D4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9760" y="152280"/>
            <a:ext cx="7643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uxiliary Backcasted Load Profil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95280" y="1371600"/>
            <a:ext cx="6629040" cy="2437920"/>
            <a:chOff x="1295280" y="1371600"/>
            <a:chExt cx="6629040" cy="24379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1582" t="35259" r="4428" b="13561"/>
            <a:stretch/>
          </p:blipFill>
          <p:spPr>
            <a:xfrm>
              <a:off x="1295280" y="1371600"/>
              <a:ext cx="662904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294000" y="3450960"/>
              <a:ext cx="235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Arial"/>
                </a:rPr>
                <a:t>Auxiliary Backcasted Load Pro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2885760" y="3619440"/>
            <a:ext cx="64764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116160" y="3625920"/>
            <a:ext cx="41904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276880" y="3581280"/>
            <a:ext cx="1038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53280" y="34383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w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857240" y="4514760"/>
            <a:ext cx="4084920" cy="1379520"/>
            <a:chOff x="1857240" y="4514760"/>
            <a:chExt cx="4084920" cy="1379520"/>
          </a:xfrm>
        </p:grpSpPr>
        <p:sp>
          <p:nvSpPr>
            <p:cNvPr id="88" name=""/>
            <p:cNvSpPr/>
            <p:nvPr/>
          </p:nvSpPr>
          <p:spPr>
            <a:xfrm>
              <a:off x="3117960" y="4514760"/>
              <a:ext cx="28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62280" y="5859360"/>
              <a:ext cx="40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240" y="4516560"/>
              <a:ext cx="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57240" y="4521240"/>
              <a:ext cx="10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9040" y="4518000"/>
              <a:ext cx="0" cy="13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rcRect l="8277" t="45931" r="34488" b="27564"/>
            <a:stretch/>
          </p:blipFill>
          <p:spPr>
            <a:xfrm>
              <a:off x="1866960" y="4524480"/>
              <a:ext cx="40701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535120" y="5027760"/>
              <a:ext cx="298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479680" y="4976640"/>
              <a:ext cx="34099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3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cc"/>
                  </a:solidFill>
                  <a:uFillTx/>
                  <a:latin typeface="Arial"/>
                </a:rPr>
                <a:t>20070317.154823.Bcst03162007_aux.csv 20070316.154743.Bcst03152007_aux.csv 20070315.154748.Bcst03142007_aux.csv 20070314.154823.Bcst03132007_aux.c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1995480" y="4781520"/>
              <a:ext cx="214308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979640" y="4765680"/>
              <a:ext cx="335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S Reference Sans Serif"/>
                </a:rPr>
                <a:t>Auxiliary Backcasted Profiles Ex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9F5-A3E5-4CA4-ACBF-F993D1DFBB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28600"/>
            <a:ext cx="8610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PGRR0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69608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D94-A2C6-469A-81D7-35BC37BB0F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523880"/>
            <a:ext cx="8381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PS recommends to TAC approval of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LPGRR0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400-0F50-4D6A-80BC-3D2BD9C407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2D3-31CF-4272-A9AA-B5D4AEC797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March 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t March 6 at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revised Outage Template for Market No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d COPSMG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ggested adding a Code to be used to track to Retail, Wholesale or Market Wide, date of issue, issue number for day, and number of notices sent relating to original notice – ERCOT can implement within existing notic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7243-71E4-4E4F-9D4B-ADBCD0FA65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March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paring draft PRR and NPRR to simplify the dispute process – for discussion at COPS April 10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 and submit comments on TPT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goals and target completion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d update on status of implementing new load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quested approval of LPGRR018 (voting ite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3A7-E50A-4A92-8C40-77D3659BC5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33720" y="228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ntique Olive Roman"/>
              </a:rPr>
              <a:t>March 13th Meeting – PWG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8C5-6F6B-4E09-8B19-14A013E774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362320"/>
            <a:ext cx="7696080" cy="206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ERCOT Load Profil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/15/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86E4-3C03-4A81-8695-110F0FBF95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175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Status Repor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143000"/>
            <a:ext cx="853452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09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almost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to start week of March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now being performed as maintenance—no longer a S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to be completed by Wednesday, March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d prior to May 1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2A6-63F3-4970-80FB-F71AC77C4E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oad Profile models are scheduled to be implemented on May 15, 2007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 transition plan Option 3M allows for a mixture of old and new profiles to be used in sett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backcasted load profiles (from new models) are scheduled to start posting to the TML and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March 14, 200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rket Notice will be sent out 7 to 10 days before actual posting be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B9A-46E3-4674-B555-B8C56F78E1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de date 05/15/07 onward, profiles generated from new models will be posted in the “primary” fo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s from old models would be posted in auxiliary folder for 60 days and archived o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w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E8C-AC35-49F9-8ABA-1ED2D2ADF5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960480" y="1797120"/>
            <a:ext cx="6611760" cy="3651120"/>
            <a:chOff x="960480" y="1797120"/>
            <a:chExt cx="6611760" cy="36511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rcRect l="2440" t="35261" r="5739" b="10774"/>
            <a:stretch/>
          </p:blipFill>
          <p:spPr>
            <a:xfrm>
              <a:off x="960480" y="1797120"/>
              <a:ext cx="6611760" cy="29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3490920" y="4649760"/>
              <a:ext cx="4022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019400" y="3724200"/>
              <a:ext cx="1733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638520" y="3876840"/>
              <a:ext cx="34671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238640" y="3895560"/>
              <a:ext cx="316224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1120" y="3852720"/>
              <a:ext cx="3352680" cy="8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.(03-17-2007 15:48:23 ).Bcst03162007_aux.csv ext.(03-16-2007 15:47:43 ).Bcst03152007_aux.csv ext.(03-15-2007 15:47:48 ).Bcst03142007_aux.csv ext.(03-14-2007 15:48:23 ).Bcst03132007_aux.csv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5520" y="3689280"/>
              <a:ext cx="251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MS Reference Sans Serif"/>
                </a:rPr>
                <a:t>Auxiliary Backcasted Profiles Ex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935520" y="368928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MS Reference Sans Serif"/>
              </a:rPr>
              <a:t>Auxiliary Backcasted Profiles Ex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492600" y="3672000"/>
            <a:ext cx="2222280" cy="276480"/>
            <a:chOff x="6492600" y="3672000"/>
            <a:chExt cx="2222280" cy="276480"/>
          </a:xfrm>
        </p:grpSpPr>
        <p:sp>
          <p:nvSpPr>
            <p:cNvPr id="76" name=""/>
            <p:cNvSpPr/>
            <p:nvPr/>
          </p:nvSpPr>
          <p:spPr>
            <a:xfrm>
              <a:off x="7590960" y="36720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ew fol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492600" y="3814920"/>
              <a:ext cx="1037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643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uxiliary Backcasted Load Profil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3C0-47D4-4064-8C8A-E6D20B1610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3-25T17:47:36Z</dcterms:modified>
  <cp:revision>206</cp:revision>
  <dc:subject/>
  <dc:title>Point-to-Point</dc:title>
</cp:coreProperties>
</file>