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B468-6B68-4523-AE23-E200D584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293A5-8E7F-475F-8D07-3DE658C8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49888-B578-4B0F-9B06-7784163D6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E279-0C98-4615-9BF2-51351E37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A19D-E759-4496-B89A-06B74243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3393-8199-4B47-A716-E3CF4DF4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80D6-09E9-452A-AD72-6E2632A9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D2369-106C-4110-A6EA-7A6B36DB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48E5F-541D-48DE-99F3-6A609256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9A88-867C-4E17-8163-6E05323B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6F7F-9A05-43EA-AC56-E8B845F7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D4B5-12D3-4415-BD19-A97FE52C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684A-34E2-4F87-AFD4-A3B90CFF1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905120"/>
            <a:ext cx="647676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ail Systems Report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1280"/>
            <a:ext cx="53337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M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4/11/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etailed Supporting Data – Outages and Degrad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date of f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219320"/>
            <a:ext cx="381024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data 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ific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metho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, MP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ot 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ervice Availability Repor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t 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up or down measurement of service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includ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(NAES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 (PaperF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 (Sieb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ion (TIB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bases (Ora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 (hardware that allows processing to hap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ny of these systems are unavailable or have problems that stop transaction processing it negatively affects this met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ervice Availability Reporting - Examp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urrent Service Availability Reporting – Summary Examp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838080"/>
          <a:ext cx="948384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838080"/>
                    <a:ext cx="94838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panded SLA and Reporting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A is being expanded to inclu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service degra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L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rak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extracts &amp; reporting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ded SLA reporting format being developed by ERCOT with TDTWG and will be approved by 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ages and degradations categorized where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and monthly summariz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ailed suppor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w report will likely be stored on the RMS homepag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xpanded SLA Timelin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to present draft expanded SLA to TDTWG on 4/10/07 for review and revi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erence calls will occur to review the final draft to the market for comments and ques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expanded SLA to be presented at May RMS for approv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raft Format for Future SLA Reporting – Annual Summary</a:t>
            </a:r>
            <a:br>
              <a:rPr sz="20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artial Year 2007 Dat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raft Format for Future SLA Reporting – Monthly Summary</a:t>
            </a:r>
            <a:br>
              <a:rPr sz="20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Outage Dat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848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Draft Format for Future SLA Reporting – Monthly Summary</a:t>
            </a:r>
            <a:br>
              <a:rPr sz="2000"/>
            </a:b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Degradation Dat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Christian Brennan</cp:lastModifiedBy>
  <dcterms:modified xsi:type="dcterms:W3CDTF">2007-04-03T21:48:43Z</dcterms:modified>
  <cp:revision>60</cp:revision>
  <dc:subject/>
  <dc:title>Instructions</dc:title>
</cp:coreProperties>
</file>