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381-C30E-44E0-92E7-864046D5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377D-60FF-4A9D-900F-63F66794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D537-B236-4F56-A76B-A8F5DA6B4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7AD-D3FF-483E-A741-F80DD966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091E-5F75-4176-8397-D630825D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005E-8B22-4499-987B-FE5E598D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C20E-9B08-474D-B94E-7EFA426C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7292-9888-4F47-915B-DFECABDE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18F1-F610-4183-A1F4-58F21BFF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7B5F-B565-4876-AF96-F421CCFF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06EE-1272-4DB5-AF66-D71944E4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030-FD41-418B-B247-7325302E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33F7-AC6A-48D9-82C6-DE7540F3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114-8286-4141-A23D-F9703DB0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AB8D-5115-4509-A97A-8B293251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43D-F2B8-497A-AC64-DDC66808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9032-2F54-4BC6-9E8B-C4CCEA670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9E66-318E-457C-9CD6-A9EA720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082-3EB2-4D49-BAC5-1501FF8D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55C-269C-4AB9-9F41-2F459085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B0B-FF79-4D9F-A946-244D90B3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AFBB-9B08-4C61-A838-D4A7AC6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B2A-6005-46BF-96C2-38565C3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A41-E29E-4EE2-8B75-3AD53A2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9C60-3FD2-4374-9A30-836ED3841F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7373-AB80-4081-A965-06C9484FB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April 3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zed Outage Template for Market Notif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Section 4, Market Notific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ubmit COPMGRR for Section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submit COPMGRR for Section 11, Extract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completed by DEWG last year, but not submit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al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 changes significant to section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PMGRR will have to be submitted in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eting 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 May 1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write section 5, Commercial System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write section 13, R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moore</cp:lastModifiedBy>
  <dcterms:modified xsi:type="dcterms:W3CDTF">2007-04-04T13:10:59Z</dcterms:modified>
  <cp:revision>13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96630476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CWG-COPS Presentation</vt:lpwstr>
  </property>
  <property fmtid="{D5CDD505-2E9C-101B-9397-08002B2CF9AE}" pid="6" name="_NewReviewCycle">
    <vt:lpwstr/>
  </property>
</Properties>
</file>