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ED29-004F-43B4-8368-1F2A6B14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DE2D-8F68-4CD8-9000-6D0549F1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98720" y="68580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4960" y="6426000"/>
            <a:ext cx="50720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8450-9641-48E8-93D6-D4C174F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27EF3-D1AC-401C-8706-C7773B3B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6E0E-31C1-4BD1-8908-0658499A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22A9-2F65-4C8C-8E82-DA5D2730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38B5-C6ED-4E1A-8F89-4AF1418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38B9-D126-4D16-935A-DB3CC966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ED86-EC31-4E40-8F5A-1771DCDE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B0A3-8433-4AB1-98D1-1D03E726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5289-5371-421A-94C9-83381213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B043-7B79-4FF9-906E-B6726F53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7D09-7E59-44AA-8402-C7FA83F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C9C0-4739-4259-9FDB-BA16F7C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A50F-9960-42D9-BD9A-CE467E005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il Market Sub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11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26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il 11,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160" y="5067360"/>
            <a:ext cx="60483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tail Market Subcommittee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light Testing Updat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Kick-Off Conference Call: 04/13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o begin with Day 1 transactions flowing: 04/16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scheduled to conclude: 05/29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gency Testing scheduled to conclude: 06/15/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066680"/>
            <a:ext cx="8229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Manif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New REPs – 21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New Umbrella D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Existing REPs testing in a new territory – 0 New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s testing new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testing Change of Servic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Existing REP (New Umbrella DUNs) changing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,032 Total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vity complete with ERC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f 6 complete with TD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 of 87 complete with C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Connectivity tests outstanding between CRs and TD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esting for TX SET Version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s which have elected not to test for TX SET 3.0 will lose their ERCOT cert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cripts were developed specifically for TX SET 3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mind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Robin testing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isting CR who is currently certified in an IOU or MOU/EC territory will test with at least one IOU TDSP or MOU/EC TD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esting with at least one IOU or MOU/EC TDSP, the CR will be certified in all IOU and MOU/EC TDSP territories with whom they were previously cer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for Thought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0407 is the largest Flight since MIMO in 050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8,669 Total Tasks (compared to 22,0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MO had 2,028 Total Scripts (compared to 2,1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largest Flight was 0104, which had a total of 16,000 Tota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light 04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38160" y="255600"/>
            <a:ext cx="71755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0440" y="195120"/>
            <a:ext cx="7932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21932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0" y="2133720"/>
            <a:ext cx="4191120" cy="225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MS Upda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8/09/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schamblee</cp:lastModifiedBy>
  <dcterms:modified xsi:type="dcterms:W3CDTF">2007-04-03T21:18:28Z</dcterms:modified>
  <cp:revision>70</cp:revision>
  <dc:subject/>
  <dc:title>Instructions</dc:title>
</cp:coreProperties>
</file>