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8100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D614657C-54DB-4620-BA33-21B8DC326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10280" y="6305400"/>
            <a:ext cx="2133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Texas Nodal Market Implementation</a:t>
            </a: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 </a:t>
            </a:r>
            <a:br>
              <a:rPr sz="1800"/>
            </a:br>
            <a:r>
              <a:rPr b="0" lang="en-GB" sz="2000" spc="-1" strike="noStrike">
                <a:solidFill>
                  <a:srgbClr val="808080"/>
                </a:solidFill>
                <a:latin typeface="Arial Black"/>
              </a:rPr>
              <a:t>Scope Change Control Process</a:t>
            </a:r>
            <a:br>
              <a:rPr sz="2000"/>
            </a:br>
            <a:r>
              <a:rPr b="0" lang="en-GB" sz="2000" spc="-1" strike="noStrike">
                <a:solidFill>
                  <a:srgbClr val="808080"/>
                </a:solidFill>
                <a:latin typeface="Arial Black"/>
              </a:rPr>
              <a:t>Modifications</a:t>
            </a:r>
            <a:br>
              <a:rPr sz="2000"/>
            </a:b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March 7th, 2007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f the 3 existing processes, only one is formally administered by Nodal PMO to assess impacts before submittal to PRS…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209600"/>
            <a:ext cx="752400" cy="56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aft NP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17560" y="1209600"/>
            <a:ext cx="9144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T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39760" y="1371600"/>
            <a:ext cx="523800" cy="200160"/>
          </a:xfrm>
          <a:prstGeom prst="rightArrow">
            <a:avLst>
              <a:gd name="adj1" fmla="val 50000"/>
              <a:gd name="adj2" fmla="val 6542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4920" y="1209600"/>
            <a:ext cx="9144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30840" y="1209600"/>
            <a:ext cx="9144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88200" y="1209600"/>
            <a:ext cx="9144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5040" y="1371600"/>
            <a:ext cx="523800" cy="200160"/>
          </a:xfrm>
          <a:prstGeom prst="rightArrow">
            <a:avLst>
              <a:gd name="adj1" fmla="val 50000"/>
              <a:gd name="adj2" fmla="val 6542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64200" y="1371600"/>
            <a:ext cx="523800" cy="200160"/>
          </a:xfrm>
          <a:prstGeom prst="rightArrow">
            <a:avLst>
              <a:gd name="adj1" fmla="val 50000"/>
              <a:gd name="adj2" fmla="val 6542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24440" y="1371600"/>
            <a:ext cx="523800" cy="200160"/>
          </a:xfrm>
          <a:prstGeom prst="rightArrow">
            <a:avLst>
              <a:gd name="adj1" fmla="val 50000"/>
              <a:gd name="adj2" fmla="val 6542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45560" y="1209600"/>
            <a:ext cx="752400" cy="56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P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77120" y="1371600"/>
            <a:ext cx="523800" cy="200160"/>
          </a:xfrm>
          <a:prstGeom prst="rightArrow">
            <a:avLst>
              <a:gd name="adj1" fmla="val 50000"/>
              <a:gd name="adj2" fmla="val 6542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2940120"/>
            <a:ext cx="752400" cy="56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aft NP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12880" y="2940120"/>
            <a:ext cx="9144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39760" y="3102120"/>
            <a:ext cx="523800" cy="199800"/>
          </a:xfrm>
          <a:prstGeom prst="rightArrow">
            <a:avLst>
              <a:gd name="adj1" fmla="val 50000"/>
              <a:gd name="adj2" fmla="val 65541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5720" y="4122720"/>
            <a:ext cx="9144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T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90760" y="2940120"/>
            <a:ext cx="9144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43440" y="2940120"/>
            <a:ext cx="9144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1480" y="3102120"/>
            <a:ext cx="523800" cy="199800"/>
          </a:xfrm>
          <a:prstGeom prst="rightArrow">
            <a:avLst>
              <a:gd name="adj1" fmla="val 50000"/>
              <a:gd name="adj2" fmla="val 65541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46880" y="2940120"/>
            <a:ext cx="752400" cy="56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P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45320" y="3102120"/>
            <a:ext cx="523800" cy="199800"/>
          </a:xfrm>
          <a:prstGeom prst="rightArrow">
            <a:avLst>
              <a:gd name="adj1" fmla="val 50000"/>
              <a:gd name="adj2" fmla="val 65541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60640" y="3570120"/>
            <a:ext cx="296640" cy="451080"/>
          </a:xfrm>
          <a:prstGeom prst="upDownArrow">
            <a:avLst>
              <a:gd name="adj1" fmla="val 50000"/>
              <a:gd name="adj2" fmla="val 30272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79840" y="3102120"/>
            <a:ext cx="523800" cy="199800"/>
          </a:xfrm>
          <a:prstGeom prst="rightArrow">
            <a:avLst>
              <a:gd name="adj1" fmla="val 50000"/>
              <a:gd name="adj2" fmla="val 65541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920" y="5272200"/>
            <a:ext cx="752400" cy="56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aft NP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5272200"/>
            <a:ext cx="9144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al PMO (Imp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m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76400" y="5472000"/>
            <a:ext cx="360360" cy="200160"/>
          </a:xfrm>
          <a:prstGeom prst="rightArrow">
            <a:avLst>
              <a:gd name="adj1" fmla="val 50000"/>
              <a:gd name="adj2" fmla="val 45009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1560" y="5272200"/>
            <a:ext cx="9144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43560" y="5272200"/>
            <a:ext cx="9144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75560" y="5272200"/>
            <a:ext cx="9144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00480" y="5472000"/>
            <a:ext cx="360360" cy="200160"/>
          </a:xfrm>
          <a:prstGeom prst="rightArrow">
            <a:avLst>
              <a:gd name="adj1" fmla="val 50000"/>
              <a:gd name="adj2" fmla="val 45009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26000" y="5472000"/>
            <a:ext cx="360360" cy="200160"/>
          </a:xfrm>
          <a:prstGeom prst="rightArrow">
            <a:avLst>
              <a:gd name="adj1" fmla="val 50000"/>
              <a:gd name="adj2" fmla="val 45009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57640" y="5472000"/>
            <a:ext cx="360360" cy="200160"/>
          </a:xfrm>
          <a:prstGeom prst="rightArrow">
            <a:avLst>
              <a:gd name="adj1" fmla="val 50000"/>
              <a:gd name="adj2" fmla="val 45009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109000" y="5272200"/>
            <a:ext cx="752400" cy="56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P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88200" y="5472000"/>
            <a:ext cx="360360" cy="200160"/>
          </a:xfrm>
          <a:prstGeom prst="rightArrow">
            <a:avLst>
              <a:gd name="adj1" fmla="val 50000"/>
              <a:gd name="adj2" fmla="val 45009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760" y="790560"/>
            <a:ext cx="285840" cy="324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760" y="2443320"/>
            <a:ext cx="285840" cy="32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3320" y="4748040"/>
            <a:ext cx="285480" cy="324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9560" y="5272200"/>
            <a:ext cx="9144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T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28120" y="5450040"/>
            <a:ext cx="360360" cy="199800"/>
          </a:xfrm>
          <a:prstGeom prst="rightArrow">
            <a:avLst>
              <a:gd name="adj1" fmla="val 50000"/>
              <a:gd name="adj2" fmla="val 4509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8760" y="790560"/>
            <a:ext cx="67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hor solicits help from TPTF in developing a NPRR before PRS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8760" y="2443320"/>
            <a:ext cx="67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S requests TPTF review of NPRR submitted directly to 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6560" y="4797360"/>
            <a:ext cx="67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al Program initiated NP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To clear the backlog and improve the effectiveness of the NPRR approval process, we propose the following…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052640"/>
            <a:ext cx="884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urrent updated baseline we are targeting is issues raised on or before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arch1st, 200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in these are –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outstanding approved NPR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draft/pending NPR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white papers (8 EMS/MMS &amp; 14 IDA white pap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hange requests that are not NPRRs or white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odal Program will have one impact assessment process in 2 ste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categorization (IC) i.e. 1-4 &amp; essential for “go-li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ed cost &amp; schedule impact assessment by projects/vendors (IA) for all category 1’s &amp; 2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the backlog, category 3 &amp; 4 will be accepted within the existing budget/contingen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the backlog, categories 1 &amp; 2 will have a cost and schedule impact leading to suitably packaged change reque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ing forward, categories 1, 2 &amp; 3 will be subject to potential change requests  ( as designs and development will have progressed that much furth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ing forward, category 4 will be accepted within existing budg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odal Program proposes a “Wednesday meeting” with all projects to clear the backlog of approved NPRRs/pending NPRRs/White papers as well as going forward to conduct impact categorization (IC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657440" y="743040"/>
          <a:ext cx="5960880" cy="48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7440" y="743040"/>
                    <a:ext cx="5960880" cy="4805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oposed detailed process for Nodal protocol impact assessment…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530360" y="5649840"/>
            <a:ext cx="6137280" cy="5079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he Impact assessment team will report the status of NPRRs to TPTF, PRS, CCB and the Nodal Steering Board on a periodic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103400"/>
            <a:ext cx="1276560" cy="771480"/>
          </a:xfrm>
          <a:prstGeom prst="wedgeRoundRectCallout">
            <a:avLst>
              <a:gd name="adj1" fmla="val 144527"/>
              <a:gd name="adj2" fmla="val 85388"/>
              <a:gd name="adj3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raft NPR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ing tabled 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und n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ssential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o-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3746520"/>
            <a:ext cx="1276560" cy="771480"/>
          </a:xfrm>
          <a:prstGeom prst="wedgeRoundRectCallout">
            <a:avLst>
              <a:gd name="adj1" fmla="val 150495"/>
              <a:gd name="adj2" fmla="val -63166"/>
              <a:gd name="adj3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S does an ini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nguage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sending i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Nodal PMO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mpact assess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7640" y="2019240"/>
            <a:ext cx="1276200" cy="771480"/>
          </a:xfrm>
          <a:prstGeom prst="wedgeRoundRectCallout">
            <a:avLst>
              <a:gd name="adj1" fmla="val -357462"/>
              <a:gd name="adj2" fmla="val 116870"/>
              <a:gd name="adj3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dal PM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bmit a detai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mpact assess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a seco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view by P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405160"/>
            <a:ext cx="1276560" cy="982440"/>
          </a:xfrm>
          <a:prstGeom prst="wedgeRoundRectCallout">
            <a:avLst>
              <a:gd name="adj1" fmla="val 255472"/>
              <a:gd name="adj2" fmla="val -70837"/>
              <a:gd name="adj3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raft NPRRs no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e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itional f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 essential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o-live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epted with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isting budg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280" y="3486240"/>
            <a:ext cx="285840" cy="32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67640" y="1784520"/>
            <a:ext cx="285840" cy="32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9680" y="868320"/>
            <a:ext cx="285840" cy="324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8280" y="2201760"/>
            <a:ext cx="285840" cy="324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76520" y="2138400"/>
            <a:ext cx="7207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22840" y="1790640"/>
            <a:ext cx="720720" cy="38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78160" y="3143160"/>
            <a:ext cx="720720" cy="488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44960" y="3257640"/>
            <a:ext cx="7207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ome of the implications of the revised process are..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780000"/>
            <a:ext cx="752760" cy="56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aft NP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89080" y="3780000"/>
            <a:ext cx="9144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5120" y="3684600"/>
            <a:ext cx="1190880" cy="6858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t essenti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-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3780000"/>
            <a:ext cx="9144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rm with P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69120" y="3780000"/>
            <a:ext cx="752400" cy="56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aft NP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bled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6360" y="3956040"/>
            <a:ext cx="523800" cy="200160"/>
          </a:xfrm>
          <a:prstGeom prst="rightArrow">
            <a:avLst>
              <a:gd name="adj1" fmla="val 50000"/>
              <a:gd name="adj2" fmla="val 6542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10040" y="3908520"/>
            <a:ext cx="523800" cy="199800"/>
          </a:xfrm>
          <a:prstGeom prst="rightArrow">
            <a:avLst>
              <a:gd name="adj1" fmla="val 50000"/>
              <a:gd name="adj2" fmla="val 65541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67280" y="3908520"/>
            <a:ext cx="523800" cy="199800"/>
          </a:xfrm>
          <a:prstGeom prst="rightArrow">
            <a:avLst>
              <a:gd name="adj1" fmla="val 50000"/>
              <a:gd name="adj2" fmla="val 65541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96000" y="368460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790560"/>
            <a:ext cx="285840" cy="324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960" y="5411880"/>
            <a:ext cx="752400" cy="56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aft NP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82960" y="5411880"/>
            <a:ext cx="9144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ac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73440" y="5316480"/>
            <a:ext cx="1190520" cy="6858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t essential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-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07320" y="5411880"/>
            <a:ext cx="752400" cy="56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nding NP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82840" y="5587920"/>
            <a:ext cx="523800" cy="200160"/>
          </a:xfrm>
          <a:prstGeom prst="rightArrow">
            <a:avLst>
              <a:gd name="adj1" fmla="val 50000"/>
              <a:gd name="adj2" fmla="val 6542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78000" y="5540400"/>
            <a:ext cx="524160" cy="200160"/>
          </a:xfrm>
          <a:prstGeom prst="rightArrow">
            <a:avLst>
              <a:gd name="adj1" fmla="val 50000"/>
              <a:gd name="adj2" fmla="val 65468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73760" y="5540400"/>
            <a:ext cx="523800" cy="200160"/>
          </a:xfrm>
          <a:prstGeom prst="rightArrow">
            <a:avLst>
              <a:gd name="adj1" fmla="val 50000"/>
              <a:gd name="adj2" fmla="val 6542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02120" y="5316480"/>
            <a:ext cx="59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9440" y="1981080"/>
            <a:ext cx="285840" cy="324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45160" y="5268960"/>
            <a:ext cx="1190520" cy="6858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the imp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ire addi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nds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56360" y="5537160"/>
            <a:ext cx="523800" cy="200160"/>
          </a:xfrm>
          <a:prstGeom prst="rightArrow">
            <a:avLst>
              <a:gd name="adj1" fmla="val 50000"/>
              <a:gd name="adj2" fmla="val 6542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85080" y="531324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38760" y="3956040"/>
            <a:ext cx="524160" cy="200160"/>
          </a:xfrm>
          <a:prstGeom prst="rightArrow">
            <a:avLst>
              <a:gd name="adj1" fmla="val 50000"/>
              <a:gd name="adj2" fmla="val 65468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1480" y="3193920"/>
            <a:ext cx="526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draft NPRR that is not essential for go-live should be “tabl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3680" y="4740120"/>
            <a:ext cx="825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3280" indent="-233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the backlog, an approved NPRR essential for go-live and not seeking additional funds (i.e. category 3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) will not go through the impact assessment process – we accept the costs within existing budgets/contin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0560" y="1114560"/>
            <a:ext cx="752760" cy="56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aft NP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16720" y="1065240"/>
            <a:ext cx="117144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AL Imp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ment Pro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92920" y="1089000"/>
            <a:ext cx="9954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S Second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75360" y="1257480"/>
            <a:ext cx="524160" cy="199800"/>
          </a:xfrm>
          <a:prstGeom prst="rightArrow">
            <a:avLst>
              <a:gd name="adj1" fmla="val 50000"/>
              <a:gd name="adj2" fmla="val 65586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480" y="3144960"/>
            <a:ext cx="285480" cy="32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4440" y="790560"/>
            <a:ext cx="901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NPRRs to go through the Nodal PMO initially, instead of being directly forwarded to PRS for their second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280" y="4740120"/>
            <a:ext cx="285840" cy="324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880" y="2305080"/>
            <a:ext cx="752400" cy="56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aft NP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2560" y="2219400"/>
            <a:ext cx="1597320" cy="6858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it have detai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st &amp; schedule imp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ormatio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9280" y="2481120"/>
            <a:ext cx="523800" cy="200160"/>
          </a:xfrm>
          <a:prstGeom prst="rightArrow">
            <a:avLst>
              <a:gd name="adj1" fmla="val 50000"/>
              <a:gd name="adj2" fmla="val 6542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90680" y="2247840"/>
            <a:ext cx="9144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S Ini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64160" y="2219400"/>
            <a:ext cx="752760" cy="56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aft NP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bled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2481120"/>
            <a:ext cx="523800" cy="200160"/>
          </a:xfrm>
          <a:prstGeom prst="rightArrow">
            <a:avLst>
              <a:gd name="adj1" fmla="val 50000"/>
              <a:gd name="adj2" fmla="val 6542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48400" y="2481120"/>
            <a:ext cx="523800" cy="200160"/>
          </a:xfrm>
          <a:prstGeom prst="rightArrow">
            <a:avLst>
              <a:gd name="adj1" fmla="val 50000"/>
              <a:gd name="adj2" fmla="val 6542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76760" y="2257560"/>
            <a:ext cx="59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1840" y="1973160"/>
            <a:ext cx="52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S to “Table” draft NPRRs with no cost/schedul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9440" y="1866960"/>
            <a:ext cx="86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280" y="3100320"/>
            <a:ext cx="860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280" y="4664160"/>
            <a:ext cx="860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1295280"/>
            <a:ext cx="524160" cy="200160"/>
          </a:xfrm>
          <a:prstGeom prst="rightArrow">
            <a:avLst>
              <a:gd name="adj1" fmla="val 50000"/>
              <a:gd name="adj2" fmla="val 65468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62440" y="1089000"/>
            <a:ext cx="9954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S initial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73760" y="1222200"/>
            <a:ext cx="523800" cy="200160"/>
          </a:xfrm>
          <a:prstGeom prst="rightArrow">
            <a:avLst>
              <a:gd name="adj1" fmla="val 50000"/>
              <a:gd name="adj2" fmla="val 6542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01760" y="1090440"/>
            <a:ext cx="995400" cy="5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TF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0240" y="1257480"/>
            <a:ext cx="523800" cy="199800"/>
          </a:xfrm>
          <a:prstGeom prst="rightArrow">
            <a:avLst>
              <a:gd name="adj1" fmla="val 50000"/>
              <a:gd name="adj2" fmla="val 65541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The initial impact categorization is done across four different categories with 1 being a high impact and 4 being the least…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17520" y="1028880"/>
          <a:ext cx="8534520" cy="4995720"/>
        </p:xfrm>
        <a:graphic>
          <a:graphicData uri="http://schemas.openxmlformats.org/drawingml/2006/table">
            <a:tbl>
              <a:tblPr/>
              <a:tblGrid>
                <a:gridCol w="3236760"/>
                <a:gridCol w="5297760"/>
              </a:tblGrid>
              <a:tr h="3456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ct 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1538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1 imp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e Functional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de &amp; Internal processes, all Algorithms, and Emergency &amp; Safet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114480" indent="-114480">
                        <a:lnSpc>
                          <a:spcPct val="12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Request (CR) will have implications to cost and/or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2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before Nodal “Go Live” requires inclusion into a Rel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2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 Nodal “Go Live” creates “boxed” language in the Nodal Protoc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: Case by case inclusion into Nodal Progra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5312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2 impac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usiness process, procedures, display present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114480" indent="-114480">
                        <a:lnSpc>
                          <a:spcPct val="12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Request (CR) could have implications to cost and/or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2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e Systems do not require changes, but surrounding business processes and procedures will need to be chang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2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before Nodal “Go Live” requires inclusion into a Rel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2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 Nodal “Go Live” creates “boxed” language in the Nodal Protoc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: Case by case inclusion into Nodal Program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834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3 impac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ocumentation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114480" indent="-114480">
                        <a:lnSpc>
                          <a:spcPct val="12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mpact to core systems or business proc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2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s updating documentation for trace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: Inclusion into Nodal Progr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4 impac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 impact to systems or already part of base produc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114480" indent="-114480">
                        <a:lnSpc>
                          <a:spcPct val="12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mpact to core systems or business proc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: Inclusion into Nodal Progr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takalkar</cp:lastModifiedBy>
  <dcterms:modified xsi:type="dcterms:W3CDTF">2007-03-21T20:46:49Z</dcterms:modified>
  <cp:revision>202</cp:revision>
  <dc:subject/>
  <dc:title>Texas Nodal Market Implementation ERCOT Board of Directors Meeting Budget Rationale October 17, 2006  Kathy Hager, Market Redesign Program Director </dc:title>
</cp:coreProperties>
</file>