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3E188BBE-D363-476C-AFDF-3519BB13B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pwp002d:8061/Nodal%20Dashboard/nbs.a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 Black"/>
              </a:rPr>
              <a:t>Texas Nodal Market Implementation</a:t>
            </a:r>
            <a:br>
              <a:rPr sz="1400"/>
            </a:br>
            <a:r>
              <a:rPr b="0" lang="en-GB" sz="1800" spc="-1" strike="noStrike">
                <a:solidFill>
                  <a:srgbClr val="808080"/>
                </a:solidFill>
                <a:latin typeface="Arial Black"/>
              </a:rPr>
              <a:t>Executive Dashboard</a:t>
            </a:r>
            <a:br>
              <a:rPr sz="18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Concept &amp; Approach</a:t>
            </a:r>
            <a:br>
              <a:rPr sz="1600"/>
            </a:b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March 2007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he PMO has delivered a balanced scorecard to give a one-page view of program progress…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1962720" y="5838840"/>
            <a:ext cx="561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This formula represents the objectives against which Program progress will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440" y="1120680"/>
            <a:ext cx="8410320" cy="28591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a growing demand for more detailed metrics and greater visibility into Nodal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rogram currently did not have a single source that provided a consolidated picture of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document is a guide for understanding each measure contained in the balanced scorecard, and how to interpret the data display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2760" y="4494240"/>
            <a:ext cx="72630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he program success criteria have been applied to the four elements of a balanced scorecard…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015920" y="1809720"/>
            <a:ext cx="6851880" cy="4114800"/>
          </a:xfrm>
          <a:prstGeom prst="ellipse">
            <a:avLst/>
          </a:prstGeom>
          <a:solidFill>
            <a:srgbClr val="dceff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70120" y="3448080"/>
            <a:ext cx="1741680" cy="838080"/>
          </a:xfrm>
          <a:prstGeom prst="ellipse">
            <a:avLst/>
          </a:prstGeom>
          <a:solidFill>
            <a:srgbClr val="5469a2"/>
          </a:solidFill>
          <a:ln w="12600">
            <a:solidFill>
              <a:srgbClr val="61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Nodal Program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11640" y="4127400"/>
            <a:ext cx="1765440" cy="1141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180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920240" y="4130280"/>
            <a:ext cx="1764360" cy="1135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9800" y="4286160"/>
            <a:ext cx="208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400" spc="-1" strike="noStrike" u="sng">
                <a:solidFill>
                  <a:srgbClr val="5469a2"/>
                </a:solidFill>
                <a:uFillTx/>
                <a:latin typeface="Arial"/>
              </a:rPr>
              <a:t>ERCOT 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41520"/>
            <a:ext cx="221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400" spc="-1" strike="noStrike" u="sng">
                <a:solidFill>
                  <a:srgbClr val="5469a2"/>
                </a:solidFill>
                <a:uFillTx/>
                <a:latin typeface="Arial"/>
              </a:rPr>
              <a:t>Nodal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71800" y="2389320"/>
            <a:ext cx="198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400" spc="-1" strike="noStrike" u="sng">
                <a:solidFill>
                  <a:srgbClr val="5469a2"/>
                </a:solidFill>
                <a:uFillTx/>
                <a:latin typeface="Arial"/>
              </a:rPr>
              <a:t>MP 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27360" y="4554360"/>
            <a:ext cx="16480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lnSpc>
                <a:spcPct val="8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sure system read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sure process read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187"/>
              </a:spcBef>
              <a:buClr>
                <a:srgbClr val="80808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Ensure people read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187"/>
              </a:spcBef>
              <a:buClr>
                <a:srgbClr val="80808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Ensure staff satisf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0040" y="2670120"/>
            <a:ext cx="193176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19160" indent="-119160">
              <a:lnSpc>
                <a:spcPct val="85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al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249"/>
              </a:spcBef>
              <a:buClr>
                <a:srgbClr val="80808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gram Timel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 Budgetary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 risk effectiv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 quality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249"/>
              </a:spcBef>
              <a:buClr>
                <a:srgbClr val="80808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Manage change effectiv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249"/>
              </a:spcBef>
              <a:buClr>
                <a:srgbClr val="80808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5600" y="2617920"/>
            <a:ext cx="226116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19160" indent="-119160">
              <a:lnSpc>
                <a:spcPct val="85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sure MP system read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sure MP process read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249"/>
              </a:spcBef>
              <a:buClr>
                <a:srgbClr val="80808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Ensure trained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249"/>
              </a:spcBef>
              <a:buClr>
                <a:srgbClr val="80808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Ensure Market Participant Satisf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249"/>
              </a:spcBef>
              <a:buClr>
                <a:srgbClr val="80808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85000"/>
              </a:lnSpc>
              <a:spcBef>
                <a:spcPts val="249"/>
              </a:spcBef>
              <a:buClr>
                <a:srgbClr val="80808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484360" y="932040"/>
            <a:ext cx="4030920" cy="568080"/>
            <a:chOff x="2484360" y="932040"/>
            <a:chExt cx="4030920" cy="568080"/>
          </a:xfrm>
        </p:grpSpPr>
        <p:sp>
          <p:nvSpPr>
            <p:cNvPr id="65" name=""/>
            <p:cNvSpPr/>
            <p:nvPr/>
          </p:nvSpPr>
          <p:spPr>
            <a:xfrm>
              <a:off x="2484360" y="932040"/>
              <a:ext cx="4030920" cy="568080"/>
            </a:xfrm>
            <a:prstGeom prst="rect">
              <a:avLst/>
            </a:prstGeom>
            <a:solidFill>
              <a:srgbClr val="ccffcc">
                <a:alpha val="8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29320" y="1023840"/>
              <a:ext cx="657360" cy="365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d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73360" y="1023840"/>
              <a:ext cx="657360" cy="365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CO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adin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86400" y="1023840"/>
              <a:ext cx="655560" cy="365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adin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33920" y="1023840"/>
              <a:ext cx="657360" cy="365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d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97680" y="1125720"/>
              <a:ext cx="55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29920" y="1147680"/>
              <a:ext cx="52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14160" y="1147680"/>
              <a:ext cx="52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flipH="1">
            <a:off x="1236240" y="6089760"/>
            <a:ext cx="6488280" cy="0"/>
          </a:xfrm>
          <a:prstGeom prst="line">
            <a:avLst/>
          </a:prstGeom>
          <a:ln cap="sq" w="1260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5760" rIns="95760" tIns="-47880" bIns="-47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21520" y="5949720"/>
            <a:ext cx="1891440" cy="27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Readiness         Deliv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92760" y="876240"/>
            <a:ext cx="1489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The objectives against which Program progress will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46760" y="1389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2400" y="5486400"/>
            <a:ext cx="1292400" cy="2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s Delive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5738760"/>
            <a:ext cx="1292400" cy="2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Measures to be Delive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5268960"/>
            <a:ext cx="1292400" cy="215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22400" y="779400"/>
            <a:ext cx="4805280" cy="736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51200" y="1389240"/>
            <a:ext cx="2260440" cy="1052280"/>
          </a:xfrm>
          <a:custGeom>
            <a:avLst/>
            <a:gdLst/>
            <a:ahLst/>
            <a:rect l="l" t="t" r="r" b="b"/>
            <a:pathLst>
              <a:path w="450" h="472">
                <a:moveTo>
                  <a:pt x="0" y="0"/>
                </a:moveTo>
                <a:cubicBezTo>
                  <a:pt x="0" y="0"/>
                  <a:pt x="225" y="236"/>
                  <a:pt x="450" y="47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525120" y="1413000"/>
            <a:ext cx="1025640" cy="976320"/>
          </a:xfrm>
          <a:custGeom>
            <a:avLst/>
            <a:gdLst/>
            <a:ahLst/>
            <a:rect l="l" t="t" r="r" b="b"/>
            <a:pathLst>
              <a:path w="450" h="472">
                <a:moveTo>
                  <a:pt x="0" y="0"/>
                </a:moveTo>
                <a:cubicBezTo>
                  <a:pt x="0" y="0"/>
                  <a:pt x="225" y="236"/>
                  <a:pt x="450" y="47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41280" y="1384200"/>
            <a:ext cx="2251080" cy="2995560"/>
          </a:xfrm>
          <a:custGeom>
            <a:avLst/>
            <a:gdLst/>
            <a:ahLst/>
            <a:rect l="l" t="t" r="r" b="b"/>
            <a:pathLst>
              <a:path w="1418" h="1887">
                <a:moveTo>
                  <a:pt x="1286" y="0"/>
                </a:moveTo>
                <a:cubicBezTo>
                  <a:pt x="909" y="188"/>
                  <a:pt x="533" y="376"/>
                  <a:pt x="348" y="626"/>
                </a:cubicBezTo>
                <a:cubicBezTo>
                  <a:pt x="163" y="876"/>
                  <a:pt x="0" y="1293"/>
                  <a:pt x="178" y="1503"/>
                </a:cubicBezTo>
                <a:cubicBezTo>
                  <a:pt x="356" y="1713"/>
                  <a:pt x="887" y="1800"/>
                  <a:pt x="1418" y="188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easures delivered and are available to use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808200"/>
          <a:ext cx="8705880" cy="5081400"/>
        </p:xfrm>
        <a:graphic>
          <a:graphicData uri="http://schemas.openxmlformats.org/drawingml/2006/table">
            <a:tbl>
              <a:tblPr/>
              <a:tblGrid>
                <a:gridCol w="971640"/>
                <a:gridCol w="1360440"/>
                <a:gridCol w="1488960"/>
                <a:gridCol w="2203560"/>
                <a:gridCol w="2681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p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Performance Indic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ric / Formu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io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3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Nodal program aligned to defined protoc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ing of requirements to Nodal Protoc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protocols traced to requirements – All Protocol sections must be addressed by at least one requir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ing that initially, the Nodal requirements have appropriate coverage of the Nodal protocol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 budget effective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EAC Vari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spend vs. normalized budgeted spend as a % over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against budgeted spend can give a trended project indicator of future performance, whilst still lagg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 risk effectiv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3 risks &amp; top 3 iss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s and issues prioritized by impact and prob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e are the most important risks and issues  to have effectively managed and mitigated – and therefore should be given prominence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 quality compli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erence to Nodal Qualit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projects in line with time-driven program milest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important to ensure that all Nodal projects are in line with the quality objectives of the progr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Readi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system readiness metrics are achieved o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 verified metrics per date in advance of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metrics verified complete vs. metrics scheduled to completed by date, as a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ion is planned to occur in advance of test start da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process readiness metrics are achieved o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 verified metrics per date in advance of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metrics verified complete vs. metrics scheduled to be completed by date, expressed as a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ion is planned to occur in advance of test start da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Readi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system readiness metrics are achieved o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 verified metrics per date in advance of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metrics verified complete vs. metrics scheduled to be completed by date, expressed as a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ion is planned to occur in advance of test start da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process readiness metrics are achieved o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 verified metrics per date in advance of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metrics verified complete vs. metrics scheduled to be completed by date, expressed as a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ion is planned to occur in advance of test start da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easures to be delivered once appropriate data exists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790560"/>
          <a:ext cx="8547120" cy="3681360"/>
        </p:xfrm>
        <a:graphic>
          <a:graphicData uri="http://schemas.openxmlformats.org/drawingml/2006/table">
            <a:tbl>
              <a:tblPr/>
              <a:tblGrid>
                <a:gridCol w="938160"/>
                <a:gridCol w="1351080"/>
                <a:gridCol w="1461960"/>
                <a:gridCol w="1992240"/>
                <a:gridCol w="28036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p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Performance Indic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ric / Formu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io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ing of requirements to Nodal Protoc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protocols traced to requirements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ing that initially, the Nodal requirements have appropriate coverage of the Nodal protocol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                 change effectiv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EAC Vari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spend vs. normalized budgeted spend as a % over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against budgeted spend can give a trended project indicator of future performance, whilst still lagg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Readi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people readi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 verified metrics per date in advance of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metrics verified complete vs. metrics scheduled to completed by date, as a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ion is planned to occur in advance of test start da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staff satisf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 verified metrics per date in advance of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metrics verified complete vs. metrics scheduled to be completed by date, expressed as a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ion is planned to occur in advance of test start da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Readi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trained Market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ations met/missed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expectations met vs. total # of distinct expec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satisfaction is a lagging indicator of external confidence in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market participant satisf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ations met/missed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expectations met vs. total # of distinct expec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satisfaction is a lagging indicator of external confidence in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ach measure on the dashboard has been created based on operational data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1800" y="1009800"/>
            <a:ext cx="72961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current version is displayed below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12526" t="13313" r="0" b="5437"/>
          <a:stretch/>
        </p:blipFill>
        <p:spPr>
          <a:xfrm>
            <a:off x="996840" y="803160"/>
            <a:ext cx="7099560" cy="527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requently Asked Questions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514440" y="1049400"/>
            <a:ext cx="8410320" cy="512280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: How do I access the scorecar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: Follow the link below to the Nodal Sharepoi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pwp002d:8061/Nodal%20Dashboard/nbs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: Who gets to see the scorecar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: From 5 March onwards, the Nodal leadership and Nodal project teams are able to see the scorecard.  Further distribution will be decided at a later da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: How will I be affected by the scorecar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: The scorecard will do no more than raise the visibility of existing data sources within the program to Nodal lead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: How can I make suggestions/changes to the scorecar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:  Suggested changes should be submitted to the PMO, which will then be subject to the scorecard’s change control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in Windle</dc:creator>
  <dc:description/>
  <dc:language>en-US</dc:language>
  <cp:lastModifiedBy>iwindle</cp:lastModifiedBy>
  <dcterms:modified xsi:type="dcterms:W3CDTF">2007-04-02T13:11:33Z</dcterms:modified>
  <cp:revision>123</cp:revision>
  <dc:subject/>
  <dc:title>Texas Nodal Market Implementation ERCOT Board of Directors Meeting Budget Rationale October 17, 2006  Kathy Hager, Market Redesign Program Director </dc:title>
</cp:coreProperties>
</file>