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B9CD-6631-400D-B1CD-A1F049547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CD09-49FB-4503-831D-F99072E10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2CB0-15CF-4351-8338-587A72AB8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E6CC-32E9-4726-B31D-26CCD1595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9276C-9F4B-423C-BBD1-D4622C924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61396-122F-409B-B1AE-16EAAC961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9ABD3-8482-4186-952D-7BE6AF341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5BAA0-D678-4509-901A-5F34CD11E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55338-6D9D-465D-808C-425F2DD46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112DB-30C7-4A1E-A3A7-DE00C542A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3645F-2D2D-48EA-B01C-5C6F4DAB5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E6C1-B158-4A55-BC8A-1D1D22C5C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77054-5DD7-4766-A8BC-6272CA90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E9877-155E-471C-95E8-EFA7F242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91C18-296E-4FE9-B6D8-B53B7C9D3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D4DDD-9A4F-49C8-9894-00B7F200A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8DDA8-4F6A-4471-9AA9-E45D75032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D9BB-5BD1-4B1E-A740-D52040F4B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F00E-17D4-4FC0-8CD5-95A0B90BF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A579-2AC3-44F5-A67E-C67EE10ED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0C8D-1E01-4395-8D15-44206EE48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2F9A-F31A-4C1A-B630-89BDD9E0A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A0DF-000E-448F-B39F-59049C73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97F4-DD15-4A33-8613-6894A30B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4A68A-F229-48CB-A4F7-DBDCA8AAF1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A0303-36E4-4374-AB7F-01618FA841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19000"/>
            <a:ext cx="77724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Protocol Revision Subcommitte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80880" y="38862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Presentation to th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ERCOT Technical Advisory Committe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March 30, 200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R 708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– Data Provided by ERCOT to TDSP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762120" y="1676520"/>
            <a:ext cx="761976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895480" y="16606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886200" y="16606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00600" y="16606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2120" y="22860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8195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62120" y="33526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8862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62120" y="49528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40240" y="182880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545080" y="175248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973600" y="170496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04600" y="4952880"/>
            <a:ext cx="192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Credit Monitor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Liabi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40600" y="238608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42040" y="291924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81920" y="3441600"/>
            <a:ext cx="2152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86960" y="3986280"/>
            <a:ext cx="210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86960" y="451944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888000" y="170496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200400" y="23623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00400" y="28954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0400" y="342900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00400" y="39625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0400" y="44956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200400" y="50292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62120" y="55627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0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2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PRS Summar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1120" y="1572840"/>
            <a:ext cx="7929360" cy="37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RRs Recommended for Approv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PRR 705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– Emergency Interruptible Load Servi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PRR 706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– Provisional Qualification for Ancillary Servi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PRR 707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– Prioritization/Timing of Transactions Based Upon PRR 672 Collaborative Process &amp; Retry Process for 814_20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PRR 708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– Data Provided by ERCOT to TDS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PRS Summar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1120" y="1572840"/>
            <a:ext cx="7929360" cy="37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Upda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Alternative funding mechanism for the ERCOT ERO/TRE Fe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RS April Meeting Discuss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Nodal NPRR Implementation Proces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ERCOT Nodal PMO proposed a process for PRS consider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R Appeals Proces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BOD proposal sent to PRS mailing li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ens Down” on Zonal Wholesale System Chang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PRS Summar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1120" y="2331720"/>
            <a:ext cx="7929360" cy="37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4 PRRs for Approv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 System Change – IA/CB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3 Non-System Change – IA on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Upda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lternative funding mechanism for the ERCOT ERO/TRE Fe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Nodal NPRR Implementation Proc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PRR Appeals Proc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Pens Down” on Zonal Wholesale System Chang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R 705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– Emergency Interruptible Load Service – Interim Solution -- </a:t>
            </a: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URGENT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" y="1828800"/>
          <a:ext cx="8229600" cy="4699080"/>
        </p:xfrm>
        <a:graphic>
          <a:graphicData uri="http://schemas.openxmlformats.org/drawingml/2006/table">
            <a:tbl>
              <a:tblPr/>
              <a:tblGrid>
                <a:gridCol w="2743200"/>
                <a:gridCol w="698400"/>
                <a:gridCol w="4788000"/>
              </a:tblGrid>
              <a:tr h="111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ERCO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llows ERCOT use of an Emergency Interruptible Load when an EECP is declared and all available generation and LaaRs have been deployed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nforms to PUC Subst. R. 25.507; ERCOT requested product in an effort to avoid firm load shed during EECP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recommended approval by a 6.0 to 1.0 vote, 2 opposed and 6 abstentions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pril 19, 2007 (Following April BOD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R 705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– Emergency Interruptible Load Service – Interim Solution -- </a:t>
            </a: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URGENT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1676520"/>
            <a:ext cx="761976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895480" y="16606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86200" y="16606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16606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22860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28195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33526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38862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49528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40240" y="182880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45080" y="175248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73600" y="170496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04600" y="4952880"/>
            <a:ext cx="192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Credit Monitor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Liabi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40600" y="238608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42040" y="291924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81920" y="3441600"/>
            <a:ext cx="2152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86960" y="3986280"/>
            <a:ext cx="210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6960" y="451944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88000" y="170496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91120" y="2362320"/>
            <a:ext cx="380880" cy="38088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00400" y="28954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00400" y="342900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114800" y="3962520"/>
            <a:ext cx="380880" cy="38088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0400" y="44956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00400" y="50292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55627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85480" y="237636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&lt;$100K, O&amp;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73520" y="3976560"/>
            <a:ext cx="383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ew functions to be implemen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34720" y="3443400"/>
            <a:ext cx="17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inor impa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R 706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– Provisional Qualification for Ancillary Service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57200" y="1828800"/>
          <a:ext cx="8229600" cy="4722840"/>
        </p:xfrm>
        <a:graphic>
          <a:graphicData uri="http://schemas.openxmlformats.org/drawingml/2006/table">
            <a:tbl>
              <a:tblPr/>
              <a:tblGrid>
                <a:gridCol w="2743200"/>
                <a:gridCol w="698400"/>
                <a:gridCol w="47880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BTU on behalf of QMWG -- Muni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ovides for a provisional qualification time for Ancillary Service provision and discontinues the practice of “borrowing” units for AS qualification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llows ERCOT to apply testing procedures to the very same units that will provide AS resulting in improved knowledge of QSE capabilities and improved system operation and reliability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recommended approval unanimously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une 1, 20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R 706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– Provisional Qualification for Ancillary Service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1676520"/>
            <a:ext cx="761976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895480" y="16606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86200" y="16606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800600" y="16606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62120" y="22860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28195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2120" y="33526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38862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49528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40240" y="182880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545080" y="175248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73600" y="170496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04600" y="4952880"/>
            <a:ext cx="192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Credit Monitor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Liabi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40600" y="238608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42040" y="291924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81920" y="3441600"/>
            <a:ext cx="2152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86960" y="3986280"/>
            <a:ext cx="210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86960" y="451944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88000" y="170496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00400" y="23623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00400" y="28954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00400" y="342900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39625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00400" y="44956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00400" y="50292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62120" y="55627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PRR 707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 – Prioritization/Timing of Transactions Based Upon PRR672 Collaborative Process &amp; Retry Process for 814_20s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57200" y="1828800"/>
          <a:ext cx="8229600" cy="4538520"/>
        </p:xfrm>
        <a:graphic>
          <a:graphicData uri="http://schemas.openxmlformats.org/drawingml/2006/table">
            <a:tbl>
              <a:tblPr/>
              <a:tblGrid>
                <a:gridCol w="2743200"/>
                <a:gridCol w="698400"/>
                <a:gridCol w="4788000"/>
              </a:tblGrid>
              <a:tr h="111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ERCO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utlines ERCOT transaction prioritization; revises transaction timing of Off-Cycle Switches and Off-Cycle Drops to AREP; and adds language regarding a retry proces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duction in consumer complaints and allows TDSPs as much time as possible to accurately schedule and manage daily workload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ore timely transaction processing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ank 2-High; Priority 8.5 (consistent with other PRR 672 project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BA Ratio 2.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recommended approval with 1 abstention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pon System Implement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PRR 707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 – Prioritization/Timing of Transactions Based Upon PRR672 Collaborative Process &amp; Retry Process for 814_20s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762120" y="1676520"/>
            <a:ext cx="761976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895480" y="16606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16606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16606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22860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28195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33526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38862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49528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40240" y="182880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545080" y="175248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973600" y="170496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04600" y="4952880"/>
            <a:ext cx="192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Credit Monitor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Liabi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40600" y="238608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42040" y="291924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81920" y="3441600"/>
            <a:ext cx="2152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86960" y="3986280"/>
            <a:ext cx="210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86960" y="451944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888000" y="170496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114800" y="2362320"/>
            <a:ext cx="380880" cy="38088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0400" y="28954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14800" y="3429000"/>
            <a:ext cx="380880" cy="38088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0400" y="39625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200400" y="44956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00400" y="50292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62120" y="55627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881600" y="237636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&lt;$100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R 708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– Data Provided by ERCOT to TDSP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57200" y="1828800"/>
          <a:ext cx="8229600" cy="4098960"/>
        </p:xfrm>
        <a:graphic>
          <a:graphicData uri="http://schemas.openxmlformats.org/drawingml/2006/table">
            <a:tbl>
              <a:tblPr/>
              <a:tblGrid>
                <a:gridCol w="2743200"/>
                <a:gridCol w="698400"/>
                <a:gridCol w="4788000"/>
              </a:tblGrid>
              <a:tr h="111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AEP -- IOU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quires ERCOT to provide Generation/Load IDR adjusted interval data to TDSPs involved in planning activities, subject to Sec. 1.3, Protected Information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sists in transmission/distribution planning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recommended approval with 2 abstentions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une 1, 20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1T14:00:20Z</dcterms:created>
  <dc:creator>Reliant</dc:creator>
  <dc:description/>
  <dc:language>en-US</dc:language>
  <cp:lastModifiedBy>KEG</cp:lastModifiedBy>
  <dcterms:modified xsi:type="dcterms:W3CDTF">2007-03-27T19:11:52Z</dcterms:modified>
  <cp:revision>108</cp:revision>
  <dc:subject/>
  <dc:title>Protocol Revision Subcommittee</dc:title>
</cp:coreProperties>
</file>