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3D6B649-548B-4650-94F7-34BF621F9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y-Ahead Market maximizes revenues, minimizes costs, subject to security and other constraints, including ERCOT Ancillary Service Requir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y-Ahead Market maximizes revenues, minimizes costs, subject to security and other constraints, including ERCOT Ancillary Service Requir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y-Ahead Market maximizes revenues, minimizes costs, subject to security and other constraints, including ERCOT Ancillary Service Requir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y-Ahead Market maximizes revenues, minimizes costs, subject to security and other constraints, including ERCOT Ancillary Service Requir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y-Ahead Market maximizes revenues, minimizes costs, subject to security and other constraints, including ERCOT Ancillary Service Requir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FE588-C0D8-42FC-AA2D-B34D26F3D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47799-237D-4463-AC9C-ECF6BB22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AE64F-FE0A-471B-8F98-8B7C1DAC3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F9556-2555-4BE6-80B8-F9707CC3B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9CCC0-7557-4480-9172-53B10456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6FA70-6F35-4656-B8AA-70BCE87B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404B7-01CB-4AC6-A7E8-706753D7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4799F-DB89-42F5-ADE8-1D79C1A8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90234-6B67-4CE1-A4B9-251639EA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5F9AD-8FBA-4E83-849C-6FA8E763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7A224-7FF7-499C-A0D1-6F79C207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1EC76-100F-446A-8006-D160726B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38BC-DA75-4315-B3AA-ED8874E58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324120" y="632448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2D1A-1A78-4BDB-985A-AAB42AA4D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80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1390680" cy="533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hyperlink" Target="http://nodal.ercot.com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://lists.ercot.com/cgi-bin/majordomo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560" y="1904760"/>
            <a:ext cx="601956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exas Nodal Transition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57280" y="3581280"/>
            <a:ext cx="730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CCOUNTABLE EXECUTIVE DESIGN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4952880"/>
            <a:ext cx="533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lectric Reliability Council of Tex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arch 30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CCOUNTABLE EXECUTIVE DESIGN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305280" y="106560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SE AE Desig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54280" y="1905120"/>
            <a:ext cx="83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54280" y="1905120"/>
            <a:ext cx="906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54280" y="1905120"/>
            <a:ext cx="563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828800"/>
            <a:ext cx="81532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 Designations with Qualified Scheduling Entities (Primary QSEs on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Resources ………………… – 30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Load only …..……………… – 24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ateral Trades only……………. – 26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715000" y="3352320"/>
            <a:ext cx="380880" cy="3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715000" y="2819520"/>
            <a:ext cx="380880" cy="3045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715000" y="3885840"/>
            <a:ext cx="380880" cy="3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uth Texas Municipalit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8533F-7481-401B-9E42-E933B882F6D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CCOUNTABLE EXECUTIVE DESIGN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"/>
          <p:cNvSpPr/>
          <p:nvPr/>
        </p:nvSpPr>
        <p:spPr>
          <a:xfrm>
            <a:off x="305280" y="106560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SE AE Desig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54280" y="1905120"/>
            <a:ext cx="83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4280" y="1905120"/>
            <a:ext cx="906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54280" y="1905120"/>
            <a:ext cx="563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828800"/>
            <a:ext cx="81532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Load only …..……………… – 24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ies Remai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715000" y="1905120"/>
            <a:ext cx="380880" cy="3045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828800" y="2895480"/>
          <a:ext cx="4267080" cy="2200320"/>
        </p:xfrm>
        <a:graphic>
          <a:graphicData uri="http://schemas.openxmlformats.org/drawingml/2006/table">
            <a:tbl>
              <a:tblPr/>
              <a:tblGrid>
                <a:gridCol w="4267080"/>
              </a:tblGrid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EARVIEW ELECTRIC INC (Q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CONNERGY ENERGY COMPANY INC (Q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ST ENERGY TEXAS LP (Q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BERTY POWER CORP LLC (Q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OWER LLC (Q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XPO POWER LP DBA TEXPO ENER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GA RESOURCES LLC DBA AMIGO ENERGY (Q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uth Texas Municipalit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18DDB-DA01-4944-8AE0-57ED2C93AEC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CCOUNTABLE EXECUTIVE DESIGN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305280" y="106560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SE AE Desig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54280" y="1905120"/>
            <a:ext cx="83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54280" y="1905120"/>
            <a:ext cx="906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4280" y="1905120"/>
            <a:ext cx="563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828800"/>
            <a:ext cx="81532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ateral Trades only……………. – 26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ies Remai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905120" y="2895480"/>
          <a:ext cx="4800600" cy="1592280"/>
        </p:xfrm>
        <a:graphic>
          <a:graphicData uri="http://schemas.openxmlformats.org/drawingml/2006/table">
            <a:tbl>
              <a:tblPr/>
              <a:tblGrid>
                <a:gridCol w="4800600"/>
              </a:tblGrid>
              <a:tr h="338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ITADEL ENERGY PRODUCTS LL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PI ENERGY LL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KE ENERGY OHIO IN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THERN STATES POWER COMPA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ALTA ENERGY MARKETING (US) IN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 flipV="1">
            <a:off x="5715000" y="1905120"/>
            <a:ext cx="380880" cy="3045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uth Texas Municipalit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D9A5F-4C66-4C29-9F4B-C654E3BC248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CCOUNTABLE EXECUTIVE DESIGN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1065600"/>
            <a:ext cx="47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SE AE Designation by Sec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4280" y="1905120"/>
            <a:ext cx="83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54280" y="1905120"/>
            <a:ext cx="906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54280" y="1905120"/>
            <a:ext cx="563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828800"/>
            <a:ext cx="815328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 Designations with Qualified Scheduling Entities (Sub-QSEs not included).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ector assignment figures are estim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or Owned Utilities – 3 of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peratives – 3 of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nicipal – 4 of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Generator – 19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20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Power Marketer – 26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2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REP – 24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3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ial Consumers – 1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213000" y="4915080"/>
            <a:ext cx="381240" cy="3045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568680" y="5384880"/>
            <a:ext cx="380880" cy="3045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886200" y="4000680"/>
            <a:ext cx="380880" cy="3045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572000" y="4419720"/>
            <a:ext cx="380880" cy="3045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uth Texas Municipalit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55A5B-4CFC-4D75-A148-AC53CE82FD0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CCOUNTABLE EXECUTIVE DESIGN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"/>
          <p:cNvSpPr/>
          <p:nvPr/>
        </p:nvSpPr>
        <p:spPr>
          <a:xfrm>
            <a:off x="305640" y="1065600"/>
            <a:ext cx="31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SP AE Desig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54280" y="1905120"/>
            <a:ext cx="83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4280" y="1905120"/>
            <a:ext cx="906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54280" y="1905120"/>
            <a:ext cx="563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828800"/>
            <a:ext cx="81532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AE Designations for Transmission Service Providers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ector assignment figures are estim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or Owned Utilities – 4 of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peratives – 4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nicipal – 9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981080" y="5181480"/>
          <a:ext cx="4800240" cy="380880"/>
        </p:xfrm>
        <a:graphic>
          <a:graphicData uri="http://schemas.openxmlformats.org/drawingml/2006/table">
            <a:tbl>
              <a:tblPr/>
              <a:tblGrid>
                <a:gridCol w="4800240"/>
              </a:tblGrid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 flipV="1">
            <a:off x="2971800" y="3352320"/>
            <a:ext cx="380880" cy="3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uth Texas Municipalit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813E5-B582-467C-951D-E8C2BD77CAB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r more information . . 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designate your Accountable Executive, please contact your ERCOT Account Manage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Nodal Website: 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nodal.erco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cription-based newsletter published every other Friday: 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lists.ercot.com/cgi-bin/majordomo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 Select TexasNodalNe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-mail questions, comments or feedback to: TexasNodal@erco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uth Texas Municipalit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4887F-94BC-4918-9F51-60575F04A7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8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tdoggett</cp:lastModifiedBy>
  <dcterms:modified xsi:type="dcterms:W3CDTF">2007-03-30T16:13:23Z</dcterms:modified>
  <cp:revision>90</cp:revision>
  <dc:subject/>
  <dc:title>ERCOT Template</dc:title>
</cp:coreProperties>
</file>