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3F2F2-7214-443C-9B0D-39E5BA136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EA7A1-B8D7-46DB-819A-2A13DADF4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1E077-84F3-418B-B5AD-C708BF491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71633-4439-4676-910A-91123A61F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3FCD7F-BC25-4900-83A8-804A49A64D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7AA52-471C-4543-AC0D-24D6A6B12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FC8C1-4134-4AA0-8AE2-00DB35729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A400A-0A2A-42E3-91A9-DB575891E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961BE-CEC8-4B18-9F8E-32D86C806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4C631-455D-4359-B80A-BE8AEE7FD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944F3-48C6-426E-AAB4-9E47131E3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23999-0D56-4D87-ACFB-D92E8C681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AAFB7-4456-416E-BAB0-FE0FC5B98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04F4B-3397-4996-B2DF-AD54D7263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7BD59-DBC9-4755-94B7-FF41856CB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91114E-F2CA-4DC8-AC43-212047BF57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2759E-5BD7-4B99-B23A-C1E4CA4160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79140-4D10-4D21-BE8A-03002CA03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AF015-B8F7-43B4-A75A-6DA46747E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F529E-881E-4957-A870-AB6624617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D652A-4CCB-48F7-B51E-B52642A64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C22D0-E980-4296-8349-362723861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A3C09-06E4-44A9-B772-4FF22CB3F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50F6D-9E67-48CE-BF05-87E8206CD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9632-C747-4C8B-B870-EFE791ECBE6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7" name="" descr=""/>
          <p:cNvPicPr/>
          <p:nvPr/>
        </p:nvPicPr>
        <p:blipFill>
          <a:blip r:embed="rId3"/>
          <a:stretch/>
        </p:blipFill>
        <p:spPr>
          <a:xfrm>
            <a:off x="0" y="0"/>
            <a:ext cx="1552680" cy="7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F41B9-8D10-41C6-B698-1A84913F639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3"/>
          <a:stretch/>
        </p:blipFill>
        <p:spPr>
          <a:xfrm>
            <a:off x="0" y="0"/>
            <a:ext cx="1552680" cy="74304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rcot.com/mktinfo/reports/sce_qse/index.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ompliance Update</a:t>
            </a:r>
            <a:endParaRPr b="0" lang="en-US" sz="4000" spc="-1" strike="noStrike">
              <a:solidFill>
                <a:srgbClr val="000000"/>
              </a:solidFill>
              <a:latin typeface="Verdana"/>
            </a:endParaRPr>
          </a:p>
        </p:txBody>
      </p:sp>
      <p:sp>
        <p:nvSpPr>
          <p:cNvPr id="88" name="PlaceHolder 2"/>
          <p:cNvSpPr>
            <a:spLocks noGrp="1"/>
          </p:cNvSpPr>
          <p:nvPr>
            <p:ph type="subTitle"/>
          </p:nvPr>
        </p:nvSpPr>
        <p:spPr>
          <a:xfrm>
            <a:off x="685800" y="3428640"/>
            <a:ext cx="777240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ril 2007</a:t>
            </a: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39F1A58D-8CC3-402F-ACF4-3AA921C2AB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ctober 3, 2006 Event Observations</a:t>
            </a:r>
            <a:endParaRPr b="0" lang="en-US" sz="36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aR Performance</a:t>
            </a:r>
            <a:endParaRPr b="0" lang="en-US" sz="24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RCOT deployed all RRS being provided by LaaRs in accordance with ERCOT DCS Event Operating Procedur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 of ten QSEs with LaaR RRS awards did not respond with 95% of their award within 10 minutes.</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42 MW tripped – 1,150 MW obligation</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ok over 20 minutes to achieve 95% of obligation</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 Protocol Violation Notices issued.</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 notices related to Section 6.5.4(2) – tripping requirements for LaaR</a:t>
            </a:r>
            <a:endParaRPr b="0" lang="en-US" sz="16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a:t>
            </a:r>
            <a:r>
              <a:rPr b="0" lang="en-US" sz="1400" spc="-1" strike="noStrike" baseline="30000">
                <a:solidFill>
                  <a:srgbClr val="000000"/>
                </a:solidFill>
                <a:latin typeface="Verdana"/>
              </a:rPr>
              <a:t>st</a:t>
            </a:r>
            <a:r>
              <a:rPr b="0" lang="en-US" sz="1400" spc="-1" strike="noStrike">
                <a:solidFill>
                  <a:srgbClr val="000000"/>
                </a:solidFill>
                <a:latin typeface="Verdana"/>
              </a:rPr>
              <a:t> occurrence – Constellation</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a:t>
            </a:r>
            <a:r>
              <a:rPr b="0" lang="en-US" sz="1400" spc="-1" strike="noStrike" baseline="30000">
                <a:solidFill>
                  <a:srgbClr val="000000"/>
                </a:solidFill>
                <a:latin typeface="Verdana"/>
              </a:rPr>
              <a:t>nd</a:t>
            </a:r>
            <a:r>
              <a:rPr b="0" lang="en-US" sz="1400" spc="-1" strike="noStrike">
                <a:solidFill>
                  <a:srgbClr val="000000"/>
                </a:solidFill>
                <a:latin typeface="Verdana"/>
              </a:rPr>
              <a:t> occurrence – Formosa, Reliant, Suez, Tenaska, &amp; Xtend (also had violations on April 17</a:t>
            </a:r>
            <a:r>
              <a:rPr b="0" lang="en-US" sz="1400" spc="-1" strike="noStrike" baseline="30000">
                <a:solidFill>
                  <a:srgbClr val="000000"/>
                </a:solidFill>
                <a:latin typeface="Verdana"/>
              </a:rPr>
              <a:t>th</a:t>
            </a:r>
            <a:r>
              <a:rPr b="0" lang="en-US" sz="1400" spc="-1" strike="noStrike">
                <a:solidFill>
                  <a:srgbClr val="000000"/>
                </a:solidFill>
                <a:latin typeface="Verdana"/>
              </a:rPr>
              <a:t>)</a:t>
            </a:r>
            <a:endParaRPr b="0" lang="en-US" sz="14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 notice related to Section 6.5.1.1(4) – telemetry requirements</a:t>
            </a:r>
            <a:endParaRPr b="0" lang="en-US" sz="1600" spc="-1" strike="noStrike">
              <a:solidFill>
                <a:srgbClr val="000000"/>
              </a:solidFill>
              <a:latin typeface="Verdana"/>
            </a:endParaRPr>
          </a:p>
          <a:p>
            <a:pPr lvl="3" marL="1693800" indent="-387360">
              <a:lnSpc>
                <a:spcPct val="80000"/>
              </a:lnSpc>
              <a:spcBef>
                <a:spcPts val="275"/>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Xtend</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4" name="PlaceHolder 3"/>
          <p:cNvSpPr>
            <a:spLocks noGrp="1"/>
          </p:cNvSpPr>
          <p:nvPr>
            <p:ph type="sldNum" idx="3"/>
          </p:nvPr>
        </p:nvSpPr>
        <p:spPr/>
        <p:txBody>
          <a:bodyPr/>
          <a:p>
            <a:fld id="{DA07613A-2713-4965-AAA7-8FBF20C7F6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ctober 3, 2006 Event Observations</a:t>
            </a:r>
            <a:endParaRPr b="0" lang="en-US" sz="36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aR Performance</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SEs receiving Protocol Violation Notices have substantially completed corrective action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rrently, all requirements to perform apply to QSEs – should some be shifted to individual LaaR?  </a:t>
            </a:r>
            <a:endParaRPr b="0" lang="en-US" sz="2000" spc="-1" strike="noStrike">
              <a:solidFill>
                <a:srgbClr val="000000"/>
              </a:solidFill>
              <a:latin typeface="Verdana"/>
            </a:endParaRPr>
          </a:p>
          <a:p>
            <a:pPr lvl="1" marL="907920" indent="-4363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R 714 Qualification and Periodic Testing of LaaR developed – tightens the requirements for initial qualification; introduces periodic testing requirements; and provides for more clearly defined conditions that would disqualify a LaaR for under/non-performance.</a:t>
            </a:r>
            <a:r>
              <a:rPr b="0" lang="en-US" sz="2200" spc="-1" strike="noStrike">
                <a:solidFill>
                  <a:srgbClr val="000000"/>
                </a:solidFill>
                <a:latin typeface="Verdana"/>
              </a:rPr>
              <a:t> </a:t>
            </a:r>
            <a:r>
              <a:rPr b="0" lang="en-US" sz="2100" spc="-1" strike="noStrike">
                <a:solidFill>
                  <a:srgbClr val="000000"/>
                </a:solidFill>
                <a:latin typeface="Verdana"/>
              </a:rPr>
              <a:t> </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C1FD6BB7-D732-4472-8C0C-427AE72D82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ctober 3, 2006 Event Observations</a:t>
            </a:r>
            <a:endParaRPr b="0" lang="en-US" sz="36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erator Trips</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of protective relay coordination of generators, per Operating Guides 3.1.4.6, requires TDSP input, as well as generator data – very technically demanding.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 related NERC and ERCOT requirements on protective relaying lack specificity but point out the need for review of relaying coordination between generators and TDSPs (for example, “…the protection scheme should be coordinated between the Generation Entity and the TDS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tors need to perform mis-operations analysis – now a NERC requirement – but standards do not specify timeliness.</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BC6455E3-D502-448A-B3CF-19500252A6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ctober 3, 2006 Event Observations</a:t>
            </a:r>
            <a:endParaRPr b="0" lang="en-US" sz="36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mission Issues</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in progress to upgrade transmission protective relaying to current ERCOT Operating Guides which is required for new facilities only.</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ting grid improvements planned in the area will reduce chances of reoccurrence.  Scheduled completion by Summer 2008.</a:t>
            </a:r>
            <a:endParaRPr b="0" lang="en-US" sz="20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switching responsibilities in Operating Guides for opportunities to clarify language.  NERC Standards assign this responsibility to ERCOT as the registered NERC TOP.</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368EBA2-CE77-4CB6-9B25-ED4AA4C917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ctober 3, 2006 Event Observations</a:t>
            </a:r>
            <a:endParaRPr b="0" lang="en-US" sz="36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Restoration</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improve operations plans for switching and restoration by local companies in area.  At least 7 TDSPs needed to work with each other and ERCOT.</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improve internal communications to key facilities within TDSPs.  Current requirements focus only on communications to ERCOT, not locally to facilities and local control centers. </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74F69511-C81B-45EB-A51C-73B4A0ECAD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cember 22, 2006 Event Overview</a:t>
            </a:r>
            <a:endParaRPr b="0" lang="en-US" sz="36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itiated by fault in main power transformer at generating station</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and remote generators tripped or reduced output ~1,900 MW. </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equency spiked to 59.691 Hz. – LaaR automatically deployed (~830 MW); not all tripped.  ERCOT issued instructions to QSEs to deploy remaining LaaR.  </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ECP Step 1 declared.   </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 reported to NERC – generation loss exceeded amount required to qualify as a NERC DCS Event.</a:t>
            </a:r>
            <a:endParaRPr b="0" lang="en-US" sz="20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equency recovered to pre-disturbance level in approximately 9 minutes </a:t>
            </a:r>
            <a:endParaRPr b="0" lang="en-US" sz="1800" spc="-1" strike="noStrike">
              <a:solidFill>
                <a:srgbClr val="000000"/>
              </a:solidFill>
              <a:latin typeface="Verdana"/>
            </a:endParaRPr>
          </a:p>
          <a:p>
            <a:pPr marL="46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4ED07D2C-24F9-46D0-8C87-F8DC9A65CF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cember 22, 2006 Event Observations</a:t>
            </a:r>
            <a:endParaRPr b="0" lang="en-US" sz="36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erator Trips</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ain, generators need to perform timely mis-operations analysis – NERC Standards do not specify thi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de-through capability of generators during disturbances was reviewed, and this requires specific technical expertise and fault recorder information from TDSPs as well as generator owner input.  It appears that some generation should not have tripped if Operating Guides requirements were met.  </a:t>
            </a:r>
            <a:endParaRPr b="0" lang="en-US" sz="2000" spc="-1" strike="noStrike">
              <a:solidFill>
                <a:srgbClr val="000000"/>
              </a:solidFill>
              <a:latin typeface="Verdana"/>
            </a:endParaRPr>
          </a:p>
          <a:p>
            <a:pPr lvl="2" marL="1305000" indent="-395280">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olation Notice issued to Generator Owner for non-compliance with an ERCOT Operating Guides Requirement – Operating Guide 3.1.4.6. </a:t>
            </a:r>
            <a:endParaRPr b="0" lang="en-US" sz="1800" spc="-1" strike="noStrike">
              <a:solidFill>
                <a:srgbClr val="000000"/>
              </a:solidFill>
              <a:latin typeface="Verdana"/>
            </a:endParaRPr>
          </a:p>
          <a:p>
            <a:pPr lvl="1" marL="90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1E1B40D9-B23F-4742-8C7E-0F31CCC429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cember 22, 2006 Event Observations</a:t>
            </a:r>
            <a:endParaRPr b="0" lang="en-US" sz="36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aR performance</a:t>
            </a:r>
            <a:endParaRPr b="0" lang="en-US" sz="24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e Protocol Violation Notices issued.</a:t>
            </a:r>
            <a:endParaRPr b="0" lang="en-US" sz="20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e notice related to Section 6.5.4(2) – tripping requirements for LaaR – Suez </a:t>
            </a:r>
            <a:endParaRPr b="0" lang="en-US" sz="18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wo notices related to Section 6.5.1.1(4) – telemetry requirements – Tenaska &amp; Xtend</a:t>
            </a:r>
            <a:endParaRPr b="0" lang="en-US" sz="18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quired corrective actions in progress </a:t>
            </a:r>
            <a:endParaRPr b="0" lang="en-US" sz="18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RCOT Operations to ask for retest of certain LaaR under-frequency relays that did not trip automatically.  No violations determined due to lack of high-speed frequency recordings at these locations and very short time that frequency dipped below 59.7 Hz.  High speed frequency recorders in Austin may not be sufficient to validate frequency-triggered LaaR performance across the grid. </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39AEA71E-DC23-4C98-AC95-602C21220715}"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trol Performance Highlights</a:t>
            </a:r>
            <a:endParaRPr b="0" lang="en-US" sz="36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ERC CPS1 Performance</a:t>
            </a:r>
            <a:endParaRPr b="0" lang="en-US" sz="25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 declined in February</a:t>
            </a:r>
            <a:endParaRPr b="0" lang="en-US" sz="20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bruary performance comparison</a:t>
            </a:r>
            <a:endParaRPr b="0" lang="en-US" sz="1800" spc="-1" strike="noStrike">
              <a:solidFill>
                <a:srgbClr val="000000"/>
              </a:solidFill>
              <a:latin typeface="Verdana"/>
            </a:endParaRPr>
          </a:p>
          <a:p>
            <a:pPr lvl="3" marL="1693800" indent="-387360">
              <a:lnSpc>
                <a:spcPct val="80000"/>
              </a:lnSpc>
              <a:spcBef>
                <a:spcPts val="425"/>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ebruary 2007:  126.91 </a:t>
            </a:r>
            <a:endParaRPr b="0" lang="en-US" sz="1700" spc="-1" strike="noStrike">
              <a:solidFill>
                <a:srgbClr val="000000"/>
              </a:solidFill>
              <a:latin typeface="Verdana"/>
            </a:endParaRPr>
          </a:p>
          <a:p>
            <a:pPr lvl="3" marL="1693800" indent="-387360">
              <a:lnSpc>
                <a:spcPct val="80000"/>
              </a:lnSpc>
              <a:spcBef>
                <a:spcPts val="374"/>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ebruary 2006:  141.06</a:t>
            </a:r>
            <a:r>
              <a:rPr b="0" lang="en-US" sz="1500" spc="-1" strike="noStrike">
                <a:solidFill>
                  <a:srgbClr val="000000"/>
                </a:solidFill>
                <a:latin typeface="Verdana"/>
              </a:rPr>
              <a:t> </a:t>
            </a:r>
            <a:endParaRPr b="0" lang="en-US" sz="15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 month rolling average comparison</a:t>
            </a:r>
            <a:endParaRPr b="0" lang="en-US" sz="1800" spc="-1" strike="noStrike">
              <a:solidFill>
                <a:srgbClr val="000000"/>
              </a:solidFill>
              <a:latin typeface="Verdana"/>
            </a:endParaRPr>
          </a:p>
          <a:p>
            <a:pPr lvl="3" marL="1693800" indent="-387360">
              <a:lnSpc>
                <a:spcPct val="80000"/>
              </a:lnSpc>
              <a:spcBef>
                <a:spcPts val="425"/>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rch 2006</a:t>
            </a:r>
            <a:r>
              <a:rPr b="0" lang="en-US" sz="1700" spc="-1" strike="noStrike">
                <a:solidFill>
                  <a:srgbClr val="000000"/>
                </a:solidFill>
                <a:latin typeface="Wingdings"/>
                <a:ea typeface="Wingdings"/>
              </a:rPr>
              <a:t></a:t>
            </a:r>
            <a:r>
              <a:rPr b="0" lang="en-US" sz="1700" spc="-1" strike="noStrike">
                <a:solidFill>
                  <a:srgbClr val="000000"/>
                </a:solidFill>
                <a:latin typeface="Verdana"/>
              </a:rPr>
              <a:t> February 2007:  141.47</a:t>
            </a:r>
            <a:endParaRPr b="0" lang="en-US" sz="1700" spc="-1" strike="noStrike">
              <a:solidFill>
                <a:srgbClr val="000000"/>
              </a:solidFill>
              <a:latin typeface="Verdana"/>
            </a:endParaRPr>
          </a:p>
          <a:p>
            <a:pPr lvl="3" marL="1693800" indent="-387360">
              <a:lnSpc>
                <a:spcPct val="80000"/>
              </a:lnSpc>
              <a:spcBef>
                <a:spcPts val="425"/>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rch 2005</a:t>
            </a:r>
            <a:r>
              <a:rPr b="0" lang="en-US" sz="1700" spc="-1" strike="noStrike">
                <a:solidFill>
                  <a:srgbClr val="000000"/>
                </a:solidFill>
                <a:latin typeface="Wingdings"/>
                <a:ea typeface="Wingdings"/>
              </a:rPr>
              <a:t></a:t>
            </a:r>
            <a:r>
              <a:rPr b="0" lang="en-US" sz="1700" spc="-1" strike="noStrike">
                <a:solidFill>
                  <a:srgbClr val="000000"/>
                </a:solidFill>
                <a:latin typeface="Verdana"/>
              </a:rPr>
              <a:t> February 2006:  127.97</a:t>
            </a:r>
            <a:endParaRPr b="0" lang="en-US" sz="1700" spc="-1" strike="noStrike">
              <a:solidFill>
                <a:srgbClr val="000000"/>
              </a:solidFill>
              <a:latin typeface="Verdana"/>
            </a:endParaRPr>
          </a:p>
          <a:p>
            <a:pPr lvl="2" marL="1305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RR 525 Performance</a:t>
            </a:r>
            <a:endParaRPr b="0" lang="en-US" sz="25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itial scores for February indicate 32 QSEs passed / 1 non-wind-only QSE failed the measur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ores posted on the ERCOT Compliance Website</a:t>
            </a:r>
            <a:endParaRPr b="0" lang="en-US" sz="20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6699"/>
                </a:solidFill>
                <a:uFillTx/>
                <a:latin typeface="Verdana"/>
                <a:hlinkClick r:id="rId2"/>
              </a:rPr>
              <a:t>SCE Performance Scores</a:t>
            </a:r>
            <a:endParaRPr b="0" lang="en-US" sz="18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EFBA586D-CCC3-4F01-A672-0CDE7CE5D0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RCOT CPS1 Performance Comparison </a:t>
            </a:r>
            <a:endParaRPr b="0" lang="en-US" sz="3600" spc="-1" strike="noStrike">
              <a:solidFill>
                <a:srgbClr val="000000"/>
              </a:solidFill>
              <a:latin typeface="Verdana"/>
            </a:endParaRPr>
          </a:p>
        </p:txBody>
      </p:sp>
      <p:pic>
        <p:nvPicPr>
          <p:cNvPr id="92" name="" descr=""/>
          <p:cNvPicPr/>
          <p:nvPr/>
        </p:nvPicPr>
        <p:blipFill>
          <a:blip r:embed="rId2"/>
          <a:stretch/>
        </p:blipFill>
        <p:spPr>
          <a:xfrm>
            <a:off x="609480" y="1752480"/>
            <a:ext cx="8001000" cy="4267440"/>
          </a:xfrm>
          <a:prstGeom prst="rect">
            <a:avLst/>
          </a:prstGeom>
          <a:ln w="0">
            <a:noFill/>
          </a:ln>
        </p:spPr>
      </p:pic>
      <p:sp>
        <p:nvSpPr>
          <p:cNvPr id="3" name="PlaceHolder 2"/>
          <p:cNvSpPr>
            <a:spLocks noGrp="1"/>
          </p:cNvSpPr>
          <p:nvPr>
            <p:ph type="sldNum" idx="3"/>
          </p:nvPr>
        </p:nvSpPr>
        <p:spPr/>
        <p:txBody>
          <a:bodyPr/>
          <a:p>
            <a:fld id="{ADC1F17C-9B90-4CA0-8B70-3B9DB06A4B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RCOT CPS1 by Interval</a:t>
            </a:r>
            <a:endParaRPr b="0" lang="en-US" sz="3600" spc="-1" strike="noStrike">
              <a:solidFill>
                <a:srgbClr val="000000"/>
              </a:solidFill>
              <a:latin typeface="Verdana"/>
            </a:endParaRPr>
          </a:p>
        </p:txBody>
      </p:sp>
      <p:pic>
        <p:nvPicPr>
          <p:cNvPr id="94" name="" descr=""/>
          <p:cNvPicPr/>
          <p:nvPr/>
        </p:nvPicPr>
        <p:blipFill>
          <a:blip r:embed="rId2"/>
          <a:stretch/>
        </p:blipFill>
        <p:spPr>
          <a:xfrm>
            <a:off x="609480" y="1752480"/>
            <a:ext cx="8001000" cy="4267440"/>
          </a:xfrm>
          <a:prstGeom prst="rect">
            <a:avLst/>
          </a:prstGeom>
          <a:ln w="0">
            <a:noFill/>
          </a:ln>
        </p:spPr>
      </p:pic>
      <p:sp>
        <p:nvSpPr>
          <p:cNvPr id="3" name="PlaceHolder 2"/>
          <p:cNvSpPr>
            <a:spLocks noGrp="1"/>
          </p:cNvSpPr>
          <p:nvPr>
            <p:ph type="sldNum" idx="3"/>
          </p:nvPr>
        </p:nvSpPr>
        <p:spPr/>
        <p:txBody>
          <a:bodyPr/>
          <a:p>
            <a:fld id="{E0EBB330-D03D-4ABA-AF3A-92B998A7F7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SE PRR525 10-Minute</a:t>
            </a:r>
            <a:br>
              <a:rPr sz="3600"/>
            </a:br>
            <a:r>
              <a:rPr b="0" lang="en-US" sz="3600" spc="-1" strike="noStrike">
                <a:solidFill>
                  <a:srgbClr val="000000"/>
                </a:solidFill>
                <a:latin typeface="Verdana"/>
              </a:rPr>
              <a:t>Interval Scoring</a:t>
            </a:r>
            <a:endParaRPr b="0" lang="en-US" sz="3600" spc="-1" strike="noStrike">
              <a:solidFill>
                <a:srgbClr val="000000"/>
              </a:solidFill>
              <a:latin typeface="Verdana"/>
            </a:endParaRPr>
          </a:p>
        </p:txBody>
      </p:sp>
      <p:pic>
        <p:nvPicPr>
          <p:cNvPr id="96" name="" descr=""/>
          <p:cNvPicPr/>
          <p:nvPr/>
        </p:nvPicPr>
        <p:blipFill>
          <a:blip r:embed="rId2"/>
          <a:stretch/>
        </p:blipFill>
        <p:spPr>
          <a:xfrm>
            <a:off x="609480" y="1752480"/>
            <a:ext cx="8001000" cy="4267440"/>
          </a:xfrm>
          <a:prstGeom prst="rect">
            <a:avLst/>
          </a:prstGeom>
          <a:ln w="0">
            <a:noFill/>
          </a:ln>
        </p:spPr>
      </p:pic>
      <p:sp>
        <p:nvSpPr>
          <p:cNvPr id="3" name="PlaceHolder 2"/>
          <p:cNvSpPr>
            <a:spLocks noGrp="1"/>
          </p:cNvSpPr>
          <p:nvPr>
            <p:ph type="sldNum" idx="3"/>
          </p:nvPr>
        </p:nvSpPr>
        <p:spPr/>
        <p:txBody>
          <a:bodyPr/>
          <a:p>
            <a:fld id="{9455ED3B-67E2-45FD-A691-50F9E91D28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bruary 2007 Resource Plan Performance Metrics</a:t>
            </a:r>
            <a:endParaRPr b="0" lang="en-US" sz="3200" spc="-1" strike="noStrike">
              <a:solidFill>
                <a:srgbClr val="000000"/>
              </a:solidFill>
              <a:latin typeface="Verdana"/>
            </a:endParaRPr>
          </a:p>
        </p:txBody>
      </p:sp>
      <p:pic>
        <p:nvPicPr>
          <p:cNvPr id="98" name="" descr=""/>
          <p:cNvPicPr/>
          <p:nvPr/>
        </p:nvPicPr>
        <p:blipFill>
          <a:blip r:embed="rId2"/>
          <a:stretch/>
        </p:blipFill>
        <p:spPr>
          <a:xfrm>
            <a:off x="566640" y="1676520"/>
            <a:ext cx="8001000" cy="4495680"/>
          </a:xfrm>
          <a:prstGeom prst="rect">
            <a:avLst/>
          </a:prstGeom>
          <a:ln w="0">
            <a:noFill/>
          </a:ln>
        </p:spPr>
      </p:pic>
      <p:sp>
        <p:nvSpPr>
          <p:cNvPr id="3" name="PlaceHolder 2"/>
          <p:cNvSpPr>
            <a:spLocks noGrp="1"/>
          </p:cNvSpPr>
          <p:nvPr>
            <p:ph type="sldNum" idx="3"/>
          </p:nvPr>
        </p:nvSpPr>
        <p:spPr/>
        <p:txBody>
          <a:bodyPr/>
          <a:p>
            <a:fld id="{096CE8EC-F5C2-4828-B0B1-948EC19EE2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00200" y="304920"/>
            <a:ext cx="697536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525 Passing 10-Min Interval </a:t>
            </a:r>
            <a:br>
              <a:rPr sz="3600"/>
            </a:br>
            <a:r>
              <a:rPr b="0" lang="en-US" sz="3600" spc="-1" strike="noStrike">
                <a:solidFill>
                  <a:srgbClr val="000000"/>
                </a:solidFill>
                <a:latin typeface="Verdana"/>
              </a:rPr>
              <a:t>Percentage Trends</a:t>
            </a:r>
            <a:endParaRPr b="0" lang="en-US" sz="3600" spc="-1" strike="noStrike">
              <a:solidFill>
                <a:srgbClr val="000000"/>
              </a:solidFill>
              <a:latin typeface="Verdana"/>
            </a:endParaRPr>
          </a:p>
        </p:txBody>
      </p:sp>
      <p:pic>
        <p:nvPicPr>
          <p:cNvPr id="100" name="" descr=""/>
          <p:cNvPicPr/>
          <p:nvPr/>
        </p:nvPicPr>
        <p:blipFill>
          <a:blip r:embed="rId2"/>
          <a:stretch/>
        </p:blipFill>
        <p:spPr>
          <a:xfrm>
            <a:off x="609480" y="1752480"/>
            <a:ext cx="8001000" cy="4267440"/>
          </a:xfrm>
          <a:prstGeom prst="rect">
            <a:avLst/>
          </a:prstGeom>
          <a:ln w="0">
            <a:noFill/>
          </a:ln>
        </p:spPr>
      </p:pic>
      <p:sp>
        <p:nvSpPr>
          <p:cNvPr id="3" name="PlaceHolder 2"/>
          <p:cNvSpPr>
            <a:spLocks noGrp="1"/>
          </p:cNvSpPr>
          <p:nvPr>
            <p:ph type="sldNum" idx="3"/>
          </p:nvPr>
        </p:nvSpPr>
        <p:spPr/>
        <p:txBody>
          <a:bodyPr/>
          <a:p>
            <a:fld id="{EE9E1DC8-20C4-4F76-ABCA-1910BC2530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RO / RE Activities</a:t>
            </a:r>
            <a:endParaRPr b="0" lang="en-US" sz="36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ch 2</a:t>
            </a:r>
            <a:r>
              <a:rPr b="0" lang="en-US" sz="2400" spc="-1" strike="noStrike" baseline="30000">
                <a:solidFill>
                  <a:srgbClr val="000000"/>
                </a:solidFill>
                <a:latin typeface="Verdana"/>
              </a:rPr>
              <a:t>nd</a:t>
            </a:r>
            <a:r>
              <a:rPr b="0" lang="en-US" sz="2400" spc="-1" strike="noStrike">
                <a:solidFill>
                  <a:srgbClr val="000000"/>
                </a:solidFill>
                <a:latin typeface="Verdana"/>
              </a:rPr>
              <a:t>:  Latest draft of Entity Registration List submitted to NERC (</a:t>
            </a:r>
            <a:r>
              <a:rPr b="0" lang="en-US" sz="2400" spc="-1" strike="noStrike" u="sng">
                <a:solidFill>
                  <a:srgbClr val="000000"/>
                </a:solidFill>
                <a:uFillTx/>
                <a:latin typeface="Verdana"/>
              </a:rPr>
              <a:t>work-in-progress</a:t>
            </a:r>
            <a:r>
              <a:rPr b="0" lang="en-US" sz="2400" spc="-1" strike="noStrike">
                <a:solidFill>
                  <a:srgbClr val="000000"/>
                </a:solidFill>
                <a:latin typeface="Verdana"/>
              </a:rPr>
              <a:t>)</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ril 2007:  Anticipated that FERC will rule on Regional Delegation Agreements certifying the Texas RE to be the Regional Entity for the ERCOT Region</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2007:  Submit 1</a:t>
            </a:r>
            <a:r>
              <a:rPr b="0" lang="en-US" sz="2400" spc="-1" strike="noStrike" baseline="30000">
                <a:solidFill>
                  <a:srgbClr val="000000"/>
                </a:solidFill>
                <a:latin typeface="Verdana"/>
              </a:rPr>
              <a:t>st</a:t>
            </a:r>
            <a:r>
              <a:rPr b="0" lang="en-US" sz="2400" spc="-1" strike="noStrike">
                <a:solidFill>
                  <a:srgbClr val="000000"/>
                </a:solidFill>
                <a:latin typeface="Verdana"/>
              </a:rPr>
              <a:t> draft of 2008 Texas RE Business Plan &amp; Budget to NERC</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ne 2007:  NERC Reliability Standards in place – mandatory compliance enforcement expected to begin</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C40F022-BF55-4460-AEE3-EF40FD7195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ctober 3, 2006 Event Overview</a:t>
            </a:r>
            <a:endParaRPr b="0" lang="en-US" sz="36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itiated at Gibbons Creek Substation in Bryan/College Station Area</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38 kV coupling capacitor voltage transformer (CCVT) failed catastrophically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rrent-sensing components of the backup protective relay failed due to high fault current</a:t>
            </a:r>
            <a:endParaRPr b="0" lang="en-US" sz="20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14 MW of generation lost – NERC Disturbance Control Standard (DCS) Event</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equency recovered to pre-disturbance level in approximately 3 minutes – NERC criteria met; no NERC Reliability Standards violation</a:t>
            </a:r>
            <a:endParaRPr b="0" lang="en-US" sz="20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39 MW of firm load shed in area</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E9E15CD-B1BD-4950-B38D-A82C51F054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22:17:43Z</dcterms:created>
  <dc:creator>lrobinson</dc:creator>
  <dc:description/>
  <dc:language>en-US</dc:language>
  <cp:lastModifiedBy>L. Grimm</cp:lastModifiedBy>
  <dcterms:modified xsi:type="dcterms:W3CDTF">2007-03-19T20:22:19Z</dcterms:modified>
  <cp:revision>401</cp:revision>
  <dc:subject/>
  <dc:title>PRR 525 Compliance Analysis</dc:title>
</cp:coreProperties>
</file>