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C112-C650-469B-820C-ABCA0EAB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C163-38FC-4E79-8A59-5841B4E6B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5AE-D71A-48B8-A53C-3A9512F3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350-931F-40B7-8B88-DC2790A2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052-CBF9-471C-A582-8D31E4A2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71A-D5CE-4116-B069-0333F0BC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F6D-9C00-4AD3-936F-64831333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A3D-E94C-42DD-89B3-40D2C5B6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D40-BE70-4764-B1C0-99DDFBEF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AB7-F80E-4B39-9F60-18468CC1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7E2-B68A-4F07-A64B-69E27928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E23-1CC5-43EF-B898-B8F23C0B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4D8-96D9-42A8-961A-6718774A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185-3C49-4E5D-BB7C-1319B90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B879-B738-457F-90F7-71C80A9DA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rch 13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9A6-FCB9-4854-A337-BF48BC06CF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9760" y="152280"/>
            <a:ext cx="7643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uxiliary Backcasted Load Profil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95280" y="1371600"/>
            <a:ext cx="6629040" cy="2437920"/>
            <a:chOff x="1295280" y="1371600"/>
            <a:chExt cx="6629040" cy="24379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rcRect l="1582" t="35259" r="4428" b="13561"/>
            <a:stretch/>
          </p:blipFill>
          <p:spPr>
            <a:xfrm>
              <a:off x="1295280" y="1371600"/>
              <a:ext cx="662904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294000" y="3450960"/>
              <a:ext cx="235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Arial"/>
                </a:rPr>
                <a:t>Auxiliary Backcasted Load Pro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2885760" y="3619440"/>
            <a:ext cx="64764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116160" y="3625920"/>
            <a:ext cx="41904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276880" y="3581280"/>
            <a:ext cx="1038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53280" y="34383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w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857240" y="4514760"/>
            <a:ext cx="4084920" cy="1379520"/>
            <a:chOff x="1857240" y="4514760"/>
            <a:chExt cx="4084920" cy="1379520"/>
          </a:xfrm>
        </p:grpSpPr>
        <p:sp>
          <p:nvSpPr>
            <p:cNvPr id="88" name=""/>
            <p:cNvSpPr/>
            <p:nvPr/>
          </p:nvSpPr>
          <p:spPr>
            <a:xfrm>
              <a:off x="3117960" y="4514760"/>
              <a:ext cx="28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62280" y="5859360"/>
              <a:ext cx="40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4240" y="4516560"/>
              <a:ext cx="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57240" y="4521240"/>
              <a:ext cx="10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59040" y="4518000"/>
              <a:ext cx="0" cy="13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rcRect l="8277" t="45931" r="34488" b="27564"/>
            <a:stretch/>
          </p:blipFill>
          <p:spPr>
            <a:xfrm>
              <a:off x="1866960" y="4524480"/>
              <a:ext cx="40701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535120" y="5027760"/>
              <a:ext cx="298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479680" y="4976640"/>
              <a:ext cx="34099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3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cc"/>
                  </a:solidFill>
                  <a:uFillTx/>
                  <a:latin typeface="Arial"/>
                </a:rPr>
                <a:t>20070317.154823.Bcst03162007_aux.csv 20070316.154743.Bcst03152007_aux.csv 20070315.154748.Bcst03142007_aux.csv 20070314.154823.Bcst03132007_aux.c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1995480" y="4781520"/>
              <a:ext cx="214308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979640" y="4765680"/>
              <a:ext cx="335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S Reference Sans Serif"/>
                </a:rPr>
                <a:t>Auxiliary Backcasted Profiles Ex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692-12F8-4CD8-9CFF-6313B21C6C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28600"/>
            <a:ext cx="8610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PGRR0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Residential Profile Seg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Up of Valid Profile IDs T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69608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14B-F528-48E2-9D62-03A7E314B6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523880"/>
            <a:ext cx="8381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ault Residential Profile Se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n Up of Valid Profile IDs 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PS recommends to TAC approval of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LPGRR0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BFF-BF50-4E50-9485-415262C013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965-97E0-4150-A6BE-5A8608858C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March 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t March 6 at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revised Outage Template for Market Notif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pdated COPSMG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ggested adding a Code to be used to track to Retail, Wholesale or Market Wide, date of issue, issue number for day, and number of notices sent relating to original notice – ERCOT can implement within existing notic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944-2F44-4B2A-B188-5DCD4DA87B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March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eparing draft PRR and NPRR to simplify the dispute process – for discussion at COPS April 10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 and submit comments on TPTF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P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goals and target completion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vided update on status of implementing new load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quested approval of LPGRR018 (voting ite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A08-D69F-406E-B767-94A8BBE277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33720" y="228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ntique Olive Roman"/>
              </a:rPr>
              <a:t>March 13th Meeting – PWG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463-997A-44B2-87D3-BE7500BB8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362320"/>
            <a:ext cx="7696080" cy="206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ERCOT Load Profil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tion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/15/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52A-1C0D-4CB9-ADBA-E35BC54FFC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175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Status Repor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143000"/>
            <a:ext cx="853452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09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 Transition to new load profiles, Option 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test almost comple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test to start week of March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 according to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Create folders for posting of Auxiliary backcasts to TML and ercot.com, and manually popu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now being performed as maintenance—no longer a S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to be completed by Wednesday, March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Automated posting of Auxiliary backcasts to TML and ercot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ompleted prior to May 15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047-578D-46F0-ADCC-61CFD65593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Load Profile models are scheduled to be implemented on May 15, 2007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 transition plan Option 3M allows for a mixture of old and new profiles to be used in sett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backcasted load profiles (from new models) are scheduled to start posting to the TML and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March 14, 200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rket Notice will be sent out 7 to 10 days before actual posting be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F33-C154-484D-B25D-B6867BFAAF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de date 05/15/07 onward, profiles generated from new models will be posted in the “primary” fo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s from old models would be posted in auxiliary folder for 60 days and archived o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w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257-1033-44AE-8231-74162C3C9D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960480" y="1797120"/>
            <a:ext cx="6611760" cy="3651120"/>
            <a:chOff x="960480" y="1797120"/>
            <a:chExt cx="6611760" cy="36511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rcRect l="2440" t="35261" r="5739" b="10774"/>
            <a:stretch/>
          </p:blipFill>
          <p:spPr>
            <a:xfrm>
              <a:off x="960480" y="1797120"/>
              <a:ext cx="6611760" cy="29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3490920" y="4649760"/>
              <a:ext cx="4022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019400" y="3724200"/>
              <a:ext cx="1733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638520" y="3876840"/>
              <a:ext cx="34671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238640" y="3895560"/>
              <a:ext cx="316224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1120" y="3852720"/>
              <a:ext cx="3352680" cy="8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.(03-17-2007 15:48:23 ).Bcst03162007_aux.csv ext.(03-16-2007 15:47:43 ).Bcst03152007_aux.csv ext.(03-15-2007 15:47:48 ).Bcst03142007_aux.csv ext.(03-14-2007 15:48:23 ).Bcst03132007_aux.csv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5520" y="3689280"/>
              <a:ext cx="2514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MS Reference Sans Serif"/>
                </a:rPr>
                <a:t>Auxiliary Backcasted Profiles Ex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935520" y="368928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MS Reference Sans Serif"/>
              </a:rPr>
              <a:t>Auxiliary Backcasted Profiles Ex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492600" y="3672000"/>
            <a:ext cx="2222280" cy="276480"/>
            <a:chOff x="6492600" y="3672000"/>
            <a:chExt cx="2222280" cy="276480"/>
          </a:xfrm>
        </p:grpSpPr>
        <p:sp>
          <p:nvSpPr>
            <p:cNvPr id="76" name=""/>
            <p:cNvSpPr/>
            <p:nvPr/>
          </p:nvSpPr>
          <p:spPr>
            <a:xfrm>
              <a:off x="7590960" y="36720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ew fol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492600" y="3814920"/>
              <a:ext cx="1037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643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uxiliary Backcasted Load Profil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0B0-7C7B-4229-8CAB-3726ADB58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3-25T17:47:36Z</dcterms:modified>
  <cp:revision>206</cp:revision>
  <dc:subject/>
  <dc:title>Point-to-Point</dc:title>
</cp:coreProperties>
</file>