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76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08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08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76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08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E61B-3C0B-4E6A-AB42-B9C74BB686C3}" type="slidenum">
              <a:rPr b="0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41320" y="97488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48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57909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707-FCB7-446F-95EA-E475738C9E56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295200"/>
            <a:ext cx="1295280" cy="69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1676520"/>
            <a:ext cx="830556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C Briefing on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on Constraints and Need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Year Plan Develop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ng Term System Assessment (LTSA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tergy Integration Study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1/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456160"/>
            <a:ext cx="4724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45 kV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8534160" cy="55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 High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generation interconnection activity is consistent with 3 of 4 scen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additional upgrades of the 138kV system and additional 345kV support (particularly in DFW and along the I-35 cities from the west) will be required in years 6-10 even with moderate load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ation of switching stations at points where existing 345kV circuits intersect (Singleton, Navarro, Zenith and Paint Creek) may result in better distribution of power and increase transfer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e one additional bulk circuit will be needed into the Houston and DFW areas for reliability, and additional circuits may be economically jus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ergy Integration Study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etus for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gy required to file transition to competition plan for Texas area with PUCT by 1/1/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ption is to disconnect Entergy Texas area from Eastern Interconnect and connect to ERC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was asked to study technical requirements to reliably and efficiently interconnect this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ransmission projects necessary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ERCOT/NERC reliabili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fficient operat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existing contractual requirements to be met through asynchronous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cost of “tie backs” on Eastern Interconn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4822" t="0" r="28841" b="0"/>
          <a:stretch/>
        </p:blipFill>
        <p:spPr>
          <a:xfrm>
            <a:off x="152280" y="1092240"/>
            <a:ext cx="6292800" cy="5765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86400" y="1295280"/>
            <a:ext cx="3657600" cy="1923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arry Sub and 150MW DC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arry-Rivtrin &amp;Rivtrin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bstation Improvements at Gr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orter Sub a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783800">
            <a:off x="3809880" y="1143000"/>
            <a:ext cx="228600" cy="9144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512800">
            <a:off x="4177800" y="1830240"/>
            <a:ext cx="228600" cy="312444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3657600"/>
            <a:ext cx="2438280" cy="216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on Wier-Kirby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toile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tburg 300MW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tburg-Sa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 Set of Reliability and Contractual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3319800">
            <a:off x="4215960" y="5232240"/>
            <a:ext cx="223920" cy="164628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40000">
            <a:off x="4657320" y="4626000"/>
            <a:ext cx="206280" cy="116352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2767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40000">
            <a:off x="5879880" y="5029200"/>
            <a:ext cx="206280" cy="76212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19560" y="5409720"/>
            <a:ext cx="685800" cy="2286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323200">
            <a:off x="5867280" y="426708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147000">
            <a:off x="1990080" y="3019320"/>
            <a:ext cx="228600" cy="6858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486400" y="3276360"/>
            <a:ext cx="129528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171840" y="5029200"/>
            <a:ext cx="609480" cy="76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286000" y="533376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08320" y="53431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6880" y="3048120"/>
            <a:ext cx="2895840" cy="2286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3319800">
            <a:off x="2276280" y="5324400"/>
            <a:ext cx="152280" cy="228600"/>
          </a:xfrm>
          <a:prstGeom prst="rect">
            <a:avLst/>
          </a:prstGeom>
          <a:solidFill>
            <a:srgbClr val="ffff6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447920"/>
            <a:ext cx="2203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Capi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24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920" y="2438280"/>
            <a:ext cx="4114800" cy="17528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57400" y="1523880"/>
            <a:ext cx="3581280" cy="16002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248160" y="3429000"/>
            <a:ext cx="533160" cy="3808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09680" y="2133720"/>
            <a:ext cx="3353040" cy="1143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um reliability projects set met ERCOT steady state reliability criteria but not 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514600"/>
            <a:ext cx="3733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d economic projects against the set of minimum reliabilit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production cost savings must be greater than the incremental annualized capital cost of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17810" b="0"/>
          <a:stretch/>
        </p:blipFill>
        <p:spPr>
          <a:xfrm>
            <a:off x="4191120" y="23623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Projec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ogdoches-Houston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079640"/>
            <a:ext cx="6019560" cy="5549760"/>
            <a:chOff x="304920" y="1079640"/>
            <a:chExt cx="6019560" cy="5549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0" r="32428" b="0"/>
            <a:stretch/>
          </p:blipFill>
          <p:spPr>
            <a:xfrm>
              <a:off x="304920" y="1079640"/>
              <a:ext cx="6019560" cy="55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V="1">
              <a:off x="3495960" y="5531040"/>
              <a:ext cx="1187640" cy="87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609440" y="4653000"/>
              <a:ext cx="74160" cy="87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644280" y="1872360"/>
              <a:ext cx="964440" cy="278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44640" y="1140120"/>
              <a:ext cx="445320" cy="731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05720" y="6019920"/>
            <a:ext cx="2438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NA – CB 345KV DBL. CK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572000" y="594324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419720"/>
            <a:ext cx="2514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YPRESS - CHINA 345KV DBL. CK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24280" y="4724280"/>
            <a:ext cx="18288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28195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KIN – CYPRESS 345KV DBL. CK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43040" y="3124080"/>
            <a:ext cx="21337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1295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KIN – NACOGDOCHES 345k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962160" y="1447560"/>
            <a:ext cx="2514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447920"/>
            <a:ext cx="2590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Capita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27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nnual Production Cost Sav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63M @ $5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$95M @ $7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d, comprehensive transmission plan for the ERCO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ll upgrades that would not require RPG review which were included by TSPs in SSWG c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“larger” projects that meet the criteria for RPG review, includes the projects which passed an analysis that was similar  to what would be performed on project proposed to R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nt is to streamline and to provide a well documented basis for the RPG review of projec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60320" y="152280"/>
            <a:ext cx="35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Year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with SSWG powerflow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ll system improvements included in futur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projects that would require RPG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minimum set of projects needed to meet reliability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set of projects that are econom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combined set of projects to minimize over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3920" y="152280"/>
            <a:ext cx="54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Year Pla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includes listing of major projects included in Five Year Plan, i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listing of all projects, in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includes projection of remaining congested elements and indication of marginal congestion for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65000" y="25092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on Constraints an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erm System Assessment (LTSA)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erm System Assessment (LT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the legislative requirement to “study the need for increased transmission and generation capacity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d the planning horizon out to 10 years, in order to guide near-term dec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Drivers for new transmission and generation, with stakeholder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d discrete scenarios under which to study the G&amp;T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d proxy new generation to meet load growth for each scenario (amount, type and locations determined by econom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local transmission constraints that will need to be sol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ed bulk transmission needs and potential line concep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enarios for ~2016 Timefra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 Pr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4, $7, $10 (per MMBtu, delivered to generating pla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:  Peak and Energy Grow at 2%/year from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Growth: Peak and Energy Grow at 4%/year from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Energy:  Peak grows at 2%/year and energy grows at 3%/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vironmental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cases have regulations currently being implem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Case:  No additional environmental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Carbon Case:  Current regulations plus $8/ton for CO</a:t>
            </a:r>
            <a:r>
              <a:rPr b="0" lang="en-US" sz="1800" spc="-1" strike="noStrike" baseline="-18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Carbon Case: Current regulations plus $16/ton for CO</a:t>
            </a:r>
            <a:r>
              <a:rPr b="0" lang="en-US" sz="1800" spc="-1" strike="noStrike" baseline="-18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4657680"/>
          <a:ext cx="6781680" cy="2048040"/>
        </p:xfrm>
        <a:graphic>
          <a:graphicData uri="http://schemas.openxmlformats.org/drawingml/2006/table">
            <a:tbl>
              <a:tblPr/>
              <a:tblGrid>
                <a:gridCol w="1485720"/>
                <a:gridCol w="1487520"/>
                <a:gridCol w="1751040"/>
                <a:gridCol w="2057400"/>
              </a:tblGrid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tion Additions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066680"/>
          <a:ext cx="8229600" cy="4507200"/>
        </p:xfrm>
        <a:graphic>
          <a:graphicData uri="http://schemas.openxmlformats.org/drawingml/2006/table">
            <a:tbl>
              <a:tblPr/>
              <a:tblGrid>
                <a:gridCol w="649440"/>
                <a:gridCol w="1492200"/>
                <a:gridCol w="1309680"/>
                <a:gridCol w="1309680"/>
                <a:gridCol w="1177920"/>
                <a:gridCol w="1307880"/>
                <a:gridCol w="982800"/>
              </a:tblGrid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Bu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e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C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eMar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rowSpan="4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0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rowSpan="4"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W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0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,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,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,2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,5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80880" y="57913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ly retirements were not yet considered in thes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cenarios 2-4, CT additions may indicate need for additional import capacity into the area where those CTs were 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voltage lines (&lt;345kV lin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 needed for reliability shown in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ments needed for economics shown in 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wer Voltage Constrai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0041" t="0" r="20053" b="0"/>
          <a:stretch/>
        </p:blipFill>
        <p:spPr>
          <a:xfrm>
            <a:off x="3454560" y="1257480"/>
            <a:ext cx="563868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1/2007 D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9:18:00Z</dcterms:created>
  <dc:creator>dwoodfin</dc:creator>
  <dc:description/>
  <dc:language>en-US</dc:language>
  <cp:lastModifiedBy>balbracht</cp:lastModifiedBy>
  <dcterms:modified xsi:type="dcterms:W3CDTF">2007-03-30T13:36:25Z</dcterms:modified>
  <cp:revision>151</cp:revision>
  <dc:subject/>
  <dc:title>Slide 1</dc:title>
</cp:coreProperties>
</file>