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2B3-84B0-418F-9809-5A16AA0A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279-D673-49D6-804E-0E2F0B2F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56A-A85A-426F-9F53-BEDF62C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B1F-F7FF-4795-9412-FE9502EB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2E34-FCA1-4335-A401-503292D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D48-2810-4EEA-8B4A-66B26298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8BA0-09C7-4B48-AF22-74362200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CE4-7FF4-4CC7-8921-E71821A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F9DF-19B4-4D4D-BC93-9616729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C96-8392-43A7-BA4A-E7B2907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F31F-2F90-4445-B4A4-501AA982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48C-F634-45B9-9036-B92C6863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516-A3B6-4F96-86D7-DE9AC20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CA0-9FF9-452A-9B74-9A1AFA0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3A34-C475-4697-9EA7-1477C2B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384A-C9CD-4960-8007-B9EDF178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560-2332-481D-BF78-CD6661E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0AA-5694-439B-908E-C016100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FFB-E057-44F3-BF2D-993E4C8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028-7009-42C4-9D5D-EBE8C01D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4B4-CA94-44C1-A98A-78685C07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F83-11E8-4203-A7DD-B32D89C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636-D4E5-494C-B665-9DF9D43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A1E-345F-4EF5-8D24-0D43F2C4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7DEC-7614-4EE4-B874-C4758D3CF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8F1-8291-4051-AFD1-69C814A81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echnical Advisory 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Board of Dire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rch 21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tail Transactions Perform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TAC meeting—face-to-face discussion with Ron Hins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eement to work with stakeholders on improving performance metrics and repor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ment to improve internal communications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FP for independent review of all retail transactions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—working with ERCOT staff on new performance metrics and repor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day’s TAC Repo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PR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operating guide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 Top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ed changes to RGS procurement (from the IMM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tion of a preliminary Standards Drafting T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ergency Interruptible Load Service (EILS) upd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ail transactions performance discu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Nodal Implementation Surcharge Verifiable Cos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30440"/>
          <a:ext cx="8305920" cy="5097240"/>
        </p:xfrm>
        <a:graphic>
          <a:graphicData uri="http://schemas.openxmlformats.org/drawingml/2006/table">
            <a:tbl>
              <a:tblPr/>
              <a:tblGrid>
                <a:gridCol w="2768760"/>
                <a:gridCol w="704520"/>
                <a:gridCol w="483264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RG - I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s the nodal implementation surcharge as a verifiable cost for resources called on for reliability purpos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a resource owner an opportunity to recover the surcharge if it submits verifiable cost information covering OOMC, OOME, LCRR and RM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impact QSEs paying for the services lis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C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C unanimously voted to recommend approval as revised by comments of the TAC Chair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ril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91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Nodal Implementation Surcharge Verifiable Cost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13920" y="4419720"/>
            <a:ext cx="218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act absorbed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urrent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perating Guide Changes Adopte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GRR050—Mass Transition Process for Events Initiated Prior to a Weekend or ERCOT Holiday and Additional Clarifications (urg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PGRR019—Revision of Holidays Tab in Profile Model Spreadsheets (urg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dependent Market Monitor Repor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UC Subst. R.  23.365(k) requires the IMM to provide periodic updates to the ERCOT stakeholders on operations of the wholesale marke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rch TAC meeting—IMM presented a Review of Regulation (RGS) Procurement Quantiti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e the BOD annually approves the AS methodologies guidance docu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M demonstrated significant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over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urement of RG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procuring an average quantity rather than a quantity that varies by hou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 testing for November and December suggests $6.5 million savings for those two month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RCOT operations staff is reviewing the IMM’s analysi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pe to bring you an update to the AS methodologies document as soon as ERCOT staff and stakeholders are all comfortable with the proposed chang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itiation of Standards Drafting Tea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RE draft Delegation Agreement defines a standards drafting process, with a role for the Reliability and Operations Subcommittee (R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S responsible for assembling a Standard Drafting Team—full process described in the Delegation Agre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arch, TAC directed ROS to set up a preliminary Standard Drafting Team—pending FERC approval of the Delegation Agre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task—review the 83 NERC-recommended standards approved last week by FERC, which become mandatory and enforceable this summ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rpose—develop a common understanding of obligations for compliance by ERCOT and stakeholders with the standard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mergency Interruptible Load Service (EILS)--Updat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day—PUC passed its new rule requiring Emergency Interruptible Load Service (effective April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rsday—PRS will consider adoption of PRR 705 with ERCOT amendments to conform to the PUC Ru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day—ERCOT staff holding an EILS workshop with interested market particip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—initial EILS procuremen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cted adoption of the PRR—April 1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eting of the B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ementation da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solution—TAC has initiated a joint task force of the ROS and WMS to develop a long-term solution consistent with the Commission’s ru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tail Transactions Perform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C Goal for 2007:  Maintain focus on retail transactions processing, outages, service degradation, and communic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 concerns rais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 performance metrics for systems availability not fully representative of system perform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erous system glitches (“system degradation”) have affected some retail transactions from being processed according to timeli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COT not always aware of system degradation until alerted by market participa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always clear which specific transactions affected—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.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, insufficient transparenc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ions to stakeholders not consistently meeting targets—especially for events occurring on weeke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dreyfusm</cp:lastModifiedBy>
  <dcterms:modified xsi:type="dcterms:W3CDTF">2007-03-21T15:16:56Z</dcterms:modified>
  <cp:revision>107</cp:revision>
  <dc:subject/>
  <dc:title>Protocol Revision Subcommittee</dc:title>
</cp:coreProperties>
</file>