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1CB-4A26-476C-B1A1-FC91206C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792240"/>
            <a:ext cx="6476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77C-1B02-4283-A177-D836E75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00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79224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52000" y="379224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BE7-F5CC-45AA-B10A-DCC2CF68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23040" y="152352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12560" y="152352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79224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23040" y="379224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12560" y="3792240"/>
            <a:ext cx="20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238-FE51-4101-8F01-4875A958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5A9-C702-4406-B4F7-08670AE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04F-8609-4F4A-ADA7-40CD438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16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52000" y="1523520"/>
            <a:ext cx="316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F30-12A7-468C-91FF-41C2B2A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D7F-CC14-4A93-AB52-C96BF49E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A74-6E3E-4EF1-AA2C-BA29D9CB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52000" y="1523520"/>
            <a:ext cx="316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79224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4B0-66FD-43EC-B9B6-0608DE6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16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5200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52000" y="379224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272-0804-4512-A248-70AF8A8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52000" y="1523520"/>
            <a:ext cx="3160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792240"/>
            <a:ext cx="6476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47C-2B4E-4FAA-9840-D70EB63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8383" t="0" r="0" b="0"/>
          <a:stretch/>
        </p:blipFill>
        <p:spPr>
          <a:xfrm>
            <a:off x="586728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6248520" cy="4496040"/>
          </a:xfrm>
          <a:prstGeom prst="rect">
            <a:avLst/>
          </a:prstGeom>
          <a:gradFill rotWithShape="0">
            <a:gsLst>
              <a:gs pos="0">
                <a:srgbClr val="000000">
                  <a:alpha val="88235"/>
                </a:srgbClr>
              </a:gs>
              <a:gs pos="50000">
                <a:srgbClr val="868686">
                  <a:alpha val="34117"/>
                </a:srgbClr>
              </a:gs>
              <a:gs pos="100000">
                <a:srgbClr val="000000">
                  <a:alpha val="8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EFD-492B-4645-90C7-4308C281A9F8}" type="slidenum">
              <a:rPr b="0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eneral Item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dal Non-Spin Deployment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ECP Event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ECP Lessons Learn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ECP Event Analysis Proces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ordin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ioriti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oordination Issues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RCOT staff and stakeholders requesting ROS WG perform work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py ROS Chair on reques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view request in overall prioritie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ition to Texas R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riorities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inimize changes to existing Protocols, Guides, Systems and Market Products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reate “parking lot” for issue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ordinate priorities and requests from PUC, ERCOT Board, Task Forces, Subcommittees and Stakeholders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op Forum Shopp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eneral Item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OM units based on ARR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ork with WMS to minimize impac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E performance continues to declin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lack Start study proposed by ROS was not setup as projec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cillary Service Revie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dal Synchronization of EECP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eneral Item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ERC Standards Foru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oint-to-Point Model Checkou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PRR-036 – Give TDSP SOTE access.  TDSP needs coverage during transition to Noda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letion of Nodal Operating Guides delayed until May 2007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ERC monitoring analysis of four ERCOT EECP event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dal Non-Spin Deployment Proced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dal Protocol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AC – Assigned to ROS April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OS work group developed draf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AC remanded to WMS – November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OS and WMS made multiple revis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OS and WMS approved current vers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ECP Event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rch 8, 2007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rch 9, 2007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March 8, 2007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ind SCE went below -650M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rop in wind generation had a negative impact on ARR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apid load increase depleted ARR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ittle response to Aler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MR units at maximum outpu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ought on two gas turbin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rch 9, 2007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PRS for hour 19:00 was 37,903 M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RR was 35,761 M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ctual capacity was 2,142 MW below day ahead forecas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ff-line quick start units not in ARR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PRS for wind was 681 M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ctual wind output was 36 MW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itial EECP Lessons Learned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or unit adjustments can avoid EECP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rop in wind output effects ARR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ave significant negative Wind SCE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PRS uses projected wind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me quick start units in RPRS but not in ARR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RR can be significantly lower than RPRS forecas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ittle ARR response to Alert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EECP Analysis Process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cument December 22, 2006 analysis process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ordinate update of ERCOT Compliance Process (filed at PUC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akeholder rol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RCOT staff rol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xas RE rol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OS rol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o notifies NERC about events?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o sends final reports to NERC?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18:26Z</dcterms:created>
  <dc:creator>sschneid</dc:creator>
  <dc:description/>
  <dc:language>en-US</dc:language>
  <cp:lastModifiedBy>LCRA Employee</cp:lastModifiedBy>
  <dcterms:modified xsi:type="dcterms:W3CDTF">2007-03-28T18:57:44Z</dcterms:modified>
  <cp:revision>34</cp:revision>
  <dc:subject/>
  <dc:title>Slide 1</dc:title>
</cp:coreProperties>
</file>