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D76A-B3DD-4482-948D-3933B404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BA68-061F-45B8-8A41-5E67D8E1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ABF5-D65F-419C-BAD1-6D247039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E16A-DFAE-4B44-B365-834C65E2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1180-4B1E-4068-A27C-743297A8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CAE9-30E8-4006-BDB7-3B7FF021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2D27-2ABE-4528-8F27-FE0665E2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52E9-D95B-49C8-B781-6023402B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CAA9-4E96-40AC-A1E7-0CDE3124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A5D1-8342-4765-B6FE-E65AD0A4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A0BF-3E54-46BA-AD89-9BF6C100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B4FE-FF02-4EC4-81F9-095F144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AE1C-A2E9-45AE-BA59-78807200B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066680"/>
          <a:ext cx="72518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518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14400" y="762120"/>
          <a:ext cx="9144000" cy="54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9144000" cy="54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Transaction Processing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bel Workflow locked (2/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bound transaction processing was interrupted following Siebel b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caus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workflow locked due to incomplete data entering Siebel due to slow databas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maintenance performed during maintenance window to increase database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notices s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erFree SAN connectivity issue (2/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nectivity between PaperFree and 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caus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information was sent to SAN vendor for complete analysis.  ERCOT is waiting for the return of thi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drive was re-established and processing reinst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notices s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/8 (issue occurred after business hours on 2/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BCO database index issue (2/2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space issue with the a databas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cau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BP stabilization iss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storage was allocated to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notice s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/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7-03-07T21:42:32Z</dcterms:modified>
  <cp:revision>52</cp:revision>
  <dc:subject/>
  <dc:title>Instructions</dc:title>
</cp:coreProperties>
</file>