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8729-D333-4C61-80D8-C89E77CA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007A-D624-4C8A-9F94-F87910DA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7230-98C2-459B-99B9-6EE45A99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7CD3-CBB3-49B0-A6AB-4790E867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084A-9DC0-4891-9215-00C603E1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96A3-DB46-41B0-9106-66DB35E9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1D3E-A29D-4140-90D7-1A9AFD66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AED0-15CC-4DD0-8C4F-F7C2893D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6F00-F700-4EDF-8303-45EBF5C2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43EA-953A-4B96-87BD-030E8684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DD81-C821-4F83-8B4E-DF687A38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25D7-0456-4E92-B670-C0704D05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8DDE-9076-4D00-9AC8-0E33160FE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ail Systems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12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C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30/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ervice Availability Repor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t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up or down measurement of service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includ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(NAES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 (Paper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 (Sieb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(TIB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 (Ora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(hardware that allows processing to hap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ny of these systems are unavailable or have problems that stop transaction processing it negatively affects this met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ervice Availability Reporting - Examp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ervice Availability Reporting – Summary Examp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838080"/>
          <a:ext cx="9483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9483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panded SLA and Reporting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 is being expanded to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service degra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L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rak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xtracts &amp; reporting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ded SLA reporting format being developed by ERCOT with TDTWG and will be approved by 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ages and degradations categorized whe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and monthly summariz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suppor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w report will likely be stored on the RMS homepag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aft Format for Future SLA Reporting – Annual Summary</a:t>
            </a: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artial Year 2007 Dat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aft Format for Future SLA Reporting – Monthly Summary</a:t>
            </a: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Outage Dat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aft Format for Future SLA Reporting – Monthly Summary</a:t>
            </a: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egradation Dat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tailed Supporting Data – Outages and Degrad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date of 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19320"/>
            <a:ext cx="3810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data 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, MP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7-03-29T15:58:01Z</dcterms:modified>
  <cp:revision>58</cp:revision>
  <dc:subject/>
  <dc:title>Instructions</dc:title>
</cp:coreProperties>
</file>