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1495B9A-6AA1-4C79-9645-DCF76F7D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prr/675-699/697/index.html" TargetMode="External"/><Relationship Id="rId2" Type="http://schemas.openxmlformats.org/officeDocument/2006/relationships/hyperlink" Target="http://www.ercot.com/mktrules/issues/prr/700-724/709/index.html" TargetMode="External"/><Relationship Id="rId3" Type="http://schemas.openxmlformats.org/officeDocument/2006/relationships/hyperlink" Target="http://nodal.ercot.com/protocols/nprr/040/index.html" TargetMode="External"/><Relationship Id="rId4" Type="http://schemas.openxmlformats.org/officeDocument/2006/relationships/hyperlink" Target="http://www.ercot.com/mktrules/issues/prr/625-649/647/index.html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TPTF Updat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for TAC March 30, 2007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Trip Doggett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26920"/>
            <a:ext cx="807732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Load Forecasting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Load Forecasting Requirements v0.92, as modified by TPTF. The motion was approved by a ballot vote of 100% in favor, with one abstention (Calpine).  All Market Segments, except Cooperative and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Wind Power Forecasting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Wind Power Forecasting v0.91. The motion was approved by a ballot vote of 100% in favor, with two abstentions (CPS San Antonio and CenterPoint).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826920"/>
            <a:ext cx="80773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5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Hub Cla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to clarify HSL values for WGRs and WGR values to be used in RUC Capacity Short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5, TPTF approved a Draft NPRR to clarify HSL values for WGRs and WGR values to be used in RUC Capacity Short Calculation. The motion was approved by a ballot vote of 100% in favor, with three abstentions (City of Allen, City of Eastland, and Exelon).  All Market Segments, except Independent Generato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26920"/>
            <a:ext cx="807732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5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Settlement of Non-Modeled Gen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5, TPTF approved a Draft NPRR for Settlement of Non-Modeled Generators. The motion was approved by a ballot vote of 100% in favor, with four abstentions (LCRA, Calpine, City of Allen, and City of Eastland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Protocol Revision Request (PRR) 697, Posting Requiremen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826920"/>
            <a:ext cx="807732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6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40, Synchronization of EECP Event Re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formation System (MIS)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Project - Interfac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eadiness Advisor (MRA) 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826920"/>
            <a:ext cx="807732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7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able Executiv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37 – Conforming Section 13 to Nodal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Removal of Pseud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7, TPTF approved a Draft NPRR for Removal of Pseudo Resource. The motion was approved by a ballot vote of 71.4% in favor, with two abstentions (GEUS and CPS San Antonio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Pricing During an EECP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826920"/>
            <a:ext cx="80773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22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eadiness Advisor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-1 Approach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22, TPTF approved the EDS-1 Approach Document v1.4, as modified by TPTF. The motion was approved by a ballot vote of 100% in favor, with five abstentions (CenterPoint, City of Dallas, City of Allen, City of Eastland, and Town of Flower Mound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EDS-2 Approach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 to Telemetry Standards and timing for RTU to ICCP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T Proj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Feedback on Ancillary Service Self-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Standard Form MP Agreement and Registration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826920"/>
            <a:ext cx="80773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23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Independent Market Monitor (Section 17) EDW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EDW Conceptual System Desig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 to prepare Performance Monitoring and Compliance EDW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ing of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on Volt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23, TPTF approved the draft NPRR on Voltage Support. The motion was approved by a ballot vote of 100% in favor, with three abstentions (CenterPoint, Reliant, and GEUS).  All Market Segments, except Independent Generato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826920"/>
            <a:ext cx="80773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23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Companion to PRR697, Posting Requirement Changes for Projected Assessment of System Adequacy (P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Hub Cla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New Trading Hub at Venus Switching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 for MP Sand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792000"/>
            <a:ext cx="861084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April 2 and Tuesday, Apri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April 23 through Wednesday Apri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May 7 and Tuesday May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May 21 through Wednesday May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765000"/>
            <a:ext cx="86108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April  2-3, we plan to discu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eadiness Advisor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Optimization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of Detail Design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Integr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Interfac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of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ommunications Handbook &amp; Discussion of Other Interface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990720"/>
          <a:ext cx="8305920" cy="4935240"/>
        </p:xfrm>
        <a:graphic>
          <a:graphicData uri="http://schemas.openxmlformats.org/drawingml/2006/table">
            <a:tbl>
              <a:tblPr/>
              <a:tblGrid>
                <a:gridCol w="2440080"/>
                <a:gridCol w="4646520"/>
                <a:gridCol w="1219320"/>
              </a:tblGrid>
              <a:tr h="3070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1368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5469a2"/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eeting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of recent TPTF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xt Mee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com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pproval of Miles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TAC approval of the following Milestones – Business Requirements Complete fo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Power Foreca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Estim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Security and Stability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Foreca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Mod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 Ra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Management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d Outage De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72960">
                        <a:spcBef>
                          <a:spcPts val="349"/>
                        </a:spcBef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Sub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889"/>
                      </a:solidFill>
                    </a:lnL>
                    <a:lnR w="576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889"/>
                      </a:solidFill>
                    </a:lnL>
                    <a:lnR w="13680">
                      <a:solidFill>
                        <a:srgbClr val="008889"/>
                      </a:solidFill>
                    </a:lnR>
                    <a:lnT w="5760">
                      <a:solidFill>
                        <a:srgbClr val="008889"/>
                      </a:solidFill>
                    </a:lnT>
                    <a:lnB w="5760">
                      <a:solidFill>
                        <a:srgbClr val="00888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Meeting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765000"/>
            <a:ext cx="861084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April  2-3, we plan to discu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ED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of Market Participant Qualification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on Standard Form Market Participan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Registrati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on Hub Cla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New Trading Hub at Venus Switching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ion NPR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R6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sting Requirement Changes - PASA only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ion NPR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R7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carcity Pric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PRR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ynchronization of Emergency Electric Curtailment Plan (EECP) Event Re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ion NPRR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R6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ross and Net MW/Mvar Da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PTF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ransi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648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914400"/>
            <a:ext cx="845820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February 28, TPTF approved the EMS SCADA Requirements, as modified by TPTF. The motion was approved by a ballot vote of 100% in favor, with two abstentions (City of Dallas and Town of Flower Mound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Data Models Requirements v0.92, as modified by TPTF. The motion was approved by a ballot vote of 100% in favor, with one abstention (CPS San Antonio)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Generation Subsystem Requirements v0.92, as modified by TPTF. The motion was approved by a ballot vote of 100% in favor, with no abstentions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Network Security and Stability Analysis Requirements v0.92, as modified by TPTF. The motion was approved by a ballot vote of 100% in favor, with two abstentions (CenterPoint and NRG). 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State Estimator Requirements v0.92, as modified by TPTF. The motion was approved by a ballot vote of 100% in favor, with no abstentions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914400"/>
            <a:ext cx="845820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Dynamic Ratings Requirements v0.92, as modified by TPTF. The motion was approved by a ballot vote of 100% in favor, with one abstention (Brazos)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Outage Evaluation Requirements v0.92, as modified by TPTF. The motion was approved by a ballot vote of 100% in favor, with no abstentions. 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Voltage Support Services Requirements v0.92, as modified by TPTF. The motion was approved by a ballot vote of 100% in favor, with no abstentions. 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Forced Outage Detection Requirements v0.92, as modified by TPTF. The motion was approved by a ballot vote of 100% in favor, with two abstentions (City of Allen and City of Eastland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Overall Energy Management System Requirements v0.91. The motion was approved by a ballot vote of 100% in favor, with two abstentions (City of Allen and City of Eastland).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914400"/>
            <a:ext cx="84582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Load Forecasting Requirements v0.92, as modified by TPTF. The motion was approved by a ballot vote of 100% in favor, with one abstention (Calpine).  All Market Segments, except Cooperative and Consumers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Wind Power Forecasting v0.91. The motion was approved by a ballot vote of 100% in favor, with two abstentions (CPS San Antonio and CenterPoint).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AC Approval of Milestone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762120"/>
            <a:ext cx="84582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ition Plan says: “Any declaration of the accomplishment of a major milestone (business requirements, conceptual design, and successful completion of Market Participant testing) or a decision to proceed is contingent on the approval of both ERCOT and TA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TAC approval of the following Milestones – Business Requirements Complet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 Power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ag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ced Outag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51840" y="4191120"/>
            <a:ext cx="16524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826920"/>
            <a:ext cx="80773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February 28 - March 1, March 5-7, and March 22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February 28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d consideration of draft NPR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Subsystem Changes to Incorporate Approved White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February 28, TPTF approved the draft NPRR for Generation Subsystem Changes, as modified by TPTF. The motion was approved by a ballot vote of 100% in favor, with two abstentions (City of Allen and City of Eastland).  All Market Segments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Generation Subsystem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iscussion deferred until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February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826920"/>
            <a:ext cx="80773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February 28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SCADA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February 28, TPTF approved the EMS SCADA Requirements, as modified by TPTF. The motion was approved by a ballot vote of 100% in favor, with two abstentions (City of Dallas and Town of Flower Mound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826920"/>
            <a:ext cx="80773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Data Models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Data Models Requirements v0.92, as modified by TPTF. The motion was approved by a ballot vote of 100% in favor, with one abstention (CPS San Antonio)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Generation Subsystem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Generation Subsystem Requirements v0.92, as modified by TPTF. The motion was approved by a ballot vote of 100% in favor, with no abstentions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826920"/>
            <a:ext cx="80773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Network Security and Stability Analysis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Network Security and Stability Analysis Requirements v0.92, as modified by TPTF. The motion was approved by a ballot vote of 100% in favor, with two abstentions (CenterPoint and NRG). 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State Estimator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State Estimator Requirements v0.92, as modified by TPTF. The motion was approved by a ballot vote of 100% in favor, with no abstentions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425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826920"/>
            <a:ext cx="8077320" cy="45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Dynamic Ratings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Dynamic Rat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v0.92, as modified by TPTF. The motion was approved by a ballot vote of 100% in favor, with one abstention (Brazos).  All Market Segments, except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Outage Evaluation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Outage Evaluation Requirements v0.92, as modified by TPTF. The motion was approved by a ballot vote of 100% in favor, with no abstentions. 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26920"/>
            <a:ext cx="80773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Voltage Support Services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Voltage Support Services Requirements v0.92, as modified by TPTF. The motion was approved by a ballot vote of 100% in favor, with no abstentions. 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Opportunity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a draft NPRR for Opportunity Outage. The motion was approved by a ballot vote of 100% in favor, with two abstentions (City of Allen and Eastland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9680" y="81000"/>
            <a:ext cx="793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eeting Summary – Mar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800" y="1612800"/>
            <a:ext cx="3662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4800" y="38037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5640" y="315612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26920"/>
            <a:ext cx="807732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discuss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equirement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Forced Outage Detection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Forced Outage Detection Requirements v0.92, as modified by TPTF. The motion was approved by a ballot vote of 100% in favor, with two abstentions (City of Allen and City of Eastland).  All Market Segments, except Cooperative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and consider possible approval of EMS Overall Energy Management System Requiremen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rch 1, TPTF approved the EMS Overall Energy Management System Requirements v0.91. The motion was approved by a ballot vote of 100% in favor, with two abstentions (City of Allen and City of Eastland). All Market Segments, except Cooperative and Consumer, wer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27880" y="2403360"/>
            <a:ext cx="1495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tdoggett</cp:lastModifiedBy>
  <dcterms:modified xsi:type="dcterms:W3CDTF">2007-03-23T20:29:30Z</dcterms:modified>
  <cp:revision>436</cp:revision>
  <dc:subject/>
  <dc:title>TAC Update</dc:title>
</cp:coreProperties>
</file>