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7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8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3751-57BD-449B-9FAC-90B7BBA21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5714-F520-4DAE-9995-5BB4E3034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D34B-3766-4D24-B2F8-8916AF4B17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B96A-142F-494F-A6E3-8825787C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1E1D-8B5A-402E-884A-D91111BF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00CD-46B0-4CF2-ACBA-0130ABC046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9B7-F425-4995-BF37-5A693A4E4A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C8D-0758-4D0A-9FFD-B2C04425DB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4B9-BF5E-4EF5-BF69-31FF7AB67C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1C7-ED62-45F6-931E-1B96466167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793-C2F7-4090-9101-DC8B014510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C55-525F-4B9E-AC2B-8A55FCEE29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36F-B5EE-40BB-BE32-8BF35A3BC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F6DE-B36E-4F9C-8FFB-58182FAB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696-FAF7-430B-8C0A-005C30580C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5AD-7FC4-4F33-BF11-7C1F483ABD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F6F-55A2-4727-BE76-7389A8821D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BFE-E859-435C-9295-3AA26CAABB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F41-9D81-444C-8F6A-FB6D9CA90F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262CB-5180-44F5-8CA9-8AE5CD4B4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16926-D804-4620-A372-52EA442A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28A73-4171-4E1A-AB84-84036289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1A42D-E87C-4999-A507-B26AA432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67E54-1E77-4690-B2BE-5959D83C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92458-D0E1-4309-8C71-7C230A19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B65CD-C63B-4D56-BB53-BF4B4840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B0A19-F8B0-4506-A851-589D80DD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40EF2-787C-4A9B-A47E-83387EC9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58D31-E189-4583-949E-71CF61EF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50296-23A0-4D67-99C4-19DEC1BE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91A68-B109-4DEC-93DA-3D447110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E7F24-8384-48FF-96AC-14212123A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194D-9F97-4EAF-98A8-7A3A3A8F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B4B6-48F3-4108-B878-CA5F614A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8B18-9E99-4DC0-814F-DF22C033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7998-69A3-46E2-9BFC-06EC49EE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F068-1344-4A56-97B9-4D77CC5C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FDB5-36FC-476E-B8D9-7ACE8706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1CA1-B8B4-4FC2-AFC0-841AEC552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7B31-42E4-4FBB-BA8E-2F60486ED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EF7-7BB0-42FE-A2E0-C254B5C51A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10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3947-639A-4EA3-A999-E037CD5019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762120" y="2209680"/>
            <a:ext cx="7543800" cy="2895480"/>
            <a:chOff x="762120" y="2209680"/>
            <a:chExt cx="7543800" cy="28954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797040" y="2325600"/>
              <a:ext cx="7508880" cy="27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62120" y="2209680"/>
              <a:ext cx="766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.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76320" y="1523880"/>
            <a:ext cx="71899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f5d"/>
                </a:solidFill>
                <a:latin typeface="Arial"/>
              </a:rPr>
              <a:t>LPG Reference to Decision Tree Annual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E253B-5C8B-45E5-A6BC-CD930E54D8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80000"/>
          </a:bodyPr>
          <a:p>
            <a:pPr marL="233280" indent="-23328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Time Period:  January 2002 through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y 20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ter reading periods for all rea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5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fy each usage value as a winter or shoulder 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houlder and winter readings were used in th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ter/Shoulde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&gt;= September 20 and stop &lt;= May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te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&gt;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cember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top &lt;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bruary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e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&gt;= September 20 and stop &lt;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vember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39520" indent="-192960">
              <a:lnSpc>
                <a:spcPct val="40000"/>
              </a:lnSpc>
              <a:spcBef>
                <a:spcPts val="400"/>
              </a:spcBef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&gt;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rch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top &lt;= May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39520" indent="-192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asonal Crossover Rea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9760" indent="-178920">
              <a:lnSpc>
                <a:spcPct val="4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779760" indent="-1789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f 60% or more of the days in a reading are in the shoulder season the reading is classified as a shoulder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9760" indent="-1789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f 60% or more of the days in a reading are in the winter season the reading is classified as a winter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9760" indent="-1789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ther wise the reading is discar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54080" y="1219320"/>
            <a:ext cx="71899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"/>
              </a:rPr>
              <a:t>2007 Decision Tree – Residential Annual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499F-426F-4B95-978A-D45D70D59F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85600" y="1752120"/>
            <a:ext cx="6810120" cy="4287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lvl="1" marL="92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highest winter reading kWh/day is less than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Wh/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assign “RESLOW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88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HI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0.60 and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HI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LO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assign “RESHIW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88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number of readings available &gt;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HI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0.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HI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00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&gt;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LO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inter Max kWh/day &gt;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assign “RESHIW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88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wise assign “RESLOW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295280"/>
            <a:ext cx="68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2007 Decision Tree – Residential Annual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F2FA-BA63-4985-9634-96AC8224AE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294920" y="1981080"/>
            <a:ext cx="618516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tial Annual Validation for 2007 is likely to result 6.3 % mig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inued use of the  new models, future annual migration rates should be lower than the 2007 rate ( estimated 4.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447920"/>
            <a:ext cx="7527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Residential – 2007 Annual Validatio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808A-83E7-4A2C-89C8-DF1AEA62C6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81000" y="2819160"/>
            <a:ext cx="71820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- Assignment Year for Average Load Factor calculations: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uly 2006 through Jun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33640" y="1752480"/>
            <a:ext cx="68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2007 Decision Tree – Business Annual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4020-B797-43C3-AFA8-7AC625684B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9120" y="779400"/>
            <a:ext cx="85899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 COPS recommend to the TAC approval of the following Decision Tree Annual Upd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160" y="3962520"/>
            <a:ext cx="830556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Tree reflecting Residential Annual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Decision Tree – Annual Update DRAFT eff 06-15-07 RES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Tree reflecting Business Annual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Decision Tree – Annual Update DRAFT eff 8-15-07 BUS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83C3-253E-4CEF-80D9-05CA095810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1393920"/>
            <a:ext cx="8610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C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Sponsorshi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Market or P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) Budget and Project allocation above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 PWG Goal and ERCOT Staff 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) Develop scope for concept approval b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) Develop PRR and LPGRR language to fine t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) Implementation of ERCOT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) Timeline (target summer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5C6C-EA37-4D09-A94D-1C7262D534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876920" cy="2590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2120" y="5105520"/>
            <a:ext cx="8001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meets on the fourth Tuesday of the Month thru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8317-E295-449B-BC8D-B8918A4CB3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D064-006D-4694-8E64-89FC3C0A12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828800"/>
            <a:ext cx="792504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new Version 2 ERCOT Profiles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Schedule. All 72 combinations of profiles shall be sent to the auxiliary backcast fi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S sample selection round two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mple sites lists to be delivered to TDSP and presentation to PWG in April. See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http://www.ercot.com/meetings/pwg/keydocs/2007/0327/LRS_Update_PWG_Meeting_032707.ppt#276,10,Milestone Time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il &amp; Gas Profile – BUSOGFLT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C approved on March 8. Pending Board Appro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Annual Validation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PGRR020 Resolution Target 99%. Impact Analysis has PWG consens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the methodology for profile scaling factors (per UFETF Nov. 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2004, 2005 &amp; 2006 UFE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ways to accommodate extreme events in Settlement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406B-A1AD-4496-B072-A1A1D348A0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828800"/>
            <a:ext cx="792504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Long Term Strategy of Load Profiles including refresh tim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 Analysis – 2 issues outstanding from origin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f having more weather stations adds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f the weighting of weather stations is appropr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DR installation procedure language to ensure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having 2 decimals on load profiles significantly affect sett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LPG language on list based profiles and univers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T Docket responses to demand response or AMR rul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rea on PWG web page for key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Review of load profiles as specified in marke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to identify new profiles as specified in marke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5E3F-E8F4-404D-B3AF-AC0D2191CC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830240"/>
            <a:ext cx="84582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TOU procedures on the Load Profiling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ways to improve Business Profile ID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analysis of DLC demonstration programs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WG discussed and shall place on April meeting agenda to design scope. LPGRR and PRR drafts pen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tocol and LPG language for appropriateness for large Opt-in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BD92-514D-4EE8-A9BA-CBDD6E3218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2362320"/>
            <a:ext cx="7696080" cy="206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ERCOT Load Profil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5/15/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F4A9-E907-4FF2-80D4-7784E6AC93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1755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s i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9120" y="1685880"/>
            <a:ext cx="789768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 10920 --  Transition to new load profiles, Option 3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test is comple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test awaiting availability of a test environme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 according to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 11236 -- Create folders for posting of Auxiliary backcasts to TML and ERCOT.com, and manually popu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performed as maintenance – not a S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ders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ders manually populated period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 11240 -- Automated posting of Auxiliary backcasts to TML and ERCOT.c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 is underw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implemented on May 15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79B4-72C8-439F-8E42-6D6626364B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5320" y="1447920"/>
            <a:ext cx="71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iliary Backcasted Load Pro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2320"/>
            <a:ext cx="819936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 records in each daily file (9 profile types and 8 weather z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profile types from new model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HILF, BUSMEDLF, BUSLO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NODEM, RESHIWR, RESLOW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file types from old model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DRRQ, NMLIGHT, NMF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and posted for 184 days after May 15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DEBA-3268-4776-93AB-F7B1258D10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1393920"/>
            <a:ext cx="8610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nual Validation Resolution Targe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OPS recommend to the TAC approval of LPGRR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D0F3-F7DA-41CC-8253-A83ECC2522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7-03-29T19:30:02Z</dcterms:modified>
  <cp:revision>242</cp:revision>
  <dc:subject/>
  <dc:title>PowerPoint Presentation</dc:title>
</cp:coreProperties>
</file>