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2FF64486-1087-402E-B935-4F4D23B30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1800"/>
            </a:b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Transition Plan Task Force</a:t>
            </a:r>
            <a:br>
              <a:rPr sz="2800"/>
            </a:b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ROS Meeting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arrie Tucker, ERCOT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Friday, 03/16/2007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month, TPTF convened 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22-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28-March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 accomplish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Management System (MMS) Project – Approval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age Scheduler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S Conceptual System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MS NPRR to synchronize nodal protocols with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rcial Systems (COMS) Project – Approval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articipant Registration Conceptual System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COMS NPRRs to synchronize nodal protocols with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Management System (EMS) Project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 Subsystem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DA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odels Business Requi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Security and Stability Analysis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Estimator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Ratings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age Evaluation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Support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d Outage Detection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Power Foreca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Foreca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Management System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up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onth, TPTF has met/will mee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22-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up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 to discus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ERCOT Readiness and Transition (IRT)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S-1 Approach, Initial Review of EDS-2 and EDS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Registration approach and Initial Review of Market Participant Qualification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 Data Warehouse (EDW)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W Business Requirements for Protocol Section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W Conceptual System Design for Protocol Section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up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54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 to discuss (continued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S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, WGRs and Capacity Short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, Settlement of Non-Modeled Gener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Model Management System (NMMS)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, Hub Cla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s from MIS Project, MMS Project, IDA Project, Market Readiness Ad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companion NPRRs to submitted PR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5471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3:33:38Z</dcterms:created>
  <dc:creator>ctucker</dc:creator>
  <dc:description/>
  <dc:language>en-US</dc:language>
  <cp:lastModifiedBy>ERCOT</cp:lastModifiedBy>
  <dcterms:modified xsi:type="dcterms:W3CDTF">2007-03-13T16:25:03Z</dcterms:modified>
  <cp:revision>67</cp:revision>
  <dc:subject/>
  <dc:title>Texas Nodal</dc:title>
</cp:coreProperties>
</file>