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223-E354-44BD-9456-4F6933D3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F20-E793-4703-A2D3-DAD2F977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AD-1452-47BD-9735-E2A2246B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163-9354-4266-9D7F-A81EC1B6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DC6-52B6-4FC4-BFD4-E683291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F6-162D-4A2F-BC19-AB491746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FC7-C2D5-4EAE-A276-40D3B229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226-DD47-4C02-AC5A-59E282C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6F-EF82-4AB7-AB26-2D92CBD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18B-C410-41B5-86B4-0F5A55D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A5F-4C4C-4983-B904-853D36A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FB2-A9D8-43A1-9BC7-95FD370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10F5-7B75-45FB-970E-66C973C98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rc.com/~filez/standards/Assess-Transmission-Future-Needs.html" TargetMode="External"/><Relationship Id="rId2" Type="http://schemas.openxmlformats.org/officeDocument/2006/relationships/hyperlink" Target="http://www.nerc.com/~filez/standards/Backup_Facilities.html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rc.com/~filez/standards/Violation-Risk-Factors.html" TargetMode="External"/><Relationship Id="rId2" Type="http://schemas.openxmlformats.org/officeDocument/2006/relationships/hyperlink" Target="http://www.nerc.com/~filez/standards/Balance-Resources-Demand.html" TargetMode="External"/><Relationship Id="rId3" Type="http://schemas.openxmlformats.org/officeDocument/2006/relationships/hyperlink" Target="http://www.nerc.com/~filez/standards/Nuclear-Offsite-Supply.html" TargetMode="External"/><Relationship Id="rId4" Type="http://schemas.openxmlformats.org/officeDocument/2006/relationships/hyperlink" Target="http://www.nerc.com/~filez/standards/INT_Urgent_Action.html" TargetMode="External"/><Relationship Id="rId5" Type="http://schemas.openxmlformats.org/officeDocument/2006/relationships/hyperlink" Target="http://www.nerc.com/~filez/standards/BAL-005_Interpretation.html" TargetMode="External"/><Relationship Id="rId6" Type="http://schemas.openxmlformats.org/officeDocument/2006/relationships/hyperlink" Target="http://www.nerc.com/~filez/standards/Frequency_Response.html" TargetMode="External"/><Relationship Id="rId7" Type="http://schemas.openxmlformats.org/officeDocument/2006/relationships/hyperlink" Target="http://www.nerc.com/~filez/standards/System_Restoration_Blackstart.html" TargetMode="External"/><Relationship Id="rId8" Type="http://schemas.openxmlformats.org/officeDocument/2006/relationships/hyperlink" Target="http://www.nerc.com/~filez/standards/Underfrequency_Load_Shedding.html" TargetMode="External"/><Relationship Id="rId9" Type="http://schemas.openxmlformats.org/officeDocument/2006/relationships/hyperlink" Target="http://www.nerc.com/~filez/standards/Assess-Transmission-Future-Needs.html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ERC STANDARDS ACTIVITIE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15-3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8240" y="363600"/>
            <a:ext cx="88693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81080" y="380880"/>
          <a:ext cx="5572080" cy="6132600"/>
        </p:xfrm>
        <a:graphic>
          <a:graphicData uri="http://schemas.openxmlformats.org/drawingml/2006/table">
            <a:tbl>
              <a:tblPr/>
              <a:tblGrid>
                <a:gridCol w="1371600"/>
                <a:gridCol w="4200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RC ANNOU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7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ar Plant Interface Coordination Standard Drafting Team Conference Call and WebEx - March 8, 20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Ballot Results for the Reliability Standards Development Procedure, Version 7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8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s Recirculation Ballot Windows for V1 Risk Factors Open February 28-March 9, 20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tion Period Opens for SAR Drafting Team - Disturbance Monitor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uncement of Initial Ballot Results - Version 1 Violation Risk Facto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nt to Forward Approved Standards to NERC Board of Trustees for Adop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ve-day Ballot Window Opens for Reliability Standards Development Procedure, Version 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2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ability Standards Workshop Announce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9-20, 2007 - Orlando, Flor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23-24, 2007 - San Diego, Califor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30-day Comment Periods Open February 15, 2007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 to Amend the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Assess Transmission Future Needs and Develop Transmission Plans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S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Standard (MOD-001-1) in the Series of ATC/TTC/AFC Revis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Draft of SAR for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ackup Facilities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317016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317016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-868320" y="925560"/>
            <a:ext cx="108806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533520"/>
          <a:ext cx="8001000" cy="5562000"/>
        </p:xfrm>
        <a:graphic>
          <a:graphicData uri="http://schemas.openxmlformats.org/drawingml/2006/table">
            <a:tbl>
              <a:tblPr/>
              <a:tblGrid>
                <a:gridCol w="5597640"/>
                <a:gridCol w="1213920"/>
                <a:gridCol w="1189440"/>
              </a:tblGrid>
              <a:tr h="3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s Under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Standard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urrent Ball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Violation Risk Factors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Version 1 Recirc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8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ed for 30-day Pre-ballot Review (Open Ballot Poo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alance Resources and Demand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BAL-007 through BAL-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Nuclear Plant Interface Coordination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NUC-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Urgent Action SAR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INT-005-2, INT-006-2, INT-008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Interpretation Request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- BAL-005-0 - Automatic Generat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07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ed for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Frequency Response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Project 2007-1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08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System Restoration and Blackstart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Project 2006-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08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Underfrequency Load Shedding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Project 2007-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08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Assess Transmission Future Needs and Develop Transmission Plans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(Project 2006-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C/TTC/AFC and CBM/TRM Revisions (Project 2006-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up Facilities (Project 2006-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15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16/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3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rafting Team Nominations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ance Monitoring (Project 2007-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/26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/09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4:10:10Z</dcterms:created>
  <dc:creator>ftafreshi</dc:creator>
  <dc:description/>
  <dc:language>en-US</dc:language>
  <cp:lastModifiedBy>ERCOT</cp:lastModifiedBy>
  <dcterms:modified xsi:type="dcterms:W3CDTF">2007-03-12T20:42:40Z</dcterms:modified>
  <cp:revision>1</cp:revision>
  <dc:subject/>
  <dc:title>NERC STANDARDS ACTIVITIES  2/15-3/10</dc:title>
</cp:coreProperties>
</file>