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B93-6C05-48C1-8ACC-42D8FD7D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5CF-7707-455C-95E9-1D6A6A28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3BF-0185-453B-8316-04F5BDF2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988-6740-431B-B1D0-181B4594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E377-8388-4C8B-AA9F-27FB879C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D223-0056-4707-83F6-2252A51A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9E01-5E6F-41FB-A05B-455BBC0C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EE2E-F1D3-4050-A3B1-4F1D9682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0201-5B73-4FD3-9468-D79CA9CD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5059-6C16-4C49-8516-09F5C3E1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847C-4EE3-4EF3-8435-466434C7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571-3985-49D4-BC43-5F434790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54ED-E2FA-4EE9-A9F1-A74CB9A0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1126-3469-4C98-9C28-102F259A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D1C5-D366-4604-85B2-9567D3DC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748C-7B98-4B30-B7CF-C4FE4C2B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D61B-5911-48F5-8C3A-A902271C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CA1-9E47-4B96-B3F4-E47BEAF9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932-507D-429B-9BCE-73EAC921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0CA-0E38-4F5C-9B2A-7DA881EE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094-3A6C-4279-9BAE-71CD116C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7C4-CAAD-47DF-9A3D-E39D318D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051-802A-4CF0-A8D4-79DDE1D5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844-6B16-4574-8767-66C27533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9F68-2B80-4AD2-883D-099464C843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42FD-29F0-4822-B636-9D12605F83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ch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FC47-645E-44ED-846A-A68640FD12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declined in Febru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bruary performanc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ebruary 2007:  126.91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ebruary 2006:  141.06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rch 2006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February 2007:  141.4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rch 2005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February 2006:  127.9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cores for February indicate 32 QSEs passed / 1 non-wind-only QSE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D8F-D35D-41C6-970F-75FECBB97B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EA8-17F1-453E-807A-9C3A576BEB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Performance Comparis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0A5-6662-4D08-93FF-BC9F225F6D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91D-1873-455E-9EF2-788FBE4D4E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740-6A7B-49C1-99E9-DBFD19C9C1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4725-A969-41EA-A34A-09A5661F6B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ctober 3, 2006 Event Observ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aR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deployed all RRS being provided by LaaRs in accordance with ERCOT DCS Event Operating Procedures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 of ten QSEs with LaaR RRS awards did not respond with 95% of their award within 10 minu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42 MW tripped – 1,150 MW oblig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ok over 20 minutes to achieve 95% of oblig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 Protocol Violation Notices issu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 notices related to Section 6.5.4(2) – tripping requirements for La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ccurrence – 1 M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ccurrence – 5 M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e notice related to Section 6.5.1.1(4) – telemetry requir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M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F04-421F-4DCF-98F5-09D29C7904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cember 22, 2006 Event Observ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aR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e Protocol Violation Notices issu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notice related to Section 6.5.4(2) – tripping requirements for La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o notices related to Section 6.5.1.1(4) – telemetry 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d corrective actions in progres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Operations to ask for retest of certain LaaR under-frequency relays that did not trip automatically.  No violations determined due to lack of high-speed frequency recordings at these locations and very short time that frequency dipped below 59.7 Hz.  High speed frequency recorders in Austin may not be sufficient to validate frequency-triggered LaaR performance across the gr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F25-B32E-436B-AE3F-E45AF26041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ERCOT</cp:lastModifiedBy>
  <dcterms:modified xsi:type="dcterms:W3CDTF">2007-03-12T20:38:57Z</dcterms:modified>
  <cp:revision>400</cp:revision>
  <dc:subject/>
  <dc:title>PRR 525 Compliance Analysis</dc:title>
</cp:coreProperties>
</file>