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B12378D-BBE5-4A9D-A598-FBFE813FD5E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Texas Nodal</a:t>
            </a:r>
            <a:br>
              <a:rPr sz="2000"/>
            </a:br>
            <a:r>
              <a:rPr b="0" lang="en-US" sz="2400" spc="-1" strike="noStrike">
                <a:solidFill>
                  <a:srgbClr val="808080"/>
                </a:solidFill>
                <a:latin typeface="Arial Black"/>
              </a:rPr>
              <a:t>Ancillary Service Qualification</a:t>
            </a:r>
            <a:br>
              <a:rPr sz="2400"/>
            </a:br>
            <a:r>
              <a:rPr b="0" lang="en-US" sz="2400" spc="-1" strike="noStrike">
                <a:solidFill>
                  <a:srgbClr val="808080"/>
                </a:solidFill>
                <a:latin typeface="Arial Black"/>
              </a:rPr>
              <a:t>Self-Certification approach</a:t>
            </a:r>
            <a:br>
              <a:rPr sz="2400"/>
            </a:br>
            <a:r>
              <a:rPr b="0" i="1" lang="en-US" sz="2000" spc="-1" strike="noStrike">
                <a:solidFill>
                  <a:srgbClr val="808080"/>
                </a:solidFill>
                <a:latin typeface="Arial"/>
              </a:rPr>
              <a:t>ROS Discussion </a:t>
            </a:r>
            <a:br>
              <a:rPr sz="2000"/>
            </a:br>
            <a:r>
              <a:rPr b="0" lang="en-US" sz="1800" spc="-1" strike="noStrike">
                <a:solidFill>
                  <a:srgbClr val="808080"/>
                </a:solidFill>
                <a:latin typeface="Arial Black"/>
              </a:rPr>
              <a:t>March 16, 2007</a:t>
            </a:r>
            <a:endParaRPr b="0" lang="en-US" sz="18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istory of Issue</a:t>
            </a:r>
            <a:endParaRPr b="0" lang="en-US" sz="1800" spc="-1" strike="noStrike">
              <a:solidFill>
                <a:srgbClr val="ffffff"/>
              </a:solidFill>
              <a:latin typeface="Arial Black"/>
            </a:endParaRPr>
          </a:p>
        </p:txBody>
      </p:sp>
      <p:sp>
        <p:nvSpPr>
          <p:cNvPr id="49" name="PlaceHolder 2"/>
          <p:cNvSpPr>
            <a:spLocks noGrp="1"/>
          </p:cNvSpPr>
          <p:nvPr>
            <p:ph/>
          </p:nvPr>
        </p:nvSpPr>
        <p:spPr>
          <a:xfrm>
            <a:off x="533520" y="762120"/>
            <a:ext cx="815328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ssue to be considered:</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zonal protocols, </a:t>
            </a:r>
            <a:r>
              <a:rPr b="1" i="1" lang="en-US" sz="2000" spc="-1" strike="noStrike" u="sng">
                <a:solidFill>
                  <a:srgbClr val="000000"/>
                </a:solidFill>
                <a:uFillTx/>
                <a:latin typeface="Arial"/>
              </a:rPr>
              <a:t>each QSE</a:t>
            </a:r>
            <a:r>
              <a:rPr b="0" lang="en-US" sz="2000" spc="-1" strike="noStrike">
                <a:solidFill>
                  <a:srgbClr val="000000"/>
                </a:solidFill>
                <a:latin typeface="Arial"/>
              </a:rPr>
              <a:t> providing A/S must be qualified</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odal protocols, </a:t>
            </a:r>
            <a:r>
              <a:rPr b="1" i="1" lang="en-US" sz="2000" spc="-1" strike="noStrike" u="sng">
                <a:solidFill>
                  <a:srgbClr val="000000"/>
                </a:solidFill>
                <a:uFillTx/>
                <a:latin typeface="Arial"/>
              </a:rPr>
              <a:t>each Resource</a:t>
            </a:r>
            <a:r>
              <a:rPr b="0" lang="en-US" sz="2000" spc="-1" strike="noStrike">
                <a:solidFill>
                  <a:srgbClr val="000000"/>
                </a:solidFill>
                <a:latin typeface="Arial"/>
              </a:rPr>
              <a:t> providing A/S must be qualified</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issue, does ERCOT need to schedule, test, and qualify each individual Resource prior to nodal implementatio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takeholder process history:</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review of the Nodal Qualification Approach document at TPTF on 1/24/07, there was a consensus that ERCOT should explore the concept of allowing QSEs currently providing A/S in zonal to seek self-certification for their Resources in Nodal.</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Operations agreed to consider this optio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has discussed this issue at TPTF (1/24/07), QSE  Managers Work Group (2/14/07), and today ROS (3/16/0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 Self-Certification Issue</a:t>
            </a:r>
            <a:endParaRPr b="0" lang="en-US" sz="1800" spc="-1" strike="noStrike">
              <a:solidFill>
                <a:srgbClr val="ffffff"/>
              </a:solidFill>
              <a:latin typeface="Arial Black"/>
            </a:endParaRPr>
          </a:p>
        </p:txBody>
      </p:sp>
      <p:sp>
        <p:nvSpPr>
          <p:cNvPr id="51" name="PlaceHolder 2"/>
          <p:cNvSpPr>
            <a:spLocks noGrp="1"/>
          </p:cNvSpPr>
          <p:nvPr>
            <p:ph/>
          </p:nvPr>
        </p:nvSpPr>
        <p:spPr>
          <a:xfrm>
            <a:off x="456840" y="914040"/>
            <a:ext cx="807732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ponse from ERCO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Operations is in favor of a process to allow self-certification for Resources currently providing the same Ancillary Services in the zonal marke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 Recognition that this alleviates costly and time-consuming process of qualifying Resources that already provide A/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Defers some project risk into EDS3&amp;4 by not conducting individual A/S tests earlier in the implementation pla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DS3&amp;4 ERCOT will monitor Resource performance to identify any problematic Resources, and ERCOT has the right to suspend or revoke qualification.</a:t>
            </a:r>
            <a:endParaRPr b="0" lang="en-US" sz="2000" spc="-1" strike="noStrike">
              <a:solidFill>
                <a:srgbClr val="000000"/>
              </a:solidFill>
              <a:latin typeface="Arial"/>
            </a:endParaRPr>
          </a:p>
        </p:txBody>
      </p:sp>
      <p:sp>
        <p:nvSpPr>
          <p:cNvPr id="52" name=""/>
          <p:cNvSpPr/>
          <p:nvPr/>
        </p:nvSpPr>
        <p:spPr>
          <a:xfrm>
            <a:off x="533520" y="914400"/>
            <a:ext cx="8381880" cy="304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 Self Certification Issue</a:t>
            </a:r>
            <a:endParaRPr b="0" lang="en-US" sz="1800" spc="-1" strike="noStrike">
              <a:solidFill>
                <a:srgbClr val="ffffff"/>
              </a:solidFill>
              <a:latin typeface="Arial Black"/>
            </a:endParaRPr>
          </a:p>
        </p:txBody>
      </p:sp>
      <p:sp>
        <p:nvSpPr>
          <p:cNvPr id="54" name="PlaceHolder 2"/>
          <p:cNvSpPr>
            <a:spLocks noGrp="1"/>
          </p:cNvSpPr>
          <p:nvPr>
            <p:ph/>
          </p:nvPr>
        </p:nvSpPr>
        <p:spPr>
          <a:xfrm>
            <a:off x="304920" y="762120"/>
            <a:ext cx="853416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RCOT has drafted Self-Certification Attest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review by ERCOT Leg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station to be signed by Market Participant stating that:</a:t>
            </a:r>
            <a:endParaRPr b="0" lang="en-US" sz="18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source has offered and successfully deployed A/S in the current market.</a:t>
            </a:r>
            <a:endParaRPr b="0" lang="en-US" sz="15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source is capable of meeting the Nodal Protocols &amp; Operating Guides</a:t>
            </a:r>
            <a:endParaRPr b="0" lang="en-US" sz="15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 RRS and Reg Services, the Generation Resource has an installed AGC system that is in service as required by ERCOT Operating Guides.</a:t>
            </a:r>
            <a:endParaRPr b="0" lang="en-US" sz="15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 RRS, the Generation Resource has a Governor installed and in service.</a:t>
            </a:r>
            <a:endParaRPr b="0" lang="en-US" sz="15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 Load Resources, the Resource of interest has individually demonstrated and been qualified for operation in the current zonal market for the requested Ancillary Service (PRR714 may create annual testing requirement). </a:t>
            </a:r>
            <a:endParaRPr b="0" lang="en-US" sz="15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 commits to participate in EDS1-4 for the Resour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monitor performance of Resources during EDS3&amp;4</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can disqualify individual Resources if performance issues cannot be resolved in EDS3&amp;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gistration Approach</a:t>
            </a:r>
            <a:endParaRPr b="0" lang="en-US" sz="1800" spc="-1" strike="noStrike">
              <a:solidFill>
                <a:srgbClr val="ffffff"/>
              </a:solidFill>
              <a:latin typeface="Arial Black"/>
            </a:endParaRPr>
          </a:p>
        </p:txBody>
      </p:sp>
      <p:sp>
        <p:nvSpPr>
          <p:cNvPr id="56" name="PlaceHolder 2"/>
          <p:cNvSpPr>
            <a:spLocks noGrp="1"/>
          </p:cNvSpPr>
          <p:nvPr>
            <p:ph/>
          </p:nvPr>
        </p:nvSpPr>
        <p:spPr>
          <a:xfrm>
            <a:off x="761760" y="762120"/>
            <a:ext cx="792468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 Resources not self-certifi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not participating in the current zonal market and/or in the subsequent EDS Market Trials during the transition to nodal will be required to proceed through Resource qualification activities as defined in Nodal Protocols section 8.1.2.1, Ancillary Service Qualification and Testing.</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rket Feedbac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d favorable feedback from TPTF and QSE Manager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quested from ROS today on this issu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objections to this option of self-cert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t a rejection of this concept by ROS, ERCOT will continue to develop Qualification planning and guides adopting this concep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5:41:27Z</dcterms:created>
  <dc:creator>jhall</dc:creator>
  <dc:description/>
  <dc:language>en-US</dc:language>
  <cp:lastModifiedBy>Matt Mereness</cp:lastModifiedBy>
  <dcterms:modified xsi:type="dcterms:W3CDTF">2007-03-12T20:04:14Z</dcterms:modified>
  <cp:revision>25</cp:revision>
  <dc:subject/>
  <dc:title>Texas Nodal Market Trials Approach TPTF Disposition Discussion  January 25th, 2007</dc:title>
</cp:coreProperties>
</file>