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2243-1AD2-44C7-8112-62B55B118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1DB1-85AF-4903-A33B-E8BF04A31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6552-1703-44B7-B278-A082280DC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6027-562B-4E20-A213-B3F64DB0B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A203-DF20-442D-82DD-C2456064C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6060-3820-4527-849D-5847C6EE1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33D3-80E9-45AC-A605-E4640C320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9140-5637-4772-8202-BFC3C2876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9E1E-95C1-44DE-89B5-2DE32CE03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5335-EA87-4D18-9285-4DCA36E9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19C7-A919-47DB-8212-A996E6D3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37A5-D5F4-4828-9F8E-3EA2056F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1C314-B198-43BD-AF49-A05AE4E3B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DCWG Report to ROS March 16, 200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G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CWG C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rland Power &amp;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3760" y="0"/>
            <a:ext cx="9096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7240" y="152280"/>
            <a:ext cx="902952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680" y="69840"/>
            <a:ext cx="9134640" cy="67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2280" y="360360"/>
            <a:ext cx="883944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last month, we have met February 20-21 and March 13-1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next meeting is April 10-1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ajor amount of time has been spent reviewing the CLR pilot pro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trol performance in February declined in comparison to January, but the decline follows the general trend since September 200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5T22:09:42Z</dcterms:created>
  <dc:creator>Sydney L. Niemeyer</dc:creator>
  <dc:description/>
  <dc:language>en-US</dc:language>
  <cp:lastModifiedBy>Bob Green</cp:lastModifiedBy>
  <dcterms:modified xsi:type="dcterms:W3CDTF">2007-03-12T22:33:46Z</dcterms:modified>
  <cp:revision>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20150106</vt:r8>
  </property>
  <property fmtid="{D5CDD505-2E9C-101B-9397-08002B2CF9AE}" pid="3" name="_AuthorEmail">
    <vt:lpwstr>bobG@gplops.org</vt:lpwstr>
  </property>
  <property fmtid="{D5CDD505-2E9C-101B-9397-08002B2CF9AE}" pid="4" name="_AuthorEmailDisplayName">
    <vt:lpwstr>Green, Bob</vt:lpwstr>
  </property>
  <property fmtid="{D5CDD505-2E9C-101B-9397-08002B2CF9AE}" pid="5" name="_EmailSubject">
    <vt:lpwstr>REMINDER: March ROS Agenda Planning Call Tomorrow</vt:lpwstr>
  </property>
</Properties>
</file>