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670-D7C2-4778-8897-949AEB02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32B-D9A1-4476-B343-B23C86F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A9F-5771-4648-BA85-35E85DAE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BAF-30EB-40BE-BCDB-1F3654D8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D83-6D3F-457A-B279-F57AE01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97E-93A6-4595-9212-AEA0118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782-A2BA-4318-AB08-2BBCDD8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AC7-76CF-4F8A-A4A0-3C7C5A0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CE0-31CE-4F5C-B688-7F74706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BF5-E544-4899-A79D-2B1E3F6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24D-6810-4B82-9B4B-C9AAFEB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94C-E654-42A1-8184-6BF2F31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CE6C-B45B-4D9B-9552-EAE664CAD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A65-350B-45EB-8D69-DD0F865F0A1B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Processes for Notifications of ERCOT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d Market of Day Light Savings time change and the possibility of system imp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9BB-B8DA-417F-B41A-ACEF5BA1153F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working with CCWG, COPS, ERCOT Client Relations to ensure a comprehensive plan for ERCOT notifications related to system iss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ch 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DTWG participated at CCWG meeting to review outage notification template/process including review o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 748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A33-0695-419F-B4B7-A797A39C5FC9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DTWG continue working with ERCOT to support implementation of SCR745 including the new architectu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to new ERCOT NAESB application nearly complete. Awaiting one Market Participan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supporting changes to Phase 2 (Paperfree) deploy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795-6F1F-47A5-91B2-289980D4CCDE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2-28 TDTWG meeting, system incidents for February were revie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Rs resolving RBP “fall out” were implemented on February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780-BA5D-4916-B36E-672C5AAC24DA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ay Light Saving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sent out informational update 2-1 and further discussed at 2-28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E1D-A7F8-41D5-868C-C6F8DE88F570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Continue working with ERCOT and MPs to revise the Retail Market Transaction Processing Service Availability (AKA SLA)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ed/offered suggestions at market workshop on February 2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s to the document will be presented to TDTWG fo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8C2-9368-4EBF-84EF-855129ADFF7F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6A9-2515-4530-A7BC-CBC1ADAE0DA3}" type="slidenum">
              <a:t>8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ette Morton</cp:lastModifiedBy>
  <cp:lastPrinted>2002-09-24T18:27:58Z</cp:lastPrinted>
  <dcterms:modified xsi:type="dcterms:W3CDTF">2007-03-01T23:14:36Z</dcterms:modified>
  <cp:revision>417</cp:revision>
  <dc:subject/>
  <dc:title>PowerPoint Presentation</dc:title>
</cp:coreProperties>
</file>