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426C-92A2-494B-B020-67FDC4EA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3859-27CD-4954-99FE-6BB88431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F239-3041-4ACD-AFEE-53A78DC7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9B8B-E30F-4452-82BB-90688498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4FFB-6AAE-4BB3-AC55-257BE875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327A-5A64-497C-9600-8AC50654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3A85-0691-4901-987D-938E1CD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FFCB-FCDF-4A5B-8157-6D547266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846C-891D-46F2-BE5F-BF05CE42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126C-C04D-4C73-9E2F-A8582562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A79C-CB08-4186-A07F-1F1DA88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4E62-FA73-4E14-BD43-E05AC89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175E-27C2-4B27-9225-9FC61C4EA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rms/mct/index.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hyperlink" Target="mailto:jfrederick@ercot.com" TargetMode="External"/><Relationship Id="rId3" Type="http://schemas.openxmlformats.org/officeDocument/2006/relationships/hyperlink" Target="mailto:smunson@ercot.com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2000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rket Coordination Team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rch 14, 2007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42900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s Not Reporting Progress for Mar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ridge Ener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rk Energy L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anges to Market Requirements – February MCT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Customer Billing Contact Information to Gaining CR – p.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n receipt of the Customer billing contact information from t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ing CR during a mass transition event, ERCOT shall provide e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ing CR with available Customer billing contact information for t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 IDs they will be receiving through the mass transition even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transmit files in a pipe-delimite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le format via NAESB using file type ‘FF’ (flat file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2 – Record Layout for the MTCRCustomerInformationERCOTResponse file (ERCOT to submitting CR) – Appendix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dified following language to replace ‘csv’ with ‘flat file’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eader rec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irst row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lat 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 E:  Mass Transition Time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following language in second box on both timelines to include ‘and TDSPs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 ID lists for POLR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TD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ormation on PR 4003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R Customer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d and assigned monthly in ERCO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ed to Premise Type when 814_20 add received by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able through TML Find ESI ID functionality and Pi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added to the TDSP ESI ID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07 – User Guide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8/07 – DDL change will go live and field will be null in May and June p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3/07 – PCC will be populated beginning with this p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ormation on PR 4003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 Transition Indic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bel Service Order Updated to reflect whether a transaction is associated with a Mass Tran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19/07 – User Guide po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/8/07 – DDL change will go live and field will be null in May and June po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/25/07 – Mass Transition Indicator will be populated beginning with this po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ormation on PR 4003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Wh and ESI ID Reporting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pril of every even year ERCOT will provide information on Total MWh and Total ESI IDs served in each TDSP territory for inclusion in REP Repor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will be posted in April evaluating the time period from April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odd year through March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ven year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ormation on PR 4003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7_03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7_03 is being modified to include an ’05’ purpose code to indicate that the usage is a replacement of a previous 867_03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’05’ Replacement code is in addition to the ’00’ (Original) and ’01’ (Cancel) purpose codes already present in the 867_0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forward, the daily load of 867_03s at ERCOT will include the following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67_03 for 3 AM – 3 AM which contain an ’00’ or ’01’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67_03s for the previous day 3 AM – 3 AM which contain an ’0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’ will be mapped as ’00’ for usage loading business rules in Lod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’ will be reported as ’00’ in the 867_03 Activit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minder:  Where are Texas SET 3.0 Key Documents Kept?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T page –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rms/mct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hat is t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Version 3.0 Requirements Final Version 1.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3.0 - MCT Issues &amp; FAQs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Version 3.0 Chang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Guides Version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Version 3.0 Implementation Plan DR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 Dates and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rch 29 – ERCOT Me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ril 25 – ERCOT Me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y 23 – ERCOT Me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une 27 – ERCOT Met Center or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uly 25 – Location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ust 29 – Location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: all meetings are held in conjunction with TX SET meetin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152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uture Meetings/Market Commun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Cont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371600"/>
            <a:ext cx="73152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Project Manag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SR. Business An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pe Parri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nnifer Freder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frederick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522 (w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733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771-9582 (c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413-0815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Market Li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an Mu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munson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3881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826-0564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/ Issu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838080"/>
          <a:ext cx="8077320" cy="5151600"/>
        </p:xfrm>
        <a:graphic>
          <a:graphicData uri="http://schemas.openxmlformats.org/drawingml/2006/table">
            <a:tbl>
              <a:tblPr/>
              <a:tblGrid>
                <a:gridCol w="2438280"/>
                <a:gridCol w="2895840"/>
                <a:gridCol w="2743200"/>
              </a:tblGrid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50121_07 RBP – Stabilization necessary for successful implement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February Retail Rel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and resourc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Mandate of 07/01/2007 poses tight timel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and resourc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533520"/>
          <a:ext cx="8991720" cy="61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99172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Status Reporting - C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990720"/>
          <a:ext cx="861048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1048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Status Reporting - C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914400"/>
          <a:ext cx="861048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1048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Status Reporting - C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914400"/>
          <a:ext cx="8534520" cy="51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5345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6278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40038_01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u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 target for schedule, budget, and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ject Phase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ion –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ing –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– Mandated completion date July 1, 2007; Go-Live 06/24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ing – Target completion is post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cent Activity as of March 5, 2007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 Test Plans, Scripting and Data Prep for I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 Core Build TIBCO, Siebel, Paperfree, TML, NAESB, E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e Core Build to iTEST (TIBCO, Siebel, Paperfree, TML, NAESB, E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 UAT on 03/05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xt Steps for ERCOT as of March 5, 2007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ze Build ETS and Re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 Market Test Plans, Scripting, and Data Pre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 Market Test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e to Market Te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xt Steps for MC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 to monitor Market issues and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 work on Production Implementation and Contingency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Status Reporting – ERCOT and TDS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990720"/>
          <a:ext cx="8153280" cy="50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15328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Risk Question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s responded to the following ques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)  Have you identified any risks that will prevent your company from beginning testing on time (Connectivity Testing for Flight 0407:  March 20, 2007)?   Please describe any risk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)  Have you identified any risks that will prevent your company from implementing on time (June 23, 2007)?   Please describe any ris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MPs responded “No” to the two ques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jfrederick</cp:lastModifiedBy>
  <dcterms:modified xsi:type="dcterms:W3CDTF">2007-03-12T21:24:12Z</dcterms:modified>
  <cp:revision>168</cp:revision>
  <dc:subject/>
  <dc:title>Slide 1</dc:title>
</cp:coreProperties>
</file>