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BCB-B09B-4111-A3A5-96DCFD61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B33-4602-4E6D-B9FF-9A8D8983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D09-8A30-4BA6-B39E-BE560F77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A5F-34E6-4D87-96B8-72389D8E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ECB1-4E7E-4D2F-9E70-9FDD9F5E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76E9-D6E3-4085-936A-69C342A6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D18D-178B-4A1B-9502-7AAB92D4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FD99-257C-41F6-91B0-DEE24F38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0EBC-72D7-42A5-B6FD-CAE4D95B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3558-A217-42FE-9A3E-F1F3E2FF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9633-BBE5-4E00-A72A-D0208DB5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5E1-AFBA-400A-ABA1-81F040B4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24EA-9BF0-47D5-B00A-DA215BB9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D990-61ED-4D35-8DA8-23F2E757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1172-AA84-4EDE-951B-AC154E15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E86D-071F-414B-A4B8-889F0FEB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C923-6134-4577-BFE4-D8BC03B9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ABA-9B51-47BD-8D9A-DEF1AD16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A1B-9A6C-4841-A668-A53E1D8C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2D7-F655-49A1-878A-A262D72B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F0D-70A6-4833-BC1E-90832262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CAA-F81A-4346-94BA-3842D7CC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C49-D3DD-4C63-B8D8-A1C086DE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F52-90E6-427A-A75D-B366D75B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6EDF-B6A7-4AAC-99A9-8949FAB81E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55A4-D22A-4721-9A8A-579B2BA823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ket Metrics Working Grou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498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S Update: March 14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09680" y="3657600"/>
            <a:ext cx="47912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b 26 MMWG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Measures Rulema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update from PUCT Staff this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method for Quarterly Performance Measures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DSPs can post on secure web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rak Phase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MWG developing AL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ing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enhanc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xt meeting is Friday, March 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 Center Room 206 – 10:00 am to 3:00 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 from PUCT Staff on Rule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rther developing of reporting requirements from Marke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draft of MarkeTrak Phase II Enhanc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need everyone’s participation this yea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51:13Z</dcterms:created>
  <dc:creator>jgarcia</dc:creator>
  <dc:description/>
  <cp:keywords/>
  <dc:language>en-US</dc:language>
  <cp:lastModifiedBy>Jen Garcia</cp:lastModifiedBy>
  <dcterms:modified xsi:type="dcterms:W3CDTF">2007-03-06T20:43:52Z</dcterms:modified>
  <cp:revision>11</cp:revision>
  <dc:subject/>
  <dc:title>Market Metric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71033</vt:lpwstr>
  </property>
</Properties>
</file>