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46CC-395A-4032-9C6B-9D39CE8FE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69ED-4939-4CD7-A5D1-05EB88C5B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D019-5C9B-4277-A6ED-FDBBCF979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FF7E-FF04-4410-97DE-24F4E8709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6BD5-B4C7-46C5-B2C1-AA74EE579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3FA7-E974-410F-B50C-B5B102587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5A70-E81C-4BE2-A6F6-1039182FE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B01C-829F-44AE-A991-575689BFD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D14D-3D6E-42A2-932B-F26B21B39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0F2E-C9BF-48CD-9921-535C75328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29DB-DDC1-4445-9804-10721939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D221-59E3-42C6-AA5A-4596BAF51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E8D91-B20F-4A54-9202-7188A51B9A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5160" y="2554200"/>
            <a:ext cx="6916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ERCOT MEETING MANAGEMENT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Dale Goodman, Mgr., Retail Client Services, ERC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RMS LEADERSHIP WORK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MARCH 14,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COT Meeting Managemen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4455-48F1-4CFE-8D44-2C202E0B5B4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04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971800" y="3605040"/>
            <a:ext cx="1752480" cy="1500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685800"/>
            <a:ext cx="114300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135080"/>
            <a:ext cx="121932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eting Infrastru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3962520"/>
            <a:ext cx="121932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585800"/>
            <a:ext cx="1371600" cy="20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chedule Meeting Spaces – MS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nage Acquisition – MS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V Requirem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un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st on Web Calendar – MS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cilitate Scheduling/Coordinate Conflicts – MS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ordinate Tech Support on Meeting Day – MS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4260960"/>
            <a:ext cx="2286000" cy="17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ice for Call (market and internal) – MS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reate Draft Agenda – EM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view action items from prior meeting – EM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-facilitation of Agenda Call – EM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nalize Agenda – MR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ify Specific ERCOT Staff – EM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ommunication (internal clients/requested participants) – EM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tribute Agenda and post to web – MR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52480" y="1136520"/>
            <a:ext cx="13716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RCOT Meeting Prep (inter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2480" y="1585800"/>
            <a:ext cx="18288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ordinate presentation materials from internal authors – EM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chedule Preparation Meeting – EM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ticipate, Discuss, Establish ERCOT answers – EM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ify/Discuss Emerging Issues – EM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tribute ERCOT Presentations – EM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st presentations to web - MR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136520"/>
            <a:ext cx="13716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RCOT Meeting Prep (exter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57600" y="1585800"/>
            <a:ext cx="137160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llow up with external presenters – EM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eive/Distribute Presentations – EM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st presentations to web - MR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24080" y="3754440"/>
            <a:ext cx="137160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Final Brief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3979800"/>
            <a:ext cx="1828800" cy="10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chedule meeting – EM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cilitate Conference Bridge – EM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Internal Coordination – EM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Meeting Notice – EM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-Facilitate Meeting - EM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86400" y="113652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eting Day Coordin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486400" y="1660680"/>
            <a:ext cx="1905120" cy="29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gn in Sheets/Record Attendance into Minutes – MR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nt Cards/Set-up – MR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eive and Manage Proxies/Alt. Reps – MR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entation Setup/Preparations – EM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eting Minutes – MR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ordinate Tech Support – MS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Summary/Action item development – EM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RCOT Presentations – SME/EM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ponse to Market Inquiries – SME/EM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oting – MR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RCOT Input coordination – EM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Quality/Feedback process, compilation, tracking - EM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391520" y="1136520"/>
            <a:ext cx="160020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st Mee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391520" y="1511280"/>
            <a:ext cx="1523880" cy="37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nutes – Draft – MR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orporate Comments – MR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blish/Distribute for Comment – MR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blish Internal Summary/Action Items –EM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act key ERCOT Staff on assignments and emerging issues – EM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 and publish final presentations to web – MR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mail Vote Facilitation - MR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ice/dead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iling vo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ult noti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ffsite service/quality assessment – MS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gin Draft Agenda for Subsequent meeting - EM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bal Checkpoint after each meeting-- EM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91116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51920" y="13604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2280" y="1360440"/>
            <a:ext cx="0" cy="260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1752480" y="1511280"/>
            <a:ext cx="0" cy="260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371600" y="411156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1285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29200" y="1285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086600" y="1285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4495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5334120" y="1260000"/>
            <a:ext cx="0" cy="323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152280"/>
            <a:ext cx="6248520" cy="307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C/Subcommittee Meeting Process Cy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COT Meeting Managemen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5701-C718-47F1-B986-08055032027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04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04920" y="609480"/>
            <a:ext cx="114300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1058760"/>
            <a:ext cx="121932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eting Infrastru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3809880"/>
            <a:ext cx="129528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1509840"/>
            <a:ext cx="1524240" cy="19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chedule Meeting Spaces – MS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nage Acquisition – MS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V Requirem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un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st on Web Calendar – MS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cilitate Scheduling/Coordinate Conflicts – MS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ordinate Tech Support on Meeting Day – MS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2280" y="4108320"/>
            <a:ext cx="2286000" cy="21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reate Draft Agenda – Chair/Vice cha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view action items from prior meeting – Chair/Vice cha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cilitation of Agenda Call –Chair/Vice cha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nalize Agenda – Chair/Vice cha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ify Specific ERCOT Staff – EM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ommunication (internal clients/requested participants) – EM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tribute Agenda and post to web – Chair/Vice cha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 if meeting should occur or if it can be administered through a conference call-Chair/Vice cha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895480" y="1060560"/>
            <a:ext cx="13716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RCOT Meeting Prep (inter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1509840"/>
            <a:ext cx="182880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ordinate presentation materials from internal authors – EM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chedule Preparation Meeting – EMM (if requir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ticipate, Discuss, Establish ERCOT answers – EM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ify/Discuss Emerging Issues – EM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029200" y="106056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eting Day Coordin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029200" y="1584360"/>
            <a:ext cx="1905120" cy="23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eting records (agenda/sign in sheets/notes) – Chair (as appropri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entation Setup/Preparations – EM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ordinate Tech Support – MS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Summary/Action item development – EM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RCOT Presentations – SME/EM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ponse to Market Inquiries – SME/EM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RCOT Input coordination – EM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Quality/Feedback process, compilation, tracking -EM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162920" y="1060560"/>
            <a:ext cx="160020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st Mee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62920" y="1434960"/>
            <a:ext cx="15238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eting records – Draft – Cha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blish/Distribute for Comment – Cha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blish Internal Summary/Action Items –EM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act key ERCOT Staff on assignments and emerging issues – EM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 and publish final presentations/Supporting documents to web – EMM (as appropri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view/Approve costs meeting costs (room, catering, AV) – MS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ffsite service/quality assessment – MS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gin Draft Agenda for Subsequent meeting - EM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bal Checkpoint after each meeting-- EM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8080" y="83520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228240" y="1284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1284120"/>
            <a:ext cx="0" cy="252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2209680" y="121932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267080" y="12193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57400" y="152280"/>
            <a:ext cx="449568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orking Group/Task Force Meeting Process Cycle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031407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09680" y="1219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523880" y="3944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29400" y="1219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COT Meeting Managemen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F364-0DDC-4534-BFB8-148B942D9D77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04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6T14:54:31Z</dcterms:created>
  <dc:creator>Ann S Boren</dc:creator>
  <dc:description/>
  <dc:language>en-US</dc:language>
  <cp:lastModifiedBy>dgoodman</cp:lastModifiedBy>
  <dcterms:modified xsi:type="dcterms:W3CDTF">2007-03-07T17:20:31Z</dcterms:modified>
  <cp:revision>16</cp:revision>
  <dc:subject/>
  <dc:title>Slide 1</dc:title>
</cp:coreProperties>
</file>