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A6DA-DBA0-47E9-B978-E466D0E1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206D-4143-4C8D-A88B-B730A8B0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7640-E6BC-4B84-BE64-859CD663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A4B6-8B4E-42F1-A57B-14D3A007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DEA1-3DF6-4E12-A97A-AC360A21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5613-4B32-44F3-9287-D12D2736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6903-0BA2-4616-AE48-F3F68B17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CB4D-AA3A-42D0-AC03-D45CAF4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D279-3D15-4843-B0D0-04487EB3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1CBD-BEE9-45E3-A3F0-338B2623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D67D-D27F-4862-8900-C375C0F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53B7-803D-483A-8622-E86A1CE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AFCD-2A07-4FAD-B804-C714189F2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066680"/>
          <a:ext cx="72518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518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4400" y="762120"/>
          <a:ext cx="9144000" cy="54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9144000" cy="54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Transaction Processing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bel Workflow locked (2/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bound transaction processing was interrupted following Siebel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caus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workflow locked due to incomplete data entering Siebel due to slow databas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maintenance performed during maintenance window to increase database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notices s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erFree SAN connectivity issue (2/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nectivity between PaperFree and 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caus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information was sent to SAN vendor for complete analysis.  ERCOT is waiting for the return of thi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rive was re-established and processing reinst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notices s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8 (issue occurred after business hours on 2/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BCO database index issue (2/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space issue with the a databas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cau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BP stabilization iss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storage was allocated to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notice s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/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7-03-07T21:42:32Z</dcterms:modified>
  <cp:revision>52</cp:revision>
  <dc:subject/>
  <dc:title>Instructions</dc:title>
</cp:coreProperties>
</file>