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9494-A381-4375-8447-2B1CB450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6748-68CF-4124-AB3B-B7AB57B7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B300-BD45-401F-BF79-FB09B84C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BD72-7448-4420-8996-4C9404FB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D800-F258-4C09-A46A-B614BF35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1DE9-219C-4DAD-AF02-B8EA1C3F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92FD-724F-474D-B5EE-14F68FDE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8F54-5F01-47AD-84F5-108C55E5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C956-E3CC-4ED0-BE3F-BCA3426C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824E-6FD7-4307-8354-A1C1B291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EECB-A73E-4E84-9667-430E121C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C813-1270-4EB5-8F63-EDF083EA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8282-7179-4E87-AE03-532BA530F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tail Market Subcommitte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ch 14, 2007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erformance Measures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4th</a:t>
            </a:r>
            <a:r>
              <a:rPr b="0" lang="en-US" sz="36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Quarter 2006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Transaction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4920" y="1295280"/>
          <a:ext cx="8610120" cy="5105160"/>
        </p:xfrm>
        <a:graphic>
          <a:graphicData uri="http://schemas.openxmlformats.org/drawingml/2006/table">
            <a:tbl>
              <a:tblPr/>
              <a:tblGrid>
                <a:gridCol w="1997640"/>
                <a:gridCol w="1171080"/>
                <a:gridCol w="990360"/>
                <a:gridCol w="1171440"/>
                <a:gridCol w="990000"/>
                <a:gridCol w="1171080"/>
                <a:gridCol w="1118520"/>
              </a:tblGrid>
              <a:tr h="36468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24462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432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4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3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4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4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50,17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7,8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3,7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,42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6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80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49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6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39,28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5,58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8,57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7.4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0,12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6,30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1,22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36,89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5,25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8,28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6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44,07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.0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2,06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8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,58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4.6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9,86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6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,22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7.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9,39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6.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37,24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7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6,67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6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8,80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35,82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6,55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8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8,80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4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11,87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,2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3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6,68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3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28600" y="1295280"/>
          <a:ext cx="8686800" cy="5410080"/>
        </p:xfrm>
        <a:graphic>
          <a:graphicData uri="http://schemas.openxmlformats.org/drawingml/2006/table">
            <a:tbl>
              <a:tblPr/>
              <a:tblGrid>
                <a:gridCol w="1951920"/>
                <a:gridCol w="1144440"/>
                <a:gridCol w="1243800"/>
                <a:gridCol w="1143360"/>
                <a:gridCol w="968040"/>
                <a:gridCol w="1143720"/>
                <a:gridCol w="1091520"/>
              </a:tblGrid>
              <a:tr h="35640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24462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40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4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3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4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56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09,41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8,12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4,93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1,79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7.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29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1.5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17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89.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95,96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.8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,15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4.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9,02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2.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85,25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*     96.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0,52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7.1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3,12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6.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79,56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,19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5.6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3,96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6.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5353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8,21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8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,14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7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66,64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7,51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7,52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32,52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5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0,75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4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,30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2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29,10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0,64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,30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4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56,56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9,76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,09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5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 - Please refer to TDSP for percentages.  There is a reporting issue with 814_28 PT and 814_28 09 impacts on the 814_04 protocol calculation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mmccarty</cp:lastModifiedBy>
  <cp:lastPrinted>2002-09-24T18:27:58Z</cp:lastPrinted>
  <dcterms:modified xsi:type="dcterms:W3CDTF">2007-03-09T15:33:00Z</dcterms:modified>
  <cp:revision>419</cp:revision>
  <dc:subject/>
  <dc:title>PowerPoint Presentation</dc:title>
</cp:coreProperties>
</file>