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3D85-3E66-47F0-A537-8433CE38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CF03-1E5E-42FF-9073-B34028833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61B3-030C-48D4-9D0A-A73CA0C53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9C0A-E397-4547-95D8-6179C9C8D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1F11-3559-46B3-BB8F-D1CDB38C7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A51B-6B59-4CD1-8B27-0396F5EFE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21C9-0AA3-49D7-AE34-2559BD6CA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18E0-D669-432E-8962-5E0435DBF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D612-4389-45C6-B549-44C47083D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D782-633E-4E96-A511-1AC53E4DF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613F-BE5C-4C7F-913D-CC5C133D6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F9AD-DC95-4672-935F-DB517C977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ACC-1C50-4D6F-A47E-FDA0DE120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934320" y="6413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FF2F5D-1034-4B99-B81D-28356282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293480"/>
            <a:ext cx="7238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SCR 745 –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 - 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ch 14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7242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3/06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ly tested 148 of 148 Market Participants, 18 of 18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Migration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03/06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but 1 MP have successfully migrated to the new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s completion estimated complete by 03/09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of metrics collection against new environment delayed until 03/12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NAESB URL will be disabled on 03/30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002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7-03-06T23:13:51Z</dcterms:modified>
  <cp:revision>105</cp:revision>
  <dc:subject/>
  <dc:title>Instructions</dc:title>
</cp:coreProperties>
</file>