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78ED-FB9A-49E3-8918-AE35D7C5A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EB15-C0E4-40B6-9157-7AAD3DD9F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5D1B-2037-4D85-9E88-ECF27D23A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8B79-0D30-42D1-87CE-7E85A1760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7054-497B-4D48-A9BD-2B8CA364D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5396-2D6A-40B5-B7AF-605DFA525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5D3F-1A6C-41D9-B588-D7AFBC077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3EAE-7B10-459D-8383-9628F2879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8EA7-3B60-4EEF-AAE4-DB18C46E4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8CA4-672F-47ED-B01D-31B9A0DE5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B600-D031-413F-B941-3BD4AC3BC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44A2-07CB-495C-84DF-A63D41D47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C7DC-4308-46F3-9804-75567DD1F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206800"/>
            <a:ext cx="6476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ing Project Funding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Troxt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 14,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Managing Project Fun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for Managing Changes in Project Fu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vidual CARTs have authority to make project budget changes &lt;$100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y must still manage within their allocated CART bud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budget changes &gt;=$100k go to the ERCOT Strategic Review Team (directors) for review and appro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Ts bring forward proposals for reallocation of funds (including the CART which released the fund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budget changes &gt;=$500k go to the ERCOT Executive Committee (EC) for review and approv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RT recommendation is provi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budget changes &gt;=$1M go to the ERCOT Board of Directors for review and appro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E9B6-249D-4581-A65A-4E850DA4E5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t Consid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tical projects emerge between yearly prioritization cycles that need to be addressed on a near-term bas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effort is made to AVOID negatively impacting PUCT and market projects.  These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s expected by the market in the current y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s immediately below the cut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input is derived from project ranking on PPLs and input from appropriate CARTs (RO, MO, 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locating funds between CARTs is preferred over requesting additional project funding from the B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s especially the case early in the calendar y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of decisions occurs through usual cha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 Subcommittee reports (PRS, RM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ard re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0">
              <a:spcBef>
                <a:spcPts val="451"/>
              </a:spcBef>
              <a:buNone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Managing Project Fun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BB50-7CCB-4910-B4DA-47F0D762CE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as SET 3.0 Funding Trans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xas SET 3.0 was estimated at $1.63M going into Exec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PL budget was $3.75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2.1M variance was reported to SRT by RO CA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16120" indent="-266760">
              <a:spcBef>
                <a:spcPts val="4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sons: Project consolidation, reduced external labor, hardware not nee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 presented a proposal to use some of the funds within 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 presented a proposal to use the funds for facilities n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16120" indent="-266760">
              <a:spcBef>
                <a:spcPts val="4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 out unfinished TCC2 space, reconfigure cubicles to increase cube count, construct 12,000 sq. ft. annex/warehou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RT and Executive Committee decided the best course of action was to reallocate the funds to 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16120" indent="-266760">
              <a:spcBef>
                <a:spcPts val="4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impact to planned RO market projects to be started in 2007; possible, but small, impact to delivery in 20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decisions occurred very quickly due to timing constraints relating to the February Board of Directors me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ed to RMS on 2/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ard reviewed proposal on 2/20 (see next slid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0">
              <a:spcBef>
                <a:spcPts val="451"/>
              </a:spcBef>
              <a:buNone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Managing Project Fun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A37F-EEB4-47A3-AE97-D5582EA341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98000"/>
          </a:bodyPr>
          <a:p>
            <a:pPr marL="372960" indent="-3729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February Board meeting a portion of the proposed CO facilities project was approved (PR-60099_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2600" indent="-335880">
              <a:spcBef>
                <a:spcPts val="400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used $600k of $2.1M reallocated fund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7840" indent="-29880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nfigure TCC2 cubicles from 6 packs to 8 pack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+216 sea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7840" indent="-29880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ild out unfinished TCC2 spac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+136 sea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7840" indent="-29880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figure TCC2 space for Nodal market tri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7840" indent="-29880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nfigure conference rooms as vendor/team roo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7840" indent="-29880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king lot expans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+130 spac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7840" indent="-29880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-site storag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+5,000 sq ft leased spa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2600" indent="-33588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Appro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7840" indent="-29880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,000 sq ft annex/wareho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2600" indent="-33588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 will bring forward a proposal for remaining needs at an upcoming Board me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2600" indent="-335880">
              <a:spcBef>
                <a:spcPts val="400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located funds remain with CO until final decisions are made on facilities nee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$1.5M not yet committed to a projec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2600" indent="-33588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7089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additional effort is not approved, funds will be returned to SRT for reallocation consid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Managing Project Fun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E2A2-5F45-437D-B83B-ECF704EEB3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2206800"/>
            <a:ext cx="6476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7652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Examples of Workspaces in 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057920" cy="541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3682800" cy="2762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8320" y="3809880"/>
            <a:ext cx="3682800" cy="276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21CE-FE47-4F4C-8749-E83E30032E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Troy Anderson</dc:creator>
  <dc:description/>
  <dc:language>en-US</dc:language>
  <cp:lastModifiedBy>Troy Anderson</cp:lastModifiedBy>
  <dcterms:modified xsi:type="dcterms:W3CDTF">2007-03-07T16:17:09Z</dcterms:modified>
  <cp:revision>272</cp:revision>
  <dc:subject/>
  <dc:title>Slide 1</dc:title>
</cp:coreProperties>
</file>