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CF0-6642-4D93-A610-16D22108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CC4-A2BF-4010-B7E4-74C6ADC6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2AD-0771-40B9-9191-79299664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318-F15C-43E5-89BF-15774AD2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CF8-F615-4419-870B-D8676226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0E6-BCF2-4FB4-96A2-8F4F1F0F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BDE-9A34-45A2-B19E-58D6978E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034-9884-4A85-A968-D66D815E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6E5-63CB-4F18-BCB6-EEF70733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8C7-91D8-4E63-9926-D30A2D0B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D8B-8037-44B8-B234-65B04FE8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12F-CC8E-4415-B38D-6F9341D8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1484-0869-4971-A0C4-9328C673D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ch 8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6F6-20A9-4883-8DF4-477EBFD972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Times New Roman"/>
              </a:rPr>
              <a:t>When Resettlement is Orde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RCOT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settle the Operating Day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alculate revenues/costs by Q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cess payments and/or inv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20574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QSEs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hadow Settle to ensure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llocate funds to entities that they re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cess payments and/or inv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6B0-6D75-4241-B8F0-3D8E56A3BA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roposed Alternativ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Working with PUCT, ERCOT, and Market Participants, COPS propo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hen market wide resettlement for “NOV” is estimated to be less than $ 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UCT staff consider recommending to the Commission that restitution be paid by violator directly to ERC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RCOT use funds to reduce future Short Pay Upli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0A9-153A-4C27-9DBD-C893DF5BA6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A1A-1366-4676-8C42-BFEF69A1AE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 Unicode MS"/>
              </a:rPr>
              <a:t>COPS Working Group &amp; Task Force Leadershi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915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P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hair: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nie Podraza (Reliant 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Vice-Chair: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ad Boles (Cirro 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C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hair: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huck Moore (Direct 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Vice Chair: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Judy Brisco (BP 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SDAW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hair: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ic Goff (Constel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Vice Chair: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im Wood (First Choice Power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DAM Invoicing (CWG/COPS) Task Force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Michelle Trenary (Tenaska) representing 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C50-05DE-44FB-9EA8-7199B7252A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-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Highlights of February 13</a:t>
            </a:r>
            <a:r>
              <a:rPr b="0" lang="en-US" sz="32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CW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onitoring implementation of SCR 748, Website Enhancements for ERCOT Outage Notific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ing COPS Market Guide Section 4, “Unplanned Outage Communication Process”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tinuing to develop the Commercial Operations Market Guide - Focus on Nodal Imp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846-A321-4103-BBA1-8BA5834CA3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ghlights of February 13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DA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ing settlement dispute process and preparing draft PRR and NPRR to simplify the dispute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sponded to TPTF request to review and clarify language which relates to distribution loss factors (NPRR-03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 and submit comments on TPTF documents that impact settlement and repor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3DB-E48E-4131-9AC0-485B6E2084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ghlights of February 13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ed 2007 Goals, called attention to schedules and completion d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ed New Oil &amp; Gas Profile Segment (BUSOGFLT) and recommended to COPS approval of LPGRR017 for TAC and Board consid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oted Revision of Holidays Tab in Profile Model Spreadsheets and recommended that COPS vote for a status of URGENCY for LPGRR0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542-5CD6-4B45-A82B-D7D74A17E1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quest for Approval (Vote)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 TAC Approval – LPGRR017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plan and Impact Analysis can be viewed at the following lin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PGRR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ercot.com/mktrules/issues/lpgrr/000-024/017/keydocs/017LPGRR-02a_PWG_Recommendation_Rep.x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ercot.com/mktrules/issues/logrr/000-024/017/keydocs/017LPGR-02_PWG_Recommendation_report_122006.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RCOT Impac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ercot.com/mktrules/issues/lpgrr/000-024/017/keydocs/017LPGRR-03_Impact_Analysis_011907.do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5F7-DC4D-4F67-9873-EFDA0E6A8A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quest for Approval (Vote)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quest TAC Approval - LPGRR0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on of Holidays Tab in Profile Model Spreadsheets as Approved by COPS vote for a status of URGENCY to meet implementation time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A38-75A4-45EA-898D-9B08BAE958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Small Resettlements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 Proposal to Reduce Impact on ERCOT and Market Particip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F20-38FB-4DCD-A7F2-55E9B659F6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Times New Roman"/>
              </a:rPr>
              <a:t>PUCT Notice of Violation (“NOV”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8240" y="19047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hen the PUCT determines that a market     participant has violated a protocol, procedure or rule, they generally assess a fine and order restitution to the market.  Restitution is usually accomplished through resett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hen Dollar amounts are small, the costs outweigh the benefits. Such costs are ultimately born by Texas consu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B59-10A0-4A65-A84F-BD9817C7A2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ee starr</cp:lastModifiedBy>
  <dcterms:modified xsi:type="dcterms:W3CDTF">2007-02-27T19:25:40Z</dcterms:modified>
  <cp:revision>203</cp:revision>
  <dc:subject/>
  <dc:title>Point-to-Point</dc:title>
</cp:coreProperties>
</file>