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A602-22B2-4068-9D5C-436A4BFB2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EB9A-6B0B-4D29-A75B-0E0323C9C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098720" y="68580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94960" y="6426000"/>
            <a:ext cx="5072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1198-D7ED-4E9C-B88E-0E7D95F4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EF100-B799-43A2-BB37-A03B4B5B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4D43-F9F5-47F9-8684-6CE67981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FA06-050A-483D-85A8-6AD3612A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E4AF-FFA8-4D96-8B77-AD3DBA31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231C-20EA-47B8-A560-6A0D091E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C5C3-3DBB-4F14-9294-DF532306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FCE6-1FA7-429F-81A0-52176663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B3ED-D210-47F0-B4AC-41A65ED9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71CB-57A2-4E2C-AF84-3FBFEC84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CC7E-34B1-435F-B418-7C6303A9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DDBE-F551-4BC4-AB2B-49B06984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91E6-D499-42A6-9B8A-5DCB069F9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4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ch 14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1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and on-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for Flight 0107 completed successfully on Wednesday, February 28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 to all testing parties for finishing on-time with no Contingency dates available this f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21932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Flight – 0407 - TX SET V3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Deadline 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d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3/14/07)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Kick-Off Conference Call: 03/20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04/13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ins: 04/16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6/15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407 will be testing for TX SET Version 3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s electing not to test for TX SET 3.0 will lose their ERCOT cert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 Robin testing will occur for existing M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cripts developed specifically for TX SET 3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pts have been loaded to the Retail Testing Website (RTW) File Cabinet for 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38160" y="255600"/>
            <a:ext cx="717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191120" cy="225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sherri slagowski</cp:lastModifiedBy>
  <dcterms:modified xsi:type="dcterms:W3CDTF">2007-03-08T22:30:24Z</dcterms:modified>
  <cp:revision>71</cp:revision>
  <dc:subject/>
  <dc:title>Instructions</dc:title>
</cp:coreProperties>
</file>