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0E4C6-1476-48C9-9F9C-A4B87C810C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C3411-C96D-417A-AFFA-7C96E46D87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BC6F8-C305-4629-BCEC-11E378ED5B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EE3C9-1440-4086-8D7F-EE0F58A657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C9074-7C7D-4345-B29B-BFBA47B5AA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C8FF8-0F2B-44B1-9642-A364778882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C3D3B-A778-48DF-98FC-BF1D572F5C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5455F-53ED-4B14-B37E-BD82A601AD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79BDC-7E4B-4135-BF4B-9FC3E96667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5C86F-CBB2-4C22-88F0-1D4F928B3F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23CD5-B135-47D5-9430-729B12A489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BF42A-7F4B-47A2-BD1A-6E19AD8F6A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A81D-9B59-4DA1-95ED-000B8FBD3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h 14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26771706-0ACD-4237-8BA8-F93F2F2AC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amartinez@ercot.co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19807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RO Projects Financial Overview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Retail Market Subcommitte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March 14, 2007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Adam Martinez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Market Operations Division Projects Organ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3352680"/>
            <a:ext cx="716256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251460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2007 Project Expenditure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4920" y="10476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ent RO PPL Status* –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bove the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839440" cy="5334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4191120" y="1600200"/>
            <a:ext cx="1600200" cy="1028880"/>
          </a:xfrm>
          <a:prstGeom prst="borderCallout1">
            <a:avLst>
              <a:gd name="adj1" fmla="val 18750"/>
              <a:gd name="adj2" fmla="val -8333"/>
              <a:gd name="adj3" fmla="val 158796"/>
              <a:gd name="adj4" fmla="val 195537"/>
            </a:avLst>
          </a:prstGeom>
          <a:solidFill>
            <a:srgbClr val="ffff99"/>
          </a:solidFill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X SET 3.0 Budget Range has changed to reflect final estimated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3581280"/>
            <a:ext cx="2210040" cy="1028880"/>
          </a:xfrm>
          <a:prstGeom prst="borderCallout1">
            <a:avLst>
              <a:gd name="adj1" fmla="val 18750"/>
              <a:gd name="adj2" fmla="val -8333"/>
              <a:gd name="adj3" fmla="val 237500"/>
              <a:gd name="adj4" fmla="val 208046"/>
            </a:avLst>
          </a:prstGeom>
          <a:solidFill>
            <a:srgbClr val="ffff99"/>
          </a:solidFill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all RO Capability Line Funding has been lowered to $4.879M from $7M to reflect change in TX SET 3.0 Bud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62485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The source for this presentation is the February 2007 PPL posted to ERCOT.com, dated 2/21/0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01770-3FB6-4DB2-81A7-BAE3F7DC79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10476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ent RO PPL Status –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elow the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839440" cy="5410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pSp>
        <p:nvGrpSpPr>
          <p:cNvPr id="97" name=""/>
          <p:cNvGrpSpPr/>
          <p:nvPr/>
        </p:nvGrpSpPr>
        <p:grpSpPr>
          <a:xfrm>
            <a:off x="176040" y="946080"/>
            <a:ext cx="1600200" cy="1142640"/>
            <a:chOff x="176040" y="946080"/>
            <a:chExt cx="1600200" cy="1142640"/>
          </a:xfrm>
        </p:grpSpPr>
        <p:sp>
          <p:nvSpPr>
            <p:cNvPr id="98" name=""/>
            <p:cNvSpPr/>
            <p:nvPr/>
          </p:nvSpPr>
          <p:spPr>
            <a:xfrm>
              <a:off x="176040" y="1027440"/>
              <a:ext cx="1197720" cy="734760"/>
            </a:xfrm>
            <a:prstGeom prst="borderCallout1">
              <a:avLst>
                <a:gd name="adj1" fmla="val 18750"/>
                <a:gd name="adj2" fmla="val -8333"/>
                <a:gd name="adj3" fmla="val 38657"/>
                <a:gd name="adj4" fmla="val 132814"/>
              </a:avLst>
            </a:prstGeom>
            <a:solidFill>
              <a:srgbClr val="ffff99"/>
            </a:solidFill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7 Planned but not Fund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76240" y="946080"/>
              <a:ext cx="0" cy="114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6397D-719A-4A97-88F0-B1D46A87D9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51460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PPL Recommendatio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10476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 PPL “Clean-up”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911520"/>
            <a:ext cx="8686800" cy="43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several “clean-up” actions RMS can take at this time to refine the RO P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RCOT.com Registered Acc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R 60077_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pe of this project is presentation of T Maps content, not related to Re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ommend removal from RO list and addition to MO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tail Enhancements to 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– Phase 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R 50058_0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al MIS will be introducing changes and infrastructure that can be leveraged for Retail changes; no SCR filed for this 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ommend cancellation; revisit in conjunction with MIS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erformance Measures Repor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R 60007_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 gaining momentum at PUCT and may be better represented on the PPL if removed from the Parking L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ommend reprioritization and re-ranking of project to a higher level on the P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31891-9357-4F4D-B6B3-8CE666667C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6320" y="762120"/>
            <a:ext cx="8991360" cy="53337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4920" y="10476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PL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457200"/>
            <a:ext cx="2438280" cy="838080"/>
          </a:xfrm>
          <a:prstGeom prst="borderCallout1">
            <a:avLst>
              <a:gd name="adj1" fmla="val 18750"/>
              <a:gd name="adj2" fmla="val -8333"/>
              <a:gd name="adj3" fmla="val 337879"/>
              <a:gd name="adj4" fmla="val 122981"/>
            </a:avLst>
          </a:prstGeom>
          <a:solidFill>
            <a:srgbClr val="ffff99"/>
          </a:solidFill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EASE NOTE – Today’s vote will NOT change the placement of the RO capability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152280"/>
            <a:ext cx="1981080" cy="685800"/>
          </a:xfrm>
          <a:prstGeom prst="borderCallout1">
            <a:avLst>
              <a:gd name="adj1" fmla="val 18750"/>
              <a:gd name="adj2" fmla="val -8333"/>
              <a:gd name="adj3" fmla="val 230324"/>
              <a:gd name="adj4" fmla="val -39263"/>
            </a:avLst>
          </a:prstGeom>
          <a:solidFill>
            <a:srgbClr val="ffff99"/>
          </a:solidFill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project will be removed from this list &amp; added to the MO P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209680"/>
            <a:ext cx="1981080" cy="609840"/>
          </a:xfrm>
          <a:prstGeom prst="borderCallout1">
            <a:avLst>
              <a:gd name="adj1" fmla="val 18750"/>
              <a:gd name="adj2" fmla="val -8333"/>
              <a:gd name="adj3" fmla="val 340884"/>
              <a:gd name="adj4" fmla="val -100962"/>
            </a:avLst>
          </a:prstGeom>
          <a:solidFill>
            <a:srgbClr val="ffff99"/>
          </a:solidFill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project will reflect a status of “Cancell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4495680"/>
            <a:ext cx="1981080" cy="838440"/>
          </a:xfrm>
          <a:prstGeom prst="borderCallout1">
            <a:avLst>
              <a:gd name="adj1" fmla="val 18750"/>
              <a:gd name="adj2" fmla="val -8333"/>
              <a:gd name="adj3" fmla="val 133143"/>
              <a:gd name="adj4" fmla="val 174277"/>
            </a:avLst>
          </a:prstGeom>
          <a:solidFill>
            <a:srgbClr val="ffff99"/>
          </a:solidFill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project will move up the list, depending on the priority &amp; rank assigned by 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C3894-C852-41A9-B7D0-DD277E6A94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10476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tential Voting Item: Proposed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1282320"/>
            <a:ext cx="830592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4304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on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 ERCOT.com Registered Access project (PR 60077_01) to the MO PPL and remove it from the RO PPL without a transfer of project fund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cel Retail Enhancements to TML – Phase 4 project (PR 50058_01);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ioritize and re-rank Performance Measures Reporting project (PR 60007_01) to a prior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(blank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a rank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(bla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473DA-4019-478F-84B2-9656407850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/ Cont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1371600"/>
            <a:ext cx="82296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m D. Martin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, Market Operations Divisional Projects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12) 248-38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martinez@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61965-3A37-4211-97BA-32B828554E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amartinez</cp:lastModifiedBy>
  <dcterms:modified xsi:type="dcterms:W3CDTF">2007-03-06T17:08:46Z</dcterms:modified>
  <cp:revision>337</cp:revision>
  <dc:subject/>
  <dc:title>Role of Account Management at ERCOT</dc:title>
</cp:coreProperties>
</file>