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6C8-E19C-4EA4-9372-6B037F3D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732C-AF3C-49E1-9792-5F4F3E7E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D2B-F77B-4071-A8EA-0D345DFE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F79-DA22-44F1-8FCD-2408E55F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B71-C051-4450-A179-134F36EE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34B-B581-4968-BF0D-C62F931A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B18-6275-4599-905A-4E139AD6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48CC-EBB5-49CE-AAAB-8CC94DE0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DA7-D820-47D5-9DF1-EB39013C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CE8-C21E-400F-972B-644DCF7A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76A-9A93-4DFA-A62C-FAF93B4F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BD7-8A6E-40E0-B4EF-7D371305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E2BD-B5B6-4D71-9895-192CB9EC8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0D7-B186-484E-82A5-F3B36089A1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y to Day Issues Submitted by Sub 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63849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D2D Issues Submitted: 02/01/07 – 02/28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413000"/>
          <a:ext cx="7772040" cy="4824360"/>
        </p:xfrm>
        <a:graphic>
          <a:graphicData uri="http://schemas.openxmlformats.org/drawingml/2006/table">
            <a:tbl>
              <a:tblPr/>
              <a:tblGrid>
                <a:gridCol w="3886200"/>
                <a:gridCol w="3885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-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ssues Submit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97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ancel with Approval – 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ancel with Approval - TD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ancel without Appro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nadvertent 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Missing TX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Reject TX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Rep of Rec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Siebel CHG/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Usage/Billing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Total D2D Issues Submit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8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7EA-8D7A-4769-9BB0-641B95A0F5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advertent Switch Vo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5880" y="6384960"/>
            <a:ext cx="779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AS Issue Voting Details: 02/01/07– 2/28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1143000" y="2297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1600200"/>
          <a:ext cx="7848720" cy="4605480"/>
        </p:xfrm>
        <a:graphic>
          <a:graphicData uri="http://schemas.openxmlformats.org/drawingml/2006/table">
            <a:tbl>
              <a:tblPr/>
              <a:tblGrid>
                <a:gridCol w="1943280"/>
                <a:gridCol w="1333440"/>
                <a:gridCol w="1218960"/>
                <a:gridCol w="1371600"/>
                <a:gridCol w="1981440"/>
              </a:tblGrid>
              <a:tr h="102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ining MP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sing MP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s by Gaining MP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ote not received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is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ote not received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is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102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Totals by Losing MP V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Grand Total: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20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945-8E86-4AD7-BF74-8AB7F993D8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553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rak DEV LSE Issues Submit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9120" y="6384960"/>
            <a:ext cx="78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DEV LSE Issues Submitted: 02/01/07 – 02/28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3520" y="1447920"/>
          <a:ext cx="8001000" cy="4822560"/>
        </p:xfrm>
        <a:graphic>
          <a:graphicData uri="http://schemas.openxmlformats.org/drawingml/2006/table">
            <a:tbl>
              <a:tblPr/>
              <a:tblGrid>
                <a:gridCol w="5333760"/>
                <a:gridCol w="2667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-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ssues Submit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art and Stop -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art and Stop -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art Time -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art Time -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op Time -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op Time -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ERCOT system not MP -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ERCOT system not MP -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MP sys not ERCOT: active -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MP sys not ERCOT: active -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MP sys not ERCOT: inactiv -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MP sys not ERCOT: inactiv -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otal DEV LSE Issues Submit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2EB-106B-4499-ADA8-5C56E5D3CD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16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rak DEV Non-LSE Issues Submit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63849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DEV Non LSE Issues Submitted: 02/01/07 – 02/28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914400" y="-32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914400" y="23446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1463760" y="21286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914400" y="-250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914400" y="-250812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1286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054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600200"/>
          <a:ext cx="7543800" cy="4267080"/>
        </p:xfrm>
        <a:graphic>
          <a:graphicData uri="http://schemas.openxmlformats.org/drawingml/2006/table">
            <a:tbl>
              <a:tblPr/>
              <a:tblGrid>
                <a:gridCol w="3809880"/>
                <a:gridCol w="373392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ssu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Exist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IDR U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Non-IDR U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69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otal DEV Non LSE Issues Submit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85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D549-CBB8-4BF2-A88F-941A8BA5EC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590920" y="304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Issues Submitted By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38496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Issues Submitted By Source: 02/01/07 – 02/28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523880"/>
          <a:ext cx="7543800" cy="4437360"/>
        </p:xfrm>
        <a:graphic>
          <a:graphicData uri="http://schemas.openxmlformats.org/drawingml/2006/table">
            <a:tbl>
              <a:tblPr/>
              <a:tblGrid>
                <a:gridCol w="2209680"/>
                <a:gridCol w="1219320"/>
                <a:gridCol w="1371600"/>
                <a:gridCol w="1523880"/>
                <a:gridCol w="1219320"/>
              </a:tblGrid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ssu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gu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a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bu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5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1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Exist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IDR Us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Non-IDR Us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9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6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Total Submitted by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66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30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8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18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905-2409-479E-9580-F1B0105291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133720" y="3049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Withdrawn Faile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638496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Issues Withdrawn or Failed Analysis: 02/01/07 – 02/28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600200"/>
          <a:ext cx="7848720" cy="419040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2000"/>
                <a:gridCol w="1962360"/>
              </a:tblGrid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ssu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Failed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73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ithdra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12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Totals by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Issue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6E71-956D-4EA9-AB4D-954EBDC34E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533-5F22-40F6-AA82-76ABE9426C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020D-5876-4B68-93E3-295D0666B0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3520" y="1600200"/>
          <a:ext cx="822960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2296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9E5-BECF-4C3D-93FF-51027DF637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467000"/>
          <a:ext cx="7772400" cy="5010120"/>
        </p:xfrm>
        <a:graphic>
          <a:graphicData uri="http://schemas.openxmlformats.org/drawingml/2006/table">
            <a:tbl>
              <a:tblPr/>
              <a:tblGrid>
                <a:gridCol w="2286000"/>
                <a:gridCol w="1741320"/>
                <a:gridCol w="1252800"/>
                <a:gridCol w="1253880"/>
                <a:gridCol w="12384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3300"/>
                          </a:solidFill>
                          <a:latin typeface="Arial"/>
                          <a:ea typeface="Arial"/>
                        </a:rPr>
                        <a:t>Cancel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 Requ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Obj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RCOT Operation R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,1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mit no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jected by T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execu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/Exce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3300"/>
                          </a:solidFill>
                          <a:latin typeface="Arial"/>
                          <a:ea typeface="Arial"/>
                        </a:rPr>
                        <a:t>T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. '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er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U 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ry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N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e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TU-T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ED5-ED63-45F7-9A5F-ADFBB6092E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2B9-1586-4C94-899F-704968A076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8077320" cy="24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068-BE1D-4736-A318-4CF11024B7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8188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6E5-F567-4DDC-BE39-A03BD0D164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0736-B161-431B-8F47-D48F244EB9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dmichelsen</cp:lastModifiedBy>
  <cp:lastPrinted>2002-09-24T18:27:58Z</cp:lastPrinted>
  <dcterms:modified xsi:type="dcterms:W3CDTF">2007-03-12T13:05:27Z</dcterms:modified>
  <cp:revision>658</cp:revision>
  <dc:subject/>
  <dc:title>PowerPoint Presentation</dc:title>
</cp:coreProperties>
</file>