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175-D02D-47BA-A816-EDB61DB9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0D1A-0595-428F-A15E-55F7FBA3C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319-6C0B-4D09-8AC4-FA882F87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4009-A10B-4918-90B5-0CC71186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6D3-B2D1-4E80-8F5E-D2A3AD1A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C77-CEA2-4410-9F5C-231634E6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5542-7F51-41BE-98DA-F59201A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624-E455-483B-A157-D56AEFF5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D684-7CD1-4A58-85F8-0EBCD6A2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A00-3713-4E8B-9BA5-8257395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30D1-09B8-4AB4-8974-7645D8B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61D7-631D-4E11-A206-EA261E9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FFFE-9C66-4498-BD11-6EF5E1028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1828800" cy="982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984240"/>
            <a:ext cx="9144000" cy="82440"/>
          </a:xfrm>
          <a:prstGeom prst="rect">
            <a:avLst/>
          </a:prstGeom>
          <a:gradFill rotWithShape="0">
            <a:gsLst>
              <a:gs pos="0">
                <a:srgbClr val="00475e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mmercial Operation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Sub-Committee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 Update to TAC</a:t>
            </a:r>
            <a:endParaRPr b="0" lang="en-US" sz="4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ch 8,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2BF-72A5-4E0A-9BFF-092C29434E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When Resettlement is Ordered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ERCOT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Resettle the Operating Day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Calculate revenues/costs by Q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20574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QSEs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hadow Settle to ensure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llocate funds to entities that they re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rocess payments and/or inv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B8B7-71EF-4036-B20B-160C057E6A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roposed Alternativ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Working with PUCT, ERCOT, and Market Participants, COPS propo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When market wide resettlement for “NOV” is estimated to be less than $ 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PUCT staff consider recommending to the Commission that restitution be paid by violator directly to ERC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ERCOT use funds to reduce future Short Pay Uplif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E827-05B6-435A-A455-233EE45E17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3333cc"/>
                </a:solidFill>
                <a:latin typeface="Times New Roman"/>
              </a:rPr>
              <a:t>Questions 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B1D7-403C-4D8F-B337-775D4BF490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 Unicode MS"/>
              </a:rPr>
              <a:t>COPS Working Group &amp; Task Force Leadershi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8915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nie Podraza (Relian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-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ad Boles (Cirro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CC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uck Moore (Direct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Judy Brisco (BP 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SDAW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Eric Goff (Constel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Vice Chair: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im Wood (First Choice Power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DAM Invoicing (CWG/COPS) Task Force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- Michelle Trenary (Tenaska) representing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633-0EF8-4490-A20F-68C77AFFD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32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CCW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onitoring implementation of SCR 748, Website Enhancements for ERCOT Outage Notification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COPS Market Guide Section 4, “Unplanned Outage Communication Process”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ntinuing to develop the Commercial Operations Market Guide - Focus on Nodal Imp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65D-088F-4603-83B2-B937F4829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SDA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ing settlement dispute process and preparing draft PRR and NPRR to simplify the dispute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sponded to TPTF request to review and clarify language which relates to distribution loss factors (NPRR-03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 and submit comments on TPTF documents that impact settlement and repor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01DE-399C-42A6-B869-FD1917CFC1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Highlights of February 13</a:t>
            </a:r>
            <a:r>
              <a:rPr b="0" lang="en-US" sz="2800" spc="-1" strike="noStrike" baseline="30000">
                <a:solidFill>
                  <a:srgbClr val="000099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Meet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2007 Goals, called attention to schedules and completion d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viewed New Oil &amp; Gas Profile Segment (BUSOGFLT) and recommended to COPS approval of LPGRR017 for TAC and Board consid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Noted Revision of Holidays Tab in Profile Model Spreadsheets and recommended that COPS vote for a status of URGENCY for LPGRR0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476-984C-4794-8A04-E1B3D134A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AC Approval – LPGRR017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plan and Impact Analysis can be viewed at the following 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GRR0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2a_PWG_Recommendation_Rep.x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ogrr/000-024/017/keydocs/017LPGR-02_PWG_Recommendation_report_122006.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ERCOT Impac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ercot.com/mktrules/issues/lpgrr/000-024/017/keydocs/017LPGRR-03_Impact_Analysis_011907.d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978-3ED1-4129-A286-8D567FD073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Times New Roman"/>
              </a:rPr>
              <a:t>Request for Approval (Vote)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est TAC Approval - LPGRR0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ion of Holidays Tab in Profile Model Spreadsheets as Approved by COPS vote for a status of URGENCY to meet implementation time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196-9E44-4922-BCC8-020EEB2E62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Small Resettlements</a:t>
            </a:r>
            <a:endParaRPr b="0" lang="en-US" sz="5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A Proposal to Reduce Impact on ERCOT and Market Particip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9801-979C-4CA2-AEA6-EEBECBC04D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99"/>
                </a:solidFill>
                <a:uFillTx/>
                <a:latin typeface="Times New Roman"/>
              </a:rPr>
              <a:t>PUCT Notice of Violation (“NOV”)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8240" y="19047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the PUCT determines that a market     participant has violated a protocol, procedure or rule, they generally assess a fine and order restitution to the market.  Restitution is usually accomplished through resettl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When Dollar amounts are small, the costs outweigh the benefits. Such costs are ultimately born by Texas consum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F7B6-03CA-4031-B503-03997EB390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4T11:17:23Z</dcterms:created>
  <dc:creator>cpsc600</dc:creator>
  <dc:description/>
  <dc:language>en-US</dc:language>
  <cp:lastModifiedBy>lee starr</cp:lastModifiedBy>
  <dcterms:modified xsi:type="dcterms:W3CDTF">2007-02-27T19:25:40Z</dcterms:modified>
  <cp:revision>203</cp:revision>
  <dc:subject/>
  <dc:title>Point-to-Point</dc:title>
</cp:coreProperties>
</file>