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3A3-24BD-4926-8311-9FB631F6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14B-AEC0-493E-9B1E-3336FABC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55D6-1A89-42C1-8254-2566AACB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9EE-3418-416C-8B3C-3E8E4128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1C27-804F-4C8C-B323-95937E88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4BF9-035D-494E-81BC-955AB922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B3FF-2057-41D1-A54F-A5D38CAF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55DD-3A9D-40FB-BA1B-738440B9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3BAF-CD22-43AE-BAD4-5DAD9D7A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BB02-3851-4698-BFDD-4609F6AC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9028-8397-48CE-A329-05770CCC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3A92-668E-424E-A7B5-D4504ED3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9002-79AF-4C98-8F0F-8B86C12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460B-6239-4BAC-A8E6-A7CB71FF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6E23-5C8E-460B-8643-74D2E12D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46A3-A0BE-41DC-A2E3-F7FF472E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88F7-DEE7-4992-B34E-7226CDDCD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6D5A-A11A-4C58-9710-D6203C8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F11-F2F1-4B46-9A17-08A1FEE2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5A2-7138-4204-9430-01FA989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42C0-6183-4A3A-A587-6A9C275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82D-6241-47B7-9A76-F924C69E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EAF-F1E0-4C96-A458-AB0BAA12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026-6DA5-40A0-8911-EF191E57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4943-4BA7-43B4-9248-4DDD60477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4EBE-59E9-4E29-B72B-867CE29010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March 6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revised Outage Template for Market Notif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will modify slightly, then bring back to CCW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d COPSMG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focus on sections that have “No-to-slight”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ket Notice Tracking Cod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used to track to Retail, Wholesale or Market Wide, date of issue, issue number for day, and number of notices sent relating to original no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an implement Codes on April 1st implement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rket Notice Tracking Cod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each notice with a pref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lesale =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=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-Wide = 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Each notice with a unique 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First topic notice of a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Second topic notice, so fo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each notice with the notice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27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each notice with a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, 02, 03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-A022707-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amples of Tracking Cod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opic Retail notice on February 2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A022707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 same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A022707-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-up next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A022707-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opic Retail notice on February 2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B022707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-Wide and Wholesale Notice on February 27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No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-A022707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-A022707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– COPS Updat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WG requests COPS approval for ERCOT to implement Market Notice Tracking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eting D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is April 3 at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ight SCR748 sections that we want to incorporate into COPS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/rewrite section 4, Market Not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/write section 13, R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cmoore</cp:lastModifiedBy>
  <dcterms:modified xsi:type="dcterms:W3CDTF">2007-03-07T15:37:07Z</dcterms:modified>
  <cp:revision>10</cp:revision>
  <dc:subject/>
  <dc:title>CCWG 2006 Accomplish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5474455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March 13, 2007 COPS Meeting Agenda and Available Materials</vt:lpwstr>
  </property>
  <property fmtid="{D5CDD505-2E9C-101B-9397-08002B2CF9AE}" pid="6" name="_NewReviewCycle">
    <vt:lpwstr/>
  </property>
</Properties>
</file>