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49739-3101-4ABD-90D4-7BFDF7DFCC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CA911-C8B7-4DE0-90D0-FE2021FA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0B59E-F959-419D-BC8D-C77C3DDC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001A4-FE5A-46E4-A713-E71FAFC77D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3806-DAB9-46D2-B824-1017051E0C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407D-7992-40EB-B61B-0AAA1CDB7B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FE3E-CD17-47EC-A368-71F09F5CDF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F74C-776D-4689-B5EE-D1C72DB243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33F7-F9DA-4ED4-8CF1-E4ED339D0E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3128-CF2C-4F91-83C6-62A3CEA974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8EC3-945C-4F74-A8FC-51452FB0E2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3A502-EC06-481C-8334-4AA795CC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2559-A35B-4367-9501-A80E3A6549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1E16-CD93-43B8-8EC8-414C682751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57AA-F0DB-4F78-8ABD-004792D153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26EB-D187-4271-BFC6-B29C3AABAE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6109-077F-4D3F-9689-BE206BFBCCB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0F8D98-2546-4AE5-AFFC-714EA92B1F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E4989-A673-4B49-9A83-58BBEF3C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AFF02-A111-4584-9AE6-854D6449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E4419-5179-4A73-9842-6BFA9CD0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92398-7AC6-4F47-B04E-0665152E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C0D39-6EF3-46DA-ABBA-57202112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6F491-162A-41FD-B9A9-64E39699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8B4E7-B849-4581-A8D6-17F7519C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339DB-2ABF-479D-A758-54BEA99E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6DE73-AA27-4801-8F9B-697BFE93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6C161-B7D3-471E-AADB-3159BE1E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B6A35-00DD-4916-B7EB-D794B3EC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5BD3E-18F7-43AC-9F66-A5265BFD20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2651B-4633-4CFA-A01D-D55ADDCF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C0A54-AD5D-4507-B154-9126C1AA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7490C-A2D7-4B4E-B2A4-57D59A2D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9ABC5-1087-4493-A1DD-D42C784F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F6161-F944-44F9-A413-C3B97357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97CC1-2A56-46F5-B540-E8232DA8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2ECC3-709F-4EAB-A6C0-D661A1256F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4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6915240" y="6194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DB8C-68E2-4CC5-8470-D3A12CCC1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8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ABFB-AC9C-4599-8C3B-D9B4B7171FE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rcot.com/meetings/pwg/keydocs/2007/0227/LRS_Precision_Round_2_Analysis_PWG_Feb_27_.ppt" TargetMode="Externa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ie Podr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Reliant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rch 13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67BF5-9276-4AFD-9E0B-90C4633CF5E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08200" y="785880"/>
            <a:ext cx="764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Load Research Round 2 Sample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00080" y="1661760"/>
            <a:ext cx="683568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nd 1 sample points that have migrated to be remo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nd 2 sample size 9,000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erative sample allocation to minimize dollar (MWh * MCPE) estimation err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imum sample size per Profile Type / Weather Zone combination will be 1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ximum sample size for Business 400, Residential 6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nown Oil &amp; Gas ESIIDs excluded from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96CF-D6A5-476D-A39F-52C452E2BE3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08200" y="785880"/>
            <a:ext cx="764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Load Research Round 2 Sample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923760" y="1322280"/>
            <a:ext cx="7910640" cy="42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mary voltage ESIIDs will be sampled as appropri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l analysis indicates 4 cells with 40 sample points each (160 tot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Precision Analysis available a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www.ercot.com/meetings/pwg/keydocs/2007/0227/	LRS_Precision_Round_2_Analysis_PWG_Feb_27_.pp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ailed sample design/selection complete, lists provided to TDSPs by end of M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er installations complete by Dec. 200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1230480" y="4114800"/>
            <a:ext cx="69192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62F0-7B98-4D3F-AC87-B6416A8A360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08200" y="785880"/>
            <a:ext cx="764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Load Research Round 2 Sample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259000" y="1508040"/>
            <a:ext cx="4686480" cy="514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8748-36AB-478A-AD36-D8DCA2443FE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08200" y="785880"/>
            <a:ext cx="764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Load Research R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1677960"/>
            <a:ext cx="76960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131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C Rule</a:t>
            </a:r>
            <a:r>
              <a:rPr b="1" i="1" lang="en-US" sz="1200" spc="-1" strike="noStrike">
                <a:solidFill>
                  <a:srgbClr val="54569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§25.131, “Load Profiling and Load Resear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131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2565360"/>
            <a:ext cx="716292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131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ssigns Load Research Sample Design responsibility to ERC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131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keholder input has been sought and conside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"/>
              <a:tabLst>
                <a:tab algn="l" pos="131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keholder approval process not specified</a:t>
            </a:r>
            <a:r>
              <a:rPr b="1" i="1" lang="en-US" sz="2000" spc="-1" strike="noStrike">
                <a:solidFill>
                  <a:srgbClr val="54569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131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1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7C21-27F0-4A43-B474-61388C78834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62120" y="2362320"/>
            <a:ext cx="7696080" cy="2064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w ERCOT Load Profile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ementation 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/15/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D1AB8-2C8A-48E0-9E0D-2EDC6D0DF0E0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38240" y="852480"/>
            <a:ext cx="71755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SIRs in Proces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89120" y="1668600"/>
            <a:ext cx="8199360" cy="48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 10920 --  Transition to new load profiles, Option 3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-test almost complet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-test to start week of March 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eding according to 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 11236 -- Create folders for posting of Auxiliary backcasts to TML and ercot.com, and manually popul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now being performed as maintenance—no longer a S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d to be completed by Wednesday, March 1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 11240 -- Automated posting of Auxiliary backcasts to TML and ercot.c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is under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 completed prior to May 15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74AC-8968-4A68-A84F-2077308036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3240" y="2895480"/>
            <a:ext cx="7418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-- Auxiliary Backcasted Load Profiles --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What will postings look like?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9B708D-4026-4B20-98B0-08362D7B5F8C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arch 1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92320" y="931680"/>
            <a:ext cx="717552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71720" y="1612800"/>
            <a:ext cx="707220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Load Profile models are scheduled to be implemented on May 15, 20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le transition plan Option 3M allows for a mixture of old and new profiles to be used in settle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xiliary backcasted load profiles (from new models) are scheduled to start posting to the TML and ercot.com on March 14, 200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rket Notice will be sent out 7 to 10 days before actual posting beg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3EFB-3910-4648-A243-92176D2EE4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68280" y="931680"/>
            <a:ext cx="717552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25440" y="1600200"/>
            <a:ext cx="668808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rade date 05/15/07 onward, profiles generated from new models will be posted in the ‘primary’ folder and profiles from old models in the ‘auxiliary’ fol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1500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les from old models would be posted in auxiliary folder for 60 days and archived on ercot.com afterwar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5532-4C2E-4C1B-95B9-B03436D5C0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960480" y="1797120"/>
            <a:ext cx="6611760" cy="3651120"/>
            <a:chOff x="960480" y="1797120"/>
            <a:chExt cx="6611760" cy="365112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rcRect l="2440" t="35261" r="5739" b="10774"/>
            <a:stretch/>
          </p:blipFill>
          <p:spPr>
            <a:xfrm>
              <a:off x="960480" y="1797120"/>
              <a:ext cx="6611760" cy="29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>
              <a:off x="3490920" y="4649760"/>
              <a:ext cx="40226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019400" y="3724200"/>
              <a:ext cx="17337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3"/>
            <a:stretch/>
          </p:blipFill>
          <p:spPr>
            <a:xfrm>
              <a:off x="3638520" y="3876840"/>
              <a:ext cx="346716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238640" y="3895560"/>
              <a:ext cx="3162240" cy="8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91120" y="3852720"/>
              <a:ext cx="3352680" cy="85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xt.(03-17-2007 15:48:23 ).Bcst03162007_aux.csv ext.(03-16-2007 15:47:43 ).Bcst03152007_aux.csv ext.(03-15-2007 15:47:48 ).Bcst03142007_aux.csv ext.(03-14-2007 15:48:23 ).Bcst03132007_aux.csv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35520" y="3689280"/>
              <a:ext cx="25146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MS Reference Sans Serif"/>
                </a:rPr>
                <a:t>Auxiliary Backcasted Profiles Extra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935520" y="3689280"/>
            <a:ext cx="2514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MS Reference Sans Serif"/>
              </a:rPr>
              <a:t>Auxiliary Backcasted Profiles Extr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492600" y="3672000"/>
            <a:ext cx="2222280" cy="276480"/>
            <a:chOff x="6492600" y="3672000"/>
            <a:chExt cx="2222280" cy="276480"/>
          </a:xfrm>
        </p:grpSpPr>
        <p:sp>
          <p:nvSpPr>
            <p:cNvPr id="178" name=""/>
            <p:cNvSpPr/>
            <p:nvPr/>
          </p:nvSpPr>
          <p:spPr>
            <a:xfrm>
              <a:off x="7590960" y="367200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new fol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492600" y="3814920"/>
              <a:ext cx="1037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76040" y="1009440"/>
            <a:ext cx="76438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uxiliary Backcasted Load Profil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FD29-D868-4754-A840-D0A20ECC83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1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D0E6E-A671-440E-9655-C7A423554E95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76040" y="1009440"/>
            <a:ext cx="76438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uxiliary Backcasted Load Profil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811160" y="1994040"/>
            <a:ext cx="5433840" cy="1726920"/>
            <a:chOff x="1811160" y="1994040"/>
            <a:chExt cx="5433840" cy="172692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rcRect l="1582" t="35259" r="4428" b="13561"/>
            <a:stretch/>
          </p:blipFill>
          <p:spPr>
            <a:xfrm>
              <a:off x="1811160" y="1994040"/>
              <a:ext cx="543384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449520" y="3466800"/>
              <a:ext cx="1933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6699"/>
                  </a:solidFill>
                  <a:latin typeface="Arial"/>
                </a:rPr>
                <a:t>Auxiliary Backcasted Load Profi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2885760" y="3619440"/>
            <a:ext cx="647640" cy="90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116160" y="3625920"/>
            <a:ext cx="419040" cy="89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276880" y="3581280"/>
            <a:ext cx="10382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53280" y="3438360"/>
            <a:ext cx="112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w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857240" y="4514760"/>
            <a:ext cx="4084920" cy="1379520"/>
            <a:chOff x="1857240" y="4514760"/>
            <a:chExt cx="4084920" cy="1379520"/>
          </a:xfrm>
        </p:grpSpPr>
        <p:sp>
          <p:nvSpPr>
            <p:cNvPr id="190" name=""/>
            <p:cNvSpPr/>
            <p:nvPr/>
          </p:nvSpPr>
          <p:spPr>
            <a:xfrm>
              <a:off x="3117960" y="4514760"/>
              <a:ext cx="282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62280" y="5859360"/>
              <a:ext cx="407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34240" y="4516560"/>
              <a:ext cx="0" cy="134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57240" y="4521240"/>
              <a:ext cx="102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59040" y="4518000"/>
              <a:ext cx="0" cy="134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5" name="" descr=""/>
            <p:cNvPicPr/>
            <p:nvPr/>
          </p:nvPicPr>
          <p:blipFill>
            <a:blip r:embed="rId2"/>
            <a:srcRect l="8277" t="45931" r="34488" b="27564"/>
            <a:stretch/>
          </p:blipFill>
          <p:spPr>
            <a:xfrm>
              <a:off x="1866960" y="4524480"/>
              <a:ext cx="4070160" cy="13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3"/>
            <a:stretch/>
          </p:blipFill>
          <p:spPr>
            <a:xfrm>
              <a:off x="2535120" y="5027760"/>
              <a:ext cx="29847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479680" y="4976640"/>
              <a:ext cx="3409920" cy="9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3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cc"/>
                  </a:solidFill>
                  <a:uFillTx/>
                  <a:latin typeface="Arial"/>
                </a:rPr>
                <a:t>20070317.154823.Bcst03162007_aux.csv 20070316.154743.Bcst03152007_aux.csv 20070315.154748.Bcst03142007_aux.csv 20070314.154823.Bcst03132007_aux.cs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4"/>
            <a:stretch/>
          </p:blipFill>
          <p:spPr>
            <a:xfrm>
              <a:off x="1995480" y="4781520"/>
              <a:ext cx="214308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979640" y="4765680"/>
              <a:ext cx="335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33"/>
                  </a:solidFill>
                  <a:latin typeface="MS Reference Sans Serif"/>
                </a:rPr>
                <a:t>Auxiliary Backcasted Profiles Extra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A3BB-7450-4D87-9988-52BA7B4115C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28600" y="139392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PGRR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Residential Profile Seg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 Up of Valid Profile IDs T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27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F6283-BD23-45D8-AD01-86A9F5159D81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28600" y="1393920"/>
            <a:ext cx="861048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Residential Profile Seg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 Up of Valid Profile IDs T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Arial"/>
              </a:rPr>
              <a:t>VO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WG requests the following mo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COPS recommend to the TAC approval of LPGRR0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DA658-9509-4C16-BD25-F804BBB82015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5238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4876920" cy="25905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838080" y="5105520"/>
            <a:ext cx="731520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WG meets on the fourth Tuesday of the Month thru O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DF286-3DDF-4B15-918B-0D52FC69F008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7 Goals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90512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828800"/>
            <a:ext cx="79250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mplement new Version 2 ERCOT Profiles.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On Schedu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LRS sample selection round two.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esig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New Oil &amp; Gas Profile – BUSOGFLT.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TAC on March 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2007 Annual Validation.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LPGRR020 Resolution Target 99%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aluate the methodology for profile scaling factors (per UFETF Nov. 1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eview 2004, 2005 &amp; 2006 UFE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xamine ways to accommodate extreme events in Settlement proc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stablish Long Term Strategy of Load Profiles including refresh tim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DR Analysis – 2 issues outstanding from original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 if having more weather stations adds accur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 if the weighting of weather stations is appropr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1BD40-BD2B-474C-8528-37FD9ABE2A0F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7 Goals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90512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1830240"/>
            <a:ext cx="84582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 IDR installation procedure language to ensure compli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having 2 decimals on load profiles significantly affect sett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 LPG language on list based profiles and univers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CT Docket responses to demand response or AMR rule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up area on PWG web page for key doc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nual Review of load profiles as specified in market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sis to identify new profiles as specified in market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date the TOU procedures on the Load Profiling web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stigate ways to improve Business Profile ID assig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 analysis of DLC demonstration programs.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PRR draft pend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 Protocol and LPG language for appropriateness for large Opt-in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1DC12-5344-4D43-8B62-BF82BC11BFCC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066680" y="22860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7 Annual Validation P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DAD4D-67DB-4487-BBF3-DB1C39E3E67E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61920" y="1547280"/>
            <a:ext cx="722016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2002 Annual Va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Verdana"/>
              </a:rPr>
              <a:t>Not performed due to 2001 Initial Validation still in progres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2003 Annual Va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Verdana"/>
              </a:rPr>
              <a:t>31% - 1.5 million out of 4.9 million ESII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2004 Annual Va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Verdana"/>
              </a:rPr>
              <a:t>19% - 1.0 million out of 5.4 million ESII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Verdana"/>
              </a:rPr>
              <a:t>Annual Validation suspended to allow time to improve assignment process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2005 Annual Validatio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Verdana"/>
              </a:rPr>
              <a:t>11% - 0.6 million out of 5.5 million ESII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Verdana"/>
              </a:rPr>
              <a:t>Residential survey administered and new assignment algorithm creat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Verdana"/>
              </a:rPr>
              <a:t>360,000 actually submitted (agreed with new algorith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2006 Annual Va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Verdana"/>
              </a:rPr>
              <a:t>16% - 0.9 million out of 5.5 million ESII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Verdana"/>
              </a:rPr>
              <a:t>All ESIIDs assigned with new algorith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2007 Annual Validation (Projecte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Verdana"/>
              </a:rPr>
              <a:t>5% - 0.3 million out of 5.8 million ESII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Verdana"/>
              </a:rPr>
              <a:t>Fine tuned algorithm based on new load profile mode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Verdana"/>
              </a:rPr>
              <a:t>2008 Annual Validation (Projecte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SzPct val="9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Verdana"/>
              </a:rPr>
              <a:t>3% - 0.2 million out of 5.8 million ESII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808200" y="785880"/>
            <a:ext cx="764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History of Residential Annual Va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2D43-307C-4C70-A9A5-955513A71C9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190512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95200" y="1295280"/>
            <a:ext cx="8555040" cy="5000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B7108-3C9B-4E48-A2F5-76C36DD2EBAC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91960" y="1295280"/>
            <a:ext cx="8561520" cy="502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DBE84-6477-4895-B2DF-D5968F88F3D6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3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76040" y="2622600"/>
            <a:ext cx="741348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Load Research Round 2 Sample Upda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BC78-40AF-4E3A-AC0D-0EB6B27D3BE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epodraza</cp:lastModifiedBy>
  <dcterms:modified xsi:type="dcterms:W3CDTF">2007-03-07T19:11:07Z</dcterms:modified>
  <cp:revision>223</cp:revision>
  <dc:subject/>
  <dc:title>PowerPoint Presentation</dc:title>
</cp:coreProperties>
</file>