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80880" y="3633120"/>
            <a:ext cx="83822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880" y="36331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6040" y="36331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26989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15160" y="1523520"/>
            <a:ext cx="26989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49440" y="1523520"/>
            <a:ext cx="26989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380880" y="3633120"/>
            <a:ext cx="26989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15160" y="3633120"/>
            <a:ext cx="26989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49440" y="3633120"/>
            <a:ext cx="26989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380880" y="1523520"/>
            <a:ext cx="838224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380880" y="152280"/>
            <a:ext cx="838224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380880" y="36331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380880" y="1523520"/>
            <a:ext cx="838224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040" y="36331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80880" y="3633120"/>
            <a:ext cx="83822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80880" y="3633120"/>
            <a:ext cx="83822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80880" y="36331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040" y="36331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26989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15160" y="1523520"/>
            <a:ext cx="26989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49440" y="1523520"/>
            <a:ext cx="26989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380880" y="3633120"/>
            <a:ext cx="26989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15160" y="3633120"/>
            <a:ext cx="26989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49440" y="3633120"/>
            <a:ext cx="26989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380880" y="152280"/>
            <a:ext cx="838224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380880" y="36331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6040" y="36331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80880" y="3633120"/>
            <a:ext cx="838224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523520"/>
            <a:ext cx="83822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  <a:p>
            <a:pPr lvl="1" marL="727920" indent="-280080">
              <a:spcBef>
                <a:spcPts val="799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  <a:p>
            <a:pPr lvl="2" marL="1119960" indent="-223920">
              <a:spcBef>
                <a:spcPts val="799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  <a:p>
            <a:pPr lvl="3" marL="1568160" indent="-223920">
              <a:spcBef>
                <a:spcPts val="799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  <a:p>
            <a:pPr lvl="4" marL="2016000" indent="-223920">
              <a:spcBef>
                <a:spcPts val="799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  <a:p>
            <a:pPr lvl="5" marL="2016000" indent="-223920">
              <a:spcBef>
                <a:spcPts val="7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  <a:p>
            <a:pPr lvl="6" marL="2016000" indent="-223920">
              <a:spcBef>
                <a:spcPts val="7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53341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33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mailto:sdawg@lists.ercot.com" TargetMode="External"/><Relationship Id="rId3" Type="http://schemas.openxmlformats.org/officeDocument/2006/relationships/hyperlink" Target="http://lists.ercot.com/" TargetMode="External"/><Relationship Id="rId4" Type="http://schemas.openxmlformats.org/officeDocument/2006/relationships/hyperlink" Target="http://lists.ercot.com/" TargetMode="External"/><Relationship Id="rId5" Type="http://schemas.openxmlformats.org/officeDocument/2006/relationships/hyperlink" Target="http://lists.ercot.com/" TargetMode="External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53341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Update for the Settlements and Data Aggregation Working Group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457200" y="60195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Verdana"/>
              </a:rPr>
              <a:t>March 13</a:t>
            </a:r>
            <a:r>
              <a:rPr b="0" lang="en-US" sz="3200" spc="-1" strike="noStrike" baseline="30000">
                <a:solidFill>
                  <a:srgbClr val="003300"/>
                </a:solidFill>
                <a:latin typeface="Verdana"/>
              </a:rPr>
              <a:t>th</a:t>
            </a:r>
            <a:r>
              <a:rPr b="0" lang="en-US" sz="3200" spc="-1" strike="noStrike">
                <a:solidFill>
                  <a:srgbClr val="003300"/>
                </a:solidFill>
                <a:latin typeface="Verdana"/>
              </a:rPr>
              <a:t>, 2007</a:t>
            </a: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2007 Goals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Verdana"/>
              </a:rPr>
              <a:t>Work through financial system NPRRs</a:t>
            </a:r>
            <a:endParaRPr b="0" lang="en-US" sz="24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Verdana"/>
              </a:rPr>
              <a:t>Pour through settlements process, step by step, to find unforeseen issues. </a:t>
            </a:r>
            <a:endParaRPr b="0" lang="en-US" sz="24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Verdana"/>
              </a:rPr>
              <a:t>Document Data aggregation process/nodal issues </a:t>
            </a:r>
            <a:endParaRPr b="0" lang="en-US" sz="24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Verdana"/>
              </a:rPr>
              <a:t>Any remaining UFE/transmission/distribution data aggregation or new issues that arise.</a:t>
            </a:r>
            <a:endParaRPr b="0" lang="en-US" sz="24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Verdana"/>
              </a:rPr>
              <a:t>Work with ERCOT as new systems are developed and tested on business requirements.</a:t>
            </a:r>
            <a:endParaRPr b="0" lang="en-US" sz="24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Verdana"/>
              </a:rPr>
              <a:t>Get system schematics published as soon as possible.</a:t>
            </a:r>
            <a:endParaRPr b="0" lang="en-US" sz="24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Summary of Last Meeting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Verdana"/>
              </a:rPr>
              <a:t>Continued discussion on simplifying the dispute process PRR and NPRR drafts.</a:t>
            </a: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Verdana"/>
              </a:rPr>
              <a:t>Gets rid of the concept of a timely dispute that can still be worked.</a:t>
            </a:r>
            <a:endParaRPr b="0" lang="en-US" sz="2400" spc="-1" strike="noStrike">
              <a:solidFill>
                <a:srgbClr val="0033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Verdana"/>
              </a:rPr>
              <a:t>Gives hard deadlines for both parties to be included in final or true up statements.</a:t>
            </a:r>
            <a:endParaRPr b="0" lang="en-US" sz="2400" spc="-1" strike="noStrike">
              <a:solidFill>
                <a:srgbClr val="0033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Verdana"/>
              </a:rPr>
              <a:t>Modified the PRR/NPRR drafts to state that disputes must be submitted 20 </a:t>
            </a:r>
            <a:r>
              <a:rPr b="0" lang="en-US" sz="2400" spc="-1" strike="noStrike" u="sng">
                <a:solidFill>
                  <a:srgbClr val="003300"/>
                </a:solidFill>
                <a:uFillTx/>
                <a:latin typeface="Verdana"/>
              </a:rPr>
              <a:t>business</a:t>
            </a:r>
            <a:r>
              <a:rPr b="0" lang="en-US" sz="2400" spc="-1" strike="noStrike">
                <a:solidFill>
                  <a:srgbClr val="003300"/>
                </a:solidFill>
                <a:latin typeface="Verdana"/>
              </a:rPr>
              <a:t> days prior to the next scheduled settlement statement.</a:t>
            </a:r>
            <a:r>
              <a:rPr b="0" lang="en-US" sz="2800" spc="-1" strike="noStrike">
                <a:solidFill>
                  <a:srgbClr val="0033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Summary of Last Meeting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Verdana"/>
              </a:rPr>
              <a:t>Dispute PRR and NPRR (continued)</a:t>
            </a: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Verdana"/>
              </a:rPr>
              <a:t>Incorporated updated ERCOT language for status of disputes</a:t>
            </a: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Verdana"/>
              </a:rPr>
              <a:t>Agreed to review the COPS Commercial Guide Outline – Data Aggregation section at a future meeting. </a:t>
            </a: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Verdana"/>
              </a:rPr>
              <a:t>Reviewed NPRR 37 revisions suggested by ERCOT staff and submitted on behalf of SDAWG.</a:t>
            </a: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VOTE!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Verdana"/>
              </a:rPr>
              <a:t>COPS recommends that PRS approves the PRR titled “Simplifying the Dispute Process.”</a:t>
            </a: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Verdana"/>
              </a:rPr>
              <a:t>COPS recommends that PRS approves the NPRR titled “Simplifying the Dispute Process.”</a:t>
            </a: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Next meeting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Verdana"/>
              </a:rPr>
              <a:t>Wednesday, March 28</a:t>
            </a:r>
            <a:r>
              <a:rPr b="0" lang="en-US" sz="3200" spc="-1" strike="noStrike" baseline="30000">
                <a:solidFill>
                  <a:srgbClr val="003300"/>
                </a:solidFill>
                <a:latin typeface="Verdana"/>
              </a:rPr>
              <a:t>th </a:t>
            </a:r>
            <a:r>
              <a:rPr b="0" lang="en-US" sz="3200" spc="-1" strike="noStrike">
                <a:solidFill>
                  <a:srgbClr val="003300"/>
                </a:solidFill>
                <a:latin typeface="Verdana"/>
              </a:rPr>
              <a:t>: </a:t>
            </a: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Verdana"/>
              </a:rPr>
              <a:t>Data Extracts Presentation 9:30-12:30</a:t>
            </a: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1ca6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Verdana"/>
              </a:rPr>
              <a:t>CRR auction timeline / other issues </a:t>
            </a:r>
            <a:endParaRPr b="0" lang="en-US" sz="2800" spc="-1" strike="noStrike">
              <a:solidFill>
                <a:srgbClr val="00330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Verdana"/>
            </a:endParaRPr>
          </a:p>
        </p:txBody>
      </p:sp>
      <p:sp>
        <p:nvSpPr>
          <p:cNvPr id="90" name=""/>
          <p:cNvSpPr/>
          <p:nvPr/>
        </p:nvSpPr>
        <p:spPr>
          <a:xfrm>
            <a:off x="2286000" y="2697120"/>
            <a:ext cx="4572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a58779"/>
                </a:solidFill>
                <a:uFillTx/>
                <a:latin typeface="Arial"/>
                <a:hlinkClick r:id="rId2"/>
              </a:rPr>
              <a:t>sdawg@lists.ercot.com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ubscribe at </a:t>
            </a:r>
            <a:r>
              <a:rPr b="0" lang="en-US" sz="1800" spc="-1" strike="noStrike" u="sng">
                <a:solidFill>
                  <a:srgbClr val="a58779"/>
                </a:solidFill>
                <a:uFillTx/>
                <a:latin typeface="Arial"/>
                <a:hlinkClick r:id="rId3"/>
              </a:rPr>
              <a:t>http://</a:t>
            </a:r>
            <a:r>
              <a:rPr b="0" lang="en-US" sz="1800" spc="-1" strike="noStrike" u="sng">
                <a:solidFill>
                  <a:srgbClr val="a58779"/>
                </a:solidFill>
                <a:uFillTx/>
                <a:latin typeface="Arial"/>
                <a:hlinkClick r:id="rId4"/>
              </a:rPr>
              <a:t>lists.ercot.com</a:t>
            </a:r>
            <a:r>
              <a:rPr b="0" lang="en-US" sz="1800" spc="-1" strike="noStrike" u="sng">
                <a:solidFill>
                  <a:srgbClr val="a58779"/>
                </a:solidFill>
                <a:uFillTx/>
                <a:latin typeface="Arial"/>
                <a:hlinkClick r:id="rId5"/>
              </a:rPr>
              <a:t>/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No more notices about SDAWG will go to the COPS exploder, except for COPS updates.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5T20:04:59Z</dcterms:created>
  <dc:creator>Eric Goff, reflecting SDAWG comments</dc:creator>
  <dc:description/>
  <cp:keywords/>
  <dc:language>en-US</dc:language>
  <cp:lastModifiedBy>Eric Goff, reflecting SDAWG comments</cp:lastModifiedBy>
  <dcterms:modified xsi:type="dcterms:W3CDTF">2007-03-05T21:25:12Z</dcterms:modified>
  <cp:revision>2</cp:revision>
  <dc:subject/>
  <dc:title>SDAWG Update to COP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408291033</vt:lpwstr>
  </property>
</Properties>
</file>