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3320-B74D-4B8B-9394-5165C81E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EE6-8EA8-44A9-AFE9-0C5B19BB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9674-4BD3-49EB-88A6-F010A7324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761-5231-44E0-8DAD-301F34B2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D112-FAA2-4524-B40F-8DA3C0D7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9CBC-34F4-4E83-904A-E409B6D9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EF47-EAF9-41B0-81BB-69701418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8327-0ECD-4C09-BB6D-2377156E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F6C2-49CB-4651-9E85-4E57E46C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C9CF-E04C-4532-A569-EE9E809A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2A1B-AEAF-4A26-9345-06183AA5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F38-CE7B-45C6-B3E8-92B06413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05B3-EB80-4B2B-8AC4-48A9D430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47D1-22C7-4ABE-B454-6EBA6236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A18F-D49C-449F-A0D5-37D91621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4CE6-158D-4B4D-9557-FB3A9321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F4B1-7E8A-4B27-9A59-6C00F85A0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51E-FB9B-4D54-A7DA-373050D7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CAF-E268-4730-8F66-6A36B91B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0A6-CB8A-4577-8625-636A6097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F74-6547-4A43-A2D1-976B4BBE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81F-C52F-4E34-A76B-670ADE46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C25-BAA4-4E2E-ACAE-0E70403B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0E5-1EBC-427B-8CE1-9F792C12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3856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425680" y="0"/>
            <a:ext cx="309384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A8A4-8F84-4EB4-8BDA-13FF061F82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FF5B-288F-418F-8672-3A13A40F108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4876920"/>
            <a:ext cx="8839440" cy="1957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6094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 for QSEs &amp; CRR Acct Holders/Own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Commercial Operations Subcommitte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3/13/200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13F-727D-42A0-B4E7-4D42E633B7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Protocols – Section 16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16.1 Qualification, Registration, and Execution of Agre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COT shall require each Market Participant to register and execute the applicable standard Agreements from the following li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a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Qualified Scheduling Entity (QSE)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b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oad Serving Entity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c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ansmission and/or Distribution Service Provider (TDSP)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d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ource Entity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e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newable Energy Credit Account Holder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f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Congestion Revenue Rights Account Holder Agreement;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g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liability Must-Run Agreement; 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h)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lack Start Agreemen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08C-F89C-4765-99B9-1A8FE76667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– QSEs &amp; CRR Acct Holders/Owner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R Account Holders vs. CRR Owne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R Account Holder – Entity is registered with ERCOT as a CRR Account Holder and may or may not have offered for and paid for CRR produ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RR Owner – Entity is a registered CRR Account Holder and has purchased and paid for CRR produc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ption: QSEs and CRR Holders/Owners will register as separate entit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SEs and CRR Holders/Owners will receive separate Settlement Statements (DAM and RT) and Invoices (DAM and RT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imilar to Sub-QSE relationships in Zonal syst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R-related settlement charge and payment types that will appear on CRR Holder/Owner statements and invoi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se include for DAM:  DAOBLAMT, DAOBLRAMT, DAFGRAMT, DAOPTAMT, DAOPTRAMT, DACRRSAM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se include for RT: RTOPTAMT, RTOPTRAMT, RTCRRSAMT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R-related settlement charge and payment types that will appear on QSE statements and invoi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TOBL (Real-Time Obligation per QSE) is a CRR product purchased in DAM by QSEs.  Do not have to be a registered CRR entity to purchase these product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RTOBLAMT and RTOBLAMT will appear o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Q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AM Statements and RT Statements respectivel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CE3F-15FB-4027-A5FA-22806BB489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1640" y="759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Market Comparison – Settlement Statements and Invoice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389240"/>
          <a:ext cx="8153280" cy="4993920"/>
        </p:xfrm>
        <a:graphic>
          <a:graphicData uri="http://schemas.openxmlformats.org/drawingml/2006/table">
            <a:tbl>
              <a:tblPr/>
              <a:tblGrid>
                <a:gridCol w="1530360"/>
                <a:gridCol w="3233520"/>
                <a:gridCol w="3389400"/>
              </a:tblGrid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Frequenc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Conten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S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ily Statements, Weekly Invoic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arate statements for FTR charges, combined on invoic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YISO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ly Invoices Onl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m all activity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J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ly Invoices Onl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m all activ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O-N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hly on “weekly” bil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m all activity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BE3-098B-4DA5-B7C6-7F1655EA65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27468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Appendix – Bill Determinant Descript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OBLAMT – Payments and Charges for PTP Obligations Settled in D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OBLR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and Charges for PTP Obligations with Refund Settled in DA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FGR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FGR Settled in DA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OPT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PTP Options Settled in DA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OPTR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PTP Options with Refund Settled in DAM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CRRS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ay-Ahead Shortfall Charges to CRR Owner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TOPT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NOIE’s PTP Options Settled in Real-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TOPTR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for NOIE’s PTP Options with Refund Settled in Real-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TCRRS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al-Time Shortfall Charges to CRR Owners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RTOBLAMT – Settlement for PTP Obligations bought in DA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TOBLAMT -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ayments and Charges for PTP Obligations bought in DAM and Settled in Real-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937C-89ED-4651-AA2B-AF9FF205DA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barnes</cp:lastModifiedBy>
  <dcterms:modified xsi:type="dcterms:W3CDTF">2007-03-09T20:55:24Z</dcterms:modified>
  <cp:revision>3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