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F5A7F-106B-4834-905C-25182620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6D1AC-0B27-486D-90EB-9F6742E0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923BF-C065-49A2-868F-AA00F557F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3EDC-9AEE-4D8D-9EAD-3C9B9F24B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7BDE-3C17-455A-8620-0C8A04CE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084F-8281-4BD4-B19C-15E4EA1A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7771-CE92-4AD9-A25F-3987B24A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AE56-5F0C-40DB-AA43-B931AE6C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FD3B-7AFC-418D-A6F7-26308032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1697-CFAC-4B00-BE4E-901304BA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4427-5A58-4722-A8AF-82D0FDA8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D4F6D-7DEA-4C81-A422-980ABC1F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3BD7-0701-4A62-B8CB-E210CDF1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EBBD-3B6D-44CE-89DF-02F76CD2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0639-149B-41A0-8CE2-F0C4D1E2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8F8B-BA1A-4D92-B0DF-C1B109FB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9CFA-3994-4460-9C96-30E644B9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827B4-5FBD-45F0-8C8F-352E4777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61527-39A7-4F6D-8026-EF079989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E4D72-E5B6-47A4-9D4B-0CE743C9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21DCC-3E29-49F5-83A5-D50E346B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04AD-F5FF-49EF-8046-F5A38396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D44E6-3E92-45A4-A607-D98B52E3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DA08B-F825-4963-9567-3F250D99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34C1-3D8D-48C0-8FD3-114BEEB1C5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3B5E-DC58-4FB4-BD84-230BEB8790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Nodal Day Ahead Invoice Taskforc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rch 13, 2007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sentation to CO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72A6-2BA9-4E28-9BFF-F652347382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dal Day Ahead Invoice Task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on Wednesday, March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around 26 (3 ERCOT employe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force charge was to discuss pros and cons of the Nodal DAM Invoices – Daily versus Week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Draft NPRR: Weekly DAM Invoicing for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AF7DF-6859-4F58-9970-D57F030BD4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Inv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Ahead clearing is known as soon as market is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ens credit window for Day Ahead 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h will flow more tim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in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yment due in 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credit risk comparatively to weekly invo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create barrier to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that an accidental late payment will be made (Administration Breakdow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rier to Day Ahead market 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nies will not have time to receive approvals for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operational costs for MP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5461F-3445-49BB-A664-2EE8A4B9BC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ekly Invo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y option available instead of making higher collateral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rrors what MPs and ERCOT do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teral calls are due in two business days – quicker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it exposure is equally manageable as Day A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eves good credit MPs from burden of daily processing of pa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ISO markets are currently or moving towards weekly inv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Marke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9A53A-2789-49BE-8987-C76C22864F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ice Due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redit suggested publication of Weekly DAM Invoice on Wednesday with payment due on the following Tue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excessive workload if DAM and RT invoice receipts and payments occurred on the same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llateral call was issued on Thursday, the defaulting entity could potentially be prohibited from participating within the weekend Day Ahead Market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E808-B2AF-4863-A9B9-50CAFFFEE8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of Wire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redit suggested Market Participants timing of wire receipt required by 15:00 instead of 17:00 (dead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issue default notices on the sam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5793F-763A-4F86-95C8-5A58407FDE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days for invoice pa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DAM invoice due in four days, RT invoice due in five days, CRR invoice due in three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discussion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DAM invoice due in 3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 invoice due in 3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CRR invoice due in 3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different due dates for all Marke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6173-4E93-44C9-95C3-871CD6010F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I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es to help mitigate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ility for pre-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teral calls are due within two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’s systems will lock out potential MPs from the DAM if they do not have sufficient collat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 of Invoice due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1A0CD-DA12-4A96-BAA5-5891F18720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 From C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 for CO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the Taskforce need to meet again to finalize the draft NPRR and bring back for an endorsement vote at the April COPS mee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F7FC1-2140-4C87-A292-78BAA3FDFB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22:17:57Z</dcterms:created>
  <dc:creator>BP - Judy Briscoe</dc:creator>
  <dc:description/>
  <dc:language>en-US</dc:language>
  <cp:lastModifiedBy>Michelle Trenary</cp:lastModifiedBy>
  <dcterms:modified xsi:type="dcterms:W3CDTF">2007-03-11T16:13:21Z</dcterms:modified>
  <cp:revision>9</cp:revision>
  <dc:subject/>
  <dc:title>Nodal Day Ahead Invoice Taskforce</dc:title>
</cp:coreProperties>
</file>