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0E91ADB-6127-4C0A-AFC8-6BDCBCD39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5840" y="698400"/>
            <a:ext cx="4656240" cy="3492720"/>
          </a:xfrm>
          <a:prstGeom prst="rect">
            <a:avLst/>
          </a:prstGeom>
          <a:ln w="0">
            <a:noFill/>
          </a:ln>
        </p:spPr>
      </p:sp>
      <p:sp>
        <p:nvSpPr>
          <p:cNvPr id="13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the opportunity to serve.  I look forward to a good year working with Barbara and the ERCOT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F (disbanded alm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T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LS (sort of disba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reports on 2006 congestion More on that later and an update on the RPRS solution failure in February (input data out of bounds) nothing more on th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5840" y="698400"/>
            <a:ext cx="4656240" cy="3492720"/>
          </a:xfrm>
          <a:prstGeom prst="rect">
            <a:avLst/>
          </a:prstGeom>
          <a:ln w="0">
            <a:noFill/>
          </a:ln>
        </p:spPr>
      </p:sp>
      <p:sp>
        <p:nvSpPr>
          <p:cNvPr id="13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y Miller, chair of the QSEWM gave a brief report on his efforts to coordinate with ERCOT staff a more formal involvement of the QSEWG and the nodal develop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the CMWG will be edits to Nodocols providing more definitive direction on how competitive constraints will be determined and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WG gave an update on the PUC work and has drafted a PRR that defines a testing procedure for LaaRs.  The WMS voted to endorse the concepts in the draf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5840" y="698400"/>
            <a:ext cx="4656240" cy="3492720"/>
          </a:xfrm>
          <a:prstGeom prst="rect">
            <a:avLst/>
          </a:prstGeom>
          <a:ln w="0">
            <a:noFill/>
          </a:ln>
        </p:spPr>
      </p:sp>
      <p:sp>
        <p:nvSpPr>
          <p:cNvPr id="13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raft of the final report has been circulated.  It will be finalized March 12 and presented to WMS and ROS at our next meetings.</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ke this opportunity to raise the LOLE input to ERCOT.</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5840" y="698400"/>
            <a:ext cx="4656240" cy="3492720"/>
          </a:xfrm>
          <a:prstGeom prst="rect">
            <a:avLst/>
          </a:prstGeom>
          <a:ln w="0">
            <a:noFill/>
          </a:ln>
        </p:spPr>
      </p:sp>
      <p:sp>
        <p:nvSpPr>
          <p:cNvPr id="14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 report will probably make it back to WMS this month.</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would TAC like to communicate it on to the PUC?</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5840" y="698400"/>
            <a:ext cx="4656240" cy="3492720"/>
          </a:xfrm>
          <a:prstGeom prst="rect">
            <a:avLst/>
          </a:prstGeom>
          <a:ln w="0">
            <a:noFill/>
          </a:ln>
        </p:spPr>
      </p:sp>
      <p:sp>
        <p:nvSpPr>
          <p:cNvPr id="14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PRS</a:t>
            </a:r>
            <a:endParaRPr b="0" lang="en-US" sz="10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on Non-spin – informal interest group formed to further the understanding – potential for assaults and defense – being defused – offer curve shape – price signal suppress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5840" y="698400"/>
            <a:ext cx="4656240" cy="3492720"/>
          </a:xfrm>
          <a:prstGeom prst="rect">
            <a:avLst/>
          </a:prstGeom>
          <a:ln w="0">
            <a:noFill/>
          </a:ln>
        </p:spPr>
      </p:sp>
      <p:sp>
        <p:nvSpPr>
          <p:cNvPr id="14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LS – discussion – three motions – Note and understand the consumer segment objection (see email from farangh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A0D31-76B6-4316-9B7F-2EA0D7D8A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6DA3C-A07F-4779-A025-BCBF3B5DD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385C9-1F17-47D9-A0D2-33E8FAFBF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A9012-29DE-48A3-9F22-6150CFA15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5DC4A-5B05-4E16-BFBA-1FBFE0A8F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32075-8FB2-41A0-8F7A-808877EC4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FC4B6-1F0F-4428-BE47-78EF307EE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76CCA-7CCF-4F87-B698-EA7C98748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65DFE-6406-46DC-BB24-183252697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A8478-B67A-48EE-A422-90BDF0290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A06B1-C854-43E0-B262-7E27FB2CB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33095-31DC-4B67-8528-1ABE50CBD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D2B19-2419-47A5-9928-A783AF4BC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20AC4-AE11-4FF9-85CB-D25AA5C83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7ABD3-EEFC-4AC8-8D5B-F8B092ADD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CAF2F2-16C4-418E-9075-92508C31AF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C13F2-FA0F-457E-A47A-76BC8D502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EA5E8-C74F-4C61-93C2-608BBAA6F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56AB0-BB73-49D0-B534-5053B5FAA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71BB6-BA0A-4B0B-9CBA-EEED6149D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46D1B-CD10-4D4E-A00A-51E2CF763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D5431-D08A-49DF-9FD1-C42C981E3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86589-8454-4CA8-B7EA-7E9AE4D8D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C6EB6-F2D4-4C96-B54D-544C987A0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5A5C4-A366-4D41-83BC-C3636F9B91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BEF3-8F7C-49EC-82BB-1EB01AD1B4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2007</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B102FDA9-EDE4-4270-AE55-4D61C4B6BE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5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108" name="PlaceHolder 2"/>
          <p:cNvSpPr>
            <a:spLocks noGrp="1"/>
          </p:cNvSpPr>
          <p:nvPr>
            <p:ph/>
          </p:nvPr>
        </p:nvSpPr>
        <p:spPr>
          <a:xfrm>
            <a:off x="457200" y="114300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enefit of EILS</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rry Gurley moved that the benefit be defined by the calculation as described in slide number 4 of the presentation, with the enumerated assumptions.  Clayton Greer seconded the motion.  The motion carried on a roll call vote, with five opposed and four abstaining.</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44C19F4-B76B-439A-95B7-0040E68D24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alculation</a:t>
            </a:r>
            <a:endParaRPr b="0" lang="en-US" sz="44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value provided by EILS is the avoided cost of the outage prevented:</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lue </a:t>
            </a:r>
            <a:r>
              <a:rPr b="0" lang="en-US" sz="2400" spc="-1" strike="noStrike">
                <a:solidFill>
                  <a:srgbClr val="ffffff"/>
                </a:solidFill>
                <a:latin typeface="Tahoma"/>
              </a:rPr>
              <a:t>	</a:t>
            </a:r>
            <a:r>
              <a:rPr b="0" lang="en-US" sz="2400" spc="-1" strike="noStrike">
                <a:solidFill>
                  <a:srgbClr val="ffffff"/>
                </a:solidFill>
                <a:latin typeface="Tahoma"/>
              </a:rPr>
              <a:t>= Risk of outage * cost of outag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1 event/15 yr) * ($6000/MWh * 1000MW * 4 h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1" lang="en-US" sz="2400" spc="-1" strike="noStrike">
                <a:solidFill>
                  <a:srgbClr val="ffffff"/>
                </a:solidFill>
                <a:latin typeface="Tahoma"/>
              </a:rPr>
              <a:t>$1.6M/y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B43DAE5-2006-4F70-9E03-DDE7272144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ILS Benefit</a:t>
            </a: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ILS is to be used as the last step before firm load shed</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m load shed historically has occurred at a rate of 1 event every 15 years</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ume that the firm load shed prevented would be 1000MW (the maximum size of the EILS program)</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ume that the value of lost load is $6,000/MWh (slightly under the DOE value calculated for the Northeast blackout)</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ume that an event lasts approximate 4 hours</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ume that EILS can be used in ALL firm load shed events</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ume that the performance of EILS is quick enough to prevent ERCOT from requiring firm load shed as well</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88841D2-140E-4FF4-BAA3-915F3B2C85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Additional Benefit</a:t>
            </a:r>
            <a:endParaRPr b="0" lang="en-US" sz="4400" spc="-1" strike="noStrike">
              <a:solidFill>
                <a:srgbClr val="e5ffff"/>
              </a:solidFill>
              <a:latin typeface="Tahoma"/>
            </a:endParaRPr>
          </a:p>
        </p:txBody>
      </p:sp>
      <p:sp>
        <p:nvSpPr>
          <p:cNvPr id="1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help avoid the ERCOT SHEDS FIRM LOAD headli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a real objective of the program.  How do we put a value on it?</a:t>
            </a:r>
            <a:endParaRPr b="0" lang="en-US" sz="3200" spc="-1" strike="noStrike">
              <a:solidFill>
                <a:srgbClr val="ffffff"/>
              </a:solidFill>
              <a:latin typeface="Tahoma"/>
            </a:endParaRPr>
          </a:p>
        </p:txBody>
      </p:sp>
      <p:sp>
        <p:nvSpPr>
          <p:cNvPr id="115" name=""/>
          <p:cNvSpPr/>
          <p:nvPr/>
        </p:nvSpPr>
        <p:spPr>
          <a:xfrm>
            <a:off x="540360" y="4572000"/>
            <a:ext cx="7777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ROS does not seem to think it will help.  [ROS mo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S does not believe that EILS program as it has been defined in PRR70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an effective reliability tool, and suggests that other tools that a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effective, or revisions to PRR705 that would make it effective, c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developed with further study as has been tasked for ROS to 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8153280" y="5715000"/>
            <a:ext cx="76320" cy="763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7" name=""/>
          <p:cNvSpPr/>
          <p:nvPr/>
        </p:nvSpPr>
        <p:spPr>
          <a:xfrm>
            <a:off x="0" y="0"/>
            <a:ext cx="213372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54080" y="380880"/>
            <a:ext cx="1857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not includ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WMS motions</a:t>
            </a:r>
            <a:endParaRPr b="0" lang="en-US" sz="1800" spc="-1" strike="noStrike">
              <a:solidFill>
                <a:srgbClr val="ffffff"/>
              </a:solidFill>
              <a:latin typeface="Arial"/>
            </a:endParaRPr>
          </a:p>
        </p:txBody>
      </p:sp>
      <p:sp>
        <p:nvSpPr>
          <p:cNvPr id="119" name=""/>
          <p:cNvSpPr/>
          <p:nvPr/>
        </p:nvSpPr>
        <p:spPr>
          <a:xfrm flipV="1">
            <a:off x="380880" y="533160"/>
            <a:ext cx="8305920" cy="5715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209680" y="380880"/>
            <a:ext cx="6400800" cy="6096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6724BBA1-63A8-479A-9C35-CEFF31A4AF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19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122" name="PlaceHolder 2"/>
          <p:cNvSpPr>
            <a:spLocks noGrp="1"/>
          </p:cNvSpPr>
          <p:nvPr>
            <p:ph/>
          </p:nvPr>
        </p:nvSpPr>
        <p:spPr>
          <a:xfrm>
            <a:off x="457200" y="1143000"/>
            <a:ext cx="82296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sts of EILS</a:t>
            </a:r>
            <a:br>
              <a:rPr sz="2800"/>
            </a:br>
            <a:br>
              <a:rPr sz="2800"/>
            </a:br>
            <a:r>
              <a:rPr b="1" lang="en-US" sz="2800" spc="-1" strike="noStrike">
                <a:solidFill>
                  <a:srgbClr val="ffffff"/>
                </a:solidFill>
                <a:latin typeface="Tahoma"/>
              </a:rPr>
              <a:t>Larry Gurley moved that the cost of the EILS PRR be defined at $100,000 (or less) for cost of implementation, with a $20 million annual cap ($17 million for the first year), with many unquantifiable costs associated with market inefficiencies.  Clayton Greer seconded the motion.  The motion carried on voice vote, with four opposed and one abstention (Investor Owned Utility segment.)</a:t>
            </a:r>
            <a:br>
              <a:rPr sz="2800"/>
            </a:br>
            <a:br>
              <a:rPr sz="2800"/>
            </a:b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D76F455-8912-4B8D-839A-5E20991912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Cost of the EILS PRRs</a:t>
            </a:r>
            <a:br>
              <a:rPr sz="4000"/>
            </a:br>
            <a:r>
              <a:rPr b="1" lang="en-US" sz="4000" spc="-1" strike="noStrike">
                <a:solidFill>
                  <a:srgbClr val="e5ffff"/>
                </a:solidFill>
                <a:latin typeface="Tahoma"/>
              </a:rPr>
              <a:t>To ERCOT</a:t>
            </a:r>
            <a:endParaRPr b="0" lang="en-US" sz="4000" spc="-1" strike="noStrike">
              <a:solidFill>
                <a:srgbClr val="e5ffff"/>
              </a:solidFill>
              <a:latin typeface="Tahoma"/>
            </a:endParaRPr>
          </a:p>
        </p:txBody>
      </p:sp>
      <p:sp>
        <p:nvSpPr>
          <p:cNvPr id="1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02: Assuming complexities removed, potentially $50K-$100K; otherwise, will require capital project for </a:t>
            </a:r>
            <a:r>
              <a:rPr b="0" lang="en-US" sz="2400" spc="-1" strike="noStrike" u="sng">
                <a:solidFill>
                  <a:srgbClr val="ffffff"/>
                </a:solidFill>
                <a:uFillTx/>
                <a:latin typeface="Tahoma"/>
              </a:rPr>
              <a:t>settlement</a:t>
            </a:r>
            <a:r>
              <a:rPr b="0" lang="en-US" sz="2400" spc="-1" strike="noStrike">
                <a:solidFill>
                  <a:srgbClr val="ffffff"/>
                </a:solidFill>
                <a:latin typeface="Tahoma"/>
              </a:rPr>
              <a:t> changes.</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03: Assuming complexities removed, potentially $50K-$100K; otherwise, will require capital project for </a:t>
            </a:r>
            <a:r>
              <a:rPr b="0" lang="en-US" sz="2400" spc="-1" strike="noStrike" u="sng">
                <a:solidFill>
                  <a:srgbClr val="ffffff"/>
                </a:solidFill>
                <a:uFillTx/>
                <a:latin typeface="Tahoma"/>
              </a:rPr>
              <a:t>operational</a:t>
            </a:r>
            <a:r>
              <a:rPr b="0" lang="en-US" sz="2400" spc="-1" strike="noStrike">
                <a:solidFill>
                  <a:srgbClr val="ffffff"/>
                </a:solidFill>
                <a:latin typeface="Tahoma"/>
              </a:rPr>
              <a:t> changes.</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04: Assuming complexities removed, potentially $50K-$100K; otherwise, will require capital project for </a:t>
            </a:r>
            <a:r>
              <a:rPr b="0" lang="en-US" sz="2400" spc="-1" strike="noStrike" u="sng">
                <a:solidFill>
                  <a:srgbClr val="ffffff"/>
                </a:solidFill>
                <a:uFillTx/>
                <a:latin typeface="Tahoma"/>
              </a:rPr>
              <a:t>settlement</a:t>
            </a:r>
            <a:r>
              <a:rPr b="0" lang="en-US" sz="2400" spc="-1" strike="noStrike">
                <a:solidFill>
                  <a:srgbClr val="ffffff"/>
                </a:solidFill>
                <a:latin typeface="Tahoma"/>
              </a:rPr>
              <a:t> changes.</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05: $50K-$100K under O&amp;M budgets of affected department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72804A8-1118-4F7C-80D8-0E3E654527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Cost of the EILS PRRs</a:t>
            </a:r>
            <a:br>
              <a:rPr sz="4000"/>
            </a:br>
            <a:r>
              <a:rPr b="1" lang="en-US" sz="4000" spc="-1" strike="noStrike">
                <a:solidFill>
                  <a:srgbClr val="e5ffff"/>
                </a:solidFill>
                <a:latin typeface="Tahoma"/>
              </a:rPr>
              <a:t>To Consumers</a:t>
            </a:r>
            <a:endParaRPr b="0" lang="en-US" sz="4000" spc="-1" strike="noStrike">
              <a:solidFill>
                <a:srgbClr val="e5ffff"/>
              </a:solidFill>
              <a:latin typeface="Tahoma"/>
            </a:endParaRPr>
          </a:p>
        </p:txBody>
      </p:sp>
      <p:sp>
        <p:nvSpPr>
          <p:cNvPr id="12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ents filed on PRR 702 include a discussion of a $43.8 M Cap</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R 705 has a $20M Cap</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B22A243-9A6D-421D-A3A5-A756FE6707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340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128" name="PlaceHolder 2"/>
          <p:cNvSpPr>
            <a:spLocks noGrp="1"/>
          </p:cNvSpPr>
          <p:nvPr>
            <p:ph/>
          </p:nvPr>
        </p:nvSpPr>
        <p:spPr>
          <a:xfrm>
            <a:off x="457200" y="1219320"/>
            <a:ext cx="82296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hanges in the Market Since the April 17, 2006 Event</a:t>
            </a:r>
            <a:br>
              <a:rPr sz="2800"/>
            </a:br>
            <a:br>
              <a:rPr sz="2800"/>
            </a:br>
            <a:r>
              <a:rPr b="1" lang="en-US" sz="2800" spc="-1" strike="noStrike">
                <a:solidFill>
                  <a:srgbClr val="ffffff"/>
                </a:solidFill>
                <a:latin typeface="Tahoma"/>
              </a:rPr>
              <a:t>Larry Gurley moved to accept the changes listed on slide number 8 of the presentation, and to add more effective use of the RPRS tool, including load participation, enhanced non-spin procurement procedures, passage of PRR 701, and elimination of MCSM and the shame cap.  Clayton Greer seconded the motion.  The motion carried on voice vote with one abstention (Municipal segment.)</a:t>
            </a:r>
            <a:br>
              <a:rPr sz="2800"/>
            </a:b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44D2568-37A8-4EDE-9D0C-2B5E59C642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Changes in Market since </a:t>
            </a:r>
            <a:br>
              <a:rPr sz="4000"/>
            </a:br>
            <a:r>
              <a:rPr b="1" lang="en-US" sz="4000" spc="-1" strike="noStrike">
                <a:solidFill>
                  <a:srgbClr val="e5ffff"/>
                </a:solidFill>
                <a:latin typeface="Tahoma"/>
              </a:rPr>
              <a:t>April 17, 2006</a:t>
            </a:r>
            <a:endParaRPr b="0" lang="en-US" sz="4000" spc="-1" strike="noStrike">
              <a:solidFill>
                <a:srgbClr val="e5ffff"/>
              </a:solidFill>
              <a:latin typeface="Tahoma"/>
            </a:endParaRPr>
          </a:p>
        </p:txBody>
      </p:sp>
      <p:sp>
        <p:nvSpPr>
          <p:cNvPr id="13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ecasting Model refinements</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inating Modified Competitive Solution Method and Shame Cap</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inating CSC congestion constraint on BES MCPE</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d EECP and Alert process and procedures</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ised offer cap</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e effective use of RPRS tool</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ad participation</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ed Non-Spin procurement procedures</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ssed PRR 701, stranded capacity</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21A2CE4-68BE-437A-97CC-0499E58AE7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ILS</a:t>
            </a:r>
            <a:endParaRPr b="0" lang="en-US" sz="4400" spc="-1" strike="noStrike">
              <a:solidFill>
                <a:srgbClr val="e5ffff"/>
              </a:solidFill>
              <a:latin typeface="Tahoma"/>
            </a:endParaRPr>
          </a:p>
        </p:txBody>
      </p:sp>
      <p:sp>
        <p:nvSpPr>
          <p:cNvPr id="13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S understands that there is more to do to be responsive to PUC requests for solution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S is open to suggestions from TAC regarding how to proceed with developing long term solution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652AE629-D9FA-47FF-8DA9-9BDE925871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ree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ree Task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ILS Discuss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staff report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8DE2572-9334-4FDE-9E6B-7CD777DB17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king Groups &amp; Task Forces</a:t>
            </a: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s are standing and self directed</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ask Forces are ad hoc and take their assignments from the subcommittee</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either has a voting structure and may not speak for stakeholders</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inority positions are brought to the subcommittee</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ave Antitrust responsibilitie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47B2C86-0EB0-4E69-BDF6-607220370B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amp; Taskforce</a:t>
            </a:r>
            <a:br>
              <a:rPr sz="4000"/>
            </a:br>
            <a:r>
              <a:rPr b="1" lang="en-US" sz="4000" spc="-1" strike="noStrike">
                <a:solidFill>
                  <a:srgbClr val="e5ffff"/>
                </a:solidFill>
                <a:latin typeface="Tahoma"/>
              </a:rPr>
              <a:t>Leadership</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6868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QMWG – Gary Miller &amp; Ron Wheeler</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MWG – Jerry Ward &amp; Marguerite Wagner</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SWG – MaryAnne Brelinsky &amp;Nelson Neas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WG – Dotty Disanto &amp; Mark Rolli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ATF – Malcom Smith &amp; Henry Durrwachter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TTF – Mark Bruce</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0390B18-2E69-4DB8-BF3F-B7483AC532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QSEWG, CMWG &amp; DSWG</a:t>
            </a:r>
            <a:endParaRPr b="0" lang="en-US" sz="40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QSE managers did not meet but the chairman is working with ERCOT staff to get more integrated with nodal projec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mpetitive Constraint determination draft NPRR is ou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pdates on PUC Demand Side Projec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rafting a PRR on Laar Testing</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9B871823-99EF-4686-AE67-4B15A9FBB9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GATF</a:t>
            </a:r>
            <a:endParaRPr b="0" lang="en-US" sz="40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ddressing point by point the inputs to the ERCOT Reserve calcul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ill develop a revised methodology for the calcul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ill recommend changes in the format of the ERCOT CDR summary p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DC75E6F-F8B4-4091-BF28-66D7E657FE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RTTF</a:t>
            </a:r>
            <a:endParaRPr b="0" lang="en-US" sz="40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et twice and has developed a matrix defining the universe of options regarding how to address differences between early movers and late comers to a CREZ.</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5BE8A97-4BBF-4508-8954-C6AEDD68ED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Discussion Item</a:t>
            </a:r>
            <a:br>
              <a:rPr sz="4000"/>
            </a:br>
            <a:r>
              <a:rPr b="1" lang="en-US" sz="4000" spc="-1" strike="noStrike">
                <a:solidFill>
                  <a:srgbClr val="e5ffff"/>
                </a:solidFill>
                <a:latin typeface="Tahoma"/>
              </a:rPr>
              <a:t>NonSpin vs RPRS</a:t>
            </a:r>
            <a:endParaRPr b="0" lang="en-US" sz="40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PRS market impac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ispatchablity of non-spin uni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eneral trade off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 action take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271BE55B-0CCC-493B-B7AA-5CD28B0FE0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EILS</a:t>
            </a:r>
            <a:br>
              <a:rPr sz="4000"/>
            </a:br>
            <a:r>
              <a:rPr b="1" lang="en-US" sz="4000" spc="-1" strike="noStrike">
                <a:solidFill>
                  <a:srgbClr val="e5ffff"/>
                </a:solidFill>
                <a:latin typeface="Tahoma"/>
              </a:rPr>
              <a:t>Charge to WMS from PRS</a:t>
            </a:r>
            <a:endParaRPr b="0" lang="en-US" sz="40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benefit.</a:t>
            </a:r>
            <a:endParaRPr b="0" lang="en-US" sz="3200" spc="-1" strike="noStrike">
              <a:solidFill>
                <a:srgbClr val="ffffff"/>
              </a:solidFill>
              <a:latin typeface="Tahoma"/>
            </a:endParaRPr>
          </a:p>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cost based on the EILS PRRs.</a:t>
            </a:r>
            <a:endParaRPr b="0" lang="en-US" sz="3200" spc="-1" strike="noStrike">
              <a:solidFill>
                <a:srgbClr val="ffffff"/>
              </a:solidFill>
              <a:latin typeface="Tahoma"/>
            </a:endParaRPr>
          </a:p>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hanges in Market since April 17, 2006</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26B5696C-154B-4F1E-9615-E0D781F9E7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albracht</cp:lastModifiedBy>
  <dcterms:modified xsi:type="dcterms:W3CDTF">2007-03-09T21:44:15Z</dcterms:modified>
  <cp:revision>90</cp:revision>
  <dc:subject/>
  <dc:title>WMS Report TO TAC</dc:title>
</cp:coreProperties>
</file>