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D98-71BE-4B32-9CA2-16B14403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B4B8-D0BF-4C0F-AA67-F7FD9A89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3E14-E769-49FE-A71C-6592C039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8F4-15A3-457B-B40F-E0B97BC9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D086-57E6-4683-BE42-A829A184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4A2A-A270-4479-B47A-E680B907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3E34-3652-441E-910F-3D68DF20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2443-C9F5-40D5-B1A5-7E90FDA4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E6D0-E789-4301-BAC7-727CCBCC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9B2A-B340-4064-AC24-68BEA763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35D9-1568-404D-9E54-716E5841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B99-5C52-4047-8B2A-4C318146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4B82-2153-4716-815A-6EBFC10F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B500-2574-4382-89E6-163F02A5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0016-2AFB-43B9-A59C-162E6C22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4BE0-1F34-4E91-89C9-3F641B94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F686-7A26-42DB-85F5-50D4C9A9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8FEA9-64C7-40E9-BE89-AA2AFED5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BD6CD-F80A-43AC-9976-BDEAE061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9A92F-EA64-48F1-A6AE-D870BE54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6AC98-9BAF-4855-82C4-D7F05AB4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7C30F-3E5A-490C-9280-824B8447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BC2-BB94-49DF-A0C8-0F210AE3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E6F94-D5A8-49B7-8DF9-AC7679DA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8258F-74F9-4300-919F-19DC8DCA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8F36A-9838-4531-80F7-8B2F2BB0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EE3E2-91F3-4726-9E63-B4D66109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42748-258E-4404-8B91-341024EC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8037D-CEDC-460E-968C-E66BA7D1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BCA34-BE12-430B-BF20-4F4D0301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D8F0B-4411-4D49-A2C1-80E51431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AD6C4-749A-4667-AF8F-BAE5CD90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D716B-C836-4EC4-A306-E1DA109A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66C-7786-424A-9A48-0579A789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9AC30-29DB-4084-8507-3FBBDB5A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7AA2D-E6C4-4B30-84F9-B454ABE8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78124-0E04-456B-9BB1-EA5CF45B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83623-5BF3-483D-BFEF-4EB081B0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FC670-96E2-4D44-BF17-499D6BB2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DC3F4-BB75-4DA1-8E37-D315FA86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DC518-C77B-4A0E-A6F6-B72299B8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D19EF-330C-4E06-A87A-35639428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61F43-7ECA-4FCA-A7EF-113C7771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43172-F5C3-41B7-A2C3-B1B73A21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D84A-4914-40FE-95E0-49473AAB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DEA34-817B-4F08-8532-08B7287B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D3F64-51CE-4361-A503-9A1B8616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5E357-E781-43B0-8DEF-AAFDF105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31D4F-7CEA-4DBF-A7F3-509F7C14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8F589-B000-436F-9BCC-7DC3212D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64176-3CCF-4519-BC04-352C6323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15434-90AD-45E1-8F7E-A251EB14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2B478-AE2B-4EF8-B489-A39A03FA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63703-73A6-4E89-B07D-6179A8DD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DF550-719E-40E2-B840-C94FFB2B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DF5-BCBA-46AB-A787-73D33D42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1F2B1-0DCC-4726-9A8E-030A54B4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DE2-4A6D-41B6-A3F3-C3E75F56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45F-5AF5-4824-9473-9D40D38E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7A9-DC9A-4D0C-8DC4-893FEE22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825C-78D5-40E0-9988-5C78C6C142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9EAE-0C2F-4CD1-94F0-1BC6DEE643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9594-C0BE-4294-AB6B-15AB36EAC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69AA-09BB-41D6-9D1B-0150A7C80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CDAB-B47D-4474-8DD9-8A0A59BBA0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2860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XU Electric Delivery</a:t>
            </a:r>
            <a:br>
              <a:rPr sz="2400"/>
            </a:b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800"/>
            </a:br>
            <a:br>
              <a:rPr sz="8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na – Collin – NW Carrollto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45 kV Line Upgrades</a:t>
            </a:r>
            <a:br>
              <a:rPr sz="3200"/>
            </a:br>
            <a:br>
              <a:rPr sz="4000"/>
            </a:br>
            <a:br>
              <a:rPr sz="4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C – 03/08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6553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on of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34120" y="1295280"/>
            <a:ext cx="34290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grade 13.2 mile Anna – Collin 345 kV line from 2-795 kcmil ACSR to 959.6 kcmil ACSS/TW for 3200 Amp capa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:  Approx. $4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grade 19.3 mile Collin – NW Carrollton 345 kV line by raising towers for 2292 Amp capa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:  Approx $3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915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68640" y="302760"/>
            <a:ext cx="68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Analysis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t of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1676520"/>
            <a:ext cx="7864560" cy="41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a – Collin 345 kV Up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d as economic in ERCOT 2006 5-Year Transmission Stu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rmed as economic in this study saving $7.6 M in 2007-0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 of Valley 345 kV SPS exit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85120" y="302760"/>
            <a:ext cx="68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Analysis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t of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676520"/>
            <a:ext cx="800100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lin – NW Carrollton 345 kV Up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ufficient economic savings to warrant upgrade unless additional low-cost generation is added in northe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y one minor overload for one contingency in SSWG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be re-studied with revised DFW-area unit assumptions as part of Coal Plant Integration Stu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873680" y="277920"/>
            <a:ext cx="37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keholde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343160"/>
            <a:ext cx="778824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43496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akeholder review period for this project was held in October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were no dissenting comments on this package of projects and TXUED resolved all ques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3496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989440" y="277920"/>
            <a:ext cx="57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COT Support for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220860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RCOT supports the need for the Anna to Collin 345 kV line upgrade and will be requesting that it be endorsed by the Boar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4:40:33Z</dcterms:created>
  <dc:creator>James J. Teixeira</dc:creator>
  <dc:description/>
  <dc:language>en-US</dc:language>
  <cp:lastModifiedBy>dwoodfin</cp:lastModifiedBy>
  <dcterms:modified xsi:type="dcterms:W3CDTF">2007-03-05T16:10:02Z</dcterms:modified>
  <cp:revision>59</cp:revision>
  <dc:subject/>
  <dc:title>ERCOT Independent Review AEPTCC Western Region Project June 7, 2006 </dc:title>
</cp:coreProperties>
</file>