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B8C17D3-2644-440D-A081-74B8CADB4AD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March 8, 2007</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20</a:t>
            </a:r>
            <a:endParaRPr b="0" lang="en-US" sz="1800" spc="-1" strike="noStrike">
              <a:solidFill>
                <a:srgbClr val="000000"/>
              </a:solidFill>
              <a:latin typeface="Arial"/>
            </a:endParaRPr>
          </a:p>
        </p:txBody>
      </p:sp>
      <p:sp>
        <p:nvSpPr>
          <p:cNvPr id="10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0880" y="826920"/>
            <a:ext cx="8077320" cy="1515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20,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on Commercial Operations draft NPRR on Credit Monitoring, includ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previous decisions by CWG and TPTF from last yea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CRR forfeiture</a:t>
            </a:r>
            <a:endParaRPr b="0" lang="en-US" sz="1800" spc="-1" strike="noStrike">
              <a:solidFill>
                <a:srgbClr val="000000"/>
              </a:solidFill>
              <a:latin typeface="Arial"/>
            </a:endParaRPr>
          </a:p>
        </p:txBody>
      </p:sp>
      <p:sp>
        <p:nvSpPr>
          <p:cNvPr id="10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22</a:t>
            </a:r>
            <a:endParaRPr b="0" lang="en-US" sz="1800" spc="-1" strike="noStrike">
              <a:solidFill>
                <a:srgbClr val="000000"/>
              </a:solidFill>
              <a:latin typeface="Arial"/>
            </a:endParaRPr>
          </a:p>
        </p:txBody>
      </p:sp>
      <p:sp>
        <p:nvSpPr>
          <p:cNvPr id="10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80880" y="762120"/>
            <a:ext cx="8077320" cy="3807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22,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T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T Registration Approach</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eadiness Advisor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1 Detailed Pla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Syste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Credit Monitoring and Managemen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22, TPTF approved a draft NPRR on Credit Monitoring and Management.  The motion was approved by a ballot vote of 100% in favor, with two abstentions (GEUS and City of Garland).  All Market Segments, except Cooperatives and Independent Power Marketers, were present.</a:t>
            </a:r>
            <a:endParaRPr b="0" lang="en-US" sz="1800" spc="-1" strike="noStrike">
              <a:solidFill>
                <a:srgbClr val="000000"/>
              </a:solidFill>
              <a:latin typeface="Arial"/>
            </a:endParaRPr>
          </a:p>
        </p:txBody>
      </p:sp>
      <p:sp>
        <p:nvSpPr>
          <p:cNvPr id="11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22</a:t>
            </a:r>
            <a:endParaRPr b="0" lang="en-US" sz="1800" spc="-1" strike="noStrike">
              <a:solidFill>
                <a:srgbClr val="000000"/>
              </a:solidFill>
              <a:latin typeface="Arial"/>
            </a:endParaRPr>
          </a:p>
        </p:txBody>
      </p:sp>
      <p:sp>
        <p:nvSpPr>
          <p:cNvPr id="11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0880" y="814320"/>
            <a:ext cx="8077320" cy="3084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22,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Syste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stration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22, TPTF approved the MP Registration CSD with changes based upon all of the recommendations in the COMS Presentation, slide #6, presented at TPTF February 22, 2007 .  The motion was approved by a ballot vote of 100% in favor, with one abstentions (TXU).  All Market Segments, except Cooperatives,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Steps to Review CRR Detail Design Documents</a:t>
            </a:r>
            <a:endParaRPr b="0" lang="en-US" sz="1800" spc="-1" strike="noStrike">
              <a:solidFill>
                <a:srgbClr val="000000"/>
              </a:solidFill>
              <a:latin typeface="Arial"/>
            </a:endParaRPr>
          </a:p>
        </p:txBody>
      </p:sp>
      <p:sp>
        <p:nvSpPr>
          <p:cNvPr id="11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23</a:t>
            </a:r>
            <a:endParaRPr b="0" lang="en-US" sz="1800" spc="-1" strike="noStrike">
              <a:solidFill>
                <a:srgbClr val="000000"/>
              </a:solidFill>
              <a:latin typeface="Arial"/>
            </a:endParaRPr>
          </a:p>
        </p:txBody>
      </p:sp>
      <p:sp>
        <p:nvSpPr>
          <p:cNvPr id="12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80880" y="814320"/>
            <a:ext cx="8077320" cy="3783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medial Switching Action Plan whitepaper </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23, TPTF approved the Remedial Switching Action Plan whitepaper .  The motion was approved by a ballot vote of 100% in favor, with no abstentions.  All Market Segments, except Consumers,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Opportunity Outage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23, TPTF approved the concept as described in the Reliant Protocol Language for Opportunity Outages as modified at TPTF on Feb 23rd provided a NPRR will be submitted to TPTF.  The motion was approved by a ballot vote of 100% in favor, with no abstentions.  All Market Segments, except Consumers, were present.</a:t>
            </a:r>
            <a:endParaRPr b="0" lang="en-US" sz="1800" spc="-1" strike="noStrike">
              <a:solidFill>
                <a:srgbClr val="000000"/>
              </a:solidFill>
              <a:latin typeface="Arial"/>
            </a:endParaRPr>
          </a:p>
        </p:txBody>
      </p:sp>
      <p:sp>
        <p:nvSpPr>
          <p:cNvPr id="12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23</a:t>
            </a:r>
            <a:endParaRPr b="0" lang="en-US" sz="1800" spc="-1" strike="noStrike">
              <a:solidFill>
                <a:srgbClr val="000000"/>
              </a:solidFill>
              <a:latin typeface="Arial"/>
            </a:endParaRPr>
          </a:p>
        </p:txBody>
      </p:sp>
      <p:sp>
        <p:nvSpPr>
          <p:cNvPr id="12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80880" y="814320"/>
            <a:ext cx="8077320" cy="3893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issues regarding DC Tie, Controllable Load Resourc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sues with providing Responsive Reserve (RRS) over DC Ti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should Controllable Load Resources (CLRs) be deployed for R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pose of the Scheduled Power Consumption Snapsho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intent of providing max deployment time and max weekly energy for CL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uld a Load be able to switch between Load Resource and CLR from hour to hou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Rs providing Non-Spin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and consideration of draft NPRR: Pricing during EECP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3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80880" y="792000"/>
            <a:ext cx="8610840" cy="1282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dnesday, February 28 and Thursday, March 1 </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March 5 through Wednesday, March 7</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rsday, March 22 and Friday, March 23</a:t>
            </a:r>
            <a:endParaRPr b="0" lang="en-US" sz="1800" spc="-1" strike="noStrike">
              <a:solidFill>
                <a:srgbClr val="000000"/>
              </a:solidFill>
              <a:latin typeface="Arial"/>
            </a:endParaRPr>
          </a:p>
        </p:txBody>
      </p:sp>
      <p:sp>
        <p:nvSpPr>
          <p:cNvPr id="13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0880" y="766800"/>
            <a:ext cx="8610840" cy="4383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February 28 and March 1, we plan to discus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EM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and consideration of draft NPRR on Generation Subsystem Changes to Incorporate Approved Whitepapers (Possible Vo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EMS Requirements Documen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on Opportunity Outage</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rch 5-7, we plan to discus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Optimization Runtime Option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 on WGRs and Capacity Short Calculation</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b Clarification NPRR</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 on Removal of Pseudo Resource</a:t>
            </a:r>
            <a:endParaRPr b="0" lang="en-US" sz="1800" spc="-1" strike="noStrike">
              <a:solidFill>
                <a:srgbClr val="000000"/>
              </a:solidFill>
              <a:latin typeface="Arial"/>
            </a:endParaRPr>
          </a:p>
        </p:txBody>
      </p:sp>
      <p:sp>
        <p:nvSpPr>
          <p:cNvPr id="14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
          <p:cNvSpPr/>
          <p:nvPr/>
        </p:nvSpPr>
        <p:spPr>
          <a:xfrm>
            <a:off x="380880" y="914400"/>
            <a:ext cx="8458200" cy="3759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12, TPTF approved Outage Scheduler Requirements contingent upon incorporation of proposed changes documented in comments disposition spreadsheet as modified by TPTF on February 12, 2007and Remedial Switching Action white paper.  The motion was approved by a ballot vote of 100% in favor, with two abstentions (CenterPoint and Exelon).  All Market Segments, except Independent Generators and Consumer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12, TPTF approved the MMS CSD as modified by TPTF.  The motion was approved by a ballot vote of 100% in favor, with no abstentions.  All Market Segments, except Cooperatives, Independent Generators and Consumer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22, TPTF approved the MP Registration CSD with changes based upon all of the recommendations in the COMS Presentation, slide #6, presented at TPTF February 22, 2007 .  The motion was approved by a ballot vote of 100% in favor, with one abstentions (TXU).  All Market Segments, except Cooperatives, we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5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
          <p:cNvSpPr/>
          <p:nvPr/>
        </p:nvSpPr>
        <p:spPr>
          <a:xfrm>
            <a:off x="380880" y="762120"/>
            <a:ext cx="8458200" cy="3640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quest that TAC approve the milestones</a:t>
            </a:r>
            <a:endParaRPr b="0" lang="en-US" sz="18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proval of Business Requirements for Market Management System Outage Scheduler</a:t>
            </a:r>
            <a:endParaRPr b="0" lang="en-US" sz="18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proval of Conceptual System Design for Market Management System</a:t>
            </a:r>
            <a:endParaRPr b="0" lang="en-US" sz="18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proval of Conceptual System Design for Commercial Systems – MP Registration</a:t>
            </a:r>
            <a:endParaRPr b="0" lang="en-US" sz="1800" spc="-1" strike="noStrike">
              <a:solidFill>
                <a:srgbClr val="000000"/>
              </a:solidFill>
              <a:latin typeface="Arial"/>
            </a:endParaRPr>
          </a:p>
          <a:p>
            <a:pPr>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6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380880" y="1397160"/>
          <a:ext cx="8305920" cy="3443040"/>
        </p:xfrm>
        <a:graphic>
          <a:graphicData uri="http://schemas.openxmlformats.org/drawingml/2006/table">
            <a:tbl>
              <a:tblPr/>
              <a:tblGrid>
                <a:gridCol w="2440080"/>
                <a:gridCol w="4646520"/>
                <a:gridCol w="1219320"/>
              </a:tblGrid>
              <a:tr h="310320">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a:t>
                      </a:r>
                      <a:endParaRPr b="0" lang="en-US" sz="14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rpose</a:t>
                      </a:r>
                      <a:endParaRPr b="0" lang="en-US" sz="14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510840">
                <a:tc>
                  <a:txBody>
                    <a:bodyPr lIns="90000" rIns="90000" tIns="46800" bIns="46800" anchor="ctr">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eeting Summary</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activities</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522000">
                <a:tc>
                  <a:txBody>
                    <a:bodyPr lIns="90000" rIns="90000" tIns="46800" bIns="46800" anchor="ctr">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Next Meetings</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coming activities</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10060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pproval of Milestones</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AC approval of Milestone – Business Requirements Complete for Market Management System Outage Scheduler</a:t>
                      </a:r>
                      <a:endParaRPr b="0" lang="en-US" sz="1400" spc="-1" strike="noStrike">
                        <a:solidFill>
                          <a:srgbClr val="000000"/>
                        </a:solidFill>
                        <a:latin typeface="Arial"/>
                      </a:endParaRPr>
                    </a:p>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AC approval of Milestone – Conceptual System Design Complete for Market Management System</a:t>
                      </a:r>
                      <a:endParaRPr b="0" lang="en-US" sz="1400" spc="-1" strike="noStrike">
                        <a:solidFill>
                          <a:srgbClr val="000000"/>
                        </a:solidFill>
                        <a:latin typeface="Arial"/>
                      </a:endParaRPr>
                    </a:p>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AC approval of Milestone – Conceptual System Design Complete for Commercial Systems – MP Registration</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Vote</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826920"/>
            <a:ext cx="8077320" cy="3022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s February 5-7, February 12, February 20, and February 22-23</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5,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ergy Management System (EMS) Impact Statu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rmination of Generation to be Dispatched in Security Constrained Economic Dispatch</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medial Switching Action White Paper</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Definition of Outag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Draft NPRR - Generation Subsystem Changes to Incorporate Approved White Papers</a:t>
            </a:r>
            <a:endParaRPr b="0" lang="en-US" sz="18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6</a:t>
            </a:r>
            <a:endParaRPr b="0" lang="en-US" sz="1800" spc="-1" strike="noStrike">
              <a:solidFill>
                <a:srgbClr val="000000"/>
              </a:solidFill>
              <a:latin typeface="Arial"/>
            </a:endParaRPr>
          </a:p>
        </p:txBody>
      </p:sp>
      <p:sp>
        <p:nvSpPr>
          <p:cNvPr id="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826920"/>
            <a:ext cx="8077320" cy="3512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6,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ternate Wind Power Forecasting Methodolog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 Wind Power Forecast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mmended Language for Opportunity Outag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I for CRR System</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Optimization Run Time Option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eadiness Advisor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T Qualification Approach</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ERCOT Comments on NPRR037</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Outage Scheduler Requirements</a:t>
            </a:r>
            <a:endParaRPr b="0" lang="en-US" sz="1800" spc="-1" strike="noStrike">
              <a:solidFill>
                <a:srgbClr val="000000"/>
              </a:solidFill>
              <a:latin typeface="Arial"/>
            </a:endParaRPr>
          </a:p>
        </p:txBody>
      </p:sp>
      <p:sp>
        <p:nvSpPr>
          <p:cNvPr id="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7</a:t>
            </a:r>
            <a:endParaRPr b="0" lang="en-US" sz="1800" spc="-1" strike="noStrike">
              <a:solidFill>
                <a:srgbClr val="000000"/>
              </a:solidFill>
              <a:latin typeface="Arial"/>
            </a:endParaRPr>
          </a:p>
        </p:txBody>
      </p:sp>
      <p:sp>
        <p:nvSpPr>
          <p:cNvPr id="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0880" y="826920"/>
            <a:ext cx="8077320" cy="4482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7,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Review of NPRRs to align with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 4, Day Ahead Operation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7, TPTF approved the clean up NPRR for Commercial Systems Section 4, as modified by TPTF, with the exception of Section 4.4.10. The motion was approved by a ballot vote of 100% in favor, with four abstentions (City of Dallas, City of Allen, City of Eastland, and Town of Flower Mound).  All Market Segments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 5, Transmission Security Analysis and Reliability Unit Commitmen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7, TPTF approved the clean up NPRR for Commercial Systems Section 5, as modified by TPTF. The motion was approved by a ballot vote of 100% in favor, with two abstentions (City of Allen and City of Eastland).  All Market Segments, except Independent Generators and Independent Power Marketers, were present.</a:t>
            </a:r>
            <a:endParaRPr b="0" lang="en-US" sz="1800" spc="-1" strike="noStrike">
              <a:solidFill>
                <a:srgbClr val="000000"/>
              </a:solidFill>
              <a:latin typeface="Arial"/>
            </a:endParaRPr>
          </a:p>
        </p:txBody>
      </p:sp>
      <p:sp>
        <p:nvSpPr>
          <p:cNvPr id="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7</a:t>
            </a:r>
            <a:endParaRPr b="0" lang="en-US" sz="1800" spc="-1" strike="noStrike">
              <a:solidFill>
                <a:srgbClr val="000000"/>
              </a:solidFill>
              <a:latin typeface="Arial"/>
            </a:endParaRPr>
          </a:p>
        </p:txBody>
      </p:sp>
      <p:sp>
        <p:nvSpPr>
          <p:cNvPr id="7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80880" y="826920"/>
            <a:ext cx="8077320" cy="4971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7,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Review of NPRRs to align with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 6, Adjustment Period and Real-Time Operation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7, TPTF approved the clean up NPRR for Commercial Systems Section 6. The motion was approved by a ballot vote of 100% in favor, with three abstentions (CenterPoint, City of Allen, and City of Eastland).  All Market Segments, except Independent Generators,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 7, Congestion Revenue Righ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7, TPTF approved the clean up NPRR for Commercial Systems Section 7, as modified by TPTF. The motion was approved by a ballot vote of 100% in favor, with two abstentions (City of Dallas and Town of Flower Mound).  All Market Segments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Draft NPRR for Credit Monitor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ided to schedule a special meeting, on February 20) to address questions in more detail.</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Update on Registration CSD</a:t>
            </a:r>
            <a:endParaRPr b="0" lang="en-US" sz="1800" spc="-1" strike="noStrike">
              <a:solidFill>
                <a:srgbClr val="000000"/>
              </a:solidFill>
              <a:latin typeface="Arial"/>
            </a:endParaRPr>
          </a:p>
        </p:txBody>
      </p:sp>
      <p:sp>
        <p:nvSpPr>
          <p:cNvPr id="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7</a:t>
            </a:r>
            <a:endParaRPr b="0" lang="en-US" sz="1800" spc="-1" strike="noStrike">
              <a:solidFill>
                <a:srgbClr val="000000"/>
              </a:solidFill>
              <a:latin typeface="Arial"/>
            </a:endParaRPr>
          </a:p>
        </p:txBody>
      </p:sp>
      <p:sp>
        <p:nvSpPr>
          <p:cNvPr id="7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80880" y="826920"/>
            <a:ext cx="8077320" cy="34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7,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A Review disposition of comments for MP API Docs and Nodal Sandbox</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A update on integration Activiti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35, Net Meter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7, TPTF approved ERCOT Staff’s clarifications in their comments on NPRR 035. The motion was approved by a ballot vote of 88.9% in favor, with three abstentions (City of Garland, City of Allen, and City of Eastland).  All Market Segments, except Independent Generators and Cooperative,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 Removal of a Pseudo Resourc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12</a:t>
            </a:r>
            <a:endParaRPr b="0" lang="en-US" sz="1800" spc="-1" strike="noStrike">
              <a:solidFill>
                <a:srgbClr val="000000"/>
              </a:solidFill>
              <a:latin typeface="Arial"/>
            </a:endParaRPr>
          </a:p>
        </p:txBody>
      </p:sp>
      <p:sp>
        <p:nvSpPr>
          <p:cNvPr id="8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80880" y="826920"/>
            <a:ext cx="8077320" cy="5266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12,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and Consider Possible Approval of Market Management System (MMS) Outage Scheduler Requirements Specific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12, TPTF approved Outage Scheduler Requirements contingent upon incorporation of proposed changes documented in comments disposition spreadsheet as modified by TPTF on February 12, 2007 and by Remedial Switching Action white paper.  The motion was approved by a ballot vote of 100% in favor, with two abstentions (CenterPoint and Exelon).  All Market Segments, except Independent Generators and Consumers,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MMS Draft NPRR for Confirmation of Trad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MMS Draft NPRR for Clarification on Re-submittal of AS Offers for SASM</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12, TPTF approved a motion to endorse the draft NPRR on resubmittal of AS Offers in SASM as modified by TPTF.  The motion was approved by a ballot vote of 87.5% in favor, with no abstentions.  All Market Segments, except Cooperatives, Independent Generators and Consumers,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February 12</a:t>
            </a:r>
            <a:endParaRPr b="0" lang="en-US" sz="1800" spc="-1" strike="noStrike">
              <a:solidFill>
                <a:srgbClr val="000000"/>
              </a:solidFill>
              <a:latin typeface="Arial"/>
            </a:endParaRPr>
          </a:p>
        </p:txBody>
      </p:sp>
      <p:sp>
        <p:nvSpPr>
          <p:cNvPr id="9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0880" y="826920"/>
            <a:ext cx="8077320" cy="1895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12,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and Consider Possible Approval of MMS Conceptual System Desig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February 12, TPTF approved the MMS CSD as modified by TPTF.  The motion was approved by a ballot vote of 100% in favor, with no abstentions.  All Market Segments, except Cooperatives, Independent Generators and Consumers, were present.</a:t>
            </a:r>
            <a:endParaRPr b="0" lang="en-US" sz="1800" spc="-1" strike="noStrike">
              <a:solidFill>
                <a:srgbClr val="000000"/>
              </a:solidFill>
              <a:latin typeface="Arial"/>
            </a:endParaRPr>
          </a:p>
        </p:txBody>
      </p:sp>
      <p:sp>
        <p:nvSpPr>
          <p:cNvPr id="9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7-02-28T23:39:17Z</dcterms:modified>
  <cp:revision>353</cp:revision>
  <dc:subject/>
  <dc:title>TAC Update</dc:title>
</cp:coreProperties>
</file>