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1203-62F0-4C5A-B79A-DB4AC66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A3FB-289A-47B4-8BFE-42BAD05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93AF-3D27-427F-A18A-F0E2CE4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C40C-86A6-45C9-A9F9-EE310A30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F042-5878-4F7D-A5BC-806CD379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8431-2A61-4E2F-ADB0-8977CAAE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0EBC-44F9-4426-AAD0-B021F521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4687-0F20-475A-A8E6-91E91BE7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6258-E209-43DA-A777-C53E28C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F958-C728-461C-8911-5CCEA93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D83D-C421-4E15-8AAE-405B96A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8348-4576-42F0-AAC2-F780F9E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4C8-455B-4362-8289-C15D6376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SLA Workshop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Black"/>
              </a:rPr>
              <a:t>th,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SLA Workshop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 will be expanded to include more than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L, MarkeTrak, Data Extracts &amp; Reporting to be added – target date of Jun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degradation/performance met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led to the conclusion that visibility to outages in retail areas other than transaction processing were desired, not another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ident log including TML, MarkeTrak, and other retail services will be provided to RMS month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monthly in-depth review of outages at Texas Data Transpor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se transaction processing availability target to 99.9% on June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s review provided by ERCOT Retail Client Servi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new communication guidelines, will be reviewed by CCWG &amp; 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3-05T20:19:59Z</dcterms:modified>
  <cp:revision>57</cp:revision>
  <dc:subject/>
  <dc:title>Instructions</dc:title>
</cp:coreProperties>
</file>