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5EA59-CDB1-4AA2-AD21-E3B213D1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93960"/>
            <a:ext cx="822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0FCC1-4E86-479F-BB3F-F9469F0A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3004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9396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9396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1AA7D-563D-4DAA-B42A-28D23BB9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264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30040"/>
            <a:ext cx="264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30040"/>
            <a:ext cx="264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93960"/>
            <a:ext cx="264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93960"/>
            <a:ext cx="264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93960"/>
            <a:ext cx="264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5279-CB6E-4B8D-9001-EAFE3184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6D56-194B-4EBF-9111-7B58078C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130040"/>
            <a:ext cx="822960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1FD1-9C24-4DC7-A5A8-4146E956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F656-C375-45E2-B8C7-61D18A4C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40158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130040"/>
            <a:ext cx="40158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6809-C535-401B-8E32-325ADE0E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B94B-B66D-427D-9A4F-8BE7FE29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55E2-0366-45B9-95E5-29CCD1D3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130040"/>
            <a:ext cx="40158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9396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0F46-1258-4B3E-8642-0891E4DE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30040"/>
            <a:ext cx="822960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CFA1-35AC-4624-B918-32551187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40158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13004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9396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2CFE-76B0-4CB4-A8B5-C912CBC1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3004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93960"/>
            <a:ext cx="822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D20E-6ED6-42D1-B4A5-674B6C57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93960"/>
            <a:ext cx="822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9002-950C-4893-9C0E-8145E905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3004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9396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9396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D670-D3BC-47AF-97FD-DA2B629C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264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130040"/>
            <a:ext cx="264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130040"/>
            <a:ext cx="264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93960"/>
            <a:ext cx="264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93960"/>
            <a:ext cx="264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93960"/>
            <a:ext cx="264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E891-C7A7-44BD-8FC7-2D3DA391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2A488-A3AD-4F30-9273-53F57AF0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40158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30040"/>
            <a:ext cx="40158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EAF84-AE4B-43E5-9F6E-E73C517D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7633-E7EA-4200-A684-245F9350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C4AA-23E9-40D2-ACD4-894A09A7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30040"/>
            <a:ext cx="40158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9396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07B6-F0D5-4677-98C4-0FAA481A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40158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3004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9396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57D4-F6BF-40E0-A740-A50B6D29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30040"/>
            <a:ext cx="40158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93960"/>
            <a:ext cx="8229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309E-0DFA-4AA1-A95E-05E77815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7662-79B4-4D0B-84A0-B059977AB1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130040"/>
            <a:ext cx="8229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2240" cy="5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D20B-E074-47E1-9F96-BB9C9E6B37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924680" y="6172200"/>
            <a:ext cx="1092240" cy="5475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view of Regulation Procurement Quantities in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622760"/>
            <a:ext cx="60199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RCOT Technical Advisory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rch 8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an L. J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Testing of Percentile Method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240" y="4987800"/>
            <a:ext cx="296964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le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Reduction @ Actual Clearing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.3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1414440"/>
            <a:ext cx="4395600" cy="3495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32200" y="1411200"/>
            <a:ext cx="4170600" cy="3505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04920" y="4973760"/>
            <a:ext cx="296964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le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Reduction @ Actual Clearing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.3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Testing of Adjusted STDEV Method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ovem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080" y="4987800"/>
            <a:ext cx="2358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le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12120" y="4973760"/>
            <a:ext cx="2358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le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4280" y="1252440"/>
            <a:ext cx="4419720" cy="3495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53080" y="1247760"/>
            <a:ext cx="4049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Testing of Adjusted STDEV Method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em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0280" y="1254240"/>
            <a:ext cx="4505400" cy="3495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795920" y="1249200"/>
            <a:ext cx="4114800" cy="3505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70080" y="4987800"/>
            <a:ext cx="2358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le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2120" y="4973760"/>
            <a:ext cx="2358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le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Regulation Proc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7280" y="944640"/>
            <a:ext cx="79740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’s procedures for determining the quantities of Regulation Up and Down are specified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RCOT Methodologies for Determining Ancillary Service 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gulation Procurement Methodology has the following reliability 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rranging for 2.5 standard deviations times the historic average usage for each hours requirement; ERCOT provides the mathematical expectation that sufficient regulation will be available 98.8% of all period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quirement . . . implies that 1.2% of every month . . . ERCOT expects to exhaust available regulation servic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6 Monthly Reg Up Depletion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5200" y="946080"/>
            <a:ext cx="7888320" cy="5394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65240" y="1784520"/>
            <a:ext cx="7235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6 Monthly Reg Down Depletion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2920" y="857160"/>
            <a:ext cx="8018280" cy="5483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2320" y="1727280"/>
            <a:ext cx="73598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6 Hourly Reg Up Depletion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1640" y="942840"/>
            <a:ext cx="8007480" cy="5475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668760" y="1897200"/>
            <a:ext cx="718920" cy="296640"/>
          </a:xfrm>
          <a:prstGeom prst="borderCallout1">
            <a:avLst>
              <a:gd name="adj1" fmla="val 18750"/>
              <a:gd name="adj2" fmla="val -8333"/>
              <a:gd name="adj3" fmla="val 71125"/>
              <a:gd name="adj4" fmla="val -3598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4560" y="2211480"/>
            <a:ext cx="719280" cy="296640"/>
          </a:xfrm>
          <a:prstGeom prst="borderCallout1">
            <a:avLst>
              <a:gd name="adj1" fmla="val 18750"/>
              <a:gd name="adj2" fmla="val -8333"/>
              <a:gd name="adj3" fmla="val 106953"/>
              <a:gd name="adj4" fmla="val -3730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75480" y="2751120"/>
            <a:ext cx="1042920" cy="522360"/>
          </a:xfrm>
          <a:prstGeom prst="borderCallout1">
            <a:avLst>
              <a:gd name="adj1" fmla="val 18750"/>
              <a:gd name="adj2" fmla="val -8333"/>
              <a:gd name="adj3" fmla="val 561092"/>
              <a:gd name="adj4" fmla="val -36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exhaustion in any month for this h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206360" y="4816080"/>
            <a:ext cx="6694560" cy="9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6 Hourly Reg Down Depletion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90480" y="987480"/>
            <a:ext cx="7910640" cy="5408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V="1">
            <a:off x="1206360" y="4816080"/>
            <a:ext cx="6597720" cy="9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6, ERCOT Regulation exhaustion rate for RegUp and RegDn each averaged around 0.5%, which is significantly less than the reliability objective of 1.2%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with the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w data distribution is not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thodology manipulates the raw data through steps of averaging and grouping that distort the statistic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ouping of hours results in the calculated requirement for the highest hour in the group setting the quantity for the enti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e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98.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centile method using the same historical data with no grouping among hours appears to produce results that are more efficient and closer to the reliability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djusted 2.5 standard deviation method using raw, unadjusted 1-minute data for Regulation Up and Down and eliminating the minutes with zero deployment with no grouping among hours produces results that are very similar to the percentile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Testing of Percentile Method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0000" y="1411200"/>
            <a:ext cx="4449600" cy="3495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748040" y="1411200"/>
            <a:ext cx="4276800" cy="350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63240" y="4987800"/>
            <a:ext cx="296964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le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Reduction @ Actual Clearing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.2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4920" y="4973760"/>
            <a:ext cx="296964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le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Reduction @ Actual Clearing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0.8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20:07:36Z</dcterms:created>
  <dc:creator>djones</dc:creator>
  <dc:description/>
  <dc:language>en-US</dc:language>
  <cp:lastModifiedBy>djones</cp:lastModifiedBy>
  <dcterms:modified xsi:type="dcterms:W3CDTF">2007-02-28T23:46:14Z</dcterms:modified>
  <cp:revision>70</cp:revision>
  <dc:subject/>
  <dc:title>Market Monitoring and Market Design</dc:title>
</cp:coreProperties>
</file>