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C80-83D3-4034-BD70-ADBFAAF1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F37-60D0-463A-8832-B647E4AB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87F-C200-4DFE-B7E7-D3F949EC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AB1-F35E-4689-BD8A-53AB7C39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BEE1-78F9-43A8-82BB-B6464639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F2C5-5728-47A3-B943-DE355878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B8AF-9BEC-4D04-9F4A-357DCF70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A48-2DD3-432A-9972-040060E4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C895-7A1A-46D0-954C-BDD0A66D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F384-AE6E-447B-9CCC-1622F607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71E6-5399-4965-BF2C-1597DD54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C1D-EF59-4AAC-9CFA-AC05E351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78C0-6D31-4B80-91E4-5095C8D1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1CB3-4122-408C-B9EC-42B1C4F1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B8DA-DE39-4E0E-97E7-561B5D94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3B32-EA9B-4B05-984B-4604F1E1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121C-7CDD-4D30-892B-0765C7B1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00A-6089-4186-A7EF-5AD4550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467-81DF-41C5-B5A6-4B020CD6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E9E-412B-4BBE-A70A-DF2998EC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FD4-CAC6-41C2-B831-A2B7C477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CDE-FD16-49DA-BAE1-D84EE9D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1B0-CAF5-44FE-8797-4500AFD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77F-83AC-4F85-8C84-A32DB789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136F-7681-41E9-8023-F1EE3092CC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245A-01B1-4424-9E42-6E42087B0F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nerc/index.html" TargetMode="External"/><Relationship Id="rId3" Type="http://schemas.openxmlformats.org/officeDocument/2006/relationships/hyperlink" Target="mailto:tshiekhi@ercot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ch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DB98-2305-4211-830F-C4ECDFB0C0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 Regist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 draft Regional Registration List being developed for entities in 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– Regional Entities submit final draft Regional Registration Lists to NE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posts proposed registration li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discusses proposed registration lists with industry trade associations and 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– Registered Entities notified of proposed reg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stered Entities have 21 days from notification to file written objection with NERC Director of Compli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Director of Compliance rules on objections; Registered Entity has 21 days to file appeal with NERC Compliance Committ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– NERC Compliance Committee decides appe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 – NERC to provide registration list to FE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59C-0803-43CE-B834-D84AA61C8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 Regist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datory compliance with NERC-approved reliability standards expected to begin in June/July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list of ERCOT Registered Entities posted 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ercot.com/mktrules/compliance/nerc/index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list is a work-in-progress and is not fi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s can be directed to ERCOT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ny Shiekhi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512) 225-713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shiekhi@ercot.com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DF9-D7A1-4E80-BBAD-948DEEE47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 performance improved over recent months’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nuary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anuary 2007:  137.95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anuary 2006:  130.39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ebruary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anuary 2007:  142.65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ebruary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anuary 2006:  126.48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cores for January indicate 34 QSEs passed / 2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76F-D5A2-4965-9C74-F18208F73C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D6A-299B-4793-A674-F94F62CCF6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39F-DAFE-4263-8E9C-28BE0399F8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62D-A683-4D9C-8444-14248F91F2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CEB-49E4-4F11-AA4B-8F8F328F0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nuary 2007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9C3-041E-4449-9A20-2EF2607C2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19D-992B-459C-A918-75D14F23C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D57-5451-491A-9C28-0855CFD17F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. Grimm</cp:lastModifiedBy>
  <dcterms:modified xsi:type="dcterms:W3CDTF">2007-03-06T18:48:53Z</dcterms:modified>
  <cp:revision>317</cp:revision>
  <dc:subject/>
  <dc:title>PRR 525 Compliance Analysis</dc:title>
</cp:coreProperties>
</file>