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6F0D-F159-446F-AF72-1C46EC61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B87D-D872-4979-B6D6-330F0F71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4A07-02D8-497C-A153-F3C22471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A464-C303-4D12-B51E-6F9679EC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3EEB-6BF0-4949-95C9-0AAA9A1F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0C12-6375-4A6F-B926-D75FFD15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4FF0-4AE6-4D79-A6CD-BEA2BB2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9955-C070-4803-89FA-F452A7B0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7E7C-16C5-469F-8810-21F258E1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D2CA-6B0F-4F12-9FEB-4075820D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D60D-BC25-4E9B-AA56-F157AB1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0B83-4A6F-4768-9D80-86E8BAAF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8BF2-884B-4F2F-B66D-780D3EF16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tail Market IT Services Upda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n Hinsle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O, Vice Presid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ch 8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rvice Availability Histor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transaction processing service avai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 – 96.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– 97.9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 – 99.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– Target 99.9% after Jun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SLA in place since June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workshop to update SLA and raise availability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SLA to include web &amp; data services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L, MarkeTrak, Data Extracts &amp; Reports to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monthly reports and updates to 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pth analysis performed at working group level (TDT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committed to open communication of issues and their re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rastructure &amp; Architecture Improv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66680"/>
          <a:ext cx="9144000" cy="53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3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295280" y="1676520"/>
            <a:ext cx="1981440" cy="358128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9880" y="76212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-7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/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209680"/>
            <a:ext cx="2057400" cy="30481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685800"/>
            <a:ext cx="220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-745 Phase I and recent architectural change to eliminate PaperFree failures and duplicate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2/06 to pres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905120"/>
            <a:ext cx="2210040" cy="320040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76212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Integration Replacement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2/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5486400"/>
            <a:ext cx="7543800" cy="7621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1520" y="6340320"/>
            <a:ext cx="405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 to highly available AIX system from HP-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te 2007 or Early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6248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cent Issues and Actions Take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erFree stability probl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rchitecture change to combine process and file server functions onto the same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to date have been pos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e trans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rchitecture change in PaperFree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changes to capture and correct duplicate transactions and keep them from impacting Market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 transaction number of incidents and volume of duplicate transactions generated has dec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uture Pla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Expec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June 2007 - 99.9% transaction processing availability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service levels and reporting for all aspects of IT services to retail market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tructure &amp;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PaperFree architecture change to resolve stability and PaperFree duplicates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move of database servers to highly available AIX platform will produce the same result as SCR-745 Phase III recomm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P to be issued to highly qualified firms to perform detailed analysis of the applications, architecture, infrastructure, processes, and long term sustainability of the retail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Com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ment to provide accurate reporting of issues and respond to market participa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7-03-05T20:21:50Z</dcterms:modified>
  <cp:revision>54</cp:revision>
  <dc:subject/>
  <dc:title>Instructions</dc:title>
</cp:coreProperties>
</file>