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AF4-16F5-4C02-9C2C-1C2EB662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BA3-B813-43A6-A28F-401B3464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1E5-BD11-4611-BC3B-EF9F38ED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4B7-DEFF-412B-BFFC-94E007BA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32B-8D25-4128-9C63-161CC61D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53F-3816-4F36-8A89-7B005F2F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6BD-D15C-41EF-AD28-409AE217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B3F-F82B-48BC-B5DE-52745B3E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7D2-78FC-48AB-A552-EEC03CAD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8A1-8B25-4FB0-9C33-6FA5183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3B0-5FE4-41B0-9F0E-3DC925BA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0DC-9F79-4672-B604-1AC046D8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70000" contrast="-70000"/>
          </a:blip>
          <a:srcRect l="0" t="0" r="16440" b="0"/>
          <a:stretch/>
        </p:blipFill>
        <p:spPr>
          <a:xfrm>
            <a:off x="0" y="0"/>
            <a:ext cx="4648320" cy="3807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3757680"/>
            <a:ext cx="4648320" cy="31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B79B-7282-49E7-8BF0-8B33708CF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S Report to TA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8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art Ne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0, 2007  and February 8, 2007</a:t>
            </a:r>
            <a:br>
              <a:rPr sz="3600"/>
            </a:b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uary 20, 2007 event lasted from 11:01 to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front caused load to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 dipped to 2246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resolved in one hour by arranging emergency imports over North and East DC ties, OOMing on-line six gas turbines and market response during EECP 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 8, 2007 event lasted from 12:08 to 12: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2:01 a unit carrying 345 MW tri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3 MW Responsive Reserve automatically deployed, dropping ARR to 2199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resolved within 30 minutes by OOMing on-line two gas turbines and market response during EECP 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ember 22, 2006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NERC Disturbance Control Standard 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2:53 and 3:00 five generating units either tripped or ran-back, totaling a loss of 1900 M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frequency reached a low point of 59.691 Hz at 2:5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LaaRs did not trip automatically.  Some LaaRs were deployed manually by ERCOT at 2:5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recovered to 60 HZ at 3: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CP Step 1 was declared at 3:03 when reserves dropped below 23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aRs restored at 3:48 after frequency stab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CP ended at 4:07 when reserves were re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MW Output Wind Farms Combined – EECP 2/24/200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08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 Behavior of wind farms geographically clo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838080"/>
            <a:ext cx="7924680" cy="5419800"/>
            <a:chOff x="457200" y="838080"/>
            <a:chExt cx="7924680" cy="541980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3124080" y="914400"/>
              <a:ext cx="5105520" cy="33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457200" y="838080"/>
              <a:ext cx="7924680" cy="541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48640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800600" y="2361960"/>
              <a:ext cx="7621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590920" y="22856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343400" y="2361960"/>
              <a:ext cx="129528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038480" y="762120"/>
            <a:ext cx="5105520" cy="3387600"/>
            <a:chOff x="4038480" y="762120"/>
            <a:chExt cx="5105520" cy="33876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4038480" y="762120"/>
              <a:ext cx="5105520" cy="33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400800" y="20574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graphically Distributed Wind Farm Tripp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076960" cy="3962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19720" y="2895480"/>
            <a:ext cx="1371600" cy="320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3124080"/>
            <a:ext cx="129528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809880"/>
            <a:ext cx="1905120" cy="2438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257800" y="2209320"/>
            <a:ext cx="121932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876920" y="2133360"/>
            <a:ext cx="16002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724280" y="2209680"/>
            <a:ext cx="175284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724280" y="2133360"/>
            <a:ext cx="182880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942880" y="2057400"/>
            <a:ext cx="152280" cy="228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714280" y="2362320"/>
            <a:ext cx="152280" cy="228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81080" y="2133360"/>
            <a:ext cx="403884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2133360"/>
            <a:ext cx="4419720" cy="32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514600" y="2514240"/>
            <a:ext cx="335268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2362320"/>
            <a:ext cx="1522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657600" y="2437920"/>
            <a:ext cx="243828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590920"/>
            <a:ext cx="15264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00400" y="2666520"/>
            <a:ext cx="2743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 Work Groups Analyzing Ev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22, 2006 and February 24, 2007 events require further stu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staff does not have expertise in all fields needed fo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staff does not have detailed knowledge of TO and Generation protec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Staff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ialit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ystem Stabiliz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 Discount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S Deployment on January 16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CP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WG Analyzing EECP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ad hoc wor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d PRR7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d motion concerning PRR7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ed response to PR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to develop cost effective alternatives to PRR7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 System Stabiliz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requires new units to have P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as potential compliance iss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 monitored on critica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G will develop PSS testing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C requires periodic PSS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Operations must develop PSS l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erve Discount Reduction Fa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to reduce factor from 7% to 4% between October and M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 opted not to reduce factor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not yielding expected difference in capacity under al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factor would only be used for a few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 will review the Reserve Discount Factor again at its September 2007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RS Deployment – January 16, 200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tage of distribution feeder at ERCOT in 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mary frequency sensing device had no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MS triggers RRS below 59.91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ll Deployment of RRS (1150 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eed power restored (2 sec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MS recalls RRS when frequency is above 59.97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44053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 and Next Ste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ccurrence in 3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has multiple frequency source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fail-over” mechanism for loss of primary frequency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50021 will address using multiple sources of frequency to avoid future occur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ECP Events December 2006 – February 2007</a:t>
            </a:r>
            <a:br>
              <a:rPr sz="2400"/>
            </a:b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mber 13, 22 and 23, January 20, February 8 and February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ggered when Adjusted Responsive Reserve (ARR) dropped below 2300 M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e of the events required firm load she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ruptible load was shed December 22, 200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NERC Disturbance Control Standard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t 1500MW of wind power production on February 24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ember 13 and 23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red during typical winter peak periods (morning and ev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13, 2006  event lasted from 6:52 to 7: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units totaling 786 MW tripped between 4:20 and 6: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 dipped to 2178 MW during morning load pick-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quickly resolved in 24 minutes by market in response to EE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23, 2006 event lasted from 18:15 to 20: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ing load exceeded forecast by about 1000 MW (34,000 actual vs 33,000 forec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 dipped to 2206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resolved in 2½hours by increasing RMR unit output, OOMing on off-line gas turbines and market response to EECP Step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4:38:27Z</dcterms:created>
  <dc:creator>sschneid</dc:creator>
  <dc:description/>
  <dc:language>en-US</dc:language>
  <cp:lastModifiedBy>LCRA Employee</cp:lastModifiedBy>
  <dcterms:modified xsi:type="dcterms:W3CDTF">2007-03-05T19:55:33Z</dcterms:modified>
  <cp:revision>11</cp:revision>
  <dc:subject/>
  <dc:title>Slide 1</dc:title>
</cp:coreProperties>
</file>