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61B-387F-4FEA-971B-B346FE43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7C9-8725-4132-A965-5DB5253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7F9-E14C-47E6-B446-77CCD4ED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2A3-DF06-4BFB-976F-9AA587F8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747-4061-48F1-8A4A-9D6EA02A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399-D34E-49B5-AF35-1F95D8E9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72D-1C3A-4F56-9868-E94EC03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35B-6765-4E86-92D6-793C779C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796-9223-4DA2-8CF8-3D26A24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2E3-F2E4-4786-84B2-2BB7D16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E8F-1448-4DB1-A782-368CCF6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8A7-7164-4954-9D6D-6E732F0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4C74-F146-493C-ABAC-F3ED43A8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F0D-7887-4E03-8204-37D3354656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en Resettlement is Ord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ettle the Operating Day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lculate revenues/costs by Q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QSEs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hadow Settle to ensur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llocate funds to entities that they re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98A-D075-4F0D-98AB-6E2DFA8AD7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ed Alternati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Working with PUCT, ERCOT, and Market Participants, COPS propo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n market wide resettlement for “NOV” is estimated to be less than $ 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CT staff consider recommending to the Commission that restitution be paid by violator directly to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RCOT use funds to reduce future Short Pay Upl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142-C8CA-40D0-A58E-E25648AD2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6C6-3FCC-4453-A1CB-D44AE84F10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 Unicode MS"/>
              </a:rPr>
              <a:t>COPS Working Group &amp; Task Force Leadersh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915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nie Podraza (Relian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-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ad Boles (Cirro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uck Moore (Direc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Judy Briscoe (BP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ic Goff (Conste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im Wood (First Choice Power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AM Invoicing Task Forc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(CWG/COPS)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Michelle Trenary (Tenaska) representing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0D1-22C4-494B-9732-46EDF7CEE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CW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onitoring implementation of SCR 748, Website Enhancements for ERCOT Outage Notific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COPS Market Guide Section 4, “Unplanned Outage Communication Process”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tinuing to develop the Commercial Operations Market Guide - Focus on Nod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68F-5265-44FA-B206-3D9D0CA6E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DA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settlement dispute process and preparing draft PRR and NPRR to simplify the disput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sponded to TPTF request to review and clarify language which relates to distribution loss factors (NPRR-03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 and submit comments on TPTF documents that impact settlement and repo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DAC-D8EC-4AD2-BB7A-52EB46B40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2007 Goals, called attention to schedules and completion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New Oil &amp; Gas Profile Segment (BUSOGFLT) and recommended to COPS approval of LPGRR017 for TAC and Board consid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ted Revision of Holidays Tab in Profile Model Spreadsheets and recommended that COPS vote for a status of URGENCY for LPGRR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5C5-3F21-4904-9CDD-E0DFE4227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AC Approval – LPGRR017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plan and Impact Analysis can be viewed at the following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GRR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2a_PWG_Recommendation_Rep.x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ogrr/000-024/017/keydocs/017LPGR-02_PWG_Recommendation_report_122006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RCOT Impac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3_Impact_Analysis_011907.d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1DF-B984-4B3D-B96C-6A7A5C0B01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TAC Approval - LPGRR0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 of Holidays Tab in Profile Model Spreadsheets as Approved by COPS vote for a status of URGENCY to meet implementation time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C9A-2184-4933-9B18-ED693FE17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mall Resettlements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 Proposal to Reduce Impact on ERCOT and Market Particip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26A-801E-426C-B6A9-F33CFA421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UCT Notice of Violation (“NOV”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24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the PUCT determines that a market     participant has violated a protocol, procedure or rule, they generally assess a fine and order restitution to the market.  Restitution is usually accomplished through resett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Dollar amounts are small, the costs outweigh the benefits. Such costs are ultimately born by Texas consu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011-F469-4D47-9CEB-A6AFF9250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2-28T14:23:38Z</dcterms:modified>
  <cp:revision>204</cp:revision>
  <dc:subject/>
  <dc:title>Point-to-Point</dc:title>
</cp:coreProperties>
</file>