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F27-5683-4478-8672-44EB40B4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30D-5368-4CD1-BDC7-FEC6FF30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1DA-963F-4225-B3E9-0502AA10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1C6-2835-4C83-B00C-769D6E9D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D5D6-2813-4774-8231-3154D229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3932-DC5F-4139-B40E-0CABBFFC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57AB-663B-447F-A3E1-1BF49D1B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E9D6-DAB9-4CB4-B77A-9CD44A20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E2FB-754F-4B10-8A00-0EF68997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C914-5DB8-45B8-99E8-DB8696F8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8CB6-DC4E-4B65-8AB9-30DEB891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1C5-C126-49A1-80CA-7756FEF3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E2DE-BA98-4C6F-B6A2-89FD5564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5E55-8FED-4A05-98F4-30D8321D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85E9-D7B6-4121-81E5-E911E3F8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BE76-A7AC-4D10-845D-1810C22F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96B3-1E35-4A88-A939-17336594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E1F-C042-483E-8DAE-34EA9142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1B3-5CDC-49E6-8E66-FDE82856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F08-950A-4AF1-8E7F-F0E0B2AA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D90-1221-4858-8E4F-BECC30A4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CC5-B790-4CF0-AC9D-7141550D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33A-8A7B-430C-9CC4-FF02D71F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1D5-5F1E-4941-B3E3-D32922DC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A0C2-7415-43B4-AB04-DFF3A1541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0F9D-52DF-441C-BF85-4F1FEB038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arch 8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sue 1: NPRR Effective Da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: How should NPRRs be designated for effectiven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e: Due to project schedule and budget considerations, some NPRRs can not be implemented before the nodal system sta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sk: PRS, TPTF and ERCOT need to coordinate on a system for NPRR effective d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: Amend procedures or protocols as needed; conserve valuable ERCOT nodal project team resources when performing detailed studies of impacts for the obviou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sue 1: NPRR Effective Da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523880"/>
            <a:ext cx="1905120" cy="4800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ild Ph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S assigns ei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 v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ture 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ed 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PTF &amp;ERCO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ff input 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gh lev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conser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COT staff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cept: Li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ailed IA 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ture 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PR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1523880"/>
            <a:ext cx="1752480" cy="4800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DS 3&amp;4 Ph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medi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es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ed 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put from TPT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amp; ERCOT Sta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cept: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COT NPR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 “urgent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1523880"/>
            <a:ext cx="1752480" cy="4800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ture 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COT P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inues 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rrent “releas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S contin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 to hel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m relea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cept: 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PRR not 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lease “A”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n it goes 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lease “B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sue 1: NPRR Effective Da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sue for TAC input – NPRR Parking L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means of establishing the parking 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non-TPTF/ERCOT staff NPRRs, PRS takes no action until ERCOT PMO is ready to compile rele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S &amp; TAC take actions but the NPRRs are not funded and will not proceed to the BOD until funding exists (PRR 69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sue 2: Protocol Implement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: How should nodal protocols be implemented during a phased nodal implementa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e: Nodal functionality testing starts Summer 2007 and will be ready December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sk: PRS and ERCOT develop a plan to implement nodal protocols to match system implementation st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: Define how the Zonal and Nodal Protocols will apply as the transition occu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sue 2: Protocol Implement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dal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-in requir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ce planning and commun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uld  be tied to measurable steps in the implementation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chronization with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ropriate market not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onal protocols stay effective until nodal start and then wind down in phased steps as zonal settlements systems are no longer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1120" y="233172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PRR for Appr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ystem Change – IA/C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PRR Repriorit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 PRRs Rej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PRR Withdra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pd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lternative funding mechanism for the ERCOT ERO/TRE F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odal NPRR Implementation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97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Posting Requirement Chang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828800"/>
          <a:ext cx="8229600" cy="42940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orporates changes from PUC Subst R 25.502 &amp; 25.505 (Pricing Safeguards &amp; Resource Adequacy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unicates information as to the type and timing of information post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ject automates and improves current posting by manual pro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liance with PUC rules; Critical with 9.5 Ran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97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Posting Requirement Chang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3623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4290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42360" y="3352680"/>
            <a:ext cx="172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IS/Data Extra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48120" y="230184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&lt;$100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R Upda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8040" y="1981080"/>
            <a:ext cx="7927920" cy="37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prioritized PR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R 601 – 15 Minute Ramping of BES &amp; Base Power Sche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R Upda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8040" y="1981080"/>
            <a:ext cx="7927920" cy="37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jected PR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R 702 – Emergency Interruptible Service (EI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R 704 – Emergency Interruptible Service (EI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ithdrawn PR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R 696 – MAPE Pub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Alternative Funding Mechanism for the ERCOT ERO/TRE Fe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S requested proposals for alternativ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 proposals received to 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dal Protocol Implementation Iss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PRR Implement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S held a conference call to discuss on February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instorming” session to develop ideas around NPRR implementation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S discussed in committee at its February 22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 to continue discu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presentation is based on PRS discussions to 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balbracht</cp:lastModifiedBy>
  <dcterms:modified xsi:type="dcterms:W3CDTF">2007-03-09T21:45:52Z</dcterms:modified>
  <cp:revision>99</cp:revision>
  <dc:subject/>
  <dc:title>Protocol Revision Subcommittee</dc:title>
</cp:coreProperties>
</file>