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0E1D3-3564-411C-952E-C113D8A29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E7BCB-AAF9-4FE6-827B-07C1B9F6D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9AD93-98F5-4778-ADB4-DAAA98480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3"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6E562-6190-4BC7-ACDD-B8829F8FD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078ED-1B40-4868-9587-1FE35D81F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317A2-5BEA-48B7-8BEF-73CC4C7D5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EC455-33C6-41AE-8A3F-3817E1B51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1E7C6-E39D-451C-BDF3-53B038B39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7FC6F-B2C9-4093-A657-350C09A22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075DA-CE2F-4560-8906-165DD5BD9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3D3FB-CB5B-4602-A6B1-714BC78CD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C57A1-368A-4342-BEEA-9060D7397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1066680" y="6432480"/>
            <a:ext cx="289584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01, 20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63360" y="6289560"/>
            <a:ext cx="854280" cy="479520"/>
          </a:xfrm>
          <a:prstGeom prst="rect">
            <a:avLst/>
          </a:prstGeom>
          <a:ln w="0">
            <a:noFill/>
          </a:ln>
        </p:spPr>
      </p:pic>
      <p:sp>
        <p:nvSpPr>
          <p:cNvPr id="8"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PlaceHolder 4"/>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11" name=""/>
          <p:cNvSpPr/>
          <p:nvPr/>
        </p:nvSpPr>
        <p:spPr>
          <a:xfrm>
            <a:off x="5791320" y="6445080"/>
            <a:ext cx="3124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Review</a:t>
            </a:r>
            <a:endParaRPr b="0" lang="en-US" sz="1200" spc="-1" strike="noStrike">
              <a:solidFill>
                <a:srgbClr val="000000"/>
              </a:solidFill>
              <a:latin typeface="Arial"/>
            </a:endParaRPr>
          </a:p>
        </p:txBody>
      </p:sp>
      <p:sp>
        <p:nvSpPr>
          <p:cNvPr id="12" name="PlaceHolder 5"/>
          <p:cNvSpPr>
            <a:spLocks noGrp="1"/>
          </p:cNvSpPr>
          <p:nvPr>
            <p:ph type="sldNum" idx="3"/>
          </p:nvPr>
        </p:nvSpPr>
        <p:spPr>
          <a:xfrm>
            <a:off x="3733920" y="640980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24CD-5E4E-45D6-B178-9CB4FA366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ole of Account Management at ERCOT</a:t>
            </a:r>
            <a:endParaRPr b="0" lang="en-US" sz="2000" spc="-1" strike="noStrike">
              <a:solidFill>
                <a:srgbClr val="ffffff"/>
              </a:solidFill>
              <a:latin typeface="Arial Black"/>
            </a:endParaRPr>
          </a:p>
        </p:txBody>
      </p:sp>
      <p:pic>
        <p:nvPicPr>
          <p:cNvPr id="50" name="" descr=""/>
          <p:cNvPicPr/>
          <p:nvPr/>
        </p:nvPicPr>
        <p:blipFill>
          <a:blip r:embed="rId1"/>
          <a:stretch/>
        </p:blipFill>
        <p:spPr>
          <a:xfrm>
            <a:off x="228600" y="304920"/>
            <a:ext cx="1295280" cy="519120"/>
          </a:xfrm>
          <a:prstGeom prst="rect">
            <a:avLst/>
          </a:prstGeom>
          <a:ln w="0">
            <a:noFill/>
          </a:ln>
        </p:spPr>
      </p:pic>
      <p:sp>
        <p:nvSpPr>
          <p:cNvPr id="51" name=""/>
          <p:cNvSpPr/>
          <p:nvPr/>
        </p:nvSpPr>
        <p:spPr>
          <a:xfrm>
            <a:off x="0" y="1143000"/>
            <a:ext cx="9144000" cy="5715000"/>
          </a:xfrm>
          <a:prstGeom prst="rect">
            <a:avLst/>
          </a:prstGeom>
          <a:solidFill>
            <a:srgbClr val="29417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143000" y="2590920"/>
            <a:ext cx="6781680" cy="140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007 TAC Goal Input</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bruary 01,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a:t>
            </a:r>
            <a:endParaRPr b="0" lang="en-US" sz="2000" spc="-1" strike="noStrike">
              <a:solidFill>
                <a:srgbClr val="ffffff"/>
              </a:solidFill>
              <a:latin typeface="Arial Black"/>
            </a:endParaRPr>
          </a:p>
        </p:txBody>
      </p:sp>
      <p:sp>
        <p:nvSpPr>
          <p:cNvPr id="71"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554040" indent="-380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6 RMS Accomplishments:</a:t>
            </a:r>
            <a:endParaRPr b="1"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CT Project No. 31416  amending 25.43 relating to the Provider of Last Resort </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Information Repository Process Definition </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 POLR to New POLR Transition Process Definition </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 based Mass Transition Process enabling 5 day transition process </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ed POLR Workshop to inform and educate MP's on proces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request of PUCT Staff, RMS hosted working group discussions relating to Advanced Meter Rulemaking and provided recommendations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MarkeTrak Phase I</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10FCE22-DA67-49BD-8112-87A47923C2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a:t>
            </a:r>
            <a:endParaRPr b="0" lang="en-US" sz="2000" spc="-1" strike="noStrike">
              <a:solidFill>
                <a:srgbClr val="ffffff"/>
              </a:solidFill>
              <a:latin typeface="Arial Black"/>
            </a:endParaRPr>
          </a:p>
        </p:txBody>
      </p:sp>
      <p:sp>
        <p:nvSpPr>
          <p:cNvPr id="73"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7 RMS Goals:</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745, Retail Market Outage Evaluation &amp; Resolution, Implementation and Reporting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ERCOT Service Availability Agreement to be inclusive of Service Degradation Issues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TX SET 3.0 implementation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MarkeTrak Phase II Enhancements &amp; Performance Monitoting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PUCT Activities: Advanced Metering Rulemaking, Performance Measures Rulemaking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PRR672, Retail Market Timing Necessary for PUCT Project 29637, effort to improve ERCOT throughput of 814_20 maintenance transaction enabling adds and deletes </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41211D1-64F0-4417-A1C0-27C5C1747C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olesale Market Subcommittee (WMS)</a:t>
            </a:r>
            <a:endParaRPr b="0" lang="en-US" sz="2000" spc="-1" strike="noStrike">
              <a:solidFill>
                <a:srgbClr val="ffffff"/>
              </a:solidFill>
              <a:latin typeface="Arial Black"/>
            </a:endParaRPr>
          </a:p>
        </p:txBody>
      </p:sp>
      <p:sp>
        <p:nvSpPr>
          <p:cNvPr id="75"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7 WMS Goals:</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issues associated with SB20</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thing else that TAC comes up with</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review of revised ERCOT reserve margin calculation methodology and make appropriate recommendation to TAC.</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 the issue of Renewable Production Potential (RPP)</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settlement of wind resourc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settlement of Ancillary Services for multiple marke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Implementation of CREZ &amp; Resource Adequacy/Market Power Rules.</a:t>
            </a:r>
            <a:endParaRPr b="0"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81705CB6-8969-4017-8433-5D39373E1E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Input Received</a:t>
            </a:r>
            <a:endParaRPr b="0" lang="en-US" sz="2000" spc="-1" strike="noStrike">
              <a:solidFill>
                <a:srgbClr val="ffffff"/>
              </a:solidFill>
              <a:latin typeface="Arial Black"/>
            </a:endParaRPr>
          </a:p>
        </p:txBody>
      </p:sp>
      <p:sp>
        <p:nvSpPr>
          <p:cNvPr id="77" name="PlaceHolder 2"/>
          <p:cNvSpPr>
            <a:spLocks noGrp="1"/>
          </p:cNvSpPr>
          <p:nvPr>
            <p:ph/>
          </p:nvPr>
        </p:nvSpPr>
        <p:spPr>
          <a:xfrm>
            <a:off x="380880" y="1295280"/>
            <a:ext cx="8382240" cy="472464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al implementation oversight – identifying the appropriate role for the TAC stakeholders in oversight of &amp; communications related to nodal implementation.</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in-depth communications on TAC reliability issu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ing focus on retail transaction processing, outages &amp; communication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the appropriate level of stakeholder involvement in the TRE &amp; improving communications to the stakeholders about TRE developmen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generation adequacy to meet preferred reserve margins.</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7FFD3FE5-CF07-4CB6-A7AA-42EC023042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Input Received</a:t>
            </a:r>
            <a:endParaRPr b="0" lang="en-US" sz="2000" spc="-1" strike="noStrike">
              <a:solidFill>
                <a:srgbClr val="ffffff"/>
              </a:solidFill>
              <a:latin typeface="Arial Black"/>
            </a:endParaRPr>
          </a:p>
        </p:txBody>
      </p:sp>
      <p:sp>
        <p:nvSpPr>
          <p:cNvPr id="79" name="PlaceHolder 2"/>
          <p:cNvSpPr>
            <a:spLocks noGrp="1"/>
          </p:cNvSpPr>
          <p:nvPr>
            <p:ph/>
          </p:nvPr>
        </p:nvSpPr>
        <p:spPr>
          <a:xfrm>
            <a:off x="380880" y="761760"/>
            <a:ext cx="8382240" cy="5105160"/>
          </a:xfrm>
          <a:prstGeom prst="rect">
            <a:avLst/>
          </a:prstGeom>
          <a:noFill/>
          <a:ln w="0">
            <a:noFill/>
          </a:ln>
        </p:spPr>
        <p:txBody>
          <a:bodyPr lIns="90000" rIns="90000" tIns="46800" bIns="46800" anchor="t">
            <a:normAutofit/>
          </a:bodyPr>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transmission studies to ensure generation has adequate transmission.</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information update deadline for TAC meetings at 24 hours prior to meeting.</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ment to Economic Impact Analysis calculation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d reports of employee turnover &amp; efforts to improv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related to information kept on laptop computers). Nodal development oversigh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O/TRE monitor and rate oversigh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credit requirements of Market Participants.</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8FEE0E9-67AE-4320-BB53-DE1CD1A326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Input Received</a:t>
            </a:r>
            <a:endParaRPr b="0" lang="en-US" sz="2000" spc="-1" strike="noStrike">
              <a:solidFill>
                <a:srgbClr val="ffffff"/>
              </a:solidFill>
              <a:latin typeface="Arial Black"/>
            </a:endParaRPr>
          </a:p>
        </p:txBody>
      </p:sp>
      <p:sp>
        <p:nvSpPr>
          <p:cNvPr id="81" name="PlaceHolder 2"/>
          <p:cNvSpPr>
            <a:spLocks noGrp="1"/>
          </p:cNvSpPr>
          <p:nvPr>
            <p:ph/>
          </p:nvPr>
        </p:nvSpPr>
        <p:spPr>
          <a:xfrm>
            <a:off x="380880" y="761760"/>
            <a:ext cx="8382240" cy="5105160"/>
          </a:xfrm>
          <a:prstGeom prst="rect">
            <a:avLst/>
          </a:prstGeom>
          <a:noFill/>
          <a:ln w="0">
            <a:noFill/>
          </a:ln>
        </p:spPr>
        <p:txBody>
          <a:bodyPr lIns="90000" rIns="90000" tIns="46800" bIns="46800" anchor="t">
            <a:normAutofit/>
          </a:bodyPr>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e Replacement Reserve Service procurement requiremen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obtaining stakeholder input on regulatory issu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retail transaction processing, effective communications between ERCOT &amp; stakeholders related to processing issues, and accountability.</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 possibility of opening up Load reduction programs to smaller customers, on a voluntary basis to encourage more active participation.</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or access to data related to usage and switching dat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 possibility of having CWG join TAC subcommittee team.</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review/discussion of reliability.</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subcommittees’ roles in the nodal transition.</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46F9323-F63D-4818-88B4-5C362EDB6A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286000" y="220968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Question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7F73B08-A765-469B-BD3C-5C14CAA97D44}"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a:t>
            </a:r>
            <a:endParaRPr b="0" lang="en-US" sz="2000" spc="-1" strike="noStrike">
              <a:solidFill>
                <a:srgbClr val="ffffff"/>
              </a:solidFill>
              <a:latin typeface="Arial Black"/>
            </a:endParaRPr>
          </a:p>
        </p:txBody>
      </p:sp>
      <p:sp>
        <p:nvSpPr>
          <p:cNvPr id="55"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554040" indent="-3808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6 COPS Accomplishments:</a:t>
            </a:r>
            <a:endParaRPr b="1" lang="en-US" sz="20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d with RMS to transition PWG into COPS and maintain timely completion of Annual Validation Process.</a:t>
            </a:r>
            <a:endParaRPr b="0" lang="en-US" sz="18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d through process to change “Settlement Invoice Due Date” from 16 Calendar Days to 5 Business Days.</a:t>
            </a:r>
            <a:endParaRPr b="0" lang="en-US" sz="18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ted proposed changes to “Discontinue Interest Charges for Defaulting Entities at Time of Uplift”.</a:t>
            </a:r>
            <a:endParaRPr b="0" lang="en-US" sz="18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of TPTF Review Task Force.</a:t>
            </a:r>
            <a:endParaRPr b="0" lang="en-US" sz="18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WG Completed Implementation of New Profile Determinates.</a:t>
            </a:r>
            <a:endParaRPr b="0" lang="en-US" sz="18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d “Commercial Operations Market Guide” and established a structured revision process </a:t>
            </a:r>
            <a:r>
              <a:rPr b="0" i="1" lang="en-US" sz="1800" spc="-1" strike="noStrike">
                <a:solidFill>
                  <a:srgbClr val="000000"/>
                </a:solidFill>
                <a:latin typeface="Arial"/>
              </a:rPr>
              <a:t>(similar to other guides)</a:t>
            </a:r>
            <a:r>
              <a:rPr b="0" lang="en-US" sz="1800" spc="-1" strike="noStrike">
                <a:solidFill>
                  <a:srgbClr val="000000"/>
                </a:solidFill>
                <a:latin typeface="Arial"/>
              </a:rPr>
              <a:t>.</a:t>
            </a:r>
            <a:endParaRPr b="0" lang="en-US" sz="18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CP Communication Plan - updated/refined template and changes.</a:t>
            </a:r>
            <a:endParaRPr b="0" lang="en-US" sz="18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 to PRS regarding </a:t>
            </a:r>
            <a:r>
              <a:rPr b="0" i="1" lang="en-US" sz="1800" spc="-1" strike="noStrike">
                <a:solidFill>
                  <a:srgbClr val="000000"/>
                </a:solidFill>
                <a:latin typeface="Arial"/>
              </a:rPr>
              <a:t>“discontinuing interest charges for defaulting entities at time of Uplift”</a:t>
            </a:r>
            <a:endParaRPr b="0" lang="en-US" sz="18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d hoc task force created to review TPTF working documents as they relate to data and financial settlement processes.</a:t>
            </a:r>
            <a:endParaRPr b="0" lang="en-US" sz="1800" spc="-1" strike="noStrike">
              <a:solidFill>
                <a:srgbClr val="000000"/>
              </a:solidFill>
              <a:latin typeface="Arial"/>
            </a:endParaRPr>
          </a:p>
          <a:p>
            <a:pPr lvl="1" marL="838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CADD33A-0376-4DC0-B2B1-7E2809E725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a:t>
            </a:r>
            <a:endParaRPr b="0" lang="en-US" sz="2000" spc="-1" strike="noStrike">
              <a:solidFill>
                <a:srgbClr val="ffffff"/>
              </a:solidFill>
              <a:latin typeface="Arial Black"/>
            </a:endParaRPr>
          </a:p>
        </p:txBody>
      </p:sp>
      <p:sp>
        <p:nvSpPr>
          <p:cNvPr id="57"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6 COPS Accomplishments:</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a:solidFill>
                  <a:srgbClr val="000000"/>
                </a:solidFill>
                <a:latin typeface="Arial"/>
              </a:rPr>
              <a:t>he DEWG co-sponsored with ERCOT a successful web services training – 60 participants.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WG updated the Extract and Report Matrix – up to date Matrix of all reports and extracts produced by ERCOT on websit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creen Scraping” – MP’s concern that ERCOT “policies” conflict need to access information – MIS group under TPTF is aware of market concerns and added this issue to their log.</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WG monitored progress of various activity related to data and extrac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FE TF obtained better understanding of the drivers of UFE analyzing the historical trends in volatility and magnitude</a:t>
            </a:r>
            <a:endParaRPr b="0" lang="en-US" sz="20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DEBCFED-24A9-407A-9FF2-7757A0C933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a:t>
            </a:r>
            <a:endParaRPr b="0" lang="en-US" sz="2000" spc="-1" strike="noStrike">
              <a:solidFill>
                <a:srgbClr val="ffffff"/>
              </a:solidFill>
              <a:latin typeface="Arial Black"/>
            </a:endParaRPr>
          </a:p>
        </p:txBody>
      </p:sp>
      <p:sp>
        <p:nvSpPr>
          <p:cNvPr id="59"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7 COPS Goals:</a:t>
            </a:r>
            <a:endParaRPr b="1" lang="en-US" sz="20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nodal implementation &amp; changes in market processes.</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organize, monitor, and assist, the COPS working groups assigned specific tasks as they relate to nodal activity.</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ttlements &amp; Data Aggregation Working Group (SDAWG):</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 nodal settlement timelines &amp; accounting processes.</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and comment on all relative TPTF working documents as the relate to the financial &amp; settlement processes; suggest Protocol language changes as required.</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implementation process as nodal progresses.</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accounted for Energy Task Force (UFE TF):</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ctive until needed.</a:t>
            </a:r>
            <a:endParaRPr b="0" lang="en-US" sz="1800" spc="-1" strike="noStrike">
              <a:solidFill>
                <a:srgbClr val="0000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DBCB3B1-5855-48CA-A500-3EB9C5186C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a:t>
            </a:r>
            <a:endParaRPr b="0" lang="en-US" sz="2000" spc="-1" strike="noStrike">
              <a:solidFill>
                <a:srgbClr val="ffffff"/>
              </a:solidFill>
              <a:latin typeface="Arial Black"/>
            </a:endParaRPr>
          </a:p>
        </p:txBody>
      </p:sp>
      <p:sp>
        <p:nvSpPr>
          <p:cNvPr id="61"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filing Working Group (PWG):</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effort to improve determinates.</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implementation of new profile determinates on time and on budget.</a:t>
            </a:r>
            <a:endParaRPr b="0" lang="en-US" sz="1800" spc="-1" strike="noStrike">
              <a:solidFill>
                <a:srgbClr val="000000"/>
              </a:solidFill>
              <a:latin typeface="Arial"/>
            </a:endParaRPr>
          </a:p>
          <a:p>
            <a:pPr lvl="3" marL="1752480" indent="-380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process, timelines, market issues</a:t>
            </a:r>
            <a:endParaRPr b="0" lang="en-US" sz="1800" spc="-1" strike="noStrike">
              <a:solidFill>
                <a:srgbClr val="000000"/>
              </a:solidFill>
              <a:latin typeface="Arial"/>
            </a:endParaRPr>
          </a:p>
          <a:p>
            <a:pPr lvl="3" marL="1752480" indent="-380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data is correct</a:t>
            </a:r>
            <a:endParaRPr b="0" lang="en-US" sz="1800" spc="-1" strike="noStrike">
              <a:solidFill>
                <a:srgbClr val="000000"/>
              </a:solidFill>
              <a:latin typeface="Arial"/>
            </a:endParaRPr>
          </a:p>
          <a:p>
            <a:pPr lvl="3" marL="1752480" indent="-380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oversight of Annual Validation Process</a:t>
            </a:r>
            <a:endParaRPr b="0" lang="en-US" sz="1800" spc="-1" strike="noStrike">
              <a:solidFill>
                <a:srgbClr val="000000"/>
              </a:solidFill>
              <a:latin typeface="Arial"/>
            </a:endParaRPr>
          </a:p>
          <a:p>
            <a:pPr lvl="3" marL="1752480" indent="-380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Monitor, and Suggest Improvements to Profiling Process</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 Extracts Working Group (DEWG):</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ctive until needed. </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 handoff from TPTF when timing is right for implementation of Market Information System (MIS) changes for Nodal.</a:t>
            </a:r>
            <a:endParaRPr b="0" lang="en-US" sz="1800" spc="-1" strike="noStrike">
              <a:solidFill>
                <a:srgbClr val="000000"/>
              </a:solidFill>
              <a:latin typeface="Arial"/>
            </a:endParaRPr>
          </a:p>
          <a:p>
            <a:pPr marL="554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785D6300-F99D-4B8C-B6D5-14830FE2DF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Revisions Subcommittee (PRS)</a:t>
            </a:r>
            <a:endParaRPr b="0" lang="en-US" sz="2000" spc="-1" strike="noStrike">
              <a:solidFill>
                <a:srgbClr val="ffffff"/>
              </a:solidFill>
              <a:latin typeface="Arial Black"/>
            </a:endParaRPr>
          </a:p>
        </p:txBody>
      </p:sp>
      <p:sp>
        <p:nvSpPr>
          <p:cNvPr id="63"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554040" indent="-380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7 PRS Goals:</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906AB83A-4CBA-4226-A1A1-0903911947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a:t>
            </a:r>
            <a:endParaRPr b="0" lang="en-US" sz="2000" spc="-1" strike="noStrike">
              <a:solidFill>
                <a:srgbClr val="ffffff"/>
              </a:solidFill>
              <a:latin typeface="Arial Black"/>
            </a:endParaRPr>
          </a:p>
        </p:txBody>
      </p:sp>
      <p:sp>
        <p:nvSpPr>
          <p:cNvPr id="65" name="PlaceHolder 2"/>
          <p:cNvSpPr>
            <a:spLocks noGrp="1"/>
          </p:cNvSpPr>
          <p:nvPr>
            <p:ph/>
          </p:nvPr>
        </p:nvSpPr>
        <p:spPr>
          <a:xfrm>
            <a:off x="380880" y="914400"/>
            <a:ext cx="8382240" cy="5105520"/>
          </a:xfrm>
          <a:prstGeom prst="rect">
            <a:avLst/>
          </a:prstGeom>
          <a:noFill/>
          <a:ln w="0">
            <a:noFill/>
          </a:ln>
        </p:spPr>
        <p:txBody>
          <a:bodyPr lIns="90000" rIns="90000" tIns="46800" bIns="46800" anchor="t">
            <a:normAutofit/>
          </a:bodyPr>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6 ROS Accomplishments:</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frequency control issue (i.e. Schedule Control Error (SCE), governor response – expectation on how things will work).</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S completed this work &amp; ERCOT’S SCE scores have improved.</a:t>
            </a:r>
            <a:r>
              <a:rPr b="0" lang="en-US" sz="2000" spc="-1" strike="noStrike">
                <a:solidFill>
                  <a:srgbClr val="000000"/>
                </a:solidFill>
                <a:latin typeface="Arial"/>
              </a:rPr>
              <a:t>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engineering work .</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S evaluated several items including an analysis of the April 2006 EECP event.  As part of the review, the ROS modified the EECP procedures to alert the market sooner about potential emergency conditions.</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and winter issue review</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aff updated the previous fuel and winter issue review. The updated study showed that ERCOT would not be able to serve expected winter Loads if natural gas supplies were curtailed.</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FF22AE7-8E94-4CFB-9650-D2361D0439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a:t>
            </a:r>
            <a:endParaRPr b="0" lang="en-US" sz="2000" spc="-1" strike="noStrike">
              <a:solidFill>
                <a:srgbClr val="ffffff"/>
              </a:solidFill>
              <a:latin typeface="Arial Black"/>
            </a:endParaRPr>
          </a:p>
        </p:txBody>
      </p:sp>
      <p:sp>
        <p:nvSpPr>
          <p:cNvPr id="67" name="PlaceHolder 2"/>
          <p:cNvSpPr>
            <a:spLocks noGrp="1"/>
          </p:cNvSpPr>
          <p:nvPr>
            <p:ph/>
          </p:nvPr>
        </p:nvSpPr>
        <p:spPr>
          <a:xfrm>
            <a:off x="380880" y="914400"/>
            <a:ext cx="8382240" cy="5105520"/>
          </a:xfrm>
          <a:prstGeom prst="rect">
            <a:avLst/>
          </a:prstGeom>
          <a:noFill/>
          <a:ln w="0">
            <a:noFill/>
          </a:ln>
        </p:spPr>
        <p:txBody>
          <a:bodyPr lIns="90000" rIns="90000" tIns="46800" bIns="46800" anchor="t">
            <a:normAutofit/>
          </a:bodyPr>
          <a:p>
            <a:pPr marL="554040" indent="-3808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7 ROS Goals:</a:t>
            </a:r>
            <a:endParaRPr b="1"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 the existing ERCOT Operating Guides to conform to the new nodal market.</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the Texas Reliability Entity’s (TRE) standards drafting process.</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mp; analyze ERCOT System Operations, Emergency Electric Curtailment Plan (EECP) events &amp; significant outages. </a:t>
            </a:r>
            <a:endParaRPr b="0" lang="en-US" sz="20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sis should include proposed changes to ERCOT Operating Guides, Protocols and Standards.</a:t>
            </a:r>
            <a:endParaRPr b="0" lang="en-US" sz="18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conversion of the ERCOT network model for use in the nodal market.</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ompliance obligations for meeting NERC Standards and tasks delegated by ERCOT to entities via the ERCOT Protocols. </a:t>
            </a:r>
            <a:endParaRPr b="0" lang="en-US" sz="20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uld include a description of evidence needed to demonstrate compliance.</a:t>
            </a:r>
            <a:r>
              <a:rPr b="0" lang="en-US" sz="2400" spc="-1" strike="noStrike">
                <a:solidFill>
                  <a:srgbClr val="000000"/>
                </a:solidFill>
                <a:latin typeface="Arial"/>
              </a:rPr>
              <a:t> </a:t>
            </a:r>
            <a:endParaRPr b="0" lang="en-US" sz="2400" spc="-1" strike="noStrike">
              <a:solidFill>
                <a:srgbClr val="000000"/>
              </a:solidFill>
              <a:latin typeface="Arial"/>
            </a:endParaRPr>
          </a:p>
          <a:p>
            <a:pPr marL="5540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67A9C51E-49AF-48EE-BE60-B43C241F3C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a:t>
            </a:r>
            <a:endParaRPr b="0" lang="en-US" sz="2000" spc="-1" strike="noStrike">
              <a:solidFill>
                <a:srgbClr val="ffffff"/>
              </a:solidFill>
              <a:latin typeface="Arial Black"/>
            </a:endParaRPr>
          </a:p>
        </p:txBody>
      </p:sp>
      <p:sp>
        <p:nvSpPr>
          <p:cNvPr id="69"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fontScale="98000"/>
          </a:bodyPr>
          <a:p>
            <a:pPr marL="542880" indent="-37296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6 RMS Accomplishments:</a:t>
            </a:r>
            <a:endParaRPr b="1" lang="en-US" sz="2000" spc="-1" strike="noStrike">
              <a:solidFill>
                <a:srgbClr val="000000"/>
              </a:solidFill>
              <a:latin typeface="Arial"/>
            </a:endParaRPr>
          </a:p>
          <a:p>
            <a:pPr lvl="1" marL="821160" indent="-3729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GRR031 Update and Clarification to IDR Installation Process for Mandatory and Optional IDR Installations </a:t>
            </a:r>
            <a:endParaRPr b="0" lang="en-US" sz="1900" spc="-1" strike="noStrike">
              <a:solidFill>
                <a:srgbClr val="000000"/>
              </a:solidFill>
              <a:latin typeface="Arial"/>
            </a:endParaRPr>
          </a:p>
          <a:p>
            <a:pPr lvl="1" marL="821160" indent="-3729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vice Availability Agreement with ERCOT Documentation and Development of Measurements Reporting Tool </a:t>
            </a:r>
            <a:endParaRPr b="0" lang="en-US" sz="1900" spc="-1" strike="noStrike">
              <a:solidFill>
                <a:srgbClr val="000000"/>
              </a:solidFill>
              <a:latin typeface="Arial"/>
            </a:endParaRPr>
          </a:p>
          <a:p>
            <a:pPr lvl="1" marL="821160" indent="-3729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R748 Website Enhancements to Support ERCOT Outage Notifications </a:t>
            </a:r>
            <a:endParaRPr b="0" lang="en-US" sz="1900" spc="-1" strike="noStrike">
              <a:solidFill>
                <a:srgbClr val="000000"/>
              </a:solidFill>
              <a:latin typeface="Arial"/>
            </a:endParaRPr>
          </a:p>
          <a:p>
            <a:pPr lvl="1" marL="821160" indent="-3729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UCT Project No. 29637 Standards Terms and Conditions Market Process Documentation and Transaction Process Changes </a:t>
            </a:r>
            <a:endParaRPr b="0" lang="en-US" sz="1900" spc="-1" strike="noStrike">
              <a:solidFill>
                <a:srgbClr val="000000"/>
              </a:solidFill>
              <a:latin typeface="Arial"/>
            </a:endParaRPr>
          </a:p>
          <a:p>
            <a:pPr lvl="1" marL="821160" indent="-3729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 RMG process documentation updates; PRR672 relating to ERCOT Transaction Timing; &amp; PRR693 specific to ERCOT processing of Priority MVI requests</a:t>
            </a:r>
            <a:endParaRPr b="0" lang="en-US" sz="1900" spc="-1" strike="noStrike">
              <a:solidFill>
                <a:srgbClr val="000000"/>
              </a:solidFill>
              <a:latin typeface="Arial"/>
            </a:endParaRPr>
          </a:p>
          <a:p>
            <a:pPr lvl="1" marL="821160" indent="-37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ed Interim Manual Process to Expedite Mass Transition Processing: Reduced Number of Days for POLR CR to submit Switch request; Reduced FASD from 6 to 3 days</a:t>
            </a:r>
            <a:r>
              <a:rPr b="0" lang="en-US" sz="2000" spc="-1" strike="noStrike">
                <a:solidFill>
                  <a:srgbClr val="000000"/>
                </a:solidFill>
                <a:latin typeface="Arial"/>
              </a:rPr>
              <a:t> </a:t>
            </a:r>
            <a:endParaRPr b="0" lang="en-US" sz="2000" spc="-1" strike="noStrike">
              <a:solidFill>
                <a:srgbClr val="000000"/>
              </a:solidFill>
              <a:latin typeface="Arial"/>
            </a:endParaRPr>
          </a:p>
          <a:p>
            <a:pPr lvl="1" marL="821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8581F49-EF7A-4F9A-B937-54AF4F83AA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ERCOT</cp:lastModifiedBy>
  <dcterms:modified xsi:type="dcterms:W3CDTF">2007-01-31T20:52:42Z</dcterms:modified>
  <cp:revision>74</cp:revision>
  <dc:subject/>
  <dc:title>Role of Account Management at ERCOT</dc:title>
</cp:coreProperties>
</file>