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BF9-B98D-4E12-8D57-97D54816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C978-0E97-4359-9609-66610E5A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3844-725F-4E80-BF35-7ED9B468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EB39-5170-401C-B113-881DC783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C59-A984-4769-9139-F033BC47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EF0E-9695-42E4-9379-183274FD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DD0-486C-491F-A9E5-D3191B16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178E-0F10-4228-B69E-ABCF0347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3EB-DA48-49C1-BF1F-254C28A3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729-8140-4B1D-98A3-C07D3AD2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A61-510E-4B6E-A3E0-FD8E771F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328C-575C-4936-88FA-CAB183F0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AF32-F99B-4BF9-A7D4-5005F140B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GHLIGHTS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RC STANDARDS ACTIVITI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bruary 200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952640" y="430200"/>
          <a:ext cx="5332320" cy="58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2640" y="430200"/>
                    <a:ext cx="5332320" cy="58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963720" y="914400"/>
          <a:ext cx="7007040" cy="420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914400"/>
                    <a:ext cx="70070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620720" y="934920"/>
          <a:ext cx="6093000" cy="50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934920"/>
                    <a:ext cx="60930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914400" y="838080"/>
          <a:ext cx="6804000" cy="46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6804000" cy="46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21:11:35Z</dcterms:created>
  <dc:creator>ftafreshi</dc:creator>
  <dc:description/>
  <dc:language>en-US</dc:language>
  <cp:lastModifiedBy>ftafreshi</cp:lastModifiedBy>
  <dcterms:modified xsi:type="dcterms:W3CDTF">2007-02-09T21:27:43Z</dcterms:modified>
  <cp:revision>4</cp:revision>
  <dc:subject/>
  <dc:title>NERC ACTIVITIES HIGHLIGHTS February 2007 </dc:title>
</cp:coreProperties>
</file>