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FC1-A699-49E6-9F84-2C730A8F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D54-02A0-483D-98CC-0DBD2732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D5D-FC4A-4B66-BDAB-EFA72341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0F9-D330-4A94-ACFA-0212310F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600-9B94-492D-9E07-41F7D555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4869-29F2-4792-AE18-CBAABD4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32A-EB41-4FC3-9C74-D1871E9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781-FE18-42B3-9C8A-1369608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2ED-D494-4C9D-8E1A-476BF9EC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5D0-C2B1-429E-BFA9-9E247CE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A1B-6B90-4DBA-B5CD-B632AF9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25-388C-45E5-8851-AE5CB9B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5BA-253E-4782-BEF8-81C9FA3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EA5D-9960-449A-A5FF-8D1810C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65A6-3AA0-4F05-9334-7A718F25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EE3-A1E1-406F-B93A-DF925260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273-4C01-407F-9F94-037456A3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318-A383-4591-9B91-55EA8DC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294-62BC-4008-B3D9-AFA6891E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477-63B4-48DF-9DF2-2799330C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978-A5EB-42A7-A074-490368F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0C0-3469-43B7-A02D-CBAA8D5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8B7-FA66-4FB8-BD0C-85FDBBD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9CA-A67C-41C5-87CF-EFE62F7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6DC-3008-4613-BFD8-A819507D25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B84A-D962-4F12-A00E-4901B78E76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nerc/index.html" TargetMode="External"/><Relationship Id="rId3" Type="http://schemas.openxmlformats.org/officeDocument/2006/relationships/hyperlink" Target="mailto:tshiekhi@erco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6358-201A-41E2-AE5A-C221AEF3C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draft regional registration list being developed for entities in 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– Regional Entities submit final draft regional registration lists to N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posts proposed registration li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discusses proposed registration lists with industry trade associations and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– Registered Entities notified of proposed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ered Entities have 21 days from notification to file written objection with NERC Director of Compli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Director of Compliance rules on objections; Registered Entity has 21 days to file appeal with NERC Compliance Committ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– NERC Compliance Committee decides appe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– NERC to provide registration list to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D23-A47C-4DA3-88E6-320229A36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datory compliance with NERC-approved reliability standards expected to begin in June/Ju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list of ERCOT Registered Entities posted 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mktrules/compliance/nerc/index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list is a work-in-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can be directed to ERCOT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ny Shiekh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512) 225-713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shiekhi@ercot.c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7BE-52F2-4AAC-AB71-8F8811231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performance improved over recent months’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nuary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7:  137.95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6:  130.39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7:  142.65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6:  126.48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January indicate 34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493-08E0-47C7-B4C1-6A56BD2E6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205-E062-49F1-81E0-0DF5251A61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42D-6C90-442E-8C56-BC7B82EBE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A8B-6E2B-4DD7-9ACB-642623755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6E5-FDAE-4209-A156-1EAD06E49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nuary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DDD-2150-4B19-A71B-639BA401C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9DD-AD1A-4CB4-8401-2EC70CD3B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A51-AF99-4DD2-8C87-433B2422A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2-09T16:37:16Z</dcterms:modified>
  <cp:revision>311</cp:revision>
  <dc:subject/>
  <dc:title>PRR 525 Compliance Analysis</dc:title>
</cp:coreProperties>
</file>