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90A-445E-4F6E-B084-DFF8E9F6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448-5F7E-4674-85CE-9B8B1EE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DE6-9067-48BB-B636-19EE2166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656-29F3-42AC-AF50-9C7C6781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0A9-C28E-4C21-85EF-7BBFA222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7B1-E87F-43DC-A533-903E49A1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74B-2CDC-4E14-8C40-F34EC83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E0C-5F91-42D9-B03F-E8AE9BF9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C06-8552-4709-B113-84139C29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4A2-06E8-4DF6-99F5-07A6DA82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0E6-ABCD-4CB2-B715-3BD90D0A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745-3C41-4C8C-9984-61757AA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3A37-AB50-4366-B2CF-33293B408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Reserve Discount F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ROS 02/15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22860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52280"/>
          <a:ext cx="891540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89154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using 4% Reserve Discount Factor November –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obability of Temperatures having a diverse impact on unit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has indicated the need for a discount to be applied to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using 7% April – Oct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may not be able to perform as well as tested capability due to higher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has indicated the need for a discount to be applied to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55:00Z</dcterms:created>
  <dc:creator>jdumas</dc:creator>
  <dc:description/>
  <dc:language>en-US</dc:language>
  <cp:lastModifiedBy>jdumas</cp:lastModifiedBy>
  <dcterms:modified xsi:type="dcterms:W3CDTF">2007-02-14T22:00:15Z</dcterms:modified>
  <cp:revision>3</cp:revision>
  <dc:subject/>
  <dc:title>Slide 1</dc:title>
</cp:coreProperties>
</file>