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D95A-5D36-4A79-B1D2-346CB639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461D-1EFF-4D88-BDF4-FB540F00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B9A2-855A-40BF-896B-5EA228A4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4B64-3884-4081-B4AA-1DFB29C1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58BD-90BB-4CAF-8793-E61A6E0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A044-C01F-4B2D-A9D7-07821BD4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5521-E48B-480B-A1E4-5F3CB0AC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CF25-629A-49E4-8330-0F57E9F9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3047-44A5-4A18-B832-26266095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9C1B-C49D-45C4-B01A-A04996E0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2107-7866-4A50-882A-15F5DC60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6634-4FC5-423C-8211-200DFE20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2A3B-4452-4715-A75A-C41181CF4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Operations Modeling &amp; Tele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A0B9-5F43-460E-8963-9335B4F2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M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work Operations Modeling &amp; Telemet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y Raj Chudgar,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6868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and Progres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 Tuning Environment with near real-time feeds from P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weights were re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oftware change to add plausibility checks on negative load teleme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d the limits for a set of unit capability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ing Environment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 mismatches (Mw/Mvar) after SE convergence ar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difference in Mw/Mvar flows between SE and Power Flow (RTCA base case) ar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voltage violations on the RTCA base case ar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index was impr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P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 the ERCOT ITEST environment in February 2007 and promote to ERCOT Production in Marc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6C12-5A94-4376-9536-AF5A955AF8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6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– Point in time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Hour Study Comparison to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0938" t="19791" r="1562" b="8333"/>
          <a:stretch/>
        </p:blipFill>
        <p:spPr>
          <a:xfrm>
            <a:off x="304920" y="1554120"/>
            <a:ext cx="8534160" cy="477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305E-2E54-4DC8-8C38-2E407763F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16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– Point in time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Hour Study Comparison to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0155" t="20835" r="1562" b="8333"/>
          <a:stretch/>
        </p:blipFill>
        <p:spPr>
          <a:xfrm>
            <a:off x="228600" y="1600200"/>
            <a:ext cx="86104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ECE0-45E0-420C-ACA1-1EE0EAE1B6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16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– Point in time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Hour Study Comparison to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0938" t="20835" r="1562" b="8333"/>
          <a:stretch/>
        </p:blipFill>
        <p:spPr>
          <a:xfrm>
            <a:off x="380880" y="1600200"/>
            <a:ext cx="853452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DABF-ED19-43C5-B8CC-FA1B5289C8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Model clean-up under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to complete by 3/31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ffort to reduce critical measurements and improve observability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to have all justifications and schedules for new implementations by 3/31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schedule will be published end of 1Q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Weights tuning recommendations to be implemented into Production Marc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continue to provide progress reports to TPTF, TAC, and ROS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F5F9-2903-4FF5-91BF-3D469D32A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Co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odel Data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6F4E-0E1D-4729-9612-1B62AD17B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Model Data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A1FA-27DD-444E-83A3-EF708DADF8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31880"/>
            <a:ext cx="86868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Data Issues – as of 01/26/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an with 200+ manually entered issues in Mid-Augus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the Automated Query Process to find addition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6 thru Octo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w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ed 78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fore running nex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mber 2006 thru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w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baseline is 5400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T h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ed 4100+ or 77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new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ing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9 Assigned to ERC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esolve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2 Assigned to 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this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un from January 2007 thru mid-Februar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contacting Q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NMT processes to hand over to ERCOT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wrap of NMT project to end on 3/31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4F51-E132-4192-9C52-A52B05E0BD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700200"/>
            <a:ext cx="804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Model Data Issues Status – by 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064" t="9210" r="60125" b="34996"/>
          <a:stretch/>
        </p:blipFill>
        <p:spPr>
          <a:xfrm>
            <a:off x="868320" y="1087560"/>
            <a:ext cx="7543800" cy="51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1A24-7A46-46E6-8848-28794A89F2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7A16-3A9B-4FB3-9034-1FDE0658E1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318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sheet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ng to work with each of the Market Participant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document comments and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y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ddi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mailing and MP contact in Januar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o implement modeling changes as a result 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documentation of feedback by end-of-Februar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results and schedules by end-of-Marc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D839-C103-4517-AA5C-0E2ED79034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31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756" t="12502" r="16243" b="23744"/>
          <a:stretch/>
        </p:blipFill>
        <p:spPr>
          <a:xfrm>
            <a:off x="641520" y="1163520"/>
            <a:ext cx="7816680" cy="498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8D9B-4FF5-4F1B-AEE8-8966EF46CA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5E5A-4047-4A87-B9DC-874EC52B50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2-15T13:52:57Z</dcterms:modified>
  <cp:revision>154</cp:revision>
  <dc:subject/>
  <dc:title>Electric Reliability and  Resource Adequacy Update</dc:title>
</cp:coreProperties>
</file>