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80238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4C2F6-D497-47B5-A260-236B86D99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5684E-CAB5-482A-84C5-AB85B26B7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40812-7250-4C1D-8522-11A29BF3F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FC7B1-C4D3-4017-B155-EC7B3B8C6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3C49B-3419-4A37-8034-BDC38B3DC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35578-0D49-407C-A83E-5541BFEC2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596DE-72D1-4B75-95A5-AD0996ABE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A325A-D6B3-4903-9E7A-D27ED217D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127E2-BCA4-4AAD-9D3B-90771CC49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968D3-C82E-46EF-8AD3-5203EF19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0A45E-4634-4053-8DC5-CE91BD87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59B20-0E0A-453C-8DC2-0BE43C6E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D3A90-1E4C-4E20-AEA9-6B5BEF6199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52480" y="1981080"/>
            <a:ext cx="601992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ontrollable Load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ROS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February 15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ontrollable Load Resourc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"/>
          <p:cNvSpPr/>
          <p:nvPr/>
        </p:nvSpPr>
        <p:spPr>
          <a:xfrm>
            <a:off x="441360" y="1027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45560" y="1335240"/>
            <a:ext cx="58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What is a Controllable Load Resour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69960" y="217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69960" y="2322360"/>
            <a:ext cx="7940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ad Resource capable of providing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Regulation Servic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by controllably reducing or increasing consumption under dispatch control (similar to AGC) and that immediately responds proportionally to frequency changes (similar to generator governor ac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S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15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ontrollable Load Resourc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441360" y="1027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69960" y="217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1447920"/>
            <a:ext cx="8474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47760"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2002 PRR307, Load providing Regulation services (Controllable Resources), was appr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47760"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47760"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June 2007 ERCOT was asked to provide a cost and impact analysis for implementing PRR3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47760"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47760"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estimated the project would cost between $500,000 and $1,000,000 and take up to a year to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47760"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47760"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proposed an alternate approach which could be implemented with no system changes, but with lim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40600" y="83808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Background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S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15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ontrollable Load Resourc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"/>
          <p:cNvSpPr/>
          <p:nvPr/>
        </p:nvSpPr>
        <p:spPr>
          <a:xfrm>
            <a:off x="441360" y="1027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69960" y="217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8720" y="762120"/>
            <a:ext cx="26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Pilot Limit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371600"/>
            <a:ext cx="84582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>
              <a:buClr>
                <a:srgbClr val="000000"/>
              </a:buClr>
              <a:buFont typeface="Wingdings" charset="2"/>
              <a:buChar char=""/>
              <a:tabLst>
                <a:tab algn="l" pos="79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et all requirements for participation as a La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9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R me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9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l Time telemetry at the controllable load installed and tes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9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cessfully complete qualification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9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buClr>
                <a:srgbClr val="000000"/>
              </a:buClr>
              <a:buFont typeface="Wingdings" charset="2"/>
              <a:buChar char=""/>
              <a:tabLst>
                <a:tab algn="l" pos="79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ble to respond proportionately to frequency changes (similar to generator governor 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buClr>
                <a:srgbClr val="000000"/>
              </a:buClr>
              <a:buFont typeface="Wingdings" charset="2"/>
              <a:buChar char=""/>
              <a:tabLst>
                <a:tab algn="l" pos="79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buClr>
                <a:srgbClr val="000000"/>
              </a:buClr>
              <a:buFont typeface="Wingdings" charset="2"/>
              <a:buChar char=""/>
              <a:tabLst>
                <a:tab algn="l" pos="79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pable of reducing or increasing consumption in response to dispatch instruction (similar to AG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buClr>
                <a:srgbClr val="000000"/>
              </a:buClr>
              <a:buFont typeface="Wingdings" charset="2"/>
              <a:buChar char=""/>
              <a:tabLst>
                <a:tab algn="l" pos="79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buClr>
                <a:srgbClr val="000000"/>
              </a:buClr>
              <a:buFont typeface="Wingdings" charset="2"/>
              <a:buChar char=""/>
              <a:tabLst>
                <a:tab algn="l" pos="79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te has to “look”, “act”, and “smell” like a generation resource (eg; power flow at point of the settlement meter shall be a net generation point while providing services as a controllable loa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buClr>
                <a:srgbClr val="000000"/>
              </a:buClr>
              <a:buFont typeface="Wingdings" charset="2"/>
              <a:buChar char=""/>
              <a:tabLst>
                <a:tab algn="l" pos="79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buClr>
                <a:srgbClr val="000000"/>
              </a:buClr>
              <a:buFont typeface="Wingdings" charset="2"/>
              <a:buChar char=""/>
              <a:tabLst>
                <a:tab algn="l" pos="79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ed to bid in as a “GEN” type and not “CLD” Resource (for RRS onl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buClr>
                <a:srgbClr val="000000"/>
              </a:buClr>
              <a:buFont typeface="Wingdings" charset="2"/>
              <a:buChar char=""/>
              <a:tabLst>
                <a:tab algn="l" pos="79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buClr>
                <a:srgbClr val="000000"/>
              </a:buClr>
              <a:buFont typeface="Wingdings" charset="2"/>
              <a:buChar char=""/>
              <a:tabLst>
                <a:tab algn="l" pos="79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ource agrees to waive its right to receive any resource-specific premium payments that would result from a unit specific instruction (OO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tabLst>
                <a:tab algn="l" pos="0"/>
                <a:tab algn="l" pos="79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tabLst>
                <a:tab algn="l" pos="0"/>
                <a:tab algn="l" pos="79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S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15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ontrollable Load Resourc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"/>
          <p:cNvSpPr/>
          <p:nvPr/>
        </p:nvSpPr>
        <p:spPr>
          <a:xfrm>
            <a:off x="441360" y="1027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69960" y="217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8320" y="762120"/>
            <a:ext cx="25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Status 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2280" y="1219320"/>
            <a:ext cx="8763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349200"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ted pilot project in October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5920" indent="349200"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5920" indent="349200"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limit potential disruption to ERCOT frequenc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only one Load Resource was allowed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icipate up to 10 M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5920" indent="349200"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5920" indent="349200"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lot successfully concluded in early January 200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5920" indent="349200"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5920" indent="349200"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nuary PUCT Open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CT directed ERCOT to open service up to all particip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5920" indent="349200"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COT estimates up to 150 MWs of load coul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icipate as Controllable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5920" indent="349200"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S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15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ontrollable Load Resourc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"/>
          <p:cNvSpPr/>
          <p:nvPr/>
        </p:nvSpPr>
        <p:spPr>
          <a:xfrm>
            <a:off x="441360" y="1027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69960" y="217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9960" y="1154160"/>
            <a:ext cx="7940520" cy="47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ontrollable Load can provi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ulation Up, Regulation Down, or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ive Reserve Serv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y capacity from a Controllable Load providing RRS would not be included  in the ERCOT established limit for LaaRs providing R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S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15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ontrollable Load Resourc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"/>
          <p:cNvSpPr/>
          <p:nvPr/>
        </p:nvSpPr>
        <p:spPr>
          <a:xfrm>
            <a:off x="441360" y="1027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217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5160" y="762120"/>
            <a:ext cx="616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Qualification Test for a Controllable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279440"/>
            <a:ext cx="91440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8557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Qualification Criteria and Portfolio Test Methods as described in the Protocols is a QSE portfolio level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8557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8557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takeholders and ERCOT both wanted to test each Controllable Loads ability to provide Regulation and Responsive Reserve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8557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8557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ce ERCOT cannot create a resource specific Regulation and Responsive Reserve Service instruction the proposed qualification test procedure is as follow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855720"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me qualification criteria currently used to qualify QSE portfol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855720"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quire QSE to set all non-CLR on manual contro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855720"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ontrol signal sent to the QSE will test the controllable loads ability to achieve the entire amount of Regulation requested for qual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855720"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ly the CLR is expected to control to the sig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855720"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S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15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mpatterson</cp:lastModifiedBy>
  <dcterms:modified xsi:type="dcterms:W3CDTF">2007-02-14T21:31:15Z</dcterms:modified>
  <cp:revision>58</cp:revision>
  <dc:subject/>
  <dc:title>Instructions</dc:title>
</cp:coreProperties>
</file>