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2D7-75A2-48C7-AB03-F8CBC4FF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062-C937-4E95-B573-6765D16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A1E-D8AD-4037-9B67-DBF29648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9F1-9795-442F-9855-EF6F004E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A64-60FB-4B0C-B70C-C61027F8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683-CA00-45FB-AFAC-E299D93C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2E2-5E49-4A8E-BE0D-DE366A2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F50-748E-4C43-A3D5-027F49B1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73D-D499-459D-B07E-03B8F17E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D79-760B-4DB5-B772-6EBFCA66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C03-021F-470C-BFD4-B18CA15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BBE-C1FD-411F-ADA0-0440E26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5A6E-D0D4-4AFA-8F57-9A13C23D8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bruary 15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Control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erformance in January was better than last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15 minute interval graph improvement can be seen around the evening peak and 2200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good daily scores between Januar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January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S1 data improved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-914400"/>
            <a:ext cx="9096480" cy="77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CWG Goals and Planned Tasks fo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QSE performance during Disturbances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CT Governor test procedure OGRR (Q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QSE Response graphs (Q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Nodal control performance NPRR (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QSE Nodal AGC Guidelines (Q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 LAAR impact on Nodal operations (Q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Nodal RRS and NSRS Compliance Criteria (Q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-annual ERCOT Bias recommendations (Q2, Q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ROS assignments (As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Sydney L. Niemeyer</dc:creator>
  <dc:description/>
  <dc:language>en-US</dc:language>
  <cp:lastModifiedBy>Bob Green</cp:lastModifiedBy>
  <dcterms:modified xsi:type="dcterms:W3CDTF">2007-02-13T18:13:23Z</dcterms:modified>
  <cp:revision>8</cp:revision>
  <dc:subject/>
  <dc:title>Slide 1</dc:title>
</cp:coreProperties>
</file>