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3910-EA0C-4802-AD62-091B2222B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262A-96F7-4499-8859-0A036C0DA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E90A-A0B3-4057-9467-45B727181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D43B-CCD7-4283-87AC-AA900CB37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0819-4972-4DEB-AB28-543852A46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04A7-7C5D-45CC-9B9E-25AC010E7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BF9B-811A-4C96-A530-9ECDAC267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AA25-EABC-427A-BFE3-0DDE028BD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69B8-4591-466A-99A1-328A4A667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B93E-129F-4C40-ACD9-FDC4D1A1C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6CAD-3599-4CAB-A0CF-239679B82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4734-3FC1-4F81-B858-9FFF68FAF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30320"/>
            <a:ext cx="9144000" cy="22860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409800"/>
            <a:ext cx="914400" cy="3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7646-C677-4F3D-B3A9-D90370254CE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130320"/>
            <a:ext cx="1427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5520" y="700200"/>
            <a:ext cx="1285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04360" y="6429240"/>
            <a:ext cx="8077320" cy="3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5600" y="2174040"/>
            <a:ext cx="7569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n GATF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51160" y="2923920"/>
            <a:ext cx="4788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Operations Sub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15, 20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colm Smi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TF Cha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480" y="2131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Task Force Meeting Summary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eneration Adequacy Task Force has met six times in 2006 and 2007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ly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vember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nuary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nuary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59560" y="2781360"/>
            <a:ext cx="2574720" cy="26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B170-279C-4849-BD4A-3D707E74D2A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9080" y="2617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DR Methodology Components 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1040" y="1666800"/>
            <a:ext cx="8616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ad Forec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 Respo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 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chable”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hballed”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ired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 Network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Generating Capacit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489F-C730-4FF3-8335-29C500E26D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9080" y="2617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GATF Recommendations 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1040" y="1666800"/>
            <a:ext cx="8616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ad Forecast –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 Response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 Ties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chable” Capacity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 Capacity –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Increase from 2.6% to 8.7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hballed” Capacity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ired Capacity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 Network Capacity –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Generating Capacit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No Change, But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2697-784F-475B-8684-6419D0367E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Recommendations - Detail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t estimate determined to be capacity equivalence from the LOLP stud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intends to run LOLP study biannually (which is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ending topic at GATF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Generating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hange, bu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change “below the line” format to list new generation that is in the interconnection queue at ERCOT and/or generation that has an air permit but not a signed Interconnect Agreement.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developers are being asked to communicate air permit status to ERCO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68EE-C971-4B79-AA1B-7C723AE50D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Format Changes to CDR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1600" y="1536840"/>
            <a:ext cx="847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mmend several format changes to summar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 reserve margin percentages for “high” , “low”, and “publicly announced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line item for “uncommitted” (?) capacity (including remaining “mothballed” capacity and wind at X% capacity val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C181-7AEC-49BA-B3AD-3271760D9B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536840"/>
            <a:ext cx="847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changes are so slight, GATF is formulating a written addendum to last year’s report as its Final Re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F planning to submit Final Report to TAC in Mar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40CD-D2FE-46F6-962D-EB9196499F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603576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FDEF-D8BE-4234-A1A6-11BEDEAFC1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20640" y="2057400"/>
            <a:ext cx="34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Question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Brian Bartos</dc:creator>
  <dc:description/>
  <dc:language>en-US</dc:language>
  <cp:lastModifiedBy>Malcolm Smith</cp:lastModifiedBy>
  <dcterms:modified xsi:type="dcterms:W3CDTF">2007-02-13T17:41:40Z</dcterms:modified>
  <cp:revision>161</cp:revision>
  <dc:subject/>
  <dc:title>Slide 1</dc:title>
</cp:coreProperties>
</file>