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B17C2-F32B-413D-A865-6E26CC4FC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9B6CC-6AAA-4D4C-BBF6-002CF16F3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77036-C946-4B25-BBE0-1CD57AC8F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C1192-BE26-469E-9A5B-81782B8EB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BB6D4-FB97-4E7D-A33B-78609F22C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DDB68-E481-406C-B0A3-2020A82C8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9AE54-CA53-4B0A-9D4F-FC76C8B61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A2A01-675F-4368-866D-15345F8D8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CD168-D993-4C4E-B12E-88558CE5E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E04F3-ED35-4FEF-B257-E9B933A36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C9821-7044-4D88-A982-180CADC8F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8A6E-5DE8-4360-BD5A-A3DDC5BF0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57200" y="6432480"/>
            <a:ext cx="289548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2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4"/>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 name=""/>
          <p:cNvSpPr/>
          <p:nvPr/>
        </p:nvSpPr>
        <p:spPr>
          <a:xfrm>
            <a:off x="5791320" y="6445080"/>
            <a:ext cx="3124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2006 Accomplishments &amp; 2007 Goals</a:t>
            </a:r>
            <a:endParaRPr b="0" lang="en-US" sz="1200" spc="-1" strike="noStrike">
              <a:solidFill>
                <a:srgbClr val="000000"/>
              </a:solidFill>
              <a:latin typeface="Arial"/>
            </a:endParaRPr>
          </a:p>
        </p:txBody>
      </p:sp>
      <p:sp>
        <p:nvSpPr>
          <p:cNvPr id="10" name="PlaceHolder 5"/>
          <p:cNvSpPr>
            <a:spLocks noGrp="1"/>
          </p:cNvSpPr>
          <p:nvPr>
            <p:ph type="sldNum" idx="3"/>
          </p:nvPr>
        </p:nvSpPr>
        <p:spPr>
          <a:xfrm>
            <a:off x="3733920" y="640980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8CD6-0847-4854-BCC6-5C7011EFF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le of Account Management at ERCOT</a:t>
            </a:r>
            <a:endParaRPr b="0" lang="en-US" sz="2000" spc="-1" strike="noStrike">
              <a:solidFill>
                <a:srgbClr val="ffffff"/>
              </a:solidFill>
              <a:latin typeface="Arial Black"/>
            </a:endParaRPr>
          </a:p>
        </p:txBody>
      </p:sp>
      <p:sp>
        <p:nvSpPr>
          <p:cNvPr id="48" name=""/>
          <p:cNvSpPr/>
          <p:nvPr/>
        </p:nvSpPr>
        <p:spPr>
          <a:xfrm>
            <a:off x="0" y="1143000"/>
            <a:ext cx="9144000" cy="5715000"/>
          </a:xfrm>
          <a:prstGeom prst="rect">
            <a:avLst/>
          </a:prstGeom>
          <a:solidFill>
            <a:srgbClr val="2941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143000" y="2590920"/>
            <a:ext cx="6781680" cy="359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C Report to the ERCOT Board of Director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6 Accomplishments and 2007 TAC &amp; Subcommittee Goal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ebruary 20, 2007</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a:t>
            </a:r>
            <a:endParaRPr b="0" lang="en-US" sz="2000" spc="-1" strike="noStrike">
              <a:solidFill>
                <a:srgbClr val="ffffff"/>
              </a:solidFill>
              <a:latin typeface="Arial Black"/>
            </a:endParaRPr>
          </a:p>
        </p:txBody>
      </p:sp>
      <p:sp>
        <p:nvSpPr>
          <p:cNvPr id="68"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forum for issue resolution in regards to retail market matters directly affecting ERCOT and ERCOT Protoco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Public Utility Commission (PUCT) rulings as they would apply to retail markets and retail Market Participants and ensure that PUCT requirements are reflected in the Retail Market Guides, protocols and Texas Standard Electronic Transaction (Texas 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processes for changes to retail transactions, profiling, and competitive meter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B9E0FB9-0961-48AA-9F8F-E7F7CA2113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6 Accomplishments</a:t>
            </a:r>
            <a:endParaRPr b="0" lang="en-US" sz="2000" spc="-1" strike="noStrike">
              <a:solidFill>
                <a:srgbClr val="ffffff"/>
              </a:solidFill>
              <a:latin typeface="Arial Black"/>
            </a:endParaRPr>
          </a:p>
        </p:txBody>
      </p:sp>
      <p:sp>
        <p:nvSpPr>
          <p:cNvPr id="70" name="PlaceHolder 2"/>
          <p:cNvSpPr>
            <a:spLocks noGrp="1"/>
          </p:cNvSpPr>
          <p:nvPr>
            <p:ph/>
          </p:nvPr>
        </p:nvSpPr>
        <p:spPr>
          <a:xfrm>
            <a:off x="228600" y="1066320"/>
            <a:ext cx="8686800" cy="4800600"/>
          </a:xfrm>
          <a:prstGeom prst="rect">
            <a:avLst/>
          </a:prstGeom>
          <a:noFill/>
          <a:ln w="0">
            <a:noFill/>
          </a:ln>
        </p:spPr>
        <p:txBody>
          <a:bodyPr lIns="90000" rIns="90000" tIns="46800" bIns="46800" anchor="t">
            <a:normAutofit/>
          </a:bodyPr>
          <a:p>
            <a:pPr lvl="1" marL="838080" indent="-380880">
              <a:lnSpc>
                <a:spcPct val="80000"/>
              </a:lnSpc>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lemented significant improvements to the Mass Transition Process:</a:t>
            </a:r>
            <a:endParaRPr b="0" lang="en-US" sz="1900" spc="-1" strike="noStrike">
              <a:solidFill>
                <a:srgbClr val="000000"/>
              </a:solidFill>
              <a:latin typeface="Arial"/>
            </a:endParaRPr>
          </a:p>
          <a:p>
            <a:pPr lvl="2" marL="1371600" indent="-457200">
              <a:lnSpc>
                <a:spcPct val="80000"/>
              </a:lnSpc>
              <a:spcBef>
                <a:spcPts val="476"/>
              </a:spcBef>
              <a:spcAft>
                <a:spcPts val="4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ed interim manual process to expedite Mass Transition Processing: reduced number of days for POLR CR to submit Switch Request; reduced FASD from 6 to 3 days. </a:t>
            </a:r>
            <a:endParaRPr b="0" lang="en-US" sz="1900" spc="-1" strike="noStrike">
              <a:solidFill>
                <a:srgbClr val="000000"/>
              </a:solidFill>
              <a:latin typeface="Arial"/>
            </a:endParaRPr>
          </a:p>
          <a:p>
            <a:pPr lvl="2" marL="1371600" indent="-457200">
              <a:lnSpc>
                <a:spcPct val="80000"/>
              </a:lnSpc>
              <a:spcBef>
                <a:spcPts val="476"/>
              </a:spcBef>
              <a:spcAft>
                <a:spcPts val="4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R 660, Texas SET Transactional Solution for a Mass Transition Event.</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GRR031 update and clarification to IDR Installation Process for mandatory and optional IDR installations.</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 Availability Agreement with ERCOT for documentation and development of Measurements Reporting Tool. </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748 website enhancements to support ERCOT Outage Notifications.</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CT Project No. 29637 Standard Terms and Conditions--market process documentation and transaction process changes. </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 RMG process documentation updates; PRR672 relating to ERCOT transaction timing; &amp; PRR693 specific to ERCOT processing of Priority MVI requests.</a:t>
            </a:r>
            <a:endParaRPr b="0" lang="en-US" sz="1900" spc="-1" strike="noStrike">
              <a:solidFill>
                <a:srgbClr val="000000"/>
              </a:solidFill>
              <a:latin typeface="Arial"/>
            </a:endParaRPr>
          </a:p>
          <a:p>
            <a:pPr lvl="1" marL="838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BFD4FD0E-A1C7-4A87-879F-99DF4326A1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6 Accomplishments (con’t)</a:t>
            </a:r>
            <a:endParaRPr b="0" lang="en-US" sz="2000" spc="-1" strike="noStrike">
              <a:solidFill>
                <a:srgbClr val="ffffff"/>
              </a:solidFill>
              <a:latin typeface="Arial Black"/>
            </a:endParaRPr>
          </a:p>
        </p:txBody>
      </p:sp>
      <p:sp>
        <p:nvSpPr>
          <p:cNvPr id="7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T Project No. 31416  amending 25.43 relating to the Provider of Last Resort:</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Information Repository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POLR to new POLR transition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ed POLR Workshop to inform and educate MP's on process.</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d transactions based Mass Transition Process enabling 5 day transition process (PRR 684, Mass Transition Process Necessary for PUC Rule 31416).</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equest of PUCT Staff, RMS hosted working group discussions relating to Advanced Meter Rulemaking and provided recommendation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MarkeTrak Phase I.</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C49E4A8-2B99-4D78-9B6B-6B83FF7EBB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7 Goals</a:t>
            </a:r>
            <a:endParaRPr b="0" lang="en-US" sz="2000" spc="-1" strike="noStrike">
              <a:solidFill>
                <a:srgbClr val="ffffff"/>
              </a:solidFill>
              <a:latin typeface="Arial Black"/>
            </a:endParaRPr>
          </a:p>
        </p:txBody>
      </p:sp>
      <p:sp>
        <p:nvSpPr>
          <p:cNvPr id="7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and improve SCR745, Retail Market Outage Evaluation &amp; Resolution, implementation and reporting.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ERCOT Service Availability Agreement to be inclusive of service degradation Issues.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implementation of SCR748, Website Enhancements for ERCOT Outage Notifications.</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TX SET 3.0 implementation (July).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MarkeTrak Phase II enhancements &amp; performance monitoring.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UCT activities: Advanced Metering, Performance Measures, and Prepay rulemakings.</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Move-ins:  Continue PRR672, Retail Market Timing Necessary for PUCT Project 29637, effort to improve ERCOT throughput of 814_20 maintenance transaction enabling adds and deletes. </a:t>
            </a:r>
            <a:endParaRPr b="0" lang="en-US" sz="2000" spc="-1" strike="noStrike">
              <a:solidFill>
                <a:srgbClr val="000000"/>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E606B7D-D4F9-4449-A326-C6CEA1F56A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a:t>
            </a:r>
            <a:endParaRPr b="0" lang="en-US" sz="2000" spc="-1" strike="noStrike">
              <a:solidFill>
                <a:srgbClr val="ffffff"/>
              </a:solidFill>
              <a:latin typeface="Arial Black"/>
            </a:endParaRPr>
          </a:p>
        </p:txBody>
      </p:sp>
      <p:sp>
        <p:nvSpPr>
          <p:cNvPr id="7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s, reviews and maintains operating guides and planning criteri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ERCOT reports and procedures related to the reliable operation of the ERCOT system in relation to system security and emergency operations, including:</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ning assessment; blackout restoration procedures; coordination of protective relay settings; operational communication facilities; operating reserve obligations; emergency operations; abnormal system conditions; transmission interconnections to generation; coordination of outage schedules; and other activit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ERCOT Protocol revisions and performs Protocol-required reviews of ancillary service provisions and commercially significant constrai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ACEADCC-C2CD-41DF-B56C-AA6416C86F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6 Accomplishments</a:t>
            </a:r>
            <a:endParaRPr b="0" lang="en-US" sz="2000" spc="-1" strike="noStrike">
              <a:solidFill>
                <a:srgbClr val="ffffff"/>
              </a:solidFill>
              <a:latin typeface="Arial Black"/>
            </a:endParaRPr>
          </a:p>
        </p:txBody>
      </p:sp>
      <p:sp>
        <p:nvSpPr>
          <p:cNvPr id="78" name="PlaceHolder 2"/>
          <p:cNvSpPr>
            <a:spLocks noGrp="1"/>
          </p:cNvSpPr>
          <p:nvPr>
            <p:ph/>
          </p:nvPr>
        </p:nvSpPr>
        <p:spPr>
          <a:xfrm>
            <a:off x="380880" y="11430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junction with WMS, addressed frequency control issue (Schedule Control Error (SCE) and governor response).</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56, SCE Performance Charge, and PRR 661, SCE Performance Enforcement Criteria, adopted and implemented.</a:t>
            </a:r>
            <a:endParaRPr b="0" lang="en-US" sz="18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 scores have since improved.</a:t>
            </a: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engineering work.</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S evaluated several incidents including a detailed analysis of the April 2006 EECP event.  As part of the review, the ROS modified the EECP procedures to alert the market sooner about potential emergency conditions (PRR 682, EECP Event Realignment).</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and winter issue review.</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updated the previous fuel and winter issue review. The updated study confirmed the risk of outage in the event of a natural gas curtailment during winter weath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DDAA29D-44FB-41F5-BB04-7ACC34F527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7 Goals</a:t>
            </a:r>
            <a:endParaRPr b="0" lang="en-US" sz="2000" spc="-1" strike="noStrike">
              <a:solidFill>
                <a:srgbClr val="ffffff"/>
              </a:solidFill>
              <a:latin typeface="Arial Black"/>
            </a:endParaRPr>
          </a:p>
        </p:txBody>
      </p:sp>
      <p:sp>
        <p:nvSpPr>
          <p:cNvPr id="80" name="PlaceHolder 2"/>
          <p:cNvSpPr>
            <a:spLocks noGrp="1"/>
          </p:cNvSpPr>
          <p:nvPr>
            <p:ph/>
          </p:nvPr>
        </p:nvSpPr>
        <p:spPr>
          <a:xfrm>
            <a:off x="380880" y="9144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st-effective strategies to minimize involuntary loss of load probability (EILS and successor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munications to TAC on reliability issues and/or even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exas Reliability Entity’s (TRE) standards drafting process (as outlined in the Texas RE Delegation Agreemen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mp; analyze ERCOT System Operations, Emergency Electric Curtailment Plan (EECP) events &amp; significant outages. </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changes to ERCOT Operating Guides, Protocols and Standards.</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MMS Conversion:  support the conversion of the ERCOT network model for use in the nodal marke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mpliance obligations for meeting NERC Standards and tasks delegated by ERCOT to entities via the ERCOT Protocols. </a:t>
            </a: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F3C0DA0-5CBE-46F9-8C5A-4DB0E4D5BF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7 Goals (con’t)</a:t>
            </a:r>
            <a:endParaRPr b="0" lang="en-US" sz="2000" spc="-1" strike="noStrike">
              <a:solidFill>
                <a:srgbClr val="ffffff"/>
              </a:solidFill>
              <a:latin typeface="Arial Black"/>
            </a:endParaRPr>
          </a:p>
        </p:txBody>
      </p:sp>
      <p:sp>
        <p:nvSpPr>
          <p:cNvPr id="82" name="PlaceHolder 2"/>
          <p:cNvSpPr>
            <a:spLocks noGrp="1"/>
          </p:cNvSpPr>
          <p:nvPr>
            <p:ph/>
          </p:nvPr>
        </p:nvSpPr>
        <p:spPr>
          <a:xfrm>
            <a:off x="380880" y="11430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chedule Control Error (SCE) scores and related performanc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WMS on Generation Adequacy Task Force (GATF) reserve margin criteria.</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he existing ERCOT Operating Guides to conform to the new nodal market.</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D8CEA2C-CFF8-43E6-85EB-BDC4C8E45E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lesale Market Subcommittee (WMS)</a:t>
            </a:r>
            <a:endParaRPr b="0" lang="en-US" sz="2000" spc="-1" strike="noStrike">
              <a:solidFill>
                <a:srgbClr val="ffffff"/>
              </a:solidFill>
              <a:latin typeface="Arial Black"/>
            </a:endParaRPr>
          </a:p>
        </p:txBody>
      </p:sp>
      <p:sp>
        <p:nvSpPr>
          <p:cNvPr id="8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nsure an efficient and nondiscriminatory wholesale market for all Market Participa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issues related to the operation of the wholesale market in the ERCOT region and makes recommendations for improve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Public Utility Commission of Texas rulings as they apply to wholesale markets and Market Participa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put into the methodology of Commercially Significant Constraints, changes to Ancillary Services (AS) and the evaluation of Resource adequacy in the ERCOT reg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the AS market operations and management of Zonal and Local Conges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8C1E606-2E0B-4EB1-9A6E-46F528249B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holesale Markets Subcommittee (WMS):  2006 Accomplishments</a:t>
            </a:r>
            <a:endParaRPr b="0" lang="en-US" sz="1800" spc="-1" strike="noStrike">
              <a:solidFill>
                <a:srgbClr val="ffffff"/>
              </a:solidFill>
              <a:latin typeface="Arial Black"/>
            </a:endParaRPr>
          </a:p>
        </p:txBody>
      </p:sp>
      <p:sp>
        <p:nvSpPr>
          <p:cNvPr id="86"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fontScale="99000"/>
          </a:bodyPr>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Control:  Reviewed and reported on the associations between SCE and frequency control.  Recommendations on 8 related PRRs.  Established direction for SCE compliance and regulation cost realloc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ed the effectiveness of the Simultaneous Selection of Ancillary Services introduced in the end of 2005.</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participant training for EMMS 4 and RPRS operations and settlemen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d lingering issues associated with ancillary services re-qualification.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nd approved QSE performance metric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d issues associated with large negative bids by LAARs for Responsive Reserve Servic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ed on and rewrote the Economic Transmission Planning Criteri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36ECA29-98AB-470E-A5F1-23E8A27E81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chnical Advisory Committee (TAC) </a:t>
            </a:r>
            <a:endParaRPr b="0" lang="en-US" sz="2000" spc="-1" strike="noStrike">
              <a:solidFill>
                <a:srgbClr val="ffffff"/>
              </a:solidFill>
              <a:latin typeface="Arial Black"/>
            </a:endParaRPr>
          </a:p>
        </p:txBody>
      </p:sp>
      <p:sp>
        <p:nvSpPr>
          <p:cNvPr id="5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8000"/>
          </a:bodyPr>
          <a:p>
            <a:pPr marL="54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s of TAC (ERCOT Bylaws Section 5.2)</a:t>
            </a:r>
            <a:endParaRPr b="1" lang="en-US" sz="2000" spc="-1" strike="noStrike">
              <a:solidFill>
                <a:srgbClr val="000000"/>
              </a:solidFill>
              <a:latin typeface="Arial"/>
            </a:endParaRPr>
          </a:p>
          <a:p>
            <a:pPr marL="54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shall: </a:t>
            </a:r>
            <a:endParaRPr b="1"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its subcommittees make such studies &amp; plans as it deems appropriate to accomplish the purposes of ERCOT, the duties of its subcommittees and policies of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the results of such studies &amp; plans to the Board as required by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mp; coordinate the activities &amp; reports of its subcommittees,</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ch recommendations to the Board as it deems appropriate or as required by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such other duties as directed by the Board, an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recommendations regarding ERCOT expenditures and projects. </a:t>
            </a:r>
            <a:endParaRPr b="0" lang="en-US" sz="2000" spc="-1" strike="noStrike">
              <a:solidFill>
                <a:srgbClr val="000000"/>
              </a:solidFill>
              <a:latin typeface="Arial"/>
            </a:endParaRPr>
          </a:p>
          <a:p>
            <a:pPr lvl="1" marL="82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506B9BE-1B64-43B4-A4E8-9E86C9A6FD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holesale Markets Subcommittee (WMS):  2006 Accomplishments (con’t)</a:t>
            </a:r>
            <a:endParaRPr b="0" lang="en-US" sz="1800" spc="-1" strike="noStrike">
              <a:solidFill>
                <a:srgbClr val="ffffff"/>
              </a:solidFill>
              <a:latin typeface="Arial Black"/>
            </a:endParaRPr>
          </a:p>
        </p:txBody>
      </p:sp>
      <p:sp>
        <p:nvSpPr>
          <p:cNvPr id="88"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ed and reported on BENA and all of its components and provided tools for individualized participant repor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a report and established a market direction related to real time co-optim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market design issues associated with the April 17</a:t>
            </a:r>
            <a:r>
              <a:rPr b="0" lang="en-US" sz="2000" spc="-1" strike="noStrike" baseline="30000">
                <a:solidFill>
                  <a:srgbClr val="000000"/>
                </a:solidFill>
                <a:latin typeface="Arial"/>
              </a:rPr>
              <a:t>th</a:t>
            </a:r>
            <a:r>
              <a:rPr b="0" lang="en-US" sz="2000" spc="-1" strike="noStrike">
                <a:solidFill>
                  <a:srgbClr val="000000"/>
                </a:solidFill>
                <a:latin typeface="Arial"/>
              </a:rPr>
              <a:t> ev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ed new zones, CSCs, and CREs for 200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d the performance of RPRS and ultimately recommended approaches to change it (PRR 674 and PRR 67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d and reported on ERCOT’s request for an Emergency Interruptible Load Service (EILS).  Produced 4 PRRs and forwarded recommendations to TA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methodologies for determining reserve margin calculation (recommended expected in early 2007).</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7674048-BF17-4B51-9943-3389D1604F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lesale Market Subcommittee (WMS):  2007 Goals</a:t>
            </a:r>
            <a:endParaRPr b="0" lang="en-US" sz="2000" spc="-1" strike="noStrike">
              <a:solidFill>
                <a:srgbClr val="ffffff"/>
              </a:solidFill>
              <a:latin typeface="Arial Black"/>
            </a:endParaRPr>
          </a:p>
        </p:txBody>
      </p:sp>
      <p:sp>
        <p:nvSpPr>
          <p:cNvPr id="9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st-effective strategies to minimize involuntary loss of load probability (EILS and successor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review of revised ERCOT reserve margin calculation methodology and make appropriate recommendation to TAC.</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 the issue of Renewable Production Potential (RPP) &amp; Uninstructed Resource Charge (URC).</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settlement of Ancillary Services for multiple marke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Implementation of CREZ &amp; Resource Adequacy/Market Power Rul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capacity value of distributed gener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verifiable and minimum-energy costs for the Nodal Market.</a:t>
            </a: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F070D0E-DB7A-45C9-9E19-693DF7A5A6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9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the processes through which ERCOT market data is translated into financial settleme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improve commercial operations by integrating the retail variance and wholesale market settlements processes, including dispute resolution. </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s include the application of load profiles, data aggregation, data extract variances; transmission congestion rights settlements; qualified scheduling entity settlements; invoicing; and dispute resolutio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the settlements calendar; settlement-related performance metrics and tracking; market participant data needs for shadow settlements; and the market's overall needs for data extracts, delivery and present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62D0E72-9410-43B8-907E-A904245E94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6 Accomplishments</a:t>
            </a:r>
            <a:endParaRPr b="0" lang="en-US" sz="2000" spc="-1" strike="noStrike">
              <a:solidFill>
                <a:srgbClr val="ffffff"/>
              </a:solidFill>
              <a:latin typeface="Arial Black"/>
            </a:endParaRPr>
          </a:p>
        </p:txBody>
      </p:sp>
      <p:sp>
        <p:nvSpPr>
          <p:cNvPr id="9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4000"/>
          </a:bodyPr>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 hoc task force created to review TPTF working documents as they relate to data and financial settlement processes (now formalized in the Settlements and Data Aggregation Working Group (SDAWG).</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with RMS to transition PWG into COPS and maintain timely completion of Annual Validation Proces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through process to change “Settlement Invoice Due Date” from 16 Calendar Days to 5 Business Day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WG completed implementation of new profile determinate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Commercial Operations Market Guide” and established a structured revision process </a:t>
            </a:r>
            <a:r>
              <a:rPr b="0" i="1" lang="en-US" sz="2000" spc="-1" strike="noStrike">
                <a:solidFill>
                  <a:srgbClr val="000000"/>
                </a:solidFill>
                <a:latin typeface="Arial"/>
              </a:rPr>
              <a:t>(similar to other guides)</a:t>
            </a:r>
            <a:r>
              <a:rPr b="0" lang="en-US" sz="2000" spc="-1" strike="noStrike">
                <a:solidFill>
                  <a:srgbClr val="000000"/>
                </a:solidFill>
                <a:latin typeface="Arial"/>
              </a:rPr>
              <a:t>.</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CP Communication Plan -- updated/refined template and processe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 to PRS regarding </a:t>
            </a:r>
            <a:r>
              <a:rPr b="0" i="1" lang="en-US" sz="2000" spc="-1" strike="noStrike">
                <a:solidFill>
                  <a:srgbClr val="000000"/>
                </a:solidFill>
                <a:latin typeface="Arial"/>
              </a:rPr>
              <a:t>“discontinuing interest charges for defaulting entities at time of uplift.”</a:t>
            </a:r>
            <a:endParaRPr b="0" lang="en-US" sz="2000" spc="-1" strike="noStrike">
              <a:solidFill>
                <a:srgbClr val="000000"/>
              </a:solidFill>
              <a:latin typeface="Arial"/>
            </a:endParaRPr>
          </a:p>
          <a:p>
            <a:pPr lvl="1" marL="787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87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B7A4A8B-1314-4E6A-BF63-2E1E663EE9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6 Accomplishments (con’t)</a:t>
            </a:r>
            <a:endParaRPr b="0" lang="en-US" sz="2000" spc="-1" strike="noStrike">
              <a:solidFill>
                <a:srgbClr val="ffffff"/>
              </a:solidFill>
              <a:latin typeface="Arial Black"/>
            </a:endParaRPr>
          </a:p>
        </p:txBody>
      </p:sp>
      <p:sp>
        <p:nvSpPr>
          <p:cNvPr id="9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a:solidFill>
                  <a:srgbClr val="000000"/>
                </a:solidFill>
                <a:latin typeface="Arial"/>
              </a:rPr>
              <a:t>he DEWG co-sponsored with ERCOT a successful web services training – 60 participant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updated the Extract and Report Matrix – up to date matrix of all reports and extracts produced by ERCOT on websit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creen Scraping” – MPs’ concern that ERCOT “policies” conflict with MPs’ need to access information – MIS group under TPTF is aware of market concerns and added this issue to their log.</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monitored progress of implementation and performance issues of data and extrac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FE Task Force analyzed the historical trends in volatility and magnitude of UFE, yielding a better understanding of the drivers of UFE.</a:t>
            </a:r>
            <a:endParaRPr b="0" lang="en-US" sz="20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58EA1D-5798-4A3B-8A0D-609D460E12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7 Goals</a:t>
            </a:r>
            <a:endParaRPr b="0" lang="en-US" sz="2000" spc="-1" strike="noStrike">
              <a:solidFill>
                <a:srgbClr val="ffffff"/>
              </a:solidFill>
              <a:latin typeface="Arial Black"/>
            </a:endParaRPr>
          </a:p>
        </p:txBody>
      </p:sp>
      <p:sp>
        <p:nvSpPr>
          <p:cNvPr id="98" name="PlaceHolder 2"/>
          <p:cNvSpPr>
            <a:spLocks noGrp="1"/>
          </p:cNvSpPr>
          <p:nvPr>
            <p:ph/>
          </p:nvPr>
        </p:nvSpPr>
        <p:spPr>
          <a:xfrm>
            <a:off x="380880" y="1142640"/>
            <a:ext cx="8382240" cy="4876920"/>
          </a:xfrm>
          <a:prstGeom prst="rect">
            <a:avLst/>
          </a:prstGeom>
          <a:noFill/>
          <a:ln w="0">
            <a:noFill/>
          </a:ln>
        </p:spPr>
        <p:txBody>
          <a:bodyPr lIns="90000" rIns="90000" tIns="46800" bIns="46800" anchor="t">
            <a:normAutofit/>
          </a:bodyPr>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nodal implementation &amp; changes in market processe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rganize, monitor, and assist, the COPS working groups assigned specific tasks as they relate to nodal activity.</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t dispute timelines &amp; settlement proces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tlements &amp; Data Aggregation Working Group (SDAWG):</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nodal settlement timelines &amp; accounting processes.</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and comment on all relative TPTF working documents as they relate to the financial &amp; settlement processes; suggest Protocol language changes as required.</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implementation process as nodal progresse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PS Communication Working Group (CCWG):</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developing the Commercial Operations Market Guide.</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unplanned outage communication process and templat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093277-CEDA-46E5-8CAF-B66719508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7 Goals (con’t)</a:t>
            </a:r>
            <a:endParaRPr b="0" lang="en-US" sz="2000" spc="-1" strike="noStrike">
              <a:solidFill>
                <a:srgbClr val="ffffff"/>
              </a:solidFill>
              <a:latin typeface="Arial Black"/>
            </a:endParaRPr>
          </a:p>
        </p:txBody>
      </p:sp>
      <p:sp>
        <p:nvSpPr>
          <p:cNvPr id="10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filing Working Group (PWG):</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effort to improve determinates.</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implementation of new profile determinates on time and on budget.</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rocess, timelines, market issues</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data is correct</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oversight of Annual Validation Process</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onitor, and Suggest Improvements to Profiling Process</a:t>
            </a:r>
            <a:endParaRPr b="0" lang="en-US" sz="2000" spc="-1" strike="noStrike">
              <a:solidFill>
                <a:srgbClr val="000000"/>
              </a:solidFill>
              <a:latin typeface="Arial"/>
            </a:endParaRPr>
          </a:p>
          <a:p>
            <a:pPr lvl="1" marL="8380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xtracts Working Group and UFE Task Force:</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ctive until needed. </a:t>
            </a:r>
            <a:endParaRPr b="0" lang="en-US" sz="2000" spc="-1" strike="noStrike">
              <a:solidFill>
                <a:srgbClr val="000000"/>
              </a:solidFill>
              <a:latin typeface="Arial"/>
            </a:endParaRPr>
          </a:p>
          <a:p>
            <a:pPr marL="554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6D8A8EC-F901-434B-B007-D93B8CDB103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chnical Advisory Committee (TAC) </a:t>
            </a:r>
            <a:endParaRPr b="0" lang="en-US" sz="2000" spc="-1" strike="noStrike">
              <a:solidFill>
                <a:srgbClr val="ffffff"/>
              </a:solidFill>
              <a:latin typeface="Arial Black"/>
            </a:endParaRPr>
          </a:p>
        </p:txBody>
      </p:sp>
      <p:sp>
        <p:nvSpPr>
          <p:cNvPr id="54" name="PlaceHolder 2"/>
          <p:cNvSpPr>
            <a:spLocks noGrp="1"/>
          </p:cNvSpPr>
          <p:nvPr>
            <p:ph/>
          </p:nvPr>
        </p:nvSpPr>
        <p:spPr>
          <a:xfrm>
            <a:off x="228240" y="685800"/>
            <a:ext cx="8915400" cy="5486400"/>
          </a:xfrm>
          <a:prstGeom prst="rect">
            <a:avLst/>
          </a:prstGeom>
          <a:noFill/>
          <a:ln w="0">
            <a:noFill/>
          </a:ln>
        </p:spPr>
        <p:txBody>
          <a:bodyPr lIns="90000" rIns="90000" tIns="46800" bIns="46800" anchor="t">
            <a:normAutofit fontScale="97000"/>
          </a:bodyPr>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C, comprised of stakeholders, makes recommendations to the Board and is assisted by five subcommittees and the Transition Plan Task Force (TPTF): </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Operations Subcommittee (COP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Revisions Subcommittee (P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and Operations Subcommittee (RO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Market Subcommittee (RM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sale Market Subcommittee (WM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Plan Task Force (TPTF)</a:t>
            </a:r>
            <a:endParaRPr b="0" lang="en-US" sz="2000" spc="-1" strike="noStrike">
              <a:solidFill>
                <a:srgbClr val="000000"/>
              </a:solidFill>
              <a:latin typeface="Arial"/>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s are represented on all committees.</a:t>
            </a:r>
            <a:endParaRPr b="1" lang="en-US" sz="20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erous task forces (temporary) and working groups (permanent) reporting to these major subcommittees also meet regularly. </a:t>
            </a:r>
            <a:endParaRPr b="1" lang="en-US" sz="20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TAC and subcommittee structure developed in 2000, with the later addition of COPS.</a:t>
            </a:r>
            <a:endParaRPr b="1" lang="en-US" sz="2000" spc="-1" strike="noStrike">
              <a:solidFill>
                <a:srgbClr val="000000"/>
              </a:solidFill>
              <a:latin typeface="Arial"/>
            </a:endParaRPr>
          </a:p>
          <a:p>
            <a:pPr marL="3326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7D13091-88FD-4B87-B1AD-83B916AAEF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igh Level TAC Goals for 2007</a:t>
            </a:r>
            <a:endParaRPr b="0" lang="en-US" sz="2000" spc="-1" strike="noStrike">
              <a:solidFill>
                <a:srgbClr val="ffffff"/>
              </a:solidFill>
              <a:latin typeface="Arial Black"/>
            </a:endParaRPr>
          </a:p>
        </p:txBody>
      </p:sp>
      <p:sp>
        <p:nvSpPr>
          <p:cNvPr id="5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munications</a:t>
            </a:r>
            <a:endParaRPr b="1" lang="en-US" sz="2600" spc="-1" strike="noStrike">
              <a:solidFill>
                <a:srgbClr val="000000"/>
              </a:solidFill>
              <a:latin typeface="Arial"/>
            </a:endParaRPr>
          </a:p>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versight</a:t>
            </a:r>
            <a:endParaRPr b="1" lang="en-US" sz="2600" spc="-1" strike="noStrike">
              <a:solidFill>
                <a:srgbClr val="000000"/>
              </a:solidFill>
              <a:latin typeface="Arial"/>
            </a:endParaRPr>
          </a:p>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iability -- Market Interactions</a:t>
            </a:r>
            <a:endParaRPr b="1"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sa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01067B-7A6A-411B-A2E6-AC18527B5D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Goals for 2007</a:t>
            </a:r>
            <a:r>
              <a:rPr b="0" lang="en-US" sz="2000" spc="-1" strike="noStrike">
                <a:solidFill>
                  <a:srgbClr val="ffffff"/>
                </a:solidFill>
                <a:latin typeface="Arial Black"/>
              </a:rPr>
              <a:t>	</a:t>
            </a:r>
            <a:r>
              <a:rPr b="0" lang="en-US" sz="2000" spc="-1" strike="noStrike">
                <a:solidFill>
                  <a:srgbClr val="ffffff"/>
                </a:solidFill>
                <a:latin typeface="Arial Black"/>
              </a:rPr>
              <a:t>-- As Articulated by TAC Members</a:t>
            </a:r>
            <a:endParaRPr b="0" lang="en-US" sz="2000" spc="-1" strike="noStrike">
              <a:solidFill>
                <a:srgbClr val="ffffff"/>
              </a:solidFill>
              <a:latin typeface="Arial Black"/>
            </a:endParaRPr>
          </a:p>
        </p:txBody>
      </p:sp>
      <p:sp>
        <p:nvSpPr>
          <p:cNvPr id="58" name="PlaceHolder 2"/>
          <p:cNvSpPr>
            <a:spLocks noGrp="1"/>
          </p:cNvSpPr>
          <p:nvPr>
            <p:ph/>
          </p:nvPr>
        </p:nvSpPr>
        <p:spPr>
          <a:xfrm>
            <a:off x="380880" y="1066680"/>
            <a:ext cx="8382240" cy="518184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more in-depth communications to TAC and stakeholders on reliability issue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focus on retail transactions processing, outages, service degradation, and communication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the appropriate level of stakeholder involvement in the formation of the TRE &amp; improve communications to the stakeholders about TRE development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generation adequacy to meet preferred reserve margin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 the Economic Impact Analysis proces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level of review of and input to transmission studie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ERCOT credit requirements of Market Participant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9FFF0A1A-68C2-4EE7-928D-0D69BAAF1A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360"/>
            <a:ext cx="8610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Goals for 2007</a:t>
            </a:r>
            <a:r>
              <a:rPr b="0" lang="en-US" sz="2000" spc="-1" strike="noStrike">
                <a:solidFill>
                  <a:srgbClr val="ffffff"/>
                </a:solidFill>
                <a:latin typeface="Arial Black"/>
              </a:rPr>
              <a:t>	</a:t>
            </a:r>
            <a:r>
              <a:rPr b="0" lang="en-US" sz="2000" spc="-1" strike="noStrike">
                <a:solidFill>
                  <a:srgbClr val="ffffff"/>
                </a:solidFill>
                <a:latin typeface="Arial Black"/>
              </a:rPr>
              <a:t>-- As Articulated by TAC Members (con’t)</a:t>
            </a:r>
            <a:endParaRPr b="0" lang="en-US" sz="2000" spc="-1" strike="noStrike">
              <a:solidFill>
                <a:srgbClr val="ffffff"/>
              </a:solidFill>
              <a:latin typeface="Arial Black"/>
            </a:endParaRPr>
          </a:p>
        </p:txBody>
      </p:sp>
      <p:sp>
        <p:nvSpPr>
          <p:cNvPr id="6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sight and synchronization of transition between zonal and nodal PRR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al Implementation Oversight – identify the appropriate rule for the TAC stakeholders in oversight of &amp; communications related to nodal implementa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Market Readiness Criteri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 as initial body for appe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approve Performance Monitoring progr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put to change reque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market participant readiness—standards and communications.</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93DF63A0-28A1-4D73-8037-FBF924EFE2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a:t>
            </a:r>
            <a:endParaRPr b="0" lang="en-US" sz="2000" spc="-1" strike="noStrike">
              <a:solidFill>
                <a:srgbClr val="ffffff"/>
              </a:solidFill>
              <a:latin typeface="Arial Black"/>
            </a:endParaRPr>
          </a:p>
        </p:txBody>
      </p:sp>
      <p:sp>
        <p:nvSpPr>
          <p:cNvPr id="62" name="PlaceHolder 2"/>
          <p:cNvSpPr>
            <a:spLocks noGrp="1"/>
          </p:cNvSpPr>
          <p:nvPr>
            <p:ph/>
          </p:nvPr>
        </p:nvSpPr>
        <p:spPr>
          <a:xfrm>
            <a:off x="380520" y="1066680"/>
            <a:ext cx="8458200" cy="518184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and recommends action on formally submitted Protocol Revision Requests (PRRs) and System Change Requests (SC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s to TAC assignments of Project Priority for each Guide Revision that requires a change to ERCOT’s computer systems or staffing.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D7B15BB-1B77-4A53-A200-CA1DD9BBB3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2006 Accomplishments</a:t>
            </a:r>
            <a:endParaRPr b="0" lang="en-US" sz="2000" spc="-1" strike="noStrike">
              <a:solidFill>
                <a:srgbClr val="ffffff"/>
              </a:solidFill>
              <a:latin typeface="Arial Black"/>
            </a:endParaRPr>
          </a:p>
        </p:txBody>
      </p:sp>
      <p:sp>
        <p:nvSpPr>
          <p:cNvPr id="6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s in 2006:  56 introduced, 40 approved, 2 withdrawn, 6 rejected, and 8 pending.</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s in 2006:  38 introduced, 30 approved, 2 rejected, and 6 pending.</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s in 2006:  1 introduced and approved.</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new Project Prioritization Process in conjunctions with 2007 ERCOT budget.</a:t>
            </a:r>
            <a:endParaRPr b="1" lang="en-US" sz="20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d problem of balance among competing areas (e.g., the data extracts problem).</a:t>
            </a:r>
            <a:endParaRPr b="0" lang="en-US" sz="18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process for handling Nodal transition period PRRs.</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d the manner in which projects that fall below the cut-line should be addressed and presented to the Board.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B4EDDA71-E683-48DB-91D6-71800A8E81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  2007 Goals</a:t>
            </a:r>
            <a:endParaRPr b="0" lang="en-US" sz="2000" spc="-1" strike="noStrike">
              <a:solidFill>
                <a:srgbClr val="ffffff"/>
              </a:solidFill>
              <a:latin typeface="Arial Black"/>
            </a:endParaRPr>
          </a:p>
        </p:txBody>
      </p:sp>
      <p:sp>
        <p:nvSpPr>
          <p:cNvPr id="66"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nodal Implementation Plan:  Develop a procedure to handle Nodal Protocol Revision Requests that cannot be incorporated into initial nodal implementation.</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value engineering benefits identified during nodal implem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C79EE2-A3B1-44EF-8783-E75A838944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balbracht</cp:lastModifiedBy>
  <dcterms:modified xsi:type="dcterms:W3CDTF">2007-02-22T16:42:24Z</dcterms:modified>
  <cp:revision>101</cp:revision>
  <dc:subject/>
  <dc:title>Role of Account Management at ERCOT</dc:title>
</cp:coreProperties>
</file>