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503C-B9B7-432F-B92D-8065DBAB6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38EA-1492-4AD4-8207-DD71362A3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99FA-9617-40F0-B458-68ECE29A9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F8F6-4A7A-42E4-BB1C-1B0E161C2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EBF7-525D-4805-ACD5-5489B79B3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12A9-BAE0-49D8-84F7-5D34C9F89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909-D699-44B3-B586-5BB580872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C4A9-9F4C-49AE-91E0-5660FA410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03E7-AAE0-4E76-A55C-604732FC1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FAB2-7E00-4760-8D3F-67461795A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41F8-6682-42CF-8149-A2AFC10BE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585F-ACD5-42A1-A25F-C03D47AF8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D647483-DCB1-4D4F-8E9C-630854ED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6524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6524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8888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68076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8240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06460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Updat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48520" y="5342040"/>
            <a:ext cx="1508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LR Operation Issu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9"/>
              </a:spcBef>
              <a:spcAft>
                <a:spcPts val="275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operation implication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249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 a minimum subscription of 500 MWs required with a limit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 MWs procur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249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EILR thru VDI hotline call to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EILR as a single block after all market-based resources have been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39"/>
              </a:spcBef>
              <a:spcAft>
                <a:spcPts val="275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Es responsible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13"/>
              </a:spcBef>
              <a:spcAft>
                <a:spcPts val="2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EILS Resources committed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13"/>
              </a:spcBef>
              <a:spcAft>
                <a:spcPts val="561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ing dispatch instructions to the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39"/>
              </a:spcBef>
              <a:spcAft>
                <a:spcPts val="275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L Loads mu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249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d full commitment of MWs within 10 minutes of V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249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y at committed level throughout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125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service commitment within 10 hours of end of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39"/>
              </a:spcBef>
              <a:spcAft>
                <a:spcPts val="275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LS deployment will allow faster recovery of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39"/>
              </a:spcBef>
              <a:spcAft>
                <a:spcPts val="275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A293-0C0F-446A-A5CA-8D89C4424E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and Side Working Group Meeting Agend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1789" t="36801" r="19613" b="20233"/>
          <a:stretch/>
        </p:blipFill>
        <p:spPr>
          <a:xfrm>
            <a:off x="214200" y="998640"/>
            <a:ext cx="7620120" cy="53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CD65-0FE7-41B1-87F7-ADD771F39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440" y="4035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Qualified to Supply Ancillary Servic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7329" t="38281" r="15381" b="15626"/>
          <a:stretch/>
        </p:blipFill>
        <p:spPr>
          <a:xfrm>
            <a:off x="138240" y="1760400"/>
            <a:ext cx="8229600" cy="4496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17329" t="28126" r="15381" b="66407"/>
          <a:stretch/>
        </p:blipFill>
        <p:spPr>
          <a:xfrm>
            <a:off x="290520" y="1227240"/>
            <a:ext cx="8229600" cy="53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B7F3-86E5-47B6-87FB-17E91E44A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Participation in RRS in 2006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4345" t="28126" r="13515" b="17188"/>
          <a:stretch/>
        </p:blipFill>
        <p:spPr>
          <a:xfrm>
            <a:off x="138240" y="998640"/>
            <a:ext cx="8823240" cy="5333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DBA0-73F4-4EBB-A6AA-BC85F168E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Performance on December 22n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4401" t="27399" r="13383" b="16405"/>
          <a:stretch/>
        </p:blipFill>
        <p:spPr>
          <a:xfrm>
            <a:off x="138240" y="998640"/>
            <a:ext cx="8686800" cy="539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3B09-9244-44DC-9E67-CC10BEEDD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R to Improve LaaR Performan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0680" y="1150560"/>
            <a:ext cx="813276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751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aR deployments that took place on 4/17/06 and 10/3/06 did not perform as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751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WG and ERCOT drafted a PRR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374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ens requirements on initial 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374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s periodic test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spcBef>
                <a:spcPts val="374"/>
              </a:spcBef>
              <a:spcAft>
                <a:spcPts val="624"/>
              </a:spcAft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more clearly defined conditions that would disqualify a LaaR for under/non-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751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was supported by DSWG on February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751"/>
              </a:spcAft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WG would like WMS support prior to submission to P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31FD-70CD-4682-851F-09597B7E5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Update on Participation in RPR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96" t="20046" r="4137" b="15035"/>
          <a:stretch/>
        </p:blipFill>
        <p:spPr>
          <a:xfrm>
            <a:off x="214200" y="107460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1CE3-06F9-43F2-AEFF-92D8CCE64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080" y="387720"/>
            <a:ext cx="7621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Update on Participation as a Controllable Loa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3721" t="30470" r="14630" b="64155"/>
          <a:stretch/>
        </p:blipFill>
        <p:spPr>
          <a:xfrm>
            <a:off x="198360" y="1074600"/>
            <a:ext cx="763596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13721" t="42128" r="14630" b="39064"/>
          <a:stretch/>
        </p:blipFill>
        <p:spPr>
          <a:xfrm>
            <a:off x="290520" y="1455840"/>
            <a:ext cx="7635960" cy="1598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0680" y="3284640"/>
            <a:ext cx="813276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Summ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pilot project in October of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limited to 10 MWs and only one Loa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lot successfully conclu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rly Januar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nuary PUCT Open Meeting the PUCT directed ERCOT to open service up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estimates up to 150 MWs of load to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early March for ERCOT-wid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0F5F-1DCE-47EB-9EB5-99E93612D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2400" y="387720"/>
            <a:ext cx="7621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on Emergency Interruptible Load Respons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9952" t="33597" r="21482" b="24220"/>
          <a:stretch/>
        </p:blipFill>
        <p:spPr>
          <a:xfrm>
            <a:off x="290520" y="1531800"/>
            <a:ext cx="7772400" cy="446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160" y="1150920"/>
            <a:ext cx="8132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 Rulem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D8A8-BA9C-4663-8041-DFEB011B3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anne.brelinsky</cp:lastModifiedBy>
  <dcterms:modified xsi:type="dcterms:W3CDTF">2007-02-18T16:34:19Z</dcterms:modified>
  <cp:revision>56</cp:revision>
  <dc:subject/>
  <dc:title>DSWG Update to WMS</dc:title>
</cp:coreProperties>
</file>