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B06-DBCB-44DB-88C3-908194B0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10B-18A1-4AD8-87B6-F86B74C1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E6F-22FB-4F13-A4C4-7F0D9F18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19A-5F66-423F-BC92-BF378F42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199-B32E-4484-B304-74DA3969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2A9-37BE-4985-A9BE-77DB42AE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4C7-50B7-4511-936F-04742697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D85-09E1-4ECD-8F52-D9E75DE3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141-BA6B-4064-807C-1D9FD30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A41-C903-4584-9695-F5C8887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2B7-3779-445E-A78C-7B616D4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800-6033-476D-B11C-0E6C1DC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3BD-C580-44F4-9260-7BAA73DA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L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rge to WMS from 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ne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st based on the EILS PR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arket since April 17,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LS Bene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LS is to be used as the last step before firm load 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 load shed historically has occurred at a rate of 1 event every 1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the firm load shed prevented would be 1000MW (the maximum size of the EILS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the value of lost load is $6,000/MWh (slightly under the DOE value calculated for the Northeast black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an event lasts approximate 4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EILS can be used in ALL firm load sh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the performance of EILS is quick enough to prevent ERCOT from requiring firm load shed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provided by EILS is the avoided cost of the outage preve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isk of outage * cost of ou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 event/15 yr) * ($6000/MWh * 1000MW * 4 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.6M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tional Bene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elp avoid the ERCOT SHEDS FIRM LOAD headlin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al objective of the program.  How do we put a value o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0360" y="4572000"/>
            <a:ext cx="77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ROS does not seem to think it will help.  [ROS mo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does not believe that EILS program as it has been defined in PRR7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effective reliability tool, and suggests that other tools that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, or revisions to PRR705 that would make it effective,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developed with further study as has been tasked for ROS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st of the EILS PR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 ERC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2: Assuming complexities removed, potentially $50K-$100K; otherwise, will require capital project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tt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3: Assuming complexities removed, potentially $50K-$100K; otherwise, will require capital project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r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4: Assuming complexities removed, potentially $50K-$100K; otherwise, will require capital project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tt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5: $50K-$100K under O&amp;M budgets of affected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st of the EILS PR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 Consu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iled on PRR 702 include a discussion of a $43.8 M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705 has a $20M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s in Market si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ril 17,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ing Model refin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ng Modified Competitive Solu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ng CSC congestion constraint on BES M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d EECP and Alert proces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offer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6:00:19Z</dcterms:created>
  <dc:creator>wtsadmin</dc:creator>
  <dc:description/>
  <dc:language>en-US</dc:language>
  <cp:lastModifiedBy>balbracht</cp:lastModifiedBy>
  <dcterms:modified xsi:type="dcterms:W3CDTF">2007-02-22T16:41:21Z</dcterms:modified>
  <cp:revision>8</cp:revision>
  <dc:subject/>
  <dc:title>EILS Benefit</dc:title>
</cp:coreProperties>
</file>