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0.wmf" ContentType="image/x-wmf"/>
  <Override PartName="/ppt/media/image29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90D0E-0F76-4B52-B3D5-1B957F940C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FBB44-9819-45A7-B274-392A1AAE37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D1220-2798-43D7-B703-0751CA622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9106A-D6CB-49DD-B0DE-EDD31A7357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D689C4-7F61-4957-81D7-8607AF9EDC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13452-AE13-431D-BB89-469D0A889C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6817A-976E-4C7D-AF28-F2E1EA949F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F39BD-AC7B-4191-87C1-60BB6F8A71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B5ABB-D074-43F0-BDBE-415136F364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B007C-BC4F-480A-B49A-E432A4732D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605CE-02C3-4100-8557-9D7C737AA5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9282E-64F7-43CE-BD3E-B30E775EDF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5D375-7A85-4EBC-9C08-6914A1C3C5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617A5-B727-41D6-BFE3-BFD016F517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F56E7-E8A0-4AE2-9468-280AD22F10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C47D8-4476-47F6-9510-2772008150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32010-57ED-4A1D-AE8A-27C6991AB7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0C036-BE5C-4F5D-89D8-131D7F872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7FFCE-7820-4E17-89A9-8300006448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40635-CEB0-4B2A-9DC1-F17C718D4B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41E18-DE6E-45CE-A0C8-6F63AF1347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510EF-61BA-44F2-8C4A-E94293132B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7478F-237B-4AA6-B52F-603BC41AD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6636E-AC3A-4E47-86E5-B0382B82EF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68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6760"/>
            <a:ext cx="2133720" cy="2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FED4-AC0A-411D-BF6E-ACE6078C1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22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990360" cy="425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1" lang="en-US" sz="5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3"/>
          </p:nvPr>
        </p:nvSpPr>
        <p:spPr>
          <a:xfrm>
            <a:off x="533160" y="617220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7009920" y="6243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988A-35EE-40C9-886F-44FEF85DD53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Arial Narrow"/>
              </a:rPr>
              <a:t>CSC Utilization Report</a:t>
            </a:r>
            <a:br>
              <a:rPr sz="5000"/>
            </a:br>
            <a:r>
              <a:rPr b="1" lang="en-US" sz="5000" spc="-1" strike="noStrike">
                <a:solidFill>
                  <a:srgbClr val="000066"/>
                </a:solidFill>
                <a:latin typeface="Arial Narrow"/>
              </a:rPr>
              <a:t>Q1-4 - 2006</a:t>
            </a:r>
            <a:endParaRPr b="1" lang="en-US" sz="5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February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revi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CSC Limits vs Actual Flows: N_W</a:t>
            </a:r>
            <a:br>
              <a:rPr sz="30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Dec 2006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1048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DB661-14C6-495B-AC55-5815259D78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CSC Limits vs Actual Flows: E_N</a:t>
            </a:r>
            <a:br>
              <a:rPr sz="30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Dec 2006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534520" cy="49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F86AF-B0AE-4392-BAAC-7D0A9FA9B0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66"/>
                </a:solidFill>
                <a:latin typeface="Arial Narrow"/>
              </a:rPr>
              <a:t>Duration Curves: N_H</a:t>
            </a:r>
            <a:endParaRPr b="1" lang="en-US" sz="31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4496040" cy="2743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48320" y="914400"/>
            <a:ext cx="4343400" cy="2743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362320" y="3809880"/>
            <a:ext cx="4267080" cy="249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7902B-1A95-4BE5-B325-1B321B9959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66"/>
                </a:solidFill>
                <a:latin typeface="Arial Narrow"/>
              </a:rPr>
              <a:t>Duration Curves: S_N</a:t>
            </a:r>
            <a:endParaRPr b="1" lang="en-US" sz="31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4267440" cy="2819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362320" y="3733920"/>
            <a:ext cx="4114800" cy="2590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495680" y="838080"/>
            <a:ext cx="4343400" cy="28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DC335-1BB2-4D3B-BC05-59ED7A63E0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66"/>
                </a:solidFill>
                <a:latin typeface="Arial Narrow"/>
              </a:rPr>
              <a:t>Duration Curves: S_H</a:t>
            </a:r>
            <a:endParaRPr b="1" lang="en-US" sz="31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0" y="3733920"/>
            <a:ext cx="4343400" cy="2666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648320" y="914400"/>
            <a:ext cx="4343400" cy="2666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52280" y="914400"/>
            <a:ext cx="4419720" cy="266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0AED0-F0E5-46A4-A068-07E4AC2AEF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66"/>
                </a:solidFill>
                <a:latin typeface="Arial Narrow"/>
              </a:rPr>
              <a:t>Duration Curves: N_W</a:t>
            </a:r>
            <a:endParaRPr b="1" lang="en-US" sz="31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3733920"/>
            <a:ext cx="4267080" cy="2590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800600" y="914400"/>
            <a:ext cx="4343400" cy="2743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52280" y="9144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BEE53-1697-43B0-A318-FD35D0DCF1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Unused CSC capacity:</a:t>
            </a: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 </a:t>
            </a:r>
            <a:br>
              <a:rPr sz="32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Jan – Dec 2006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0" y="3657600"/>
            <a:ext cx="4343400" cy="2666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0" y="1066680"/>
            <a:ext cx="4343400" cy="24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28600" y="3657600"/>
            <a:ext cx="4262400" cy="2666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228600" y="1069920"/>
            <a:ext cx="4267080" cy="243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3767E-89B5-4BAC-9A81-0A20F52A15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Unused CSC capacity:</a:t>
            </a: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 </a:t>
            </a:r>
            <a:br>
              <a:rPr sz="32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Jan – Dec 2006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419720" y="3733920"/>
            <a:ext cx="4419360" cy="2666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419720" y="990720"/>
            <a:ext cx="4343400" cy="2743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52280" y="3733920"/>
            <a:ext cx="4267440" cy="2647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52280" y="990720"/>
            <a:ext cx="419112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1ECC5-D9AC-4C45-86A9-75D13A93C7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Costs of Over-constraining vs. Under-constraining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5334120"/>
            <a:ext cx="41911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king all binding intervals where the actual CSC flow is less than 100% of CSC lim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ply the difference between the actual flow and 100% of the limit, times the Shadow Pri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5334120"/>
            <a:ext cx="43434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king intervals where the actual flow is greater than the CSC lim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ply the difference between the flow and the limit, times the average Shadow Pri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990720"/>
            <a:ext cx="4419720" cy="43434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419112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D0D04-4D02-43B9-9B49-CE5383029B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Costs of Over-constraining vs. Under-constraining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2005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5334120"/>
            <a:ext cx="41911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king all binding intervals where the actual CSC flow is less than 100% of CSC lim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ply the difference between the actual flow and 100% of the limit, times the Shadow Pri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48320" y="5334120"/>
            <a:ext cx="43434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king intervals where the actual flow is greater than the CSC lim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ply the difference between the flow and the limit, times the average Shadow Pri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419720" cy="4343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48320" y="1066680"/>
            <a:ext cx="430992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151EB-4709-40D7-9263-7114E38721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Outline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nal congestion – costs and qua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e and binding interv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ual CSC flows vs lim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sts of over cons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uth-Houston had the highest costs with most of these costs occurring during November &amp; Decemb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all costs in 2006 were lower than 20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,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8C2EE-9A14-4255-87D4-9FA1072F87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Average difference between limits &amp; flows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4419720" cy="2743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52280" y="3733920"/>
            <a:ext cx="4419720" cy="25905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72000" y="914400"/>
            <a:ext cx="4419720" cy="2743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572000" y="3733920"/>
            <a:ext cx="441972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4936A-26FB-4280-81DA-05F49085FF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Arial Narrow"/>
              </a:rPr>
              <a:t>CSC Congestion Charges collected from QSEs</a:t>
            </a:r>
            <a:endParaRPr b="1" lang="en-US" sz="27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62120" y="5105520"/>
          <a:ext cx="7575480" cy="909360"/>
        </p:xfrm>
        <a:graphic>
          <a:graphicData uri="http://schemas.openxmlformats.org/drawingml/2006/table">
            <a:tbl>
              <a:tblPr/>
              <a:tblGrid>
                <a:gridCol w="1371600"/>
                <a:gridCol w="761760"/>
                <a:gridCol w="838440"/>
                <a:gridCol w="838080"/>
                <a:gridCol w="838080"/>
                <a:gridCol w="914400"/>
                <a:gridCol w="914400"/>
                <a:gridCol w="1098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ill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5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5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9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~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876312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A088F-C48C-4B6E-9155-FC6F47AA6D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Arial Narrow"/>
              </a:rPr>
              <a:t>Number of Intervals Constraints were Binding</a:t>
            </a:r>
            <a:endParaRPr b="1" lang="en-US" sz="27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905120" y="5410080"/>
          <a:ext cx="5586120" cy="912960"/>
        </p:xfrm>
        <a:graphic>
          <a:graphicData uri="http://schemas.openxmlformats.org/drawingml/2006/table">
            <a:tbl>
              <a:tblPr/>
              <a:tblGrid>
                <a:gridCol w="892080"/>
                <a:gridCol w="781200"/>
                <a:gridCol w="780840"/>
                <a:gridCol w="825480"/>
                <a:gridCol w="988920"/>
                <a:gridCol w="658800"/>
                <a:gridCol w="658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6CC44-617A-4D98-BF8D-186377B33C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Arial Narrow"/>
              </a:rPr>
              <a:t>Summary of Zonal Congestion Occurrences - Intervals</a:t>
            </a:r>
            <a:endParaRPr b="1" lang="en-US" sz="25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33520" y="914400"/>
          <a:ext cx="7924680" cy="5356080"/>
        </p:xfrm>
        <a:graphic>
          <a:graphicData uri="http://schemas.openxmlformats.org/drawingml/2006/table">
            <a:tbl>
              <a:tblPr/>
              <a:tblGrid>
                <a:gridCol w="533160"/>
                <a:gridCol w="609840"/>
                <a:gridCol w="609480"/>
                <a:gridCol w="533520"/>
                <a:gridCol w="609480"/>
                <a:gridCol w="609480"/>
                <a:gridCol w="609840"/>
                <a:gridCol w="533160"/>
                <a:gridCol w="609840"/>
                <a:gridCol w="609480"/>
                <a:gridCol w="609480"/>
                <a:gridCol w="685800"/>
                <a:gridCol w="762120"/>
              </a:tblGrid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1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49B7B-C382-4427-81AD-D707D164A0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Arial Narrow"/>
              </a:rPr>
              <a:t>Summary of Zonal Congestion Occurrences - Days</a:t>
            </a:r>
            <a:endParaRPr b="1" lang="en-US" sz="25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3520" y="914400"/>
          <a:ext cx="7848360" cy="5140440"/>
        </p:xfrm>
        <a:graphic>
          <a:graphicData uri="http://schemas.openxmlformats.org/drawingml/2006/table">
            <a:tbl>
              <a:tblPr/>
              <a:tblGrid>
                <a:gridCol w="539640"/>
                <a:gridCol w="612720"/>
                <a:gridCol w="615960"/>
                <a:gridCol w="539640"/>
                <a:gridCol w="615960"/>
                <a:gridCol w="615960"/>
                <a:gridCol w="613080"/>
                <a:gridCol w="539640"/>
                <a:gridCol w="641160"/>
                <a:gridCol w="590760"/>
                <a:gridCol w="612720"/>
                <a:gridCol w="625320"/>
                <a:gridCol w="685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4CA2B-270D-4FC2-9803-96FC629165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CSC Limits vs Actual Flows: N_H</a:t>
            </a:r>
            <a:br>
              <a:rPr sz="32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Dec 2006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77BEA-AC74-43A7-BE52-317CA05667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CSC Limits vs Actual Flows: S_N</a:t>
            </a:r>
            <a:br>
              <a:rPr sz="30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Dec 2006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46974-E8C9-4114-9095-B74A6A3A45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CSC Limits vs Actual Flows: S_H</a:t>
            </a:r>
            <a:br>
              <a:rPr sz="30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Dec 2006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6868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23E93-1479-4772-B692-FF05C010E2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5T19:22:49Z</dcterms:created>
  <dc:creator>Beth Garza</dc:creator>
  <dc:description/>
  <dc:language>en-US</dc:language>
  <cp:lastModifiedBy>ercot/if</cp:lastModifiedBy>
  <dcterms:modified xsi:type="dcterms:W3CDTF">2007-02-19T23:50:59Z</dcterms:modified>
  <cp:revision>10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