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980238" cy="92122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CA83F8-1D5C-49AF-8E84-D646F6312F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D0C9A-B0EC-4144-87A6-35BCDB8F00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9EDFF7-26BC-4433-AC34-135AFB2F31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DD0AFD-1AFE-4333-A2F8-D0322891D6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B32424-7F3C-4473-8519-024178E0983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4B8103-D9E9-4656-9D92-0E9C12FD91D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60BA77-142A-430C-BB88-E3C2C2307DC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61DFC9-BBE7-403A-83BE-E857408AE0D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FF33FA-3598-4754-A3B8-91C95AFB756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90A95E-C778-4C64-9735-87533910E69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4039C6-9699-4641-BFB2-E6B3D265E5E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B28F43-94E6-4BFE-8182-22FBAD91FA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29FF70-922E-4D08-817E-D2FE1D54697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E3C850-EB23-4CD1-8948-C17C7A8C969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8728E9-FE13-4A38-8988-0F502BCCABD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939BE9-CEAB-4EDE-83AE-53C13EE0E97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5522FA-508A-4239-837F-47277432BB4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85342E-08E2-4C87-BB31-5999DC872D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0D7B6D-E9B1-4C43-84C0-EF722EC374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2C5353-12EB-4B6C-9CDE-DAAB1F3A5E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F568FE-CEF3-45CC-9245-BAD609CBB0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D124BE-C275-4B00-B547-ADA177FFFA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1F1719-BB0D-4449-B4C7-459E05CC58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612E6-B7E2-4720-A052-918F4AA7E4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66"/>
                </a:solidFill>
                <a:latin typeface="Arial Narrow"/>
              </a:rPr>
              <a:t>Click to edit the title text format</a:t>
            </a: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66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00666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0066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00666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0066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5684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6760"/>
            <a:ext cx="2133720" cy="22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794F2-BC08-4ED3-BAF1-10230C4913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28600" y="228600"/>
            <a:ext cx="86868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6400800"/>
            <a:ext cx="8229600" cy="0"/>
          </a:xfrm>
          <a:prstGeom prst="line">
            <a:avLst/>
          </a:prstGeom>
          <a:ln w="2232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304920" y="304920"/>
            <a:ext cx="990360" cy="425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1523520"/>
            <a:ext cx="7624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66"/>
                </a:solidFill>
                <a:latin typeface="Arial Narrow"/>
              </a:rPr>
              <a:t>Click to edit the title text format</a:t>
            </a:r>
            <a:endParaRPr b="1" lang="en-US" sz="50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3"/>
          </p:nvPr>
        </p:nvSpPr>
        <p:spPr>
          <a:xfrm>
            <a:off x="533160" y="617220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4"/>
          </p:nvPr>
        </p:nvSpPr>
        <p:spPr>
          <a:xfrm>
            <a:off x="7009920" y="62434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FABB3-ACBA-42F3-A2E3-F36BCEB0EA5E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762120"/>
            <a:ext cx="7925040" cy="19810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3480" cy="0"/>
          </a:xfrm>
          <a:prstGeom prst="line">
            <a:avLst/>
          </a:prstGeom>
          <a:ln w="1908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0066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ercot.com/gridinfo/congestion/OOMC%20and%20LC%20Energy%20Payments%20as%20of%2001-11-07.xls" TargetMode="External"/><Relationship Id="rId2" Type="http://schemas.openxmlformats.org/officeDocument/2006/relationships/hyperlink" Target="http://www.ercot.com/mktinfo/services/bal/index.html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990360"/>
            <a:ext cx="76248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 Narrow"/>
              </a:rPr>
              <a:t>Local Congestion Costs</a:t>
            </a:r>
            <a:br>
              <a:rPr sz="3600"/>
            </a:br>
            <a:r>
              <a:rPr b="1" lang="en-US" sz="3600" spc="-1" strike="noStrike">
                <a:solidFill>
                  <a:srgbClr val="000066"/>
                </a:solidFill>
                <a:latin typeface="Arial Narrow"/>
              </a:rPr>
              <a:t>Update FY-2006</a:t>
            </a:r>
            <a:br>
              <a:rPr sz="3600"/>
            </a:br>
            <a:endParaRPr b="1" lang="en-US" sz="36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981080" y="4495680"/>
            <a:ext cx="655344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1 February,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 Narrow"/>
              </a:rPr>
              <a:t>MCPE 2004-2006</a:t>
            </a:r>
            <a:endParaRPr b="1" lang="en-US" sz="3200" spc="-1" strike="noStrike">
              <a:solidFill>
                <a:srgbClr val="000066"/>
              </a:solidFill>
              <a:latin typeface="Arial Narrow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52280" y="838080"/>
            <a:ext cx="883944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Garza / February 20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582818-9DFC-454B-A05F-676D1FFB37E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38188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 Narrow"/>
              </a:rPr>
              <a:t>MCPE 2001-2006</a:t>
            </a:r>
            <a:endParaRPr b="1" lang="en-US" sz="3200" spc="-1" strike="noStrike">
              <a:solidFill>
                <a:srgbClr val="000066"/>
              </a:solidFill>
              <a:latin typeface="Arial Narrow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8686800" cy="5334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Garza / February 20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F3B0AE-241D-4F5F-9385-BF1C738F494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38188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 Narrow"/>
              </a:rPr>
              <a:t>Fuel Index Price 2004-2006</a:t>
            </a:r>
            <a:endParaRPr b="1" lang="en-US" sz="3200" spc="-1" strike="noStrike">
              <a:solidFill>
                <a:srgbClr val="000066"/>
              </a:solidFill>
              <a:latin typeface="Arial Narrow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52280" y="990720"/>
            <a:ext cx="8839440" cy="5333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Garza / February 20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69B1F0-6E85-468E-B20B-9BDCB5A57BC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 Narrow"/>
              </a:rPr>
              <a:t>Data Sources</a:t>
            </a:r>
            <a:endParaRPr b="1" lang="en-US" sz="3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66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http://www.ercot.com/gridinfo/congestion/OOMC%20and%20LC%20Energy%20Payments%20as%20of%2001-11-07.x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66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6600"/>
                </a:solidFill>
                <a:uFillTx/>
                <a:latin typeface="Arial"/>
                <a:hlinkClick r:id="rId2"/>
              </a:rPr>
              <a:t>http://www.ercot.com/mktinfo/services/bal/index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Garza / February 20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54362B-FC95-4338-B2C1-575C4AD906C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66"/>
                </a:solidFill>
                <a:latin typeface="Arial Narrow"/>
              </a:rPr>
              <a:t>Outline</a:t>
            </a: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66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nthly Cost updates -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00666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OM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00666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nit Specific-U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cludes OOME and Local Balancing Energ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00666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nit Specific-Dow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cludes OOME and Local Balancing Energ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00666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M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00666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P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Garza / February 20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2BFA2E-544D-4838-8FE6-DF6856A2AD4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53452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 Narrow"/>
              </a:rPr>
              <a:t>OOMC by Month</a:t>
            </a:r>
            <a:endParaRPr b="1" lang="en-US" sz="3200" spc="-1" strike="noStrike">
              <a:solidFill>
                <a:srgbClr val="000066"/>
              </a:solidFill>
              <a:latin typeface="Arial Narrow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457200" y="5638680"/>
          <a:ext cx="8153280" cy="606600"/>
        </p:xfrm>
        <a:graphic>
          <a:graphicData uri="http://schemas.openxmlformats.org/drawingml/2006/table">
            <a:tbl>
              <a:tblPr/>
              <a:tblGrid>
                <a:gridCol w="2279520"/>
                <a:gridCol w="1997280"/>
                <a:gridCol w="1993680"/>
                <a:gridCol w="18828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mill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for ye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78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83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04920" y="914400"/>
            <a:ext cx="8534160" cy="4572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Garza / February 20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523E11-01E5-428E-9006-7D9D3F73286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4582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 Narrow"/>
              </a:rPr>
              <a:t>Unit Specific-Up by Month</a:t>
            </a:r>
            <a:endParaRPr b="1" lang="en-US" sz="3200" spc="-1" strike="noStrike">
              <a:solidFill>
                <a:srgbClr val="000066"/>
              </a:solidFill>
              <a:latin typeface="Arial Narrow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457200" y="5638680"/>
          <a:ext cx="8229600" cy="609840"/>
        </p:xfrm>
        <a:graphic>
          <a:graphicData uri="http://schemas.openxmlformats.org/drawingml/2006/table">
            <a:tbl>
              <a:tblPr/>
              <a:tblGrid>
                <a:gridCol w="2238480"/>
                <a:gridCol w="1960560"/>
                <a:gridCol w="1957320"/>
                <a:gridCol w="207324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mill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for ye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9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2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04920" y="914400"/>
            <a:ext cx="8610480" cy="449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Garza / February 20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244E8B-1627-4BC8-BE57-6BE408569AC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 Narrow"/>
              </a:rPr>
              <a:t>Unit Specific-Down by Month</a:t>
            </a:r>
            <a:endParaRPr b="1" lang="en-US" sz="3200" spc="-1" strike="noStrike">
              <a:solidFill>
                <a:srgbClr val="000066"/>
              </a:solidFill>
              <a:latin typeface="Arial Narrow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457200" y="5715000"/>
          <a:ext cx="8229600" cy="606600"/>
        </p:xfrm>
        <a:graphic>
          <a:graphicData uri="http://schemas.openxmlformats.org/drawingml/2006/table">
            <a:tbl>
              <a:tblPr/>
              <a:tblGrid>
                <a:gridCol w="2238480"/>
                <a:gridCol w="1960560"/>
                <a:gridCol w="1957320"/>
                <a:gridCol w="207324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mill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for ye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55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46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8686800" cy="4572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Garza / February 20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4F644B-0E00-4EAA-81AB-FC7CACB3742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4582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 Narrow"/>
              </a:rPr>
              <a:t>RMR Net by Month</a:t>
            </a:r>
            <a:endParaRPr b="1" lang="en-US" sz="3200" spc="-1" strike="noStrike">
              <a:solidFill>
                <a:srgbClr val="000066"/>
              </a:solidFill>
              <a:latin typeface="Arial Narrow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457200" y="5715000"/>
          <a:ext cx="8229600" cy="606600"/>
        </p:xfrm>
        <a:graphic>
          <a:graphicData uri="http://schemas.openxmlformats.org/drawingml/2006/table">
            <a:tbl>
              <a:tblPr/>
              <a:tblGrid>
                <a:gridCol w="2238480"/>
                <a:gridCol w="1960560"/>
                <a:gridCol w="1957320"/>
                <a:gridCol w="207324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mill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for ye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25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03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62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876312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Garza / February 20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DDD7C0-1845-49FA-AF7A-AC2FEA9200D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 Narrow"/>
              </a:rPr>
              <a:t>Costs by Area</a:t>
            </a:r>
            <a:endParaRPr b="1" lang="en-US" sz="3200" spc="-1" strike="noStrike">
              <a:solidFill>
                <a:srgbClr val="000066"/>
              </a:solidFill>
              <a:latin typeface="Arial Narrow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8600" y="838080"/>
            <a:ext cx="876312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Garza / February 20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1B9F8F-67CD-4958-8795-BCE04FAC243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 Narrow"/>
              </a:rPr>
              <a:t>RPRS by Month</a:t>
            </a:r>
            <a:endParaRPr b="1" lang="en-US" sz="3200" spc="-1" strike="noStrike">
              <a:solidFill>
                <a:srgbClr val="000066"/>
              </a:solidFill>
              <a:latin typeface="Arial Narrow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52280" y="5029200"/>
          <a:ext cx="8763120" cy="1158840"/>
        </p:xfrm>
        <a:graphic>
          <a:graphicData uri="http://schemas.openxmlformats.org/drawingml/2006/table">
            <a:tbl>
              <a:tblPr/>
              <a:tblGrid>
                <a:gridCol w="2286000"/>
                <a:gridCol w="609840"/>
                <a:gridCol w="533160"/>
                <a:gridCol w="609840"/>
                <a:gridCol w="685800"/>
                <a:gridCol w="609480"/>
                <a:gridCol w="685800"/>
                <a:gridCol w="609480"/>
                <a:gridCol w="685800"/>
                <a:gridCol w="609840"/>
                <a:gridCol w="838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mill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cal Replacemen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2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onal/System-wide Replacemen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8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1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4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1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4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4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9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2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6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43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52280" y="762120"/>
            <a:ext cx="883944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Garza / February 20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D3521-AF8E-4C2A-BF4F-0C64294A989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 Narrow"/>
              </a:rPr>
              <a:t>Local Congestion Costs</a:t>
            </a:r>
            <a:br>
              <a:rPr sz="3200"/>
            </a:br>
            <a:r>
              <a:rPr b="1" lang="en-US" sz="1800" spc="-1" strike="noStrike">
                <a:solidFill>
                  <a:srgbClr val="000066"/>
                </a:solidFill>
                <a:latin typeface="Arial Narrow"/>
              </a:rPr>
              <a:t>($ Millions)</a:t>
            </a:r>
            <a:endParaRPr b="1" lang="en-US" sz="1800" spc="-1" strike="noStrike">
              <a:solidFill>
                <a:srgbClr val="000066"/>
              </a:solidFill>
              <a:latin typeface="Arial Narrow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57200" y="1295280"/>
          <a:ext cx="8153280" cy="4835520"/>
        </p:xfrm>
        <a:graphic>
          <a:graphicData uri="http://schemas.openxmlformats.org/drawingml/2006/table">
            <a:tbl>
              <a:tblPr/>
              <a:tblGrid>
                <a:gridCol w="3863880"/>
                <a:gridCol w="1428840"/>
                <a:gridCol w="1565280"/>
                <a:gridCol w="1295280"/>
              </a:tblGrid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200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200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2006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OMC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78.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83.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62.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t Specific – Up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.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.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t Specific – Down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.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.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.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MR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5.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3.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.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PR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_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 </a:t>
                      </a: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43.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79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66.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21.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Garza / February 20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4FDBCE-56CF-4B96-BAD9-8FAF817F794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15T19:22:49Z</dcterms:created>
  <dc:creator>iflores</dc:creator>
  <dc:description/>
  <dc:language>en-US</dc:language>
  <cp:lastModifiedBy>ercot/if</cp:lastModifiedBy>
  <dcterms:modified xsi:type="dcterms:W3CDTF">2007-02-19T17:16:35Z</dcterms:modified>
  <cp:revision>139</cp:revision>
  <dc:subject/>
  <dc:title>CSC util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