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5C5-5BD9-4A32-9639-2E2EF7CE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923-6369-41B9-ACC8-72A16DB2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D4E-0219-4BA2-AF7B-DA696555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A5D-1BAF-431A-BB73-FAFABE6A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82C-8E10-49CC-AB72-5DEFF3F0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8464-0651-493B-8CC1-4E24B27E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20B-AA4D-4102-9C7E-F77727B4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494-4FB5-4625-BF00-3465F4AC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438-BAEB-47E5-B1E0-AB0E0978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834-FA95-4FD7-AF52-E3BADBED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0C2-B7A2-44C1-845C-A19D4255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59C-1186-452E-BF94-68A6AECB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6984-06C0-40FC-91CC-C8B8F5787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ve Constraint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167616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n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th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Not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Not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Not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n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Not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5:19:00Z</dcterms:created>
  <dc:creator>Registered User</dc:creator>
  <dc:description/>
  <dc:language>en-US</dc:language>
  <cp:lastModifiedBy>balbracht</cp:lastModifiedBy>
  <dcterms:modified xsi:type="dcterms:W3CDTF">2007-02-22T16:41:55Z</dcterms:modified>
  <cp:revision>1</cp:revision>
  <dc:subject/>
  <dc:title>Competitive Constraint Test</dc:title>
</cp:coreProperties>
</file>