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7E2-1DEE-4609-98C5-FE482FD9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849-EDBB-414B-B40A-261162B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8E8-FF76-4170-8828-19EDA708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A5C-4125-47DF-B335-5194A623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266-7579-402D-814C-62C9009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E74-2771-4F1C-A3F5-DAF7F77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E21-63FD-48CB-A68E-EF57076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A2E-3CD5-4D10-9FA5-38F0601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8800" y="274320"/>
            <a:ext cx="6858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659-3909-47BB-BDDB-AA19D92F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4EF-CCCA-4297-A848-78F3C10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D49-8FA8-4B55-8670-898785C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BB8-0395-417A-A312-92D6CF6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B83F-09E5-451B-B8B5-073953CF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62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990720"/>
            <a:ext cx="8686800" cy="2286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914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ystem Operation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Narrow"/>
              </a:rPr>
              <a:t>RRS Deployment 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Narrow"/>
              </a:rPr>
              <a:t>01/16/2007 20:01:00</a:t>
            </a:r>
            <a:endParaRPr b="0" lang="en-US" sz="4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ROS Mee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ebruary 16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 Narrow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Carlos Gonz</a:t>
            </a:r>
            <a:r>
              <a:rPr b="1" lang="en-US" sz="1800" spc="-1" strike="noStrike">
                <a:solidFill>
                  <a:srgbClr val="000066"/>
                </a:solidFill>
                <a:latin typeface="Arial Narrow"/>
                <a:ea typeface="Arial"/>
              </a:rPr>
              <a:t>á</a:t>
            </a: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lez-P</a:t>
            </a:r>
            <a:r>
              <a:rPr b="1" lang="en-US" sz="1800" spc="-1" strike="noStrike">
                <a:solidFill>
                  <a:srgbClr val="000066"/>
                </a:solidFill>
                <a:latin typeface="Arial Narrow"/>
                <a:ea typeface="Arial"/>
              </a:rPr>
              <a:t>é</a:t>
            </a: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Manager, Operations Support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Conditions Before RRS Deployment</a:t>
            </a: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equency: 59.978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MS System: Running from Austin Contro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43000" y="2743200"/>
            <a:ext cx="6629040" cy="3868200"/>
            <a:chOff x="1143000" y="2743200"/>
            <a:chExt cx="6629040" cy="38682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143000" y="2743200"/>
              <a:ext cx="6629040" cy="38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flipV="1">
              <a:off x="6745320" y="3165480"/>
              <a:ext cx="0" cy="2788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EMS Frequency Sources</a:t>
            </a: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rect sources of ERCOT EMS frequency: True Tim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tellite connection to track Time and  compute Tim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 frequency from an electric plug connected to the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Devices (2 in TCC and 2 in A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equency Source Normal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True Time in primary site, 1 True Time in the back-up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rect sources of frequency reported by QSEs via DNP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or can select th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happened on 01/16/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age in the feeder supplying the primary True Tim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Cause of the Deployment</a:t>
            </a: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age at the feeder connected to the primary TrueTime device in the 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utage translates into a 58.13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S frequency below RRS triggering point (59.91 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ll Deployment of RRS (1150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ed power restored (2 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ueTime frequency: reading at 59.978 HZ (above recall limit 59.97 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tal Recall of 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44053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System Recovery</a:t>
            </a: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7924680" cy="5114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3581280"/>
            <a:ext cx="7391160" cy="0"/>
          </a:xfrm>
          <a:prstGeom prst="line">
            <a:avLst/>
          </a:prstGeom>
          <a:ln cap="rnd" w="284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7391160" cy="0"/>
          </a:xfrm>
          <a:prstGeom prst="line">
            <a:avLst/>
          </a:prstGeom>
          <a:ln cap="rnd" w="284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Conclusions and Next Steps</a:t>
            </a:r>
            <a:endParaRPr b="0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responded appropriately to the incorrect frequency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ccurrence in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50021 will address consideration of multiple sources of frequency to avoid this occurrence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5:54:45Z</dcterms:created>
  <dc:creator>cgonzalez-perez</dc:creator>
  <dc:description/>
  <dc:language>en-US</dc:language>
  <cp:lastModifiedBy>cgonzalez-perez</cp:lastModifiedBy>
  <dcterms:modified xsi:type="dcterms:W3CDTF">2007-02-08T19:04:50Z</dcterms:modified>
  <cp:revision>57</cp:revision>
  <dc:subject/>
  <dc:title>Slide 1</dc:title>
</cp:coreProperties>
</file>