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D3F8-C0BE-4FD5-87A2-D3CF2B97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EE00-94F9-4FC9-8D5C-2925647F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20C4-18E7-4069-90BE-BB199656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DC05-FAE5-4BAD-BD8D-6077FDD0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0A74-C9A6-443C-9BE4-9DE2A69C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4844-BC1B-4B62-AE41-054D8B45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B271-FA9F-4585-8F88-8E60F9A1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2763-C049-4489-9F9B-92581D37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74FC-6DE8-4A1C-871B-4A5D8D90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AF9D-BC7D-4AC5-A2AF-5BB2B65E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DF31-8454-4CEE-AE81-0A7756A1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B007-4FAA-4AF7-A606-BEB3B88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CD59-9289-4513-AEC8-32BE2B0E9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Subgroup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1AA9-71EA-4ADC-8CED-A0AFCF49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mergency Interruptib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ad Servi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4343040"/>
            <a:ext cx="5429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ul Wattl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25780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S Sub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.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bbreviated Histo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/WMS ask Demand Side WG to work on the issue of an emergency load program to addres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in-10-year LO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rejects new ancillary service for alternative fuels; cites ‘demand-side services for emergency curtailments’ as alterna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. 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WG presents emergency load proposal to WMS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S defers decision in light of PUC rulema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0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ency Load Response dropped from proposed rule; deferred to Demand Response project (3285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 20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resents EILS proposal to PUC Demand Response workshop &amp; ERCOT stakeholders; subgroups develop proposals; Commissioners propose parallel rulemak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 20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S resolution expresses lack of confidence that EILS is necessary; PRS tables PRRs pending new information; PUC rulemaking initi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11B9-1BD7-45BD-BDBD-2AC7CC2898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C Rulemak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#3345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r rulemaking with expedited timeline (not an emergency ru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 for publication approved by Commission Feb.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 period now o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due Marc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ed effective date:  April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PRR 7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will sunset Oct. 1, 2007, provided th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PRR acceptable to PUC and ERCOT is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continuously in place with no interruption of protection offered by E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LS may be extended if a solution is not implemented by Oct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0205-5B9D-48B5-B461-3FDD3B90A6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Emergency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tool for the ERCOT tool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554120"/>
          <a:ext cx="8229600" cy="4299120"/>
        </p:xfrm>
        <a:graphic>
          <a:graphicData uri="http://schemas.openxmlformats.org/drawingml/2006/table">
            <a:tbl>
              <a:tblPr/>
              <a:tblGrid>
                <a:gridCol w="4039920"/>
                <a:gridCol w="4189680"/>
              </a:tblGrid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/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30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T:  Start RMR units, suspend unit testing, deploy RPRS &amp; NS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25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mergency Electric Curtailment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:  Dispatch all generation, DC Ti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23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:  Deploy LaaRs, issue public media appe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175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:  Instruct transmission owners to shed firm lo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equency below 59.8 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57200" y="5029200"/>
            <a:ext cx="243828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150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ew Step:  Deploy EIL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CFBF-9639-48F9-A70F-BCE476CFC3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ILS:  Operational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MW flo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operate program if &lt;500 MW subscri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00 MW cei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s deployed thru VDI hotline call to Q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s deployed as single block after all market-based resources have been deploy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SEs responsible f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ing EILS Resources committed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dispatch instructions to the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s have 10 minutes to shed full commitment of M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s must stay at committed level throughout deplo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s recalled after LaaRs &amp; have 10 hours to return to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operators may go directly to Step 4 of EECP if frequency is decay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LS deployment will allow faster recovery of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E7FA-9F3A-4A3F-B906-E99BFB7D3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20976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D207-5A2B-4242-AB36-8DEBDCEAF6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pwattles</cp:lastModifiedBy>
  <dcterms:modified xsi:type="dcterms:W3CDTF">2007-02-07T21:26:55Z</dcterms:modified>
  <cp:revision>119</cp:revision>
  <dc:subject/>
  <dc:title>Instructions</dc:title>
</cp:coreProperties>
</file>