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980238" cy="92122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E0115-95EF-4EA9-8995-8DC4F9D8E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F0519-CB83-4AA9-AE1F-6C26CAB61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0E012-A9FF-40A5-AD0A-B477A519C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4853D-F478-49B6-B7F9-12E835CD4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DB611-9A77-4BFC-AC7B-7F3F46931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66409-7C83-46BD-AC7E-C8A92B883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ABDF3-8D2D-4F02-84E6-7B6BE2080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3965C-96FA-43C0-93E6-76B66ED01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AF12F-3CC6-4589-A5D3-23C23241F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36248-42B2-4112-BA47-5B0046BDB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F820F-73C9-4C86-8D49-FEBA5EA66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00A13-4FD3-400F-9EFD-7E902C2D4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433D3-C190-4303-AA20-5AAD401267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2333160" y="5466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289584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52480" y="1981080"/>
            <a:ext cx="6019920" cy="12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ontrollable Load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ROS Mee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February 15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ontrollable Load Resourc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" name=""/>
          <p:cNvSpPr/>
          <p:nvPr/>
        </p:nvSpPr>
        <p:spPr>
          <a:xfrm>
            <a:off x="441360" y="1027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45200" y="1335240"/>
            <a:ext cx="580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What is a controllable Load Resour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69960" y="2170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69960" y="2322360"/>
            <a:ext cx="7940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Load Resource capable of providing </a:t>
            </a:r>
            <a:r>
              <a:rPr b="1" lang="en-US" sz="2000" spc="-1" strike="noStrike" u="sng">
                <a:solidFill>
                  <a:srgbClr val="ff3300"/>
                </a:solidFill>
                <a:uFillTx/>
                <a:latin typeface="Arial"/>
              </a:rPr>
              <a:t>Regulation Service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by controllably reducing or increasing consumption under dispatch control (similar to AGC) and that immediately responds proportionally to frequency changes (similar to generator governor actio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S Mee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 15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ontrollable Load Resourc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" name=""/>
          <p:cNvSpPr/>
          <p:nvPr/>
        </p:nvSpPr>
        <p:spPr>
          <a:xfrm>
            <a:off x="441360" y="1027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69960" y="2170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" y="1676520"/>
            <a:ext cx="81691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347760">
              <a:buClr>
                <a:srgbClr val="000000"/>
              </a:buClr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2002 PRR307, Load providing Regulation services (Controllable Resources), was appro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47760">
              <a:buClr>
                <a:srgbClr val="000000"/>
              </a:buClr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47760">
              <a:buClr>
                <a:srgbClr val="000000"/>
              </a:buClr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June 2007 ERCOT was asked to provide a cost and impact analysis for implementing PRR3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47760">
              <a:buClr>
                <a:srgbClr val="000000"/>
              </a:buClr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47760">
              <a:buClr>
                <a:srgbClr val="000000"/>
              </a:buClr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 estimated the project would cost between $500,000 and $1,000,000 and take up to a year to imp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47760">
              <a:buClr>
                <a:srgbClr val="000000"/>
              </a:buClr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47760">
              <a:buClr>
                <a:srgbClr val="000000"/>
              </a:buClr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 proposed an alternate approach which could be implemented with no system changes, but with limi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20200" y="954000"/>
            <a:ext cx="21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Background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S Mee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 15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ontrollable Load Resourc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"/>
          <p:cNvSpPr/>
          <p:nvPr/>
        </p:nvSpPr>
        <p:spPr>
          <a:xfrm>
            <a:off x="441360" y="1027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69960" y="2170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78720" y="762120"/>
            <a:ext cx="265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Pilot Limit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1371600"/>
            <a:ext cx="84582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>
              <a:buClr>
                <a:srgbClr val="000000"/>
              </a:buClr>
              <a:buFont typeface="Wingdings" charset="2"/>
              <a:buChar char=""/>
              <a:tabLst>
                <a:tab algn="l" pos="798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et all requirements for participation as a La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98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R me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98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l Time telemetry at the controllable load installed and tes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98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cessfully complete qualification t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98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buClr>
                <a:srgbClr val="000000"/>
              </a:buClr>
              <a:buFont typeface="Wingdings" charset="2"/>
              <a:buChar char=""/>
              <a:tabLst>
                <a:tab algn="l" pos="798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ble to respond proportionately to frequency changes (similar to generator governor a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buClr>
                <a:srgbClr val="000000"/>
              </a:buClr>
              <a:buFont typeface="Wingdings" charset="2"/>
              <a:buChar char=""/>
              <a:tabLst>
                <a:tab algn="l" pos="798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buClr>
                <a:srgbClr val="000000"/>
              </a:buClr>
              <a:buFont typeface="Wingdings" charset="2"/>
              <a:buChar char=""/>
              <a:tabLst>
                <a:tab algn="l" pos="798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pable of reducing or increasing consumption in response to dispatch instruction (similar to AG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buClr>
                <a:srgbClr val="000000"/>
              </a:buClr>
              <a:buFont typeface="Wingdings" charset="2"/>
              <a:buChar char=""/>
              <a:tabLst>
                <a:tab algn="l" pos="798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buClr>
                <a:srgbClr val="000000"/>
              </a:buClr>
              <a:buFont typeface="Wingdings" charset="2"/>
              <a:buChar char=""/>
              <a:tabLst>
                <a:tab algn="l" pos="798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te has to “look”, “act”, and “smell” like a generation resource (eg; power flow at point of the settlement meter shall be a net generation point while providing services as a controllable loa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buClr>
                <a:srgbClr val="000000"/>
              </a:buClr>
              <a:buFont typeface="Wingdings" charset="2"/>
              <a:buChar char=""/>
              <a:tabLst>
                <a:tab algn="l" pos="798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buClr>
                <a:srgbClr val="000000"/>
              </a:buClr>
              <a:buFont typeface="Wingdings" charset="2"/>
              <a:buChar char=""/>
              <a:tabLst>
                <a:tab algn="l" pos="798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ed to bid in as a “GEN” type and not “CLD” Re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buClr>
                <a:srgbClr val="000000"/>
              </a:buClr>
              <a:buFont typeface="Wingdings" charset="2"/>
              <a:buChar char=""/>
              <a:tabLst>
                <a:tab algn="l" pos="798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buClr>
                <a:srgbClr val="000000"/>
              </a:buClr>
              <a:buFont typeface="Wingdings" charset="2"/>
              <a:buChar char=""/>
              <a:tabLst>
                <a:tab algn="l" pos="798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source agrees to waive its right to receive any resource-specific premium payments that would result from a unit specific instruction (OOM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tabLst>
                <a:tab algn="l" pos="0"/>
                <a:tab algn="l" pos="798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tabLst>
                <a:tab algn="l" pos="0"/>
                <a:tab algn="l" pos="798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S Mee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 15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ontrollable Load Resourc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" name=""/>
          <p:cNvSpPr/>
          <p:nvPr/>
        </p:nvSpPr>
        <p:spPr>
          <a:xfrm>
            <a:off x="441360" y="1027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69960" y="2170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20200" y="1106640"/>
            <a:ext cx="258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Status Summ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0880" y="1676520"/>
            <a:ext cx="8305920" cy="49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287280">
              <a:buClr>
                <a:srgbClr val="000000"/>
              </a:buClr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ted pilot project in October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87280">
              <a:buClr>
                <a:srgbClr val="000000"/>
              </a:buClr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87280">
              <a:buClr>
                <a:srgbClr val="000000"/>
              </a:buClr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limit potential disruption to ERCOT frequency control only one Load Resource was allowed to participate up to 10 M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87280">
              <a:buClr>
                <a:srgbClr val="000000"/>
              </a:buClr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87280">
              <a:buClr>
                <a:srgbClr val="000000"/>
              </a:buClr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ilo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ccessfull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cluded in early January 2007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87280">
              <a:buClr>
                <a:srgbClr val="000000"/>
              </a:buClr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87280">
              <a:buClr>
                <a:srgbClr val="000000"/>
              </a:buClr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nuary PUCT Open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CT directed ERCOT to open service up to all particip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87280">
              <a:buClr>
                <a:srgbClr val="000000"/>
              </a:buClr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 estimates up to 150 MWs of load could participate as Controllable Lo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87280">
              <a:buClr>
                <a:srgbClr val="000000"/>
              </a:buClr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87280">
              <a:buClr>
                <a:srgbClr val="000000"/>
              </a:buClr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S Mee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 15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ontrollable Load Resourc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47680" y="609480"/>
            <a:ext cx="8896320" cy="5788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S Mee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 15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mpatterson</cp:lastModifiedBy>
  <dcterms:modified xsi:type="dcterms:W3CDTF">2007-02-02T21:15:24Z</dcterms:modified>
  <cp:revision>52</cp:revision>
  <dc:subject/>
  <dc:title>Instructions</dc:title>
</cp:coreProperties>
</file>