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F2B-8722-4DE6-8285-FCDCBF4A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1BE-26CD-46C7-AA3E-B6877873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5B9-07C1-423D-A352-8FCBFD4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551-A57D-4B9C-9E13-EFBBBF90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199-A45C-46FA-8610-9CC32AD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98B-EC62-48D5-B845-5B080B72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9C0-1763-4EC5-B951-1F48FD8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F15-722D-439A-B148-6FE86107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AF5-0952-419D-BABB-7E28F5E0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371-BB96-4B08-8C11-BB60580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674-6CCC-47EA-A7BF-392DB275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B62-C01A-4CF5-A982-EDBFA47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59F-5D92-4B90-ADDE-CA1C9B9B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Reserve Discount F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ROS 02/15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22860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52280"/>
          <a:ext cx="891540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9154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4% Reserve Discount Factor November –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obability of Temperatures having a diverse impact on unit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indicated the need for a discount to be applied to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7% April – Oct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may not be able to perform as well as tested capability due to higher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indicated the need for a discount to be applied to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55:00Z</dcterms:created>
  <dc:creator>jdumas</dc:creator>
  <dc:description/>
  <dc:language>en-US</dc:language>
  <cp:lastModifiedBy>jdumas</cp:lastModifiedBy>
  <dcterms:modified xsi:type="dcterms:W3CDTF">2007-02-14T22:00:15Z</dcterms:modified>
  <cp:revision>3</cp:revision>
  <dc:subject/>
  <dc:title>Slide 1</dc:title>
</cp:coreProperties>
</file>