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E1BB-784A-466F-AF47-3F0698732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6BAB-35B6-48B0-8D1C-CD2AE1746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9F51-CF6E-49FB-8438-83EEA48CA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7A49-144B-436A-B876-B2922F719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8FE9-1ADD-4C0A-8C4C-1727B4B75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3AFA-C06B-4B0C-B49A-372C0A452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5B15-2A1D-4BBE-9071-B81005649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00B3-73C6-4831-A83F-D009B0BB1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D043-D770-4188-A7D8-728E533E7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154B-B926-45F3-B4C1-D8A46DB78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D593-0C20-4C1F-BAEB-DE704A574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2774-5A4F-4AF2-9439-A6279B27A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0320"/>
            <a:ext cx="9144000" cy="228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440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E9B5-CBB1-4864-B4AB-07A12015AE1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30320"/>
            <a:ext cx="1427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700200"/>
            <a:ext cx="1285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04360" y="6429240"/>
            <a:ext cx="8077320" cy="3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174040"/>
            <a:ext cx="7569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GATF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51160" y="2923920"/>
            <a:ext cx="4788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Operations Sub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5,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colm Sm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F Ch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480" y="2131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Task Force Meeting Summary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ration Adequacy Task Force has met six times in 2006 and 2007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y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59560" y="278136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C1FF-E164-4A2D-81D7-FC6B94F658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DR Methodology Components 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1040" y="1666800"/>
            <a:ext cx="8616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Forec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 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able”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hballed”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ired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Network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3128-CB81-45B6-9AD3-4BC71FD3DD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GATF Recommendations 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1040" y="1666800"/>
            <a:ext cx="8616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Forecast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Response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 Ties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able”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Capacity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Increase from 2.6% to 8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hballed”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ired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Network Capacity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, But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F42C-D7F8-473B-A291-F4FE1C8D70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Recommendations - Detail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estimate determined to be capacity equivalence from the LOLP stud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intends to run LOLP study biannually (which is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ending topic at GATF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hange, bu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change “below the line” format to list new generation that is in the interconnection queue at ERCOT and/or generation that has an air permit but not a signed Interconnect Agreement.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developers are being asked to communicate air permit status to ERC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2431-CB6A-4E63-9A53-269E37A433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Format Changes to CDR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600" y="1536840"/>
            <a:ext cx="847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 several format changes to summa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 reserve margin percentages for “high” , “low”, and “publicly announce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line item for “uncommitted” (?) capacity (including remaining “mothballed” capacity and wind at X% capacity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42EA-A7E9-4DAF-B394-342A615CAA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536840"/>
            <a:ext cx="847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changes are so slight, GATF is formulating a written addendum to last year’s report as its Final Re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F planning to submit Final Report to TAC in Mar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5B46-3E33-4DBD-B054-644BF3EA4C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03576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F051-204B-42E5-B317-F19A36CB3F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Brian Bartos</dc:creator>
  <dc:description/>
  <dc:language>en-US</dc:language>
  <cp:lastModifiedBy>Malcolm Smith</cp:lastModifiedBy>
  <dcterms:modified xsi:type="dcterms:W3CDTF">2007-02-13T17:41:40Z</dcterms:modified>
  <cp:revision>161</cp:revision>
  <dc:subject/>
  <dc:title>Slide 1</dc:title>
</cp:coreProperties>
</file>