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C46-E59E-4750-9718-0F90C0BC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360-CD6E-4143-BDD5-1BC1BE09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7985-FCBC-4080-BFD7-AC65B422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61B-960B-4EE2-BE7E-CD831ED8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AA18-D943-40FF-B896-0D6319F5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24D-521A-4DA8-A3FC-9C5EB5AD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83E-E1F9-4985-B62F-6272A4A6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5A8-848A-43F6-B9C3-292FE560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353-2243-4041-A37F-03030C9A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C5F-30F1-48F6-AF52-463123A6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CA5-368B-4DF4-AF03-71C92491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4F0-CAB7-4F37-BCB3-6586C478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23D8-B7D5-45BE-89FF-2C5F975F8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bruary 15,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COT Control Perform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uary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performance in January was better than last Dec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15 minute interval graph improvement can be seen around the evening peak and 2200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good daily scores between January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January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S1 data improved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0" y="-914400"/>
            <a:ext cx="9096480" cy="77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DCWG Goals and Planned Tasks fo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QSE performance during Disturbances 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CT Governor test procedure OGRR (Q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QSE Response graphs (Q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Nodal control performance NPRR (Q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QSE Nodal AGC Guidelines (Q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 LAAR impact on Nodal operations (Q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Nodal RRS and NSRS Compliance Criteria (Q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-annual ERCOT Bias recommendations (Q2, Q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ROS assignments (As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Sydney L. Niemeyer</dc:creator>
  <dc:description/>
  <dc:language>en-US</dc:language>
  <cp:lastModifiedBy>Bob Green</cp:lastModifiedBy>
  <dcterms:modified xsi:type="dcterms:W3CDTF">2007-02-13T18:13:23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40667313</vt:r8>
  </property>
  <property fmtid="{D5CDD505-2E9C-101B-9397-08002B2CF9AE}" pid="3" name="_AuthorEmail">
    <vt:lpwstr>bobG@gplops.org</vt:lpwstr>
  </property>
  <property fmtid="{D5CDD505-2E9C-101B-9397-08002B2CF9AE}" pid="4" name="_AuthorEmailDisplayName">
    <vt:lpwstr>Green, Bob</vt:lpwstr>
  </property>
  <property fmtid="{D5CDD505-2E9C-101B-9397-08002B2CF9AE}" pid="5" name="_EmailSubject">
    <vt:lpwstr>PDCWG report for ROS 20070215</vt:lpwstr>
  </property>
</Properties>
</file>