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6142A2-5A28-4DA9-AE66-FC52AB8857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A324AC-2C4B-45C0-9352-D433A0AF0A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F4B479-68BF-4383-92AE-B7E086FD21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D32A1E-1517-4D69-8A7E-D8BD9F3DE5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B6F1FB-7F5B-4817-B552-D211F848B0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BCC0EB-DF29-4FC4-BE4D-3FCCC15DE0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C591DA-3100-4C6D-83DC-53251A44C1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D81B9B-3C3A-4FE7-82B1-CD7FCA0FCC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A0D7B6-A3A3-4314-B56C-D408B98C83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B60B06-50AA-4351-A56D-AD409F5FDD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DE528-85FC-42D3-8650-2FC4A148A5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45A1A6-3180-4CE0-8B32-E5AB189D6C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60EF6-E698-44FC-B049-3150F52F28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1676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sing Additional NSRS </a:t>
            </a:r>
            <a:br>
              <a:rPr sz="3600"/>
            </a:br>
            <a:r>
              <a:rPr b="0" lang="en-US" sz="3600" spc="-1" strike="noStrike">
                <a:solidFill>
                  <a:srgbClr val="000000"/>
                </a:solidFill>
                <a:latin typeface="Arial"/>
              </a:rPr>
              <a:t>to Reduce Step2 RPRS</a:t>
            </a:r>
            <a:endParaRPr b="0" lang="en-US" sz="3600" spc="-1" strike="noStrike">
              <a:solidFill>
                <a:srgbClr val="000000"/>
              </a:solidFill>
              <a:latin typeface="Arial"/>
            </a:endParaRPr>
          </a:p>
        </p:txBody>
      </p:sp>
      <p:sp>
        <p:nvSpPr>
          <p:cNvPr id="42" name="PlaceHolder 2"/>
          <p:cNvSpPr>
            <a:spLocks noGrp="1"/>
          </p:cNvSpPr>
          <p:nvPr>
            <p:ph/>
          </p:nvPr>
        </p:nvSpPr>
        <p:spPr>
          <a:xfrm>
            <a:off x="457200" y="5562720"/>
            <a:ext cx="8229600" cy="91440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iability and Operations Subcommittee</a:t>
            </a: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bruary 15, 200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SRS Concepts </a:t>
            </a:r>
            <a:endParaRPr b="0" lang="en-US" sz="4400" spc="-1" strike="noStrike">
              <a:solidFill>
                <a:srgbClr val="000000"/>
              </a:solidFill>
              <a:latin typeface="Arial"/>
            </a:endParaRPr>
          </a:p>
        </p:txBody>
      </p:sp>
      <p:sp>
        <p:nvSpPr>
          <p:cNvPr id="44" name="PlaceHolder 2"/>
          <p:cNvSpPr>
            <a:spLocks noGrp="1"/>
          </p:cNvSpPr>
          <p:nvPr>
            <p:ph/>
          </p:nvPr>
        </p:nvSpPr>
        <p:spPr>
          <a:xfrm>
            <a:off x="457200" y="1523880"/>
            <a:ext cx="8229600" cy="46022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based servic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SRS obligations can be self-provided by QS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ability of energy dispatch at LSL is zero for expected normal condition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R650 MCPE adjustments minimize adverse impacts on energy markets when deploy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PRS Concepts </a:t>
            </a:r>
            <a:endParaRPr b="0" lang="en-US" sz="4400" spc="-1" strike="noStrike">
              <a:solidFill>
                <a:srgbClr val="000000"/>
              </a:solidFill>
              <a:latin typeface="Arial"/>
            </a:endParaRPr>
          </a:p>
        </p:txBody>
      </p:sp>
      <p:sp>
        <p:nvSpPr>
          <p:cNvPr id="46" name="PlaceHolder 2"/>
          <p:cNvSpPr>
            <a:spLocks noGrp="1"/>
          </p:cNvSpPr>
          <p:nvPr>
            <p:ph/>
          </p:nvPr>
        </p:nvSpPr>
        <p:spPr>
          <a:xfrm>
            <a:off x="457200" y="1523880"/>
            <a:ext cx="8229600" cy="46022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1 RPRS is a location-based, local area servic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urement is based on applying local constraint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ike Regulation, Responsive and Non-Spin, Step1 RPRS is not procured for system purpos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ability of energy dispatch at LSL is 100% for expected normal condi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PRS Concepts  </a:t>
            </a:r>
            <a:r>
              <a:rPr b="0" lang="en-US" sz="2400" spc="-1" strike="noStrike">
                <a:solidFill>
                  <a:srgbClr val="000000"/>
                </a:solidFill>
                <a:latin typeface="Arial"/>
              </a:rPr>
              <a:t>(continued)</a:t>
            </a:r>
            <a:endParaRPr b="0" lang="en-US" sz="2400" spc="-1" strike="noStrike">
              <a:solidFill>
                <a:srgbClr val="000000"/>
              </a:solidFill>
              <a:latin typeface="Arial"/>
            </a:endParaRPr>
          </a:p>
        </p:txBody>
      </p:sp>
      <p:sp>
        <p:nvSpPr>
          <p:cNvPr id="48" name="PlaceHolder 2"/>
          <p:cNvSpPr>
            <a:spLocks noGrp="1"/>
          </p:cNvSpPr>
          <p:nvPr>
            <p:ph/>
          </p:nvPr>
        </p:nvSpPr>
        <p:spPr>
          <a:xfrm>
            <a:off x="457200" y="1523880"/>
            <a:ext cx="8229600" cy="50292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2 RPRS is a non-locational, system-based servic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not locally procured (i.e., procurement should not be based on applying local constraint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not zonally procured (i.e., procurement should not be based on zonal constraint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2 RPRS obligations cannot be self-provided currently by QSE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ability of energy dispatch at LSL is 100% for expected normal conditio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PRS Impacts </a:t>
            </a:r>
            <a:endParaRPr b="0" lang="en-US" sz="4400" spc="-1" strike="noStrike">
              <a:solidFill>
                <a:srgbClr val="000000"/>
              </a:solidFill>
              <a:latin typeface="Arial"/>
            </a:endParaRPr>
          </a:p>
        </p:txBody>
      </p:sp>
      <p:sp>
        <p:nvSpPr>
          <p:cNvPr id="50" name="PlaceHolder 2"/>
          <p:cNvSpPr>
            <a:spLocks noGrp="1"/>
          </p:cNvSpPr>
          <p:nvPr>
            <p:ph/>
          </p:nvPr>
        </p:nvSpPr>
        <p:spPr>
          <a:xfrm>
            <a:off x="457200" y="1523880"/>
            <a:ext cx="8229600" cy="5029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COT has provided d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urly RPRS aggregate LSL energ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parately stated for Step1 and Step2 procurement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PRS data was compared to hourly UBES deployment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ep-Dec, 2006:</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2 RPRS was procured in 13.4% of all hou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mount of Step2 RPRS LSL energy exceeded the total amount of UBES deployments in some hou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imes Step2 RPRS LSL energy is multiples of UBES deploy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s </a:t>
            </a:r>
            <a:endParaRPr b="0" lang="en-US" sz="4400" spc="-1" strike="noStrike">
              <a:solidFill>
                <a:srgbClr val="000000"/>
              </a:solidFill>
              <a:latin typeface="Arial"/>
            </a:endParaRPr>
          </a:p>
        </p:txBody>
      </p:sp>
      <p:sp>
        <p:nvSpPr>
          <p:cNvPr id="52" name="PlaceHolder 2"/>
          <p:cNvSpPr>
            <a:spLocks noGrp="1"/>
          </p:cNvSpPr>
          <p:nvPr>
            <p:ph/>
          </p:nvPr>
        </p:nvSpPr>
        <p:spPr>
          <a:xfrm>
            <a:off x="228600" y="1523880"/>
            <a:ext cx="8686800" cy="5029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ike NSRS, RPRS interferes with the proper functioning of energy markets by distorting the BES market</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RCOT-provided RPRS data indicates that there may have been opportunities for ERCOT to procure additional NSRS, instead of Step2 RPRS, since Step2 RPRS was not, or should not have been, procured to resolve or avoid local or zonal constraints</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ssive Step2 RPRS procurement:</a:t>
            </a:r>
            <a:endParaRPr b="0" lang="en-US" sz="24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not compatible with an Energy-Only market design;</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rates supply-side investment incentives;</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ourages price-responsive demand participation; and</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es nothing to encourage Resource Adequac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ommendation </a:t>
            </a:r>
            <a:endParaRPr b="0" lang="en-US" sz="4400" spc="-1" strike="noStrike">
              <a:solidFill>
                <a:srgbClr val="000000"/>
              </a:solidFill>
              <a:latin typeface="Arial"/>
            </a:endParaRPr>
          </a:p>
        </p:txBody>
      </p:sp>
      <p:sp>
        <p:nvSpPr>
          <p:cNvPr id="54" name="PlaceHolder 2"/>
          <p:cNvSpPr>
            <a:spLocks noGrp="1"/>
          </p:cNvSpPr>
          <p:nvPr>
            <p:ph/>
          </p:nvPr>
        </p:nvSpPr>
        <p:spPr>
          <a:xfrm>
            <a:off x="228600" y="1523880"/>
            <a:ext cx="8686800" cy="5029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COT should take all steps operationally feasible to procur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PRS for local constraints only, when possible;</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NSRS for other system-based purposes (including but not limited to load forecast uncertainty and capacity insufficiency) up to the limit of all available on-line and off-line NSRS; and</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2 RPRS to the extent additional NSRS is not avail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9T13:51:34Z</dcterms:created>
  <dc:creator>BPPassPort User</dc:creator>
  <dc:description/>
  <dc:language>en-US</dc:language>
  <cp:lastModifiedBy>BPPassPort User</cp:lastModifiedBy>
  <dcterms:modified xsi:type="dcterms:W3CDTF">2007-02-09T14:06:21Z</dcterms:modified>
  <cp:revision>3</cp:revision>
  <dc:subject/>
  <dc:title>RPRS_ROS_021507</dc:title>
</cp:coreProperties>
</file>