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339-B22D-4138-AE1F-4E5EB7ED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1E57-6B4D-4A29-A3C5-5A197FF2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77C-215A-45A8-A7C0-F47FC775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772-D51E-4219-BE3E-A903972D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8A8-5DA3-4D01-98CD-CA6A1CA0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FF0B-1F44-4456-9DE5-9557835B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B6F-F349-4BDD-A934-1FA922E5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DD8-7F98-4922-A9C7-482AEAC0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09B-DAAC-4B47-916E-3AE44A83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783-93C9-47BC-908F-A87DC4A0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D77-366C-4CF7-A1AF-065E907E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6DD-D2A0-41CF-86D9-8DE07FA9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D91F-03A9-43F9-9201-5C12D2E18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GHLIGHT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RC STANDARDS ACTIVIT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bruary 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952640" y="430200"/>
          <a:ext cx="5332320" cy="58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2640" y="430200"/>
                    <a:ext cx="5332320" cy="58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963720" y="914400"/>
          <a:ext cx="7007040" cy="42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914400"/>
                    <a:ext cx="70070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620720" y="934920"/>
          <a:ext cx="6093000" cy="50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934920"/>
                    <a:ext cx="60930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14400" y="838080"/>
          <a:ext cx="6804000" cy="46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680400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21:11:35Z</dcterms:created>
  <dc:creator>ftafreshi</dc:creator>
  <dc:description/>
  <dc:language>en-US</dc:language>
  <cp:lastModifiedBy>ftafreshi</cp:lastModifiedBy>
  <dcterms:modified xsi:type="dcterms:W3CDTF">2007-02-09T21:27:43Z</dcterms:modified>
  <cp:revision>4</cp:revision>
  <dc:subject/>
  <dc:title>NERC ACTIVITIES HIGHLIGHTS February 2007 </dc:title>
</cp:coreProperties>
</file>