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906-18B9-402D-B907-41A1DDDB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FED-40ED-496A-B598-5E214A81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5BF-345A-4A22-B4F5-040C71C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787-35A4-498C-A41A-F232FE30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F3D-AF1C-4B80-B2C1-2A9A752D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64C-72E2-406E-9D2E-3626495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D151-7194-4EC8-B451-DDCDEDAA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169C-15CD-4761-9414-3099479F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E73-DBFE-4088-B4AD-4FF5CC5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6451-2480-4B91-A294-2606572B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79A9-5D00-4845-A352-4BA4CA2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B3B-0973-4022-95AD-40ED6C6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F736-840E-4E5D-A0DC-BFCF1FC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38F6-28EA-4447-B878-9C98DF0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44C-822E-4334-A42A-4A58962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BC1C-BB38-4B08-94AB-55F4269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A2C-E468-453C-AE1B-65A9E14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3C2-3A97-44E5-8146-C62F891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8EA-DAC7-46BD-B392-47A2B531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8D5-65E3-4D16-8294-74A72EA0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053-3E9E-40FF-92D1-7F6F6F83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8AD-84BB-4538-844E-DF67B95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F15-C764-43D2-BD87-3622C2B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4ED-7F65-4A84-9F96-B5881F6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A33-1AE3-4A32-BB82-BAE7DA99A1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3F4-4B22-4FBB-91BC-75ADFDCFB2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38280" y="2362320"/>
            <a:ext cx="327672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 with 100+ CPS1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 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52280"/>
            <a:ext cx="4114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-Dec 2005 versus Oct-Dec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327672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CPS1 for the ye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 11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 13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38280" y="2209680"/>
            <a:ext cx="327672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 with 100+ CPS1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62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75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505320"/>
            <a:ext cx="327672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0600HR CPS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 11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 12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5120" y="2590920"/>
            <a:ext cx="327636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 with 100+ CPS1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62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75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2320" y="2057400"/>
            <a:ext cx="327636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 with 100+ CPS1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75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78/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352680"/>
            <a:ext cx="327636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2200HR CPS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:  14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:  13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0:41:50Z</dcterms:created>
  <dc:creator>tmortensen</dc:creator>
  <dc:description/>
  <dc:language>en-US</dc:language>
  <cp:lastModifiedBy>tmortensen</cp:lastModifiedBy>
  <dcterms:modified xsi:type="dcterms:W3CDTF">2007-01-30T20:45:3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  <property fmtid="{D5CDD505-2E9C-101B-9397-08002B2CF9AE}" pid="3" name="_NewReviewCycle">
    <vt:lpwstr/>
  </property>
</Properties>
</file>