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CD9D-788E-4B3A-8766-FC534AF1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ACAAF-D1DC-478C-BD66-9DEBA647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4FD7-BA1D-41D9-B345-CF16B559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9B1C-9B11-4B05-8F61-17DA8495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65FF-A121-4D39-86C8-38FA4F02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4108-BEFF-4619-9320-2F35E824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A2EF-F251-4B28-96CD-3E9AC7F9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D530-57BD-4C24-8955-353DF6AC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E2CAE-738B-4A8A-BE63-019F68D1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A859-87B8-4F52-80B7-9A5DACB5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0D04D-38AD-4B71-AB79-91895879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002A-BF06-418E-B8F4-4B687E1F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F8D1-EF00-41E2-B159-3E0E3FA49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1981080"/>
            <a:ext cx="601992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trollable Load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Februar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rollable Load Resou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41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5560" y="133524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What is a Controllable Load Resour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99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9960" y="2322360"/>
            <a:ext cx="794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ad Resource capable of providing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gulation Servic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by controllably reducing or increasing consumption under dispatch control (similar to AGC) and that immediately responds proportionally to frequency changes (similar to generator governor ac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rollable Load Resou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441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99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447920"/>
            <a:ext cx="8474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4776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2 PRR307, Load providing Regulation services (Controllable Resources), was ap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776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776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June 2007 ERCOT was asked to provide a cost and impact analysis for implementing PRR3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776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776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estimated the project would cost between $500,000 and $1,000,000 and take up to a year to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776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776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proposed an alternate approach which could be implemented with no system changes, but with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40600" y="83808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Backgroun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rollable Load Resou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441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99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720" y="76212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Pilot Limi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371600"/>
            <a:ext cx="84582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 all requirements for participation as a L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R 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 Time telemetry at the controllable load installed and 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fully complete qualification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le to respond proportionately to frequency changes (similar to generator governor 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ble of reducing or increasing consumption in response to dispatch instruction (similar to AG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te has to “look”, “act”, and “smell” like a generation resource (eg; power flow at point of the settlement meter shall be a net generation point while providing services as a controllable lo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ed to bid in as a “GEN” type and not “CLD” Resource (for RRS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 agrees to waive its right to receive any resource-specific premium payments that would result from a unit specific instruction (OO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rollable Load Resou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41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99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8320" y="76212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Status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21932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34920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ted pilot project in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5920" indent="34920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5920" indent="34920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imit potential disruption to ERCOT frequenc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only one Load Resource was allow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te up to 10 M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5920" indent="34920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5920" indent="34920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lot successfully concluded in early January 20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5920" indent="34920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5920" indent="34920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nuary PUCT Open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CT directed ERCOT to open service up to all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5920" indent="34920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estimates up to 150 MWs of load coul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te as Controllabl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5920" indent="34920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rollable Load Resou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441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99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960" y="1154160"/>
            <a:ext cx="794052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ntrollable Load can prov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tion Up, Regulation Down,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ve Reserve 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capacity from a Controllable Load providing RRS would not be included  in the ERCOT established limit for LaaRs providing R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rollable Load Resou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441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5160" y="762120"/>
            <a:ext cx="61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Qualification Test for a Controllabl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7944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855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Qualification Criteria and Portfolio Test Methods as described in the Protocols is a QSE portfolio level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855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855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takeholders and ERCOT both wanted to test each Controllable Loads ability to provide Regulation and Responsive Reserv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855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855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ERCOT cannot create a resource specific Regulation and Responsive Reserve Service instruction the proposed qualification test procedure is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855720"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qualification criteria currently used to qualify QSE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855720"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 QSE to set all non-CLR on manual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855720"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trol signal sent to the QSE will test the controllable loads ability to achieve the entire amount of Regulation requested for qua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855720"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the CLR is expected to control to the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855720"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mpatterson</cp:lastModifiedBy>
  <dcterms:modified xsi:type="dcterms:W3CDTF">2007-02-14T21:31:15Z</dcterms:modified>
  <cp:revision>58</cp:revision>
  <dc:subject/>
  <dc:title>Instructions</dc:title>
</cp:coreProperties>
</file>