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04E1C13-F3D4-43A6-84CF-9CD7AF1EA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rrie Tucker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2/15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month, TPTF conven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2-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Management System (MMS)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MMS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SCED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RUC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DAM and SASM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Constraint Competitive Test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Engagement and Readiness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 Portal Conceptual Syste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Monitoring and Management System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Transfer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s and Invoices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Conceptual System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C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ggregation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EC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Settlements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 Management Systems (NMMS)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onth, TPTF has met/will me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0 (date tent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2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8-Marc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Management System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DA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Security and Stability Analysis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Power Forecasting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stimator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Support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 Evaluation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Management System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Forecasting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d Outage Detection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Ratings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s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 Scheduler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Conceptual Syste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ERCOT Readiness and Transition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rials detailed pla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Registrati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draft NPRRs related to approved whitepapers/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draft NPRRs related to outages, wind forecasting,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Carrie Tucker</cp:lastModifiedBy>
  <dcterms:modified xsi:type="dcterms:W3CDTF">2007-02-08T19:57:17Z</dcterms:modified>
  <cp:revision>56</cp:revision>
  <dc:subject/>
  <dc:title>Texas Nodal</dc:title>
</cp:coreProperties>
</file>