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15C-B5B2-4398-BF46-513A8A6B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41461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B98-34A1-48A4-88DD-0D13189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56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A43-B5C7-4125-B24A-7513F9E2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112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112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E62-7311-4ECD-AC33-FA0C9586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D61-9826-4E0F-B337-F1D8B172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FE66-BFAE-4A10-91FE-4FE60D7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F5B-FA17-485E-8E6E-2CB229BF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E4EF-1F42-4EEF-9089-6DA2F7D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75FF-12C8-4250-8248-DF75A0F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76280"/>
            <a:ext cx="7848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6879-9950-48F9-B182-355878A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44B1-F414-495E-AC1A-04964BB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4B0-7C8F-4732-96C2-AE24FE4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56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420-7335-465F-821D-F10E52E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297-ABCB-4A11-943C-C306FB6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41461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2A33-C010-4060-875D-9C81FEB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56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E8F-7F51-419A-8FF3-771B823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1120" y="17017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1120" y="4146120"/>
            <a:ext cx="2526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6C8-7473-4155-8E38-BD7EBAF6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BDA-6161-4130-AF1F-B3F260F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2A7-09C5-472B-9F11-6D60871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FCF-EE5A-4774-A7E3-70D6C9E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76280"/>
            <a:ext cx="7848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F13-DD86-48D4-9E8F-9352847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981-AC32-49B4-978D-9B62A49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560" y="41461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D4D-30F5-482D-9F67-3B98CFC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560" y="1701720"/>
            <a:ext cx="3829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41461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7E9-68EB-4467-B63C-0E8F117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5C9-FC01-4A77-882E-A311AC07487C}" type="slidenum"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946240"/>
            <a:ext cx="69339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A65-B0B1-4F20-B1BB-2D55F9051F37}" type="slidenum"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946240"/>
            <a:ext cx="69339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et Metrics Working Gro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86028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S Update: February 14, 20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Jan 31 MMWG Meeting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fficer ele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pdate from PUCT Staff on Performance Measures Rulemak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port method for Quarterly Performance Measures Rep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DSP to CR onl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keTrak reporting requireme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Officer Elections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hair: Jennifer Garcia (Direct Energy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ice Chair:  Bill Reily (TXUED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MWG asks that RMS approve their new leadershi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erformance Measures Updat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t December MMWG Workshop, Market Participants provided PUCT Staff feedback on draft ques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UCT Staff still working on propos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nticipate that the rule will be completed by this summer and implemented early 2008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New Delivery Method for Performance Measures Report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oal is to make it easier for TDSPs to provide CRs with Performance Measure Report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roup has previously considered Secure FTP and NAES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urrent proposal is for TDSPs to post on secure websi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lso considering whether to post for all CRs or allow CRs to opt-ou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DSPs to report back to MMWG at February meet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arkeTrak Reporting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MWG working on market-wide reporting requirements for MarkeTra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Rs and TDSPs reviewing internally this month and will bring recommendations to Feb MMW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priate ERCOT staff will be present at meeting to review feasibil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MWG will bring consolidated recommendation to RMS in Marc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70172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xt meeting is February 2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oup will be reviewing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pdate from PUCT Staff on Rulemak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livery method for Performance Measures Report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rket-Wide reporting from MarkeTra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 need everyone’s participation this year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garcia</cp:lastModifiedBy>
  <dcterms:modified xsi:type="dcterms:W3CDTF">2007-02-06T15:50:55Z</dcterms:modified>
  <cp:revision>7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