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28AA-D2A9-4B3D-8A79-99CCFBF99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file Model Coefficient Re-estima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COPS approved urgency request for LPGRR016 … transition plan requirement and profile models moved to an appendix in LPG</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ERCOT staff determined data issues with baseline analysis and presented to PWG and COPS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ERCOT currently re-estimating profile model coefficients and producing new profile shap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Re-work creates timing issues around completion / implementa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COPS will review refreshed info Nov 16, and provide to PRS the LPGRR for vot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will vote in Dec.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reject the chang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suggested urgent timeline for implementation in May 2007</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with a normal timeline new models would be implemented in Oct 2007</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with normal timeline, allow implementation during summer month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618A-77C6-4B60-88EC-4D977A43C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9042-D6C7-459E-AF91-25F618EE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898DE-9E58-49EC-891A-2482698FE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BB208-4B25-4CF0-8C15-65111822A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5BB1-1525-4D74-93BB-6ACC31D2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A985-D0AE-4AAD-95A9-8331EAD1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AA663-B9B4-4D2F-A24E-0699BC26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A78F0-9CEE-42B6-812B-780EF6AB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7A37-27C7-4697-A2C4-E78F1972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8C0B9-78CC-4101-8A43-FEA1B5FE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EDFBC-43E8-40B3-8C35-08300AA9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CE93-36A5-4217-B31C-0015CC3C0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E7A3-0C75-4B48-B774-51E180AAD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r>
              <a:rPr b="1" lang="en-US" sz="4400" spc="-1" strike="noStrike">
                <a:solidFill>
                  <a:srgbClr val="3333cc"/>
                </a:solidFill>
                <a:latin typeface="Times New Roman"/>
              </a:rPr>
              <a:t> Update to TAC</a:t>
            </a:r>
            <a:br>
              <a:rPr sz="4400"/>
            </a:br>
            <a:r>
              <a:rPr b="1" i="1" lang="en-US" sz="4400" spc="-1" strike="noStrike" u="sng">
                <a:solidFill>
                  <a:srgbClr val="000000"/>
                </a:solidFill>
                <a:uFillTx/>
                <a:latin typeface="Times New Roman"/>
              </a:rPr>
              <a:t>2006 Accomplishments</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1295280" y="43430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ebruary 1, 2007</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F20A6-A3D6-4C44-991F-9861DE11BD0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8120" y="1519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2006 Accomplishments</a:t>
            </a:r>
            <a:endParaRPr b="0" lang="en-US" sz="3600" spc="-1" strike="noStrike">
              <a:solidFill>
                <a:srgbClr val="000099"/>
              </a:solidFill>
              <a:latin typeface="Times New Roman"/>
            </a:endParaRPr>
          </a:p>
        </p:txBody>
      </p:sp>
      <p:sp>
        <p:nvSpPr>
          <p:cNvPr id="53" name="PlaceHolder 2"/>
          <p:cNvSpPr>
            <a:spLocks noGrp="1"/>
          </p:cNvSpPr>
          <p:nvPr>
            <p:ph/>
          </p:nvPr>
        </p:nvSpPr>
        <p:spPr>
          <a:xfrm>
            <a:off x="685440" y="1218960"/>
            <a:ext cx="8001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imes New Roman"/>
              </a:rPr>
              <a:t>COPS:</a:t>
            </a:r>
            <a:endParaRPr b="0" lang="en-US" sz="32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ed with RMS to transition PWG into COPS and maintain timely completion of Annual Validation Proces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ed through process to change “Settlement Invoice Due Date” from 16 Calendar Days to 5 Business Day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itted proposed changes to “Discontinue Interest Charges for Defaulting Entities at Time of Uplif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lementation of TPTF Review Task For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1753B-6515-4F0B-AA1B-53EF8A8355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819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orking Groups:</a:t>
            </a:r>
            <a:endParaRPr b="0" lang="en-US" sz="4000" spc="-1" strike="noStrike">
              <a:solidFill>
                <a:srgbClr val="000099"/>
              </a:solidFill>
              <a:latin typeface="Times New Roman"/>
            </a:endParaRPr>
          </a:p>
        </p:txBody>
      </p:sp>
      <p:sp>
        <p:nvSpPr>
          <p:cNvPr id="55" name="PlaceHolder 2"/>
          <p:cNvSpPr>
            <a:spLocks noGrp="1"/>
          </p:cNvSpPr>
          <p:nvPr>
            <p:ph/>
          </p:nvPr>
        </p:nvSpPr>
        <p:spPr>
          <a:xfrm>
            <a:off x="228600" y="1295280"/>
            <a:ext cx="8686800" cy="518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imes New Roman"/>
              </a:rPr>
              <a:t>PWG:</a:t>
            </a:r>
            <a:endParaRPr b="0" lang="en-US" sz="32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ompleted Implementation of New Profile Determinates:</a:t>
            </a:r>
            <a:endParaRPr b="0" lang="en-US" sz="28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through significant detail and process review to effect completing the annual validation process within a reasonable time period.</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ied profile ID responsibilities; ways to accommodate extreme events in Settlement process; and incorporated into the Load Profiling Guides the Decision Tree Language.</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directly with ERCOT staff to keep data current and responded timely to unanticipated system error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ignificant improvement from existing profile determinate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lementation of new oil and gas profil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B2F741-1ECB-406A-8980-60398EAAF8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57" name="PlaceHolder 2"/>
          <p:cNvSpPr>
            <a:spLocks noGrp="1"/>
          </p:cNvSpPr>
          <p:nvPr>
            <p:ph/>
          </p:nvPr>
        </p:nvSpPr>
        <p:spPr>
          <a:xfrm>
            <a:off x="304920" y="1295280"/>
            <a:ext cx="86104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CCWG</a:t>
            </a:r>
            <a:r>
              <a:rPr b="0" lang="en-US" sz="2400" spc="-1" strike="noStrike" u="sng">
                <a:solidFill>
                  <a:srgbClr val="000099"/>
                </a:solidFill>
                <a:uFillTx/>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through process to implement and change “</a:t>
            </a:r>
            <a:r>
              <a:rPr b="0" i="1" lang="en-US" sz="2400" spc="-1" strike="noStrike">
                <a:solidFill>
                  <a:srgbClr val="000099"/>
                </a:solidFill>
                <a:latin typeface="Times New Roman"/>
              </a:rPr>
              <a:t>Settlement Invoice Due Date</a:t>
            </a:r>
            <a:r>
              <a:rPr b="0" lang="en-US" sz="2400" spc="-1" strike="noStrike">
                <a:solidFill>
                  <a:srgbClr val="000099"/>
                </a:solidFill>
                <a:latin typeface="Times New Roman"/>
              </a:rPr>
              <a:t>” from 16 calendar days to 5 bank business days.</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Updated “Commercial Operations Market Guide” and established a structured revision process </a:t>
            </a:r>
            <a:r>
              <a:rPr b="0" i="1" lang="en-US" sz="2400" spc="-1" strike="noStrike">
                <a:solidFill>
                  <a:srgbClr val="000099"/>
                </a:solidFill>
                <a:latin typeface="Times New Roman"/>
              </a:rPr>
              <a:t>(similar to other guides)</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CCP Communication Plan - updated/refined template and changes (</a:t>
            </a:r>
            <a:r>
              <a:rPr b="0" i="1" lang="en-US" sz="2400" spc="-1" strike="noStrike">
                <a:solidFill>
                  <a:srgbClr val="000099"/>
                </a:solidFill>
                <a:latin typeface="Times New Roman"/>
              </a:rPr>
              <a:t>Unplanned Outage</a:t>
            </a:r>
            <a:r>
              <a:rPr b="0" lang="en-US" sz="2400" spc="-1" strike="noStrike">
                <a:solidFill>
                  <a:srgbClr val="000099"/>
                </a:solidFill>
                <a:latin typeface="Times New Roman"/>
              </a:rPr>
              <a:t> - </a:t>
            </a:r>
            <a:r>
              <a:rPr b="0" i="1" lang="en-US" sz="2400" spc="-1" strike="noStrike">
                <a:solidFill>
                  <a:srgbClr val="000099"/>
                </a:solidFill>
                <a:latin typeface="Times New Roman"/>
              </a:rPr>
              <a:t>COPMGRR-002</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commendation to PRS regarding </a:t>
            </a:r>
            <a:r>
              <a:rPr b="0" i="1" lang="en-US" sz="2400" spc="-1" strike="noStrike">
                <a:solidFill>
                  <a:srgbClr val="000099"/>
                </a:solidFill>
                <a:latin typeface="Times New Roman"/>
              </a:rPr>
              <a:t>“discontinuing interest charges for defaulting entities at time of Uplif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bers from CCWG and others participated in the TPTF Nodal Review proces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92395-EF9D-41F5-82ED-AE3113D4D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59" name="PlaceHolder 2"/>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rPr>
              <a:t>DEWG</a:t>
            </a:r>
            <a:r>
              <a:rPr b="0" lang="en-US" sz="2000" spc="-1" strike="noStrike">
                <a:solidFill>
                  <a:srgbClr val="000099"/>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sponsored with ERCOT a successful web services training – 60 participants.</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pdated the Extract and Report Matrix – up to date Matrix of all reports and extracts produced by ERCOT out on website.</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Screen Scraping” – MP’s concern that ERCOT “policies” conflict need to access information – MIS group under TPTF is aware of market concerns and added this issue to their log.</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onitored progress of various activity related to data and extracts:</a:t>
            </a:r>
            <a:endParaRPr b="0" lang="en-US" sz="20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734 – Automation of CSA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30026 – EPS Meter Data (aka Resource Id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50024 – SCR 740 (SCR 727 Phase II)</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r577 – Availability of Aggregated Load Data by TDSP</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 743 – QSE Dispute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 732 / SCR 738 – Enhancements to FasTrac (as needed, in conjunction with other market groups)</a:t>
            </a:r>
            <a:endParaRPr b="0" lang="en-US" sz="18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orking group activity is suspended pending completion of Nodal 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D8EECD-AEFD-45C7-8475-1405F6AEFC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orking Groups:</a:t>
            </a:r>
            <a:endParaRPr b="0" lang="en-US" sz="4400" spc="-1" strike="noStrike">
              <a:solidFill>
                <a:srgbClr val="000099"/>
              </a:solidFill>
              <a:latin typeface="Times New Roman"/>
            </a:endParaRPr>
          </a:p>
        </p:txBody>
      </p:sp>
      <p:sp>
        <p:nvSpPr>
          <p:cNvPr id="61" name="PlaceHolder 2"/>
          <p:cNvSpPr>
            <a:spLocks noGrp="1"/>
          </p:cNvSpPr>
          <p:nvPr>
            <p:ph/>
          </p:nvPr>
        </p:nvSpPr>
        <p:spPr>
          <a:xfrm>
            <a:off x="-609840" y="1143000"/>
            <a:ext cx="9753480" cy="58672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UFE TF:</a:t>
            </a:r>
            <a:endParaRPr b="0" lang="en-US" sz="2800" spc="-1" strike="noStrike">
              <a:solidFill>
                <a:srgbClr val="000000"/>
              </a:solidFill>
              <a:latin typeface="Times New Roman"/>
            </a:endParaRPr>
          </a:p>
          <a:p>
            <a:pPr lvl="2" marL="11430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btained better understanding of the drivers of UFE analyzing the historical trends in volatility and magnitude. </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bmitted PRR668 modifying the Settlement Interval Distribution Loss Factor (SILF) improving the non-linear relationship with the Settlement Interval ERCOT System Load (SIEL); recommended changes to T&amp;D losses.</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with PWG to investigate improvements in the NIDR estimation methodology.</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vided revised language in PRR695 for defining the annual UFE analysis performed by ERCOT.</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D8F605-7093-4550-BCEE-3D348696C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666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63" name="PlaceHolder 2"/>
          <p:cNvSpPr>
            <a:spLocks noGrp="1"/>
          </p:cNvSpPr>
          <p:nvPr>
            <p:ph/>
          </p:nvPr>
        </p:nvSpPr>
        <p:spPr>
          <a:xfrm>
            <a:off x="-360" y="1143000"/>
            <a:ext cx="899172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TPTF Task Force</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n ad hoc task force created to review TPTF working documents as they relate to data and financial settlement processes.</a:t>
            </a:r>
            <a:endParaRPr b="0" lang="en-US" sz="24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eekly conference calls began in August.</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rum has allowed COPS to provide input to ERCOT and the TPTF members on data extract and settlement issue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viewed/commented on draft documents prior to TPTF final review including “Business Requirements” for Statements; Invoicing; Credit Monitoring; and Financial Transfer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rovided direct feedback to TPTF via </a:t>
            </a:r>
            <a:r>
              <a:rPr b="0" lang="en-US" sz="2000" spc="-1" strike="noStrike" u="sng">
                <a:solidFill>
                  <a:srgbClr val="000099"/>
                </a:solidFill>
                <a:uFillTx/>
                <a:latin typeface="Times New Roman"/>
              </a:rPr>
              <a:t>Alice Jackson</a:t>
            </a:r>
            <a:r>
              <a:rPr b="0" lang="en-US" sz="2000" spc="-1" strike="noStrike">
                <a:solidFill>
                  <a:srgbClr val="000099"/>
                </a:solidFill>
                <a:latin typeface="Times New Roman"/>
              </a:rPr>
              <a:t> and </a:t>
            </a:r>
            <a:r>
              <a:rPr b="0" lang="en-US" sz="2000" spc="-1" strike="noStrike" u="sng">
                <a:solidFill>
                  <a:srgbClr val="000099"/>
                </a:solidFill>
                <a:uFillTx/>
                <a:latin typeface="Times New Roman"/>
              </a:rPr>
              <a:t>Judy Brisco.</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Joint Meeting 12/14/06 with TDTWG and CCWG to review Market Guide update &amp; notification processe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pproved Nodal “Functional Requirements” - Eligibility Process for Settlements, and Dispute Management.</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ommended NPRRs be written related to consistency of invoice due dates; Nodal CRR Auction process start date; CRR balancing account invoice process; and timing of needed settlement quality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383CDB-C3CC-493B-9065-448D38D96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PS Appreciation:</a:t>
            </a:r>
            <a:r>
              <a:rPr b="0" lang="en-US" sz="3200" spc="-1" strike="noStrike">
                <a:solidFill>
                  <a:srgbClr val="3333cc"/>
                </a:solidFill>
                <a:latin typeface="Times New Roman"/>
              </a:rPr>
              <a:t> </a:t>
            </a:r>
            <a:endParaRPr b="0" lang="en-US" sz="3200" spc="-1" strike="noStrike">
              <a:solidFill>
                <a:srgbClr val="000099"/>
              </a:solidFill>
              <a:latin typeface="Times New Roman"/>
            </a:endParaRPr>
          </a:p>
        </p:txBody>
      </p:sp>
      <p:sp>
        <p:nvSpPr>
          <p:cNvPr id="65"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14400"/>
            <a:ext cx="8458200" cy="5943600"/>
          </a:xfrm>
          <a:prstGeom prst="rect">
            <a:avLst/>
          </a:prstGeom>
          <a:noFill/>
          <a:ln w="0">
            <a:noFill/>
          </a:ln>
        </p:spPr>
        <p:style>
          <a:lnRef idx="0"/>
          <a:fillRef idx="0"/>
          <a:effectRef idx="0"/>
          <a:fontRef idx="minor"/>
        </p:style>
        <p:txBody>
          <a:bodyPr lIns="90000" rIns="90000" tIns="46800" bIns="46800" anchor="t">
            <a:normAutofit/>
          </a:bodyPr>
          <a:p>
            <a:pPr lvl="1" marL="990720" indent="-533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J Flowers, for her leadership and contribution as as Committee Chair since committee inception.</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Judy Brisco, for her leadership and settlements expertise as Committee Vice Chair, Chair of CCWG, and co-anchor with Alice Jackson leading the TPTF Nodal Review group and the significant effort of those who participated to meet TPTF review timelines.</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rnie Podraza and Brad Boles served as Chair and Vice Chair of the PWG and their significant effort working with ERCOT Staff to effect completing the Annual Validation Process and Profile Updates </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huck Moore and Eric Geoff as Chairpersons for their leadership anchoring the UFE Task Force.</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ck Collard and Annette Morton for their leadership and efforts as Chair and Vice Chair of the DWE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437B75-5BCB-4781-82B1-0D11B2DCDC7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lee starr</cp:lastModifiedBy>
  <dcterms:modified xsi:type="dcterms:W3CDTF">2007-01-26T19:42:13Z</dcterms:modified>
  <cp:revision>199</cp:revision>
  <dc:subject/>
  <dc:title>Point-to-Point</dc:title>
</cp:coreProperties>
</file>