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EB5-2C39-4689-A604-943270E2F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826-AFB5-4B1C-9490-C2AA683A9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8C2E-E551-419C-B951-308AFB0A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60E2-2E4D-4106-B279-8AEA9B5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1FD6-248C-4183-B077-2C9EC2A2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2906-DFD7-4D25-BDC8-DEE34D16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037E-0573-47BA-A629-25EECA64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BDEE-900F-45BF-9EE0-38C624C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7023-B90C-4B43-BB4B-CFFC80B4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8647-41B7-4734-A5B5-4B9A3A58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C547-6BD7-4426-B227-C4FA75D9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ECD9-B601-4B2F-88C8-5CF9BDB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0A89-4A21-4521-A9C6-8C7A3B0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75EF-C340-4C9E-886E-1954668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6E10-1CD3-4CB3-AE0D-9C16DC25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4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4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1/12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o begin with Day 1 transactions flowing: 01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107 scheduled to conclude: 02/27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ingency Testing dates this F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15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in a new territory – 1 New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REPs changing Banks – 1 Existing &amp; 1 New DUNS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98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; even with the Austin ice storm occurring the first three days of Flight testing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02/13/07 at 5:0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8.88%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 is to be at 81.23% by end of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outstanding transactions for Week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outstanding transactions for Week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outstanding transactions for Week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outstanding transactions for Week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3 outstanding transactions for Week 5 (Test Days 21 through 23 on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light (0407) will be testing for TX SET Version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s electing not to test for TX SET 3.0 will lose their ERCOT cer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cripts developed specifically for TX SET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will be loaded to the Retail Testing Website (RTW) File Cabinet fo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7-02-13T22:28:17Z</dcterms:modified>
  <cp:revision>69</cp:revision>
  <dc:subject/>
  <dc:title>Instructions</dc:title>
</cp:coreProperties>
</file>