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599-EA0C-4504-8B5B-4AD154C8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99C-0678-402A-8600-088196C5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85B-2517-4331-B819-9203C59A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137-A292-4DF3-AE53-70A46A12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390-0A1F-47FD-9066-32ED836B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B49-3B45-4114-BB34-4729E819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381-EE14-4423-B826-AB514118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D5C-DA13-475E-A6F6-EACFB8F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FA1-2B42-48B5-BC79-6F79A63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F3B-81F2-4065-A721-21EC1C9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F70-D1D7-4D69-80B9-E7872D69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012-90FD-4631-837C-08BA6D3D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2190-0EC9-4731-A04A-DB16E0665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66680" y="6432480"/>
            <a:ext cx="2895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|           February 14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07 RMS Working Group/Task Force Chairs &amp; Vice-Chai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ry Bates, TX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ce-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ke McCabe, Reli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W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nnifer Garcia, 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ce-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l Reily, TX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TW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sse Cline, EC-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ce-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tte Morton, A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as S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y Scott, C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ce-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 Bevill, Green Moun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yle Patrick, Reli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ce-Chai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yle Miller, C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1328760"/>
            <a:ext cx="990360" cy="70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15280" y="3276720"/>
            <a:ext cx="952200" cy="59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77120" y="4176720"/>
            <a:ext cx="99036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85040" y="2362320"/>
            <a:ext cx="98244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477120" y="5138640"/>
            <a:ext cx="990360" cy="6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607-B1FF-42CE-AA19-1727668BB9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dgoodman</cp:lastModifiedBy>
  <dcterms:modified xsi:type="dcterms:W3CDTF">2007-02-07T21:48:57Z</dcterms:modified>
  <cp:revision>155</cp:revision>
  <dc:subject/>
  <dc:title>Role of Account Management at ERCOT</dc:title>
</cp:coreProperties>
</file>