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914-E0A1-4EC0-A393-49AF4CBA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414-A3C4-4239-AF03-BDE94E7C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A92-B4E8-4036-A70A-8371DBF1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2947-EC1B-408A-B095-D5B46DFE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C6D-8BBD-4F37-9993-0163A9F4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8F1F-B67E-496D-8365-AAF795E5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F6BC-4909-4DB2-9AAF-C39C7052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509F-56F5-4BB2-87AD-6F61D5CC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479-0B5E-4EB2-8906-07992826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39B-511A-4A12-8CC8-FB46959D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E56-6B8B-4714-9D62-D2D62A2B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D10-2330-4F94-82A7-B96D4A18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DB8D-7A57-4E77-A057-39CF21DD9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Proposed 2007 Goa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ebruary 1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0E6-7F54-47D5-A5B0-77629FE97C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99"/>
                </a:solidFill>
                <a:latin typeface="Times New Roman"/>
              </a:rPr>
              <a:t>COPS 2007 Goa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COP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imary eff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cus on NODAL implementation and changes in market proc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lan, organize, monitor, and assist, the following COPS working groups assigned specific tasks as they relate to NODAL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CW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tinue developing the Commercial Operations Market Guide – Focus on N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00C-7488-4F1E-B3C7-2B0BF6EC88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99"/>
                </a:solidFill>
                <a:latin typeface="Times New Roman"/>
              </a:rPr>
              <a:t>COPS 2007 Goa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DAW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olve Nodal settlement timelines and accounting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nitor and comment on all relative TPTF working documents as they relate to the financial and settlement processes, suggest protocol language changes as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ork through implementation process as Nodal progr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WG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ongoing effort to improve determinat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lete implementation of new profile determinates on time and on budg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onitor process, timelines, market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nsure data is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vide oversight of Annual Valid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eview, Monitor, and Suggest Improvements to Profil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F1D-0223-4CED-B1F7-86863B368E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99"/>
                </a:solidFill>
                <a:latin typeface="Times New Roman"/>
              </a:rPr>
              <a:t>COPS 2007 Goa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DEWG: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inactive until needed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ccept handoff from TPTF when timing is right for implementation of MIS changes for Nod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UFE TF: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(inactive until needed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4D3-6C85-4F71-B404-9B7CF3CA04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ee starr</cp:lastModifiedBy>
  <dcterms:modified xsi:type="dcterms:W3CDTF">2007-02-06T14:37:47Z</dcterms:modified>
  <cp:revision>196</cp:revision>
  <dc:subject/>
  <dc:title>Point-to-Point</dc:title>
</cp:coreProperties>
</file>