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2DC-0C9C-463F-A22F-3C962846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7A9-946E-458E-B31B-384CE753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774-1E55-42DA-B40B-3D973243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C54-B380-45C6-9FC8-65B08E5D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4464-A422-48F0-9400-E882840D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FDD1-8D7C-4F24-BBA9-36ADB97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A964-97A4-43E9-8F42-4E83EED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049-1D9A-4333-B717-CD4A9488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5117-1751-4DA5-8E33-9F3EAB7A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9C6F-CF6B-474F-8225-67EAC758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2C11-98E4-4EB7-ADDB-5775736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268-B2D6-497C-8CE8-0AC3817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0BCF-B4E4-4127-960F-5FBFA35D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BF99-EDF4-487E-8237-F85439E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2A3-00A6-4391-81BC-F7CA831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F7B-4013-4E59-871C-1CF8984F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69A3-C94C-41CD-AA1E-EB965608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CD5-1735-46B3-8D24-E02BBAE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6B2-761C-4258-85C8-668723F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7AA-FE65-4810-A032-43A15D12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1AB-9BD6-4BB0-8345-9145595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BD0-68DF-4564-96B4-C4BB3DAE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00D-D848-46AB-BA9E-8B3FFE6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766-7935-4769-B408-2216F62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EDA7-8D5F-4D4D-B888-A7494FF800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BF66-A3A4-4B02-AB75-2879D97328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Retail Market Subcommittee Update to the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echnical Advisory Committee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1,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MS Voting I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MGRR048 : RMG Revision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ses Section 3 of the Retail Market Gu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roduces a 21-day comment period after the RMS Recommendation Report is posted and eliminates the additional comment period for modifications to the RMS Recommendation Repor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ings the RMG Revision Process in line with current Protocols and other Market Gui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MS unanimously approved on 12/06/0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MS requests TAC approval that the amendment be effective February 1, 2007 rather than waiting until March 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MS Update: MarkeTr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rak Phase I is the retail transaction issue resolution tool that replaced FasTrak on November 13, 200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COT Facilitated Lessons Learned Focus Group sessions January 9 and 10.  Summation of discussions will be provided to RMS on Feb. 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ormation gathered will also support MarkeTra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 II planning and develop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sTrak has been left available for 90 days allowing user’s to review and update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bruary 13, at 5pm, FasTrak will be disabl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tail Transaction Process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is updating and latest information will be available so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5:46:06Z</dcterms:created>
  <dc:creator>AEP</dc:creator>
  <dc:description/>
  <dc:language>en-US</dc:language>
  <cp:lastModifiedBy>AEP</cp:lastModifiedBy>
  <dcterms:modified xsi:type="dcterms:W3CDTF">2007-01-25T22:35:55Z</dcterms:modified>
  <cp:revision>6</cp:revision>
  <dc:subject/>
  <dc:title>Retail Market Sub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