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89A-6CD9-4B02-9979-2B8B4FCA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B6E-64D8-4A25-BDD4-77D56595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245-082B-40F6-A11A-8667DFB7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8B7-892E-43AE-BE34-2E54E95D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3E1-3DBE-4AFE-93F3-9DF2EF11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AC3-9A03-49BE-923E-DB8D2033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ADD-1D41-425C-9D85-8564DE7B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B7F-C904-4785-9AC0-007AA7BA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244-3BD1-4537-89C7-F7BC699B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12E-DBC6-4A27-B509-888941C2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FE6-670F-4153-B5C7-7C95B3B7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CBF-1F1C-4B33-854B-0405A64F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F41C-853E-42E3-ACD0-10ECEA7AA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ebruary 1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8E1-13B1-470B-9B90-06EBD03972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January 9</a:t>
            </a:r>
            <a:r>
              <a:rPr b="0" lang="en-US" sz="32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Meeting Highlights</a:t>
            </a:r>
            <a:br>
              <a:rPr sz="40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lection of officers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air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ee Sta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ice Chai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ichelle Tre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J Flowers &amp; Judy Briscoe were recognized for their substantial contributions to the development of COPS and for anchoring leadership since it’s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Working Group Repo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WG, Reviewed status of new profile implement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WG, Group activity suspended until Nodal MIS activity is compl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CWG, Reviewed feasibility of change in RTM &amp; DAM invoicing to 5 banking business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PTF Review Group, Called attention to pending TPTF working documents and reminded those present when comments are d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068-FC5B-4AF9-8EC7-09D9C9E74C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&amp; Data Aggregation Working Group</a:t>
            </a:r>
            <a:br>
              <a:rPr sz="4000"/>
            </a:b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 committee then considered a new “Scope Document” and proposed language changes to “COPS Subcommittee Procedures” to accommodate the creation of a new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“Settlements and Data Aggregation Working Group (SDAW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urp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o provide and ensure COPS involvement in Nodal Financial Settlement and Data Aggregation processes. The new working group to focus primarily on aiding ERCOT and Market Participants in achieving a smooth transition to new financial settlement systems the result of migrating to the new Nodal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9D9-2DA2-45ED-8733-09B922E637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&amp; Data Aggregation Working Group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DAWG wi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 financial settlement and data aggregation system design and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vide a forum for discussion issues addressing Settlement, including, but not limit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hadow settlemen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spu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financial settlem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 aggregatio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Font typeface="Times New Roman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, as appropriate, PRRs,NPRRs, and SCRs, addressing financial settlement and data aggre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6C0-1487-4BA1-9CE5-93D3D5B7E2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&amp; Data Aggregation Working Group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llowing review and discussion C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pproved the New “Scope Document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pproved Changes to “COPS Procedure Document” to add “SDAWG” as a new working group concentrating on Nodal issues and how they relate to financial settlements proc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539-6B69-493C-B50B-A12127944E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PS recommends TAC consider and  appro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PS new “Scope Document”  (Vo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mended “COPS Procedure Document” (Vo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BDF-2553-4752-B263-97B0B8B620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1-26T19:38:14Z</dcterms:modified>
  <cp:revision>197</cp:revision>
  <dc:subject/>
  <dc:title>Point-to-Point</dc:title>
</cp:coreProperties>
</file>