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4AB3-F6A5-4EB8-A127-DCC23BA7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AB70-1C81-49C5-93B2-15022EB4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BF4A-0AAA-49F6-842B-D6EDD0B6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1E57-5DE8-49AD-A874-0A97F1F4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96EB-DD2E-45AB-A4FB-200BAB8D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015A-6B98-46B5-A773-E08F4809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F2BC-F9BA-4995-8EDB-7F710DB9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3693-D0F2-481B-8BCF-C9590970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6C75-4D7F-4DE6-B8AA-C8663ECB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0540-538C-4136-9779-3F32B5CD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3B27-83AB-4AC6-AF86-D3466532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D084-0753-4FA5-A140-4576668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FFCB-EA17-4B70-83E3-4F7ACED1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46080" y="1066680"/>
          <a:ext cx="72518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1066680"/>
                    <a:ext cx="72518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Breakdow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93800" y="1066680"/>
          <a:ext cx="7556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066680"/>
                    <a:ext cx="7556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7-02-07T22:46:25Z</dcterms:modified>
  <cp:revision>46</cp:revision>
  <dc:subject/>
  <dc:title>Instructions</dc:title>
</cp:coreProperties>
</file>