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6A64-939D-46A8-91BD-D00857821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9743-82CC-471D-B70E-3A8401119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8517-B10C-4F64-9B56-FD7579B2A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C53D-60D8-4471-A9C6-A2E0865F9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14E5-7259-408D-AE40-B26D30E87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718D-7608-498C-8B7D-635B2F8F9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A682-DA2C-4E7C-950B-F652F023C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884C-6BF4-47D0-B48F-7F06AEDB3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D2D7-9F87-483E-82EB-80852AA0E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4057-F8C6-4447-930A-864BE4BBA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DE1F-B92B-47E1-A52A-3840202D1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FBEF-7325-41CA-ADA6-DFA583D02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6A26-2E09-4FD0-AB49-0B2B2E87C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2333520" y="5466960"/>
            <a:ext cx="36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bruary 14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hyperlink" Target="mailto:hparrish@erco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23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50121_07 Retail Business Processes (RBP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 Sub-project of the Service Oriented Architecture (SOA) Initiativ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is to replace current SeeBeyond Retail Components with TIBCO EAI components to deliver a technology and frame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scalability, reliability, stability &amp; maintain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RBP is one of 8 SOA Subprojects to replace SeeBeyo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 or reduce operating failures produced from current SeeBeyond Application and Architec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maintenance costs associated with up-keep of SeeBeyond Application and Architec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624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121_07 RBP   PPL Source: ERCOT    Priority: 1.0    Rank: .08    Budget: $1-3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762120"/>
            <a:ext cx="8534520" cy="72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-Live – Complete 12/10/2006 (within schedule and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bilization effort – Target Completion 03/09/2007 (revi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ing – Target to complete March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cent Activities As of 02/12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an Stabilization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Stabilization status meet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an enhancements to HAWK Monitor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2/10/2007-Implemented SIRs and Database Maintenance to resolve portion of stabilization issu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 Delta Siebel Data Conversion every weekend until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 TIBCO monitoring, enhancements, and training with onsite TIBCO consul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 all stabilization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ile Overall Project Lessons Lear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624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121_07 RBP   PPL Source: ERCOT    Priority: 1.0    Rank: .08    Budget: $1-3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ilization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990720"/>
            <a:ext cx="845820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t-Production 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 Issues relating to RBP have been logged for investigation as of 02/14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48-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-Dupl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-In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-Deferred to Future Retail Release (low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0-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-Business Analysis/Verification (pending cl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formance Metrics Up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ble to provide true representation of metrics at this time due to the Production Issues/Outages.  Will return in May and August to provide detailed metrics after system has stabilized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ilization Update (Cont’d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igh Priority 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/22/2007 - TIBCO/Siebel Slow Interaction:  Noticed degradation in performance.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ac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Response transaction delays from normal and management exception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erformed database maintenance during 02/10/2007 Releas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tatus: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Pending Cl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/22/2007 – The validity of transactions are periodically evaluated twice.  When this occurs the transaction is evaluated as a Duplicate Transaction.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ac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Reject transactions produc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atabase maintenance, oracle upgrade and Siebel release performed during 02/10/2007 Release and problem cea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tatus: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Pending Clo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/25/2007 - ERCOT experiencing periodic failures of transactions as they process to Siebel, yielding a reject transaction in some cases.   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act: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lays in Response Transactions due to reprocessing and Reject Transactions Produc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A Log file was disabled on 01/29/2007 and the problem has ceased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tatus: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Pending Clo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/30/2007 – Half Orders being produced in Siebel. 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ac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Delays in response transactions possible due to Management Exception Handl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atabase maintenance, oracle upgrade and Siebel release performed during 02/10/2007 Release and problem cea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tatus: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Pending Clo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5238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r, Market Operations Divisional Project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, Market Operations Divisional Project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parrish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satterfield</cp:lastModifiedBy>
  <dcterms:modified xsi:type="dcterms:W3CDTF">2007-02-13T22:25:00Z</dcterms:modified>
  <cp:revision>69</cp:revision>
  <dc:subject/>
  <dc:title>Instructions</dc:title>
</cp:coreProperties>
</file>