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DEE-3A52-4E13-9622-F5BEB03D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59A1-F0C8-4F7C-A299-59AFFD15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7A32-3269-4BE2-84E7-00C10782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AF2-2B51-41D2-8154-B65E77C4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5F9E-09A5-49D3-8A7D-8804B67D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3FC-08C7-4443-821B-81F88BD1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8E0-F907-44EB-B352-270578C5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11B-4D76-444D-AFC3-1B7CA01C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D8D-5F38-4114-92CD-A627F4BF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AD6-439D-40FB-A54E-B3E1F0B7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2D9-B114-46FD-877D-471A1DFE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93D-464E-4AB2-9B81-5BF663DD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383B-D534-41B2-B7EA-793D932AA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pporting materials for RMS_1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asTrak Close O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FasTrak Issue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523880"/>
          <a:ext cx="8588520" cy="4267440"/>
        </p:xfrm>
        <a:graphic>
          <a:graphicData uri="http://schemas.openxmlformats.org/drawingml/2006/table">
            <a:tbl>
              <a:tblPr/>
              <a:tblGrid>
                <a:gridCol w="1150920"/>
                <a:gridCol w="1959120"/>
                <a:gridCol w="3498840"/>
                <a:gridCol w="1979640"/>
              </a:tblGrid>
              <a:tr h="144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In 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Marked Resolved B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To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i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r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mitter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5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40:26Z</dcterms:created>
  <dc:creator>dmichelsen</dc:creator>
  <dc:description/>
  <dc:language>en-US</dc:language>
  <cp:lastModifiedBy>dmichelsen</cp:lastModifiedBy>
  <dcterms:modified xsi:type="dcterms:W3CDTF">2007-02-06T22:13:43Z</dcterms:modified>
  <cp:revision>5</cp:revision>
  <dc:subject/>
  <dc:title>Slide 1</dc:title>
</cp:coreProperties>
</file>