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41C-E782-4665-8F2D-91E9C18D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B59-F27C-4DD4-988D-8DA1C9AF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EFA-6EC5-4BF0-9719-1451E970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943-14A7-4694-9D3C-972755AF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447-B090-458C-A879-49B1B793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350-0004-4DB1-8C08-F019858B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17E-79D7-4B4B-8C00-1FE7B27E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E7A-F8F3-4178-8424-CBAF80BA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155-BABC-4175-B2D3-F04A56ED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2BE-BD83-466B-9187-DE237117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4B1F-EC7D-4C65-B813-9654BC39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869-AD86-4329-8133-80118541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D879-C51E-4AB9-91F8-CDC38C74A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9B9-A0E9-47D1-A090-53A2D19C54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5640" y="3049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DEV LSE Issues Sub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4200" y="6248520"/>
            <a:ext cx="54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DEV Issues Submitted – 1/01/07 – 1/31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447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09480" y="2133720"/>
            <a:ext cx="7765920" cy="3432240"/>
            <a:chOff x="609480" y="2133720"/>
            <a:chExt cx="7765920" cy="3432240"/>
          </a:xfrm>
        </p:grpSpPr>
        <p:sp>
          <p:nvSpPr>
            <p:cNvPr id="69" name=""/>
            <p:cNvSpPr/>
            <p:nvPr/>
          </p:nvSpPr>
          <p:spPr>
            <a:xfrm>
              <a:off x="622080" y="2143080"/>
              <a:ext cx="7747200" cy="266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2080" y="5286240"/>
              <a:ext cx="7747200" cy="2667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20640" y="2149560"/>
              <a:ext cx="90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ub-Typ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44200" y="2149560"/>
              <a:ext cx="99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Issue Typ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77320" y="2416320"/>
              <a:ext cx="904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EV-L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22920" y="2678040"/>
              <a:ext cx="32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SE date change: Start and Stop - C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63960" y="26780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90680" y="2938320"/>
              <a:ext cx="2916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SE date change: StartTime - C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14640" y="293832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74400" y="3200400"/>
              <a:ext cx="315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SE date change: StartTime - TD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63960" y="3200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07960" y="3462480"/>
              <a:ext cx="29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SE date change: StopTime - C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14640" y="346248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85200" y="3724200"/>
              <a:ext cx="3146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SE date change: StopTime - TD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63960" y="3724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80880" y="3986280"/>
              <a:ext cx="3198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SE in ERCOT system not MP - C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14640" y="398628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58120" y="4248000"/>
              <a:ext cx="343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SE in ERCOT system not MP - TD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63960" y="42480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30760" y="4510080"/>
              <a:ext cx="3504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SE in MP sys not ERCOT: active - C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14640" y="451008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91880" y="4772160"/>
              <a:ext cx="3575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SE in MP sys not ERCOT: inactiv - C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14640" y="477216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73800" y="5033880"/>
              <a:ext cx="381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SE in MP sys not ERCOT: inactiv - TD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14640" y="503388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73760" y="5291280"/>
              <a:ext cx="1227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nd To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63520" y="530064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11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9480" y="2133720"/>
              <a:ext cx="1440" cy="342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480" y="2133720"/>
              <a:ext cx="23760" cy="342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30920" y="2154240"/>
              <a:ext cx="1440" cy="3403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30920" y="2154240"/>
              <a:ext cx="25200" cy="340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51640" y="2154240"/>
              <a:ext cx="1800" cy="3403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51640" y="2154240"/>
              <a:ext cx="23760" cy="340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3240" y="2133720"/>
              <a:ext cx="774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3240" y="2133720"/>
              <a:ext cx="7742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3240" y="2395440"/>
              <a:ext cx="7742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3240" y="2395440"/>
              <a:ext cx="774216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240" y="2657520"/>
              <a:ext cx="774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3240" y="2657520"/>
              <a:ext cx="7742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3240" y="2919240"/>
              <a:ext cx="7742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3240" y="2919240"/>
              <a:ext cx="7742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3240" y="3181320"/>
              <a:ext cx="774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3240" y="3181320"/>
              <a:ext cx="7742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240" y="3443400"/>
              <a:ext cx="774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240" y="3443400"/>
              <a:ext cx="7742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3240" y="3705120"/>
              <a:ext cx="7742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3240" y="3705120"/>
              <a:ext cx="7742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3240" y="3967200"/>
              <a:ext cx="774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3240" y="3967200"/>
              <a:ext cx="7742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3240" y="4227480"/>
              <a:ext cx="7742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3240" y="4227480"/>
              <a:ext cx="7742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3240" y="4489560"/>
              <a:ext cx="774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3240" y="4489560"/>
              <a:ext cx="7742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3240" y="4751280"/>
              <a:ext cx="7742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240" y="4751280"/>
              <a:ext cx="774216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3240" y="5013360"/>
              <a:ext cx="774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3240" y="5013360"/>
              <a:ext cx="7742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3240" y="5275440"/>
              <a:ext cx="774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3240" y="5275440"/>
              <a:ext cx="7742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3240" y="5537160"/>
              <a:ext cx="7742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3240" y="5537160"/>
              <a:ext cx="7742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E34-962E-4B87-8624-AEA4C9ED45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DEV non LSE Issues Sub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DEV non LSE Issues Submitted – 1/01/07 – 1/31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8839440" cy="2971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43000" y="1447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802-A0B4-4A37-AC3F-786FC009FE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057400" y="304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Issues Submitted By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3080" y="6156360"/>
            <a:ext cx="55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Issues Submitted By Source 1/01/07 – 1/31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153280" cy="2971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43000" y="1447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A77-24C5-4E5D-8525-112D678794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Total Issues Submitted D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3640" y="6156360"/>
            <a:ext cx="50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D2D Issues Submitted– 1/01/07– 1/31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447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0880" y="2133720"/>
            <a:ext cx="8221680" cy="3652560"/>
            <a:chOff x="380880" y="2133720"/>
            <a:chExt cx="8221680" cy="3652560"/>
          </a:xfrm>
        </p:grpSpPr>
        <p:sp>
          <p:nvSpPr>
            <p:cNvPr id="143" name=""/>
            <p:cNvSpPr/>
            <p:nvPr/>
          </p:nvSpPr>
          <p:spPr>
            <a:xfrm>
              <a:off x="398520" y="2141640"/>
              <a:ext cx="8194680" cy="261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8520" y="5495760"/>
              <a:ext cx="8194680" cy="287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3080" y="2133720"/>
              <a:ext cx="810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Sub-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66800" y="2133720"/>
              <a:ext cx="93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Issue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239076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2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88720" y="2649600"/>
              <a:ext cx="91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997 Iss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81160" y="26496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07240" y="2906640"/>
              <a:ext cx="227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Cancel with Approval - C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32120" y="290664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314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99960" y="3165480"/>
              <a:ext cx="248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Cancel with Approval - TD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34000" y="316548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45400" y="3422520"/>
              <a:ext cx="21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Cancel without Appro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34000" y="342252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86960" y="3681360"/>
              <a:ext cx="171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Inadvertent Swit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32120" y="368136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15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50120" y="3938760"/>
              <a:ext cx="1195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Missing TX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78920" y="393876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74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81320" y="419724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34000" y="419724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8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5640" y="4454640"/>
              <a:ext cx="106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Reject TX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34000" y="445464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32480" y="4713120"/>
              <a:ext cx="122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Rep of Reco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34000" y="471312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8960" y="4970520"/>
              <a:ext cx="139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Siebel CHG/Inf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78920" y="49705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49160" y="5229360"/>
              <a:ext cx="1796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Usage/Billing Iss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32120" y="522936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10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25720" y="5486400"/>
              <a:ext cx="104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Grand 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35720" y="550404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66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0880" y="2133720"/>
              <a:ext cx="1800" cy="36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133720"/>
              <a:ext cx="34920" cy="365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72280" y="2151000"/>
              <a:ext cx="1440" cy="36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2280" y="2151000"/>
              <a:ext cx="34920" cy="36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67640" y="2151000"/>
              <a:ext cx="1800" cy="36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67640" y="2151000"/>
              <a:ext cx="34920" cy="36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5800" y="2133720"/>
              <a:ext cx="818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800" y="2133720"/>
              <a:ext cx="81867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5800" y="2390760"/>
              <a:ext cx="818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800" y="2390760"/>
              <a:ext cx="81867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800" y="2649600"/>
              <a:ext cx="818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5800" y="2649600"/>
              <a:ext cx="81867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5800" y="2906640"/>
              <a:ext cx="818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5800" y="2906640"/>
              <a:ext cx="81867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5800" y="3165480"/>
              <a:ext cx="818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800" y="3165480"/>
              <a:ext cx="81867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5800" y="3422520"/>
              <a:ext cx="818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5800" y="3422520"/>
              <a:ext cx="81867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800" y="3681360"/>
              <a:ext cx="818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5800" y="3681360"/>
              <a:ext cx="81867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5800" y="3938760"/>
              <a:ext cx="818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5800" y="3938760"/>
              <a:ext cx="81867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5800" y="4197240"/>
              <a:ext cx="818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800" y="4197240"/>
              <a:ext cx="81867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5800" y="4454640"/>
              <a:ext cx="818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5800" y="4454640"/>
              <a:ext cx="81867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800" y="4713120"/>
              <a:ext cx="818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5800" y="4713120"/>
              <a:ext cx="81867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5800" y="4970520"/>
              <a:ext cx="818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5800" y="4970520"/>
              <a:ext cx="81867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5800" y="5229360"/>
              <a:ext cx="818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5800" y="5229360"/>
              <a:ext cx="81867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5800" y="5486400"/>
              <a:ext cx="818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5800" y="5486400"/>
              <a:ext cx="81867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800" y="5745240"/>
              <a:ext cx="589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5800" y="5745240"/>
              <a:ext cx="58914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5800" y="5770440"/>
              <a:ext cx="818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800" y="5770440"/>
              <a:ext cx="81867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3E9-4DF2-4EA4-AE5F-A928F8D3FC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2057400" y="3049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Withdrawn Faile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615636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Issues Withdrawn Failed Analysis – 1/01/07 – 1/31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382240" cy="2971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143000" y="1447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d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87E-4425-4681-A62F-B0723809AD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BC0-3B71-47B5-8760-E87F1901D9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148-07CC-4A50-96A1-27F5653A87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578-32C7-46FF-B608-50D3B1602F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3EB-BCD2-49C4-B8E1-7642F5F2DE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7620120" cy="24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F03A-5A60-4D6E-B520-746786CB78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818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0C5-561E-4E16-9F7A-889D8E9312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725-067A-49C0-B899-AE3A921808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2D Issues with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5943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D2D Issues Submitted without ERCOT Action– 1/01/07 – 1/31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8076960" cy="3505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1447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d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3A6F-9077-4149-A041-5BDFE1334A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dmichelsen</cp:lastModifiedBy>
  <cp:lastPrinted>2002-09-24T18:27:58Z</cp:lastPrinted>
  <dcterms:modified xsi:type="dcterms:W3CDTF">2007-02-06T22:09:17Z</dcterms:modified>
  <cp:revision>650</cp:revision>
  <dc:subject/>
  <dc:title>PowerPoint Presentation</dc:title>
</cp:coreProperties>
</file>