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5477-397C-4B01-A19A-782DEA8BF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803D-25E0-47AC-8791-DA82D011B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7EDE-65CA-4B07-887E-B93614CD9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2053-E35F-4EB9-A043-9694581A7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55F6-A02D-477A-9A82-F47DF2D19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3E5A-9B0F-4417-9A10-7D5899F0F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661D-402F-4439-9F5C-4819B2616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E3FF-3F93-4ADE-BFB8-D134326CD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B380-4606-4C2D-841C-391975BF0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6EB4-D6E0-46C3-B78C-3709BEEFA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AF6B-A316-41E2-BF7D-0F0F16285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C5A4-0BC6-472C-ACC2-C34555BAB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4938-122A-4C7D-9C94-FDC826D05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934320" y="64134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8C9EC9-14A9-4328-BED8-970C42AC7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293480"/>
            <a:ext cx="72388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ERCOT Outage Evaluation &amp; Resolution Phases I &amp; I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 60006_01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oject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February 14, 2007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D.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80988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Activ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02/12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ly tested 147 of 148 Market Participants, 17 of 18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pen issue related to 1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s working with MP to resolve the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Migration 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02/12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migrations started 01/30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ly scheduled for 01/08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due to resource constraints and exacerbated by Jan. ice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 of MPs for Production Migration conti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d for Production: 140 of 148 Market Participants, 12 of 18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window is scheduled to complete 02/16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of metrics collection against new environment delayed until 02/16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NAESB URL will be disabled, as planned, on 02/28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60020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7-02-12T20:41:04Z</dcterms:modified>
  <cp:revision>100</cp:revision>
  <dc:subject/>
  <dc:title>Instructions</dc:title>
</cp:coreProperties>
</file>