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7FB7-D9D2-4810-8E69-9BD0A8E6A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F8D8-DE06-435F-82C7-AFC9CE841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8001-D921-4863-9015-5A86BEC0E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1DE6-099D-4E1F-8F8A-D1E670EFA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CC95-946F-4E40-A196-34D7F3F3B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6BBC-8908-44D7-8017-5CFF99AB7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58EC-D0E3-4FAD-B355-2C291D572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0376-B670-4DAB-A222-F496A9A18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05D8-2371-4D01-9F6D-75F7D464C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22FF-343B-4E92-BC94-3A48D0ED3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DF64-A7C0-4AE2-8C21-3D87F688D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08C2-422A-407E-AA3E-37530A928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6B64-8865-42D0-AC02-3AC6DF4B9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0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</a:t>
            </a:r>
            <a:fld id="{AB452894-6849-4BAD-B9E4-946A5F65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February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Lucida Bright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 Retail Releas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February 14, 2007</a:t>
            </a:r>
            <a:br>
              <a:rPr sz="2400"/>
            </a:b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Retail Release – Status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successful, except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 SIRs pulled from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MarkeTrak Rel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ross-impact to TX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Release Management team is performing analysis to determine when MT SIRs can be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262400" y="990720"/>
          <a:ext cx="442440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2400" y="990720"/>
                    <a:ext cx="4424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07648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8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7-02-12T18:32:12Z</dcterms:modified>
  <cp:revision>59</cp:revision>
  <dc:subject/>
  <dc:title>Instructions</dc:title>
</cp:coreProperties>
</file>