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EA3-A0BC-494F-86B7-F65FA0CD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E18-A32B-4010-880E-5C68EC2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908-B433-43B4-81A3-B00E1B73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225-1025-4C2D-81D9-3AD07DBD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556-5A5C-44D3-B19D-9C25613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8CE-42CA-4E8E-945D-F4A05071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177-E9CD-49D0-8483-F5D2C74F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9FD-CEB9-4E8D-A034-8380BD3D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E84-E6E6-42C1-ACE6-71E18EC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8FC-3379-43A5-B01C-9EC3564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BBD-EFF1-4D35-848F-A001110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F0E-51BE-42D6-ACE4-C0D0C3A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4F7-5092-4EF3-897D-4426E737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1DD-637E-43DE-9378-A3933A91CBD1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a. Current State of the RMTPSA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only addresses system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does not take into consideration “degradation of service” issues or “fallou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systems in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maintenance windows for planned outages (every Sunday, one weekend a month, 36 h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to maintain availability processing of 99.25% outside of maintenance wind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5FD-09E1-4168-8622-3CBBEBC7494F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b. Impact of SCR 7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005 with the approval of SCR745, it was noted that system availability would be able to be increased from 99.25% to 99.9% excluding planned maintenance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MTPSA document should reflect this including an effective d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The stabilization period for SCR745 should be considered in setting the effective date of 99.9% for system availabilit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369-3CDD-4307-A6A7-B7F6F4BC43CF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c. Service Degrad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Degradation” as defined by TDTW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RCOT Systems not processing successfully for instances other than unplanned/planned out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suggests the term “Business Process Failures” instead of “Service Degradatio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C86-3807-41D3-9E06-5A875568EB36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rocess Failures (Service Degra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ing an implementation it is not uncommon to experience a minor amount of “fallout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attendees should discuss what could be considered an “acceptable” amount/number of “fallout/system issues that can occur during a stabilization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“acceptable fallout” should be able to be directly tied to an implementation for an associated system and estimated/set in ad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the stabilization period has expired or acceptable “fallout” has been reached, there should be zero “fallou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16F-0E11-4989-81BE-5F9085EF757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TWG has identified the following categories of “Business Process Failures”. At a minimum, they includ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e Transactions created by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w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led (bad data/error flow control, exce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F2D-EF99-47A5-B243-AEA0BA4C6C81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d. ERCOT system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daily system maintenance, ERCOT may notice there is a strong possibility of a system failure in the immediate future, Currently when this happens they notify the market in advance and take an ou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less than 10 days notification is provided this is identified as an unplanned ou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Dec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, TDTWG and CCWG discussed that while ERCOT should be proactive in system maintenance, it may not always be possible for 10 days notification to take pl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ion: Workshop attendees should discuss possibility of a language change to allow an acceptable number of these scenarios that would not be identified as an unplanned outage or define conditions which would not require a 10-day notification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BBC-6891-4013-8E69-33C100E894F0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e. Systems i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the list of “systems in scope” for accuracy. Changes may be needed since some systems have change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if additional systems should be inclu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491-CB4E-406C-8A28-8F8319979B47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27th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MS members and guests are invited to attend the Retail Market Transaction  Processing Availability Workshop scheduled for February 2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kshop will be facilita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aron Smallwood, with ERCO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6A6-FED8-4068-A1D3-795A8CCAFA25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09D-016A-4BBD-B886-9F7B8B12A0D9}" type="slidenum">
              <a:t>18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Officers were elected at the February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DTWG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ir - Jesse Cline with EC Pow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representing Jus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ce Chair - Annette Morton with A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338-0E76-4591-BBA8-E51638C27E3D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Processes for Notifications of ERCOT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 Market of Day Light Savings time change and the possibility of system imp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288-63AB-40C0-9024-93E3367CAB17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working with CCWG, COPS, ERCOT Client Relations to ensure a comprehensive plan for ERCOT notifications related to system iss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mber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joint meeting/conference call with TDTWG and CCW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mmediate requests were made of ERC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319-2F28-40E0-BBC4-B1ABEF061191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lease send notifications from one single party instead of multiple par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granted the request and Implemented a change in process effective Januar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lease notify the Market ASAP of unplanned outages and ASAP once systems are restored, even if this is outside of business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stated they are unable to implement due to staffing constraints. They will implement this process with SCR748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030-B494-4196-8826-ADD397E726C6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ntinue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s to stay engaged in the activities necessary to support this implementation and will stay involved through stabilization to ensure the system changes accomplish the i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E06-6EE6-451D-B197-B2E868563EA9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ontinue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2-1 TDTWG meeting, system incidents for December and January were review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were the result of “fall out” from a implementation related to RBP/TIBCO or SCR74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were unrelated to any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CR(s) may need to be created to resolve some of the instances with the same root ca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4EC-138D-4C46-AB68-FC65D9BB8C77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ay Light Saving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and Market Participant systems will most likely be impacted by the change in Day Light Savings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is working with ERCOT to provide updates to Market Participants and assist as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D5B-382B-4157-9C8F-342F1C39C9DF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Continue working with ERCOT and MPs     to revise the Retail Market Transaction Processing Service Availability (AKA SLA) doc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rket workshop has been scheduled for February 2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met and determined some suggestions for considered changes to the current docu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60C-2ED6-4E17-AE20-2AAD3B563CD5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7-02-13T19:49:26Z</dcterms:modified>
  <cp:revision>413</cp:revision>
  <dc:subject/>
  <dc:title>PowerPoint Presentation</dc:title>
</cp:coreProperties>
</file>