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E0B7-857F-4B0C-8C01-E1AF91022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69DB-F8EA-4E45-8D79-09F50572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CF02-20BE-4D31-98F8-28DF0DBEF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997D-C13F-43C4-95F8-A9D5F19B9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EE0E-DA4F-4187-B742-C78B1CE6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CDAC-2A4E-4C35-8EFC-D3F98307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8C52-C456-4043-8BB3-AFE5D643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D8D2-95D1-4502-8A2D-7504A26B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284A-4A6E-4BE4-B5BB-945642DF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D478-D5BF-4A77-95B7-74D01AD1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8404-61EC-48B4-9A01-D781CF8A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D545-4338-4BC6-B775-95B95352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3888-425F-4802-8D8E-3FD2D34A3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e of Account Management at ERC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294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2590920"/>
            <a:ext cx="6781680" cy="14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07 TAC Goal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bruary 01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ail Market Subcommittee (RM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8280" indent="-376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6 RMS Accomplish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GRR031 Update and Clarification to IDR Installation Process for Mandatory and Optional IDR Install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Availability Agreement with ERCOT Documentation and Development of Measurements Reporting T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748 Website Enhancements to Support ERCOT Outage Notific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CT Project No. 29637 Standards Terms and Conditions Market Process Documentation and Transaction Process Chan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RMG process documentation updates; PRR672 relating to ERCOT Transaction Timing; &amp; PRR693 specific to ERCOT processing of Priority MVI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Interim Manual Process to Expedite Mass Transition Processing: Reduced Number of Days for POLR CR to submit Switch request; Reduced FASD from 6 to 3 da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ail Market Subcommitt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04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6 RMS Accomplish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CT Project No. 31416  amending 25.43 relating to the Provider of Last Res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 Information Repository Process Defini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d POLR to New POLR Transition Process Defini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based Mass Transition Process enabling 5 day transition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ed POLR Workshop to inform and educate MP's 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request of PUCT Staff, RMS hosted working group discussions relating to Advanced Meter Rulemaking and provided recommend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MarkeTrak Phase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ail Market Subcommitt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04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7 RMS Goa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745, Retail Market Outage Evaluation &amp; Resolution, Implementation and Repor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ERCOT Service Availability Agreement to be inclusive of Service Degradation Iss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cessful TX SET 3.0 implemen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MarkeTrak Phase II Enhancements &amp; Performance Monito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 PUCT Activities: Advanced Metering Rulemaking, Performance Measures Rulema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PRR672, Retail Market Timing Necessary for PUCT Project 29637, effort to improve ERCOT throughput of 814_20 maintenance transaction enabling adds and dele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21:46:09Z</dcterms:created>
  <dc:creator>AEP</dc:creator>
  <dc:description/>
  <dc:language>en-US</dc:language>
  <cp:lastModifiedBy>AEP</cp:lastModifiedBy>
  <dcterms:modified xsi:type="dcterms:W3CDTF">2007-02-09T21:52:08Z</dcterms:modified>
  <cp:revision>1</cp:revision>
  <dc:subject/>
  <dc:title>Role of Account Management at ERCOT</dc:title>
</cp:coreProperties>
</file>