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B33D-C103-4A9A-B0C3-58E4FE871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DF00-9CFB-43EC-ADAC-F90F4FD14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6F97-23EC-4885-A080-FF01026A0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08AF-7742-47B5-8A29-9F17F43B3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F5FE-949B-4AF5-9B1A-2F60BE4A8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532D-AF18-436A-A9DE-0FF87D4CA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4AB2-100B-4ED9-839B-BEC4EDC0B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4A53-34FC-44D4-AB2D-9BAA955A1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37CD-117E-41E2-98B3-97FAD75F9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FDB8-8383-4536-8566-16E99F5D9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EA1D-CB6F-4042-AFF6-4DCAF3F89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647A-A7B0-4555-A371-7A91F527E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28720"/>
            <a:ext cx="9144000" cy="66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3520" cy="82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78132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91F5-9EA2-4D38-90AC-523974980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78144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85120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9280" y="2431080"/>
            <a:ext cx="81500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n Website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cast New Load Pro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360" y="4290480"/>
            <a:ext cx="828504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3, 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1742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Backcasted Load Profiles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6040" y="4427640"/>
            <a:ext cx="3677760" cy="1989360"/>
            <a:chOff x="446040" y="4427640"/>
            <a:chExt cx="3677760" cy="1989360"/>
          </a:xfrm>
        </p:grpSpPr>
        <p:grpSp>
          <p:nvGrpSpPr>
            <p:cNvPr id="91" name=""/>
            <p:cNvGrpSpPr/>
            <p:nvPr/>
          </p:nvGrpSpPr>
          <p:grpSpPr>
            <a:xfrm>
              <a:off x="446040" y="4427640"/>
              <a:ext cx="3677760" cy="1739520"/>
              <a:chOff x="446040" y="4427640"/>
              <a:chExt cx="3677760" cy="1739520"/>
            </a:xfrm>
          </p:grpSpPr>
          <p:pic>
            <p:nvPicPr>
              <p:cNvPr id="92" name="" descr=""/>
              <p:cNvPicPr/>
              <p:nvPr/>
            </p:nvPicPr>
            <p:blipFill>
              <a:blip r:embed="rId1"/>
              <a:srcRect l="8277" t="45931" r="40007" b="19470"/>
              <a:stretch/>
            </p:blipFill>
            <p:spPr>
              <a:xfrm>
                <a:off x="446040" y="4427640"/>
                <a:ext cx="3677760" cy="173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3840" y="4939920"/>
                <a:ext cx="2984400" cy="12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" name=""/>
            <p:cNvSpPr/>
            <p:nvPr/>
          </p:nvSpPr>
          <p:spPr>
            <a:xfrm>
              <a:off x="1060200" y="4881600"/>
              <a:ext cx="2999880" cy="15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3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cc"/>
                  </a:solidFill>
                  <a:uFillTx/>
                  <a:latin typeface="Arial"/>
                </a:rPr>
                <a:t>20070517.154703.BcstPrfl05162007.csv20070516.154651.BcstPrfl05152007.csv20070515.154706.BcstPrfl05142007.csv20070514.154727.BcstPrfl05132007.csv20070513.154810.BcstPrfl05122007.csv20070512.154759.BcstPrfl05112007.cs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05400" y="4908600"/>
            <a:ext cx="4267080" cy="13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Backcast for trade date 05/16/07, from NEW models Backcast for trade date 05/15/07, from NEW models Backcast for trade date 05/14/07, from OLD models Backcast for trade date 05/13/07, from OLD models Backcast for trade date 05/12/07, from OLD models Backcast for trade date 05/11/07, from OL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360" y="100188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k at ERCOT.com on May 17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8480" y="4429080"/>
            <a:ext cx="24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3440" y="6164280"/>
            <a:ext cx="36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430880"/>
            <a:ext cx="0" cy="17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8120" y="4425840"/>
            <a:ext cx="10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9560" y="4422600"/>
            <a:ext cx="0" cy="173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97440" y="505944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998520" y="526716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000680" y="547200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001760" y="567684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03200" y="588492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005360" y="608976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360" y="1355760"/>
            <a:ext cx="52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models anticipated to be implemented for May 15,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2040" y="1898640"/>
            <a:ext cx="5433840" cy="1727280"/>
            <a:chOff x="392040" y="1898640"/>
            <a:chExt cx="5433840" cy="172728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rcRect l="1582" t="35259" r="4428" b="13561"/>
            <a:stretch/>
          </p:blipFill>
          <p:spPr>
            <a:xfrm>
              <a:off x="392040" y="1898640"/>
              <a:ext cx="543384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030400" y="3371760"/>
              <a:ext cx="193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Arial"/>
                </a:rPr>
                <a:t>Backcasted (Auxiliary) Load Profi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1696680" y="3044880"/>
            <a:ext cx="42876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466640" y="305748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2593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381720" y="946080"/>
            <a:ext cx="665280" cy="84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632640" y="3594240"/>
            <a:ext cx="20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s on the TML would also be as sh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8570-26F3-4A84-9977-F4DC5500F7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1742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Backcasted Load Profiles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92040" y="1898640"/>
            <a:ext cx="5433840" cy="1727280"/>
            <a:chOff x="392040" y="1898640"/>
            <a:chExt cx="5433840" cy="17272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rcRect l="1582" t="35259" r="4428" b="13561"/>
            <a:stretch/>
          </p:blipFill>
          <p:spPr>
            <a:xfrm>
              <a:off x="392040" y="1898640"/>
              <a:ext cx="543384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030400" y="3371760"/>
              <a:ext cx="193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Arial"/>
                </a:rPr>
                <a:t>Backcasted (Auxiliary) Load Profi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57840" y="4908600"/>
            <a:ext cx="3954240" cy="13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Backcast for trade date 05/16/07, from OLD models Backcast for trade date 05/15/07, from OLD models Backcast for trade date 05/14/07, from NEW models Backcast for trade date 05/13/07, from NEW models Backcast for trade date 05/12/07, from NEW models Backcast for trade date 05/11/07, from NEW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466640" y="3524400"/>
            <a:ext cx="647640" cy="90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97040" y="3530520"/>
            <a:ext cx="419040" cy="89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8480" y="4419720"/>
            <a:ext cx="282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800" y="6173640"/>
            <a:ext cx="40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24480" y="442116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8120" y="4425840"/>
            <a:ext cx="10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560" y="4422600"/>
            <a:ext cx="0" cy="175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47840" y="4429080"/>
            <a:ext cx="4070160" cy="1738440"/>
            <a:chOff x="447840" y="4429080"/>
            <a:chExt cx="4070160" cy="17384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rcRect l="8277" t="45931" r="34488" b="19470"/>
            <a:stretch/>
          </p:blipFill>
          <p:spPr>
            <a:xfrm>
              <a:off x="447840" y="4429080"/>
              <a:ext cx="4070160" cy="17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1116000" y="4932360"/>
              <a:ext cx="2984760" cy="122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1060560" y="4881600"/>
            <a:ext cx="340992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20070517.154708.BcstPrfl05162007_aux.csv20070516.154657.BcstPrfl05152007_aux.csv20070515.154713.BcstPrfl05142007_aux.csv20070514.154731.BcstPrfl05132007_aux.csv20070513.154816.BcstPrfl05122007_aux.csv20070512.154807.BcstPrfl05112007_aux.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377960" y="505944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379400" y="526716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381200" y="547200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382640" y="567684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384800" y="588492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385880" y="608976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55760" y="4689360"/>
            <a:ext cx="9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(Auxili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515280" y="1003320"/>
            <a:ext cx="723600" cy="711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30360" y="100188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k at ERCOT.com on May 17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360" y="1355760"/>
            <a:ext cx="52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models anticipated to be implemented for May 15,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94640" y="2593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32640" y="3594240"/>
            <a:ext cx="20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s on the TML would also be as sh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F73F-CA39-47A1-A58F-AE8F4CD60A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1720" y="1224000"/>
            <a:ext cx="80074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no. 60090 is currently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ix IDR software to replace ND Auto which is incompatible with Oracle 9i and higher … scheduled completion is late 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will also address generating profiles using both the old and new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s planning on handling other system changes related to the transition from old to new models with S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R 10920 has been initiated to make the changes to Lod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r two additional SIRs will be initiated to address ERCOT.COM and TML changes  and interfac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.COM and TML changes planned to be complete in late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y profile history will be posted (60 – 90 days 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profiles will be posted on the PWG website as necessary to ensure continuity with new model back-casts already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1BED-0E8C-4EDD-8B25-88A5F20D3C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41720" y="3790800"/>
            <a:ext cx="898560" cy="20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74920" y="3749760"/>
            <a:ext cx="4400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 or Com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91520" y="6312960"/>
            <a:ext cx="622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d5f5d"/>
                </a:solidFill>
                <a:latin typeface="Arial"/>
              </a:rPr>
              <a:t>A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D8CA-29B2-40DB-888A-90A5AA6619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8:31:49Z</dcterms:created>
  <dc:creator>kbrink</dc:creator>
  <dc:description/>
  <dc:language>en-US</dc:language>
  <cp:lastModifiedBy>ERCOT</cp:lastModifiedBy>
  <dcterms:modified xsi:type="dcterms:W3CDTF">2007-02-01T22:46:53Z</dcterms:modified>
  <cp:revision>200</cp:revision>
  <dc:subject/>
  <dc:title>Slide 1</dc:title>
</cp:coreProperties>
</file>