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BEBA-E2C6-43CC-9DB1-1E7655094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5402-31D0-4D73-82E7-80DA33C8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27B2-6731-4F57-A1ED-51E6E3414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BD95-0D29-4F35-B8B0-ACDF621E2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3A78-BC1D-4009-810C-9F776C26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6734-2EEC-4689-853B-24D3014A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1330-AA7C-459B-A570-FD5D08E6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D139-BDDD-4F7B-B002-1A427C2E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CF62-6F2A-4A45-8B6E-32BE9E3D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4535-8F0F-4C63-B318-BCC85A7C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34F9-F486-4043-BE07-58DF33E1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5A72-6A25-4097-A9A9-1246F38C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76D3-AF5B-476C-9BE6-CB6588A89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rcot.com/mktrules/protocols/prr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1393920"/>
            <a:ext cx="8031240" cy="39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idation Tests 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Arial"/>
              </a:rPr>
              <a:t>VO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WG requests the following mo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COPS recommend to PRS and to the TAC approval of PRR7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ink to PRRs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ercot.com/mktrules/protocols/prr.html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B090-2F15-4AC0-AA87-29C295D6A9E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9:23:15Z</dcterms:created>
  <dc:creator>kcotner</dc:creator>
  <dc:description/>
  <dc:language>en-US</dc:language>
  <cp:lastModifiedBy>epodraza</cp:lastModifiedBy>
  <cp:lastPrinted>2002-05-17T20:57:43Z</cp:lastPrinted>
  <dcterms:modified xsi:type="dcterms:W3CDTF">2007-01-31T21:34:45Z</dcterms:modified>
  <cp:revision>286</cp:revision>
  <dc:subject/>
  <dc:title>Retail Transactions Report</dc:title>
</cp:coreProperties>
</file>