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D58-E902-4C32-A2BC-5C4B247D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6FA-20E8-45C3-9B5C-B3BA665D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586-87F2-45EB-AC31-ADB22D70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3F0-3D64-447E-A1C1-EDB6FB09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34FE-F9FC-43A6-88AD-C9A73B4E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2DB-99B2-425C-9715-AD5728B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D5B6-B0D1-4388-9A79-3625B65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84C-D1C1-409B-81B2-9445FEA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4943-FB22-4DDA-8EED-8DE7350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F069-02E3-4875-9CCA-85F0037C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04C1-7634-4B8A-ABE1-5EB91E6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5C7-3789-436B-98E6-0AECBA5D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5D71-BC69-4494-B140-80EB84A4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823-93E5-4A14-84C7-E4024F6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BF2D-59C2-4F97-9242-62BFCCE8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F97-490F-4038-92F3-42AFB46D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A96-D00B-4AA6-AA40-54076FC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2DE-1E8F-4A88-A935-2FFB8FB7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E3D-AE43-4E26-88E4-06798CF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2C2-1C97-4146-B6AB-1A44A9B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042-DB53-49D5-B9AD-2EA3C463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017-C6C4-417E-919A-5BB33FD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CE6-1A90-4D43-86F3-1952557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320-53CB-435E-8D48-84F7E6A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655-2753-4B3A-B772-2637B725A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C9ED-2273-4E40-95B8-A04C634D8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2007 Elect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– Chuck Moore (Direct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 – Judy Briscoe (B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2006 Accomplish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d through process to implement and change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ttlement Invoice Due D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from 16 calendar days to 5 bank business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d “Commercial Operations Market Guide” and established a structured revision proces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similar to other gui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CP Communication Plan - updated/refined template and changes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planned Out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PMGRR-00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 to PRS regard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discontinuing interest charges for defaulting entities at time of Uplif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6666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from CCWG and others participated in the TPTF Nodal Review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2007 Go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monitoring the implementation of SCR 748, Website Enhancements for ERCOT Outage Notifications, and COPS Market Guide Section 4, Unplanned Outage Commun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developing the Commercial Operations Market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January 29 via confere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 March 6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moore</cp:lastModifiedBy>
  <dcterms:modified xsi:type="dcterms:W3CDTF">2007-02-02T12:51:21Z</dcterms:modified>
  <cp:revision>7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978339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Agenda Planning</vt:lpwstr>
  </property>
  <property fmtid="{D5CDD505-2E9C-101B-9397-08002B2CF9AE}" pid="6" name="_NewReviewCycle">
    <vt:lpwstr/>
  </property>
</Properties>
</file>