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716-B549-44D2-9F4B-FD747A7E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85BC-00E5-4C41-8D6E-9B585BAD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602-CF88-4A13-A7A5-F6087E1D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99C-AFB7-4C1A-9A3B-37444713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F16D-1898-4E94-BAB4-2C2623A4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DFC9-E7D2-444A-9557-D89E03DB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B3E7-229E-4915-A3FA-61E76FED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707E-2A1F-4BA8-8575-EB6A4918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8D7A-AB20-40F8-87E6-4EE185B1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D7D8-D199-4432-BD9E-F1498A1E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91D0-2E25-429E-8FB6-9EBA651A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BC16-F2E3-4B11-B514-67411C45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1E99-CEEE-401E-8F22-FD449E66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3867-071D-47C0-AAF3-09CFDE73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2D30-1DFE-4CE7-AEE8-6D68AB2F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4662-FC05-4BA7-BFAD-D8E30431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2AE2-7A0D-48C9-A05B-185954E3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91366-F4D0-4507-89EF-FCE407CC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7A7FC-F7AE-4F24-8E24-B9ACFA26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2612C-AB6D-4962-A696-FE040966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33AD9-A2B7-45AE-9537-1A34ACEC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33C10-EF35-427A-8DB0-622D1146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3B6F-28D0-4CE3-942D-05C25A0C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685D3-C325-4A75-98CE-141E43EE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1419F-1AC0-42D6-A1C2-FA01F08A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867F3-AFF8-42BE-A4E7-89B02ABC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E54E0-2C2F-4091-8602-30B7FDE0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B2F3D-9084-4257-B610-6AC44216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6546A-CD5D-4416-8E22-088D6569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8556E-19C9-4F66-BDE9-2548C2CC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644C72-86B2-4876-84F4-49631AA7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8FA94F-BA50-4FA7-805B-C96C0744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46E76A-BBDB-43C5-9607-BA2BBFDE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281D-A273-4997-9829-3923BBCA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4D2F76-1A93-4391-B188-A096240B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111AAE-2D0B-4FF8-A57E-30A69CDA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4E963F-E398-461B-9C30-73D6A73E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6B6022-AE9A-4ABC-9A67-9D8194D8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B0730D-C719-411B-B127-86DF82D7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EF55A4-4967-48D0-9F39-A1A465AE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4DCAE6-8856-40BD-914C-CE147253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DE91D9-E9EC-4401-981F-C7D06088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775BE8-0A43-4934-B786-7784875F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871-57EF-417E-9DE8-56C6A59C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C544-5A00-41E3-B45D-49A3CA57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68A8-39A6-4928-9A7F-5B7A2314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987-CD95-4EC1-88DC-E2359FDA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50C-D1DB-47DF-9023-B375F950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898C-147B-4173-B304-5BADD465351F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2F2E-C331-43A8-94AC-B7BE119D6480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2180-C2C5-40CE-A81D-62A03A021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B483-1988-455B-803F-BFB159846D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Eric.Goff@constellation.com" TargetMode="External"/><Relationship Id="rId3" Type="http://schemas.openxmlformats.org/officeDocument/2006/relationships/hyperlink" Target="mailto:Tim.Wood@firstchoicepower.com" TargetMode="External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pdate for the Settlements and Data Aggregation Working Grou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bruary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007 Go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 through financial system NPR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ur through settlements process, step by step, to find unforeseen issu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cument Data aggregation process/nodal issu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y remaining UFE/transmission/distribution data aggregation or new issues that ari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 with ERCOT as new systems are developed and tested on business require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t system schematics published as soon as possi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007 Leadership of SDAW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ir – Eric Go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ellation New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ail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Eric.Goff@constellation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ne: 832-657-35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ce-Chair – Tim W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hoice Po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ail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Tim.Wood@firstchoicepower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ne: 817-762-73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mmary of Last Mee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ed simplifying the dispute process, one PRR and one NPRR have been draf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ts rid of the concept of a timely dispute that can still be work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s hard deadlines for both parties to be included in final or true up state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ill allows disputes based on Disclosure of previously confidential information and errors that cross a 2% threshol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xt mee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esday, Feb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day of the Board meet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om 2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 in number on the webs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7:21:41Z</dcterms:created>
  <dc:creator>Eric Goff, for SDAWG</dc:creator>
  <dc:description/>
  <dc:language>en-US</dc:language>
  <cp:lastModifiedBy>Eric Goff, for SDAWG</cp:lastModifiedBy>
  <dcterms:modified xsi:type="dcterms:W3CDTF">2007-02-06T17:37:16Z</dcterms:modified>
  <cp:revision>2</cp:revision>
  <dc:subject/>
  <dc:title>Update for the Settlements and Data Aggregation Working Group</dc:title>
</cp:coreProperties>
</file>