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B5C-88BF-4873-8726-6E4DA31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0BB-3B31-45E0-9F00-9002E9B8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3F3-2CC8-4B56-A19F-C10D6538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55E-19E2-4DBB-A991-7975B56E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FBA-B51E-4C99-82F1-736AAF23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F77-82E2-49BA-AF75-2F207B8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A51-631D-4D26-9946-AC8069F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6B5-CAB6-4468-8F0E-D5FA93C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CD6-4A4F-46E2-BFBC-E32FCFA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2FF-7064-465E-904E-1000018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F23-B0F9-4391-804A-71B6EC0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ADF-54EE-455B-B1BF-5DD2C53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2EE1-AEEB-4689-A91B-87E3C8421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393920"/>
            <a:ext cx="803124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on of Holidays Tab in Profile Model Spread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vote for a status of URGENCY for  LPGRR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6A3-AB37-46DD-B782-5E9DBDAFB7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393920"/>
            <a:ext cx="803124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on of Holidays Tab in Profile Model Spread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the TAC approval of LPGRR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f urgency is not approved this vote is not ne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88E-D292-4E20-B6E7-92CEFE8527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epodraza</cp:lastModifiedBy>
  <cp:lastPrinted>2002-05-17T20:57:43Z</cp:lastPrinted>
  <dcterms:modified xsi:type="dcterms:W3CDTF">2007-01-31T13:23:21Z</dcterms:modified>
  <cp:revision>283</cp:revision>
  <dc:subject/>
  <dc:title>Retail Transactions Report</dc:title>
</cp:coreProperties>
</file>