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5765-9CC7-47A3-BD07-4D60FDC9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C5F1-B6D4-4483-9772-5F92671E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347C-2682-42DA-BA87-0A252D83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2990-78ED-4372-85EB-A39347EE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C66A-94A7-4AA4-A629-3FFEE53C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FB1-F4F6-4E4D-8318-2346F231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6336-C334-45CA-A319-07BBC145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F07C-BBB0-4179-9958-4D3501F8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343-AF18-40CD-9574-B09F5A50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1D7F-2E8C-4A3F-AC9A-1D0E7A43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1533-60B2-4F00-B678-B0FAC4FA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7749-73A8-4487-A9C2-99418535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E584-F895-488B-A383-F116C485C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Proposed 2007 Goal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ebruary 1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A07C-4A52-4551-8657-0852EE081F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99"/>
                </a:solidFill>
                <a:latin typeface="Times New Roman"/>
              </a:rPr>
              <a:t>COPS 2007 Goal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COP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imary eff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ocus on NODAL implementation and changes in market proc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lan, organize, monitor, and assist, the following COPS working groups assigned specific tasks as they relate to NODAL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CW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ntinue developing the Commercial Operations Market Guide – Focus on N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33A8-86A7-4ED1-AB07-0CD5554C5C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99"/>
                </a:solidFill>
                <a:latin typeface="Times New Roman"/>
              </a:rPr>
              <a:t>COPS 2007 Goal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DAW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solve Nodal settlement timelines and accounting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nitor and comment on all relative TPTF working documents as they relate to the financial and settlement processes, suggest protocol language changes as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ork through implementation process as Nodal progr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WG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ongoing effort to improve determinat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lete implementation of new profile determinates on time and on budg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onitor process, timelines, market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nsure data is 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vide oversight of Annual Valida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eview, Monitor, and Suggest Improvements to Profil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7098-FEC9-4C0F-9C04-E6A324C8B8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99"/>
                </a:solidFill>
                <a:latin typeface="Times New Roman"/>
              </a:rPr>
              <a:t>COPS 2007 Goal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DEWG: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inactive until needed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ccept handoff from TPTF when timing is right for implementation of MIS changes for Nod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UFE TF: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(inactive until needed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092A-0080-421C-8C72-7792160D97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ee starr</cp:lastModifiedBy>
  <dcterms:modified xsi:type="dcterms:W3CDTF">2007-02-06T14:37:47Z</dcterms:modified>
  <cp:revision>196</cp:revision>
  <dc:subject/>
  <dc:title>Point-to-Point</dc:title>
</cp:coreProperties>
</file>