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AE09-952A-457C-B4A6-5FCD8492B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291B-260B-439B-8744-F3A1A29C6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5EB2-B730-4BBF-AC80-2ECC4B00E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5292-3B3D-450B-A28F-609B1E5F3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F188-99ED-465E-B9FD-A79583799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69FB5-6438-4958-BFA6-A18D77723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0222-86C6-41FA-A71D-4C630A5A3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177A-1C34-4A8F-A1B2-C721D5EB2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4DF5-2725-4457-8B6C-904441CFD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BE94-2FC1-44CC-9B43-ECB94769D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AF23-B75A-4577-B43E-62BD09070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C1C6-5960-4859-8269-81A5364E9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50E3-ACDB-44D9-9EB7-D11CD1AB4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6400800"/>
            <a:ext cx="746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4, 20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. </a:t>
            </a:r>
            <a:fld id="{7718DA36-1F3A-40D7-BD7E-E32DBED1A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O PPL – Projects Update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Commercial Operations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February 13, 2007</a:t>
            </a:r>
            <a:br>
              <a:rPr sz="2400"/>
            </a:br>
            <a:br>
              <a:rPr sz="3200"/>
            </a:br>
            <a:r>
              <a:rPr b="1" lang="en-US" sz="1800" spc="-1" strike="noStrike">
                <a:solidFill>
                  <a:srgbClr val="ffffff"/>
                </a:solidFill>
                <a:latin typeface="Lucida Bright"/>
              </a:rPr>
              <a:t>Adam Martinez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Lucida Bright"/>
              </a:rPr>
              <a:t>Mgr, Market Operations DPO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3048120"/>
            <a:ext cx="716292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10476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PL Overview – MO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410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1260-71DD-46A2-B061-B87B55FB52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10476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PL Overview – MO “Capability Line”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800280"/>
            <a:ext cx="8839440" cy="3162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477120" y="4343400"/>
            <a:ext cx="160020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84625"/>
              <a:gd name="adj5" fmla="val -595000"/>
              <a:gd name="adj6" fmla="val -164583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 Location of “Capability L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085840"/>
            <a:ext cx="8858520" cy="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7E58-1940-4251-9985-7463C65ABC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10476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PL Overview – MO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410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 flipH="1">
            <a:off x="5562720" y="1676520"/>
            <a:ext cx="7617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562720" y="1371600"/>
            <a:ext cx="76176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562720" y="1523880"/>
            <a:ext cx="76176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562720" y="167652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562360" y="1600200"/>
            <a:ext cx="1143000" cy="213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1266840"/>
            <a:ext cx="2590920" cy="550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s Clo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ivered to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m performing final closing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3920" y="2590920"/>
            <a:ext cx="2750400" cy="550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rojects Cance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estro Phase 2 is now O&amp;M eff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PRS to be cancelled due to PUCT ru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971800" y="2286000"/>
            <a:ext cx="19810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2895480"/>
            <a:ext cx="213372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05320" y="5257800"/>
            <a:ext cx="8380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5029200"/>
            <a:ext cx="2819520" cy="550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ther Ch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to be delivered via SIR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cancel from the P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CC92-42B1-4A47-B58C-A3573B603E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10476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PL Overview – MO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410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4572000" y="2057400"/>
            <a:ext cx="2590920" cy="350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1905120"/>
            <a:ext cx="1981440" cy="167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2209680"/>
            <a:ext cx="1981080" cy="251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1676520"/>
            <a:ext cx="190512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1523880"/>
            <a:ext cx="152388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1143000"/>
            <a:ext cx="2590560" cy="1312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dget Ch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R727 Projects – increase to 2007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deStar Upgrade – correction to reflect 2007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PRS Project &amp; Load Profile Transition Migration project – potential impact from cancel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56A4C-9180-4ECA-B8D1-875FE0FDCA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10476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PL Overview – MO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410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 flipH="1">
            <a:off x="3276720" y="1143000"/>
            <a:ext cx="457200" cy="243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09880" y="1219320"/>
            <a:ext cx="457200" cy="297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962160" y="1219320"/>
            <a:ext cx="1143000" cy="32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762120"/>
            <a:ext cx="2590920" cy="703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xt Project Initiations or Rest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deStar Upgrade – Nodal 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R598 – may not be nee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R6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1649-B5F0-4CF0-8FC1-F54E2ACCD5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371600"/>
            <a:ext cx="82296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, 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F606-5234-4A93-B4F5-87A7F4CD68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balbracht</cp:lastModifiedBy>
  <dcterms:modified xsi:type="dcterms:W3CDTF">2007-02-13T22:17:14Z</dcterms:modified>
  <cp:revision>326</cp:revision>
  <dc:subject/>
  <dc:title>Role of Account Management at ERCOT</dc:title>
</cp:coreProperties>
</file>