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B2F-8171-4742-878B-9F8A0F0D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D79-8752-4B93-810B-47D9FB03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B58-E699-4CFE-9F7D-EC265276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172-786A-4D99-B03B-D1B8C58C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FD17-9EB9-4DC2-9E2F-62FDA038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6786-2EBD-4809-BD00-924A0325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CA97-69F5-4D1C-98EF-B60199F7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2711-2BCA-4C44-AC04-7BA3FEDA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AC49-3A55-4AB6-A035-83FD956C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6E88-71C7-48CA-964F-9651EAA7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A4B2-6891-43AE-BAEB-A8E7FC84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0CA-A4E3-477C-9ECD-FD93F828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19DD-756C-421A-88D4-89E0B3E2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489D-0748-41DD-B20D-0B54952C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F6F6-67E1-45B5-9574-FE9FDB2E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E351-A5C8-4A7E-9F39-C8A56FEF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E2BE-88B6-42C4-A142-FF33B0D3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8FF-E191-4B73-9B23-819187CE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957-3FCB-4668-AE11-FB0F8270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23B-831C-41B4-8E8A-34DB1F60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012-EC27-4DC6-A5F3-0152F52D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33B-7E45-427E-8977-78CA0562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133-E2F2-473F-93C7-719EAC76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345-C70B-4345-AD60-0059682F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38560" y="685800"/>
            <a:ext cx="4114800" cy="31240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2425680" y="0"/>
            <a:ext cx="309384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FE8E-0A6D-4A55-AF0C-C999A20A5B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4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3EEB-E7BB-445A-97AC-A7218ABCF4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4876920"/>
            <a:ext cx="8839440" cy="1957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 for QSEs &amp; CRR Acct Holders/Owner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Commercial Operations Subcommitte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2/13/200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F5C-2E44-4485-9485-4478A76618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Protocols – Section 16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16.1 Qualification, Registration, and Execution of Agre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1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RCOT shall require each Market Participant to register and execute the applicable standard Agreements from the following li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a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ified Scheduling Entity (QSE) Agreemen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b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ad Serving Entity Agreemen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c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mission and/or Distribution Service Provider (TDSP) Agreemen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d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ource Entity Agreemen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e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newable Energy Credit Account Holder Agreemen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f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Congestion Revenue Rights Account Holder Agreemen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g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liability Must-Run Agreement; 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h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lack Start Agreemen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A34-BF18-4A9C-B0DC-6E409127DF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27468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s – QSEs &amp; CRR Acct Holders/Owner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R Account Holders vs. CRR Own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R Account Holder – Entity is registered with ERCOT as a CRR Account Holder and may or may not have offered for and paid for CRR produc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R Owner – Entity is a registered CRR Account Holder and has purchased and paid for CRR produc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ption: QSEs and CRR Holders/Owners will register as separate entit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SEs and CRR Holders/Owners will receive separate Settlement Statements (DAM and RT) and Invoices (DAM and RT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ilar to Sub-QSE relationships in Zonal syste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R-related settlement charge and payment types that will appear on CRR Holder/Owner statements and invoic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se include for DAM:  DAOBLAMT, DAOBLRAMT, DAFGRAMT, DAOPTAMT, DAOPTRAMT, DACRRSAM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se include for RT: RTOPTAMT, RTOPTRAMT, RTCRRSAM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R-related settlement charge and payment types that will appear on QSE statements and invoic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TOBL (Real-Time Obligation per QSE) is a CRR product purchased in DAM by QSEs.  Do not have to be a registered CRR entity to purchase these product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RTOBLAMT and RTOBLAMT will appear o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Q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AM Statements and RT Statements respectivel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D9C-0A47-45CF-9F4D-27EFF2F9D1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27468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ppendix – Bill Determinant Descript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OBLAMT – Payments and Charges for PTP Obligations Settled in D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OBLR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yments and Charges for PTP Obligations with Refund Settled in DAM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FGR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yments for FGR Settled in DAM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OPT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yments for PTP Options Settled in DAM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OPTR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yments for PTP Options with Refund Settled in DAM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CRRS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ay-Ahead Shortfall Charges to CRR Owner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TOPT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yments for NOIE’s PTP Options Settled in Real-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TOPTR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yments for NOIE’s PTP Options with Refund Settled in Real-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TCRRS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al-Time Shortfall Charges to CRR Owner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RTOBLAMT – Settlement for PTP Obligations bought in D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TOBL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yments and Charges for PTP Obligations bought in DAM and Settled in Real-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17E7-DB4E-4A07-A999-FF21FB4E05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lbracht</cp:lastModifiedBy>
  <dcterms:modified xsi:type="dcterms:W3CDTF">2007-02-13T22:15:50Z</dcterms:modified>
  <cp:revision>2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