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B6D88A-CA72-4491-A569-DB2BBBF28E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0" y="-360"/>
            <a:ext cx="73152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81F26A-31CB-416B-8D67-9A6672E8E2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0" y="-360"/>
            <a:ext cx="73152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844CB5-53E1-40AB-A380-8C5DF9FC24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0" y="-360"/>
            <a:ext cx="73152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BCB5AB-4AE6-4075-9F69-B8FC713DCB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0" y="-360"/>
            <a:ext cx="73152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201776-7C44-4AC0-9D3B-A4A88DAB01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0" y="-360"/>
            <a:ext cx="73152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20E78A-B88B-4A66-8C56-B0ADC5F534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0" y="-360"/>
            <a:ext cx="73152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8C7D48-F73B-4F10-BC1E-4757134FAA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0" y="-360"/>
            <a:ext cx="73152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4B8606-605B-4766-B38C-70929667A3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0" y="-360"/>
            <a:ext cx="731520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F58ADF-E51B-41A1-B4C8-B3A4EF580E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0" y="-360"/>
            <a:ext cx="73152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F73F70-F92E-4527-B5E7-B86B9815A6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0" y="-360"/>
            <a:ext cx="73152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94C628-4819-4850-B2F7-4A13F72C78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0" y="-360"/>
            <a:ext cx="73152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663ECE-AE04-463A-B588-C2BB1E1E52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360"/>
            <a:ext cx="73152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title text format</a:t>
            </a:r>
            <a:endParaRPr b="0" lang="en-US" sz="2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8260EC-1893-483E-8B53-11CCDE3958C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 descr=""/>
          <p:cNvPicPr/>
          <p:nvPr/>
        </p:nvPicPr>
        <p:blipFill>
          <a:blip r:embed="rId2"/>
          <a:stretch/>
        </p:blipFill>
        <p:spPr>
          <a:xfrm>
            <a:off x="7315200" y="76320"/>
            <a:ext cx="1752480" cy="941400"/>
          </a:xfrm>
          <a:prstGeom prst="rect">
            <a:avLst/>
          </a:prstGeom>
          <a:ln w="0">
            <a:noFill/>
          </a:ln>
        </p:spPr>
      </p:pic>
      <p:sp>
        <p:nvSpPr>
          <p:cNvPr id="6" name=""/>
          <p:cNvSpPr/>
          <p:nvPr/>
        </p:nvSpPr>
        <p:spPr>
          <a:xfrm flipV="1">
            <a:off x="0" y="980640"/>
            <a:ext cx="9144000" cy="9720"/>
          </a:xfrm>
          <a:prstGeom prst="line">
            <a:avLst/>
          </a:prstGeom>
          <a:ln w="31680">
            <a:solidFill>
              <a:srgbClr val="00808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7" name=""/>
          <p:cNvSpPr/>
          <p:nvPr/>
        </p:nvSpPr>
        <p:spPr>
          <a:xfrm>
            <a:off x="458640" y="6248520"/>
            <a:ext cx="8226720" cy="0"/>
          </a:xfrm>
          <a:prstGeom prst="line">
            <a:avLst/>
          </a:prstGeom>
          <a:ln w="1260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http://www.ercot.com/mktrules/issues/lpgrr/000-024/017/keydocs/017LPGRR-02a_PWG_Recommendation_Rep.xls" TargetMode="External"/><Relationship Id="rId2" Type="http://schemas.openxmlformats.org/officeDocument/2006/relationships/hyperlink" Target="http://www.ercot.com/mktrules/issues/lpgrr/000-024/017/keydocs/017LPGRR-02_PWG_Recommendation_Report_122006.doc" TargetMode="External"/><Relationship Id="rId3" Type="http://schemas.openxmlformats.org/officeDocument/2006/relationships/hyperlink" Target="http://www.ercot.com/mktrules/issues/lpgrr/000-024/017/keydocs/017LPGRR-03_Impact_Analysis_011907.doc" TargetMode="External"/><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1346040" y="2162160"/>
            <a:ext cx="6375600" cy="2565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il and Gas Profile Implementation Plan</a:t>
            </a:r>
            <a:br>
              <a:rPr sz="2800"/>
            </a:b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598320" y="131400"/>
            <a:ext cx="731520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USOGFLT Background</a:t>
            </a:r>
            <a:endParaRPr b="0" lang="en-US" sz="2800" spc="-1" strike="noStrike">
              <a:solidFill>
                <a:srgbClr val="000000"/>
              </a:solidFill>
              <a:latin typeface="Times New Roman"/>
            </a:endParaRPr>
          </a:p>
        </p:txBody>
      </p:sp>
      <p:sp>
        <p:nvSpPr>
          <p:cNvPr id="46" name=""/>
          <p:cNvSpPr/>
          <p:nvPr/>
        </p:nvSpPr>
        <p:spPr>
          <a:xfrm>
            <a:off x="461880" y="1316160"/>
            <a:ext cx="8180640" cy="45360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1600" spc="-1" strike="noStrike">
                <a:solidFill>
                  <a:srgbClr val="000000"/>
                </a:solidFill>
                <a:latin typeface="Arial"/>
              </a:rPr>
              <a:t>02-28-2003 ERCOT received Oil and Gas Profile Segment request </a:t>
            </a: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From 02-2003 thru 08-2006 finalizing request, data collection and load research analysis</a:t>
            </a: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08-30-2006 ERCOT completed analysis of Oil and Gas load research data and recommended adoption as an ERCOT sponsored Profile with PWG consensus</a:t>
            </a: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09-26-2006 COPS unanimously approved concept of Oil and Gas Profile Segment (BUSOGFLT)</a:t>
            </a: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10-06-2006 TAC unanimously approved concept of BUSOGFLT Profile Segment</a:t>
            </a: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PWG drafted LPGRR017 to make guide changes necessary to implement the BUSOGFLT Profile Segment</a:t>
            </a: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ERCOT Impact Analysis indicated minor Lodestar system changes required (O &amp; M dollars)</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1AEF2D9D-32A0-4537-9C3B-3564C45681F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598320" y="131400"/>
            <a:ext cx="731520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USOGFLT Future Timeline</a:t>
            </a:r>
            <a:endParaRPr b="0" lang="en-US" sz="2800" spc="-1" strike="noStrike">
              <a:solidFill>
                <a:srgbClr val="000000"/>
              </a:solidFill>
              <a:latin typeface="Times New Roman"/>
            </a:endParaRPr>
          </a:p>
        </p:txBody>
      </p:sp>
      <p:sp>
        <p:nvSpPr>
          <p:cNvPr id="48" name=""/>
          <p:cNvSpPr/>
          <p:nvPr/>
        </p:nvSpPr>
        <p:spPr>
          <a:xfrm>
            <a:off x="461880" y="1231920"/>
            <a:ext cx="8220240" cy="5029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Approval LPGRR017, ERCOT Impact Analysis, and this Implementation Plan</a:t>
            </a:r>
            <a:endParaRPr b="0" lang="en-US" sz="22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2-13-2007 COPS</a:t>
            </a:r>
            <a:r>
              <a:rPr b="0" lang="en-US" sz="1800" spc="-1" strike="noStrike">
                <a:solidFill>
                  <a:srgbClr val="000000"/>
                </a:solidFill>
                <a:latin typeface="Times New Roman"/>
              </a:rPr>
              <a:t> </a:t>
            </a:r>
            <a:r>
              <a:rPr b="0" lang="en-US" sz="1800" spc="-1" strike="noStrike">
                <a:solidFill>
                  <a:srgbClr val="000000"/>
                </a:solidFill>
                <a:latin typeface="Arial"/>
              </a:rPr>
              <a:t>	</a:t>
            </a:r>
            <a:endParaRPr b="0" lang="en-US" sz="18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3-13-2007 TAC</a:t>
            </a:r>
            <a:endParaRPr b="0" lang="en-US" sz="18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4-17-2007 Board</a:t>
            </a:r>
            <a:endParaRPr b="0" lang="en-US" sz="18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04-18-2007 Market Notice announcing BUSOGFLT Profile Segment</a:t>
            </a:r>
            <a:endParaRPr b="0" lang="en-US" sz="22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09-15-2007 150 day notice ends</a:t>
            </a:r>
            <a:endParaRPr b="0" lang="en-US" sz="22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09-18-2007 Implementation date to avoid weekend</a:t>
            </a:r>
            <a:endParaRPr b="0" lang="en-US" sz="22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9-15-2007 ERCOT will begin posting Forecasted Load Profiles</a:t>
            </a:r>
            <a:endParaRPr b="0" lang="en-US" sz="18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9-19-2007 ERCOT will begin posting Backcast Load Profiles </a:t>
            </a:r>
            <a:endParaRPr b="0" lang="en-US" sz="18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65697D41-CB88-4AA6-A362-01EF6EF76ED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461880" y="1123920"/>
            <a:ext cx="8220240" cy="47253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a:t>
            </a:r>
            <a:r>
              <a:rPr b="0" lang="en-US" sz="2200" spc="-1" strike="noStrike">
                <a:solidFill>
                  <a:srgbClr val="000000"/>
                </a:solidFill>
                <a:latin typeface="Arial"/>
              </a:rPr>
              <a:t>4-18-2007 CR’s eligible to begin sending in documentation to ERCOT requesting BUSOGFLT Profile Segment assignments </a:t>
            </a:r>
            <a:endParaRPr b="0" lang="en-US" sz="22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04-18-2007 to 09-03-2007 ERCOT will accumulate and validate change requests</a:t>
            </a:r>
            <a:endParaRPr b="0" lang="en-US" sz="22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1800" spc="-1" strike="noStrike">
                <a:solidFill>
                  <a:srgbClr val="000000"/>
                </a:solidFill>
                <a:latin typeface="Arial"/>
              </a:rPr>
              <a:t>ERCOT will notify submitter of any invalid request</a:t>
            </a:r>
            <a:endParaRPr b="0" lang="en-US" sz="18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09-04-2007 ERCOT will send files of change requests to TDSPs</a:t>
            </a:r>
            <a:endParaRPr b="0" lang="en-US" sz="22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09-19-2007 TDSPs will submit 814-20 transactions changing Profile Segment to BUSOGFLT with effective date of a meter reading on or after 09-18-2007</a:t>
            </a:r>
            <a:endParaRPr b="0" lang="en-US" sz="22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0" name="PlaceHolder 1"/>
          <p:cNvSpPr>
            <a:spLocks noGrp="1"/>
          </p:cNvSpPr>
          <p:nvPr>
            <p:ph type="title"/>
          </p:nvPr>
        </p:nvSpPr>
        <p:spPr>
          <a:xfrm>
            <a:off x="598320" y="131400"/>
            <a:ext cx="731520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USOGFLT Transition </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22A87033-FAAA-43A8-8F76-BABC2A32E32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93320" y="202680"/>
            <a:ext cx="670068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USOGFLT Ongoing process</a:t>
            </a:r>
            <a:endParaRPr b="0" lang="en-US" sz="2800" spc="-1" strike="noStrike">
              <a:solidFill>
                <a:srgbClr val="000000"/>
              </a:solidFill>
              <a:latin typeface="Times New Roman"/>
            </a:endParaRPr>
          </a:p>
        </p:txBody>
      </p:sp>
      <p:sp>
        <p:nvSpPr>
          <p:cNvPr id="52" name=""/>
          <p:cNvSpPr/>
          <p:nvPr/>
        </p:nvSpPr>
        <p:spPr>
          <a:xfrm>
            <a:off x="461880" y="1744560"/>
            <a:ext cx="8220240" cy="37501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a:t>
            </a:r>
            <a:r>
              <a:rPr b="0" lang="en-US" sz="2200" spc="-1" strike="noStrike">
                <a:solidFill>
                  <a:srgbClr val="000000"/>
                </a:solidFill>
                <a:latin typeface="Arial"/>
              </a:rPr>
              <a:t>9-04-2007 CR’s continue sending in documentation to ERCOT requesting BUSOGFLT Profile Segment assignments </a:t>
            </a:r>
            <a:endParaRPr b="0" lang="en-US" sz="22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09-11-2007 ERCOT begins sending validated change requests to TDSPs</a:t>
            </a:r>
            <a:endParaRPr b="0" lang="en-US" sz="22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1800" spc="-1" strike="noStrike">
                <a:solidFill>
                  <a:srgbClr val="000000"/>
                </a:solidFill>
                <a:latin typeface="Arial"/>
              </a:rPr>
              <a:t>ERCOT will notify submitter of any invalid request</a:t>
            </a:r>
            <a:endParaRPr b="0" lang="en-US" sz="18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09-19-2007 After receipt of requests, TDSPs will submit 814-20 transactions on or before the second regularly scheduled meter read date</a:t>
            </a:r>
            <a:endParaRPr b="0" lang="en-US" sz="22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1941EACB-DC19-4AD9-8C13-9898BFF2B41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598320" y="131400"/>
            <a:ext cx="6508800" cy="6476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USOGFLT Ongoing process</a:t>
            </a:r>
            <a:endParaRPr b="0" lang="en-US" sz="2800" spc="-1" strike="noStrike">
              <a:solidFill>
                <a:srgbClr val="000000"/>
              </a:solidFill>
              <a:latin typeface="Times New Roman"/>
            </a:endParaRPr>
          </a:p>
        </p:txBody>
      </p:sp>
      <p:sp>
        <p:nvSpPr>
          <p:cNvPr id="54" name=""/>
          <p:cNvSpPr/>
          <p:nvPr/>
        </p:nvSpPr>
        <p:spPr>
          <a:xfrm>
            <a:off x="501480" y="1123920"/>
            <a:ext cx="8180640" cy="5320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inued)</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200" spc="-1" strike="noStrike">
                <a:solidFill>
                  <a:srgbClr val="000000"/>
                </a:solidFill>
                <a:latin typeface="Arial"/>
              </a:rPr>
              <a:t>January 2008 ERCOT will begin performing quarterly validations of BUSOGFLT Profile Segment assignments</a:t>
            </a:r>
            <a:endParaRPr b="0" lang="en-US" sz="22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1800" spc="-1" strike="noStrike">
                <a:solidFill>
                  <a:srgbClr val="000000"/>
                </a:solidFill>
                <a:latin typeface="Arial"/>
              </a:rPr>
              <a:t>ERCOT will verify that profile segment assignments for ESIIDs in Lodestar are consistent with documentation submitted</a:t>
            </a:r>
            <a:r>
              <a:rPr b="0"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200" spc="-1" strike="noStrike">
                <a:solidFill>
                  <a:srgbClr val="000000"/>
                </a:solidFill>
                <a:latin typeface="Arial"/>
              </a:rPr>
              <a:t>Periodically ERCOT will perform quality control validations of the BUSOGFLT Profile Segment assignments</a:t>
            </a:r>
            <a:r>
              <a:rPr b="0"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1800" spc="-1" strike="noStrike">
                <a:solidFill>
                  <a:srgbClr val="000000"/>
                </a:solidFill>
                <a:latin typeface="Arial"/>
              </a:rPr>
              <a:t>Field inspection of a random sample of BUSOGFLT ESIIDs to determine any miss-assignments</a:t>
            </a:r>
            <a:endParaRPr b="0" lang="en-US" sz="18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RCOT will notify CR of record and TDSP of any ESIID found to be invalid</a:t>
            </a:r>
            <a:endParaRPr b="0" lang="en-US" sz="18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DSP will send in 814-20 transaction to assign ESIID to the appropriate default Profile Segment as specified in the Decision Tree</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65B78D31-8C34-4766-A7BF-18EFB09D64F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598320" y="131400"/>
            <a:ext cx="6508800" cy="6476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USOGFLT Key Documents</a:t>
            </a:r>
            <a:endParaRPr b="0" lang="en-US" sz="2800" spc="-1" strike="noStrike">
              <a:solidFill>
                <a:srgbClr val="000000"/>
              </a:solidFill>
              <a:latin typeface="Times New Roman"/>
            </a:endParaRPr>
          </a:p>
        </p:txBody>
      </p:sp>
      <p:sp>
        <p:nvSpPr>
          <p:cNvPr id="56" name=""/>
          <p:cNvSpPr/>
          <p:nvPr/>
        </p:nvSpPr>
        <p:spPr>
          <a:xfrm>
            <a:off x="501480" y="1201680"/>
            <a:ext cx="8180640" cy="3946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200" spc="-1" strike="noStrike">
                <a:solidFill>
                  <a:srgbClr val="000000"/>
                </a:solidFill>
                <a:latin typeface="Arial"/>
              </a:rPr>
              <a:t>Key Documents available on the ERCOT website at the following links: </a:t>
            </a:r>
            <a:endParaRPr b="0" lang="en-US" sz="22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457200">
              <a:lnSpc>
                <a:spcPct val="100000"/>
              </a:lnSpc>
              <a:spcBef>
                <a:spcPts val="13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PGRR017</a:t>
            </a:r>
            <a:endParaRPr b="0" lang="en-US" sz="2200" spc="-1" strike="noStrike">
              <a:solidFill>
                <a:srgbClr val="000000"/>
              </a:solidFill>
              <a:latin typeface="Times New Roman"/>
            </a:endParaRPr>
          </a:p>
          <a:p>
            <a:pPr lvl="1" marL="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ccccff"/>
                </a:solidFill>
                <a:uFillTx/>
                <a:latin typeface="Arial"/>
                <a:hlinkClick r:id="rId1"/>
              </a:rPr>
              <a:t>http://www.ercot.com/mktrules/issues/lpgrr/000-024/017/keydocs/017LPGRR-02a_PWG_Recommendation_Rep.xls</a:t>
            </a:r>
            <a:endParaRPr b="0" lang="en-US" sz="1800" spc="-1" strike="noStrike">
              <a:solidFill>
                <a:srgbClr val="000000"/>
              </a:solidFill>
              <a:latin typeface="Times New Roman"/>
            </a:endParaRPr>
          </a:p>
          <a:p>
            <a:pPr lvl="1" marL="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ccccff"/>
                </a:solidFill>
                <a:uFillTx/>
                <a:latin typeface="Arial"/>
                <a:hlinkClick r:id="rId2"/>
              </a:rPr>
              <a:t>http://www.ercot.com/mktrules/issues/lpgrr/000-024/017/keydocs/017LPGRR-02_PWG_Recommendation_Report_122006.doc</a:t>
            </a:r>
            <a:endParaRPr b="0" lang="en-US" sz="1800" spc="-1" strike="noStrike">
              <a:solidFill>
                <a:srgbClr val="000000"/>
              </a:solidFill>
              <a:latin typeface="Times New Roman"/>
            </a:endParaRPr>
          </a:p>
          <a:p>
            <a:pPr lvl="1" marL="45720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457200">
              <a:lnSpc>
                <a:spcPct val="100000"/>
              </a:lnSpc>
              <a:spcBef>
                <a:spcPts val="13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RCOT Impact Analysis</a:t>
            </a:r>
            <a:endParaRPr b="0" lang="en-US" sz="2200" spc="-1" strike="noStrike">
              <a:solidFill>
                <a:srgbClr val="000000"/>
              </a:solidFill>
              <a:latin typeface="Times New Roman"/>
            </a:endParaRPr>
          </a:p>
          <a:p>
            <a:pPr lvl="1" marL="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ccccff"/>
                </a:solidFill>
                <a:uFillTx/>
                <a:latin typeface="Arial"/>
                <a:hlinkClick r:id="rId3"/>
              </a:rPr>
              <a:t>http://www.ercot.com/mktrules/issues/lpgrr/000-024/017/keydocs/017LPGRR-03_Impact_Analysis_011907.doc</a:t>
            </a:r>
            <a:endParaRPr b="0" lang="en-US" sz="1800" spc="-1" strike="noStrike">
              <a:solidFill>
                <a:srgbClr val="000000"/>
              </a:solidFill>
              <a:latin typeface="Times New Roman"/>
            </a:endParaRPr>
          </a:p>
          <a:p>
            <a:pPr lvl="1" marL="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5D2A74B0-1B76-4DBB-AC4E-42833B0945E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380880" y="1393920"/>
            <a:ext cx="8031240" cy="4604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ew BUSOGFLT Profile Segment</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cc99"/>
                </a:solidFill>
                <a:latin typeface="Arial"/>
              </a:rPr>
              <a:t>VOTE</a:t>
            </a:r>
            <a:endParaRPr b="0" lang="en-US" sz="4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WG requests the following mo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at COPS recommend to the TAC and the Board approval of the new BUSOGFLT Profile Segment per the details in this packet, which include this  implementation plan and links to LPGRR017 and the ERCOT Impact Analysis.</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AE9B8DCB-95C2-4BA0-A40F-81A78DDFF38F}" type="slidenum">
              <a:t>8</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6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17T19:23:15Z</dcterms:created>
  <dc:creator>kcotner</dc:creator>
  <dc:description/>
  <dc:language>en-US</dc:language>
  <cp:lastModifiedBy>epodraza</cp:lastModifiedBy>
  <cp:lastPrinted>2002-05-17T20:57:43Z</cp:lastPrinted>
  <dcterms:modified xsi:type="dcterms:W3CDTF">2007-01-30T16:42:39Z</dcterms:modified>
  <cp:revision>282</cp:revision>
  <dc:subject/>
  <dc:title>Retail Transactions Report</dc:title>
</cp:coreProperties>
</file>