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496-D3E4-4FDD-ACC5-52E4483B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171-7B9C-4DCD-940B-736164BA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DE6-1241-4824-BDBC-BFB55237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4EB-61F3-43B3-A354-8F2474EB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F50-F524-4869-BD8E-44F9EDE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F34-4381-4DEA-9EF1-B505C961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4C1-EB2C-41BA-A180-084F07B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026-3DF8-4501-8D62-7FCDBF9A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A0F-A7B2-44C5-9056-94A6A66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D7C-558E-4FC0-B150-C0A1125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F97-CB87-4477-B837-1CDD2716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EB8-FDCD-4920-8C28-2A28375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160B-6D46-4029-BF27-504FA613C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003-18EF-4EA7-94AA-560F63E7C7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January 9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Meeting Highlights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lection of officer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ee St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ice Chai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ichelle Tr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J Flowers &amp; Judy Briscoe were recognized for their substantial contributions to the development of COPS and for anchoring leadership since it’s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Working Group Re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WG, Reviewed status of new profile implemen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WG, Group activity suspended until Nodal MIS activity is comp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CWG, Reviewed feasibility of change in RTM &amp; DAM invoicing to 5 banking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PTF Review Group, Called attention to pending TPTF working documents and reminded those present when comments are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C4B-CCB9-4CF4-B5C2-1B71BAED64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br>
              <a:rPr sz="40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committee then considered a new “Scope Document” and proposed language changes to “COPS Subcommittee Procedures” to accommodate the creation of a new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“Settlements and Data Aggregation Working Group (SDAW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 provide and ensure COPS involvement in Nodal Financial Settlement and Data Aggregation processes. The new working group to focus primarily on aiding ERCOT and Market Participants in achieving a smooth transition to new financial settlement systems the result of migrating to the new Nodal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080-C527-4C70-9E9F-4C759B5D1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DAWG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financial settlement and data aggregation system design and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 a forum for discussion issues addressing Settlement, including, but not limi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hadow settl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spu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financial settle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 aggreg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, as appropriate, PRRs,NPRRs, and SCRs, addressing financial settlement and data ag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E4F-46A6-432F-B031-414358B769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llowing review and discussion 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roved the New “Scope Document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roved Changes to “COPS Procedure Document” to add “SDAWG” as a new working group concentrating on Nodal issues and how they relate to financial settlements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71E-E586-43E6-8AB0-F764D20B63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PS recommends TAC consider and  appro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 new “Scope Document” 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mended “COPS Procedure Document”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A83-331C-4A11-B7D6-4C8CE792A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1-26T19:38:14Z</dcterms:modified>
  <cp:revision>197</cp:revision>
  <dc:subject/>
  <dc:title>Point-to-Point</dc:title>
</cp:coreProperties>
</file>