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0B5-BFEB-4493-B051-84F6A739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978-4745-4890-ACBF-9B57853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F99-97BC-4151-871E-47355334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12A-AC81-4A31-B732-C22DAA5C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C11-E689-4F52-88AA-046308DF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3F5-A4CD-4171-A363-076CAD7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4EC-39CE-4F2E-B2B4-39950A5E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822-09E7-46B0-B6D0-C01CA66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2EA-7E71-4421-AE64-19937D09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FBE-641A-44A2-993D-D8AB036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3B-4106-43FE-A49C-609DC39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657-1189-497E-9C0C-D93CEEC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E8E7-EE13-4213-8F77-4620A7573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bruary 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251-E2FC-48AE-9435-008FF7ED9F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January 9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Meeting Highlights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lection of officer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ee St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ice Chai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ichelle Tr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J Flowers &amp; Judy Briscoe were recognized for their substantial contributions to the development of COPS and for anchoring leadership since it’s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Working Group Re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WG, Reviewed status of new profile implemen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WG, Group activity suspended until Nodal MIS activity is comp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CWG, Reviewed feasibility of change in RTM &amp; DAM invoicing to 5 banking business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PTF Review Group, Called attention to pending TPTF working documents and reminded those present when comments are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02A-71DD-463E-9028-BA0EC4188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br>
              <a:rPr sz="40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committee then considered a new “Scope Document” and proposed language changes to “COPS Subcommittee Procedures” to accommodate the creation of a new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“Settlements and Data Aggregation Working Group (SDAW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 provide and ensure COPS involvement in Nodal Financial Settlement and Data Aggregation processes. The new working group to focus primarily on aiding ERCOT and Market Participants in achieving a smooth transition to new financial settlement systems the result of migrating to the new Nodal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843-53D7-47A0-998D-6526B5272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DAWG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financial settlement and data aggregation system design and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 a forum for discussion issues addressing Settlement, including, but not limi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hadow settl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spu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financial settle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 aggreg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, as appropriate, PRRs,NPRRs, and SCRs, addressing financial settlement and data ag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A44-C5B7-48EC-AD81-FEDE881004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&amp; Data Aggregation Working Grou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llowing review and discussion 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roved the New “Scope Document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roved Changes to “COPS Procedure Document” to add “SDAWG” as a new working group concentrating on Nodal issues and how they relate to financial settlements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F26-A9E9-47C2-B95B-63F948DE9A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PS recommends TAC consider and  appro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 new “Scope Document” 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mended “COPS Procedure Document” (Vo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CDF-78C3-44B3-9B88-A84F336A21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1-26T15:05:26Z</dcterms:modified>
  <cp:revision>196</cp:revision>
  <dc:subject/>
  <dc:title>Point-to-Point</dc:title>
</cp:coreProperties>
</file>