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E86-AA31-4C67-A29B-0786A28C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375-B81B-480D-B647-09C17911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71E-64BA-4B2C-924D-C1007EE0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6AE-78FA-459B-BBE8-7E2480F9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3732-A3D2-48BC-8825-B61A8528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9E6A-9976-4060-95C1-E8EA97E1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75FB-0B9F-4A0E-A8A9-7B09A26C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59F6-9B8D-4609-9F64-A93AD5EA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7B28-E462-4CAC-8AB4-3E1605A5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BF4C-1214-4668-9FA5-B41A7511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224A-8B7B-4159-89A7-069B9E9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DEC-EAE8-4B25-BC70-FEED12B4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75BA-6FFB-4966-B780-B4394B81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617D-9B4F-4C7C-9AC6-D8F6B47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4234-FBF3-4B91-9448-A11B15D8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56B2-988A-40AD-99C2-FED10448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542D-8844-4EEB-9A1E-F3EEF4B0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C20-2F20-4B7F-B3F6-89073FD9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0B1-6C6F-4149-822F-A0CA2CD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13D-2EBB-4186-9CD5-4171492D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5C4-A8E1-42CD-9EF1-FE70E8B3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A98-9A9A-4697-A7A4-8ABAAF2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322-1ED7-49F1-ABAC-8E8F87A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D46-99F0-4500-A68A-869BEA8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D8CB-E9E1-46EB-883A-08CDBB78A6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5EC3-3DAE-48DD-99B7-03061D2631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Retail Market Subcommittee Update to the 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echnical Advisory Committee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bruary 1,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MS Voting I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MGRR048 : RMG Revision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ises Section 3 of the Retail Market Gu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roduces a 21-day comment period after the RMS Recommendation Report is posted and eliminates the additional comment period for modifications to the RMS Recommendation Repor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ings the RMG Revision Process in line with current Protocols and other Market Gui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MS unanimously approved on 12/06/0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MS requests TAC approval that the amendment be effective February 1, 2007 rather than waiting until March 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MS Update: MarkeTra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rak Phase I is the retail transaction issue resolution tool that replaced FasTrak on November 13, 200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COT Facilitated Lessons Learned Focus Group sessions January 9 and 10.  Summation of discussions will be provided to RMS on Feb. 1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ormation gathered will also support MarkeTra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 II planning and develop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sTrak has been left available for 90 days allowing user’s to review and update 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bruary 13, at 5pm, FasTrak will be disabl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5:46:06Z</dcterms:created>
  <dc:creator>AEP</dc:creator>
  <dc:description/>
  <dc:language>en-US</dc:language>
  <cp:lastModifiedBy>AEP</cp:lastModifiedBy>
  <dcterms:modified xsi:type="dcterms:W3CDTF">2007-01-25T23:04:38Z</dcterms:modified>
  <cp:revision>7</cp:revision>
  <dc:subject/>
  <dc:title>Retail Market Sub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