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79F1E-6AD5-45F8-A33D-8B9F4AA8D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DEBF5-10BD-42A9-A2A5-8B5F1F0B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72C15-252B-4828-B287-4BB8BFB3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2DA0B-E4B6-4DF5-AC0B-33B0747D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021F1-D0D7-4E8D-AE47-514FDA29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B6E97-9E1D-47DF-AD0B-77E767F9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4D1E2-2FA6-4DBD-82C4-798049E7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9767C-D2B6-43CE-A75F-C8550435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DADA8-6965-4268-A421-F619AFB5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FEF7A-11F8-4F2E-9682-5AE47D96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D9416-A33A-4E4F-A50A-13A4AF1C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D32D8-2A73-48DC-A3B5-9FC1B8E2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5396-3002-4235-A738-ED3BA1B22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4723920" y="6477120"/>
            <a:ext cx="4038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Operations Modeling &amp; Tele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3809880" y="647532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AAAB-6CDD-440B-B995-7F11C50E3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905120" cy="763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M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etwork Operations Modeling &amp; Telemetry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AC Meet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ebruary 2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y Raj Chudgar, ERCO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MT – Network Operations Modeling &amp; Telemetry -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777960"/>
            <a:ext cx="8686800" cy="53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ement Weights Mode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sis and Progress Up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up Tuning Environment with near real-time feeds from Prod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ment weights were re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software change to add plausibility checks on negative load teleme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d the limits for a set of unit capability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ning Environment Resul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 mismatches (Mw/Mvar) after SE convergence are re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ximum difference in Mw/Mvar flows between SE and Power Flow (RTCA base case) are re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voltage violations on the RTCA base case are re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rformance index was impro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ation Pla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in the ERCOT ITEST environment in February 2007 and promote to ERCOT Production in March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CE133-E96D-4E7E-A2D8-F1DD6DC9F8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MT – Network Operations Modeling &amp; Telemetry -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71604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ement Weights – Point in time –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 Hour Study Comparison to Produ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10938" t="19791" r="1562" b="8333"/>
          <a:stretch/>
        </p:blipFill>
        <p:spPr>
          <a:xfrm>
            <a:off x="304920" y="1554120"/>
            <a:ext cx="8534160" cy="477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D107A-6961-492A-B3D7-AF214962F7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MT – Network Operations Modeling &amp; Telemetry -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71604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ement Weights – Point in time 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 Hour Study Comparison to Produ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10155" t="20835" r="1562" b="8333"/>
          <a:stretch/>
        </p:blipFill>
        <p:spPr>
          <a:xfrm>
            <a:off x="228600" y="1600200"/>
            <a:ext cx="8610480" cy="464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4007E-82F8-4511-BA6F-BCF221EABB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MT – Network Operations Modeling &amp; Telemetry -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71604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ement Weights – Point in time 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 Hour Study Comparison to Produ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10938" t="20835" r="1562" b="8333"/>
          <a:stretch/>
        </p:blipFill>
        <p:spPr>
          <a:xfrm>
            <a:off x="380880" y="1600200"/>
            <a:ext cx="8534520" cy="464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9712D-ED1A-48A3-8957-E7B103451B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MT – Network Operations Modeling &amp; Telemetry -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Model clean-up under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to complete by 3/31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effort to reduce critical measurements and improve observability under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to have all justifications and schedules for new implementations by 3/31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schedule will be published end of 1Q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ment Weights tuning recommendations to be implemented into Production March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will continue to provide progress reports to TPTF, TAC, and ROS on a regular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ED730-BA4E-4792-AF50-654BC7F2A7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MT – Network Operations Modeling &amp; Telemetry -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s to Co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Model Data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Measurements Telemetry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 Weights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50E37-4515-4B08-B1C3-AC4B6BF91D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MT – Network Operations Modeling &amp; Telemetry -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work Model Data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64EF2-C1DE-4CCC-B8B2-708AFC8C4B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MT – Network Operations Modeling &amp; Telemetry -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731880"/>
            <a:ext cx="8686800" cy="53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Data Issues – as of 01/26/200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an with 200+ manually entered issues in Mid-August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ed the Automated Query Process to find additional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 Ca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ptember 2006 thru October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w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M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osed 78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fore running next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Ca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vember 2006 thru December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w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baseline is 5400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MT ha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osed 4100+ or 77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new bas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aining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19 Assigned to ERC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resolve inter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82 Assigned to M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ail this 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xt Ca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run from January 2007 thru mid-February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gin contacting Q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ument NMT processes to hand over to ERCOT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gin wrap of NMT project to end on 3/31/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A2C86-B0B1-498C-B829-233D7E0E6C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MT – Network Operations Modeling &amp; Telemetry -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700200"/>
            <a:ext cx="8047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Model Data Issues Status – by 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7064" t="9210" r="60125" b="34996"/>
          <a:stretch/>
        </p:blipFill>
        <p:spPr>
          <a:xfrm>
            <a:off x="868320" y="1087560"/>
            <a:ext cx="7543800" cy="513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251C7-ECAC-4224-BB00-C46591A8BB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MT – Network Operations Modeling &amp; Telemetry -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tical Measurements Telemetry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74816-6471-46B7-B760-C2E779E9AA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MT – Network Operations Modeling &amp; Telemetry -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731880"/>
            <a:ext cx="8229600" cy="55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ical Measurements Telemetry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eadsheet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ing to work with each of the Market Participant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 and document comments and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rify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addition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nt emailing and MP contact in January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 to implement modeling changes as a result of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documentation of feedback by end-of-February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 results and schedules by end-of-March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77ECE-198B-4A5D-AD87-468C1695CE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MT – Network Operations Modeling &amp; Telemetry -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7318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itical Measurements Telemetry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8756" t="12502" r="16243" b="23744"/>
          <a:stretch/>
        </p:blipFill>
        <p:spPr>
          <a:xfrm>
            <a:off x="641520" y="1163520"/>
            <a:ext cx="7816680" cy="498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3E1A8-F537-4408-A80D-F3F8CB7D99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MT – Network Operations Modeling &amp; Telemetry -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ment Weights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0E393-9106-40E6-80B2-6F44383FDB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5:00:00Z</dcterms:created>
  <dc:creator/>
  <dc:description/>
  <dc:language>en-US</dc:language>
  <cp:lastModifiedBy/>
  <dcterms:modified xsi:type="dcterms:W3CDTF">2007-01-30T00:10:02Z</dcterms:modified>
  <cp:revision>153</cp:revision>
  <dc:subject/>
  <dc:title>Electric Reliability and  Resource Adequacy Update</dc:title>
</cp:coreProperties>
</file>