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2D1-3BD0-426D-A134-89750520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E02-9E03-4C4A-BB6E-0334E5F0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E08-FC8E-4272-8865-97DC623A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D35-D193-4CB9-A597-1B17CD1E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C386-709C-4096-8349-05F15F00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A2D4-3FF0-434C-9727-309EE15B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FA55-ED04-4DEA-9DAF-CF491DAD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BE2A-FE30-4C48-8704-2C0DDF93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9B3C-282D-4EA1-A283-2D7969A4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BEF7-4632-4E29-9CD0-A50623C2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9CF8-F240-4692-A6B2-F1403CE8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6F94-C7A2-4406-8E6E-F07B1F1D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737E-3092-4C64-9F6B-0646EC6F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F694-59C3-4DE0-81AC-3C5279C4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99B3-9EE5-46DB-B111-53442D84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4775-73DE-4595-A530-8E884A0B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883D-B2EC-41E7-8E25-ED4D93BB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AFC-4AE2-4AE2-B494-8DC850F3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FCA-31FF-4691-B31D-2BE18F96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6C4-D99F-4163-972A-BE67256C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7DD-60B4-414B-9B62-8334C421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E7F-7D75-47DD-A242-EA73F89C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659-D589-4DE3-8B0D-691FAD30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817-8CAC-4100-AAE2-46FE4365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580A-020F-430B-A346-5196058A8C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C16B-8848-4111-8750-CAD8665DC9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bruary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CA21-2EBE-4B81-8974-3565DB8367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ctober 3, 2006 Ev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at Gibbons Creek Substation in Bryan/College Station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38 kV coupling capacitor voltage transformer (CCVT) failed catastrophicall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-sensing components of the backup protective relay failed due to high fault curr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,214 MW of generation lost – NERC Disturbance Control Standard (DCS) Ev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quency recovered to pre-disturbance level in approximately 3 minutes – NERC criteria met; no NERC Reliability Standards vio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34C-8DDB-4869-A448-75AA226BAF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ctober 3, 2006 Ev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RCOT deployed all RRS being provided by LaaRs in accordance with ERCOT DCS Event Operating Procedures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 of ten QSEs with LaaR RRS awards did not respond with 95% of their award within 10 min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42 MW tripped – 1,150 MW oblig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over 20 minutes to achieve 95% of oblig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 Protocol Violation Notices iss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 notices related to Section 6.5.4(2) – tripping requirements for La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notice related to Section 6.5.1.1(4) – telemetry requiremen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39 MW of firm load shed in 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NERC Interconnected Reliability Operating Limit (IROL) vio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47E-31F8-4ED4-B3A7-A68FB56542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aaR Deploy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0/3/200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47720" y="1752480"/>
          <a:ext cx="763740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7720" y="1752480"/>
                    <a:ext cx="76374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73F-592E-4621-A8A1-9A153E7357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ctober 3, 2006 Ev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ies connection of protective relays is contrary to current ERCOT Operating Guides for new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ion equipment installed prior to current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ssues identified with coordination studies or maintenan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issues addres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ed CCVT replaced – CCVTs on other two phases also repla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ed relay replaced – current transformer (CT) ratio adjusted to reduce current sensed during fa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tional CTs purchased to eliminate series current connections shared by primary and backup relay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560-D834-4DE7-B1D4-167B917E79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ctober 3, 2006 Ev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ing to investigate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nts leading up to CCVT fail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toration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meet NERC Planning Criteria, three transmission projects had been previously identified to address known risks – work still in progress.  One project complete; completion of remaining projects scheduled by Summer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64A-8CA6-4A9F-AB4B-4DA50C5DEC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aaR Deploy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2/22/200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49160" y="1752480"/>
          <a:ext cx="76359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9160" y="1752480"/>
                    <a:ext cx="7635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59C-7A51-4C88-856E-8CE6CDBEA8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ember performance indicated a sixth straight month of declining scores since scores peaked in Ju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ne – 154.6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ember – 129.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th-to-date score as of January 2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137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cores for December indicate 34 QSEs passed / 1 non-wind-only QSEs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3A0-E05B-4F34-AD56-C2FEFABD9E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Performance Compari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36B-AB44-4133-9F9B-2919600719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C01-A94A-4E4F-8A61-DFDD0002E8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3C4-B270-41D1-B995-3DE5452708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642-C07A-4C1E-9F78-7927496A92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2006 Resource Plan 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66640" y="16765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F77-F5E3-479F-AE1A-3992900E81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E Performance Monito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E Performance Monitoring scores for all QSEs are published on the Compliance Webs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0B41-498B-4DB6-A43B-BA0F4F0BE7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E2F-2B49-49F6-80D2-138CF231B3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. Grimm</cp:lastModifiedBy>
  <dcterms:modified xsi:type="dcterms:W3CDTF">2007-01-25T16:58:26Z</dcterms:modified>
  <cp:revision>289</cp:revision>
  <dc:subject/>
  <dc:title>PRR 525 Compliance Analysis</dc:title>
</cp:coreProperties>
</file>