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9A1A-8075-413D-80EA-19F85123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998F-48AB-4C05-9818-84BA7495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815F-3F83-4B2E-B621-7E751E27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6326-F3FC-45D0-9603-FA1F4363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3AC5-06DE-485E-8E38-8EDA862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73D3-0D37-4CC2-8AB3-507100CA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A902-AFDA-4668-A014-562BF30D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61DC-E980-457A-876B-8A634481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8A7C-04BD-4C36-9690-4F34863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33CF-D39A-4435-8D9E-A280F38C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4C32-9420-4FD0-8493-C5191BD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A0C7-A7B5-461D-B0D2-4707282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6910-5002-492C-9C99-942D2204B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Transaction Process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Year End Revi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cent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62320" y="4647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A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6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46080" y="1066680"/>
          <a:ext cx="72518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066680"/>
                    <a:ext cx="7251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6 Outage Analys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838080"/>
          <a:ext cx="730728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30728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&amp; January Outage/Degradation Analys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Causes of December &amp; January Ou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ng communication protocol issues within Retai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s and 867 &amp; 814 transaction delays (12/5, 12/15-12/27, 1/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change implemented on 1/14 and 1/28 to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tegration software (12/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configuration problems (12/14,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partitions’ bug (1/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developing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chitecture Change &amp; Attempted Fix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troubleshooting of duplicates, PaperFree file server, and 867 forwarding problems has pointed to a potential 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protocol used to communicate between PaperFree file servers and PaperFree processor servers drops connections randomly and intermittently, and the PaperFree application experiences multiple problems when this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in phases, this architecture change would remove the need for this communication protocol in the retail environ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One – January 14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Two – 14 days after phase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d approach to ensure the change is effective and to eliminate multiple simultaneous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the change, redundancy would still be in place for the retai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chitecture Change &amp; Attempted Fix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36232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27672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1981080"/>
            <a:ext cx="1143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51460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04812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81280"/>
            <a:ext cx="1143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4114800"/>
            <a:ext cx="11430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3400" y="1143000"/>
            <a:ext cx="23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erFree Proces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20574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093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09320" y="26668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09320" y="281952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209320" y="27432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60" y="4572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ove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33520" y="39621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8954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528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87560" y="1447920"/>
            <a:ext cx="206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51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0160" y="822240"/>
            <a:ext cx="164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4479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762120"/>
            <a:ext cx="0" cy="533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5181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23623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&amp; Proces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342900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 File &amp; Proces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057400"/>
            <a:ext cx="2209680" cy="2362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16765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1-25T22:40:39Z</dcterms:modified>
  <cp:revision>90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