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A04-238F-4386-ABC1-4F2DD5F5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B20-8E06-4028-8830-D5549310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37E-9943-4901-B1DC-1EB91DF6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7DC-8C5B-4300-ACFA-578EDEA8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ACD-E4DF-4DF3-83FE-2725F2D8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DF3-80EC-4F60-BEE8-73F1EB8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185-0E19-498E-8E03-D6D9E17A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57D-C1D1-4D95-91F7-23B85D7F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6F3-3F3C-4DE0-854F-278412C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C0C-9737-451A-85B4-C3B8296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2CD-7291-45D6-A8B9-97618F2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79D-B15E-471D-9190-2B03763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3AF-2B76-49A5-83AA-716B4A05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TAC Subcommittee Chairs &amp; Vice-Chai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Lee Starr, B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le Trenary, Ten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Kevin Gresham, Rel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Madden, StarTex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Blake Gross, A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non Bowling, Ci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Stuart Nelson, L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s Rankin, TXU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Brad Belk, L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bara Clemenhagen, To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7-01-24T20:24:18Z</dcterms:modified>
  <cp:revision>44</cp:revision>
  <dc:subject/>
  <dc:title>Role of Account Management at ERCOT</dc:title>
</cp:coreProperties>
</file>