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524-0A86-4D12-9447-A3588061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7A4-2525-45D7-B279-B74C10ED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0AD-4450-4A5C-A4E3-F84C337A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832-F630-48AC-A135-8195A6A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DB25-4A15-432F-AB2E-016A5DE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3D0-E91D-4096-8F07-5E822C91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5261-56AC-42A6-A2E2-076140DC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3217-1472-4D65-B357-A886916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118-8322-4574-A47E-B155E29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5042-384B-4FEA-9F3A-B7C8F7E2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5E04-93AF-43AB-AB66-53171BE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38A-A938-4D6A-B6CC-4872075D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9458-6876-4C59-BD13-BA4AED3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E7C-44EA-4946-AFEB-130CEAE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87A-CC86-4E60-8D57-6EE77D2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334D-9ED2-49CD-A4D6-9BB44C08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0CEC-4A5C-4D55-8304-012CDB50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899-3D7E-4671-8418-A2724541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625-2F01-4114-AA24-4122430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4FF-8D0B-4A77-929F-410A217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3B7-B580-4857-AEE8-0EFC0FE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F2E-9E9A-458F-A1EB-FB5893F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362-F6CD-4558-84B6-67A46C2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D49-041B-4A9D-82EA-425BD16A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92A0-8AE6-4868-8DD9-C0C19BD10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5F4-DAE3-4BBE-B21F-47179D3C6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February 1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RO/TRE Cost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ersioning of NPR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ERO/TRE Cost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AC asked PRS to research &amp; develop alternative funding mechanisms for the ERO/TRE fee to relieve the burden on Load which comply with federal &amp; state regul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 will consider any submitted alternatives at its February 22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Versioning of N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AC asked PRS to develop a process for post-nodal implementation of NPR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S to consider proposal for versioning at its next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ill report progress to TAC in M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Emergency Interruptible Load Serv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04760"/>
            <a:ext cx="792792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ur EILS PRRs were considered by P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S concurred with ERCOT that curtailing firm load on a voluntary basis in emergency conditions was preferable to shedding firm load on an involuntary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S not convinced EILS is appropria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ket changes since April 17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hether EILS can be implemented for a cost commensurate with the VOLL associated with rotating outages during emergency cond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S tabled PRRs to February 22 and requested information from ROS, WMS and ERC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01-31T16:29:07Z</dcterms:modified>
  <cp:revision>90</cp:revision>
  <dc:subject/>
  <dc:title>Protocol Revision Subcommittee</dc:title>
</cp:coreProperties>
</file>