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EDD-5FF3-43B7-9708-51B1E927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C2F-4EC8-4703-B2A2-C0CFF74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A39-2ADC-4A01-824F-D16D55EE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CB7-FBA3-4834-AC67-83315B3B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260-10D5-4ADD-AC6A-D458D3A4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1C0-7361-4DF9-B860-39CB07E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544-4DD5-4A44-B904-2DDDEC1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572-E696-4096-B2C7-39D4D28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853-29F5-4F45-BD63-6C38DE67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0ED-B327-4BE6-AF0E-A20195A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F8D-2D21-4C09-BF41-0A751BE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8D1-E7B6-4D40-9359-0B0436DF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867-E180-4FB4-953F-14BB0964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304920"/>
            <a:ext cx="8763120" cy="1218960"/>
          </a:xfrm>
          <a:prstGeom prst="rect">
            <a:avLst/>
          </a:prstGeom>
          <a:gradFill rotWithShape="0">
            <a:gsLst>
              <a:gs pos="0">
                <a:srgbClr val="cc6600">
                  <a:alpha val="45098"/>
                </a:srgbClr>
              </a:gs>
              <a:gs pos="100000">
                <a:srgbClr val="ffcc99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RCOT R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nuary 2007 Mee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r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 – Chai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s Rankin – Vice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EILS Wor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RE Standar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n 3 EECP Events in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Proposed RRS Discount Factor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bruary 2007 Mee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Work Group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Providing Regulations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pin Deploy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 Interconnection Procedur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Texas Dynamic Transfe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bruary 2007 Mee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ction on Proposed RRS Discou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Review of December 2006 EECP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ft 2007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Operating Guides to Noda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exas RE Standard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Entity Compliance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EECP Events and Ou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etwork Model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51:35Z</dcterms:created>
  <dc:creator>sschneid</dc:creator>
  <dc:description/>
  <dc:language>en-US</dc:language>
  <cp:lastModifiedBy>LCRA Employee</cp:lastModifiedBy>
  <dcterms:modified xsi:type="dcterms:W3CDTF">2007-01-29T14:42:17Z</dcterms:modified>
  <cp:revision>23</cp:revision>
  <dc:subject/>
  <dc:title>Slide 1</dc:title>
</cp:coreProperties>
</file>