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62320" y="3908520"/>
            <a:ext cx="632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340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62320" y="390852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03400" y="390852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0720" y="159984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9120" y="159984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362320" y="390852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0720" y="390852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9120" y="3908520"/>
            <a:ext cx="203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362320" y="159984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308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03400" y="1599840"/>
            <a:ext cx="308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04760" y="3805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03400" y="1599840"/>
            <a:ext cx="308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362320" y="390852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308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0340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03400" y="390852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03400" y="1599840"/>
            <a:ext cx="3086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62320" y="3908520"/>
            <a:ext cx="632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59984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81680" y="6095880"/>
            <a:ext cx="2362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837720"/>
            <a:ext cx="708660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Impact"/>
              </a:rPr>
              <a:t>Electric Reliability Organization and Issues in Texas</a:t>
            </a:r>
            <a:br>
              <a:rPr sz="4100"/>
            </a:br>
            <a:r>
              <a:rPr b="0" lang="en-US" sz="4100" spc="-1" strike="noStrike">
                <a:solidFill>
                  <a:srgbClr val="000066"/>
                </a:solidFill>
                <a:latin typeface="Impact"/>
              </a:rPr>
              <a:t> </a:t>
            </a:r>
            <a:endParaRPr b="0" lang="en-US" sz="41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0932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90920" y="41911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657600"/>
            <a:ext cx="701028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Technical Advisor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January 4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Jess To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Director, Electric Industry Oversight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Public Utility Commission of Te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Federal Reliability Responsibilities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ERC has national responsibility for electric reliability standards and authority to impose penaltie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lectric Reliability Organization (ERO) must adopt and enforce reliability standards under FERC supervi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RO may delegate authority to Regional Entities (REs) to enforce standards and propose regional standard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ERO and RE Status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RC certified the North American Electric Reliability Council (NERC) as the ERO in Jul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RCOT submitted proposed delegation agreement to NERC with a functionally separate divisio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 the RE for the ERCOT 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legation agreement negotiated with NERC and subject to approval by FER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Texas Reliability Issues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RCOT is the independent system operator (ISO) under state la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RA responsibilities include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t and reliability issues are intertw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liability framework must comply with Federal law but should als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void conflict with existing State law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 cost-effectiv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impact on mar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Proposed Delegation Agreement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unctionally independent division of ERCOT (Texas RE) would become the Regional Ent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xas RE woul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stakeholder process for developing proposed reliability standards, with regional decision by Bo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nitor and enforce new federal reliability standards, with PUC due process rol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nitor and enforce ERCOT Protocols and Market Rules, with PUC due process role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Governance Requirements for RE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overned by an independent board, balanced stakeholder board, or hybrid bo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ependence from users, owners, and operators of the bulk-power system, with fair representation in selecting direc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lanced decision-making in  committees and other bod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asonable notice and opportunity for public comment, due process, openness, and balance of inter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two industry sectors can control and no one industry sector can veto any a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Compliance Process—Federal Reliability Standards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exas RE or market participant identifies possible viol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Texas RE determines violation and proposes remedial action, which may include penal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Market participant may contest violation and remedial ac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UC provides due process and recommended decision to Texas 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irector of Texas RE makes decision, which may be appealed to NERC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Impact"/>
              </a:rPr>
              <a:t>Compliance Process—Market Rule or ERCOT Protocol</a:t>
            </a:r>
            <a:endParaRPr b="0" lang="en-US" sz="37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xas RE or market participant identifies possible violation, and Texas RE notifies PU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UC ED issues notice of violation, which may include penal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rket participant may contest penal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UC provides due process and decision, which may be appealed to cou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13:49Z</dcterms:created>
  <dc:creator>percep_pc</dc:creator>
  <dc:description/>
  <dc:language>en-US</dc:language>
  <cp:lastModifiedBy>jtotten</cp:lastModifiedBy>
  <cp:lastPrinted>2001-10-22T18:24:36Z</cp:lastPrinted>
  <dcterms:modified xsi:type="dcterms:W3CDTF">2007-01-04T20:44:46Z</dcterms:modified>
  <cp:revision>64</cp:revision>
  <dc:subject/>
  <dc:title>PowerPoint Presentation</dc:title>
</cp:coreProperties>
</file>