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4371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CC5A2E5D-86CC-470D-9A59-B18ECACFB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PTF Update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18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for TAC January 4, 2007</a:t>
            </a:r>
            <a:br>
              <a:rPr sz="24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Trip Doggett</a:t>
            </a:r>
            <a:br>
              <a:rPr sz="32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4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826920"/>
            <a:ext cx="807732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cember 5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and Design Authority (IDA)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IDA Proof of Concep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Information System (MIS)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MIS Web Portal Conceptual System Design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NMMS CS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Management System (MMS)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 Moorty reviewed the Day Ahead Market (DAM)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Management System (EMS)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y Dondeti presented an overview of the EMS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ine for EMS Requirements review delayed until December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Hirsch reviewed status of EMS/MMS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826920"/>
            <a:ext cx="8077320" cy="40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cember 11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EMS/MMS White 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Point above High Ancillary Service Limit (HASL) 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cember 11th, TPTF approved the Base Point Above HASL Flags white paper, as amended by TPTF.  TPTF approved the motion by a ballot vote of 100% in favor, with no abstentions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ispatch Limit (HDL) and Low Dispatch Limit (LDL) during Start-up and AS 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cember 11th, TPTF approved the HDL and LDL During Start-up and AS Recall white paper, as amended by TPTF, with the caveat that the diagrams in Figures 1-3 will be reconciled with the changes as necessary.  TPTF approved the motion by a ballot vote of 100% in favor, with one abstention (City of Allen)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11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826920"/>
            <a:ext cx="80773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cember 11,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EMS/MMS White 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y Base Point Calculation and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cember 11th, TPTF approved the Emergency Base Point Calculation and Deployment white paper, as amended by TPTF.  TPTF approved the motion by a ballot vote of 100% in favor, with no abstentions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incidental Deployment of Up and Down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cember 11th, TPTF approved the Coincidental Deployment of Up and Down Regulation white paper, as submitted.  TPTF approved the motion by a ballot vote of 94.4% in favor, with one abstention (Calpine).  All Market Segments, except Consumers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llary Service Schedules and Deployment Tele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cember 11th, TPTF approved the Ancillary Service Schedules and Deployment Telemetry white paper, as amended by TPTF.  TPTF approved the motion by a ballot vote of 100% in favor, with no abstentions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11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826920"/>
            <a:ext cx="807732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cember 11,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EMS/MMS White 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pin Deployment Notification and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d until TAC reviews ROS procedure to deploy Non-S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ve Reserve Deployment and 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to resume during January 3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D Base Point 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to resume during January 3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792000"/>
            <a:ext cx="861084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dnesday, Januar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January 8 through Wednesday, January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January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January 22 through Thursday, January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Meetings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5000"/>
            <a:ext cx="86108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January 3, will be discuss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of EMS/MMS Whitepap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ED Base Point Dis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ive Reserve Deployment and Re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Spin Deployment Notification and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Meetings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765000"/>
            <a:ext cx="8610840" cy="54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 January 8-10, January 15, and January 22-25, will be discuss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al Program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S/MMS Requirements Discu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S  Requirement Do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S Requirement D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S/MMS Whitepap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rcial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D for Credit Monitoring and Mgm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ix NPRRs  to align with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Review of Commercial Operations CS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MS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MS C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T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Trial Approach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fication Approach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A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of Draft MP API List and Strategy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 Conceptual System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S Ass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037- Section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Approval of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914400"/>
            <a:ext cx="845820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29th, TPTF approved the CRR Conceptual System Design document. TPTF approved the motion by a ballot vote of 100% in favor, with three abstentions (Calpine, Formosa Plastic, and City of Allen)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30th, TPTF approved Commercial Operations Dispute Management Business Requirements as being in compliance with the applicable Nodal protocols. TPTF approved the motion by a ballot vote of 100% in favor, with five abstentions (CPS San Antonio, CenterPoint, City of Allen, Town of Flower Mound, and Residential Consumers).  All Market Segments, except Cooperative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30th, TPTF approved Commercial Operations Eligibility Process for Settlements Business Requirements as being in compliance with the applicable Nodal protocols. TPTF approved the motion by a ballot vote of 100% in favor, with five abstentions (CPS San Antonio, CenterPoint, Formosa Plastic, City of Allen, and Exelon).  All Market Segments, except Cooperative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Approval of Milestones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914400"/>
            <a:ext cx="845820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ition Plan says: “Any declaration of the accomplishment of a major milestone (business requirements, conceptual design, and successful completion of Market Participant testing) or a decision to proceed is contingent on the approval of both ERCOT and TA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that TAC approve the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roval of CRR Conceptual System Desig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roval of Commercial Operations Dispute Management Business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roval of Commercial Operations Eligibility Process for Settlements Business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914400"/>
          <a:ext cx="8305560" cy="3889440"/>
        </p:xfrm>
        <a:graphic>
          <a:graphicData uri="http://schemas.openxmlformats.org/drawingml/2006/table">
            <a:tbl>
              <a:tblPr/>
              <a:tblGrid>
                <a:gridCol w="2439720"/>
                <a:gridCol w="4646880"/>
                <a:gridCol w="1218960"/>
              </a:tblGrid>
              <a:tr h="3135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eeting 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 of recent TPTF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Next Meet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coming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pproval of Milest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TAC approval of Milestone – Conceptual System Design Complete fo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Revenue Righ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TAC approval of Milestone – Business Requirements Complete fo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Operations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ut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28-30, December 4-5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762120"/>
            <a:ext cx="807732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s November 28-30, December 4-5, December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n Hinsley announced the hiring of Jerry Sullivan, new Nodal Executiv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gram Update by Tim 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Relate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34, Conforming Section 10 to Nodal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28th, TPTF approved the filing of TPTF comments on NPRR034 with PRS. TPTF approved the motion by a ballot vote of 92.9% in favor, with four abstentions (Garland, CPS San Antonio, AEP, and Formosa Plastic)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35, Protocol Clarifications Required for Net Me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28th, TPTF approved the filing of TPTF comments on NPRR035 with PRS. TPTF approved the motion by a ballot vote of 91.7% in favor, with three abstentions (LCRA, Denton, and AEP)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37, Conforming Section 13 – TPTF will review after boxed language is implemented in Zonal (PRR565, Calculation of Losses for Settl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28-30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826920"/>
            <a:ext cx="8077320" cy="38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28th, TPTF discussed the following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P during EECP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Relate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36, Market Operations Test Environment (MOTE) in the Nodal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28th, TPTF approved the filing of TPTF comments on NPRR036 with PRS. TPTF approved the motion by a ballot vote of 100% in favor, with no abstentions.  All Market Segments, except Consumer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Rules Plan to Conform Remaining Sections of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28-30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826920"/>
            <a:ext cx="807732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29th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tion of Market Comments on CRR Conceptual System Design (CSD)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29th, TPTF approved the CRR CSD document. TPTF approved the motion by a ballot vote of 100% in favor, with three abstentions (Calpine, Formosa Plastic, and City of Allen)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 Auction Engin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ERCOT Readiness and Transition (I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Readiness 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28-30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762120"/>
            <a:ext cx="807732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30th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Operations – Invoicing Du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Relate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30th, TPTF rejected a motion to approve the Topaz comments on NPRR024. The motion failed by a ballot vote of 44.4% for, with one abstention (Formosa Plastic).  All Market Segments, except Cooperative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Operations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disposition of market comment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ute Management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30th, TPTF approved Commercial Operations Dispute Management Business Requirements as being in compliance with the applicable Nodal protocols. TPTF approved the motion by a ballot vote of 100% in favor, with five abstentions (CPS San Antonio, CenterPoint, City of Allen, Town of Flower Mound, and Residential Consumers).  All Market Segments, except Cooperative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28-30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766800"/>
            <a:ext cx="8458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30th,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Operations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disposition of market comment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 Process for Settlements Business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30th, TPTF approved Commercial Operations Eligibility Process for Settlements Business Requirements as being in compliance with the applicable Nodal protocols. TPTF approved the motion by a ballot vote of 100% in favor, with five abstentions (CPS San Antonio, CenterPoint, Formosa Plastic, City of Allen, and Exelon).  All Market Segments, except Cooperative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of Business Requirements for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Operations Conceptual System Design (CS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of CSD for Credit Monitoring 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Operations Review of Draft NPRRs reflecting Approved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November 28-30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766800"/>
            <a:ext cx="845820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November 30th,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and MM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by Al Hir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of Outage Scheduler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Comments received on MMS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EMS/MMS White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December 4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26920"/>
            <a:ext cx="80773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cember 4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gram Update by Tim 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estion Revenue Rights (CR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change request to add API to CR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cember 4th, TPTF approved a motion to proceed with a change request, to be submitted to the Nodal Program Change Control Board, for the API interaction described in CRR presentation. TPTF approved the motion by a ballot vote of 77.8% in favor, with three abstentions (GEUS, Garland, and Calpine).  All Market Segments, except Cooperative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ERCOT Readiness and Transition (IRT)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of IRT Qualification Approach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Management System (MMS)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 Moorty reviewed the Security Constrained Economic Dispatch (SCED) and Real-Time MMS Processes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Trip Doggett</dc:creator>
  <dc:description/>
  <dc:language>en-US</dc:language>
  <cp:lastModifiedBy>Matt Mereness</cp:lastModifiedBy>
  <dcterms:modified xsi:type="dcterms:W3CDTF">2006-12-22T15:19:09Z</dcterms:modified>
  <cp:revision>258</cp:revision>
  <dc:subject/>
  <dc:title>TAC Update</dc:title>
</cp:coreProperties>
</file>