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B7C5-BA36-4080-BC8A-FA91EB03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4B78-C1AB-4D9B-97FB-A4DA6895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D8AE-1A69-4443-AB8E-3D6A427B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5BFE3-0C78-43AF-886F-6723289C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786A-C4D4-4488-A1EB-DACD4D12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609A9-E930-4F4B-99B6-09240189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0754-2CD7-40D4-BF6A-D2D6D710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9E5D9-E5E9-488E-8F2B-D6DBD4C1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E9FD-DABB-404F-BCF9-CF2F19FA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A7C5E-122A-43E9-B3D4-8F670E27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DF05-ECC3-46A8-8314-6F640774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6FBC-ABDA-4073-ADEB-ABF0F771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01E5-FBD2-48D7-BF9B-69260EC8F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CE54-04E9-44FC-94EC-8F542CF17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Bylaws Changes for Regional Entit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san Vince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ssistant General Couns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AC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January 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ylaws Amendment Tim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9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date for TAC members to submit suggested modifications to proposed Bylaws amendments for Texas Regional Ent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t TAC meeting (if required) to discuss additional comments or proposed modifications to proposed Bylaws amendments for Texas Regional Ent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Board vote on Bylaws amendments (after obtaining comments and/or response from FER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membership vote on Bylaws amend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 Comments to LegalRequest@erco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410080" y="1066680"/>
            <a:ext cx="3200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uary 26, 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1, 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– April 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h – May 2007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 Updat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January 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PTF 010307</cp:lastModifiedBy>
  <dcterms:modified xsi:type="dcterms:W3CDTF">2007-01-04T15:10:53Z</dcterms:modified>
  <cp:revision>20</cp:revision>
  <dc:subject/>
  <dc:title>Instructions</dc:title>
</cp:coreProperties>
</file>