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B3F-C3D9-4240-9D9F-48FC3EDC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228-EFB2-43AE-8D06-B157FF11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07D6-D367-45E0-8214-3989DFEC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FFF-137A-4E7E-8248-11CF9BA3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7C2E-176E-4984-94B1-E5E80219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6F79-CDE5-449A-8BDB-B07B7553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DA30-7E5D-4BD7-8ED1-FA7F2975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83A6-23F6-49B3-9956-54BF66C6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2423-EE1B-4B60-B21F-6263845E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C293-5308-494D-B740-946BFCE7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10D1-2542-4408-A607-8DC239E2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84F-182D-4BBA-A29C-E722597A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2E16-847E-4A07-823A-84400D08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24C4-9137-4E32-8965-1C53CC48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CEA9-04B9-4A78-B67C-EBC272E4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9EBA-A3AB-4BF1-AFBA-CBFD8EDB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8AC8-E011-4D10-8596-96B1011F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61373-B863-4949-A963-DE5BAF2B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5F845-36B3-4689-B758-B0C6871C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D7DBE-4E2A-43E4-8644-BFFBF4D7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665C-21BE-4B41-B61D-75D46F59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41D6D-D5AD-4396-A072-D5FD8284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CD0A-CB51-47AE-AF84-E3B9C341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99228-74C1-4282-98B6-D24827B4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F0E5A-6F89-4C5C-A678-EB5577E6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5DEB-A21B-40E5-87A3-D54C7C4F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9E7FE-DE1F-4373-AE49-12154894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4C91-9FDE-44B7-A4D6-594F6B90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1E49-4F57-4C88-A5A7-85DD128A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C6458-CB16-4C8B-82A3-3ACE354E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BE998-2BCD-49CF-85DC-7E828082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46CA5-CFF0-413D-8EC4-AFA83722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A5CF2-FD8C-4075-91EA-8C5AC9E6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33C-E39F-454D-93EB-17CD3E5F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0B293-E195-4870-90CD-A93DAF8E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164BF-1A03-4F28-9E84-88A26700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DBC74-F0B0-4936-824F-809256E1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4B5FE-CB34-488F-AF6D-16E675EE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ACE3D-2702-452F-B6A4-63D64C09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36117-264F-43FD-BEFF-27F32289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293CD-BD13-4B1B-8EA1-A6A5EAA1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13FD3-D5BB-4A64-9724-ACAAF06B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76DD8-3BAB-4306-BFF3-78F2BF05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7EE08-CD97-4C86-9B4A-50AA1E03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B2E-E784-490E-89B1-ABDB37AB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79C82-4670-4199-A815-DDBA1510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BD15B-A8BB-4973-B03A-4EB2953E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4A0A6-8593-4F28-9029-A7EA5CAB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E4EBD-803F-41E1-8BB3-36A09794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2F0F6-A196-4D74-A041-B8BE0571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7D24B-8FD1-47C5-8BB5-93D2836E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D4C4B-049E-4DC1-BC69-4B17414D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49A73-4FE1-4272-8FA7-FCE96A8D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E299F-E4D6-4DD0-AE7F-AEE5B684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629B9-D32F-4689-9F5F-DE75F6C2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382-C352-401F-970B-EAE93C91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DD3C7-8931-412D-AE9D-7711241D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884-4E49-450B-8435-A4BF1241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A43-3A2D-42BD-8F4E-8840A414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0B6D-A323-4C9A-B386-34B20D61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43AD-4554-4E8F-8F76-411693E7B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36E5-7715-41DC-A136-DC671AAF7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DF9B-CC81-4647-8570-153F67724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685E-815A-4F9B-9348-137AF86CF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8A08-2941-4566-9B63-96E6DAD42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6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xas-New Mexico Power &amp;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Point Energy</a:t>
            </a:r>
            <a:br>
              <a:rPr sz="32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vin 345/138 kV Tie Project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C – 01/04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6553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 of Project -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629400" cy="3567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066680" y="4784760"/>
            <a:ext cx="7696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ild 345/138 kV station and loop PH Robinson to Oasis 345 kV line into this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p existing Hastings to Alvin 138 kV line into new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build this line from new station to Ha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build Hastings to Friendswood 138 kV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$19.4 M (2006 doll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2438280"/>
            <a:ext cx="155520" cy="15264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438280"/>
            <a:ext cx="155520" cy="152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828800" y="1752120"/>
            <a:ext cx="457200" cy="685800"/>
            <a:chOff x="1828800" y="1752120"/>
            <a:chExt cx="457200" cy="685800"/>
          </a:xfrm>
        </p:grpSpPr>
        <p:sp>
          <p:nvSpPr>
            <p:cNvPr id="222" name=""/>
            <p:cNvSpPr/>
            <p:nvPr/>
          </p:nvSpPr>
          <p:spPr>
            <a:xfrm flipH="1" flipV="1">
              <a:off x="1828800" y="1752120"/>
              <a:ext cx="380880" cy="685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28800" y="1752480"/>
              <a:ext cx="457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980720" y="1447920"/>
            <a:ext cx="1371960" cy="914400"/>
            <a:chOff x="1980720" y="1447920"/>
            <a:chExt cx="1371960" cy="914400"/>
          </a:xfrm>
        </p:grpSpPr>
        <p:sp>
          <p:nvSpPr>
            <p:cNvPr id="225" name=""/>
            <p:cNvSpPr/>
            <p:nvPr/>
          </p:nvSpPr>
          <p:spPr>
            <a:xfrm flipH="1">
              <a:off x="1980720" y="1828800"/>
              <a:ext cx="304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1080" y="1828800"/>
              <a:ext cx="30492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86000" y="2362320"/>
              <a:ext cx="457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2743200" y="2209680"/>
              <a:ext cx="0" cy="152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3200" y="2209680"/>
              <a:ext cx="2286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971800" y="1752480"/>
              <a:ext cx="380880" cy="457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971800" y="1447920"/>
              <a:ext cx="380880" cy="3045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d Long Term Projects – 2010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629400" cy="3567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90720" y="4876920"/>
            <a:ext cx="723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build South Shore to P.H. Robinson 138 kV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build Friendswood to Seminole 138 kV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$5.1 M (2006 doll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2438280"/>
            <a:ext cx="155520" cy="15264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2438280"/>
            <a:ext cx="155520" cy="152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828800" y="1752120"/>
            <a:ext cx="457200" cy="685800"/>
            <a:chOff x="1828800" y="1752120"/>
            <a:chExt cx="457200" cy="685800"/>
          </a:xfrm>
        </p:grpSpPr>
        <p:sp>
          <p:nvSpPr>
            <p:cNvPr id="238" name=""/>
            <p:cNvSpPr/>
            <p:nvPr/>
          </p:nvSpPr>
          <p:spPr>
            <a:xfrm flipH="1" flipV="1">
              <a:off x="1828800" y="1752120"/>
              <a:ext cx="380880" cy="685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28800" y="1752480"/>
              <a:ext cx="457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980720" y="1447920"/>
            <a:ext cx="1371960" cy="914400"/>
            <a:chOff x="1980720" y="1447920"/>
            <a:chExt cx="1371960" cy="914400"/>
          </a:xfrm>
        </p:grpSpPr>
        <p:sp>
          <p:nvSpPr>
            <p:cNvPr id="241" name=""/>
            <p:cNvSpPr/>
            <p:nvPr/>
          </p:nvSpPr>
          <p:spPr>
            <a:xfrm flipH="1">
              <a:off x="1980720" y="1828800"/>
              <a:ext cx="304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81080" y="1828800"/>
              <a:ext cx="30492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86000" y="2362320"/>
              <a:ext cx="457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743200" y="2209680"/>
              <a:ext cx="0" cy="152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3200" y="2209680"/>
              <a:ext cx="2286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971800" y="1752480"/>
              <a:ext cx="380880" cy="457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2971800" y="1447920"/>
              <a:ext cx="380880" cy="3045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971800" y="1371600"/>
            <a:ext cx="685800" cy="1066680"/>
            <a:chOff x="2971800" y="13716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2971800" y="1371600"/>
              <a:ext cx="457200" cy="3808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9000" y="1752480"/>
              <a:ext cx="0" cy="152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29000" y="1905120"/>
              <a:ext cx="228600" cy="75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57600" y="1981080"/>
              <a:ext cx="0" cy="457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943600" y="1523880"/>
            <a:ext cx="838080" cy="228600"/>
            <a:chOff x="5943600" y="1523880"/>
            <a:chExt cx="838080" cy="228600"/>
          </a:xfrm>
        </p:grpSpPr>
        <p:sp>
          <p:nvSpPr>
            <p:cNvPr id="254" name=""/>
            <p:cNvSpPr/>
            <p:nvPr/>
          </p:nvSpPr>
          <p:spPr>
            <a:xfrm>
              <a:off x="5943600" y="1523880"/>
              <a:ext cx="0" cy="152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3600" y="1676520"/>
              <a:ext cx="6094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3080" y="1676520"/>
              <a:ext cx="228600" cy="75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8120" y="302760"/>
            <a:ext cx="56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s Needed for 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1676520"/>
            <a:ext cx="786456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ation re-dispatch will not be able to relieve post-contingency loading during peak load by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curs with single and multiple line ou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ons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NMP considered eigh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RCOT studied the two least expensive of TNMP’s eight options in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mmended Project is the least expensive option considering the long term (2015) needs of the a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873680" y="27792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343160"/>
            <a:ext cx="77882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43496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akeholder review period for this project was held in Augus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were no dissenting comments on this package of projects and TNMP resolved all 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496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989440" y="277920"/>
            <a:ext cx="57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Support for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263736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RCOT supports the need for this project, as described, and will be requesting that it be endorsed by the Boar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4:40:33Z</dcterms:created>
  <dc:creator>James J. Teixeira</dc:creator>
  <dc:description/>
  <dc:language>en-US</dc:language>
  <cp:lastModifiedBy>TPTF 010307</cp:lastModifiedBy>
  <dcterms:modified xsi:type="dcterms:W3CDTF">2007-01-04T21:41:56Z</dcterms:modified>
  <cp:revision>55</cp:revision>
  <dc:subject/>
  <dc:title>ERCOT Independent Review AEPTCC Western Region Project June 7, 2006 </dc:title>
</cp:coreProperties>
</file>