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BCBC-71FF-42E6-9AEB-2471553FC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2B42-14B2-4A5C-B5A4-6CE1F0B2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C0D6-6539-4939-B7DB-8BC4B99E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F8C-F073-4352-B127-7568A6B8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8A4-B1A3-4028-A8B3-FAFBA321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848E-ADEB-4DBD-823E-CFABB904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D1F-12D5-455A-8AD5-6523D604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9D94-E20D-4C38-BF14-56992B63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08D-CF62-4D81-A40D-6A3E45C3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ED6-265A-4978-AD1E-97BBE75C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3E8-FDBA-407A-B0AA-91780B82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D25-9C2C-474F-B7FA-5D6D1660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FFD-A188-4689-93FE-3D5C73D8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3B93-BEE7-4B04-A25A-4FD41CEDF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January 4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2519-4C01-40A3-84F4-A984230A23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Working Groups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295280"/>
            <a:ext cx="8763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523800" indent="-523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ommercial Communication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held a joint meeting with Texas Data Transport to discuss Unplanned Outage Communication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Nodal Review TF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continues to review Nodal Settlement NPRRs and work through operational issues as ERCOT and MPs dive into the settlement details   COPS has determined there will be a continuing need for this taskforce as the Nodal Market develops and will be documenting a Settlements and Data Aggregation Working Group at the Jan 11, 2007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rofile Working Group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is completing the documentation for adding the TAC approved Oil and Gas Profile to the Load Profiling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ctr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FCF6-FF7B-48C0-B22A-014537EFBB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Working Groups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295280"/>
            <a:ext cx="8763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UFE TF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has been disbanded after having completed their scope – Congra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Data Extracts Working Group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ll not be meeting for the next few months  DEWG will need to re-engage when Nodal reports and extracts are ready to be defined and documented – or if RMS has new requests for reports or ex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PS has added a review of the recent Settlement issues and outages to the Jan 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09D-5303-42E4-BC61-04D820E600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Registered User</cp:lastModifiedBy>
  <dcterms:modified xsi:type="dcterms:W3CDTF">2007-01-04T04:31:55Z</dcterms:modified>
  <cp:revision>192</cp:revision>
  <dc:subject/>
  <dc:title>Point-to-Point</dc:title>
</cp:coreProperties>
</file>