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3C8-D6D4-4758-ADAE-652B457F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7A5-5C5D-4DA4-949F-C0683412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D68-09EC-42C1-A13E-F6AB21A1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DE1-5B48-465A-A1D4-B136FDD2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70D1-0662-414F-A528-682E56FB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0D2F-3DC3-4CFB-8027-0743EAF8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4723-E459-4638-960A-DF5CE79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292F-7110-4282-822B-0AC1E9A6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1E6B-C7B2-4C4E-91EF-0A7E48D7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E66-7AE2-48C3-A29B-C8C84F32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C124-BA27-401B-BC42-D6DBD3C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6CE-EE67-41CF-B138-E33E68D3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5735-D119-48F8-9E86-6998B64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7FC1-F857-4FFE-B88D-5ADAA0C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4C52-4F1F-480F-84BB-14C0B11A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D4C8-A8C9-45BE-B271-382841FE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7A7C-24AF-4F68-996E-B8AFCB3A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E3E-87E7-4570-8415-1E721E8C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7C6-F6C9-42BC-BBF3-8DA93CDC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7CC-4553-4546-AF53-7B4826E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E57-8184-4625-A3FD-3E2A3610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BF7-AEA8-47BE-9364-7673256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F10-F7E7-4DAD-AF47-1435C76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A31-A81D-4644-9153-A143333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80DA-5B96-421F-AC2B-BA4CF84F62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E66F-8D21-4AFC-8BE6-83927BD558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anuary 4,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s- Task Force 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erms and Conditions Task Force and Mass Transition Task Force are now inactive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Approved at RMS unanimousl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S Updates- PRR672 Collaborative Effor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S approved recommendation to PRS for re-ranking project for 2007 PPL with a priority 2 and rank of 8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commendation approved with one absten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MS will review draft PRR to address Level 4 transactions at Feb. mee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MS Updates- Texas Test Plan Tea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xas Test Plan Team provide updates to the Texas Market Test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ded DUNS+4 Referen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ded clarifying languag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ded references to Random Test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Approved at RMS unanimousl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MS POLR Workshop Materials are located under the Dec. 6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eeting docu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Transitions from Exiting POL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Billing Information pre and post TX SET 3.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rrent Mass Transition pre and post TX SET 3.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ear-To-Date Net Service Avail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676520"/>
          <a:ext cx="6315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315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et Service Availabi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1752480"/>
          <a:ext cx="649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49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tail Transaction Processing Availability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11560" y="1827360"/>
          <a:ext cx="543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1560" y="1827360"/>
                    <a:ext cx="543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7-01-03T21:24:00Z</dcterms:modified>
  <cp:revision>88</cp:revision>
  <dc:subject/>
  <dc:title>RMS Update to TAC</dc:title>
</cp:coreProperties>
</file>