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502E-CE60-4EF4-BCFF-78E51666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B05-1AF2-419D-A706-2750596E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85D-B6A1-420B-89CC-595D195B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E62-9D84-4D0E-9D92-E69D2A60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B7DE-D4CB-418B-9A66-0AA0A185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A29A-CD4B-4AF4-85EB-59E811BD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A08B-FE89-41DD-A1F1-41437C4B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E0F8-E347-4CB8-A11A-C89D5E01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F4F4-81A9-4D52-998F-910B9C13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C2AF-38A9-45AC-BB02-931850AC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3470-EB21-48E9-BBA9-D7C1EB9A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B2C-2977-4938-B04C-81667FBF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0AC6-B643-40AB-8BE7-B5488072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E947-4E27-4713-840E-3B6E8F94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416A-7CA9-4C44-BA36-A6CAF734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40EF-736C-40B8-A1C3-98A2FABD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2324-F813-4E41-BF2A-DF4FC915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34B-B1DA-4DB6-96BA-174FE236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FBF-DD54-4C36-B3EC-4F832181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1EA-92D3-4DC6-85B6-F1AD528B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89B-77B8-4669-8B74-B166F8BC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885-2B96-42C9-B37D-16CB08F8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CE3-706E-4B62-9AA7-F18372B9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BCF-23F9-45BA-B581-066543FA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F70C-74E8-497E-B94F-93D0CA5189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5D66-FE0B-42CD-825B-B5F79760D1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nuary 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7354-EB1F-424A-B826-2133431790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RC ERO Develop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d Delegation Agreement, Exhibits, and Related Documents for the Texas Regional Entity were submitted to NERC on November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Compliance Staff participating with NERC on two ERCOT Local Control Center Reliability Readiness Audits – CenterPoint (October) &amp; TXU Electric Delivery (Decemb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nts under investig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tober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ryan-College Station Loss of Load Event – Potential ERCOT Protocol &amp; Operating Guides violations and/or NERC Reliability Standards violations identified for January 2007 ERCOT Board Meeting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752-15BC-445A-A227-809D6BCCA1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vember performance indicated a fifth straight month of declining scores since scores peaked in Ju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ne – 154.6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ly – 153.1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gust – 151.3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tember – 142.5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tob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37.3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vember – 132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cores for November indicate 32 QSEs passed / 1 non-wind-only QSE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E45-3BC2-482F-A823-9F567D1F49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RCOT CPS1 Performance Comparis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BE4-4A02-4370-88CA-4F26A07E4D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’s CPS1 Monthly Tre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8DF-F4AE-4330-9DB8-034B773F11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098-A9B2-42DD-8743-EEF5A3A114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807696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B9B9-70B1-48A6-B058-A7478C310C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E Performance Monitor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E Performance Monitoring scores for all QSEs are published on the Compliance Webs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D786-53FE-4895-846F-6311A6A224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53E-A785-4A91-B968-AE3BCB80B6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 Plan Performance Metr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vember 2006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8001000" cy="39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C98-AE46-4476-B249-74244DD976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L. Grimm</cp:lastModifiedBy>
  <dcterms:modified xsi:type="dcterms:W3CDTF">2006-12-15T16:19:01Z</dcterms:modified>
  <cp:revision>246</cp:revision>
  <dc:subject/>
  <dc:title>PRR 525 Compliance Analysis</dc:title>
</cp:coreProperties>
</file>