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F69-0196-4617-8ADC-715107E6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B18-5D79-4090-B258-D4FF66A1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457-946C-4CD6-82C5-B747D99D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5FFC021-AA4E-4E70-874F-343312C7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 Energy &amp; Market Management System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EMS/MMS Projects 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Revision Request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 Discussion for PRS</a:t>
            </a: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December 14, 2006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l Hirsch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MS/MMS Project Manage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9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48800" y="793800"/>
            <a:ext cx="58532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1 &amp; Phase 2 Accelerated SCED Miles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75560" y="5002200"/>
            <a:ext cx="1301760" cy="493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709560"/>
            <a:ext cx="8839080" cy="5538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0200" y="455760"/>
            <a:ext cx="1768320" cy="6145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02000" y="1063800"/>
            <a:ext cx="730440" cy="387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06720" y="739800"/>
            <a:ext cx="3110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Miles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80080" y="4359240"/>
            <a:ext cx="73008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10360" y="542304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5640" y="4681440"/>
            <a:ext cx="18086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D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63960" y="5702400"/>
            <a:ext cx="17186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90440" y="465120"/>
            <a:ext cx="6477120" cy="5748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6920" y="971640"/>
            <a:ext cx="47908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Accelerated SCED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72480" y="447840"/>
            <a:ext cx="87912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61080" y="1293840"/>
            <a:ext cx="466560" cy="38736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47520" y="1174680"/>
            <a:ext cx="35719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MMS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3920" y="517680"/>
            <a:ext cx="73008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37360" y="1943280"/>
            <a:ext cx="466560" cy="3870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681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10880" y="5467320"/>
            <a:ext cx="52970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Original Integrated MMS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560" y="53352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07160" y="584820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21160" y="1469880"/>
            <a:ext cx="466920" cy="38736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843120"/>
            <a:ext cx="193680" cy="2016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97480" y="828720"/>
            <a:ext cx="193680" cy="20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mpact of Changes – Key Poi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4840"/>
            <a:ext cx="8547120" cy="531324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– Off-The-Shelf System Customized for Nodal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Integrated MMS Delivery Split for Early Real Time Delivery Resulted in Increased Development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Schedule Already Compressed to Recover 6 Week Delay of Vendor Selection &amp; 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lready in Progress; Testing Phase Begins So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June 2007 – Deliverable is on Critical Path for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in Other Projects. Successor Schedules Not Purported to Be Able To Absorb Slippa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Impact of Revision Requests are Chained Across Split MMS delivery; Case in point: 018NP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Conclus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smoorty</dc:creator>
  <dc:description/>
  <dc:language>en-US</dc:language>
  <cp:lastModifiedBy>Nieves Lopez</cp:lastModifiedBy>
  <dcterms:modified xsi:type="dcterms:W3CDTF">2006-12-27T15:03:59Z</dcterms:modified>
  <cp:revision>437</cp:revision>
  <dc:subject/>
  <dc:title>MMS Requirements Presentation to TPTF 11/07/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80566</vt:r8>
  </property>
  <property fmtid="{D5CDD505-2E9C-101B-9397-08002B2CF9AE}" pid="3" name="_AuthorEmail">
    <vt:lpwstr>ahirsch2@earthlink.net</vt:lpwstr>
  </property>
  <property fmtid="{D5CDD505-2E9C-101B-9397-08002B2CF9AE}" pid="4" name="_AuthorEmailDisplayName">
    <vt:lpwstr>Al Hirsch</vt:lpwstr>
  </property>
  <property fmtid="{D5CDD505-2E9C-101B-9397-08002B2CF9AE}" pid="5" name="_EmailSubject">
    <vt:lpwstr>PRS/TPTF Issue- MMS Project and NPRR018</vt:lpwstr>
  </property>
  <property fmtid="{D5CDD505-2E9C-101B-9397-08002B2CF9AE}" pid="6" name="_NewReviewCycle">
    <vt:lpwstr/>
  </property>
  <property fmtid="{D5CDD505-2E9C-101B-9397-08002B2CF9AE}" pid="7" name="_PreviousAdHocReviewCycleID">
    <vt:r8>1693399966</vt:r8>
  </property>
  <property fmtid="{D5CDD505-2E9C-101B-9397-08002B2CF9AE}" pid="8" name="_ReviewingToolsShownOnce">
    <vt:lpwstr/>
  </property>
</Properties>
</file>