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DF5DFDD-E72F-4416-A06E-3827A6BA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etwork Modeling and Telemetry</a:t>
            </a:r>
            <a:br>
              <a:rPr sz="3200"/>
            </a:b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TAC Meeting</a:t>
            </a:r>
            <a:br>
              <a:rPr sz="20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By Raj Chudgar, ERCOT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Thursday, 01/04/2007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Model Data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ations and 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731880"/>
            <a:ext cx="804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Data Issues Progress by MP – as of 12/22/200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5480" y="5791320"/>
            <a:ext cx="440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1: Blank indicates MPs that ERCOT has not contacted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2: NMT inherited ~400 legacy mode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8439" t="12500" r="59689" b="38281"/>
          <a:stretch/>
        </p:blipFill>
        <p:spPr>
          <a:xfrm>
            <a:off x="685800" y="106668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Analysis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Jointly with ERCOT Operations SE staff to identify areas to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up Tuning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near real-time feeds from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weights were re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a software change to add plausibility checks on negative load teleme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plausibility checks for unit capability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Analysis - Tuning Environmen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bus mismatch (Mw/Mvar) after SE convergence were reduced  to about 5Mw and 5M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difference in Mw/Mvar flows between SE and Power Flow (RTCA base case) were reduced to about 5Mw and 5M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formance index was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compare Tuning Environment results to Production thru Januar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results to the Operation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mplementation plan with the Operations group and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Model clean-up under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to complete by 3/31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ffort to reduce critical measurements and improve observability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to have all justifications and schedules for new implementations by 3/31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schedule will be published end of 1Q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Weights tuning recommendations to be implemented into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continue to provide progress reports to TPTF, TAC, and ROS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jmoseley</dc:creator>
  <dc:description/>
  <dc:language>en-US</dc:language>
  <cp:lastModifiedBy>balbracht</cp:lastModifiedBy>
  <dcterms:modified xsi:type="dcterms:W3CDTF">2007-01-04T18:50:54Z</dcterms:modified>
  <cp:revision>46</cp:revision>
  <dc:subject/>
  <dc:title>Texas Nodal NMMS Vision and Design CenterPoint Meeting  By John Moseley, ERCOT Thursday, 09/21/2006</dc:title>
</cp:coreProperties>
</file>