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3EB4920-7BFE-43F1-92EC-C305FBC9E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amp; DS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Adequacy and EI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Lazono lead a discussion of PRR701 Enabling of Stranded Capacity During Ale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on Protocol  interpretation from the I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LP and CCTF are gone and we created Nodal Non-spin Deployment T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5840" y="698400"/>
            <a:ext cx="4656240" cy="3492720"/>
          </a:xfrm>
          <a:prstGeom prst="rect">
            <a:avLst/>
          </a:prstGeom>
          <a:ln w="0">
            <a:noFill/>
          </a:ln>
        </p:spPr>
      </p:sp>
      <p:sp>
        <p:nvSpPr>
          <p:cNvPr id="12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bel gave what has become a regular bi-monthly report on congestion.  This is in keeping with the WMS goal of monitoring and reviewing the effectiveness of market operation tools.  The report covered the first 3 quarters of 2006 and costs are running below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5840" y="698400"/>
            <a:ext cx="4656240" cy="3492720"/>
          </a:xfrm>
          <a:prstGeom prst="rect">
            <a:avLst/>
          </a:prstGeom>
          <a:ln w="0">
            <a:noFill/>
          </a:ln>
        </p:spPr>
      </p:sp>
      <p:sp>
        <p:nvSpPr>
          <p:cNvPr id="12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Ann gave an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3285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2006 ERCOT identified 3 problems related to LaaR modeling which impacted the RPRS process and caused incorrect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effort not to delay the implementation of RPRS, ERCOT elected to temporarily disable LaaR participation in RPRS until problems were s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elieves modeling LaaR as negative generation will correct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ch (modified code) is expected to be migrated into the test environment in early Dec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uccessful testing ERCOT plans to migrate patch into production during the January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 should be able to participate in March 2007 when Replacement Reserve service procurement is reins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5840" y="698400"/>
            <a:ext cx="4656240" cy="3492720"/>
          </a:xfrm>
          <a:prstGeom prst="rect">
            <a:avLst/>
          </a:prstGeom>
          <a:ln w="0">
            <a:noFill/>
          </a:ln>
        </p:spPr>
      </p:sp>
      <p:sp>
        <p:nvSpPr>
          <p:cNvPr id="13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recognized that there was some confusion in the market regarding how capacity brought on by ERCOT was made available.  Was it scheduled at minimum and the balance offered  in as UBS or could it be scheduling anywhere and the balance offered as UBS and DB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not a determination just some illumination and a reminder that there is a process for getting a formal Protocol interpret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63B6F-3206-4F4B-835A-721F4753A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967C0-6AB5-41F1-8F89-F8681B195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FD95F-7025-4727-AB79-4B0F4E237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E74DF-C289-4062-9CE4-E6FB5505C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B4967-847D-4323-A9CF-86372C682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EF67D-8187-446E-968E-4E7A4BC24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4E3B1-C8C3-4F48-A2CF-85ED22A4B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25883-17FC-4D8A-AB5E-8B539F02E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E0FB5-B237-4CFC-83C7-F70EE7985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2C81C-AE14-419B-8B98-0200194BC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C4C82-3DC0-4135-A432-8BD3ADAEB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19384-F713-420E-BAC3-F000C718E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46865-D3F7-4816-92CC-841CFCAE0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9370D-86A7-404C-A3A8-BDAEFB2CF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A3C6-DE74-438C-85F7-DEE3DA73D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B0B69-E3DB-437D-9CEB-15B83F7B7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A4C9E-748E-4BF8-9D02-9963036C5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DA857-1B3E-44EE-86E5-1BB97866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0D692-1C1D-4E61-801F-FD0E08112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6965B-B0A5-4C47-83DD-ECB44A1E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7692-1B8C-4A52-A3EF-719CF0C7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EA35-B287-408E-AF23-C4706DE6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C1F1-4C26-457A-9455-402F1556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CF4C-EF86-4720-AD67-CD8D97061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424B-2965-422D-AD95-050573145F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D63F-9BA9-4AF4-836F-1A160E0060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uary 2007</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BDF6DBC9-4ED3-4A22-B8E1-006D8403B4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Discussion and Action</a:t>
            </a:r>
            <a:endParaRPr b="0" lang="en-US" sz="4400" spc="-1" strike="noStrike">
              <a:solidFill>
                <a:srgbClr val="e5ffff"/>
              </a:solidFill>
              <a:latin typeface="Tahoma"/>
            </a:endParaRPr>
          </a:p>
        </p:txBody>
      </p:sp>
      <p:sp>
        <p:nvSpPr>
          <p:cNvPr id="10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ion to focus on energy-only design</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on carried – 75.6% in favor</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ion to file Option D</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on carried – 86.3% in favor</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directed EILTF to file PRR 703, but did not endorse PRR 703.</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BE0510E-396F-4414-BAB8-8A0ADC3E7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R 703</a:t>
            </a:r>
            <a:endParaRPr b="0" lang="en-US" sz="4400" spc="-1" strike="noStrike">
              <a:solidFill>
                <a:srgbClr val="e5ffff"/>
              </a:solidFill>
              <a:latin typeface="Tahoma"/>
            </a:endParaRPr>
          </a:p>
        </p:txBody>
      </p:sp>
      <p:sp>
        <p:nvSpPr>
          <p:cNvPr id="110"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2000"/>
          </a:bodyPr>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LS created as new EECP Step 3</a:t>
            </a:r>
            <a:endParaRPr b="0" lang="en-US" sz="32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ads volunteer to interrupt during emergency conditions for an offer price</a:t>
            </a:r>
            <a:endParaRPr b="0" lang="en-US" sz="28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LS deployed after LaaRs but before firm load shedding</a:t>
            </a:r>
            <a:endParaRPr b="0" lang="en-US" sz="28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t EILS offer cleared sets MCPE for both loads and resources</a:t>
            </a:r>
            <a:endParaRPr b="0" lang="en-US" sz="28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LS offers subject to system HCAP</a:t>
            </a:r>
            <a:endParaRPr b="0" lang="en-US" sz="2800" spc="-1" strike="noStrike">
              <a:solidFill>
                <a:srgbClr val="ffffff"/>
              </a:solidFill>
              <a:latin typeface="Tahoma"/>
            </a:endParaRPr>
          </a:p>
          <a:p>
            <a:pPr lvl="1" marL="683280" indent="-2628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LS dispatched via hotline call to QSE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355D347-F6EC-4FC7-A733-AC678E2B69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R 703</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lification / Performance</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able to communicate one-minute usage data to ERCO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able to reduce load within 10 minutes to 95% of the offered amount struck by ERCO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have IDR meter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rs in 1MW increments only</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4A23F0D-3776-4308-9786-395D0E41B0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R 703</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lification / Performance</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able to communicate one-minute usage data to ERCO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able to reduce load within 10 minutes to 95% of the offered amount struck by ERCO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have IDR meter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rs in 1MW increments only</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015AD77-3B89-4344-A152-D1BA829C2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R 703</a:t>
            </a: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lementation</a:t>
            </a:r>
            <a:endParaRPr b="0" lang="en-US" sz="3200" spc="-1" strike="noStrike">
              <a:solidFill>
                <a:srgbClr val="ffffff"/>
              </a:solidFill>
              <a:latin typeface="Tahoma"/>
            </a:endParaRPr>
          </a:p>
          <a:p>
            <a:pPr lvl="1" marL="720720" indent="-2772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LTF envisions largely manual implementation process to accommodate ERCOT’s requested April 1 effective date</a:t>
            </a:r>
            <a:endParaRPr b="0" lang="en-US" sz="2800" spc="-1" strike="noStrike">
              <a:solidFill>
                <a:srgbClr val="ffffff"/>
              </a:solidFill>
              <a:latin typeface="Tahoma"/>
            </a:endParaRPr>
          </a:p>
          <a:p>
            <a:pPr lvl="1" marL="720720" indent="-2772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LS stack can be composed on spreadsheet</a:t>
            </a:r>
            <a:endParaRPr b="0" lang="en-US" sz="2800" spc="-1" strike="noStrike">
              <a:solidFill>
                <a:srgbClr val="ffffff"/>
              </a:solidFill>
              <a:latin typeface="Tahoma"/>
            </a:endParaRPr>
          </a:p>
          <a:p>
            <a:pPr lvl="1" marL="720720" indent="-2772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CPE can be manually set following EILS deployment</a:t>
            </a:r>
            <a:endParaRPr b="0" lang="en-US" sz="2800" spc="-1" strike="noStrike">
              <a:solidFill>
                <a:srgbClr val="ffffff"/>
              </a:solidFill>
              <a:latin typeface="Tahoma"/>
            </a:endParaRPr>
          </a:p>
          <a:p>
            <a:pPr lvl="1" marL="720720" indent="-2772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LS deployment is by phone call</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D95ECB4-6160-494F-BB93-FE4AB4D58E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PRRs</a:t>
            </a:r>
            <a:endParaRPr b="0" lang="en-US" sz="4400" spc="-1" strike="noStrike">
              <a:solidFill>
                <a:srgbClr val="e5ffff"/>
              </a:solidFill>
              <a:latin typeface="Tahoma"/>
            </a:endParaRPr>
          </a:p>
        </p:txBody>
      </p:sp>
      <p:sp>
        <p:nvSpPr>
          <p:cNvPr id="1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702 filed by supporters of capacity-model design developed in EILTF but rejected by WM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PRR to be filed soon</a:t>
            </a:r>
            <a:endParaRPr b="0" lang="en-US" sz="32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expressed concern whether stakeholders will approve either EILS option</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expressed concern whether either EILS option can be implemented by April 1.</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6683080-268E-4AF2-8816-93F88363E3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EILS PRR</a:t>
            </a: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LS procured by ERCOT in 4-month increments (2-month initial perio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capacity pay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id as bid, no clearing pric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ose cap of $X/yr for total EILS co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load flexibility to schedule unavailability</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DF5C51D-FD33-4297-887C-65052EBD68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an. 18 PRS Preview</a:t>
            </a:r>
            <a:endParaRPr b="0" lang="en-US" sz="4400" spc="-1" strike="noStrike">
              <a:solidFill>
                <a:srgbClr val="e5ffff"/>
              </a:solidFill>
              <a:latin typeface="Tahoma"/>
            </a:endParaRPr>
          </a:p>
        </p:txBody>
      </p:sp>
      <p:sp>
        <p:nvSpPr>
          <p:cNvPr id="1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701</a:t>
            </a:r>
            <a:endParaRPr b="0" lang="en-US" sz="3200" spc="-1" strike="noStrike">
              <a:solidFill>
                <a:srgbClr val="ffffff"/>
              </a:solidFill>
              <a:latin typeface="Tahoma"/>
            </a:endParaRPr>
          </a:p>
          <a:p>
            <a:pPr lvl="1" marL="690840" indent="-2656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ernative/supplement to EILS?</a:t>
            </a:r>
            <a:endParaRPr b="0" lang="en-US" sz="28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702</a:t>
            </a:r>
            <a:endParaRPr b="0" lang="en-US" sz="3200" spc="-1" strike="noStrike">
              <a:solidFill>
                <a:srgbClr val="ffffff"/>
              </a:solidFill>
              <a:latin typeface="Tahoma"/>
            </a:endParaRPr>
          </a:p>
          <a:p>
            <a:pPr lvl="1" marL="690840" indent="-2656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y model</a:t>
            </a:r>
            <a:endParaRPr b="0" lang="en-US" sz="28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703</a:t>
            </a:r>
            <a:endParaRPr b="0" lang="en-US" sz="3200" spc="-1" strike="noStrike">
              <a:solidFill>
                <a:srgbClr val="ffffff"/>
              </a:solidFill>
              <a:latin typeface="Tahoma"/>
            </a:endParaRPr>
          </a:p>
          <a:p>
            <a:pPr lvl="1" marL="690840" indent="-2656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endorsed energy only model</a:t>
            </a:r>
            <a:endParaRPr b="0" lang="en-US" sz="28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PRR</a:t>
            </a:r>
            <a:endParaRPr b="0" lang="en-US" sz="3200" spc="-1" strike="noStrike">
              <a:solidFill>
                <a:srgbClr val="ffffff"/>
              </a:solidFill>
              <a:latin typeface="Tahoma"/>
            </a:endParaRPr>
          </a:p>
          <a:p>
            <a:pPr lvl="1" marL="690840" indent="-2656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lateral contract capacity payment model</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D8EDA13-82AE-4B99-AA98-A4666876260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PRR proposal (PRR701)</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ocol Discussion by the IM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tired two Task Forces and created on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ed Emergency Interruptible loa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B1A9B54-F870-495E-AD86-2A75C1E05E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Quarter report on conges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of CSC flow control by opera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date on Competitive Constraint determination due in January</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34D7BD1-B68A-4D0E-A678-307A4F44E0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ess report on goa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us of the PUC work on Demand Sid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sues of LaaR participation in RR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F3C84C4-E66F-433B-9BD8-CC59AAC17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R 701</a:t>
            </a:r>
            <a:br>
              <a:rPr sz="4000"/>
            </a:br>
            <a:r>
              <a:rPr b="1" lang="en-US" sz="4000" spc="-1" strike="noStrike">
                <a:solidFill>
                  <a:srgbClr val="e5ffff"/>
                </a:solidFill>
                <a:latin typeface="Tahoma"/>
              </a:rPr>
              <a:t>Enabling of Stranded Capacity During Alerts</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ept surfaced during EILP discuss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responsive to TAC &amp; PUC reque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S supported it on its own mer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ents filed in sup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PRS process 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8D15172-9762-4E26-B137-4579BA940B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 lead discussion on potential market confussion regarding sections 6.4.2(5) RPRS and 6.5.10(10) OOMC</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DE84848-57E9-4232-959E-DF870A51E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sk Force Report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Interruptible Load Task Force (EILTF)</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F730238-94DC-454A-BDCB-EEA20D69B5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ILTF Background</a:t>
            </a:r>
            <a:endParaRPr b="0" lang="en-US" sz="4400" spc="-1" strike="noStrike">
              <a:solidFill>
                <a:srgbClr val="e5ffff"/>
              </a:solidFill>
              <a:latin typeface="Tahoma"/>
            </a:endParaRPr>
          </a:p>
        </p:txBody>
      </p:sp>
      <p:sp>
        <p:nvSpPr>
          <p:cNvPr id="104"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fontScale="88000"/>
          </a:bodyPr>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 15 – ERCOT proposes Emergency Interruptible Load program</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 6 – TAC charges WMS to develop EIL PRR</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 18 – WMS creates EILTF to develop EIL product as a new Ancillary Service</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 31-Nov. 27 – EILTF or its subgroups (app. 40 participants) meet 10 times to develop draft PRRs creating EIL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4ED1AB0-809C-4EAD-8448-82C9169991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Discussion and Action</a:t>
            </a:r>
            <a:endParaRPr b="0" lang="en-US" sz="4400" spc="-1" strike="noStrike">
              <a:solidFill>
                <a:srgbClr val="e5ffff"/>
              </a:solidFill>
              <a:latin typeface="Tahoma"/>
            </a:endParaRPr>
          </a:p>
        </p:txBody>
      </p:sp>
      <p:sp>
        <p:nvSpPr>
          <p:cNvPr id="10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ILTF presented 4 draft PRR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s A and B – capacity model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s C and D – energy model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issues discussed</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off between low cost and effective participat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off between high participation and ease of administrat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 for EILS vs. other approache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C72B534-B6EE-479C-87D4-B7C04997ED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albracht</cp:lastModifiedBy>
  <dcterms:modified xsi:type="dcterms:W3CDTF">2007-01-04T18:50:16Z</dcterms:modified>
  <cp:revision>81</cp:revision>
  <dc:subject/>
  <dc:title>WMS Report TO TAC</dc:title>
</cp:coreProperties>
</file>