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ECC6-1BB5-43F1-86EF-03B33F6DC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BD7B-9A21-4E98-BB38-E658E60C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433C-975C-4F0F-897E-1EBC99FDC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416D-65E6-4483-8D13-88F77C21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15E4-CA70-4FCA-A014-2F306C2FC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234B-178C-4137-8234-4F86E70F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1401-ABD6-4B4C-AA09-C20A9AA0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5450-D493-4761-8628-09E3E888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3AC1-8A42-4773-8B2C-24788262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88A5-11CF-41E0-A2B3-301BC342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86FA-CACD-4342-B127-CF952DC6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1CAB-7BBC-4BC7-B0DA-9C595575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D1EF-05C8-4710-92E2-BE660CA3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E7C7-B479-4CA9-AFA6-D2217036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8C5A-8520-4EA8-BB62-423DB3C8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2D03-A6F2-47AF-A764-5D1E0999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9F7D-8F2F-4EC5-B784-42BEFB06F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BE87-44F6-4C7F-85B1-4D8AF01F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FC2C-8E77-46F0-BC85-A3A07B17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1243-EE97-47C3-83B8-9AE7CD96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09D5-3E50-4A87-9367-B8777498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CA7C-D17C-4ADF-A162-93C51E27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E65A-A390-4433-97B5-0D937881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CD48-5410-4ABF-8A13-EC779578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DD71-BF5D-45CF-A0D7-793787117C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F4BA-A807-43AD-988F-C80513CE9F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Protocol Revision Subcommittee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Presentation to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ERCOT Technical Advisory Committ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January 4, 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R 695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Unaccounted for Energy (UFE) Analysi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371600"/>
          <a:ext cx="8229600" cy="417024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Direct Energy for UFE TF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letes outdated sections concerning UFE analysis and provides a more meaningful approach to UFE analysis report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pdates UFE analysis timelines and langu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unanimously recommended approval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ch 1, 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PRR 695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 – Unaccounted for Energy (UFE) Analysi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220968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006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40240" y="2362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45080" y="2286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73600" y="22384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04600" y="548640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40600" y="29192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42040" y="3452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81920" y="397512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86960" y="45194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86960" y="50529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88000" y="2238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55627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Recommended TAC A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Approv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PRR 691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–  Nodal Implementation Surcharge Verifiable Co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PRR 694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–  Modification of Certain Board Approv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PRR 695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– Unaccounted for Energy (UFE) Analy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PRS 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2560" y="2330280"/>
            <a:ext cx="7927920" cy="37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 Project Re-priorit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 NPRRs for Appro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 PRRs for Appro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 Non-System Changes – IA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Project Re-Prioritiz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2560" y="2330280"/>
            <a:ext cx="7927920" cy="37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RR 672 – Retail Market Timing Necessary for PUCT Project 2963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project was set in three ph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MS recommended that Phase 3 be assigned Priority 2/Rank 8.5 in the RO Ca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S agreed unanimous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Nodal PR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S unanimously recommended approval of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NPRR038 – Synchronization of PRR 62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PRR can be absorbed in current schedule/budg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Nodal PR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S recommended approval of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NPRR018 – Separate LaaR and Generator MCPCs for R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S recommended approval with 1 opposing vote and 3 absten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odal team will perform a value engineering analysis of the NPR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NPRR034 – Conforming Section 10 to Nodal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PRR can be absorbed in current schedule/budg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S recommended approval with one opposing vo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91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Nodal Implementation Surcharge Verifiable Cost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828800"/>
          <a:ext cx="8229600" cy="458784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NRG - IGEN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ds the nodal implementation surcharge as a verifiable cost for resources called on for reliability purpos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lows a resource owner an opportunity to recover the surcharge if it submits verifiable cost information covering OOMC, OOME, LCRR and RMR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y impact QSEs paying for the services list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unanimously recommended approval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ch 1, 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91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Nodal Implementation Surcharge Verifiable Cost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220968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0240" y="2362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45080" y="2286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73600" y="22384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04600" y="548640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40600" y="29192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42040" y="3452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1920" y="397512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86960" y="45194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6960" y="50529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8000" y="2238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5562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13920" y="4419720"/>
            <a:ext cx="218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mpact absorbed with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urrent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R 694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Modification of Certain Board Approval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981080"/>
          <a:ext cx="8229600" cy="423396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4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NRG for TAC Subgroup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poses revisions per TAC’s June 1, 2006 resolution regarding modification of certain Board approval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hances the Board approval process and conforms to the Board’s direction regarding approv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unanimously recommended approval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ch 1, 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R 694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Modification of Certain Board Approval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220968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40240" y="2362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45080" y="2286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73600" y="22384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04600" y="548640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40600" y="29192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42040" y="3452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1920" y="397512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6960" y="45194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86960" y="50529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8000" y="2238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562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00:20Z</dcterms:created>
  <dc:creator>Reliant</dc:creator>
  <dc:description/>
  <dc:language>en-US</dc:language>
  <cp:lastModifiedBy>ERCOT</cp:lastModifiedBy>
  <dcterms:modified xsi:type="dcterms:W3CDTF">2007-01-04T14:13:01Z</dcterms:modified>
  <cp:revision>89</cp:revision>
  <dc:subject/>
  <dc:title>Protocol Revision Subcommittee</dc:title>
</cp:coreProperties>
</file>