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24D-EEA9-4417-B10C-29177687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EC0-83D2-4826-932E-9747A84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825-E6AB-4C59-88C7-A9DE3FEC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6B3-10E9-4937-8F9A-4DE4A0AF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491-87DB-408E-A3C2-2577B24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9FC-B998-43C9-9B7A-B645D47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15B-CD3B-4963-9A19-49CC96D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8BF-F4E9-45D4-ABDB-CCD010D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14-A516-44C6-9213-BAEBF7C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34E-04D8-4F8E-9808-79500B5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91E-10EB-4005-BC52-B53AB3F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D1A-2F9F-4E85-B62C-6D2F42D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553-AD35-4EB2-83BB-E255BDFC3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/4/07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2/7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LS Task Force Brie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presentation only, materials not given to R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meeting.  Concerns will be discussed in Janu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Standards Development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conflicts between existing Operating Guides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NERC standards development.  Potential need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ROS Compliance Working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ployments of RRS needed, particularly on blo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ramps, although SCPS scores are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Fuel Survey Upd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not given to ROS before the meeting.  After brie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, ERCOT study appears to use the same logic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ed the same conclusions, as did the 2004 ROS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1/4/07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12/7/06 RO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 review of Nodal EMS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release of documents precluded major discussion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at this meeting.  Memb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review doc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ly.  This round of EMS documents appears to be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NSRS Deployment and Recall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TF assignment previously reported to TAC, referred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.  Unanimous ROS vote to accept changes.  Recomme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in TAC approval until TPTF reviews Nodal white pa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SWG Conc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bout ERCOT NMT Group requirement that TS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y under PE seal a point to point checkout of all data.  200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s, 160k status points, 8k points from ERCOT, in 13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requires 2,735 point to point check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7-01-03T21:38:02Z</dcterms:modified>
  <cp:revision>27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3639709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TAC tomorrow</vt:lpwstr>
  </property>
</Properties>
</file>