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7DA0-4AA5-4150-AE16-74B8483ED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80E-9ED8-44CF-ADB2-EE710DD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A120-C486-4329-8365-26014BC95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35FF-892E-490B-B5BB-500917E2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A9D9-D143-43CE-94F6-B14C1048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F9A5-C1A7-475D-BFDC-C1F7B2AD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BD8-C97A-4A32-B2C7-F5AC4FEA2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7FF-4A4B-44ED-AE96-D2751D43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1EF-646A-4368-98C3-EE7E2872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6BD-F543-4DCA-B976-05AA9A8C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275E-E62C-4A68-B260-31A5028F6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5F78-A0E2-4530-A7CF-F2027F0C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18FE-08F8-440A-AF6C-5025985E8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3048120"/>
            <a:ext cx="701028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NERC Standards Development Activities </a:t>
            </a:r>
            <a:endParaRPr b="0" lang="en-US" sz="4000" spc="1" strike="noStrike">
              <a:ln w="9360">
                <a:solidFill>
                  <a:srgbClr val="008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9625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nuary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990720" y="0"/>
          <a:ext cx="7315200" cy="6553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0"/>
                    <a:ext cx="73152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1066680" y="457200"/>
          <a:ext cx="7239240" cy="580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457200"/>
                    <a:ext cx="723924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762120" y="671400"/>
          <a:ext cx="7619760" cy="536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671400"/>
                    <a:ext cx="76197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1143000" y="838080"/>
          <a:ext cx="6629400" cy="4876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838080"/>
                    <a:ext cx="66294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838080" y="1066680"/>
          <a:ext cx="6908760" cy="2171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066680"/>
                    <a:ext cx="69087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 txBox="1"/>
          <p:nvPr/>
        </p:nvSpPr>
        <p:spPr>
          <a:xfrm>
            <a:off x="2743200" y="3809880"/>
            <a:ext cx="3581280" cy="3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Questions?</a:t>
            </a:r>
            <a:endParaRPr b="0" lang="en-US" sz="2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52920" y="3414600"/>
            <a:ext cx="38160" cy="28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2787480" y="304920"/>
            <a:ext cx="3660840" cy="59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880" y="457200"/>
            <a:ext cx="205740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xRE Regional Standards Development flow chart … From: Appendix D of the Delegation agre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>
            <a:lum bright="70000" contrast="-70000"/>
          </a:blip>
          <a:srcRect l="8174" t="3803" r="0" b="0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209680" y="152280"/>
            <a:ext cx="47307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28:57Z</dcterms:created>
  <dc:creator>farz</dc:creator>
  <dc:description/>
  <dc:language>en-US</dc:language>
  <cp:lastModifiedBy>ftafreshi</cp:lastModifiedBy>
  <dcterms:modified xsi:type="dcterms:W3CDTF">2007-01-10T16:25:31Z</dcterms:modified>
  <cp:revision>13</cp:revision>
  <dc:subject/>
  <dc:title>Slide 1</dc:title>
</cp:coreProperties>
</file>