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0.wmf" ContentType="image/x-wmf"/>
  <Override PartName="/ppt/media/image42.wmf" ContentType="image/x-wmf"/>
  <Override PartName="/ppt/media/image54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855F-7E69-4D43-B2CA-3924CC31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DAEC-08B9-43BC-B5B6-CED984CE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EEA7-8264-4475-A586-C7EC49E6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0D19-C20C-4D13-A88A-1D4870D7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9B1-BBB8-47FD-9F9E-F7392A4A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790B-1B39-47DF-8D0B-FC0F4287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ACE-42B4-4DED-B81D-F3ECE00F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46B7-1727-4A57-830E-5CEBE15D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91B-0FA7-44AA-B6D5-A71BC4B3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317-0561-4178-990E-5D77F93B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70A-BDFB-4101-A546-31C0C532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B03-E96E-4117-9113-C40B799E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497D-7FA3-4C50-8DC4-E43D22BE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mktinfo/reports/sce_qse/index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L. Niemeyer -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57913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11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23760" y="55440"/>
            <a:ext cx="91915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3480" y="46080"/>
            <a:ext cx="92109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-38160" y="41400"/>
            <a:ext cx="92203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7520" y="31680"/>
            <a:ext cx="92390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52560" y="27000"/>
            <a:ext cx="92491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-57240" y="22320"/>
            <a:ext cx="9258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0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8440" y="46080"/>
            <a:ext cx="92008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440" y="46080"/>
            <a:ext cx="92008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23760" y="27000"/>
            <a:ext cx="91915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DCWG Report to RO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nuary 11,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CWG has not met since last ROS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meeting Jan 23 &amp; 2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and Vice Chair nomin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:  Bob Green – Garland Power &amp;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 Chair: Stephen Knapp – Constellation Energy Commodities Group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47520" y="60480"/>
            <a:ext cx="92390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42840" y="41400"/>
            <a:ext cx="9229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52560" y="46080"/>
            <a:ext cx="92491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-61920" y="55440"/>
            <a:ext cx="926784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8160" y="36360"/>
            <a:ext cx="922032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28440" y="31680"/>
            <a:ext cx="92008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3760" y="46080"/>
            <a:ext cx="91915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3480" y="36360"/>
            <a:ext cx="921096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8160" y="31680"/>
            <a:ext cx="92203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52560" y="55440"/>
            <a:ext cx="924912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3760" y="3240"/>
            <a:ext cx="909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-47520" y="60480"/>
            <a:ext cx="92390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33480" y="46080"/>
            <a:ext cx="92109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38160" y="27000"/>
            <a:ext cx="922032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8160" y="74520"/>
            <a:ext cx="9220320" cy="67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680" y="41400"/>
            <a:ext cx="9134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4680" y="88920"/>
            <a:ext cx="915336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360" y="46080"/>
            <a:ext cx="912528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0" y="36360"/>
            <a:ext cx="913464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-9360" y="98280"/>
            <a:ext cx="916272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9360" y="46080"/>
            <a:ext cx="916272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0" y="3240"/>
            <a:ext cx="902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4400" y="31680"/>
            <a:ext cx="917280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19080" y="7920"/>
            <a:ext cx="9182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28440" y="103320"/>
            <a:ext cx="920088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00" y="41400"/>
            <a:ext cx="91152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42840" y="55440"/>
            <a:ext cx="9229680" cy="67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33480" y="46080"/>
            <a:ext cx="9210960" cy="67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0" y="31680"/>
            <a:ext cx="913464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80" y="22320"/>
            <a:ext cx="913464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-4680" y="12600"/>
            <a:ext cx="915336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 only Q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28440" y="50760"/>
            <a:ext cx="920088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-38160" y="31680"/>
            <a:ext cx="92203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42840" y="50760"/>
            <a:ext cx="9229680" cy="676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-23760" y="41400"/>
            <a:ext cx="919152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28440" y="41400"/>
            <a:ext cx="92008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-38160" y="31680"/>
            <a:ext cx="922032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360" y="36360"/>
            <a:ext cx="91252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016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56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086600" y="4191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days in Dec 2006 12-24 &amp; 12-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8458200" y="380952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162920" y="114300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est days in Dec 2006 12-11, 12-14 &amp; 12-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600" y="2133720"/>
            <a:ext cx="5335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2728800" cy="517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200400" y="1447920"/>
            <a:ext cx="2728800" cy="5178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095880" y="1447920"/>
            <a:ext cx="2729160" cy="51782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COT CPS1 Hourly on Dec 11, 14 &amp; 15,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SE Control Performance 200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mktinfo/reports/sce_qs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PS1 requires a minimum score of 100.0 to pass the monthly me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PS2 requires a minimum score of 90.0 to pass the monthly me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 only QSEs are measured, but have not been required to pass the me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04:55:21Z</dcterms:created>
  <dc:creator>Sydney Niemeyer</dc:creator>
  <dc:description/>
  <dc:language>en-US</dc:language>
  <cp:lastModifiedBy>Sydney L. Niemeyer</cp:lastModifiedBy>
  <dcterms:modified xsi:type="dcterms:W3CDTF">2007-01-09T21:41:09Z</dcterms:modified>
  <cp:revision>13</cp:revision>
  <dc:subject/>
  <dc:title>Slide 1</dc:title>
</cp:coreProperties>
</file>