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8E9A3-9809-4D18-8DED-8817F5127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988DE-523F-4CCB-AC81-E34353242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9F8C7-DF60-4319-92B5-6EB3F8631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5230B-B451-4675-A6B4-602832219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C3210-A22F-4F96-AF8C-807E0BFD5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072F3-54D9-431F-AD48-446DF99FE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F4F23-2812-4DCC-9AD2-ABF814560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7E5C8-70B6-4656-AF08-9856C0DFA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707BA-DA51-4B52-AD1A-48A4E1198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3209-ED41-4998-9E6C-45757707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1566D-54CB-49ED-8402-45C14707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7F1AB-095F-4217-9181-0FE315240B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FE90-A055-4A15-A883-31132DB093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
          <p:cNvGrpSpPr/>
          <p:nvPr/>
        </p:nvGrpSpPr>
        <p:grpSpPr>
          <a:xfrm>
            <a:off x="55440" y="87480"/>
            <a:ext cx="9043920" cy="6701760"/>
            <a:chOff x="55440" y="87480"/>
            <a:chExt cx="9043920" cy="6701760"/>
          </a:xfrm>
        </p:grpSpPr>
        <p:sp>
          <p:nvSpPr>
            <p:cNvPr id="6" name=""/>
            <p:cNvSpPr/>
            <p:nvPr/>
          </p:nvSpPr>
          <p:spPr>
            <a:xfrm>
              <a:off x="139320" y="87480"/>
              <a:ext cx="8873280" cy="670176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55440" y="176040"/>
              <a:ext cx="9043920" cy="6528240"/>
            </a:xfrm>
            <a:prstGeom prst="rect">
              <a:avLst/>
            </a:prstGeom>
            <a:noFill/>
            <a:ln w="1908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98640" y="131760"/>
              <a:ext cx="8957160" cy="6616800"/>
            </a:xfrm>
            <a:prstGeom prst="rect">
              <a:avLst/>
            </a:prstGeom>
            <a:noFill/>
            <a:ln w="3816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pSp>
      <p:sp>
        <p:nvSpPr>
          <p:cNvPr id="9" name=""/>
          <p:cNvSpPr/>
          <p:nvPr/>
        </p:nvSpPr>
        <p:spPr>
          <a:xfrm>
            <a:off x="3940200" y="6281640"/>
            <a:ext cx="12193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 name="" descr=""/>
          <p:cNvPicPr/>
          <p:nvPr/>
        </p:nvPicPr>
        <p:blipFill>
          <a:blip r:embed="rId2"/>
          <a:stretch/>
        </p:blipFill>
        <p:spPr>
          <a:xfrm>
            <a:off x="4038480" y="6346800"/>
            <a:ext cx="990720" cy="4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7" name=""/>
          <p:cNvSpPr/>
          <p:nvPr/>
        </p:nvSpPr>
        <p:spPr>
          <a:xfrm>
            <a:off x="762120" y="2133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Texas Regional Entity Standards Development Process Overvie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xas RE Reliability Standards Manager (RSM) is assigned the task of ensuring that the development, revision or deletion of Standards is in accordance with the Texas RE Standards Development Process  </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M will manage the Standards Development Process and coordinate and facilitate all actions</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pproval of a draft Standard action by the ERCOT Board, the RSM will notify the membership of such action of the Boar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M will take whatever steps are necessary to have a Standard reviewed and/or approved by NERC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6" name=""/>
          <p:cNvSpPr/>
          <p:nvPr/>
        </p:nvSpPr>
        <p:spPr>
          <a:xfrm>
            <a:off x="533520" y="304920"/>
            <a:ext cx="8229600" cy="1143000"/>
          </a:xfrm>
          <a:prstGeom prst="rect">
            <a:avLst/>
          </a:prstGeom>
          <a:noFill/>
          <a:ln w="0">
            <a:noFill/>
          </a:ln>
          <a:effectLst>
            <a:outerShdw dist="17819" dir="2700000" blurRad="0" rotWithShape="0">
              <a:srgbClr val="009999"/>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Questions</a:t>
            </a:r>
            <a:endParaRPr b="0" lang="en-US" sz="4000" spc="-1" strike="noStrike">
              <a:solidFill>
                <a:srgbClr val="000000"/>
              </a:solidFill>
              <a:latin typeface="Arial"/>
            </a:endParaRPr>
          </a:p>
        </p:txBody>
      </p:sp>
      <p:sp>
        <p:nvSpPr>
          <p:cNvPr id="67" name=""/>
          <p:cNvSpPr/>
          <p:nvPr/>
        </p:nvSpPr>
        <p:spPr>
          <a:xfrm>
            <a:off x="3429000" y="1295280"/>
            <a:ext cx="2438280" cy="4114800"/>
          </a:xfrm>
          <a:prstGeom prst="rect">
            <a:avLst/>
          </a:prstGeom>
          <a:noFill/>
          <a:ln w="0">
            <a:noFill/>
          </a:ln>
          <a:effectLst>
            <a:outerShdw dist="71785" dir="270000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009999"/>
                </a:solidFill>
                <a:latin typeface="Arial"/>
              </a:rPr>
              <a:t>?</a:t>
            </a:r>
            <a:endParaRPr b="0" lang="en-US" sz="30000" spc="-1" strike="noStrike">
              <a:solidFill>
                <a:srgbClr val="000000"/>
              </a:solidFill>
              <a:latin typeface="Arial"/>
            </a:endParaRPr>
          </a:p>
        </p:txBody>
      </p:sp>
      <p:sp>
        <p:nvSpPr>
          <p:cNvPr id="68" name=""/>
          <p:cNvSpPr/>
          <p:nvPr/>
        </p:nvSpPr>
        <p:spPr>
          <a:xfrm>
            <a:off x="3429000" y="1295280"/>
            <a:ext cx="2438280" cy="4114800"/>
          </a:xfrm>
          <a:prstGeom prst="rect">
            <a:avLst/>
          </a:prstGeom>
          <a:noFill/>
          <a:ln w="0">
            <a:noFill/>
          </a:ln>
          <a:effectLst>
            <a:outerShdw dist="81185" dir="13121970" blurRad="0" rotWithShape="0">
              <a:srgbClr val="333399"/>
            </a:outerShdw>
          </a:effectLst>
        </p:spPr>
        <p:style>
          <a:lnRef idx="0"/>
          <a:fillRef idx="0"/>
          <a:effectRef idx="0"/>
          <a:fontRef idx="minor"/>
        </p:style>
        <p:txBody>
          <a:bodyPr lIns="90000" rIns="90000" tIns="46800" bIns="46800" anchor="t">
            <a:normAutofit fontScale="87000"/>
          </a:bodyPr>
          <a:p>
            <a:pPr marL="298440" indent="-298440">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0" spc="-1" strike="noStrike">
                <a:solidFill>
                  <a:srgbClr val="ffff00"/>
                </a:solidFill>
                <a:latin typeface="Arial"/>
              </a:rPr>
              <a:t>?</a:t>
            </a:r>
            <a:endParaRPr b="0" lang="en-US" sz="30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Delegation Agreement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 Forma</a:t>
            </a:r>
            <a:r>
              <a:rPr b="0" lang="en-US" sz="2400" spc="-1" strike="noStrike">
                <a:solidFill>
                  <a:srgbClr val="000000"/>
                </a:solidFill>
                <a:latin typeface="Arial"/>
              </a:rPr>
              <a:t> Delegation Agreement</a:t>
            </a:r>
            <a:endParaRPr b="0" lang="en-US" sz="24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Regional Entity must represent to the ERO that it will meet the statutory and regulatory requirements for governance and has developed programs and procedures for Standards development and Regional enforcement</a:t>
            </a:r>
            <a:endParaRPr b="0" lang="en-US" sz="2000" spc="-1" strike="noStrike">
              <a:solidFill>
                <a:srgbClr val="000000"/>
              </a:solidFill>
              <a:latin typeface="Arial"/>
            </a:endParaRPr>
          </a:p>
          <a:p>
            <a:pPr lvl="1" marL="735480" indent="-28296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s</a:t>
            </a:r>
            <a:endParaRPr b="0" lang="en-US" sz="20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stency among the Regional Entity Delegation Agreement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elements are to be standardized to facilitate uniformity in ERO-Regional Entity relationships, Regional Entity processes, accountability, and enforcement of Reliability Standards</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Entity processes should be uniform unless Regional facts require a difference</a:t>
            </a:r>
            <a:endParaRPr b="0" lang="en-US" sz="1800" spc="-1" strike="noStrike">
              <a:solidFill>
                <a:srgbClr val="000000"/>
              </a:solidFill>
              <a:latin typeface="Arial"/>
            </a:endParaRPr>
          </a:p>
          <a:p>
            <a:pPr lvl="2" marL="1131480" indent="-226080">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onal differences and unique system needs are addressed by addenda to each Regional Entity’s individual Delegation Agre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Standards adopted by NERC set forth the reliability requirements for planning and operating the Bulk Power System, as specifically applicable to the ERCOT Region </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ty-four (34) “common attributes” that each Regional Entity’s Standards Development Process must satisfy</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individual Delegation Agreements, the specific language from each Regional Entity’s Standards Development Process that supports each “common attribute” must be provided  </a:t>
            </a:r>
            <a:endParaRPr b="0" lang="en-US" sz="2400" spc="-1" strike="noStrike">
              <a:solidFill>
                <a:srgbClr val="000000"/>
              </a:solidFill>
              <a:latin typeface="Arial"/>
            </a:endParaRPr>
          </a:p>
          <a:p>
            <a:pPr marL="343080" indent="-343080">
              <a:lnSpc>
                <a:spcPct val="8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tial differences from each “common attribute” must be explained and justifi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a:t>
            </a:r>
            <a:endParaRPr b="0" lang="en-US" sz="40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Specific Reliability Standards are to be developed consistent with the philosophies contained in the Texas RE Standards Development Process: </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in a fair and open process that provides an opportunity for all interested parties to participate</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have an adverse impact on competitive electricity markets that is not necessary for reliability</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a level of Bulk Power System reliability that is adequate to protect public health, safety, welfare, and national security and does not have a significant adverse impact on reliability</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d on a justifiable difference between regions or between sub-regions within the Regional geographic are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a Standards Authorization Request (SAR) to develop, revise or delete a Regional Reliability Standard</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iability Standards Committee accepts the SAR </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S forms a Standard Drafting Team (SDT)</a:t>
            </a:r>
            <a:endParaRPr b="0" lang="en-US" sz="2400" spc="-1" strike="noStrike">
              <a:solidFill>
                <a:srgbClr val="000000"/>
              </a:solidFill>
              <a:latin typeface="Arial"/>
            </a:endParaRPr>
          </a:p>
          <a:p>
            <a:pPr marL="609480" indent="-6094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k product of the SDT will consist of:</a:t>
            </a:r>
            <a:endParaRPr b="0" lang="en-US" sz="24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Standard consistent with the SAR</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the impact on neighboring Regions</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 Plan</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of any existing Standard that will be impacted</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cal reports/work papers that provide technical support</a:t>
            </a:r>
            <a:endParaRPr b="0" lang="en-US" sz="2000" spc="-1" strike="noStrike">
              <a:solidFill>
                <a:srgbClr val="000000"/>
              </a:solidFill>
              <a:latin typeface="Arial"/>
            </a:endParaRPr>
          </a:p>
          <a:p>
            <a:pPr lvl="1" marL="990720" indent="-533520">
              <a:lnSpc>
                <a:spcPct val="90000"/>
              </a:lnSpc>
              <a:spcBef>
                <a:spcPts val="499"/>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ived impact should the draft Standard be approved</a:t>
            </a:r>
            <a:r>
              <a:rPr b="0" lang="en-US" sz="28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SC verifies that the draft Standard is consistent with the SAR</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aft Standard is posted on the Texas RE Website for a 30-day comment perio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comments received, the SDT will convene to consider changes to the draft Standar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es to all comments will be posted and based on the comments, the draft Standard may be reposted</a:t>
            </a:r>
            <a:endParaRPr b="0" lang="en-US" sz="24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RSC concurrence that all SAR requirements are met, the draft Standard and Implementation Plan are posted for vote by the Texas RE Member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xas RE registered ballot body shall vote on the draft Standard during a 15-day period.</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members of the Texas RE</a:t>
            </a:r>
            <a:r>
              <a:rPr b="0" i="1" lang="en-US" sz="2000" spc="-1" strike="noStrike">
                <a:solidFill>
                  <a:srgbClr val="000000"/>
                </a:solidFill>
                <a:latin typeface="Arial"/>
              </a:rPr>
              <a:t> </a:t>
            </a:r>
            <a:r>
              <a:rPr b="0" lang="en-US" sz="2000" spc="-1" strike="noStrike">
                <a:solidFill>
                  <a:srgbClr val="000000"/>
                </a:solidFill>
                <a:latin typeface="Arial"/>
              </a:rPr>
              <a:t>are eligible to participate in voting on proposed new Standards, Standard revisions, or Standard deletions</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ember company shall have one vote and designate a person as the primary representative and a secondary contact as the backup for voting</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tes shall be submitted electronically</a:t>
            </a:r>
            <a:endParaRPr b="0" lang="en-US" sz="20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least one (1) Texas RE Member Representative from five (5) of the seven (7) ERCOT Market Participant Segments must vote to constitute a quorum </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gment shall have one (1) Segment Vote </a:t>
            </a:r>
            <a:endParaRPr b="0" lang="en-US" sz="1800" spc="-1" strike="noStrike">
              <a:solidFill>
                <a:srgbClr val="000000"/>
              </a:solidFill>
              <a:latin typeface="Arial"/>
            </a:endParaRPr>
          </a:p>
          <a:p>
            <a:pPr lvl="2" marL="1143000" indent="-228600">
              <a:lnSpc>
                <a:spcPct val="90000"/>
              </a:lnSpc>
              <a:spcBef>
                <a:spcPts val="451"/>
              </a:spcBef>
              <a:buClr>
                <a:srgbClr val="333399"/>
              </a:buClr>
              <a:buSzPct val="12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presentative of each voting Texas RE Member shall receive an equal fraction of its Segment Vo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raft Standard receives 4.67 (2/3 of 7 Segments) or greater affirmative votes during the 15-day voting period, the RSC will forward the Standard to the ERCOT Board for action </a:t>
            </a:r>
            <a:endParaRPr b="0" lang="en-US" sz="2400" spc="-1" strike="noStrike">
              <a:solidFill>
                <a:srgbClr val="000000"/>
              </a:solidFill>
              <a:latin typeface="Arial"/>
            </a:endParaRPr>
          </a:p>
          <a:p>
            <a:pPr marL="343080" indent="-343080">
              <a:lnSpc>
                <a:spcPct val="90000"/>
              </a:lnSpc>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draft Standard does not receive 4.67 or greater affirmative votes during the 15-day voting period, the RSC may:</a:t>
            </a:r>
            <a:endParaRPr b="0" lang="en-US" sz="24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 the SAR and remand back to the SDT</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 the SDT to reconsider or modify certain aspects of the draft Standard and/or implementation plan</a:t>
            </a:r>
            <a:endParaRPr b="0" lang="en-US" sz="2000" spc="-1" strike="noStrike">
              <a:solidFill>
                <a:srgbClr val="000000"/>
              </a:solidFill>
              <a:latin typeface="Arial"/>
            </a:endParaRPr>
          </a:p>
          <a:p>
            <a:pPr lvl="1" marL="743040" indent="-285840">
              <a:lnSpc>
                <a:spcPct val="90000"/>
              </a:lnSpc>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 termination of all work on the development of the Standard action under consideration and so notify the ERCOT Boar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exas RE Reliability Standards Development Process Steps</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draft Standard that receives 4.67 or greater affirmative votes, the ERCOT Board will either:</a:t>
            </a:r>
            <a:endParaRPr b="0" lang="en-US" sz="24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ve the proposed Regional Reliability Standard;</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and the proposed Regional Reliability Standard to the RSC with comments and instructions; or</a:t>
            </a:r>
            <a:endParaRPr b="0" lang="en-US" sz="2000" spc="-1" strike="noStrike">
              <a:solidFill>
                <a:srgbClr val="000000"/>
              </a:solidFill>
              <a:latin typeface="Arial"/>
            </a:endParaRPr>
          </a:p>
          <a:p>
            <a:pPr lvl="1" marL="743040" indent="-285840">
              <a:spcBef>
                <a:spcPts val="499"/>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pprove the proposed Regional Reliability Standard action without recourse.</a:t>
            </a:r>
            <a:endParaRPr b="0" lang="en-US" sz="2000" spc="-1" strike="noStrike">
              <a:solidFill>
                <a:srgbClr val="000000"/>
              </a:solidFill>
              <a:latin typeface="Arial"/>
            </a:endParaRPr>
          </a:p>
          <a:p>
            <a:pPr marL="343080" indent="-343080">
              <a:spcBef>
                <a:spcPts val="601"/>
              </a:spcBef>
              <a:buClr>
                <a:srgbClr val="3333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n ERCOT-Specific Reliability Standard is approved by the ERCOT Board, the Standard will be submitted to NERC for approval and filing with FER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8T20:14:27Z</dcterms:created>
  <dc:creator>OTStrain01</dc:creator>
  <dc:description/>
  <dc:language>en-US</dc:language>
  <cp:lastModifiedBy>ftafreshi</cp:lastModifiedBy>
  <dcterms:modified xsi:type="dcterms:W3CDTF">2007-01-10T19:12:23Z</dcterms:modified>
  <cp:revision>163</cp:revision>
  <dc:subject/>
  <dc:title>Slide 1</dc:title>
</cp:coreProperties>
</file>