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6366-C60C-49BC-88A8-141B6F101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385-7E05-4797-920E-A669417D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7EEE-8BB7-452B-8668-B3841868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44FF-3EAE-402F-A5BD-98CC3854E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F432-AF8D-4752-8C29-A079123F5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D00B-8BBD-4E92-81FC-1A86F674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7DFEE-2A29-4A70-8172-979F14BC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FF6D-4D60-4709-920F-B1B08188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59CC0-AC54-48C0-9483-2E6D9AE17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8E6D-3CF2-490F-A597-93C3499F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54E62-C175-4142-A03A-62A4FA2E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2EB-EC4F-415F-B72C-60CB7DE8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FBBF-B673-4084-8207-72A9477B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AEB9A-A9CE-4382-85FD-0407C057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66E6-8585-44C2-86CD-ACBF707C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ECF2-FC58-46EE-9ED9-0B50EFBE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12A4-B4C9-4B06-AAAF-60F53821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ECB-9AF1-4C52-A8C5-5829CDE0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141-EC56-449E-9D0B-624FFCFD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0EE-C9D6-447B-83AD-EA6E5F78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C209-85F7-44CF-8C41-C5EADF18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7D8A-E681-4752-8769-82549075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C4C5-6A43-445C-A1D9-8E7B697B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C77-5ECD-4AC3-9B45-6EFC4BC0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0100-8497-41DF-8C6E-DB00DC45BD7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35F8-A534-4D51-8D21-C6D158884E1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52680" cy="743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mpliance Upda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anuary 200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1A5B-AEA0-46D7-93A9-E9D9249523D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ntrol Performance Highligh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ERC CPS1 Performa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ember performance indicated a sixth straight month of declining scores since scores peaked in Ju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une – 154.6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uly – 153.1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ugust – 151.3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ptember – 142.5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tober – 137.3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vember – 132.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ember – 129.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R 525 Performan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itial scores for December indicate 34 QSEs passed / 1 non-wind-only QSEs failed the meas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ores posted on the ERCOT Compliance Websi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F1B-777C-4438-A321-5C007C555F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cember 2006 Resource Plan Performance Metr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66640" y="1676520"/>
            <a:ext cx="80010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51B-8111-4BC7-8DF1-7D266B84B9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vent Investigations in Progre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ct 3, 2006 Bryan area event re-opened for further investigation of restoration and situational awarenes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 EECP events in December will be revie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c. 22, 2006 loss of generation in Eastern ERCOT and manual LaaR deployment is under investig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4C71-9917-4279-B4BC-E14DF191C6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006 Self-Certification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lf-certification from QSE and Resources are due on Jan. 1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ansmission self-certifications due in December are being reviewed; several smaller companies received these for the first ti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2BB9-B789-4F6F-BF4A-BB01C17B79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22:17:43Z</dcterms:created>
  <dc:creator>lrobinson</dc:creator>
  <dc:description/>
  <dc:language>en-US</dc:language>
  <cp:lastModifiedBy>ERCOT</cp:lastModifiedBy>
  <dcterms:modified xsi:type="dcterms:W3CDTF">2007-01-10T17:27:26Z</dcterms:modified>
  <cp:revision>271</cp:revision>
  <dc:subject/>
  <dc:title>PRR 525 Compliance Analysis</dc:title>
</cp:coreProperties>
</file>