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7A2E-48E4-4FAD-A6A7-A4104289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E344-243D-4C89-9DB8-CB01EE1B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DDC5-CDAE-4F8C-B106-2FBC4D0F9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031-6175-4B1C-81C4-6F7AC1ED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ED2F-7852-4A22-9643-8E5F6DDF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234-52FA-4929-8FB5-D76F8795F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7DF-5D18-4AC7-92CF-27855DF9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6571-FA86-4D0A-B0D2-CEB1CD9A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AE2B-68A8-4C3E-B773-3A4A7C77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7EB7-7ECE-4B61-BEFE-B0F59C06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384-0974-4DE4-A60B-2DB1A7B0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37BA-0F2A-4AF3-AFD5-1D899FE7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8C3C-ABBE-457C-9C85-5A9FB93FD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95520" y="3166920"/>
            <a:ext cx="59529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Standard Development activities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3962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nuary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66680" y="990720"/>
          <a:ext cx="6782040" cy="476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990720"/>
                    <a:ext cx="6782040" cy="47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553080" y="594360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Project 2007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368360" y="923760"/>
          <a:ext cx="6861240" cy="46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8360" y="923760"/>
                    <a:ext cx="686124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219320" y="990720"/>
          <a:ext cx="6708600" cy="472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90720"/>
                    <a:ext cx="6708600" cy="47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368360" y="1295280"/>
          <a:ext cx="6407280" cy="367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8360" y="1295280"/>
                    <a:ext cx="6407280" cy="367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066680" y="1066680"/>
          <a:ext cx="64072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66680"/>
                    <a:ext cx="64072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 txBox="1"/>
          <p:nvPr/>
        </p:nvSpPr>
        <p:spPr>
          <a:xfrm>
            <a:off x="2743200" y="3809880"/>
            <a:ext cx="3276720" cy="3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Questions?</a:t>
            </a:r>
            <a:endParaRPr b="0" lang="en-US" sz="2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21:28:57Z</dcterms:created>
  <dc:creator>farz</dc:creator>
  <dc:description/>
  <dc:language>en-US</dc:language>
  <cp:lastModifiedBy>farz</cp:lastModifiedBy>
  <dcterms:modified xsi:type="dcterms:W3CDTF">2007-01-08T00:07:10Z</dcterms:modified>
  <cp:revision>6</cp:revision>
  <dc:subject/>
  <dc:title>Slide 1</dc:title>
</cp:coreProperties>
</file>