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A3D2-5DA4-4D93-9EF2-846263B0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CD43-8E38-4FFA-9355-1958B252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7FD5-59C4-4651-BAD9-AA1D2E68C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3E6-6AF2-4BFA-930F-FC110BC9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23F0-D171-4813-972B-811B2179F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0082-D7D2-41A1-9955-593562EB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E44-FB64-4A48-AAA0-BFAEF0DB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D987-5110-4A6E-B22C-CB702058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14D4-B76F-4D4B-B935-E6F6BC088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1B1F-9FEA-4921-817F-A9C8B5F2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A65C-F189-4B76-84EE-64AA48B4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A1C-6519-4146-B49C-8659D7C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42A2-AB22-4561-B727-DFA079B92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305560" cy="6423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flipH="1">
            <a:off x="1676160" y="228600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7432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1752120" y="39625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4343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276720" y="350532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572000" y="43430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320040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40384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3280" y="463680"/>
            <a:ext cx="86774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nts of 12/13/06  EECP Step One Ev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:20 511 MW unit tri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6:05 100 MW unit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6:14 175 MW unit tr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Capacity Tripped above was 11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ning Peak Load As Forec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6:20 Advisory, Adjusted Responsive less than 30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6:39 Alert, Adjusted Responsive less than 25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6:52  EECP Step 1, Adjusted Responsive less than 2300M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:03 Adjusted Responsive 2178 MW, ERCOT Load 371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:09 Adjusted Responsive Reserve Started recov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:16 Cancelled EECP 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:30 Cancelled Alert, Responsive above 25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8:40 Cancelled Advisory, Responsive above 30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: Loss of generation during morning load pi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33280" y="463680"/>
            <a:ext cx="86774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33280" y="463680"/>
            <a:ext cx="86774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vents of 12/23/06 EE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:52 800MW capacity lost due to force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:00 ERCOT load approximately 1000MW above forec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:10 Advisory, Adjusted Responsive less than 3000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7:45 Alert, Adjusted Responsive less than 2500 M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:15 EECP Step #1 implemented, Responsive &lt; 2300M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:18 Responsive 2206MW, ERCOT Load 3390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:35 ERCOT ordered 1361MW of capacity online within the expected time frame of the emergency according to EECP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:50 Responsive Reserve 2325MW, ERCOT Load 34150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:45 Starting to release generation that was brought 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:40 Responsive Reserve 2642MW, ERCOT Load 33756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:45 Terminate EECP Step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: Forced unit outage combined with higher than expected evening load pic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305560" cy="6423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V="1">
            <a:off x="2590920" y="1828440"/>
            <a:ext cx="38088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1301760"/>
            <a:ext cx="281952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Disturbance Frequency (60.004 Hz) at 02:54: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71800" y="4863960"/>
            <a:ext cx="2438280" cy="52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est Point (59.691 Hz) at 02:54: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05520" y="2286000"/>
            <a:ext cx="2819160" cy="30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overy (60 Hz) at 03:03: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666880" y="5409720"/>
            <a:ext cx="38124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2057400"/>
            <a:ext cx="304920" cy="228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ember 2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2006 NERC Reportable 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– 165 MW LaaR deploys at 02:54:28.  Frequency is 59.824 (PI shows 59.774 at 02:54: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– At 02:54:55, with frequency at 59.691 Hz, per the High-Speed Recorder, an additional 538 MW of LaaR depl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– VDI issued to deploy all LaaRs at 02:58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– 10-minute mark from VDI at 03:08: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2 and 4, an additional 335 MW of LaaR was deployed, for a total of ~1047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Data latency can mask some of the response, leading some of the numbers not to add up exactly—especially when comparing to frequency at the same instant i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ember 2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2006 NERC Reportable 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CP Step 1 declared at 03:03 Adjusted Responsive Reserve at 1751 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Rs restored at 03: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ECP Step 1 cancelled at 04: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isory issued for Adjusted Responsive Reserve below 3000 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4920" y="303120"/>
            <a:ext cx="8458200" cy="6197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581280" y="1523880"/>
            <a:ext cx="1067040" cy="1905120"/>
          </a:xfrm>
          <a:custGeom>
            <a:avLst/>
            <a:gdLst>
              <a:gd name="textAreaLeft" fmla="*/ 0 w 1067040"/>
              <a:gd name="textAreaRight" fmla="*/ 385200 w 106704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7800" y="205740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3 MW trip, 804 MW unit begins ramp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143000"/>
            <a:ext cx="457200" cy="380880"/>
          </a:xfrm>
          <a:custGeom>
            <a:avLst/>
            <a:gdLst>
              <a:gd name="textAreaLeft" fmla="*/ 0 w 457200"/>
              <a:gd name="textAreaRight" fmla="*/ 164880 w 457200"/>
              <a:gd name="textAreaTop" fmla="*/ 9720 h 380880"/>
              <a:gd name="textAreaBottom" fmla="*/ 37116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57800" y="1143000"/>
            <a:ext cx="2438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 MW unit tr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4191120"/>
            <a:ext cx="2438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on ramp back trips 561 MW, 2 units ramp back 170 MW but stay on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14800" y="3429000"/>
            <a:ext cx="1066680" cy="2209680"/>
          </a:xfrm>
          <a:custGeom>
            <a:avLst/>
            <a:gdLst>
              <a:gd name="textAreaLeft" fmla="*/ 0 w 1066680"/>
              <a:gd name="textAreaRight" fmla="*/ 385200 w 10666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384120"/>
            <a:ext cx="883944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3120"/>
            <a:ext cx="8458200" cy="6197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57800" y="30067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1880 MW generation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14300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total unit output ~ 1900 M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4191120"/>
            <a:ext cx="243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 20 MW remains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505320" y="1143000"/>
            <a:ext cx="1752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038480" y="4800600"/>
            <a:ext cx="14479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05320" y="1143000"/>
            <a:ext cx="1066680" cy="4495680"/>
          </a:xfrm>
          <a:custGeom>
            <a:avLst/>
            <a:gdLst>
              <a:gd name="textAreaLeft" fmla="*/ 0 w 1066680"/>
              <a:gd name="textAreaRight" fmla="*/ 385200 w 106668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3280" y="463680"/>
            <a:ext cx="86774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33280" y="463680"/>
            <a:ext cx="8677440" cy="59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7:39:39Z</dcterms:created>
  <dc:creator>chadthompson</dc:creator>
  <dc:description/>
  <dc:language>en-US</dc:language>
  <cp:lastModifiedBy>evillanueva</cp:lastModifiedBy>
  <dcterms:modified xsi:type="dcterms:W3CDTF">2007-01-10T23:13:57Z</dcterms:modified>
  <cp:revision>3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