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92AA-7C68-4CE9-850E-5ED23D9A6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BE97-92C8-4194-AF31-55C30A2D2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283A-1EE4-426C-9D7E-13D96ADB4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861E-DDB0-46B1-A7B4-E8CA72B44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53A2-2A50-41C2-9FA6-8B174EB95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062A-EE21-4B04-9908-3546AB298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5A92-D246-4C96-8B4F-9F43741A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E754-775E-479D-82A9-AD1F3E5E9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9BD9-3567-46DB-88C4-957DC3B39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1120-EA04-46CB-9B94-FA722A0F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5FD2-CF8E-4DF6-9303-500773B3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372B-5DEE-4F12-B916-DB497B51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07FB9-0160-4B18-A551-2AE215B6AE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sis of Reserve Discount Fact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ed to ROS 01/11/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228600"/>
          <a:ext cx="9144000" cy="647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"/>
                    <a:ext cx="914400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0"/>
          <a:ext cx="9144000" cy="662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 using 4% Reserve Discount Factor October – M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probability of Temperatures having a diverse impact on unit lim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y has indicated the need for a discount to be applied to Reser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 using 7% April – Octo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s may not be able to perform as well as tested capability due to higher temper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y has indicated the need for a discount to be applied to Reser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0T19:55:00Z</dcterms:created>
  <dc:creator>jdumas</dc:creator>
  <dc:description/>
  <dc:language>en-US</dc:language>
  <cp:lastModifiedBy>jdumas</cp:lastModifiedBy>
  <dcterms:modified xsi:type="dcterms:W3CDTF">2007-01-10T20:06:27Z</dcterms:modified>
  <cp:revision>2</cp:revision>
  <dc:subject/>
  <dc:title>Slide 1</dc:title>
</cp:coreProperties>
</file>