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6D78-62C3-40A2-8C85-8217FABC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1C0A-B7B2-4C09-B424-F2E4ABEC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69B1-21A6-428B-AB95-7393F171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1BBF-2341-4BD7-BEFF-BE762322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B8F5-257F-4A8A-9C7E-A5D940E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4488-366B-477A-8FD6-D3DBDB0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38E1-C29E-4544-9FA0-94FD672E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5033-9B1D-4ABD-A508-CBCB749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A8F-164A-45C7-B40F-21BEFF4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EF25-44CC-49FE-B838-2E17C26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7D7-3A57-4530-A60B-C9D408B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C2A8-A765-4E9E-B1E3-DB2188EB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F668-5685-4E2C-8B3C-8574D25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5A55-3FAC-418D-BFC3-B7FA6CF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76E8-B184-4576-B091-3D4BC65C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E2D6-78D5-4277-93B9-9DD17C3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D3EB-15A2-40A4-B20C-8EC16E7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9B16-F498-4907-9932-946A597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24C4-55F8-489E-8C8A-3C749D4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0B8F-3F7E-4F5D-9798-E0802AB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D458-FBC2-494C-A63B-8C40DAA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56C4-3A46-4711-8C0B-5BCD4516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5F6E-2913-4CDC-9014-368E2CB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063E-A590-4174-90FA-9A1746B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E54-FE44-4B19-8C81-D0484470DC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C3C-6AF8-41D3-8CE3-441054C939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rket Metrics Working Grou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6 Accomplishm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7 Go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ir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Bill Reily – TXU Electric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ice Chair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Kyle Patrick – Reliant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Accomplishments 200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with ERCOT to review and identify Metrics for MarkeTrak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a Market Survey to poll market participants on current metrics reporting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most / least beneficial repo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the file transfer processes for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PUCT staff with market input on current metrics to assist in the formulation of the new Performance Measures Rulemak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d working with PUCT Staff to improve timeliness of filings by market particip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2007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 to provide summarized updates of the overall market performance to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 working with PUCT Staff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assistance in evaluating current “transactional” reporting and input into the development of the new Performance Measures rule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timeliness of filings by market particip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 a standardized file transfer process for current and future metrics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metrics for MarkeTrak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the frequency of meetings to ensure effective resource utilization and maximizing market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quarterly market metrics to identify gaps and/or transac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21:53:36Z</dcterms:created>
  <dc:creator>00015621</dc:creator>
  <dc:description/>
  <dc:language>en-US</dc:language>
  <cp:lastModifiedBy>Registered User</cp:lastModifiedBy>
  <dcterms:modified xsi:type="dcterms:W3CDTF">2007-01-04T17:29:09Z</dcterms:modified>
  <cp:revision>28</cp:revision>
  <dc:subject/>
  <dc:title>Market Metrics Working Group</dc:title>
</cp:coreProperties>
</file>