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F04-0250-407C-BDEB-1B344875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F67-9259-42D8-913B-342DB7FF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881-6725-4524-A799-178CE807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A07-4061-40E9-9432-0B9D4ECC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B618-75D3-4B56-A1EF-42C39138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AE0B-AF56-452A-9A6F-C178B934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0981-1677-4FB7-BC42-CB88DFC2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9AC8-4688-4142-91A8-4509F95E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F097-E219-46ED-BD50-D12E306B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DF5E-EAFD-4FEC-8384-76BB4A79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80B4-728F-4365-8D92-FAC0984F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AE9-81D0-48DD-B46C-2812977C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71F8-336C-4184-8C17-6601DAA4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9BC0-5D12-4524-8DF7-213CB72C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3FB7-5AAA-465B-ADEA-A843CFAB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4297-9E28-480B-A96E-8F1E0A49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91D6-D858-4641-A83D-E7F9431C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D33-D5BD-4831-B9BF-255FF0E0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DAA-8168-4311-A878-059A041D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314-4EEC-4780-B064-C597E8F2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1B0-6BEB-452B-BEE5-63B0F87C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B52-FF62-4822-B188-AEA4482F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3CC-7EC7-4C1B-9678-F1B1A222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65D-45E5-4354-B100-30B2D33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8110-26B6-4E86-9C0D-293EED57A07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D1B4-2931-4566-A40C-8B19DEA4C76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438280" y="152280"/>
          <a:ext cx="45720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280"/>
                    <a:ext cx="45720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72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TTPT Goals &amp; Accomplishments</a:t>
            </a:r>
            <a:endParaRPr b="0" lang="en-US" sz="5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January 10, 2007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2006 Goals &amp; Accomplishme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Conduct 4 test flight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30960" indent="-501480">
              <a:lnSpc>
                <a:spcPct val="80000"/>
              </a:lnSpc>
              <a:spcBef>
                <a:spcPts val="374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99"/>
                </a:solidFill>
                <a:latin typeface="Verdana"/>
              </a:rPr>
              <a:t>Flights 0106, 0406, 0706 &amp; 1006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 lvl="2" marL="1289160" indent="-4294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12 New REPs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3" marL="164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0106 = 4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3" marL="164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0406 = 4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3" marL="164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0706 = 0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3" marL="164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006 = 4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2" marL="1289160" indent="-4294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7 REPs testing in a New Territory.  Total of 8 new territories added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3" marL="164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0106 = 1. Territories added = 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3" marL="164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0406 = 1. Territories added = 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3" marL="164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0706 = 3. Territories added = 4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3" marL="164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006 = 2. Territories added = 2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2" marL="1289160" indent="-4294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 REPs testing New Functionality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3" marL="164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0106 = 0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3" marL="164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0406 = 0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3" marL="1647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0706 = 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3" marL="1647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006 = 2</a:t>
            </a: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lvl="1" marL="93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Conduct flight orientation and continue to improve and modify as required to support testin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30960" indent="-501480">
              <a:lnSpc>
                <a:spcPct val="80000"/>
              </a:lnSpc>
              <a:spcBef>
                <a:spcPts val="326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99"/>
                </a:solidFill>
                <a:latin typeface="Verdana"/>
              </a:rPr>
              <a:t>Four market orientations conducted for each of the Approved Flights. Orientation dates changed from Wednesdays to Tuesdays so as not to interfere with RMS meetings.</a:t>
            </a:r>
            <a:r>
              <a:rPr b="0" lang="en-US" sz="13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2006 Goals &amp; Accomplishme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Develop and conduct script testing for new FasTrak syste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Developed both GUI and API test scripts for MarkeTrak. Successful GUI testing accomplished beginning with Flight 0706. Successful testing of API during Flight 1006. 17 scripts utilized for GUI testing.  8 scripts utilized for MarkeTrak API certification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Continue to enhance Retail Testing Website to support market testin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Eliminated separate references for TSW and TCW; combined into one TW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Identification of previously completed testing versus current testing for each CR/TDSP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Ability to add Test and Production NAESB EDM Specifications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Ability to Delete TWs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FASD calculator updated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Connectivity primary contact added as a new field for display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Flight Planning for 2007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Approved 4 flights for 2007 – 0107, 0407(TX SET 3.0), 0707 and 1007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2006 Goals &amp; Accomplishme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TMTP updat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Approved Version 1.4 of the TMTP in January 2006 and Version 1.5 in December 2006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Support of TX SET version upgrade if required or RMS required market testin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reparation for TX SET 3.0 began in October 2006. Collaborated with MCT for TX SET 3.0 implementation requirements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TTPT procedures and protocols updat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TTPT meetings reduced from monthly to every six weeks.  (2wks prior to orientation – 1 time during Flight). Cut out 4 meetings per year (33%)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Update SCR742 documentation for 2007 prioritizatio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TTPT decided to withdraw this SCR due to higher priorities of other items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a Yea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Overall TTPT accomplished 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100%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 of the Goals set by the team for 2006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304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2007 Goals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-3502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light Planning for 2008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0280" indent="-3502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evelop and modify scripts for the four approved Fligh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0280" indent="-3502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upport of TX SET Version upgrade if required or RMS requested market test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0280" indent="-3502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tinue to enhance Retail Testing Website to support market test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0280" indent="-3502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Maintain updated content within TMTP, TTPT Procedures and Protocol updat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0280" indent="-3502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evelop and conduct script testing for MarkeTrak system enhancements, if neede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04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TPT Leadership Suggestion for Version Releases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st place to understand the capacity of changes is through an open foru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erhaps Market needs a group to hold a “change session” for version releas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imilar to how Glen &amp; ERCOT had site visits for TX SET 2.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usan Munson of MCT could do the same for TX SET 3.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ant to ensure Market is doing it’s due diligence to inform M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>00206072</dc:creator>
  <dc:description/>
  <dc:language>en-US</dc:language>
  <cp:lastModifiedBy>cmoore</cp:lastModifiedBy>
  <dcterms:modified xsi:type="dcterms:W3CDTF">2006-12-28T17:30:53Z</dcterms:modified>
  <cp:revision>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57217978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RMS Materials and Presentations Request for the January 10, 2007 RMS Meeting</vt:lpwstr>
  </property>
  <property fmtid="{D5CDD505-2E9C-101B-9397-08002B2CF9AE}" pid="6" name="_NewReviewCycle">
    <vt:lpwstr/>
  </property>
</Properties>
</file>