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6F5-8206-40C7-A3DF-2BAE9E5B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ED9-99F7-43FF-9297-6F279A7C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7FB-3956-4F4E-AC05-5DE8CF72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C02-C242-4EAD-A6FD-CC433F94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2786-EEF8-4050-B8FE-4F46DB8A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D7E5-2D55-48CF-967A-41BF6D21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A432-E719-4340-A564-BF591EE5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0CCD-A690-436D-8643-064E11B4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1240-1D1D-4EED-B42A-C9DDE370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F11E-0B21-4F46-A482-3C673E2A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B7BB-A5E5-475D-AE7C-55E53272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EE1-C8CD-4476-88B6-24961974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3489-A03C-4C29-8592-EF447EBC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1806-37D1-4479-B4C9-0E684B45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C742-81BB-47EC-9810-C9189339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8991-E6D9-4FE9-879A-89F3EF13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3CC4-3BA1-49E1-9C68-ACF20AA3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C4C-66C3-4A24-B283-2785C314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8C7E-0B31-44B7-ADBB-FBDA9869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633-84A5-45D1-91C0-930188BD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5BA-AAD4-4EFF-964A-039BCC22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F1E2-615C-4BC9-8006-FB511D22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0AD-F606-44D1-AAB7-5763848F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9F11-4627-4754-80CA-13A72E1E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FCDE-D77D-4A5A-9C6E-C16EAC6658FC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8711-63D3-46A2-8B33-EB8CE2476418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e941c"/>
                </a:solidFill>
                <a:latin typeface="Agency FB"/>
              </a:rPr>
              <a:t>2006  Accomplishments</a:t>
            </a:r>
            <a:br>
              <a:rPr sz="5100"/>
            </a:br>
            <a:r>
              <a:rPr b="1" lang="en-US" sz="5100" spc="-1" strike="noStrike">
                <a:solidFill>
                  <a:srgbClr val="ee941c"/>
                </a:solidFill>
                <a:latin typeface="Agency FB"/>
              </a:rPr>
              <a:t>&amp;</a:t>
            </a:r>
            <a:br>
              <a:rPr sz="5100"/>
            </a:br>
            <a:r>
              <a:rPr b="1" lang="en-US" sz="5100" spc="-1" strike="noStrike">
                <a:solidFill>
                  <a:srgbClr val="ee941c"/>
                </a:solidFill>
                <a:latin typeface="Agency FB"/>
              </a:rPr>
              <a:t>2007  Goals</a:t>
            </a:r>
            <a:br>
              <a:rPr sz="5100"/>
            </a:br>
            <a:r>
              <a:rPr b="1" lang="en-US" sz="1400" spc="-1" strike="noStrike">
                <a:solidFill>
                  <a:srgbClr val="ee941c"/>
                </a:solidFill>
                <a:latin typeface="Agency FB"/>
              </a:rPr>
              <a:t>RMS Meeting January 10, 2007</a:t>
            </a:r>
            <a:r>
              <a:rPr b="1" lang="en-US" sz="1200" spc="-1" strike="noStrike">
                <a:solidFill>
                  <a:srgbClr val="ee941c"/>
                </a:solidFill>
                <a:latin typeface="Agency FB"/>
              </a:rPr>
              <a:t> </a:t>
            </a:r>
            <a:endParaRPr b="0" lang="en-US" sz="12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82" name=""/>
          <p:cNvSpPr/>
          <p:nvPr/>
        </p:nvSpPr>
        <p:spPr>
          <a:xfrm>
            <a:off x="3251160" y="685800"/>
            <a:ext cx="2733840" cy="24321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3" name=""/>
          <p:cNvSpPr/>
          <p:nvPr/>
        </p:nvSpPr>
        <p:spPr>
          <a:xfrm>
            <a:off x="3424320" y="785880"/>
            <a:ext cx="2371680" cy="1942920"/>
          </a:xfrm>
          <a:prstGeom prst="star5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44920" y="2513160"/>
            <a:ext cx="34452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0c0c0"/>
                </a:solidFill>
                <a:latin typeface="Niagara Solid"/>
              </a:rPr>
              <a:t>07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c0c0c0"/>
              </a:solidFill>
              <a:latin typeface="Niagara Solid"/>
              <a:ea typeface="Niagara Solid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19520" y="1160640"/>
            <a:ext cx="3581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666699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c0c0c0"/>
                  </a:outerShdw>
                </a:effectLst>
                <a:latin typeface="Niagara Solid"/>
              </a:rPr>
              <a:t>TX SET</a:t>
            </a:r>
            <a:endParaRPr b="0" lang="en-US" sz="24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666699"/>
                  </a:gs>
                </a:gsLst>
                <a:lin ang="5400000"/>
              </a:gradFill>
              <a:effectLst>
                <a:outerShdw dist="38160" dir="5400000" blurRad="0" rotWithShape="0">
                  <a:srgbClr val="c0c0c0"/>
                </a:outerShdw>
              </a:effectLst>
              <a:latin typeface="Niagara Solid"/>
              <a:ea typeface="Niagara Soli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Defined and Scheduled TX SET Version 3.0 for next TX SET Release, includes the following: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lvl="1" marL="572040" indent="-219960"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Mass Transition 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lvl="2" marL="879840" indent="-175680"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Detailed Requirements and  Market Guide Revisions were created</a:t>
            </a: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3" marL="1231920" indent="-175680">
              <a:spcBef>
                <a:spcPts val="499"/>
              </a:spcBef>
              <a:buClr>
                <a:srgbClr val="ff0000"/>
              </a:buClr>
              <a:buFont typeface="Agency FB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PRR , RMGRR, and SCR created or modified when and where needed. </a:t>
            </a: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lvl="3" marL="1231920" indent="-175680">
              <a:spcBef>
                <a:spcPts val="499"/>
              </a:spcBef>
              <a:buClr>
                <a:srgbClr val="ff0000"/>
              </a:buClr>
              <a:buFont typeface="Agency FB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Updated TX SET Implementation Guides for new Version Release</a:t>
            </a: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lvl="3" marL="1231920" indent="-175680">
              <a:spcBef>
                <a:spcPts val="499"/>
              </a:spcBef>
              <a:buClr>
                <a:srgbClr val="ff0000"/>
              </a:buClr>
              <a:buFont typeface="Agency FB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SV.file created to communicate Customer Billing Information </a:t>
            </a: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lvl="1" marL="572040" indent="-219960">
              <a:spcBef>
                <a:spcPts val="700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New Terms and Conditions Requirements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1" marL="572040" indent="-219960">
              <a:spcBef>
                <a:spcPts val="700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New POLR Rule Requirements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1" marL="572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263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63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2006 Accomplishments</a:t>
            </a:r>
            <a:endParaRPr b="0" lang="en-US" sz="4800" spc="-1" strike="noStrike">
              <a:solidFill>
                <a:srgbClr val="b7e7ff"/>
              </a:solidFill>
              <a:latin typeface="Agency FB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d to update Protocols and Retail Market Guide when and where necessary.  Examples: 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lvl="1" marL="609120" indent="-234360"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hanges to the Retail Market Guide to reduce First Available Switch Date (FASD) to 3 Business Days, which was a short term solution until an automated resolution could be implemented with TX SET 3.0   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609120" indent="-234360"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nother RMGRR created a process to Transfer ESI IDs from current POLR to new POLR effective 1/1/2007 in compliance with the new POLR Rule 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Accomplishments 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ssisted in creating an implementation schedule in conjunction with Market Coordination Team and TX Test Plan Team for TX SET Version 3.0, along with developing new Market Test scenarios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Working with ERCOT, TX SET developed a short-term solution for the Market issue of processing Large Volumes of 814_20 Create/Maintain/Retire ESI ID Transactions 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Updated all TX SET Transaction Flow Pages, also known as Swimlanes, to include new automated POLR process 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Accomplishments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Worked with RMS to improve Market Budgeting Process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 to maintain and update the Stacking documentation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 to be involved with all market participants providing assistance where needed 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 to encourage all market participants to attend and participant in TX SET meetings and workshops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Accomplishments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nalyze Issues as they are presented to TX SET to determine if there is a Market need for another TX SET Release based on Market issues   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Evaluate upcoming Rulemakings and determine their Transactional and Market impacts to current processes: 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utomated Meter Reading 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hanges for Drop to AREP Processing 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gency FB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Future for TX SET 814_10 Drop to AREP Transaction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Performance Measures 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2007 Goals 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Evaluate 814_20 Short Term Large Volume processing solution to determine if additional changes are warranted long term 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 to Update Protocols and Retail Market Guide when and where necessary 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 to maintain and update the Stacking documentation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Goals 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 to be involved with all market participants providing assistance where needed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lways encourage all market participants to attend and participant in TX SET meetings and workshops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Goals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20:37:34Z</dcterms:created>
  <dc:creator>kpatrick</dc:creator>
  <dc:description/>
  <dc:language>en-US</dc:language>
  <cp:lastModifiedBy>00015621</cp:lastModifiedBy>
  <dcterms:modified xsi:type="dcterms:W3CDTF">2007-01-04T00:43:03Z</dcterms:modified>
  <cp:revision>39</cp:revision>
  <dc:subject/>
  <dc:title>PowerPoint Presentation</dc:title>
</cp:coreProperties>
</file>