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500B-6ED1-43DA-A64F-0D589E014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4F68-D0AF-49B3-A1D4-579FC1A84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AC87-D854-4FFE-9A00-F6632F9C0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DB55-9F7E-49D0-9697-5368DC27A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15A1-FA2D-49ED-93EB-1E855EB2A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CA24-4A83-4035-A250-D88A90B0B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E143-66A6-40D0-BA0A-E73C52E44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2644-7880-4396-BA24-51DECF4A6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FEAF-63A9-44EB-98CF-6766A0F48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7CED-61E0-4843-9C82-DE7579FB5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A9C9-9686-4292-98DF-A2C2E674C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45F8-DB5D-4383-BB16-38DF61AA1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FBA8-A62B-4FB6-BD3C-3D7BFB02A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2333520" y="5466960"/>
            <a:ext cx="36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nuary 10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hyperlink" Target="mailto:hparrish@erco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23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50121_07 Retail Business Processes (RBP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 Sub-project of the Service Oriented Architecture (SOA) Initiativ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is to replace current SeeBeyond Retail Components with TIBCO EAI components to deliver a technology and framewor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scalability, reliability, stability &amp; maintain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RBP is one of 8 SOA Subprojects to replace SeeBeyo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 or reduce operating failures produced from current SeeBeyond Application and Architec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maintenance costs associated with up-keep of SeeBeyond Application and Architec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6248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50121_07 RBP   PPL Source: ERCOT    Priority: 1.0    Rank: .08    Budget: $1-3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762120"/>
            <a:ext cx="8534520" cy="71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tion – Completed 08/01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 – Complete 05/08/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-Live – Complete 12/10/2006 (within schedule and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bilization effort – Target Completion 02/09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ing – Target to complete Februar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cent Activities As of 12/29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d migration to Production as schedu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an Stabilization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d several configuration and code adjustments to improve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Stabilization status meeti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 Delta Siebel Data Conversion every weekend until Complete (target end of January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 TIBCO monitoring, enhancements, and training with onsite TIBCO consul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ile Overall Project Lessons Lear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6248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50121_07 RBP   PPL Source: ERCOT    Priority: 1.0    Rank: .08    Budget: $1-3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ing  Repor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632448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50121_07 RBP   PPL Source: ERCOT    Priority: 1.0    Rank: .08    Budget: $1-3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6858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total of 1140 scripts were executed for UAT, Load, and Regres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84836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594360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BP Total:  44-Environment, 24-Configuration, 98-Code, 23-In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ilization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990720"/>
            <a:ext cx="84582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t-Production 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Problem Tickets relating to RBP have been logged for investigation as of 01/03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3-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-Dupl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-In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-Test for February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4-Op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-Business Analysis/Verification (pending clo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All open items are currently low volume and have a workaround thru normal Exception Management handling performed by Retail Customer Cho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eam will continue to log, track, and document all issues related to Post-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5238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r, Market Operations Divisional Project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, Market Operations Divisional Projects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parrish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hsatterfield</cp:lastModifiedBy>
  <dcterms:modified xsi:type="dcterms:W3CDTF">2007-01-04T00:35:02Z</dcterms:modified>
  <cp:revision>65</cp:revision>
  <dc:subject/>
  <dc:title>Instructions</dc:title>
</cp:coreProperties>
</file>