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72963-7169-4BC1-BBD9-20BEA9499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1CF45-4D18-4CF5-A32D-D58A117F7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E3461-B4CC-49E5-9290-C61894946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00CA7-F582-4F2C-A5BE-D56256CB1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32908-8D16-4533-BCDE-74BDECDA3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5B296-CFAB-431D-80AB-097788F71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F1ABF-C66D-48B3-9181-474595067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CCB32-D861-46E2-BA05-F9D5A4417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82BA8-A52C-47FD-B7ED-C22ACFCC9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490DD-30C0-422C-94C6-16FB11476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A0C18-C5A2-4BF7-B2AD-980050D3E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0D905-4BC9-4F13-AD45-813B72E57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A421-1901-4725-AFC1-58983EECDE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086600" y="152280"/>
            <a:ext cx="1828800" cy="982800"/>
          </a:xfrm>
          <a:prstGeom prst="rect">
            <a:avLst/>
          </a:prstGeom>
          <a:ln w="0">
            <a:noFill/>
          </a:ln>
        </p:spPr>
      </p:pic>
      <p:sp>
        <p:nvSpPr>
          <p:cNvPr id="6" name=""/>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0" lang="en-US" sz="24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Report to RMS</a:t>
            </a:r>
            <a:endParaRPr b="0" lang="en-US" sz="4400" spc="-1" strike="noStrike">
              <a:solidFill>
                <a:srgbClr val="000000"/>
              </a:solidFill>
              <a:latin typeface="Arial"/>
            </a:endParaRPr>
          </a:p>
        </p:txBody>
      </p:sp>
      <p:sp>
        <p:nvSpPr>
          <p:cNvPr id="46"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6 Accomplishment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 and Work Expected for 200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5410080" y="5943600"/>
            <a:ext cx="35053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10</a:t>
            </a:r>
            <a:r>
              <a:rPr b="1" lang="en-US" sz="1800" spc="-1" strike="noStrike" baseline="30000">
                <a:solidFill>
                  <a:srgbClr val="000000"/>
                </a:solidFill>
                <a:latin typeface="Arial"/>
              </a:rPr>
              <a:t>th</a:t>
            </a:r>
            <a:r>
              <a:rPr b="1" lang="en-US" sz="1800" spc="-1" strike="noStrike">
                <a:solidFill>
                  <a:srgbClr val="000000"/>
                </a:solidFill>
                <a:latin typeface="Arial"/>
              </a:rPr>
              <a:t>, 200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C4382DB-261A-4490-A979-C4DFA2DDC0BB}" type="slidenum">
              <a:t>1</a:t>
            </a:fld>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663A6B7-FCA3-4506-89FB-E0F18061F7C0}" type="slidenum">
              <a:t>10</a:t>
            </a:fld>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fficers</a:t>
            </a:r>
            <a:endParaRPr b="0" lang="en-US" sz="4400" spc="-1" strike="noStrike">
              <a:solidFill>
                <a:srgbClr val="000000"/>
              </a:solidFill>
              <a:latin typeface="Arial"/>
            </a:endParaRPr>
          </a:p>
        </p:txBody>
      </p:sp>
      <p:sp>
        <p:nvSpPr>
          <p:cNvPr id="49"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6 Officer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ebbie McKeever, Cha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Jesse Cline, Vice Chair</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7 Officers will be elected at the TDTWG Meeting scheduled for January 17</a:t>
            </a:r>
            <a:r>
              <a:rPr b="1" lang="en-US" sz="3200" spc="-1" strike="noStrike" baseline="30000">
                <a:solidFill>
                  <a:srgbClr val="000000"/>
                </a:solidFill>
                <a:latin typeface="Arial"/>
              </a:rPr>
              <a:t>th</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348A3D8-8291-4A18-A6C5-82A4430CE0CD}" type="slidenum">
              <a:t>2</a:t>
            </a:fld>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6 Accomplishments</a:t>
            </a:r>
            <a:endParaRPr b="0" lang="en-US" sz="3200" spc="-1" strike="noStrike">
              <a:solidFill>
                <a:srgbClr val="000000"/>
              </a:solidFill>
              <a:latin typeface="Arial"/>
            </a:endParaRPr>
          </a:p>
        </p:txBody>
      </p:sp>
      <p:sp>
        <p:nvSpPr>
          <p:cNvPr id="51" name="PlaceHolder 2"/>
          <p:cNvSpPr>
            <a:spLocks noGrp="1"/>
          </p:cNvSpPr>
          <p:nvPr>
            <p:ph/>
          </p:nvPr>
        </p:nvSpPr>
        <p:spPr>
          <a:xfrm>
            <a:off x="304560" y="1219320"/>
            <a:ext cx="8381880" cy="54100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ed with ERCOT to support implementation of Phase 1 of SCR745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ectively with ERCOT worked to effectively address ERCOT system failures and outages in an effort to minimize future occurrences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ed log for outage information as needed for RMS and others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ed with COPS Communication Working Group (CCWG), ERCOT and MPs to develop communication/notification processes that meet market needs as well as compliance with existing market notification procedure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CF8616-E09D-493C-8F4D-75FE81C62E9A}" type="slidenum">
              <a:t>3</a:t>
            </a:fld>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6 Accomplishments</a:t>
            </a:r>
            <a:endParaRPr b="0" lang="en-US" sz="3200" spc="-1" strike="noStrike">
              <a:solidFill>
                <a:srgbClr val="000000"/>
              </a:solidFill>
              <a:latin typeface="Arial"/>
            </a:endParaRPr>
          </a:p>
        </p:txBody>
      </p:sp>
      <p:sp>
        <p:nvSpPr>
          <p:cNvPr id="53"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ed SCR748 (Website enhancements for Market Notifications around ERCOT outages and system failur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sted Market Participants in resolving connectivity issues for Marketrak API(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sed TDTWG NAESB EDM V 1.6 implementation Guide (eliminating areas subject to misinterpret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requested supported Market Participant issue resolution efforts to achieve successful NAESB connectivit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ED2A19-047A-457B-9E80-7BA877936BB8}" type="slidenum">
              <a:t>4</a:t>
            </a:fld>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7 Objective</a:t>
            </a:r>
            <a:endParaRPr b="0" lang="en-US" sz="3200" spc="-1" strike="noStrike">
              <a:solidFill>
                <a:srgbClr val="000000"/>
              </a:solidFill>
              <a:latin typeface="Arial"/>
            </a:endParaRPr>
          </a:p>
        </p:txBody>
      </p:sp>
      <p:sp>
        <p:nvSpPr>
          <p:cNvPr id="5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DTWG will continue to work with Market Participants, their agents, ERCOT, the PUCT as well as other interested parties in an effort to improve and protect data delivery processes for the Texas Marke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EBCDED9-D02B-406E-8DC5-1FD8684B0A0E}" type="slidenum">
              <a:t>5</a:t>
            </a:fld>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7</a:t>
            </a:r>
            <a:endParaRPr b="0" lang="en-US" sz="3200" spc="-1" strike="noStrike">
              <a:solidFill>
                <a:srgbClr val="000000"/>
              </a:solidFill>
              <a:latin typeface="Arial"/>
            </a:endParaRPr>
          </a:p>
        </p:txBody>
      </p:sp>
      <p:sp>
        <p:nvSpPr>
          <p:cNvPr id="57" name="PlaceHolder 2"/>
          <p:cNvSpPr>
            <a:spLocks noGrp="1"/>
          </p:cNvSpPr>
          <p:nvPr>
            <p:ph/>
          </p:nvPr>
        </p:nvSpPr>
        <p:spPr>
          <a:xfrm>
            <a:off x="456840" y="1599840"/>
            <a:ext cx="84582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74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 needed TDTWG will continue to work with ERCOT and MPs to complete the implementation of SCR745 (resolving outstanding connectivity and possibly other technical issu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System Outages and Communications –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continue working with ERCOT IT to design and achieve a complete successful implementation of SCR74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continue to work with ERCOT and Market Participants to determine  the most efficient manner for resolution of NAESB and other system iss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continue to support ERCOT resolution efforts in addressing each outage experienced and provide information to RMS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4392BB0-32F1-42E1-8048-9FCBC18A0916}" type="slidenum">
              <a:t>6</a:t>
            </a:fld>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7</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ical Connectivi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e to work with ERCOT and Market Participants in order to resolve connectivity issues as they are experienced or brought forth to TDTWG. </a:t>
            </a:r>
            <a:endParaRPr b="0" lang="en-US" sz="2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act with ERCOT as necessary to help insure market impacts for NAESB outages are minima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4E8B455-29D8-49D5-B0B4-DDD2F7E8CDFD}" type="slidenum">
              <a:t>7</a:t>
            </a:fld>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7</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38052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American Energy Standards Board</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ESB is responsible for documenting standards for deregulated processes. Included in these standards is the Electronic Delivery Mechanism communication protocol that is in use today in the Texas Market (NAESB EDM v1.6)</a:t>
            </a:r>
            <a:endParaRPr b="0" lang="en-US" sz="24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DTWG representatives will continue to participate in NAESB meetings in an effort to ensure Texas retail market requirements are included in all future version releases of the ED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1812792-C7EE-4BB9-99F5-1DE07A4560BB}" type="slidenum">
              <a:t>8</a:t>
            </a:fld>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7</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Market Projects as need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DTWG has knowledgeable technical resources available to assist the Market in moving forward with various projects.</a:t>
            </a:r>
            <a:endParaRPr b="0" lang="en-US" sz="2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 will continue to participate in these efforts and take work as assigned by R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8C8FD34-3F16-4E94-BAC0-1D4C9981C7E6}" type="slidenum">
              <a:t>9</a:t>
            </a:fld>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Registered User</cp:lastModifiedBy>
  <cp:lastPrinted>2002-09-24T18:27:58Z</cp:lastPrinted>
  <dcterms:modified xsi:type="dcterms:W3CDTF">2007-01-08T21:25:23Z</dcterms:modified>
  <cp:revision>378</cp:revision>
  <dc:subject/>
  <dc:title>PowerPoint Presentation</dc:title>
</cp:coreProperties>
</file>