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6BE13-9F4B-41D1-9119-8D78AE15B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067E9-3867-4543-B2B9-476C1CAE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4290D-49C8-4F2F-A6E9-51353E0BF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8F74D-54EA-4000-8137-B4ED70DCF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683E4-39A5-4DF5-ABDB-88B13D0D4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DEC58-3D5B-495D-AE00-888902C47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A40D-2754-49B2-8777-9CB341617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54944-1120-40F2-966D-B4EB2FBA3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B41CE-B6D9-40F1-98EA-8B70102D4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7C9CC-9B75-4ACC-8B1A-C5EA462BC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C174-C829-4C66-B9A6-41323C53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555AB-993B-4A06-8560-C7E8C4035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CEF3-D325-48DE-BC31-D2C4A6FEF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
          <p:cNvSpPr/>
          <p:nvPr/>
        </p:nvSpPr>
        <p:spPr>
          <a:xfrm>
            <a:off x="1066680" y="64324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anuary 10, 2007</a:t>
            </a:r>
            <a:endParaRPr b="0" lang="en-US" sz="12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828800" y="1752480"/>
            <a:ext cx="54864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ylight Saving Tim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Upd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581D163-E33F-41B3-9F1B-50F3194E064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ylight Saving Time 2007</a:t>
            </a:r>
            <a:endParaRPr b="0" lang="en-US" sz="2400" spc="-1" strike="noStrike">
              <a:solidFill>
                <a:srgbClr val="ffffff"/>
              </a:solidFill>
              <a:latin typeface="Arial Black"/>
            </a:endParaRPr>
          </a:p>
        </p:txBody>
      </p:sp>
      <p:sp>
        <p:nvSpPr>
          <p:cNvPr id="49" name="PlaceHolder 2"/>
          <p:cNvSpPr>
            <a:spLocks noGrp="1"/>
          </p:cNvSpPr>
          <p:nvPr>
            <p:ph/>
          </p:nvPr>
        </p:nvSpPr>
        <p:spPr>
          <a:xfrm>
            <a:off x="152280" y="761760"/>
            <a:ext cx="8763120" cy="472428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a:t>
            </a:r>
            <a:endParaRPr b="1" lang="en-US" sz="2000" spc="-1" strike="noStrike">
              <a:solidFill>
                <a:srgbClr val="000000"/>
              </a:solidFill>
              <a:latin typeface="Arial"/>
            </a:endParaRPr>
          </a:p>
          <a:p>
            <a:pPr lvl="2" marL="114300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8, 2005, President George W. Bush signed the </a:t>
            </a:r>
            <a:r>
              <a:rPr b="0" i="1" lang="en-US" sz="2000" spc="-1" strike="noStrike">
                <a:solidFill>
                  <a:srgbClr val="000000"/>
                </a:solidFill>
                <a:latin typeface="Arial"/>
              </a:rPr>
              <a:t>Energy Policy Act of 2005</a:t>
            </a:r>
            <a:r>
              <a:rPr b="0" lang="en-US" sz="2000" spc="-1" strike="noStrike">
                <a:solidFill>
                  <a:srgbClr val="000000"/>
                </a:solidFill>
                <a:latin typeface="Arial"/>
              </a:rPr>
              <a:t>. This Act changed the time change dates for Daylight Saving Time in the U.S. Beginning in 2007, DST will begin on the second Sunday of March and end the first Sunday of November. The Secretary of Energy will report the impact of this change to Congress. Congress retains the right to revert the Daylight Saving Time back to the 2005 time schedule once the Department of Energy study is comple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DST will change to begin at 2:00 a.m. on the second Sunday of March and end at 2:00 a.m. on the first Sunday of November</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F08C736-ECF2-4D70-87D0-6CAF41B328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ylight Saving Time 2007</a:t>
            </a:r>
            <a:endParaRPr b="0" lang="en-US" sz="2400" spc="-1" strike="noStrike">
              <a:solidFill>
                <a:srgbClr val="ffffff"/>
              </a:solidFill>
              <a:latin typeface="Arial Black"/>
            </a:endParaRPr>
          </a:p>
        </p:txBody>
      </p:sp>
      <p:sp>
        <p:nvSpPr>
          <p:cNvPr id="51" name="PlaceHolder 2"/>
          <p:cNvSpPr>
            <a:spLocks noGrp="1"/>
          </p:cNvSpPr>
          <p:nvPr>
            <p:ph/>
          </p:nvPr>
        </p:nvSpPr>
        <p:spPr>
          <a:xfrm>
            <a:off x="152280" y="761760"/>
            <a:ext cx="8763120" cy="4724280"/>
          </a:xfrm>
          <a:prstGeom prst="rect">
            <a:avLst/>
          </a:prstGeom>
          <a:noFill/>
          <a:ln w="0">
            <a:noFill/>
          </a:ln>
        </p:spPr>
        <p:txBody>
          <a:bodyPr lIns="90000" rIns="90000" tIns="46800" bIns="46800" anchor="t">
            <a:normAutofit/>
          </a:bodyPr>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ng System Patches (Windows and Unix)</a:t>
            </a:r>
            <a:endParaRPr b="1" lang="en-US" sz="18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of the applications pull time and date from the OS and the DST change will be resolved by the OS patches</a:t>
            </a:r>
            <a:endParaRPr b="0" lang="en-US" sz="1800" spc="-1" strike="noStrike">
              <a:solidFill>
                <a:srgbClr val="000000"/>
              </a:solidFill>
              <a:latin typeface="Arial"/>
            </a:endParaRPr>
          </a:p>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Patch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ches are available for 9.2.0.5 and abo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atches are not specifically required in ERCOT because we do not use the Time Zone data type, but is still being done as a safety measure</a:t>
            </a:r>
            <a:endParaRPr b="0" lang="en-US" sz="1800" spc="-1" strike="noStrike">
              <a:solidFill>
                <a:srgbClr val="000000"/>
              </a:solidFill>
              <a:latin typeface="Arial"/>
            </a:endParaRPr>
          </a:p>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Version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and 1.4 versions upgrades have been identified that include DST rules</a:t>
            </a:r>
            <a:endParaRPr b="0" lang="en-US" sz="1800" spc="-1" strike="noStrike">
              <a:solidFill>
                <a:srgbClr val="000000"/>
              </a:solidFill>
              <a:latin typeface="Arial"/>
            </a:endParaRPr>
          </a:p>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Application Chang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and hard coded date references within application scripts</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D2AB4099-490E-42FD-B3FD-3F8C0DF8C4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ylight Saving Time 2007</a:t>
            </a:r>
            <a:endParaRPr b="0" lang="en-US" sz="2400" spc="-1" strike="noStrike">
              <a:solidFill>
                <a:srgbClr val="ffffff"/>
              </a:solidFill>
              <a:latin typeface="Arial Black"/>
            </a:endParaRPr>
          </a:p>
        </p:txBody>
      </p:sp>
      <p:sp>
        <p:nvSpPr>
          <p:cNvPr id="53" name="PlaceHolder 2"/>
          <p:cNvSpPr>
            <a:spLocks noGrp="1"/>
          </p:cNvSpPr>
          <p:nvPr>
            <p:ph/>
          </p:nvPr>
        </p:nvSpPr>
        <p:spPr>
          <a:xfrm>
            <a:off x="152280" y="761760"/>
            <a:ext cx="8763120" cy="4724280"/>
          </a:xfrm>
          <a:prstGeom prst="rect">
            <a:avLst/>
          </a:prstGeom>
          <a:noFill/>
          <a:ln w="0">
            <a:noFill/>
          </a:ln>
        </p:spPr>
        <p:txBody>
          <a:bodyPr lIns="90000" rIns="90000" tIns="46800" bIns="46800" anchor="t">
            <a:normAutofit/>
          </a:bodyPr>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a:t>
            </a:r>
            <a:endParaRPr b="1"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will be made through Release Management in coordination with DPOs to eliminate/minimize impacts to other projects</a:t>
            </a:r>
            <a:endParaRPr b="0" lang="en-US" sz="2000" spc="-1" strike="noStrike">
              <a:solidFill>
                <a:srgbClr val="000000"/>
              </a:solidFill>
              <a:latin typeface="Arial"/>
            </a:endParaRPr>
          </a:p>
          <a:p>
            <a:pPr lvl="2" marL="1143000" indent="-228600">
              <a:lnSpc>
                <a:spcPct val="9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act to RO projects identified at this time</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ST team will test and validate changes  </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 PROD </a:t>
            </a:r>
            <a:endParaRPr b="0" lang="en-US" sz="20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Tim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on by mid-February</a:t>
            </a:r>
            <a:endParaRPr b="0" lang="en-US" sz="20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cap once again</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T will change 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at 2:00 a.m. on the second Sunday of March and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 at 2:00 a.m. on the first Sunday of Novemb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AE04114-D324-4B01-B565-4D8E80EBC973}"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dgoodman</cp:lastModifiedBy>
  <dcterms:modified xsi:type="dcterms:W3CDTF">2007-01-08T16:24:32Z</dcterms:modified>
  <cp:revision>150</cp:revision>
  <dc:subject/>
  <dc:title>Role of Account Management at ERCOT</dc:title>
</cp:coreProperties>
</file>