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4C7-E8EC-4E15-98D1-D9C0074B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CB7-A421-4580-8390-14A4FB2B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B639-BDF2-4B31-8FDA-C8359F07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B59D-9BBB-4EF1-8EA1-619B232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25F5-E852-4B79-8975-3C91932F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2C25-7270-4286-8A8F-260A2D1E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F0B9-34C7-4A39-8812-32EAD8E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A522-7FC3-4CD9-A353-31AB04D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FE03-7A3D-4801-884C-83F8752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9E8A-CE83-474E-B348-04A0768A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4326-FF22-402F-8589-826B2674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ACDC-992D-4D3C-B6A5-A87B99D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A261-2887-4A3D-BDDB-125EF062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F19A-C861-4EED-A8D3-9E6593E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7784-FE01-4093-988D-85C8CF0CB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0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uary 10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1/12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o begin with Day 1 transactions flowing: 01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107 scheduled to conclude: 02/27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ingency Testing dates this F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15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in a new territory – 1 New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REPs changing Banks – 1 Existing &amp; 1 New DUNS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98 Total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light (0407) will be testing for TX SET Version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7-01-02T22:38:15Z</dcterms:modified>
  <cp:revision>66</cp:revision>
  <dc:subject/>
  <dc:title>Instructions</dc:title>
</cp:coreProperties>
</file>