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E1D-6D08-4AE1-B6D6-220C6698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DD0-B976-4DA0-92B6-421C7C04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A0E-9271-4DE4-A27E-8D2171C3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DA3-3B55-4F86-849E-44899C07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CA4-8528-45CE-BFE8-801C73DF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7D5-25DD-4D9C-BDEB-CEA55C29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6F8-08F1-4F9E-9410-4D221F62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300-18E6-4599-B7A6-A70AB094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934-C05A-4095-8CD2-82A46901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E02-3FFD-409D-A04D-FB7EE44C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1AE-FABD-44C2-BDC3-26E99CB6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78B-CA1F-41AD-9653-9C07B222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FF87-7B7E-45C7-AC5E-55C9CC2E0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814-1A02-46C6-AEC1-F1AEC7240E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5640" y="3049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rak production metrics / sampl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4200" y="6248520"/>
            <a:ext cx="540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EV Issues Submitted – 12/01/06 – 12/31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9A5-C30D-4B2C-AC9B-DC6FCA6321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590920" y="3049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rak production metrics / sampl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48960" y="6156360"/>
            <a:ext cx="61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2D Issues ERCOT Actioned– 12/01/06 – 12/31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1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46D-4A94-48F8-8CB0-59E8223730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rak production metrics / sampl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62640" y="6156360"/>
            <a:ext cx="615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EV Issues ERCOT Actioned– 12/01/06 – 12/31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45820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167-B2CB-4734-B3B7-9DDEB9F89B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590920" y="3049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rak production metrics / sampl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2960" y="6156360"/>
            <a:ext cx="63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2D Issues No ERCOT Action – 12/01/06 – 12/31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48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E24-6B47-4BAB-A4A6-E89AE2DB12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590920" y="3049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rak production metrics / sampl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000" y="5867280"/>
            <a:ext cx="63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EV Issues No ERCOT Action – 12/01/06 – 12/31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AB9-B4B5-42BB-BF51-390E7A06DE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4952880"/>
            <a:ext cx="5500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inder – escalation emails are setup for calendar day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285640" y="3049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rak production metrics / sampl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6920" y="5867280"/>
            <a:ext cx="53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2D Unacknowledged– 12/01/06 – 12/31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8120" y="1600200"/>
            <a:ext cx="880596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7D1-4E78-4A48-95E9-E563BC5E09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181480"/>
            <a:ext cx="5500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inder – escalation emails are setup for calendar day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666520" y="30492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rak production metrics / sampl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0680" y="5867280"/>
            <a:ext cx="54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EV Unacknowledged– 12/01/06 – 12/31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360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1DF-4276-4508-AD96-AD99DC7C2F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2FD-AC90-4BA0-96C5-4519C8D100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2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267080"/>
            <a:ext cx="7010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 = ERCOT Initiated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ERCOT issue = Issues logged directly between the CR and TDSP with no ERCOT involvement to resol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egory of “All Other” does not have subtype.  Issues logged as “All Other” can include Transaction Issues, Rep of Record Issues, Service Order Chang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763120" cy="30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D7D-87CC-4EAF-AB5F-514E6C3C387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2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5105520"/>
            <a:ext cx="84582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68 In Progress D2D Issues, 40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D2D Issue ESI IDs worked to date since January 1, 2006 = 49,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45D-50D5-45CD-9943-21CBD5DC85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F40-A962-4221-9FBA-226E1914E9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2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594-62E6-4868-A677-CF6ECD8519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2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4100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68680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8D0-E8FA-474C-8FD7-C735F98F529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2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5562720"/>
            <a:ext cx="6324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70 In Progress DEV Issues,6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357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5F8-E670-4201-ADFF-866FE1959D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ru 12/31/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4582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786-A58D-4BFC-8B11-7381B594EA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2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6E8-2BA5-461A-A295-44F9DA84F7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F8C-FF8C-42D5-A7A6-49A8424A79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E14-E7F6-4D74-A738-D4E9D73FD4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5B6-F338-4D0E-AEDB-73CC69D1FC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68680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369-A013-41A7-854E-C5A69FD060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598760"/>
            <a:ext cx="8382240" cy="419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7DB-2945-46C0-9F62-034941EC49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E69-06BC-4BB4-8631-376711DB51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rak production metrics / sample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4560" y="5943600"/>
            <a:ext cx="54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2D Issues Submitted – 12/01/06 – 12/31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1619280"/>
            <a:ext cx="8528040" cy="3559320"/>
            <a:chOff x="304920" y="1619280"/>
            <a:chExt cx="8528040" cy="3559320"/>
          </a:xfrm>
        </p:grpSpPr>
        <p:sp>
          <p:nvSpPr>
            <p:cNvPr id="63" name=""/>
            <p:cNvSpPr/>
            <p:nvPr/>
          </p:nvSpPr>
          <p:spPr>
            <a:xfrm>
              <a:off x="317520" y="4923000"/>
              <a:ext cx="8508960" cy="25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33680" y="1619280"/>
              <a:ext cx="243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otal D2D Issues Submitted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77520" y="1619280"/>
              <a:ext cx="19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/1/2006 - 12/31/200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1880" y="2087640"/>
              <a:ext cx="86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ub-Typ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14480" y="2289240"/>
              <a:ext cx="1513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1320" y="2087640"/>
              <a:ext cx="1091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ssue Cou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1760" y="2289240"/>
              <a:ext cx="18810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1640" y="2338560"/>
              <a:ext cx="92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997 Issu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50160" y="2338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07840" y="2575080"/>
              <a:ext cx="224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ncel with Approval - C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00040" y="25750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14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01280" y="2811600"/>
              <a:ext cx="2475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ncel with Approval - TDS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00840" y="2811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6960" y="3046320"/>
              <a:ext cx="2065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ncel without Approv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00840" y="3046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14560" y="3282840"/>
              <a:ext cx="1576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advertent Switc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00040" y="32828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5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95640" y="3517920"/>
              <a:ext cx="1209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issing TX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0800" y="3517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27200" y="3754440"/>
              <a:ext cx="47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00840" y="3754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61520" y="3990960"/>
              <a:ext cx="110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ject TX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00840" y="3990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85200" y="4226040"/>
              <a:ext cx="123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p of Recor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00840" y="4226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05640" y="4462560"/>
              <a:ext cx="1381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iebel CHG/Inf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0800" y="4462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60120" y="4697280"/>
              <a:ext cx="182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age/Billing Issues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01480" y="46972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2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60800" y="4930920"/>
              <a:ext cx="107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rand Tot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06160" y="493092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6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2319480"/>
              <a:ext cx="1440" cy="28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2319480"/>
              <a:ext cx="27000" cy="28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91040" y="2335320"/>
              <a:ext cx="1800" cy="284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91040" y="2335320"/>
              <a:ext cx="27000" cy="284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05960" y="2335320"/>
              <a:ext cx="1440" cy="284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05960" y="2335320"/>
              <a:ext cx="27000" cy="284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1920" y="2319480"/>
              <a:ext cx="850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1920" y="2319480"/>
              <a:ext cx="8501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1920" y="2556000"/>
              <a:ext cx="850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1920" y="2556000"/>
              <a:ext cx="8501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920" y="2790720"/>
              <a:ext cx="850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" y="2790720"/>
              <a:ext cx="8501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1920" y="3027240"/>
              <a:ext cx="850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1920" y="3027240"/>
              <a:ext cx="8501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1920" y="3263760"/>
              <a:ext cx="850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1920" y="3263760"/>
              <a:ext cx="85010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1920" y="3498840"/>
              <a:ext cx="850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1920" y="3498840"/>
              <a:ext cx="8501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1920" y="3735360"/>
              <a:ext cx="850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1920" y="3735360"/>
              <a:ext cx="8501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1920" y="3970440"/>
              <a:ext cx="850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1920" y="3970440"/>
              <a:ext cx="8501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1920" y="4206960"/>
              <a:ext cx="850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1920" y="4206960"/>
              <a:ext cx="8501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920" y="4443480"/>
              <a:ext cx="850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1920" y="4443480"/>
              <a:ext cx="85010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1920" y="4678200"/>
              <a:ext cx="850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1920" y="4678200"/>
              <a:ext cx="85010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920" y="4915080"/>
              <a:ext cx="850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1920" y="4915080"/>
              <a:ext cx="8501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1920" y="5162400"/>
              <a:ext cx="850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1920" y="5162400"/>
              <a:ext cx="85010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6DC-CED7-4991-AE91-D21A0D50F7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lwest</cp:lastModifiedBy>
  <cp:lastPrinted>2002-09-24T18:27:58Z</cp:lastPrinted>
  <dcterms:modified xsi:type="dcterms:W3CDTF">2007-01-03T15:35:30Z</dcterms:modified>
  <cp:revision>636</cp:revision>
  <dc:subject/>
  <dc:title>PowerPoint Presentation</dc:title>
</cp:coreProperties>
</file>