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B875-155B-4AB3-88E0-82F2FBAD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1EB8-4021-41C6-84C5-721C0E1A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F54A-494A-461C-8BF7-DC981D9A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C164-CD74-42BC-81E1-60A5E89D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D903-1456-46D3-A23C-B0C7CBB4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EB1E-0694-492C-BFED-A40D6766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23AF-817A-4DE9-A956-4C5AF9D3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3400-04BE-4A14-8603-B8827283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16EC-D963-4F6F-9DE4-A6ADA3B4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8233-AFEF-4969-8189-53DE92A8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A077-BB28-47A0-AC16-8114BFA4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0E1C-F000-440C-882C-4B9C1743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26E4-108E-4004-AEFB-A3164031A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ail Transaction Process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Year End Revie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cent Issu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2320" y="46479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nuary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rchitecture Change &amp; Attempted Fix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troubleshooting of duplicates, PaperFree file server, and 867 forwarding problems has pointed to a potential c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protocol used to communicate between PaperFree file servers and PaperFree processor servers drops connections randomly and intermittently, and the PaperFree application experiences multiple problems when this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in phases, this architecture change would remove the need for this communication protocol in the retail environ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One – January 14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Two – 7 to 14 days after phase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d approach to ensure the change is effective and to eliminate multiple simultaneous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ing the change, redundancy would still be in place for the retail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rchitecture Change &amp; Attempted Fix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362320"/>
            <a:ext cx="1371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 Fil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276720"/>
            <a:ext cx="1371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 Fil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1981080"/>
            <a:ext cx="1143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514600"/>
            <a:ext cx="11430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3048120"/>
            <a:ext cx="11430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581280"/>
            <a:ext cx="1143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114800"/>
            <a:ext cx="11430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3400" y="1143000"/>
            <a:ext cx="23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perFree Proces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209320" y="20574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2093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209320" y="26668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209320" y="281952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209320" y="27432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60" y="4572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ove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33520" y="39621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8954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87560" y="1447920"/>
            <a:ext cx="206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952880"/>
            <a:ext cx="20574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 File &amp; Process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4760" y="56754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285640" y="2057400"/>
            <a:ext cx="106668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5640" y="2590920"/>
            <a:ext cx="106668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85640" y="3124080"/>
            <a:ext cx="1066680" cy="20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285640" y="411480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85640" y="365760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0160" y="822240"/>
            <a:ext cx="164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14479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762120"/>
            <a:ext cx="0" cy="533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9800" y="56386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3623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 File &amp; Process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342900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 File &amp; Process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2057400"/>
            <a:ext cx="2210040" cy="2362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2133720"/>
            <a:ext cx="11430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2666880"/>
            <a:ext cx="1143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3200400"/>
            <a:ext cx="11430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3733920"/>
            <a:ext cx="11430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4267080"/>
            <a:ext cx="1143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1960" y="1447920"/>
            <a:ext cx="156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7543440" y="2209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543440" y="2666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543440" y="26668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543440" y="2666880"/>
            <a:ext cx="3049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7543440" y="281916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981080"/>
            <a:ext cx="1676520" cy="228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6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46080" y="1066680"/>
          <a:ext cx="72518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1066680"/>
                    <a:ext cx="72518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2006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2006 Outage Analysis – Breakdown Not Comple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120" y="838080"/>
          <a:ext cx="7238880" cy="534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238880" cy="53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 to be scheduled for February or March depending on availability of space and sched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discuss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ing service availability target to 9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date of the availability target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of service degradation metrics &amp;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will be made and presented to RMS for appro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Transaction Processing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67 Transaction Processing Issues (multiple occurrences from 12/15 – 12/27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completed ANSI compliance checks but failed to complete TX Set ch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 Participant Impa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ed 867 transactions were not forw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elay of completion of service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elay of MP invo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ed usage loading to Lodestar could potentially impact initial sett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to 7 day delay in reprocessing, majority reprocessed within 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t Cau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Free file server failures, current analysis pointing to same root cause as duplicate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change tested, attempted phase one migration to production on 1/8 but rolled back due to problems with implementation, planned migration to production on Sunday, January 14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 Not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/18 - 4:53 pm - Retail Transaction Processing - 867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/28 - 4:37 pm - Update: Retail Transaction Processing - 867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/29 - 2:35 pm - Update: Retail Transaction Processing – 867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/02 - 4:51 pm - Update: Retail Transaction Processing – 867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Transaction Processing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ESB Outage (12/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age attributed to PaperFree file server failures, current analysis pointing to same root cause as duplicates issue and 867 processing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notice sent 12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empted fix to be implemented on January 1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BP Stabilization Code Releases (12/14) – Controlled out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outages while code fixes were migrated into production following RBP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notice sent 12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BCO Database outage (12/1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tioning error occurred in the PaperFree to TIBCO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notice sent 12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BCO Adapter (12/2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ing an emergency TIBCO migration to fix a customer care process issue, TIBCO adapters were not turned back on, training issue and learning curve with TIBCO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notice sent 12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nuary Transaction Processing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base Indexing (1/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ed Q1 2007 partition to incorrect table space with insufficient space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bound transactions were held while database partition was pointed to correct table space and tables were re-inde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notices sent 1/2 – 1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ebel Batch (1/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order without ESI_ID caused batch to hold, record was manually skipped to allow batch processing to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 cause unknown, previously unknown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 written to allow batch processing to continue if encountered in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notice sent 1/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perFree and NAESB Servers Memory Failure (1/3) – Controlled Out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failure occurred and the cluster failed over as designed.  During replacement of the failed hardware, the cluster did not recognize the new hardware and the replacement required a total outage to reconfigure the clust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 complete - hardware replaced in approximately two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notice sent 1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nuary Transaction Processing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ebel to Lodestar Batch (1/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IID service history’ table partition was split to allow data for Q1 2007 data to populate the database, the table partition split should have worked as performed, however a bug in Oracle 9.2.04 caused a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notice not sent because problem was fixed before market was impa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ESB to PaperFree Communication Failures (1/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perFree file server having difficulties pulling data from the NAESB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ll under investigation, analysis not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notice sent 1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7-01-10T20:30:59Z</dcterms:modified>
  <cp:revision>86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